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69560" cy="68882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685800" y="0"/>
            <a:ext cx="8229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PORTUNIDA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 COMÉRCIO NA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comércio eletrônico: novos modelos de negócio na economia glob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rmano perrelli de mo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di.ufpe.br/~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ket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lugar para o espa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físico para o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tangível para o intang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place + cyberspace = market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ortun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 primeira ordem (fís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 segunda ordem (vir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tual (da inform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0 milhões de endereç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ldWide Marketing Group is pleased to finally offer to the direct marketer, the culmination of its intensive 6 month long project in compiling the single largest e-mail address list available anywhere - over 30 million e-mail addresses free of duplicates, one per line and alphabetically sorted - for only US$149! This is for real... there is NO c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ra que as empresas estão usando a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ênci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ção de desp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ca de novos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p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ndas dir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bomprec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mappin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campus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lojasparais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arapua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www.receita.fazenda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m plano d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re n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ude os concor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e o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, análise da situação atual, problemas e oportunidades, estratégias de marketing, análise e pesquisa de mercado, orçamento, plano, avaliação,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e 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alie o plano e seu posi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lgumas pergunt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ua empresa tem se capitalizado usando os benefícios potenciais do comércio eletrôn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ções de competidores (ou de novas empresas) podem deixar você lutando pela sobrevivênc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cê pode tomar alguma providência no sentido de antecipar-se às ações dos competid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is pergunt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cê está ciente do poder da informação embebida nos seus produtos e serviços e que podem agregar valor ao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rá que existem produtos e serviços da informação que podem ser oferecidos aos seus cli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inuando a reflexã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cê tem usado o benefício potencial da integração de canais eletrôn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cê tem usado comércio eletrônico para gerenciar a complexidade de mercado e prod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ndo canais intermedi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ificando e agilizando a entrega de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zindo dramaticament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 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 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nov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m plano 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gumas pergu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 e final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infra-estrutura técnica está pronta para implementar o tipo de comércio eletrônico que você está consider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cê tem usado de forma equilibrada novas tecnologias, mantendo assim a sua estabilidade e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formação é a essênci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173320" y="1714680"/>
            <a:ext cx="3562560" cy="3900600"/>
            <a:chOff x="2173320" y="1714680"/>
            <a:chExt cx="3562560" cy="39006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173320" y="1714680"/>
              <a:ext cx="3333600" cy="390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4191120" y="2514600"/>
              <a:ext cx="1544760" cy="2298600"/>
              <a:chOff x="4191120" y="2514600"/>
              <a:chExt cx="1544760" cy="2298600"/>
            </a:xfrm>
          </p:grpSpPr>
          <p:pic>
            <p:nvPicPr>
              <p:cNvPr id="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1120" y="2514600"/>
                <a:ext cx="154476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 txBox="1"/>
              <p:nvPr/>
            </p:nvSpPr>
            <p:spPr>
              <a:xfrm>
                <a:off x="4952880" y="3657600"/>
                <a:ext cx="533520" cy="10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i="1" lang="en-US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 ponto de v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ja, agência bancária,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ó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cate, home banking, UTI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processo de fazer negócios eletronicamente, envolvendo a automação de várias transações entr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C Laudon &amp; J P Lau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 e 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olução da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ntro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entre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fora d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 e 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nolo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marketing (telefone + compu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I (Electronic Data Inter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licaçõe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efonia vi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áudio 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nefícios da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ção dos cus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la direta 1200 pessoas: US$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Internet: US$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da comunicação e coorde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eleração da distribuição de 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mento da competitividade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ércio eletrônico 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64008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ção fornecedor-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ção, venda, pós-v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l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álcul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DI ba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5.000 mensagens/m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: US$ 50.000 a US$ 1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: US$ 1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ansão de parceiros 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 novo mod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ão existem fronteiras geo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o grau de person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cerias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$0,01 é muito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ão existem intermedi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o valor agregado em 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90000"/>
              <a:buFont typeface="Wingding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nteiras político-econômicas tendem a desapar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/92/019 - ProTeM-CC</dc:creator>
  <dc:description/>
  <dc:language>en-US</dc:language>
  <cp:lastModifiedBy>Fabio</cp:lastModifiedBy>
  <cp:revision>0</cp:revision>
  <dc:subject/>
  <dc:title>Slide sem título </dc:title>
</cp:coreProperties>
</file>