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7071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6706800" cy="99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hdr"/>
          </p:nvPr>
        </p:nvSpPr>
        <p:spPr>
          <a:xfrm>
            <a:off x="-1440" y="-1800"/>
            <a:ext cx="2908080" cy="5014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3798360" y="-1800"/>
            <a:ext cx="2908440" cy="5014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-1440" y="9482040"/>
            <a:ext cx="2908080" cy="5018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3798360" y="9482040"/>
            <a:ext cx="2908440" cy="5018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fld id="{4B6261F3-5314-48C1-93CA-F792331FF559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 type="sldImg"/>
          </p:nvPr>
        </p:nvSpPr>
        <p:spPr>
          <a:xfrm>
            <a:off x="866520" y="756720"/>
            <a:ext cx="4971960" cy="372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98720" y="-1440"/>
            <a:ext cx="29084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798720" y="9482040"/>
            <a:ext cx="29084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pt-BR" sz="10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-1440" y="9482040"/>
            <a:ext cx="290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-1440" y="-1440"/>
            <a:ext cx="2908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body"/>
          </p:nvPr>
        </p:nvSpPr>
        <p:spPr>
          <a:xfrm>
            <a:off x="893520" y="4743000"/>
            <a:ext cx="491796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ldImg"/>
          </p:nvPr>
        </p:nvSpPr>
        <p:spPr>
          <a:xfrm>
            <a:off x="865080" y="754200"/>
            <a:ext cx="4977000" cy="3732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3798720" y="-1440"/>
            <a:ext cx="29084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798720" y="9482040"/>
            <a:ext cx="29084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pt-BR" sz="1000" spc="-1" strike="noStrike">
                <a:solidFill>
                  <a:srgbClr val="0000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-1440" y="9482040"/>
            <a:ext cx="290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-1440" y="-1440"/>
            <a:ext cx="2908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body"/>
          </p:nvPr>
        </p:nvSpPr>
        <p:spPr>
          <a:xfrm>
            <a:off x="893520" y="4743000"/>
            <a:ext cx="491796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ldImg"/>
          </p:nvPr>
        </p:nvSpPr>
        <p:spPr>
          <a:xfrm>
            <a:off x="866880" y="755640"/>
            <a:ext cx="4973400" cy="3730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798720" y="-1440"/>
            <a:ext cx="29084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798720" y="9482040"/>
            <a:ext cx="29084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pt-BR" sz="1000" spc="-1" strike="noStrike">
                <a:solidFill>
                  <a:srgbClr val="0000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-1440" y="9482040"/>
            <a:ext cx="290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-1440" y="-1440"/>
            <a:ext cx="2908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98720" y="11160"/>
            <a:ext cx="2908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798720" y="9504360"/>
            <a:ext cx="2908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pt-BR" sz="1000" spc="-1" strike="noStrike">
                <a:solidFill>
                  <a:srgbClr val="0000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-1440" y="9504360"/>
            <a:ext cx="2908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-1440" y="11160"/>
            <a:ext cx="2908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866880" y="755640"/>
            <a:ext cx="4973400" cy="373068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893520" y="4743000"/>
            <a:ext cx="491796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798720" y="-1440"/>
            <a:ext cx="29084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798720" y="9482040"/>
            <a:ext cx="29084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pt-BR" sz="1000" spc="-1" strike="noStrike">
                <a:solidFill>
                  <a:srgbClr val="0000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-1440" y="9482040"/>
            <a:ext cx="290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-1440" y="-1440"/>
            <a:ext cx="2908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body"/>
          </p:nvPr>
        </p:nvSpPr>
        <p:spPr>
          <a:xfrm>
            <a:off x="893520" y="4743000"/>
            <a:ext cx="491796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ldImg"/>
          </p:nvPr>
        </p:nvSpPr>
        <p:spPr>
          <a:xfrm>
            <a:off x="865080" y="754200"/>
            <a:ext cx="4977000" cy="3732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3798720" y="-1440"/>
            <a:ext cx="29084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798720" y="9482040"/>
            <a:ext cx="29084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pt-BR" sz="1000" spc="-1" strike="noStrike">
                <a:solidFill>
                  <a:srgbClr val="0000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-1440" y="9482040"/>
            <a:ext cx="290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-1440" y="-1440"/>
            <a:ext cx="2908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body"/>
          </p:nvPr>
        </p:nvSpPr>
        <p:spPr>
          <a:xfrm>
            <a:off x="893520" y="4743000"/>
            <a:ext cx="491796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ldImg"/>
          </p:nvPr>
        </p:nvSpPr>
        <p:spPr>
          <a:xfrm>
            <a:off x="865080" y="754200"/>
            <a:ext cx="4977000" cy="3732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3798720" y="-1440"/>
            <a:ext cx="29084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798720" y="9482040"/>
            <a:ext cx="29084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pt-BR" sz="1000" spc="-1" strike="noStrike">
                <a:solidFill>
                  <a:srgbClr val="0000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-1440" y="9482040"/>
            <a:ext cx="290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-1440" y="-1440"/>
            <a:ext cx="2908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body"/>
          </p:nvPr>
        </p:nvSpPr>
        <p:spPr>
          <a:xfrm>
            <a:off x="893520" y="4743000"/>
            <a:ext cx="491796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ldImg"/>
          </p:nvPr>
        </p:nvSpPr>
        <p:spPr>
          <a:xfrm>
            <a:off x="865080" y="754200"/>
            <a:ext cx="4977000" cy="3732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3798720" y="-1440"/>
            <a:ext cx="29084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98720" y="9482040"/>
            <a:ext cx="29084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pt-BR" sz="1000" spc="-1" strike="noStrike">
                <a:solidFill>
                  <a:srgbClr val="0000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-1440" y="9482040"/>
            <a:ext cx="290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-1440" y="-1440"/>
            <a:ext cx="2908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body"/>
          </p:nvPr>
        </p:nvSpPr>
        <p:spPr>
          <a:xfrm>
            <a:off x="893520" y="4743000"/>
            <a:ext cx="491796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ldImg"/>
          </p:nvPr>
        </p:nvSpPr>
        <p:spPr>
          <a:xfrm>
            <a:off x="866880" y="755640"/>
            <a:ext cx="4973400" cy="37306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B2E5-861C-4119-94FE-64A578E5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523880" y="390204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AA7-0BE9-4D8C-A98E-9E223B9A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50680" y="17524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523880" y="39020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50680" y="39020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8107-B0E8-4FF5-8B2C-9F6C47CB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48920" y="17524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73960" y="17524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523880" y="39020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48920" y="39020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73960" y="39020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522E-9355-45AA-B55A-E2FEE0AF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E132-F929-486E-BE9E-13FA8BC7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EA4E-4C43-415F-9EFD-FF4D65E1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0680" y="17524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EFB4-C679-4DBC-8B0A-35E1EFE3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3C6C-35EB-4A63-BDF3-55DD2A7B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751040" y="209520"/>
            <a:ext cx="73152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6D71-1297-42BA-9EC7-92B544AE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0680" y="17524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3880" y="39020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AD7A-69A2-49DA-8007-CF11BDE8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0680" y="17524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50680" y="39020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1CDA-4450-41C6-A69A-8918C33A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50680" y="17524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3880" y="390204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08D2-AEDC-408B-821A-AD330564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8693AAE-174F-4D43-B00B-104950C4A66C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4" name=""/>
            <p:cNvSpPr/>
            <p:nvPr/>
          </p:nvSpPr>
          <p:spPr>
            <a:xfrm>
              <a:off x="236520" y="0"/>
              <a:ext cx="238320" cy="684540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39560" y="0"/>
              <a:ext cx="373320" cy="466740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22200" y="0"/>
              <a:ext cx="1082880" cy="33526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92200" y="1467000"/>
              <a:ext cx="525240" cy="1218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9760" y="1409760"/>
              <a:ext cx="8893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131760" y="6080040"/>
            <a:ext cx="504360" cy="587160"/>
            <a:chOff x="131760" y="6080040"/>
            <a:chExt cx="504360" cy="587160"/>
          </a:xfrm>
        </p:grpSpPr>
        <p:grpSp>
          <p:nvGrpSpPr>
            <p:cNvPr id="14" name=""/>
            <p:cNvGrpSpPr/>
            <p:nvPr/>
          </p:nvGrpSpPr>
          <p:grpSpPr>
            <a:xfrm>
              <a:off x="225000" y="6080040"/>
              <a:ext cx="214200" cy="193680"/>
              <a:chOff x="225000" y="6080040"/>
              <a:chExt cx="214200" cy="193680"/>
            </a:xfrm>
          </p:grpSpPr>
          <p:sp>
            <p:nvSpPr>
              <p:cNvPr id="15" name=""/>
              <p:cNvSpPr/>
              <p:nvPr/>
            </p:nvSpPr>
            <p:spPr>
              <a:xfrm>
                <a:off x="255240" y="6099840"/>
                <a:ext cx="183960" cy="173880"/>
              </a:xfrm>
              <a:custGeom>
                <a:avLst/>
                <a:gdLst/>
                <a:ahLst/>
                <a:rect l="l" t="t" r="r" b="b"/>
                <a:pathLst>
                  <a:path w="91" h="104">
                    <a:moveTo>
                      <a:pt x="36" y="24"/>
                    </a:moveTo>
                    <a:lnTo>
                      <a:pt x="35" y="23"/>
                    </a:lnTo>
                    <a:lnTo>
                      <a:pt x="34" y="22"/>
                    </a:lnTo>
                    <a:lnTo>
                      <a:pt x="33" y="20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4" y="17"/>
                    </a:lnTo>
                    <a:lnTo>
                      <a:pt x="34" y="16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39" y="9"/>
                    </a:lnTo>
                    <a:lnTo>
                      <a:pt x="41" y="8"/>
                    </a:lnTo>
                    <a:lnTo>
                      <a:pt x="42" y="8"/>
                    </a:lnTo>
                    <a:lnTo>
                      <a:pt x="43" y="7"/>
                    </a:lnTo>
                    <a:lnTo>
                      <a:pt x="44" y="7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48" y="5"/>
                    </a:lnTo>
                    <a:lnTo>
                      <a:pt x="49" y="4"/>
                    </a:lnTo>
                    <a:lnTo>
                      <a:pt x="50" y="4"/>
                    </a:lnTo>
                    <a:lnTo>
                      <a:pt x="50" y="3"/>
                    </a:lnTo>
                    <a:lnTo>
                      <a:pt x="51" y="3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4" y="1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4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71" y="2"/>
                    </a:lnTo>
                    <a:lnTo>
                      <a:pt x="70" y="7"/>
                    </a:lnTo>
                    <a:lnTo>
                      <a:pt x="70" y="11"/>
                    </a:lnTo>
                    <a:lnTo>
                      <a:pt x="68" y="12"/>
                    </a:lnTo>
                    <a:lnTo>
                      <a:pt x="67" y="14"/>
                    </a:lnTo>
                    <a:lnTo>
                      <a:pt x="67" y="15"/>
                    </a:lnTo>
                    <a:lnTo>
                      <a:pt x="66" y="16"/>
                    </a:lnTo>
                    <a:lnTo>
                      <a:pt x="65" y="17"/>
                    </a:lnTo>
                    <a:lnTo>
                      <a:pt x="65" y="18"/>
                    </a:lnTo>
                    <a:lnTo>
                      <a:pt x="65" y="19"/>
                    </a:lnTo>
                    <a:lnTo>
                      <a:pt x="64" y="19"/>
                    </a:lnTo>
                    <a:lnTo>
                      <a:pt x="63" y="20"/>
                    </a:lnTo>
                    <a:lnTo>
                      <a:pt x="62" y="20"/>
                    </a:lnTo>
                    <a:lnTo>
                      <a:pt x="61" y="22"/>
                    </a:lnTo>
                    <a:lnTo>
                      <a:pt x="60" y="22"/>
                    </a:lnTo>
                    <a:lnTo>
                      <a:pt x="59" y="23"/>
                    </a:lnTo>
                    <a:lnTo>
                      <a:pt x="57" y="23"/>
                    </a:lnTo>
                    <a:lnTo>
                      <a:pt x="56" y="24"/>
                    </a:lnTo>
                    <a:lnTo>
                      <a:pt x="54" y="24"/>
                    </a:lnTo>
                    <a:lnTo>
                      <a:pt x="52" y="25"/>
                    </a:lnTo>
                    <a:lnTo>
                      <a:pt x="51" y="26"/>
                    </a:lnTo>
                    <a:lnTo>
                      <a:pt x="50" y="26"/>
                    </a:lnTo>
                    <a:lnTo>
                      <a:pt x="49" y="26"/>
                    </a:lnTo>
                    <a:lnTo>
                      <a:pt x="48" y="27"/>
                    </a:lnTo>
                    <a:lnTo>
                      <a:pt x="47" y="27"/>
                    </a:lnTo>
                    <a:lnTo>
                      <a:pt x="46" y="27"/>
                    </a:lnTo>
                    <a:lnTo>
                      <a:pt x="45" y="27"/>
                    </a:lnTo>
                    <a:lnTo>
                      <a:pt x="44" y="27"/>
                    </a:lnTo>
                    <a:lnTo>
                      <a:pt x="43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7"/>
                    </a:lnTo>
                    <a:lnTo>
                      <a:pt x="38" y="26"/>
                    </a:lnTo>
                    <a:lnTo>
                      <a:pt x="37" y="26"/>
                    </a:lnTo>
                    <a:lnTo>
                      <a:pt x="36" y="25"/>
                    </a:lnTo>
                    <a:lnTo>
                      <a:pt x="35" y="24"/>
                    </a:lnTo>
                    <a:lnTo>
                      <a:pt x="36" y="24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8"/>
                    </a:lnTo>
                    <a:lnTo>
                      <a:pt x="0" y="85"/>
                    </a:lnTo>
                    <a:lnTo>
                      <a:pt x="0" y="84"/>
                    </a:lnTo>
                    <a:lnTo>
                      <a:pt x="0" y="83"/>
                    </a:lnTo>
                    <a:lnTo>
                      <a:pt x="0" y="81"/>
                    </a:lnTo>
                    <a:lnTo>
                      <a:pt x="0" y="80"/>
                    </a:lnTo>
                    <a:lnTo>
                      <a:pt x="0" y="79"/>
                    </a:lnTo>
                    <a:lnTo>
                      <a:pt x="0" y="78"/>
                    </a:lnTo>
                    <a:lnTo>
                      <a:pt x="1" y="77"/>
                    </a:lnTo>
                    <a:lnTo>
                      <a:pt x="2" y="76"/>
                    </a:lnTo>
                    <a:lnTo>
                      <a:pt x="3" y="76"/>
                    </a:lnTo>
                    <a:lnTo>
                      <a:pt x="4" y="76"/>
                    </a:lnTo>
                    <a:lnTo>
                      <a:pt x="5" y="74"/>
                    </a:lnTo>
                    <a:lnTo>
                      <a:pt x="6" y="73"/>
                    </a:lnTo>
                    <a:lnTo>
                      <a:pt x="8" y="73"/>
                    </a:lnTo>
                    <a:lnTo>
                      <a:pt x="8" y="72"/>
                    </a:lnTo>
                    <a:lnTo>
                      <a:pt x="10" y="72"/>
                    </a:lnTo>
                    <a:lnTo>
                      <a:pt x="11" y="71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9"/>
                    </a:lnTo>
                    <a:lnTo>
                      <a:pt x="14" y="68"/>
                    </a:lnTo>
                    <a:lnTo>
                      <a:pt x="15" y="68"/>
                    </a:lnTo>
                    <a:lnTo>
                      <a:pt x="16" y="67"/>
                    </a:lnTo>
                    <a:lnTo>
                      <a:pt x="17" y="66"/>
                    </a:lnTo>
                    <a:lnTo>
                      <a:pt x="19" y="64"/>
                    </a:lnTo>
                    <a:lnTo>
                      <a:pt x="20" y="63"/>
                    </a:lnTo>
                    <a:lnTo>
                      <a:pt x="21" y="63"/>
                    </a:lnTo>
                    <a:lnTo>
                      <a:pt x="23" y="62"/>
                    </a:lnTo>
                    <a:lnTo>
                      <a:pt x="24" y="61"/>
                    </a:lnTo>
                    <a:lnTo>
                      <a:pt x="25" y="61"/>
                    </a:lnTo>
                    <a:lnTo>
                      <a:pt x="26" y="61"/>
                    </a:lnTo>
                    <a:lnTo>
                      <a:pt x="27" y="60"/>
                    </a:lnTo>
                    <a:lnTo>
                      <a:pt x="28" y="60"/>
                    </a:lnTo>
                    <a:lnTo>
                      <a:pt x="28" y="58"/>
                    </a:lnTo>
                    <a:lnTo>
                      <a:pt x="30" y="58"/>
                    </a:lnTo>
                    <a:lnTo>
                      <a:pt x="30" y="57"/>
                    </a:lnTo>
                    <a:lnTo>
                      <a:pt x="31" y="57"/>
                    </a:lnTo>
                    <a:lnTo>
                      <a:pt x="32" y="56"/>
                    </a:lnTo>
                    <a:lnTo>
                      <a:pt x="32" y="55"/>
                    </a:lnTo>
                    <a:lnTo>
                      <a:pt x="34" y="55"/>
                    </a:lnTo>
                    <a:lnTo>
                      <a:pt x="35" y="55"/>
                    </a:lnTo>
                    <a:lnTo>
                      <a:pt x="37" y="55"/>
                    </a:lnTo>
                    <a:lnTo>
                      <a:pt x="40" y="55"/>
                    </a:lnTo>
                    <a:lnTo>
                      <a:pt x="43" y="56"/>
                    </a:lnTo>
                    <a:lnTo>
                      <a:pt x="44" y="56"/>
                    </a:lnTo>
                    <a:lnTo>
                      <a:pt x="47" y="57"/>
                    </a:lnTo>
                    <a:lnTo>
                      <a:pt x="49" y="58"/>
                    </a:lnTo>
                    <a:lnTo>
                      <a:pt x="50" y="58"/>
                    </a:lnTo>
                    <a:lnTo>
                      <a:pt x="52" y="60"/>
                    </a:lnTo>
                    <a:lnTo>
                      <a:pt x="52" y="61"/>
                    </a:lnTo>
                    <a:lnTo>
                      <a:pt x="53" y="63"/>
                    </a:lnTo>
                    <a:lnTo>
                      <a:pt x="53" y="66"/>
                    </a:lnTo>
                    <a:lnTo>
                      <a:pt x="54" y="69"/>
                    </a:lnTo>
                    <a:lnTo>
                      <a:pt x="54" y="73"/>
                    </a:lnTo>
                    <a:lnTo>
                      <a:pt x="56" y="76"/>
                    </a:lnTo>
                    <a:lnTo>
                      <a:pt x="57" y="79"/>
                    </a:lnTo>
                    <a:lnTo>
                      <a:pt x="58" y="81"/>
                    </a:lnTo>
                    <a:lnTo>
                      <a:pt x="59" y="82"/>
                    </a:lnTo>
                    <a:lnTo>
                      <a:pt x="59" y="83"/>
                    </a:lnTo>
                    <a:lnTo>
                      <a:pt x="60" y="84"/>
                    </a:lnTo>
                    <a:lnTo>
                      <a:pt x="61" y="84"/>
                    </a:lnTo>
                    <a:lnTo>
                      <a:pt x="63" y="84"/>
                    </a:lnTo>
                    <a:lnTo>
                      <a:pt x="64" y="85"/>
                    </a:lnTo>
                    <a:lnTo>
                      <a:pt x="65" y="85"/>
                    </a:lnTo>
                    <a:lnTo>
                      <a:pt x="67" y="85"/>
                    </a:lnTo>
                    <a:lnTo>
                      <a:pt x="68" y="85"/>
                    </a:lnTo>
                    <a:lnTo>
                      <a:pt x="70" y="85"/>
                    </a:lnTo>
                    <a:lnTo>
                      <a:pt x="72" y="84"/>
                    </a:lnTo>
                    <a:lnTo>
                      <a:pt x="73" y="84"/>
                    </a:lnTo>
                    <a:lnTo>
                      <a:pt x="74" y="84"/>
                    </a:lnTo>
                    <a:lnTo>
                      <a:pt x="75" y="84"/>
                    </a:lnTo>
                    <a:lnTo>
                      <a:pt x="76" y="84"/>
                    </a:lnTo>
                    <a:lnTo>
                      <a:pt x="77" y="84"/>
                    </a:lnTo>
                    <a:lnTo>
                      <a:pt x="78" y="84"/>
                    </a:lnTo>
                    <a:lnTo>
                      <a:pt x="79" y="83"/>
                    </a:lnTo>
                    <a:lnTo>
                      <a:pt x="80" y="82"/>
                    </a:lnTo>
                    <a:lnTo>
                      <a:pt x="80" y="81"/>
                    </a:lnTo>
                    <a:lnTo>
                      <a:pt x="81" y="81"/>
                    </a:lnTo>
                    <a:lnTo>
                      <a:pt x="81" y="80"/>
                    </a:lnTo>
                    <a:lnTo>
                      <a:pt x="82" y="80"/>
                    </a:lnTo>
                    <a:lnTo>
                      <a:pt x="83" y="79"/>
                    </a:lnTo>
                    <a:lnTo>
                      <a:pt x="84" y="79"/>
                    </a:lnTo>
                    <a:lnTo>
                      <a:pt x="85" y="79"/>
                    </a:lnTo>
                    <a:lnTo>
                      <a:pt x="85" y="78"/>
                    </a:lnTo>
                    <a:lnTo>
                      <a:pt x="87" y="78"/>
                    </a:lnTo>
                    <a:lnTo>
                      <a:pt x="88" y="77"/>
                    </a:lnTo>
                    <a:lnTo>
                      <a:pt x="89" y="77"/>
                    </a:lnTo>
                    <a:lnTo>
                      <a:pt x="90" y="77"/>
                    </a:lnTo>
                    <a:lnTo>
                      <a:pt x="90" y="79"/>
                    </a:lnTo>
                    <a:lnTo>
                      <a:pt x="90" y="81"/>
                    </a:lnTo>
                    <a:lnTo>
                      <a:pt x="89" y="82"/>
                    </a:lnTo>
                    <a:lnTo>
                      <a:pt x="89" y="84"/>
                    </a:lnTo>
                    <a:lnTo>
                      <a:pt x="89" y="87"/>
                    </a:lnTo>
                    <a:lnTo>
                      <a:pt x="89" y="88"/>
                    </a:lnTo>
                    <a:lnTo>
                      <a:pt x="89" y="89"/>
                    </a:lnTo>
                    <a:lnTo>
                      <a:pt x="87" y="90"/>
                    </a:lnTo>
                    <a:lnTo>
                      <a:pt x="87" y="91"/>
                    </a:lnTo>
                    <a:lnTo>
                      <a:pt x="85" y="93"/>
                    </a:lnTo>
                    <a:lnTo>
                      <a:pt x="84" y="94"/>
                    </a:lnTo>
                    <a:lnTo>
                      <a:pt x="82" y="94"/>
                    </a:lnTo>
                    <a:lnTo>
                      <a:pt x="81" y="96"/>
                    </a:lnTo>
                    <a:lnTo>
                      <a:pt x="79" y="96"/>
                    </a:lnTo>
                    <a:lnTo>
                      <a:pt x="76" y="96"/>
                    </a:lnTo>
                    <a:lnTo>
                      <a:pt x="74" y="98"/>
                    </a:lnTo>
                    <a:lnTo>
                      <a:pt x="72" y="99"/>
                    </a:lnTo>
                    <a:lnTo>
                      <a:pt x="70" y="99"/>
                    </a:lnTo>
                    <a:lnTo>
                      <a:pt x="68" y="100"/>
                    </a:lnTo>
                    <a:lnTo>
                      <a:pt x="65" y="100"/>
                    </a:lnTo>
                    <a:lnTo>
                      <a:pt x="62" y="101"/>
                    </a:lnTo>
                    <a:lnTo>
                      <a:pt x="59" y="103"/>
                    </a:lnTo>
                    <a:lnTo>
                      <a:pt x="55" y="103"/>
                    </a:lnTo>
                    <a:lnTo>
                      <a:pt x="54" y="103"/>
                    </a:lnTo>
                    <a:lnTo>
                      <a:pt x="52" y="103"/>
                    </a:lnTo>
                    <a:lnTo>
                      <a:pt x="52" y="101"/>
                    </a:lnTo>
                    <a:lnTo>
                      <a:pt x="51" y="101"/>
                    </a:lnTo>
                    <a:lnTo>
                      <a:pt x="50" y="101"/>
                    </a:lnTo>
                    <a:lnTo>
                      <a:pt x="49" y="101"/>
                    </a:lnTo>
                    <a:lnTo>
                      <a:pt x="48" y="101"/>
                    </a:lnTo>
                    <a:lnTo>
                      <a:pt x="46" y="100"/>
                    </a:lnTo>
                    <a:lnTo>
                      <a:pt x="45" y="99"/>
                    </a:lnTo>
                    <a:lnTo>
                      <a:pt x="44" y="99"/>
                    </a:lnTo>
                    <a:lnTo>
                      <a:pt x="43" y="99"/>
                    </a:lnTo>
                    <a:lnTo>
                      <a:pt x="42" y="99"/>
                    </a:lnTo>
                    <a:lnTo>
                      <a:pt x="41" y="98"/>
                    </a:lnTo>
                    <a:lnTo>
                      <a:pt x="41" y="96"/>
                    </a:lnTo>
                    <a:lnTo>
                      <a:pt x="39" y="96"/>
                    </a:lnTo>
                    <a:lnTo>
                      <a:pt x="38" y="95"/>
                    </a:lnTo>
                    <a:lnTo>
                      <a:pt x="37" y="94"/>
                    </a:lnTo>
                    <a:lnTo>
                      <a:pt x="36" y="93"/>
                    </a:lnTo>
                    <a:lnTo>
                      <a:pt x="36" y="92"/>
                    </a:lnTo>
                    <a:lnTo>
                      <a:pt x="35" y="92"/>
                    </a:lnTo>
                    <a:lnTo>
                      <a:pt x="35" y="90"/>
                    </a:lnTo>
                    <a:lnTo>
                      <a:pt x="35" y="89"/>
                    </a:lnTo>
                    <a:lnTo>
                      <a:pt x="34" y="88"/>
                    </a:lnTo>
                    <a:lnTo>
                      <a:pt x="33" y="88"/>
                    </a:lnTo>
                    <a:lnTo>
                      <a:pt x="32" y="88"/>
                    </a:lnTo>
                    <a:lnTo>
                      <a:pt x="32" y="87"/>
                    </a:lnTo>
                    <a:lnTo>
                      <a:pt x="31" y="85"/>
                    </a:lnTo>
                    <a:lnTo>
                      <a:pt x="30" y="85"/>
                    </a:lnTo>
                    <a:lnTo>
                      <a:pt x="30" y="84"/>
                    </a:lnTo>
                    <a:lnTo>
                      <a:pt x="28" y="83"/>
                    </a:lnTo>
                    <a:lnTo>
                      <a:pt x="28" y="82"/>
                    </a:lnTo>
                    <a:lnTo>
                      <a:pt x="27" y="81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4" y="79"/>
                    </a:lnTo>
                    <a:lnTo>
                      <a:pt x="23" y="78"/>
                    </a:lnTo>
                    <a:lnTo>
                      <a:pt x="22" y="78"/>
                    </a:lnTo>
                    <a:lnTo>
                      <a:pt x="21" y="78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8" y="80"/>
                    </a:lnTo>
                    <a:lnTo>
                      <a:pt x="17" y="80"/>
                    </a:lnTo>
                    <a:lnTo>
                      <a:pt x="16" y="81"/>
                    </a:lnTo>
                    <a:lnTo>
                      <a:pt x="15" y="81"/>
                    </a:lnTo>
                    <a:lnTo>
                      <a:pt x="14" y="83"/>
                    </a:lnTo>
                    <a:lnTo>
                      <a:pt x="13" y="83"/>
                    </a:lnTo>
                    <a:lnTo>
                      <a:pt x="12" y="84"/>
                    </a:lnTo>
                    <a:lnTo>
                      <a:pt x="10" y="84"/>
                    </a:lnTo>
                    <a:lnTo>
                      <a:pt x="10" y="85"/>
                    </a:lnTo>
                    <a:lnTo>
                      <a:pt x="8" y="85"/>
                    </a:lnTo>
                    <a:lnTo>
                      <a:pt x="8" y="87"/>
                    </a:lnTo>
                    <a:lnTo>
                      <a:pt x="6" y="88"/>
                    </a:lnTo>
                    <a:lnTo>
                      <a:pt x="5" y="88"/>
                    </a:lnTo>
                    <a:lnTo>
                      <a:pt x="4" y="88"/>
                    </a:lnTo>
                    <a:lnTo>
                      <a:pt x="3" y="88"/>
                    </a:lnTo>
                    <a:lnTo>
                      <a:pt x="2" y="89"/>
                    </a:lnTo>
                    <a:lnTo>
                      <a:pt x="1" y="90"/>
                    </a:lnTo>
                    <a:lnTo>
                      <a:pt x="0" y="91"/>
                    </a:lnTo>
                    <a:lnTo>
                      <a:pt x="36" y="24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225000" y="6080040"/>
                <a:ext cx="182160" cy="173880"/>
              </a:xfrm>
              <a:custGeom>
                <a:avLst/>
                <a:gdLst/>
                <a:ahLst/>
                <a:rect l="l" t="t" r="r" b="b"/>
                <a:pathLst>
                  <a:path w="90" h="104">
                    <a:moveTo>
                      <a:pt x="35" y="24"/>
                    </a:moveTo>
                    <a:lnTo>
                      <a:pt x="34" y="23"/>
                    </a:lnTo>
                    <a:lnTo>
                      <a:pt x="33" y="22"/>
                    </a:lnTo>
                    <a:lnTo>
                      <a:pt x="33" y="20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34" y="15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6" y="11"/>
                    </a:lnTo>
                    <a:lnTo>
                      <a:pt x="37" y="11"/>
                    </a:lnTo>
                    <a:lnTo>
                      <a:pt x="39" y="9"/>
                    </a:lnTo>
                    <a:lnTo>
                      <a:pt x="40" y="8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4" y="6"/>
                    </a:lnTo>
                    <a:lnTo>
                      <a:pt x="45" y="6"/>
                    </a:lnTo>
                    <a:lnTo>
                      <a:pt x="47" y="6"/>
                    </a:lnTo>
                    <a:lnTo>
                      <a:pt x="48" y="5"/>
                    </a:lnTo>
                    <a:lnTo>
                      <a:pt x="49" y="4"/>
                    </a:lnTo>
                    <a:lnTo>
                      <a:pt x="50" y="3"/>
                    </a:lnTo>
                    <a:lnTo>
                      <a:pt x="51" y="2"/>
                    </a:lnTo>
                    <a:lnTo>
                      <a:pt x="52" y="2"/>
                    </a:lnTo>
                    <a:lnTo>
                      <a:pt x="53" y="1"/>
                    </a:lnTo>
                    <a:lnTo>
                      <a:pt x="54" y="1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70" y="1"/>
                    </a:lnTo>
                    <a:lnTo>
                      <a:pt x="70" y="2"/>
                    </a:lnTo>
                    <a:lnTo>
                      <a:pt x="70" y="7"/>
                    </a:lnTo>
                    <a:lnTo>
                      <a:pt x="68" y="11"/>
                    </a:lnTo>
                    <a:lnTo>
                      <a:pt x="67" y="12"/>
                    </a:lnTo>
                    <a:lnTo>
                      <a:pt x="66" y="14"/>
                    </a:lnTo>
                    <a:lnTo>
                      <a:pt x="66" y="15"/>
                    </a:lnTo>
                    <a:lnTo>
                      <a:pt x="66" y="16"/>
                    </a:lnTo>
                    <a:lnTo>
                      <a:pt x="65" y="17"/>
                    </a:lnTo>
                    <a:lnTo>
                      <a:pt x="65" y="18"/>
                    </a:lnTo>
                    <a:lnTo>
                      <a:pt x="64" y="19"/>
                    </a:lnTo>
                    <a:lnTo>
                      <a:pt x="63" y="19"/>
                    </a:lnTo>
                    <a:lnTo>
                      <a:pt x="62" y="20"/>
                    </a:lnTo>
                    <a:lnTo>
                      <a:pt x="60" y="22"/>
                    </a:lnTo>
                    <a:lnTo>
                      <a:pt x="58" y="23"/>
                    </a:lnTo>
                    <a:lnTo>
                      <a:pt x="57" y="23"/>
                    </a:lnTo>
                    <a:lnTo>
                      <a:pt x="56" y="23"/>
                    </a:lnTo>
                    <a:lnTo>
                      <a:pt x="55" y="23"/>
                    </a:lnTo>
                    <a:lnTo>
                      <a:pt x="54" y="24"/>
                    </a:lnTo>
                    <a:lnTo>
                      <a:pt x="53" y="24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51" y="26"/>
                    </a:lnTo>
                    <a:lnTo>
                      <a:pt x="49" y="26"/>
                    </a:lnTo>
                    <a:lnTo>
                      <a:pt x="48" y="27"/>
                    </a:lnTo>
                    <a:lnTo>
                      <a:pt x="47" y="27"/>
                    </a:lnTo>
                    <a:lnTo>
                      <a:pt x="46" y="27"/>
                    </a:lnTo>
                    <a:lnTo>
                      <a:pt x="45" y="27"/>
                    </a:lnTo>
                    <a:lnTo>
                      <a:pt x="44" y="27"/>
                    </a:lnTo>
                    <a:lnTo>
                      <a:pt x="43" y="27"/>
                    </a:lnTo>
                    <a:lnTo>
                      <a:pt x="42" y="27"/>
                    </a:lnTo>
                    <a:lnTo>
                      <a:pt x="40" y="27"/>
                    </a:lnTo>
                    <a:lnTo>
                      <a:pt x="39" y="27"/>
                    </a:lnTo>
                    <a:lnTo>
                      <a:pt x="38" y="27"/>
                    </a:lnTo>
                    <a:lnTo>
                      <a:pt x="37" y="26"/>
                    </a:lnTo>
                    <a:lnTo>
                      <a:pt x="36" y="25"/>
                    </a:lnTo>
                    <a:lnTo>
                      <a:pt x="35" y="25"/>
                    </a:lnTo>
                    <a:lnTo>
                      <a:pt x="35" y="24"/>
                    </a:lnTo>
                    <a:lnTo>
                      <a:pt x="0" y="91"/>
                    </a:lnTo>
                    <a:lnTo>
                      <a:pt x="0" y="90"/>
                    </a:lnTo>
                    <a:lnTo>
                      <a:pt x="0" y="89"/>
                    </a:lnTo>
                    <a:lnTo>
                      <a:pt x="0" y="88"/>
                    </a:lnTo>
                    <a:lnTo>
                      <a:pt x="0" y="87"/>
                    </a:lnTo>
                    <a:lnTo>
                      <a:pt x="0" y="85"/>
                    </a:lnTo>
                    <a:lnTo>
                      <a:pt x="0" y="84"/>
                    </a:lnTo>
                    <a:lnTo>
                      <a:pt x="0" y="83"/>
                    </a:lnTo>
                    <a:lnTo>
                      <a:pt x="0" y="81"/>
                    </a:lnTo>
                    <a:lnTo>
                      <a:pt x="0" y="80"/>
                    </a:lnTo>
                    <a:lnTo>
                      <a:pt x="0" y="79"/>
                    </a:lnTo>
                    <a:lnTo>
                      <a:pt x="0" y="78"/>
                    </a:lnTo>
                    <a:lnTo>
                      <a:pt x="0" y="77"/>
                    </a:lnTo>
                    <a:lnTo>
                      <a:pt x="1" y="77"/>
                    </a:lnTo>
                    <a:lnTo>
                      <a:pt x="2" y="76"/>
                    </a:lnTo>
                    <a:lnTo>
                      <a:pt x="4" y="76"/>
                    </a:lnTo>
                    <a:lnTo>
                      <a:pt x="4" y="74"/>
                    </a:lnTo>
                    <a:lnTo>
                      <a:pt x="6" y="73"/>
                    </a:lnTo>
                    <a:lnTo>
                      <a:pt x="8" y="73"/>
                    </a:lnTo>
                    <a:lnTo>
                      <a:pt x="8" y="72"/>
                    </a:lnTo>
                    <a:lnTo>
                      <a:pt x="9" y="72"/>
                    </a:lnTo>
                    <a:lnTo>
                      <a:pt x="10" y="71"/>
                    </a:lnTo>
                    <a:lnTo>
                      <a:pt x="11" y="71"/>
                    </a:lnTo>
                    <a:lnTo>
                      <a:pt x="12" y="71"/>
                    </a:lnTo>
                    <a:lnTo>
                      <a:pt x="12" y="70"/>
                    </a:lnTo>
                    <a:lnTo>
                      <a:pt x="13" y="69"/>
                    </a:lnTo>
                    <a:lnTo>
                      <a:pt x="14" y="68"/>
                    </a:lnTo>
                    <a:lnTo>
                      <a:pt x="15" y="68"/>
                    </a:lnTo>
                    <a:lnTo>
                      <a:pt x="16" y="66"/>
                    </a:lnTo>
                    <a:lnTo>
                      <a:pt x="17" y="65"/>
                    </a:lnTo>
                    <a:lnTo>
                      <a:pt x="18" y="64"/>
                    </a:lnTo>
                    <a:lnTo>
                      <a:pt x="20" y="63"/>
                    </a:lnTo>
                    <a:lnTo>
                      <a:pt x="21" y="62"/>
                    </a:lnTo>
                    <a:lnTo>
                      <a:pt x="22" y="61"/>
                    </a:lnTo>
                    <a:lnTo>
                      <a:pt x="24" y="61"/>
                    </a:lnTo>
                    <a:lnTo>
                      <a:pt x="26" y="61"/>
                    </a:lnTo>
                    <a:lnTo>
                      <a:pt x="26" y="60"/>
                    </a:lnTo>
                    <a:lnTo>
                      <a:pt x="27" y="60"/>
                    </a:lnTo>
                    <a:lnTo>
                      <a:pt x="28" y="58"/>
                    </a:lnTo>
                    <a:lnTo>
                      <a:pt x="29" y="57"/>
                    </a:lnTo>
                    <a:lnTo>
                      <a:pt x="31" y="56"/>
                    </a:lnTo>
                    <a:lnTo>
                      <a:pt x="32" y="55"/>
                    </a:lnTo>
                    <a:lnTo>
                      <a:pt x="33" y="55"/>
                    </a:lnTo>
                    <a:lnTo>
                      <a:pt x="33" y="54"/>
                    </a:lnTo>
                    <a:lnTo>
                      <a:pt x="37" y="55"/>
                    </a:lnTo>
                    <a:lnTo>
                      <a:pt x="39" y="55"/>
                    </a:lnTo>
                    <a:lnTo>
                      <a:pt x="42" y="55"/>
                    </a:lnTo>
                    <a:lnTo>
                      <a:pt x="44" y="56"/>
                    </a:lnTo>
                    <a:lnTo>
                      <a:pt x="46" y="57"/>
                    </a:lnTo>
                    <a:lnTo>
                      <a:pt x="48" y="58"/>
                    </a:lnTo>
                    <a:lnTo>
                      <a:pt x="50" y="58"/>
                    </a:lnTo>
                    <a:lnTo>
                      <a:pt x="51" y="60"/>
                    </a:lnTo>
                    <a:lnTo>
                      <a:pt x="52" y="61"/>
                    </a:lnTo>
                    <a:lnTo>
                      <a:pt x="53" y="63"/>
                    </a:lnTo>
                    <a:lnTo>
                      <a:pt x="53" y="66"/>
                    </a:lnTo>
                    <a:lnTo>
                      <a:pt x="53" y="69"/>
                    </a:lnTo>
                    <a:lnTo>
                      <a:pt x="54" y="73"/>
                    </a:lnTo>
                    <a:lnTo>
                      <a:pt x="55" y="76"/>
                    </a:lnTo>
                    <a:lnTo>
                      <a:pt x="56" y="78"/>
                    </a:lnTo>
                    <a:lnTo>
                      <a:pt x="57" y="81"/>
                    </a:lnTo>
                    <a:lnTo>
                      <a:pt x="58" y="82"/>
                    </a:lnTo>
                    <a:lnTo>
                      <a:pt x="59" y="83"/>
                    </a:lnTo>
                    <a:lnTo>
                      <a:pt x="60" y="84"/>
                    </a:lnTo>
                    <a:lnTo>
                      <a:pt x="61" y="84"/>
                    </a:lnTo>
                    <a:lnTo>
                      <a:pt x="62" y="84"/>
                    </a:lnTo>
                    <a:lnTo>
                      <a:pt x="64" y="85"/>
                    </a:lnTo>
                    <a:lnTo>
                      <a:pt x="65" y="85"/>
                    </a:lnTo>
                    <a:lnTo>
                      <a:pt x="66" y="85"/>
                    </a:lnTo>
                    <a:lnTo>
                      <a:pt x="68" y="85"/>
                    </a:lnTo>
                    <a:lnTo>
                      <a:pt x="69" y="85"/>
                    </a:lnTo>
                    <a:lnTo>
                      <a:pt x="70" y="85"/>
                    </a:lnTo>
                    <a:lnTo>
                      <a:pt x="71" y="84"/>
                    </a:lnTo>
                    <a:lnTo>
                      <a:pt x="72" y="84"/>
                    </a:lnTo>
                    <a:lnTo>
                      <a:pt x="74" y="84"/>
                    </a:lnTo>
                    <a:lnTo>
                      <a:pt x="75" y="84"/>
                    </a:lnTo>
                    <a:lnTo>
                      <a:pt x="76" y="84"/>
                    </a:lnTo>
                    <a:lnTo>
                      <a:pt x="77" y="83"/>
                    </a:lnTo>
                    <a:lnTo>
                      <a:pt x="78" y="83"/>
                    </a:lnTo>
                    <a:lnTo>
                      <a:pt x="78" y="82"/>
                    </a:lnTo>
                    <a:lnTo>
                      <a:pt x="79" y="81"/>
                    </a:lnTo>
                    <a:lnTo>
                      <a:pt x="80" y="80"/>
                    </a:lnTo>
                    <a:lnTo>
                      <a:pt x="81" y="80"/>
                    </a:lnTo>
                    <a:lnTo>
                      <a:pt x="82" y="79"/>
                    </a:lnTo>
                    <a:lnTo>
                      <a:pt x="83" y="79"/>
                    </a:lnTo>
                    <a:lnTo>
                      <a:pt x="84" y="78"/>
                    </a:lnTo>
                    <a:lnTo>
                      <a:pt x="85" y="78"/>
                    </a:lnTo>
                    <a:lnTo>
                      <a:pt x="86" y="78"/>
                    </a:lnTo>
                    <a:lnTo>
                      <a:pt x="86" y="77"/>
                    </a:lnTo>
                    <a:lnTo>
                      <a:pt x="87" y="77"/>
                    </a:lnTo>
                    <a:lnTo>
                      <a:pt x="89" y="77"/>
                    </a:lnTo>
                    <a:lnTo>
                      <a:pt x="89" y="79"/>
                    </a:lnTo>
                    <a:lnTo>
                      <a:pt x="89" y="80"/>
                    </a:lnTo>
                    <a:lnTo>
                      <a:pt x="88" y="82"/>
                    </a:lnTo>
                    <a:lnTo>
                      <a:pt x="88" y="83"/>
                    </a:lnTo>
                    <a:lnTo>
                      <a:pt x="88" y="84"/>
                    </a:lnTo>
                    <a:lnTo>
                      <a:pt x="88" y="87"/>
                    </a:lnTo>
                    <a:lnTo>
                      <a:pt x="88" y="88"/>
                    </a:lnTo>
                    <a:lnTo>
                      <a:pt x="88" y="89"/>
                    </a:lnTo>
                    <a:lnTo>
                      <a:pt x="86" y="90"/>
                    </a:lnTo>
                    <a:lnTo>
                      <a:pt x="85" y="91"/>
                    </a:lnTo>
                    <a:lnTo>
                      <a:pt x="84" y="92"/>
                    </a:lnTo>
                    <a:lnTo>
                      <a:pt x="83" y="94"/>
                    </a:lnTo>
                    <a:lnTo>
                      <a:pt x="81" y="94"/>
                    </a:lnTo>
                    <a:lnTo>
                      <a:pt x="80" y="95"/>
                    </a:lnTo>
                    <a:lnTo>
                      <a:pt x="78" y="96"/>
                    </a:lnTo>
                    <a:lnTo>
                      <a:pt x="76" y="96"/>
                    </a:lnTo>
                    <a:lnTo>
                      <a:pt x="74" y="98"/>
                    </a:lnTo>
                    <a:lnTo>
                      <a:pt x="72" y="99"/>
                    </a:lnTo>
                    <a:lnTo>
                      <a:pt x="69" y="99"/>
                    </a:lnTo>
                    <a:lnTo>
                      <a:pt x="66" y="99"/>
                    </a:lnTo>
                    <a:lnTo>
                      <a:pt x="64" y="100"/>
                    </a:lnTo>
                    <a:lnTo>
                      <a:pt x="61" y="101"/>
                    </a:lnTo>
                    <a:lnTo>
                      <a:pt x="58" y="103"/>
                    </a:lnTo>
                    <a:lnTo>
                      <a:pt x="55" y="103"/>
                    </a:lnTo>
                    <a:lnTo>
                      <a:pt x="53" y="103"/>
                    </a:lnTo>
                    <a:lnTo>
                      <a:pt x="52" y="103"/>
                    </a:lnTo>
                    <a:lnTo>
                      <a:pt x="51" y="101"/>
                    </a:lnTo>
                    <a:lnTo>
                      <a:pt x="49" y="101"/>
                    </a:lnTo>
                    <a:lnTo>
                      <a:pt x="47" y="100"/>
                    </a:lnTo>
                    <a:lnTo>
                      <a:pt x="46" y="100"/>
                    </a:lnTo>
                    <a:lnTo>
                      <a:pt x="45" y="99"/>
                    </a:lnTo>
                    <a:lnTo>
                      <a:pt x="43" y="99"/>
                    </a:lnTo>
                    <a:lnTo>
                      <a:pt x="42" y="99"/>
                    </a:lnTo>
                    <a:lnTo>
                      <a:pt x="41" y="99"/>
                    </a:lnTo>
                    <a:lnTo>
                      <a:pt x="40" y="98"/>
                    </a:lnTo>
                    <a:lnTo>
                      <a:pt x="39" y="96"/>
                    </a:lnTo>
                    <a:lnTo>
                      <a:pt x="38" y="96"/>
                    </a:lnTo>
                    <a:lnTo>
                      <a:pt x="37" y="95"/>
                    </a:lnTo>
                    <a:lnTo>
                      <a:pt x="37" y="94"/>
                    </a:lnTo>
                    <a:lnTo>
                      <a:pt x="36" y="94"/>
                    </a:lnTo>
                    <a:lnTo>
                      <a:pt x="35" y="93"/>
                    </a:lnTo>
                    <a:lnTo>
                      <a:pt x="35" y="92"/>
                    </a:lnTo>
                    <a:lnTo>
                      <a:pt x="34" y="90"/>
                    </a:lnTo>
                    <a:lnTo>
                      <a:pt x="33" y="89"/>
                    </a:lnTo>
                    <a:lnTo>
                      <a:pt x="33" y="88"/>
                    </a:lnTo>
                    <a:lnTo>
                      <a:pt x="32" y="88"/>
                    </a:lnTo>
                    <a:lnTo>
                      <a:pt x="31" y="87"/>
                    </a:lnTo>
                    <a:lnTo>
                      <a:pt x="31" y="85"/>
                    </a:lnTo>
                    <a:lnTo>
                      <a:pt x="30" y="85"/>
                    </a:lnTo>
                    <a:lnTo>
                      <a:pt x="29" y="84"/>
                    </a:lnTo>
                    <a:lnTo>
                      <a:pt x="28" y="84"/>
                    </a:lnTo>
                    <a:lnTo>
                      <a:pt x="28" y="83"/>
                    </a:lnTo>
                    <a:lnTo>
                      <a:pt x="27" y="82"/>
                    </a:lnTo>
                    <a:lnTo>
                      <a:pt x="26" y="80"/>
                    </a:lnTo>
                    <a:lnTo>
                      <a:pt x="24" y="79"/>
                    </a:lnTo>
                    <a:lnTo>
                      <a:pt x="23" y="78"/>
                    </a:lnTo>
                    <a:lnTo>
                      <a:pt x="22" y="78"/>
                    </a:lnTo>
                    <a:lnTo>
                      <a:pt x="21" y="78"/>
                    </a:lnTo>
                    <a:lnTo>
                      <a:pt x="20" y="78"/>
                    </a:lnTo>
                    <a:lnTo>
                      <a:pt x="18" y="79"/>
                    </a:lnTo>
                    <a:lnTo>
                      <a:pt x="17" y="80"/>
                    </a:lnTo>
                    <a:lnTo>
                      <a:pt x="16" y="80"/>
                    </a:lnTo>
                    <a:lnTo>
                      <a:pt x="15" y="81"/>
                    </a:lnTo>
                    <a:lnTo>
                      <a:pt x="14" y="82"/>
                    </a:lnTo>
                    <a:lnTo>
                      <a:pt x="12" y="83"/>
                    </a:lnTo>
                    <a:lnTo>
                      <a:pt x="12" y="84"/>
                    </a:lnTo>
                    <a:lnTo>
                      <a:pt x="10" y="84"/>
                    </a:lnTo>
                    <a:lnTo>
                      <a:pt x="9" y="85"/>
                    </a:lnTo>
                    <a:lnTo>
                      <a:pt x="8" y="85"/>
                    </a:lnTo>
                    <a:lnTo>
                      <a:pt x="8" y="87"/>
                    </a:lnTo>
                    <a:lnTo>
                      <a:pt x="6" y="87"/>
                    </a:lnTo>
                    <a:lnTo>
                      <a:pt x="6" y="88"/>
                    </a:lnTo>
                    <a:lnTo>
                      <a:pt x="5" y="88"/>
                    </a:lnTo>
                    <a:lnTo>
                      <a:pt x="4" y="88"/>
                    </a:lnTo>
                    <a:lnTo>
                      <a:pt x="3" y="88"/>
                    </a:lnTo>
                    <a:lnTo>
                      <a:pt x="2" y="88"/>
                    </a:lnTo>
                    <a:lnTo>
                      <a:pt x="2" y="89"/>
                    </a:lnTo>
                    <a:lnTo>
                      <a:pt x="1" y="90"/>
                    </a:lnTo>
                    <a:lnTo>
                      <a:pt x="0" y="91"/>
                    </a:lnTo>
                    <a:lnTo>
                      <a:pt x="35" y="24"/>
                    </a:lnTo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>
              <a:off x="140040" y="6275520"/>
              <a:ext cx="43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2680"/>
                  <a:tab algn="l" pos="225360"/>
                  <a:tab algn="l" pos="338040"/>
                  <a:tab algn="l" pos="450720"/>
                  <a:tab algn="l" pos="563400"/>
                  <a:tab algn="l" pos="676440"/>
                  <a:tab algn="l" pos="789120"/>
                  <a:tab algn="l" pos="901800"/>
                  <a:tab algn="l" pos="1014480"/>
                  <a:tab algn="l" pos="1127160"/>
                  <a:tab algn="l" pos="1239840"/>
                  <a:tab algn="l" pos="1352520"/>
                  <a:tab algn="l" pos="1465200"/>
                  <a:tab algn="l" pos="1577880"/>
                  <a:tab algn="l" pos="1690560"/>
                  <a:tab algn="l" pos="1803240"/>
                  <a:tab algn="l" pos="1916280"/>
                  <a:tab algn="l" pos="2028960"/>
                  <a:tab algn="l" pos="2141640"/>
                  <a:tab algn="l" pos="2254320"/>
                </a:tabLst>
              </a:pPr>
              <a:r>
                <a:rPr b="1" i="1" lang="pt-BR" sz="400" spc="-1" strike="noStrike">
                  <a:solidFill>
                    <a:srgbClr val="990000"/>
                  </a:solidFill>
                  <a:latin typeface="Arial"/>
                </a:rPr>
                <a:t>Cin - CENTRO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2680"/>
                  <a:tab algn="l" pos="225360"/>
                  <a:tab algn="l" pos="338040"/>
                  <a:tab algn="l" pos="450720"/>
                  <a:tab algn="l" pos="563400"/>
                  <a:tab algn="l" pos="676440"/>
                  <a:tab algn="l" pos="789120"/>
                  <a:tab algn="l" pos="901800"/>
                  <a:tab algn="l" pos="1014480"/>
                  <a:tab algn="l" pos="1127160"/>
                  <a:tab algn="l" pos="1239840"/>
                  <a:tab algn="l" pos="1352520"/>
                  <a:tab algn="l" pos="1465200"/>
                  <a:tab algn="l" pos="1577880"/>
                  <a:tab algn="l" pos="1690560"/>
                  <a:tab algn="l" pos="1803240"/>
                  <a:tab algn="l" pos="1916280"/>
                  <a:tab algn="l" pos="2028960"/>
                  <a:tab algn="l" pos="2141640"/>
                  <a:tab algn="l" pos="2254320"/>
                </a:tabLst>
              </a:pPr>
              <a:r>
                <a:rPr b="1" i="1" lang="pt-BR" sz="400" spc="-1" strike="noStrike">
                  <a:solidFill>
                    <a:srgbClr val="990000"/>
                  </a:solidFill>
                  <a:latin typeface="Arial"/>
                </a:rPr>
                <a:t>DE INFORMÁTICA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2680"/>
                  <a:tab algn="l" pos="225360"/>
                  <a:tab algn="l" pos="338040"/>
                  <a:tab algn="l" pos="450720"/>
                  <a:tab algn="l" pos="563400"/>
                  <a:tab algn="l" pos="676440"/>
                  <a:tab algn="l" pos="789120"/>
                  <a:tab algn="l" pos="901800"/>
                  <a:tab algn="l" pos="1014480"/>
                  <a:tab algn="l" pos="1127160"/>
                  <a:tab algn="l" pos="1239840"/>
                  <a:tab algn="l" pos="1352520"/>
                  <a:tab algn="l" pos="1465200"/>
                  <a:tab algn="l" pos="1577880"/>
                  <a:tab algn="l" pos="1690560"/>
                  <a:tab algn="l" pos="1803240"/>
                  <a:tab algn="l" pos="1916280"/>
                  <a:tab algn="l" pos="2028960"/>
                  <a:tab algn="l" pos="2141640"/>
                  <a:tab algn="l" pos="2254320"/>
                </a:tabLst>
              </a:pPr>
              <a:r>
                <a:rPr b="1" i="1" lang="pt-BR" sz="400" spc="-1" strike="noStrike">
                  <a:solidFill>
                    <a:srgbClr val="990000"/>
                  </a:solidFill>
                  <a:latin typeface="Arial"/>
                </a:rPr>
                <a:t>UFPE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1760" y="6469920"/>
              <a:ext cx="50436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993300"/>
                  </a:solidFill>
                  <a:latin typeface="Times New Roman"/>
                </a:rPr>
                <a:t>GRECO</a:t>
              </a:r>
              <a:endParaRPr b="0" lang="en-US" sz="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016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Conceitos Básicos de Arquitetura de Computadores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Operandos no Hardware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-20232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Registradores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438120" indent="-168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$s0, $s1, .... : armazenam variáveis do programa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438120" indent="-168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$t0, $t1, .... : armazenam variáveis temporárias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02320" indent="-20232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f = (g + h) - (i + j)?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438120" indent="-168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Variáveis g,h,i e j estão armazenadas nos registradores $s0, $s1, $s2 e $s3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Tipos de Dados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447920" y="2209680"/>
            <a:ext cx="2590560" cy="3276720"/>
            <a:chOff x="1447920" y="2209680"/>
            <a:chExt cx="2590560" cy="3276720"/>
          </a:xfrm>
        </p:grpSpPr>
        <p:grpSp>
          <p:nvGrpSpPr>
            <p:cNvPr id="203" name=""/>
            <p:cNvGrpSpPr/>
            <p:nvPr/>
          </p:nvGrpSpPr>
          <p:grpSpPr>
            <a:xfrm>
              <a:off x="1752480" y="2209680"/>
              <a:ext cx="1676520" cy="533520"/>
              <a:chOff x="1752480" y="2209680"/>
              <a:chExt cx="1676520" cy="533520"/>
            </a:xfrm>
          </p:grpSpPr>
          <p:sp>
            <p:nvSpPr>
              <p:cNvPr id="204" name=""/>
              <p:cNvSpPr/>
              <p:nvPr/>
            </p:nvSpPr>
            <p:spPr>
              <a:xfrm>
                <a:off x="1752480" y="2209680"/>
                <a:ext cx="1676520" cy="53352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  <a:effectLst>
                <a:outerShdw dist="107932" dir="2700000" blurRad="0" rotWithShape="0">
                  <a:srgbClr val="02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888920" y="2270160"/>
                <a:ext cx="148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20000"/>
                    </a:solidFill>
                    <a:latin typeface="Arial"/>
                  </a:rPr>
                  <a:t>Conceito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1447920" y="3124080"/>
              <a:ext cx="2361960" cy="533520"/>
              <a:chOff x="1447920" y="3124080"/>
              <a:chExt cx="2361960" cy="533520"/>
            </a:xfrm>
          </p:grpSpPr>
          <p:sp>
            <p:nvSpPr>
              <p:cNvPr id="207" name=""/>
              <p:cNvSpPr/>
              <p:nvPr/>
            </p:nvSpPr>
            <p:spPr>
              <a:xfrm>
                <a:off x="1447920" y="3124080"/>
                <a:ext cx="2361960" cy="53352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  <a:effectLst>
                <a:outerShdw dist="107932" dir="2700000" blurRad="0" rotWithShape="0">
                  <a:srgbClr val="02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582920" y="3184560"/>
                <a:ext cx="21142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20000"/>
                    </a:solidFill>
                    <a:latin typeface="Arial"/>
                  </a:rPr>
                  <a:t>Tipo de Dado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2209680" y="3962520"/>
              <a:ext cx="1143000" cy="533160"/>
              <a:chOff x="2209680" y="3962520"/>
              <a:chExt cx="1143000" cy="533160"/>
            </a:xfrm>
          </p:grpSpPr>
          <p:sp>
            <p:nvSpPr>
              <p:cNvPr id="210" name=""/>
              <p:cNvSpPr/>
              <p:nvPr/>
            </p:nvSpPr>
            <p:spPr>
              <a:xfrm>
                <a:off x="2209680" y="3962520"/>
                <a:ext cx="1143000" cy="53316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  <a:effectLst>
                <a:outerShdw dist="107932" dir="2700000" blurRad="0" rotWithShape="0">
                  <a:srgbClr val="02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422080" y="4022640"/>
                <a:ext cx="761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20000"/>
                    </a:solidFill>
                    <a:latin typeface="Arial"/>
                  </a:rPr>
                  <a:t>Bits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1582920" y="4952880"/>
              <a:ext cx="2455560" cy="533520"/>
              <a:chOff x="1582920" y="4952880"/>
              <a:chExt cx="2455560" cy="533520"/>
            </a:xfrm>
          </p:grpSpPr>
          <p:sp>
            <p:nvSpPr>
              <p:cNvPr id="213" name=""/>
              <p:cNvSpPr/>
              <p:nvPr/>
            </p:nvSpPr>
            <p:spPr>
              <a:xfrm>
                <a:off x="1600200" y="4952880"/>
                <a:ext cx="2438280" cy="53352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  <a:effectLst>
                <a:outerShdw dist="107932" dir="2700000" blurRad="0" rotWithShape="0">
                  <a:srgbClr val="02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582920" y="5013360"/>
                <a:ext cx="2422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20000"/>
                    </a:solidFill>
                    <a:latin typeface="Arial"/>
                  </a:rPr>
                  <a:t>Sinais elétricos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2743200" y="2822400"/>
              <a:ext cx="0" cy="37800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43200" y="3660840"/>
              <a:ext cx="0" cy="37764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3200" y="4575240"/>
              <a:ext cx="0" cy="37764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419720" y="2209680"/>
            <a:ext cx="2590560" cy="3276720"/>
            <a:chOff x="4419720" y="2209680"/>
            <a:chExt cx="2590560" cy="3276720"/>
          </a:xfrm>
        </p:grpSpPr>
        <p:grpSp>
          <p:nvGrpSpPr>
            <p:cNvPr id="219" name=""/>
            <p:cNvGrpSpPr/>
            <p:nvPr/>
          </p:nvGrpSpPr>
          <p:grpSpPr>
            <a:xfrm>
              <a:off x="5105520" y="3962520"/>
              <a:ext cx="1143000" cy="533160"/>
              <a:chOff x="5105520" y="3962520"/>
              <a:chExt cx="1143000" cy="533160"/>
            </a:xfrm>
          </p:grpSpPr>
          <p:sp>
            <p:nvSpPr>
              <p:cNvPr id="220" name=""/>
              <p:cNvSpPr/>
              <p:nvPr/>
            </p:nvSpPr>
            <p:spPr>
              <a:xfrm>
                <a:off x="5105520" y="3962520"/>
                <a:ext cx="1143000" cy="53316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  <a:effectLst>
                <a:outerShdw dist="107932" dir="2700000" blurRad="0" rotWithShape="0">
                  <a:srgbClr val="02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317920" y="4022640"/>
                <a:ext cx="761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20000"/>
                    </a:solidFill>
                    <a:latin typeface="Arial"/>
                  </a:rPr>
                  <a:t>Bits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554720" y="4952880"/>
              <a:ext cx="2455560" cy="533520"/>
              <a:chOff x="4554720" y="4952880"/>
              <a:chExt cx="2455560" cy="533520"/>
            </a:xfrm>
          </p:grpSpPr>
          <p:sp>
            <p:nvSpPr>
              <p:cNvPr id="223" name=""/>
              <p:cNvSpPr/>
              <p:nvPr/>
            </p:nvSpPr>
            <p:spPr>
              <a:xfrm>
                <a:off x="4572000" y="4952880"/>
                <a:ext cx="2438280" cy="53352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  <a:effectLst>
                <a:outerShdw dist="107932" dir="2700000" blurRad="0" rotWithShape="0">
                  <a:srgbClr val="02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54720" y="5013360"/>
                <a:ext cx="2422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20000"/>
                    </a:solidFill>
                    <a:latin typeface="Arial"/>
                  </a:rPr>
                  <a:t>Sinais elétricos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4648320" y="2209680"/>
              <a:ext cx="1676160" cy="533520"/>
              <a:chOff x="4648320" y="2209680"/>
              <a:chExt cx="1676160" cy="533520"/>
            </a:xfrm>
          </p:grpSpPr>
          <p:sp>
            <p:nvSpPr>
              <p:cNvPr id="226" name=""/>
              <p:cNvSpPr/>
              <p:nvPr/>
            </p:nvSpPr>
            <p:spPr>
              <a:xfrm>
                <a:off x="4648320" y="2209680"/>
                <a:ext cx="1676160" cy="53352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  <a:effectLst>
                <a:outerShdw dist="107932" dir="2700000" blurRad="0" rotWithShape="0">
                  <a:srgbClr val="02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784400" y="2270160"/>
                <a:ext cx="148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20000"/>
                    </a:solidFill>
                    <a:latin typeface="Arial"/>
                  </a:rPr>
                  <a:t>Conceito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419720" y="3124080"/>
              <a:ext cx="2361960" cy="533520"/>
              <a:chOff x="4419720" y="3124080"/>
              <a:chExt cx="2361960" cy="533520"/>
            </a:xfrm>
          </p:grpSpPr>
          <p:sp>
            <p:nvSpPr>
              <p:cNvPr id="229" name=""/>
              <p:cNvSpPr/>
              <p:nvPr/>
            </p:nvSpPr>
            <p:spPr>
              <a:xfrm>
                <a:off x="4419720" y="3124080"/>
                <a:ext cx="2361960" cy="53352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  <a:effectLst>
                <a:outerShdw dist="107932" dir="2700000" blurRad="0" rotWithShape="0">
                  <a:srgbClr val="02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554720" y="3184560"/>
                <a:ext cx="21142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20000"/>
                    </a:solidFill>
                    <a:latin typeface="Arial"/>
                  </a:rPr>
                  <a:t>Tipo de Dado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 flipV="1">
              <a:off x="5791320" y="4573440"/>
              <a:ext cx="0" cy="37800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5715000" y="3735360"/>
              <a:ext cx="0" cy="22536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638680" y="2820960"/>
              <a:ext cx="0" cy="30168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118040" y="5257800"/>
            <a:ext cx="453960" cy="0"/>
          </a:xfrm>
          <a:prstGeom prst="line">
            <a:avLst/>
          </a:prstGeom>
          <a:ln w="12600">
            <a:solidFill>
              <a:srgbClr val="02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99000" y="2270160"/>
            <a:ext cx="174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7c80"/>
                </a:solidFill>
                <a:latin typeface="Arial"/>
              </a:rPr>
              <a:t>Conceitua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45640" y="3184560"/>
            <a:ext cx="1896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7c80"/>
                </a:solidFill>
                <a:latin typeface="Arial"/>
              </a:rPr>
              <a:t>Ling. Progr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70400" y="4022640"/>
            <a:ext cx="182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7c80"/>
                </a:solidFill>
                <a:latin typeface="Arial"/>
              </a:rPr>
              <a:t>Arquitetur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03920" y="501336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7c80"/>
                </a:solidFill>
                <a:latin typeface="Arial"/>
              </a:rPr>
              <a:t>Físic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Tipos de Dados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Escalar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úmeros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Inteiros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Ponto-Flutuante (real)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caracteres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ASCII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EBCDIC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dados lógicos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Inteiros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Representação binária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inal-magnitude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complemento a 1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complemento a 2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780640" y="2863800"/>
            <a:ext cx="2452680" cy="478440"/>
            <a:chOff x="2780640" y="2863800"/>
            <a:chExt cx="2452680" cy="478440"/>
          </a:xfrm>
        </p:grpSpPr>
        <p:sp>
          <p:nvSpPr>
            <p:cNvPr id="248" name=""/>
            <p:cNvSpPr/>
            <p:nvPr/>
          </p:nvSpPr>
          <p:spPr>
            <a:xfrm>
              <a:off x="2825640" y="2863800"/>
              <a:ext cx="2387880" cy="425520"/>
            </a:xfrm>
            <a:prstGeom prst="rect">
              <a:avLst/>
            </a:prstGeom>
            <a:noFill/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80640" y="2944800"/>
              <a:ext cx="2452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20000"/>
                  </a:solidFill>
                  <a:latin typeface="Arial"/>
                </a:rPr>
                <a:t>0000000000001010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714280" y="2844720"/>
            <a:ext cx="2452680" cy="478440"/>
            <a:chOff x="5714280" y="2844720"/>
            <a:chExt cx="2452680" cy="478440"/>
          </a:xfrm>
        </p:grpSpPr>
        <p:sp>
          <p:nvSpPr>
            <p:cNvPr id="251" name=""/>
            <p:cNvSpPr/>
            <p:nvPr/>
          </p:nvSpPr>
          <p:spPr>
            <a:xfrm>
              <a:off x="5759280" y="2844720"/>
              <a:ext cx="2387880" cy="425520"/>
            </a:xfrm>
            <a:prstGeom prst="rect">
              <a:avLst/>
            </a:prstGeom>
            <a:noFill/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4280" y="2925720"/>
              <a:ext cx="2452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20000"/>
                  </a:solidFill>
                  <a:latin typeface="Arial"/>
                </a:rPr>
                <a:t>1000000000001010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837520" y="4254480"/>
            <a:ext cx="5386680" cy="497520"/>
            <a:chOff x="2837520" y="4254480"/>
            <a:chExt cx="5386680" cy="497520"/>
          </a:xfrm>
        </p:grpSpPr>
        <p:grpSp>
          <p:nvGrpSpPr>
            <p:cNvPr id="254" name=""/>
            <p:cNvGrpSpPr/>
            <p:nvPr/>
          </p:nvGrpSpPr>
          <p:grpSpPr>
            <a:xfrm>
              <a:off x="2837520" y="4273560"/>
              <a:ext cx="2452680" cy="478440"/>
              <a:chOff x="2837520" y="4273560"/>
              <a:chExt cx="2452680" cy="478440"/>
            </a:xfrm>
          </p:grpSpPr>
          <p:sp>
            <p:nvSpPr>
              <p:cNvPr id="255" name=""/>
              <p:cNvSpPr/>
              <p:nvPr/>
            </p:nvSpPr>
            <p:spPr>
              <a:xfrm>
                <a:off x="2882880" y="4273560"/>
                <a:ext cx="2387520" cy="425520"/>
              </a:xfrm>
              <a:prstGeom prst="rect">
                <a:avLst/>
              </a:prstGeom>
              <a:noFill/>
              <a:ln w="12600">
                <a:solidFill>
                  <a:srgbClr val="0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837520" y="4354560"/>
                <a:ext cx="2452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20000"/>
                    </a:solidFill>
                    <a:latin typeface="Arial"/>
                  </a:rPr>
                  <a:t>0000000000001010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5771520" y="4254480"/>
              <a:ext cx="2452680" cy="478440"/>
              <a:chOff x="5771520" y="4254480"/>
              <a:chExt cx="2452680" cy="478440"/>
            </a:xfrm>
          </p:grpSpPr>
          <p:sp>
            <p:nvSpPr>
              <p:cNvPr id="258" name=""/>
              <p:cNvSpPr/>
              <p:nvPr/>
            </p:nvSpPr>
            <p:spPr>
              <a:xfrm>
                <a:off x="5816520" y="4254480"/>
                <a:ext cx="2387520" cy="425520"/>
              </a:xfrm>
              <a:prstGeom prst="rect">
                <a:avLst/>
              </a:prstGeom>
              <a:noFill/>
              <a:ln w="12600">
                <a:solidFill>
                  <a:srgbClr val="0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771520" y="4335480"/>
                <a:ext cx="2452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20000"/>
                    </a:solidFill>
                    <a:latin typeface="Arial"/>
                  </a:rPr>
                  <a:t>1111111111110101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2894760" y="5549760"/>
            <a:ext cx="5366520" cy="497520"/>
            <a:chOff x="2894760" y="5549760"/>
            <a:chExt cx="5366520" cy="497520"/>
          </a:xfrm>
        </p:grpSpPr>
        <p:grpSp>
          <p:nvGrpSpPr>
            <p:cNvPr id="261" name=""/>
            <p:cNvGrpSpPr/>
            <p:nvPr/>
          </p:nvGrpSpPr>
          <p:grpSpPr>
            <a:xfrm>
              <a:off x="2894760" y="5568840"/>
              <a:ext cx="2452680" cy="478440"/>
              <a:chOff x="2894760" y="5568840"/>
              <a:chExt cx="2452680" cy="478440"/>
            </a:xfrm>
          </p:grpSpPr>
          <p:sp>
            <p:nvSpPr>
              <p:cNvPr id="262" name=""/>
              <p:cNvSpPr/>
              <p:nvPr/>
            </p:nvSpPr>
            <p:spPr>
              <a:xfrm>
                <a:off x="2940120" y="5568840"/>
                <a:ext cx="2387520" cy="425520"/>
              </a:xfrm>
              <a:prstGeom prst="rect">
                <a:avLst/>
              </a:prstGeom>
              <a:noFill/>
              <a:ln w="12600">
                <a:solidFill>
                  <a:srgbClr val="0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894760" y="5649840"/>
                <a:ext cx="2452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20000"/>
                    </a:solidFill>
                    <a:latin typeface="Arial"/>
                  </a:rPr>
                  <a:t>0000000000001010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828760" y="5549760"/>
              <a:ext cx="2432520" cy="478440"/>
              <a:chOff x="5828760" y="5549760"/>
              <a:chExt cx="2432520" cy="478440"/>
            </a:xfrm>
          </p:grpSpPr>
          <p:sp>
            <p:nvSpPr>
              <p:cNvPr id="265" name=""/>
              <p:cNvSpPr/>
              <p:nvPr/>
            </p:nvSpPr>
            <p:spPr>
              <a:xfrm>
                <a:off x="5873760" y="5549760"/>
                <a:ext cx="2387520" cy="425520"/>
              </a:xfrm>
              <a:prstGeom prst="rect">
                <a:avLst/>
              </a:prstGeom>
              <a:noFill/>
              <a:ln w="12600">
                <a:solidFill>
                  <a:srgbClr val="0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28760" y="5630760"/>
                <a:ext cx="2311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20000"/>
                    </a:solidFill>
                    <a:latin typeface="Arial"/>
                  </a:rPr>
                  <a:t>111111111110110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" name=""/>
          <p:cNvSpPr/>
          <p:nvPr/>
        </p:nvSpPr>
        <p:spPr>
          <a:xfrm>
            <a:off x="3774600" y="5977080"/>
            <a:ext cx="636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20000"/>
                </a:solidFill>
                <a:latin typeface="Arial"/>
              </a:rPr>
              <a:t>+ 10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89880" y="5996160"/>
            <a:ext cx="57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20000"/>
                </a:solidFill>
                <a:latin typeface="Arial"/>
              </a:rPr>
              <a:t>- 10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08600" y="4662360"/>
            <a:ext cx="57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20000"/>
                </a:solidFill>
                <a:latin typeface="Arial"/>
              </a:rPr>
              <a:t>- 10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32640" y="3292560"/>
            <a:ext cx="57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20000"/>
                </a:solidFill>
                <a:latin typeface="Arial"/>
              </a:rPr>
              <a:t>- 10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98640" y="4681440"/>
            <a:ext cx="636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20000"/>
                </a:solidFill>
                <a:latin typeface="Arial"/>
              </a:rPr>
              <a:t>+ 10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60480" y="3273480"/>
            <a:ext cx="636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20000"/>
                </a:solidFill>
                <a:latin typeface="Arial"/>
              </a:rPr>
              <a:t>+ 10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Dados lógicos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Representação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Uma palavra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Um bit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799720" y="2921040"/>
            <a:ext cx="5386320" cy="890640"/>
            <a:chOff x="2799720" y="2921040"/>
            <a:chExt cx="5386320" cy="890640"/>
          </a:xfrm>
        </p:grpSpPr>
        <p:grpSp>
          <p:nvGrpSpPr>
            <p:cNvPr id="276" name=""/>
            <p:cNvGrpSpPr/>
            <p:nvPr/>
          </p:nvGrpSpPr>
          <p:grpSpPr>
            <a:xfrm>
              <a:off x="2799720" y="2921040"/>
              <a:ext cx="2452680" cy="478440"/>
              <a:chOff x="2799720" y="2921040"/>
              <a:chExt cx="2452680" cy="478440"/>
            </a:xfrm>
          </p:grpSpPr>
          <p:sp>
            <p:nvSpPr>
              <p:cNvPr id="277" name=""/>
              <p:cNvSpPr/>
              <p:nvPr/>
            </p:nvSpPr>
            <p:spPr>
              <a:xfrm>
                <a:off x="2844720" y="2921040"/>
                <a:ext cx="2387520" cy="425520"/>
              </a:xfrm>
              <a:prstGeom prst="rect">
                <a:avLst/>
              </a:prstGeom>
              <a:noFill/>
              <a:ln w="12600">
                <a:solidFill>
                  <a:srgbClr val="0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799720" y="3002040"/>
                <a:ext cx="2452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20000"/>
                    </a:solidFill>
                    <a:latin typeface="Arial"/>
                  </a:rPr>
                  <a:t>0000000000000000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3433320" y="3444840"/>
              <a:ext cx="1299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20000"/>
                  </a:solidFill>
                  <a:latin typeface="Arial"/>
                </a:rPr>
                <a:t>Verdadeiro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5733360" y="2921040"/>
              <a:ext cx="2452680" cy="478440"/>
              <a:chOff x="5733360" y="2921040"/>
              <a:chExt cx="2452680" cy="478440"/>
            </a:xfrm>
          </p:grpSpPr>
          <p:sp>
            <p:nvSpPr>
              <p:cNvPr id="281" name=""/>
              <p:cNvSpPr/>
              <p:nvPr/>
            </p:nvSpPr>
            <p:spPr>
              <a:xfrm>
                <a:off x="5778360" y="2921040"/>
                <a:ext cx="2387880" cy="425520"/>
              </a:xfrm>
              <a:prstGeom prst="rect">
                <a:avLst/>
              </a:prstGeom>
              <a:noFill/>
              <a:ln w="12600">
                <a:solidFill>
                  <a:srgbClr val="0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733360" y="3002040"/>
                <a:ext cx="2452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20000"/>
                    </a:solidFill>
                    <a:latin typeface="Arial"/>
                  </a:rPr>
                  <a:t>0000000000000001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6613560" y="3444840"/>
              <a:ext cx="742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20000"/>
                  </a:solidFill>
                  <a:latin typeface="Arial"/>
                </a:rPr>
                <a:t>Falso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856600" y="4559400"/>
            <a:ext cx="2452680" cy="478440"/>
            <a:chOff x="2856600" y="4559400"/>
            <a:chExt cx="2452680" cy="478440"/>
          </a:xfrm>
        </p:grpSpPr>
        <p:sp>
          <p:nvSpPr>
            <p:cNvPr id="285" name=""/>
            <p:cNvSpPr/>
            <p:nvPr/>
          </p:nvSpPr>
          <p:spPr>
            <a:xfrm>
              <a:off x="2901960" y="4559400"/>
              <a:ext cx="2387520" cy="425520"/>
            </a:xfrm>
            <a:prstGeom prst="rect">
              <a:avLst/>
            </a:prstGeom>
            <a:noFill/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56600" y="4640400"/>
              <a:ext cx="2452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20000"/>
                  </a:solidFill>
                  <a:latin typeface="Arial"/>
                </a:rPr>
                <a:t>0000000000100000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442760" y="5273640"/>
            <a:ext cx="129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20000"/>
                </a:solidFill>
                <a:latin typeface="Arial"/>
              </a:rPr>
              <a:t>Verdadeiro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46360" y="5235480"/>
            <a:ext cx="74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20000"/>
                </a:solidFill>
                <a:latin typeface="Arial"/>
              </a:rPr>
              <a:t>Falso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908160" y="4917960"/>
            <a:ext cx="530280" cy="320760"/>
          </a:xfrm>
          <a:prstGeom prst="line">
            <a:avLst/>
          </a:prstGeom>
          <a:ln w="12600">
            <a:solidFill>
              <a:srgbClr val="02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94280" y="4937040"/>
            <a:ext cx="244440" cy="378000"/>
          </a:xfrm>
          <a:prstGeom prst="line">
            <a:avLst/>
          </a:prstGeom>
          <a:ln w="12600">
            <a:solidFill>
              <a:srgbClr val="02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Ponto Flutuante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Representação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197080" y="4441680"/>
            <a:ext cx="4845240" cy="454320"/>
            <a:chOff x="2197080" y="4441680"/>
            <a:chExt cx="4845240" cy="454320"/>
          </a:xfrm>
        </p:grpSpPr>
        <p:sp>
          <p:nvSpPr>
            <p:cNvPr id="294" name=""/>
            <p:cNvSpPr/>
            <p:nvPr/>
          </p:nvSpPr>
          <p:spPr>
            <a:xfrm>
              <a:off x="2197080" y="4444920"/>
              <a:ext cx="4845240" cy="444600"/>
            </a:xfrm>
            <a:prstGeom prst="rect">
              <a:avLst/>
            </a:prstGeom>
            <a:noFill/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52720" y="4460760"/>
              <a:ext cx="0" cy="43524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95680" y="4441680"/>
              <a:ext cx="0" cy="45432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487760"/>
              <a:ext cx="709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20000"/>
                  </a:solidFill>
                  <a:latin typeface="Arial"/>
                </a:rPr>
                <a:t>sinal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86640" y="4468680"/>
              <a:ext cx="1233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20000"/>
                  </a:solidFill>
                  <a:latin typeface="Arial"/>
                </a:rPr>
                <a:t>expoent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90720" y="4468680"/>
              <a:ext cx="2153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20000"/>
                  </a:solidFill>
                  <a:latin typeface="Arial"/>
                </a:rPr>
                <a:t>mantissa (fração)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7415280" y="3179880"/>
                <a:ext cx="13208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bar>
                      <m:barPr>
                        <m:pos m:val="top"/>
                      </m:barPr>
                      <m:e/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301" name=""/>
          <p:cNvGrpSpPr/>
          <p:nvPr/>
        </p:nvGrpSpPr>
        <p:grpSpPr>
          <a:xfrm>
            <a:off x="2368440" y="2749680"/>
            <a:ext cx="4025880" cy="1130040"/>
            <a:chOff x="2368440" y="2749680"/>
            <a:chExt cx="4025880" cy="1130040"/>
          </a:xfrm>
        </p:grpSpPr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2446200" y="2897280"/>
                  <a:ext cx="3648240" cy="76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4</m:t>
                          </m:r>
                          <m:r>
                            <m:t xml:space="preserve">´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  <m:r>
                            <m:t xml:space="preserve">´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</m:e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00001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´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  <m:r>
                            <m:t xml:space="preserve">´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"/>
            <p:cNvSpPr/>
            <p:nvPr/>
          </p:nvSpPr>
          <p:spPr>
            <a:xfrm>
              <a:off x="2368440" y="2749680"/>
              <a:ext cx="4025880" cy="1130040"/>
            </a:xfrm>
            <a:prstGeom prst="rect">
              <a:avLst/>
            </a:prstGeom>
            <a:noFill/>
            <a:ln w="12600">
              <a:solidFill>
                <a:srgbClr val="02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6635880" y="3130560"/>
            <a:ext cx="596880" cy="368280"/>
          </a:xfrm>
          <a:prstGeom prst="rightArrow">
            <a:avLst>
              <a:gd name="adj1" fmla="val 50000"/>
              <a:gd name="adj2" fmla="val 81074"/>
            </a:avLst>
          </a:prstGeom>
          <a:solidFill>
            <a:srgbClr val="020000"/>
          </a:solidFill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Ponto Flutuante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Padrão IEEE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279440" y="2416320"/>
            <a:ext cx="7787160" cy="2001600"/>
            <a:chOff x="1279440" y="2416320"/>
            <a:chExt cx="7787160" cy="2001600"/>
          </a:xfrm>
        </p:grpSpPr>
        <p:sp>
          <p:nvSpPr>
            <p:cNvPr id="308" name=""/>
            <p:cNvSpPr/>
            <p:nvPr/>
          </p:nvSpPr>
          <p:spPr>
            <a:xfrm>
              <a:off x="7916760" y="3254400"/>
              <a:ext cx="11498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20000"/>
                  </a:solidFill>
                  <a:latin typeface="Arial"/>
                </a:rPr>
                <a:t>Overflow 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20000"/>
                  </a:solidFill>
                  <a:latin typeface="Arial"/>
                </a:rPr>
                <a:t>positivo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1279440" y="2416320"/>
              <a:ext cx="7559640" cy="2001600"/>
              <a:chOff x="1279440" y="2416320"/>
              <a:chExt cx="7559640" cy="2001600"/>
            </a:xfrm>
          </p:grpSpPr>
          <p:sp>
            <p:nvSpPr>
              <p:cNvPr id="310" name=""/>
              <p:cNvSpPr/>
              <p:nvPr/>
            </p:nvSpPr>
            <p:spPr>
              <a:xfrm>
                <a:off x="4307400" y="3317760"/>
                <a:ext cx="270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660840" y="3962520"/>
                <a:ext cx="3044880" cy="0"/>
              </a:xfrm>
              <a:prstGeom prst="line">
                <a:avLst/>
              </a:prstGeom>
              <a:ln w="12600">
                <a:solidFill>
                  <a:srgbClr val="0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1526760" y="3962520"/>
                <a:ext cx="2207160" cy="0"/>
                <a:chOff x="1526760" y="3962520"/>
                <a:chExt cx="2207160" cy="0"/>
              </a:xfrm>
            </p:grpSpPr>
            <p:sp>
              <p:nvSpPr>
                <p:cNvPr id="313" name=""/>
                <p:cNvSpPr/>
                <p:nvPr/>
              </p:nvSpPr>
              <p:spPr>
                <a:xfrm flipH="1">
                  <a:off x="2517840" y="3962520"/>
                  <a:ext cx="1216080" cy="0"/>
                </a:xfrm>
                <a:prstGeom prst="line">
                  <a:avLst/>
                </a:prstGeom>
                <a:ln w="12600">
                  <a:solidFill>
                    <a:srgbClr val="02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>
                  <a:off x="1526760" y="3962520"/>
                  <a:ext cx="987480" cy="0"/>
                </a:xfrm>
                <a:prstGeom prst="line">
                  <a:avLst/>
                </a:prstGeom>
                <a:ln w="12600">
                  <a:solidFill>
                    <a:srgbClr val="02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32640" y="3962520"/>
                <a:ext cx="2206440" cy="0"/>
                <a:chOff x="6632640" y="3962520"/>
                <a:chExt cx="2206440" cy="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32640" y="3962520"/>
                  <a:ext cx="1216080" cy="0"/>
                </a:xfrm>
                <a:prstGeom prst="line">
                  <a:avLst/>
                </a:prstGeom>
                <a:ln w="12600">
                  <a:solidFill>
                    <a:srgbClr val="02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851600" y="3962520"/>
                  <a:ext cx="987480" cy="0"/>
                </a:xfrm>
                <a:prstGeom prst="line">
                  <a:avLst/>
                </a:prstGeom>
                <a:ln w="12600">
                  <a:solidFill>
                    <a:srgbClr val="02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5181480" y="3889440"/>
                <a:ext cx="0" cy="149040"/>
              </a:xfrm>
              <a:prstGeom prst="line">
                <a:avLst/>
              </a:prstGeom>
              <a:ln w="12600">
                <a:solidFill>
                  <a:srgbClr val="0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267080" y="3889440"/>
                <a:ext cx="0" cy="149040"/>
              </a:xfrm>
              <a:prstGeom prst="line">
                <a:avLst/>
              </a:prstGeom>
              <a:ln w="12600">
                <a:solidFill>
                  <a:srgbClr val="0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019920" y="3889440"/>
                <a:ext cx="0" cy="149040"/>
              </a:xfrm>
              <a:prstGeom prst="line">
                <a:avLst/>
              </a:prstGeom>
              <a:ln w="12600">
                <a:solidFill>
                  <a:srgbClr val="0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514600" y="3890880"/>
                <a:ext cx="0" cy="149400"/>
              </a:xfrm>
              <a:prstGeom prst="line">
                <a:avLst/>
              </a:prstGeom>
              <a:ln w="12600">
                <a:solidFill>
                  <a:srgbClr val="0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848720" y="3890880"/>
                <a:ext cx="0" cy="149400"/>
              </a:xfrm>
              <a:prstGeom prst="line">
                <a:avLst/>
              </a:prstGeom>
              <a:ln w="12600">
                <a:solidFill>
                  <a:srgbClr val="0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3" name=""/>
                  <p:cNvSpPr txBox="1"/>
                  <p:nvPr/>
                </p:nvSpPr>
                <p:spPr>
                  <a:xfrm>
                    <a:off x="2236680" y="4122720"/>
                    <a:ext cx="714600" cy="29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24" name=""/>
                  <p:cNvSpPr txBox="1"/>
                  <p:nvPr/>
                </p:nvSpPr>
                <p:spPr>
                  <a:xfrm>
                    <a:off x="3868560" y="4122720"/>
                    <a:ext cx="793800" cy="285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25" name=""/>
                  <p:cNvSpPr txBox="1"/>
                  <p:nvPr/>
                </p:nvSpPr>
                <p:spPr>
                  <a:xfrm>
                    <a:off x="5129280" y="4122720"/>
                    <a:ext cx="253800" cy="285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26" name=""/>
                  <p:cNvSpPr txBox="1"/>
                  <p:nvPr/>
                </p:nvSpPr>
                <p:spPr>
                  <a:xfrm>
                    <a:off x="5784840" y="4122720"/>
                    <a:ext cx="617400" cy="285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27" name=""/>
                  <p:cNvSpPr txBox="1"/>
                  <p:nvPr/>
                </p:nvSpPr>
                <p:spPr>
                  <a:xfrm>
                    <a:off x="7664400" y="4122720"/>
                    <a:ext cx="515880" cy="285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8" name=""/>
              <p:cNvSpPr/>
              <p:nvPr/>
            </p:nvSpPr>
            <p:spPr>
              <a:xfrm>
                <a:off x="1279440" y="3254400"/>
                <a:ext cx="11498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800" spc="-1" strike="noStrike">
                    <a:solidFill>
                      <a:srgbClr val="020000"/>
                    </a:solidFill>
                    <a:latin typeface="Arial"/>
                  </a:rPr>
                  <a:t>Overflow </a:t>
                </a:r>
                <a:endParaRPr b="0" lang="en-US" sz="1800" spc="-1" strike="noStrike">
                  <a:solidFill>
                    <a:srgbClr val="0000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800" spc="-1" strike="noStrike">
                    <a:solidFill>
                      <a:srgbClr val="020000"/>
                    </a:solidFill>
                    <a:latin typeface="Arial"/>
                  </a:rPr>
                  <a:t>negativo</a:t>
                </a:r>
                <a:endParaRPr b="0" lang="en-US" sz="1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499480" y="3254400"/>
                <a:ext cx="17701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20000"/>
                    </a:solidFill>
                    <a:latin typeface="Arial"/>
                  </a:rPr>
                  <a:t>Num. negativos</a:t>
                </a:r>
                <a:endParaRPr b="0" lang="en-US" sz="1800" spc="-1" strike="noStrike">
                  <a:solidFill>
                    <a:srgbClr val="0000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20000"/>
                    </a:solidFill>
                    <a:latin typeface="Arial"/>
                  </a:rPr>
                  <a:t>representáveis</a:t>
                </a:r>
                <a:endParaRPr b="0" lang="en-US" sz="1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081480" y="3254400"/>
                <a:ext cx="16815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20000"/>
                    </a:solidFill>
                    <a:latin typeface="Arial"/>
                  </a:rPr>
                  <a:t>Num. positivos</a:t>
                </a:r>
                <a:endParaRPr b="0" lang="en-US" sz="1800" spc="-1" strike="noStrike">
                  <a:solidFill>
                    <a:srgbClr val="0000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20000"/>
                    </a:solidFill>
                    <a:latin typeface="Arial"/>
                  </a:rPr>
                  <a:t>representáveis</a:t>
                </a:r>
                <a:endParaRPr b="0" lang="en-US" sz="1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794760" y="2416320"/>
                <a:ext cx="12747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800" spc="-1" strike="noStrike">
                    <a:solidFill>
                      <a:srgbClr val="020000"/>
                    </a:solidFill>
                    <a:latin typeface="Arial"/>
                  </a:rPr>
                  <a:t>Underflow </a:t>
                </a:r>
                <a:endParaRPr b="0" lang="en-US" sz="1800" spc="-1" strike="noStrike">
                  <a:solidFill>
                    <a:srgbClr val="0000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800" spc="-1" strike="noStrike">
                    <a:solidFill>
                      <a:srgbClr val="020000"/>
                    </a:solidFill>
                    <a:latin typeface="Arial"/>
                  </a:rPr>
                  <a:t>negativo</a:t>
                </a:r>
                <a:endParaRPr b="0" lang="en-US" sz="1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471280" y="2492280"/>
                <a:ext cx="12747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800" spc="-1" strike="noStrike">
                    <a:solidFill>
                      <a:srgbClr val="020000"/>
                    </a:solidFill>
                    <a:latin typeface="Arial"/>
                  </a:rPr>
                  <a:t>Underflow </a:t>
                </a:r>
                <a:endParaRPr b="0" lang="en-US" sz="1800" spc="-1" strike="noStrike">
                  <a:solidFill>
                    <a:srgbClr val="0000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800" spc="-1" strike="noStrike">
                    <a:solidFill>
                      <a:srgbClr val="020000"/>
                    </a:solidFill>
                    <a:latin typeface="Arial"/>
                  </a:rPr>
                  <a:t>positivo</a:t>
                </a:r>
                <a:endParaRPr b="0" lang="en-US" sz="1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860720" y="3395520"/>
                <a:ext cx="6544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20000"/>
                    </a:solidFill>
                    <a:latin typeface="Arial"/>
                  </a:rPr>
                  <a:t>Zero</a:t>
                </a:r>
                <a:endParaRPr b="0" lang="en-US" sz="1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346640" y="3127320"/>
                <a:ext cx="377640" cy="758880"/>
              </a:xfrm>
              <a:prstGeom prst="line">
                <a:avLst/>
              </a:prstGeom>
              <a:ln w="12600">
                <a:solidFill>
                  <a:srgbClr val="02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5489280" y="3127320"/>
                <a:ext cx="453960" cy="758880"/>
              </a:xfrm>
              <a:prstGeom prst="line">
                <a:avLst/>
              </a:prstGeom>
              <a:ln w="12600">
                <a:solidFill>
                  <a:srgbClr val="02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36" name=""/>
          <p:cNvGraphicFramePr/>
          <p:nvPr/>
        </p:nvGraphicFramePr>
        <p:xfrm>
          <a:off x="1809720" y="5067360"/>
          <a:ext cx="6197760" cy="160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5067360"/>
                    <a:ext cx="6197760" cy="16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Tipos de Dados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Escalar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úmeros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Inteiros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Ponto-Flutuante (real)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caracteres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ASCII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EBCDIC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dados lógicos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334120" y="17524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Estruturas (Estático)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Array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Record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Listas, Árvores (Dinâmico)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Operandos na Memória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Manipulando arrays: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Armazenados na memória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Instruções que permitam transferência de informação entre memória e registrador  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453040" y="4730760"/>
            <a:ext cx="53409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800000"/>
                </a:solidFill>
                <a:latin typeface="Comic Sans MS"/>
              </a:rPr>
              <a:t>Instruções de Transferência de  Dado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800000"/>
                </a:solidFill>
                <a:latin typeface="Comic Sans MS"/>
              </a:rPr>
              <a:t>load word - lw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95600" y="5715000"/>
            <a:ext cx="534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8000"/>
                </a:solidFill>
                <a:latin typeface="Arial"/>
              </a:rPr>
              <a:t>Array: endereço inicial de memória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8000"/>
                </a:solidFill>
                <a:latin typeface="Arial"/>
              </a:rPr>
              <a:t>elemento a ser transferid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Operandos na Memória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Arial"/>
              </a:rPr>
              <a:t>Arrays no MIPS: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334080" indent="-12852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endereço inicial: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514080" indent="-102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registrador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334080" indent="-12852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elemento: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514080" indent="-102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valor na instrução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4080" indent="-154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Arial"/>
              </a:rPr>
              <a:t>g = h + A[8] onde g e h estão nos registradores $s1 e $s2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334080" indent="-12852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lw $t0, 8($s3)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334080" indent="-12852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add $s1, $s2, $t0 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334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 flipV="1">
            <a:off x="7088040" y="3795480"/>
            <a:ext cx="0" cy="1773000"/>
          </a:xfrm>
          <a:prstGeom prst="line">
            <a:avLst/>
          </a:prstGeom>
          <a:ln w="5076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016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Componentes de um computador</a:t>
            </a:r>
            <a:endParaRPr b="0" i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323040" y="2744640"/>
            <a:ext cx="1587600" cy="1054080"/>
            <a:chOff x="6323040" y="2744640"/>
            <a:chExt cx="1587600" cy="1054080"/>
          </a:xfrm>
        </p:grpSpPr>
        <p:sp>
          <p:nvSpPr>
            <p:cNvPr id="74" name=""/>
            <p:cNvSpPr/>
            <p:nvPr/>
          </p:nvSpPr>
          <p:spPr>
            <a:xfrm>
              <a:off x="6323040" y="2744640"/>
              <a:ext cx="1587600" cy="1054080"/>
            </a:xfrm>
            <a:prstGeom prst="roundRect">
              <a:avLst>
                <a:gd name="adj" fmla="val 12477"/>
              </a:avLst>
            </a:prstGeom>
            <a:solidFill>
              <a:srgbClr val="cbcbcb"/>
            </a:solidFill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38040" y="3002040"/>
              <a:ext cx="930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20000"/>
                  </a:solidFill>
                  <a:latin typeface="Times New Roman"/>
                </a:rPr>
                <a:t>Víde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6642000" y="3990960"/>
            <a:ext cx="2502000" cy="520560"/>
            <a:chOff x="6642000" y="3990960"/>
            <a:chExt cx="2502000" cy="520560"/>
          </a:xfrm>
        </p:grpSpPr>
        <p:sp>
          <p:nvSpPr>
            <p:cNvPr id="77" name=""/>
            <p:cNvSpPr/>
            <p:nvPr/>
          </p:nvSpPr>
          <p:spPr>
            <a:xfrm>
              <a:off x="6642000" y="3990960"/>
              <a:ext cx="2502000" cy="520560"/>
            </a:xfrm>
            <a:prstGeom prst="parallelogram">
              <a:avLst>
                <a:gd name="adj" fmla="val 120048"/>
              </a:avLst>
            </a:prstGeom>
            <a:solidFill>
              <a:srgbClr val="eaeaea"/>
            </a:solidFill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304400" y="4044960"/>
              <a:ext cx="1168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20000"/>
                  </a:solidFill>
                  <a:latin typeface="Times New Roman"/>
                </a:rPr>
                <a:t>Teclad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0" y="1803240"/>
            <a:ext cx="5791320" cy="4788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2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0840" y="1932120"/>
            <a:ext cx="3111480" cy="3873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2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PU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Execução da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instruções de um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program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842280" y="2035080"/>
            <a:ext cx="1791360" cy="2246400"/>
            <a:chOff x="3842280" y="2035080"/>
            <a:chExt cx="1791360" cy="2246400"/>
          </a:xfrm>
        </p:grpSpPr>
        <p:sp>
          <p:nvSpPr>
            <p:cNvPr id="82" name=""/>
            <p:cNvSpPr/>
            <p:nvPr/>
          </p:nvSpPr>
          <p:spPr>
            <a:xfrm>
              <a:off x="3900600" y="2035080"/>
              <a:ext cx="1663560" cy="2246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2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42280" y="2225520"/>
              <a:ext cx="1791360" cy="20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20000"/>
                  </a:solidFill>
                  <a:latin typeface="Times New Roman"/>
                </a:rPr>
                <a:t>Memória</a:t>
              </a:r>
              <a:endParaRPr b="0" lang="en-US" sz="3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0000"/>
                  </a:solidFill>
                  <a:latin typeface="Times New Roman"/>
                </a:rPr>
                <a:t>Programas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0000"/>
                  </a:solidFill>
                  <a:latin typeface="Times New Roman"/>
                </a:rPr>
                <a:t>Dados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 flipV="1">
            <a:off x="3284640" y="4709880"/>
            <a:ext cx="1687320" cy="19080"/>
          </a:xfrm>
          <a:prstGeom prst="line">
            <a:avLst/>
          </a:prstGeom>
          <a:ln w="7632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640400" y="4289040"/>
            <a:ext cx="0" cy="453960"/>
          </a:xfrm>
          <a:prstGeom prst="line">
            <a:avLst/>
          </a:prstGeom>
          <a:ln w="7632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96720" y="2427120"/>
            <a:ext cx="18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5029200"/>
            <a:ext cx="1257480" cy="142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0000"/>
                </a:solidFill>
                <a:latin typeface="Arial"/>
              </a:rPr>
              <a:t>E/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52880" y="4708440"/>
            <a:ext cx="0" cy="320760"/>
          </a:xfrm>
          <a:prstGeom prst="line">
            <a:avLst/>
          </a:prstGeom>
          <a:ln w="7632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75160" y="5524560"/>
            <a:ext cx="1711440" cy="0"/>
          </a:xfrm>
          <a:prstGeom prst="line">
            <a:avLst/>
          </a:prstGeom>
          <a:ln w="5076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75160" y="5905440"/>
            <a:ext cx="2511720" cy="0"/>
          </a:xfrm>
          <a:prstGeom prst="line">
            <a:avLst/>
          </a:prstGeom>
          <a:ln w="5076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7848720" y="4516560"/>
            <a:ext cx="0" cy="1387440"/>
          </a:xfrm>
          <a:prstGeom prst="line">
            <a:avLst/>
          </a:prstGeom>
          <a:ln w="5076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705200" y="5391000"/>
            <a:ext cx="590760" cy="800280"/>
            <a:chOff x="4705200" y="5391000"/>
            <a:chExt cx="590760" cy="800280"/>
          </a:xfrm>
        </p:grpSpPr>
        <p:sp>
          <p:nvSpPr>
            <p:cNvPr id="93" name=""/>
            <p:cNvSpPr/>
            <p:nvPr/>
          </p:nvSpPr>
          <p:spPr>
            <a:xfrm>
              <a:off x="4705200" y="5391000"/>
              <a:ext cx="5716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08440" y="5562720"/>
              <a:ext cx="568440" cy="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27520" y="5715000"/>
              <a:ext cx="568440" cy="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08440" y="5867280"/>
              <a:ext cx="568440" cy="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27520" y="6019920"/>
              <a:ext cx="568440" cy="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600080" y="6183360"/>
            <a:ext cx="75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5c0000"/>
                </a:solidFill>
                <a:latin typeface="Arial"/>
              </a:rPr>
              <a:t>Buffer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Operandos na Memória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MIPS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Inteiros com 32 bits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Memória endereçada por byte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Endereços múltiplos de 4 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3886200"/>
            <a:ext cx="1371600" cy="274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4495680"/>
            <a:ext cx="1371600" cy="0"/>
          </a:xfrm>
          <a:prstGeom prst="line">
            <a:avLst/>
          </a:prstGeom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5410080"/>
            <a:ext cx="1371600" cy="0"/>
          </a:xfrm>
          <a:prstGeom prst="line">
            <a:avLst/>
          </a:prstGeom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7400" y="5715000"/>
            <a:ext cx="1371600" cy="0"/>
          </a:xfrm>
          <a:prstGeom prst="line">
            <a:avLst/>
          </a:prstGeom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6019920"/>
            <a:ext cx="1371600" cy="0"/>
          </a:xfrm>
          <a:prstGeom prst="line">
            <a:avLst/>
          </a:prstGeom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57400" y="6324480"/>
            <a:ext cx="1371600" cy="0"/>
          </a:xfrm>
          <a:prstGeom prst="line">
            <a:avLst/>
          </a:prstGeom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57400" y="4800600"/>
            <a:ext cx="1371600" cy="0"/>
          </a:xfrm>
          <a:prstGeom prst="line">
            <a:avLst/>
          </a:prstGeom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57400" y="5105520"/>
            <a:ext cx="1371600" cy="0"/>
          </a:xfrm>
          <a:prstGeom prst="line">
            <a:avLst/>
          </a:prstGeom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57400" y="4191120"/>
            <a:ext cx="1371600" cy="0"/>
          </a:xfrm>
          <a:prstGeom prst="line">
            <a:avLst/>
          </a:prstGeom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057400" y="4191120"/>
            <a:ext cx="1371600" cy="1218600"/>
            <a:chOff x="2057400" y="4191120"/>
            <a:chExt cx="1371600" cy="1218600"/>
          </a:xfrm>
        </p:grpSpPr>
        <p:sp>
          <p:nvSpPr>
            <p:cNvPr id="359" name=""/>
            <p:cNvSpPr/>
            <p:nvPr/>
          </p:nvSpPr>
          <p:spPr>
            <a:xfrm>
              <a:off x="2057400" y="4191120"/>
              <a:ext cx="1371600" cy="1218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40080" y="4597200"/>
              <a:ext cx="63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Arial"/>
                </a:rPr>
                <a:t>A[0]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573200" y="419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73200" y="4495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73200" y="4800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73200" y="51055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25320" y="5442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5320" y="5778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25320" y="6019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5320" y="62928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5410080"/>
            <a:ext cx="1371600" cy="1218960"/>
            <a:chOff x="2057400" y="5410080"/>
            <a:chExt cx="1371600" cy="1218960"/>
          </a:xfrm>
        </p:grpSpPr>
        <p:sp>
          <p:nvSpPr>
            <p:cNvPr id="370" name=""/>
            <p:cNvSpPr/>
            <p:nvPr/>
          </p:nvSpPr>
          <p:spPr>
            <a:xfrm>
              <a:off x="2057400" y="5410080"/>
              <a:ext cx="1371600" cy="12189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40080" y="5816160"/>
              <a:ext cx="631800" cy="398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Arial"/>
                </a:rPr>
                <a:t>A[1]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4408200" y="4255920"/>
            <a:ext cx="232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8000"/>
                </a:solidFill>
                <a:latin typeface="Arial"/>
              </a:rPr>
              <a:t>End (A[0]) = 10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8000"/>
                </a:solidFill>
                <a:latin typeface="Arial"/>
              </a:rPr>
              <a:t>End (A[1]) = 14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461120" y="5448240"/>
            <a:ext cx="3925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Comic Sans MS"/>
              </a:rPr>
              <a:t>End(A[i]) = End-inicial + i x 4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Operandos na Memória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Arial"/>
              </a:rPr>
              <a:t>Escrita em Memória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460440" indent="-17712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Store word, sw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12400" indent="-21240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Arial"/>
              </a:rPr>
              <a:t>A[12] = h + A[8]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460440" indent="-17712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endereço inicial de A em $s3 e h em $s2 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460440" indent="-17712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lw $t0, 32($s3)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460440" indent="-17712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add $t0, $s2, $t0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460440" indent="-17712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sw $t0, 48($s3)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460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Operandos na Memória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4000"/>
          </a:bodyPr>
          <a:p>
            <a:pPr marL="185040" indent="-18504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Arial"/>
              </a:rPr>
              <a:t>Array com variável de indexação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185040" indent="-18504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Arial"/>
              </a:rPr>
              <a:t>g = h + A[i]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401040" indent="-154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endereço inicial de A em $s3 e g, h e i estão em $s1, $s2 e $s4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401040" indent="-154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add $t1, $s4, $s4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401040" indent="-154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add $t1, $t1, $t1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401040" indent="-154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add $t1, $t1, $s3  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401040" indent="-154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lw $t0, 0($t1)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401040" indent="-154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add $s1, $s2, $t0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401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Resumo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Operandos no MIPS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32 registradores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$s0, $s1,...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$t0, $t1,...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800" spc="-1" strike="noStrike" baseline="30000">
                <a:solidFill>
                  <a:srgbClr val="0000ff"/>
                </a:solidFill>
                <a:latin typeface="Arial"/>
              </a:rPr>
              <a:t>30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palavras de memória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alavras de 32 bits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endereçamento por byte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Resumo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Arial"/>
              </a:rPr>
              <a:t>Linguagem de montagem do MIPS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Aritméticas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add regi, regj, regk     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1343880" indent="-191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Arial"/>
              </a:rPr>
              <a:t>regi = regj + regk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sub regi, regj, regk      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1343880" indent="-191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Arial"/>
              </a:rPr>
              <a:t>regi = regj - regk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Transferência de dados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lw regi, desl(reg_base)      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1343880" indent="-191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Arial"/>
              </a:rPr>
              <a:t>regi = mem(reg_base+desl)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sw regi, desl(reg_base)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1343880" indent="-191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Arial"/>
              </a:rPr>
              <a:t>mem(reg_base+desl) = regi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Computador de Programa Armazenado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746784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Instruções e Dados possuem uma representação numérica na memória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32400" y="2795760"/>
            <a:ext cx="2371680" cy="3773160"/>
          </a:xfrm>
          <a:custGeom>
            <a:avLst/>
            <a:gdLst/>
            <a:ahLst/>
            <a:rect l="l" t="t" r="r" b="b"/>
            <a:pathLst>
              <a:path w="1494" h="2377">
                <a:moveTo>
                  <a:pt x="1491" y="2377"/>
                </a:moveTo>
                <a:lnTo>
                  <a:pt x="1494" y="0"/>
                </a:lnTo>
                <a:lnTo>
                  <a:pt x="0" y="0"/>
                </a:lnTo>
                <a:lnTo>
                  <a:pt x="0" y="2377"/>
                </a:lnTo>
                <a:lnTo>
                  <a:pt x="1494" y="2377"/>
                </a:lnTo>
                <a:lnTo>
                  <a:pt x="1494" y="2377"/>
                </a:lnTo>
                <a:lnTo>
                  <a:pt x="1491" y="2377"/>
                </a:lnTo>
                <a:close/>
              </a:path>
            </a:pathLst>
          </a:custGeom>
          <a:solidFill>
            <a:srgbClr val="fce9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32400" y="2795760"/>
            <a:ext cx="2371680" cy="3773160"/>
          </a:xfrm>
          <a:custGeom>
            <a:avLst/>
            <a:gdLst/>
            <a:ahLst/>
            <a:rect l="l" t="t" r="r" b="b"/>
            <a:pathLst>
              <a:path w="1494" h="2377">
                <a:moveTo>
                  <a:pt x="1491" y="2377"/>
                </a:moveTo>
                <a:lnTo>
                  <a:pt x="1494" y="0"/>
                </a:lnTo>
                <a:lnTo>
                  <a:pt x="0" y="0"/>
                </a:lnTo>
                <a:lnTo>
                  <a:pt x="0" y="2377"/>
                </a:lnTo>
                <a:lnTo>
                  <a:pt x="1494" y="2377"/>
                </a:lnTo>
                <a:lnTo>
                  <a:pt x="1494" y="23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81160" y="4064040"/>
            <a:ext cx="1055880" cy="1238040"/>
          </a:xfrm>
          <a:custGeom>
            <a:avLst/>
            <a:gdLst/>
            <a:ahLst/>
            <a:rect l="l" t="t" r="r" b="b"/>
            <a:pathLst>
              <a:path w="665" h="780">
                <a:moveTo>
                  <a:pt x="662" y="780"/>
                </a:moveTo>
                <a:lnTo>
                  <a:pt x="665" y="0"/>
                </a:lnTo>
                <a:lnTo>
                  <a:pt x="0" y="0"/>
                </a:lnTo>
                <a:lnTo>
                  <a:pt x="0" y="780"/>
                </a:lnTo>
                <a:lnTo>
                  <a:pt x="665" y="780"/>
                </a:lnTo>
                <a:lnTo>
                  <a:pt x="665" y="780"/>
                </a:lnTo>
                <a:lnTo>
                  <a:pt x="662" y="780"/>
                </a:lnTo>
                <a:close/>
              </a:path>
            </a:pathLst>
          </a:custGeom>
          <a:solidFill>
            <a:srgbClr val="fce9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981160" y="4064040"/>
            <a:ext cx="1055880" cy="1238040"/>
          </a:xfrm>
          <a:custGeom>
            <a:avLst/>
            <a:gdLst/>
            <a:ahLst/>
            <a:rect l="l" t="t" r="r" b="b"/>
            <a:pathLst>
              <a:path w="665" h="780">
                <a:moveTo>
                  <a:pt x="662" y="780"/>
                </a:moveTo>
                <a:lnTo>
                  <a:pt x="665" y="0"/>
                </a:lnTo>
                <a:lnTo>
                  <a:pt x="0" y="0"/>
                </a:lnTo>
                <a:lnTo>
                  <a:pt x="0" y="780"/>
                </a:lnTo>
                <a:lnTo>
                  <a:pt x="665" y="780"/>
                </a:lnTo>
                <a:lnTo>
                  <a:pt x="665" y="78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85640" y="458316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95440" y="458316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346200" y="45831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46280" y="45831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19360" y="45831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19080" y="45831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98640" y="45831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778200" y="45831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75040" y="458316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656240" y="3166920"/>
            <a:ext cx="2124000" cy="495360"/>
          </a:xfrm>
          <a:custGeom>
            <a:avLst/>
            <a:gdLst/>
            <a:ahLst/>
            <a:rect l="l" t="t" r="r" b="b"/>
            <a:pathLst>
              <a:path w="1338" h="312">
                <a:moveTo>
                  <a:pt x="1335" y="312"/>
                </a:moveTo>
                <a:lnTo>
                  <a:pt x="1338" y="0"/>
                </a:lnTo>
                <a:lnTo>
                  <a:pt x="0" y="0"/>
                </a:lnTo>
                <a:lnTo>
                  <a:pt x="0" y="312"/>
                </a:lnTo>
                <a:lnTo>
                  <a:pt x="1338" y="312"/>
                </a:lnTo>
                <a:lnTo>
                  <a:pt x="1338" y="312"/>
                </a:lnTo>
                <a:lnTo>
                  <a:pt x="1335" y="3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656240" y="3166920"/>
            <a:ext cx="2124000" cy="495360"/>
          </a:xfrm>
          <a:custGeom>
            <a:avLst/>
            <a:gdLst/>
            <a:ahLst/>
            <a:rect l="l" t="t" r="r" b="b"/>
            <a:pathLst>
              <a:path w="1338" h="312">
                <a:moveTo>
                  <a:pt x="1335" y="312"/>
                </a:moveTo>
                <a:lnTo>
                  <a:pt x="1338" y="0"/>
                </a:lnTo>
                <a:lnTo>
                  <a:pt x="0" y="0"/>
                </a:lnTo>
                <a:lnTo>
                  <a:pt x="0" y="312"/>
                </a:lnTo>
                <a:lnTo>
                  <a:pt x="1338" y="312"/>
                </a:lnTo>
                <a:lnTo>
                  <a:pt x="1338" y="3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038200" y="321624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49440" y="32162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33680" y="32162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13240" y="3216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04680" y="3216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498280" y="3216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589360" y="32162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320" y="3216240"/>
            <a:ext cx="3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72880" y="3216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766480" y="3216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56120" y="32162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00040" y="3216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994360" y="321624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46560" y="3216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138000" y="3216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232320" y="321624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83080" y="3216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380280" y="3216240"/>
            <a:ext cx="137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478560" y="3216240"/>
            <a:ext cx="1983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97320" y="341460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49880" y="3414600"/>
            <a:ext cx="137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87760" y="34146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040" y="3414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63440" y="34146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657400" y="3414600"/>
            <a:ext cx="3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691960" y="34146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783040" y="34146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875200" y="3414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927400" y="3414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02280" y="34146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8400" y="34146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184800" y="34146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281640" y="341460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56240" y="3722760"/>
            <a:ext cx="2124000" cy="495360"/>
          </a:xfrm>
          <a:custGeom>
            <a:avLst/>
            <a:gdLst/>
            <a:ahLst/>
            <a:rect l="l" t="t" r="r" b="b"/>
            <a:pathLst>
              <a:path w="1338" h="312">
                <a:moveTo>
                  <a:pt x="1335" y="312"/>
                </a:moveTo>
                <a:lnTo>
                  <a:pt x="1338" y="0"/>
                </a:lnTo>
                <a:lnTo>
                  <a:pt x="0" y="0"/>
                </a:lnTo>
                <a:lnTo>
                  <a:pt x="0" y="312"/>
                </a:lnTo>
                <a:lnTo>
                  <a:pt x="1338" y="312"/>
                </a:lnTo>
                <a:lnTo>
                  <a:pt x="1338" y="312"/>
                </a:lnTo>
                <a:lnTo>
                  <a:pt x="1335" y="3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56240" y="3722760"/>
            <a:ext cx="2124000" cy="495360"/>
          </a:xfrm>
          <a:custGeom>
            <a:avLst/>
            <a:gdLst/>
            <a:ahLst/>
            <a:rect l="l" t="t" r="r" b="b"/>
            <a:pathLst>
              <a:path w="1338" h="312">
                <a:moveTo>
                  <a:pt x="1335" y="312"/>
                </a:moveTo>
                <a:lnTo>
                  <a:pt x="1338" y="0"/>
                </a:lnTo>
                <a:lnTo>
                  <a:pt x="0" y="0"/>
                </a:lnTo>
                <a:lnTo>
                  <a:pt x="0" y="312"/>
                </a:lnTo>
                <a:lnTo>
                  <a:pt x="1338" y="312"/>
                </a:lnTo>
                <a:lnTo>
                  <a:pt x="1338" y="3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222520" y="377676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29800" y="37767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25560" y="3776760"/>
            <a:ext cx="3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59040" y="3776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06920" y="37767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599080" y="377676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652720" y="3776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696640" y="37767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90960" y="377676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843520" y="37767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939640" y="37767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29280" y="377676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81480" y="37767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176880" y="3776760"/>
            <a:ext cx="137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80200" y="3776760"/>
            <a:ext cx="1983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97320" y="396864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49880" y="3968640"/>
            <a:ext cx="137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87760" y="39686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86040" y="39686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563440" y="39686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657400" y="3968640"/>
            <a:ext cx="3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91960" y="39686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83040" y="39686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875200" y="39686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27400" y="39686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02280" y="39686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8400" y="39686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184800" y="39686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281640" y="396864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656240" y="4281480"/>
            <a:ext cx="2124000" cy="495360"/>
          </a:xfrm>
          <a:custGeom>
            <a:avLst/>
            <a:gdLst/>
            <a:ahLst/>
            <a:rect l="l" t="t" r="r" b="b"/>
            <a:pathLst>
              <a:path w="1338" h="312">
                <a:moveTo>
                  <a:pt x="1335" y="312"/>
                </a:moveTo>
                <a:lnTo>
                  <a:pt x="1338" y="0"/>
                </a:lnTo>
                <a:lnTo>
                  <a:pt x="0" y="0"/>
                </a:lnTo>
                <a:lnTo>
                  <a:pt x="0" y="312"/>
                </a:lnTo>
                <a:lnTo>
                  <a:pt x="1338" y="312"/>
                </a:lnTo>
                <a:lnTo>
                  <a:pt x="1338" y="312"/>
                </a:lnTo>
                <a:lnTo>
                  <a:pt x="1335" y="3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656240" y="4281480"/>
            <a:ext cx="2124000" cy="495360"/>
          </a:xfrm>
          <a:custGeom>
            <a:avLst/>
            <a:gdLst/>
            <a:ahLst/>
            <a:rect l="l" t="t" r="r" b="b"/>
            <a:pathLst>
              <a:path w="1338" h="312">
                <a:moveTo>
                  <a:pt x="1335" y="312"/>
                </a:moveTo>
                <a:lnTo>
                  <a:pt x="1338" y="0"/>
                </a:lnTo>
                <a:lnTo>
                  <a:pt x="0" y="0"/>
                </a:lnTo>
                <a:lnTo>
                  <a:pt x="0" y="312"/>
                </a:lnTo>
                <a:lnTo>
                  <a:pt x="1338" y="312"/>
                </a:lnTo>
                <a:lnTo>
                  <a:pt x="1338" y="3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71200" y="43308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89280" y="43308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35360" y="43308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614920" y="43308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05640" y="4330800"/>
            <a:ext cx="137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846040" y="43308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935320" y="4330800"/>
            <a:ext cx="3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974920" y="4330800"/>
            <a:ext cx="3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06960" y="43308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03800" y="433080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21440" y="4330800"/>
            <a:ext cx="1983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197320" y="452916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49880" y="4529160"/>
            <a:ext cx="137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87760" y="45291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486040" y="45291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563440" y="45291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657400" y="4529160"/>
            <a:ext cx="3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91960" y="45291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83040" y="45291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75200" y="452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927400" y="45291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02280" y="45291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98400" y="45291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184800" y="45291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281640" y="452916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56240" y="4836960"/>
            <a:ext cx="2124000" cy="495360"/>
          </a:xfrm>
          <a:custGeom>
            <a:avLst/>
            <a:gdLst/>
            <a:ahLst/>
            <a:rect l="l" t="t" r="r" b="b"/>
            <a:pathLst>
              <a:path w="1338" h="312">
                <a:moveTo>
                  <a:pt x="1335" y="312"/>
                </a:moveTo>
                <a:lnTo>
                  <a:pt x="1338" y="0"/>
                </a:lnTo>
                <a:lnTo>
                  <a:pt x="0" y="0"/>
                </a:lnTo>
                <a:lnTo>
                  <a:pt x="0" y="312"/>
                </a:lnTo>
                <a:lnTo>
                  <a:pt x="1338" y="312"/>
                </a:lnTo>
                <a:lnTo>
                  <a:pt x="1338" y="312"/>
                </a:lnTo>
                <a:lnTo>
                  <a:pt x="1335" y="3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656240" y="4836960"/>
            <a:ext cx="2124000" cy="495360"/>
          </a:xfrm>
          <a:custGeom>
            <a:avLst/>
            <a:gdLst/>
            <a:ahLst/>
            <a:rect l="l" t="t" r="r" b="b"/>
            <a:pathLst>
              <a:path w="1338" h="312">
                <a:moveTo>
                  <a:pt x="1335" y="312"/>
                </a:moveTo>
                <a:lnTo>
                  <a:pt x="1338" y="0"/>
                </a:lnTo>
                <a:lnTo>
                  <a:pt x="0" y="0"/>
                </a:lnTo>
                <a:lnTo>
                  <a:pt x="0" y="312"/>
                </a:lnTo>
                <a:lnTo>
                  <a:pt x="1338" y="312"/>
                </a:lnTo>
                <a:lnTo>
                  <a:pt x="1338" y="3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0160" y="498492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37080" y="4984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30320" y="49849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13480" y="498492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63880" y="4984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62160" y="4984920"/>
            <a:ext cx="3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97080" y="4984920"/>
            <a:ext cx="3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37040" y="49849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80960" y="4984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72040" y="4984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63840" y="49849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105240" y="4984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56240" y="5396040"/>
            <a:ext cx="2124000" cy="495000"/>
          </a:xfrm>
          <a:custGeom>
            <a:avLst/>
            <a:gdLst/>
            <a:ahLst/>
            <a:rect l="l" t="t" r="r" b="b"/>
            <a:pathLst>
              <a:path w="1338" h="312">
                <a:moveTo>
                  <a:pt x="1335" y="312"/>
                </a:moveTo>
                <a:lnTo>
                  <a:pt x="1338" y="0"/>
                </a:lnTo>
                <a:lnTo>
                  <a:pt x="0" y="0"/>
                </a:lnTo>
                <a:lnTo>
                  <a:pt x="0" y="312"/>
                </a:lnTo>
                <a:lnTo>
                  <a:pt x="1338" y="312"/>
                </a:lnTo>
                <a:lnTo>
                  <a:pt x="1338" y="312"/>
                </a:lnTo>
                <a:lnTo>
                  <a:pt x="1335" y="3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56240" y="5396040"/>
            <a:ext cx="2124000" cy="495000"/>
          </a:xfrm>
          <a:custGeom>
            <a:avLst/>
            <a:gdLst/>
            <a:ahLst/>
            <a:rect l="l" t="t" r="r" b="b"/>
            <a:pathLst>
              <a:path w="1338" h="312">
                <a:moveTo>
                  <a:pt x="1335" y="312"/>
                </a:moveTo>
                <a:lnTo>
                  <a:pt x="1338" y="0"/>
                </a:lnTo>
                <a:lnTo>
                  <a:pt x="0" y="0"/>
                </a:lnTo>
                <a:lnTo>
                  <a:pt x="0" y="312"/>
                </a:lnTo>
                <a:lnTo>
                  <a:pt x="1338" y="312"/>
                </a:lnTo>
                <a:lnTo>
                  <a:pt x="1338" y="3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09720" y="554364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516280" y="55436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09880" y="55436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06000" y="55436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86280" y="55436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830560" y="55436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78440" y="55436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67000" y="55436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54480" y="55436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56240" y="5950080"/>
            <a:ext cx="2124000" cy="495000"/>
          </a:xfrm>
          <a:custGeom>
            <a:avLst/>
            <a:gdLst/>
            <a:ahLst/>
            <a:rect l="l" t="t" r="r" b="b"/>
            <a:pathLst>
              <a:path w="1338" h="312">
                <a:moveTo>
                  <a:pt x="1335" y="312"/>
                </a:moveTo>
                <a:lnTo>
                  <a:pt x="1338" y="0"/>
                </a:lnTo>
                <a:lnTo>
                  <a:pt x="0" y="0"/>
                </a:lnTo>
                <a:lnTo>
                  <a:pt x="0" y="312"/>
                </a:lnTo>
                <a:lnTo>
                  <a:pt x="1338" y="312"/>
                </a:lnTo>
                <a:lnTo>
                  <a:pt x="1338" y="312"/>
                </a:lnTo>
                <a:lnTo>
                  <a:pt x="1335" y="3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56240" y="5950080"/>
            <a:ext cx="2124000" cy="495000"/>
          </a:xfrm>
          <a:custGeom>
            <a:avLst/>
            <a:gdLst/>
            <a:ahLst/>
            <a:rect l="l" t="t" r="r" b="b"/>
            <a:pathLst>
              <a:path w="1338" h="312">
                <a:moveTo>
                  <a:pt x="1335" y="312"/>
                </a:moveTo>
                <a:lnTo>
                  <a:pt x="1338" y="0"/>
                </a:lnTo>
                <a:lnTo>
                  <a:pt x="0" y="0"/>
                </a:lnTo>
                <a:lnTo>
                  <a:pt x="0" y="312"/>
                </a:lnTo>
                <a:lnTo>
                  <a:pt x="1338" y="312"/>
                </a:lnTo>
                <a:lnTo>
                  <a:pt x="1338" y="3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66720" y="602460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273280" y="60246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364720" y="60246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459400" y="602460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516280" y="6024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595840" y="60246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687640" y="6024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733720" y="6024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13280" y="60246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909400" y="60246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995800" y="60246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94080" y="6024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38360" y="6024600"/>
            <a:ext cx="3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172920" y="60246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67240" y="6024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312600" y="60246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394320" y="6024600"/>
            <a:ext cx="198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34320" y="62182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75000" y="6218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71840" y="62182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25840" y="62182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367240" y="6218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64800" y="6218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554080" y="6218280"/>
            <a:ext cx="3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94040" y="62182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35440" y="6218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27600" y="62182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81600" y="62182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29840" y="6218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921280" y="62182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972040" y="6218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68160" y="6218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157800" y="62182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10000" y="6218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305400" y="6218280"/>
            <a:ext cx="137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64080" y="2889360"/>
            <a:ext cx="137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600520" y="28893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695920" y="2889360"/>
            <a:ext cx="137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827320" y="28893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925960" y="288936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976720" y="28893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Representação das instruções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Arial"/>
              </a:rPr>
              <a:t>Informação tem uma representação numérica na base 2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codificação das instruções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mapeamento de nomes de registradores para números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$s0 a $s7 : 16 a 23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$t0 a $t7 : 8 a 15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add $t0, $s1, $s2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1751040" y="5867280"/>
            <a:ext cx="5487840" cy="533520"/>
            <a:chOff x="1751040" y="5867280"/>
            <a:chExt cx="5487840" cy="533520"/>
          </a:xfrm>
        </p:grpSpPr>
        <p:sp>
          <p:nvSpPr>
            <p:cNvPr id="561" name=""/>
            <p:cNvSpPr/>
            <p:nvPr/>
          </p:nvSpPr>
          <p:spPr>
            <a:xfrm>
              <a:off x="1751040" y="5867280"/>
              <a:ext cx="548784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514600" y="5867280"/>
              <a:ext cx="0" cy="53352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429000" y="5867280"/>
              <a:ext cx="0" cy="53352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43400" y="5867280"/>
              <a:ext cx="0" cy="53352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334120" y="5867280"/>
              <a:ext cx="0" cy="53352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248520" y="5867280"/>
              <a:ext cx="0" cy="53352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983240" y="5943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2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7960" y="59436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2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672360" y="59436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2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650120" y="5943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2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640840" y="5943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2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491880" y="59436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20000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19832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2132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73572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5012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6408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5552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755360" y="5867280"/>
            <a:ext cx="5508720" cy="533520"/>
            <a:chOff x="1755360" y="5867280"/>
            <a:chExt cx="5508720" cy="533520"/>
          </a:xfrm>
        </p:grpSpPr>
        <p:sp>
          <p:nvSpPr>
            <p:cNvPr id="580" name=""/>
            <p:cNvSpPr/>
            <p:nvPr/>
          </p:nvSpPr>
          <p:spPr>
            <a:xfrm>
              <a:off x="1776240" y="5867280"/>
              <a:ext cx="548784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39800" y="5867280"/>
              <a:ext cx="0" cy="53352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54200" y="5867280"/>
              <a:ext cx="0" cy="53352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368600" y="5867280"/>
              <a:ext cx="0" cy="53352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359320" y="5867280"/>
              <a:ext cx="0" cy="53352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73720" y="5867280"/>
              <a:ext cx="0" cy="53352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55360" y="594360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20000"/>
                  </a:solidFill>
                  <a:latin typeface="Arial"/>
                </a:rPr>
                <a:t>00000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93440" y="594360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20000"/>
                  </a:solidFill>
                  <a:latin typeface="Arial"/>
                </a:rPr>
                <a:t>10001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507840" y="594360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20000"/>
                  </a:solidFill>
                  <a:latin typeface="Arial"/>
                </a:rPr>
                <a:t>10010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22240" y="594360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20000"/>
                  </a:solidFill>
                  <a:latin typeface="Arial"/>
                </a:rPr>
                <a:t>01000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412960" y="594360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20000"/>
                  </a:solidFill>
                  <a:latin typeface="Arial"/>
                </a:rPr>
                <a:t>00000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264000" y="5943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20000"/>
                  </a:solidFill>
                  <a:latin typeface="Arial"/>
                </a:rPr>
                <a:t>100000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Representação das instruções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Instruções do MIPS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Aritméticas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ransferência de informação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0" y="4495680"/>
            <a:ext cx="54878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049560" y="4495680"/>
            <a:ext cx="0" cy="533520"/>
          </a:xfrm>
          <a:prstGeom prst="line">
            <a:avLst/>
          </a:prstGeom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963960" y="4495680"/>
            <a:ext cx="0" cy="533520"/>
          </a:xfrm>
          <a:prstGeom prst="line">
            <a:avLst/>
          </a:prstGeom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878360" y="4495680"/>
            <a:ext cx="0" cy="533520"/>
          </a:xfrm>
          <a:prstGeom prst="line">
            <a:avLst/>
          </a:prstGeom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4548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20000"/>
                </a:solidFill>
                <a:latin typeface="Arial"/>
              </a:rPr>
              <a:t>op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324240" y="4572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20000"/>
                </a:solidFill>
                <a:latin typeface="Arial"/>
              </a:rPr>
              <a:t>r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63840" y="4572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2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233440" y="2819520"/>
            <a:ext cx="5487840" cy="977760"/>
            <a:chOff x="2233440" y="2819520"/>
            <a:chExt cx="5487840" cy="977760"/>
          </a:xfrm>
        </p:grpSpPr>
        <p:sp>
          <p:nvSpPr>
            <p:cNvPr id="602" name=""/>
            <p:cNvSpPr/>
            <p:nvPr/>
          </p:nvSpPr>
          <p:spPr>
            <a:xfrm>
              <a:off x="2440080" y="342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78160" y="342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92560" y="342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06960" y="342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097680" y="342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012080" y="342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2233440" y="2819520"/>
              <a:ext cx="5487840" cy="533160"/>
              <a:chOff x="2233440" y="2819520"/>
              <a:chExt cx="5487840" cy="533160"/>
            </a:xfrm>
          </p:grpSpPr>
          <p:sp>
            <p:nvSpPr>
              <p:cNvPr id="609" name=""/>
              <p:cNvSpPr/>
              <p:nvPr/>
            </p:nvSpPr>
            <p:spPr>
              <a:xfrm>
                <a:off x="2233440" y="2819520"/>
                <a:ext cx="5487840" cy="533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997000" y="2819520"/>
                <a:ext cx="0" cy="533160"/>
              </a:xfrm>
              <a:prstGeom prst="line">
                <a:avLst/>
              </a:prstGeom>
              <a:ln w="12600">
                <a:solidFill>
                  <a:srgbClr val="0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911400" y="2819520"/>
                <a:ext cx="0" cy="533160"/>
              </a:xfrm>
              <a:prstGeom prst="line">
                <a:avLst/>
              </a:prstGeom>
              <a:ln w="12600">
                <a:solidFill>
                  <a:srgbClr val="0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825800" y="2819520"/>
                <a:ext cx="0" cy="533160"/>
              </a:xfrm>
              <a:prstGeom prst="line">
                <a:avLst/>
              </a:prstGeom>
              <a:ln w="12600">
                <a:solidFill>
                  <a:srgbClr val="0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816520" y="2819520"/>
                <a:ext cx="0" cy="533160"/>
              </a:xfrm>
              <a:prstGeom prst="line">
                <a:avLst/>
              </a:prstGeom>
              <a:ln w="12600">
                <a:solidFill>
                  <a:srgbClr val="0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730920" y="2819520"/>
                <a:ext cx="0" cy="533160"/>
              </a:xfrm>
              <a:prstGeom prst="line">
                <a:avLst/>
              </a:prstGeom>
              <a:ln w="12600">
                <a:solidFill>
                  <a:srgbClr val="0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402280" y="289548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20000"/>
                    </a:solidFill>
                    <a:latin typeface="Arial"/>
                  </a:rPr>
                  <a:t>op</a:t>
                </a:r>
                <a:endParaRPr b="0" lang="en-US" sz="1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271680" y="28954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20000"/>
                    </a:solidFill>
                    <a:latin typeface="Arial"/>
                  </a:rPr>
                  <a:t>rs</a:t>
                </a:r>
                <a:endParaRPr b="0" lang="en-US" sz="1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211280" y="28954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20000"/>
                    </a:solidFill>
                    <a:latin typeface="Arial"/>
                  </a:rPr>
                  <a:t>rt</a:t>
                </a:r>
                <a:endParaRPr b="0" lang="en-US" sz="1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094360" y="289548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20000"/>
                    </a:solidFill>
                    <a:latin typeface="Arial"/>
                  </a:rPr>
                  <a:t>rd</a:t>
                </a:r>
                <a:endParaRPr b="0" lang="en-US" sz="1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875560" y="2895480"/>
                <a:ext cx="80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800" spc="-1" strike="noStrike">
                    <a:solidFill>
                      <a:srgbClr val="020000"/>
                    </a:solidFill>
                    <a:latin typeface="Arial"/>
                  </a:rPr>
                  <a:t>shamt</a:t>
                </a:r>
                <a:endParaRPr b="0" lang="en-US" sz="1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852960" y="289548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800" spc="-1" strike="noStrike">
                    <a:solidFill>
                      <a:srgbClr val="020000"/>
                    </a:solidFill>
                    <a:latin typeface="Arial"/>
                  </a:rPr>
                  <a:t>funct</a:t>
                </a:r>
                <a:endParaRPr b="0" lang="en-US" sz="1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1" name=""/>
          <p:cNvSpPr/>
          <p:nvPr/>
        </p:nvSpPr>
        <p:spPr>
          <a:xfrm>
            <a:off x="2594160" y="5119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432600" y="5119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347000" y="5119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188760" y="5119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521320" y="45720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20000"/>
                </a:solidFill>
                <a:latin typeface="Arial"/>
              </a:rPr>
              <a:t>endereço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0000"/>
                </a:solidFill>
                <a:latin typeface="Times New Roman"/>
              </a:rPr>
              <a:t>Linguagem de Montagem vs. Linguagem de Máquina</a:t>
            </a:r>
            <a:endParaRPr b="0" i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Arial"/>
              </a:rPr>
              <a:t>A[300] = h + A[300]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lw $t0, 1200($t1)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add $t0, $s2, $t0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sw $t0, 1200($t1)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1371600" y="3886200"/>
          <a:ext cx="7296120" cy="14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86200"/>
                    <a:ext cx="72961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1447920" y="5410080"/>
          <a:ext cx="7296120" cy="1447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5410080"/>
                    <a:ext cx="72961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390760" y="291600"/>
            <a:ext cx="691848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Exemplo: uma CPU simples...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143000" y="1752480"/>
            <a:ext cx="6172200" cy="213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1219320" y="1981080"/>
          <a:ext cx="6210360" cy="201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6210360" cy="20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Memória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490760" y="1566720"/>
            <a:ext cx="6464160" cy="1857960"/>
            <a:chOff x="1490760" y="1566720"/>
            <a:chExt cx="6464160" cy="1857960"/>
          </a:xfrm>
        </p:grpSpPr>
        <p:sp>
          <p:nvSpPr>
            <p:cNvPr id="101" name=""/>
            <p:cNvSpPr/>
            <p:nvPr/>
          </p:nvSpPr>
          <p:spPr>
            <a:xfrm>
              <a:off x="2216160" y="2330280"/>
              <a:ext cx="5683320" cy="559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30480" y="193824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2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16800" y="197640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2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24120" y="2320920"/>
              <a:ext cx="0" cy="56052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70440" y="2989440"/>
              <a:ext cx="709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Arial"/>
                </a:rPr>
                <a:t>sinal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90760" y="1566720"/>
              <a:ext cx="114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buClr>
                  <a:srgbClr val="80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800000"/>
                  </a:solidFill>
                  <a:latin typeface="Arial"/>
                </a:rPr>
                <a:t>Dad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44640" y="3027240"/>
              <a:ext cx="1373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Arial"/>
                </a:rPr>
                <a:t>magnitud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504800" y="3435480"/>
            <a:ext cx="6471720" cy="1905480"/>
            <a:chOff x="1504800" y="3435480"/>
            <a:chExt cx="6471720" cy="1905480"/>
          </a:xfrm>
        </p:grpSpPr>
        <p:sp>
          <p:nvSpPr>
            <p:cNvPr id="109" name=""/>
            <p:cNvSpPr/>
            <p:nvPr/>
          </p:nvSpPr>
          <p:spPr>
            <a:xfrm>
              <a:off x="1504800" y="3435480"/>
              <a:ext cx="1672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buClr>
                  <a:srgbClr val="80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800000"/>
                  </a:solidFill>
                  <a:latin typeface="Arial"/>
                </a:rPr>
                <a:t>Instruçã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199600" y="3827520"/>
              <a:ext cx="5776920" cy="1513440"/>
              <a:chOff x="2199600" y="3827520"/>
              <a:chExt cx="5776920" cy="1513440"/>
            </a:xfrm>
          </p:grpSpPr>
          <p:sp>
            <p:nvSpPr>
              <p:cNvPr id="111" name=""/>
              <p:cNvSpPr/>
              <p:nvPr/>
            </p:nvSpPr>
            <p:spPr>
              <a:xfrm>
                <a:off x="2292480" y="4287960"/>
                <a:ext cx="5682960" cy="55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199600" y="38656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2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210200" y="4309920"/>
                <a:ext cx="0" cy="555840"/>
              </a:xfrm>
              <a:prstGeom prst="line">
                <a:avLst/>
              </a:prstGeom>
              <a:ln w="12600">
                <a:solidFill>
                  <a:srgbClr val="0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508160" y="382752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20000"/>
                    </a:solidFill>
                    <a:latin typeface="Arial"/>
                  </a:rPr>
                  <a:t>15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894840" y="38466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2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435760" y="4924440"/>
                <a:ext cx="1078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000" spc="-1" strike="noStrike">
                    <a:solidFill>
                      <a:srgbClr val="0000ff"/>
                    </a:solidFill>
                    <a:latin typeface="Arial"/>
                  </a:rPr>
                  <a:t>Opcode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419080" y="4943520"/>
                <a:ext cx="1276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ff"/>
                    </a:solidFill>
                    <a:latin typeface="Arial"/>
                  </a:rPr>
                  <a:t>Endereço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218840" y="38466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2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37016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Mais operações sobre dados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971640" y="60944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09920" y="60944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71640" y="60944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409920" y="60944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287640" y="4576680"/>
            <a:ext cx="8779680" cy="1441080"/>
            <a:chOff x="287640" y="4576680"/>
            <a:chExt cx="8779680" cy="1441080"/>
          </a:xfrm>
        </p:grpSpPr>
        <p:sp>
          <p:nvSpPr>
            <p:cNvPr id="643" name=""/>
            <p:cNvSpPr/>
            <p:nvPr/>
          </p:nvSpPr>
          <p:spPr>
            <a:xfrm>
              <a:off x="2882880" y="4576680"/>
              <a:ext cx="3949560" cy="74952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2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137760" y="4707000"/>
              <a:ext cx="3441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20000"/>
                  </a:solidFill>
                  <a:latin typeface="Times New Roman"/>
                </a:rPr>
                <a:t>Transformação de format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2038320" y="5028840"/>
              <a:ext cx="0" cy="4539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7640" y="5483160"/>
              <a:ext cx="2593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Desempacotament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7677000" y="5105160"/>
              <a:ext cx="0" cy="4539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97960" y="5559480"/>
              <a:ext cx="2169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Empacotament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041560" y="5103720"/>
              <a:ext cx="8348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842160" y="5180040"/>
              <a:ext cx="8348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1289880" y="5567400"/>
            <a:ext cx="7854840" cy="1352160"/>
            <a:chOff x="1289880" y="5567400"/>
            <a:chExt cx="7854840" cy="1352160"/>
          </a:xfrm>
        </p:grpSpPr>
        <p:sp>
          <p:nvSpPr>
            <p:cNvPr id="652" name=""/>
            <p:cNvSpPr/>
            <p:nvPr/>
          </p:nvSpPr>
          <p:spPr>
            <a:xfrm>
              <a:off x="1289880" y="6461280"/>
              <a:ext cx="930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Busca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941880" y="6461280"/>
              <a:ext cx="2202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Armazenament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82880" y="5567400"/>
              <a:ext cx="3949560" cy="74916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2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300120" y="5697360"/>
              <a:ext cx="3117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20000"/>
                  </a:solidFill>
                  <a:latin typeface="Times New Roman"/>
                </a:rPr>
                <a:t>Movimentação de Dad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2038320" y="5943600"/>
              <a:ext cx="0" cy="378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7677000" y="6019560"/>
              <a:ext cx="0" cy="377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041560" y="6094440"/>
              <a:ext cx="8348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842160" y="6094440"/>
              <a:ext cx="8348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149480" y="3892680"/>
            <a:ext cx="3797280" cy="2806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20000"/>
            </a:solidFill>
            <a:miter/>
          </a:ln>
          <a:effectLst>
            <a:outerShdw dist="107932" dir="2700000" blurRad="0" rotWithShape="0">
              <a:srgbClr val="02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Transformação de Formato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Afetam a localização dos bits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Deslocamento e rotação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561480" y="3130560"/>
            <a:ext cx="2452680" cy="421200"/>
            <a:chOff x="3561480" y="3130560"/>
            <a:chExt cx="2452680" cy="421200"/>
          </a:xfrm>
        </p:grpSpPr>
        <p:sp>
          <p:nvSpPr>
            <p:cNvPr id="664" name=""/>
            <p:cNvSpPr/>
            <p:nvPr/>
          </p:nvSpPr>
          <p:spPr>
            <a:xfrm>
              <a:off x="3587760" y="3130560"/>
              <a:ext cx="2425680" cy="368280"/>
            </a:xfrm>
            <a:prstGeom prst="rect">
              <a:avLst/>
            </a:prstGeom>
            <a:noFill/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561480" y="3154320"/>
              <a:ext cx="2452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20000"/>
                  </a:solidFill>
                  <a:latin typeface="Arial"/>
                </a:rPr>
                <a:t>1110000001010110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202760" y="40687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2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758960" y="4044960"/>
            <a:ext cx="24256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732680" y="4068720"/>
            <a:ext cx="2452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20000"/>
                </a:solidFill>
                <a:latin typeface="Arial"/>
              </a:rPr>
              <a:t>0111000000101011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425840" y="4044960"/>
            <a:ext cx="2923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403160" y="40687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2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527120" y="4267080"/>
            <a:ext cx="225360" cy="0"/>
          </a:xfrm>
          <a:prstGeom prst="line">
            <a:avLst/>
          </a:prstGeom>
          <a:ln w="12600">
            <a:solidFill>
              <a:srgbClr val="02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194000" y="4267080"/>
            <a:ext cx="225720" cy="0"/>
          </a:xfrm>
          <a:prstGeom prst="line">
            <a:avLst/>
          </a:prstGeom>
          <a:ln w="12600">
            <a:solidFill>
              <a:srgbClr val="02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758960" y="4883040"/>
            <a:ext cx="24256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732680" y="4906800"/>
            <a:ext cx="2452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20000"/>
                </a:solidFill>
                <a:latin typeface="Arial"/>
              </a:rPr>
              <a:t>1111000000101011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25840" y="4883040"/>
            <a:ext cx="2923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403160" y="49068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2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27120" y="5105520"/>
            <a:ext cx="225360" cy="0"/>
          </a:xfrm>
          <a:prstGeom prst="line">
            <a:avLst/>
          </a:prstGeom>
          <a:ln w="12600">
            <a:solidFill>
              <a:srgbClr val="02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194000" y="5105520"/>
            <a:ext cx="225720" cy="0"/>
          </a:xfrm>
          <a:prstGeom prst="line">
            <a:avLst/>
          </a:prstGeom>
          <a:ln w="12600">
            <a:solidFill>
              <a:srgbClr val="02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905120" y="5261040"/>
            <a:ext cx="0" cy="225360"/>
          </a:xfrm>
          <a:prstGeom prst="line">
            <a:avLst/>
          </a:prstGeom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1527120" y="5486400"/>
            <a:ext cx="378000" cy="0"/>
          </a:xfrm>
          <a:prstGeom prst="line">
            <a:avLst/>
          </a:prstGeom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523880" y="5106960"/>
            <a:ext cx="0" cy="378000"/>
          </a:xfrm>
          <a:prstGeom prst="line">
            <a:avLst/>
          </a:prstGeom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835280" y="5721480"/>
            <a:ext cx="24256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809000" y="5745240"/>
            <a:ext cx="2452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20000"/>
                </a:solidFill>
                <a:latin typeface="Arial"/>
              </a:rPr>
              <a:t>0111000000101011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502160" y="5721480"/>
            <a:ext cx="2919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79120" y="57452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2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603440" y="5943600"/>
            <a:ext cx="225360" cy="0"/>
          </a:xfrm>
          <a:prstGeom prst="line">
            <a:avLst/>
          </a:prstGeom>
          <a:ln w="12600">
            <a:solidFill>
              <a:srgbClr val="02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270320" y="5943600"/>
            <a:ext cx="225360" cy="0"/>
          </a:xfrm>
          <a:prstGeom prst="line">
            <a:avLst/>
          </a:prstGeom>
          <a:ln w="12600">
            <a:solidFill>
              <a:srgbClr val="02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43400" y="5946840"/>
            <a:ext cx="0" cy="377640"/>
          </a:xfrm>
          <a:prstGeom prst="line">
            <a:avLst/>
          </a:prstGeom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603080" y="6324480"/>
            <a:ext cx="2739960" cy="0"/>
          </a:xfrm>
          <a:prstGeom prst="line">
            <a:avLst/>
          </a:prstGeom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1600200" y="5945040"/>
            <a:ext cx="0" cy="378000"/>
          </a:xfrm>
          <a:prstGeom prst="line">
            <a:avLst/>
          </a:prstGeom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79800" y="3489480"/>
            <a:ext cx="106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Direit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994800" y="3489480"/>
            <a:ext cx="148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Esquerd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497320" y="4449600"/>
            <a:ext cx="101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60093"/>
                </a:solidFill>
                <a:latin typeface="Arial"/>
              </a:rPr>
              <a:t>Lógic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268360" y="5288040"/>
            <a:ext cx="144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60093"/>
                </a:solidFill>
                <a:latin typeface="Arial"/>
              </a:rPr>
              <a:t>Aritmétic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343960" y="6354720"/>
            <a:ext cx="119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60093"/>
                </a:solidFill>
                <a:latin typeface="Arial"/>
              </a:rPr>
              <a:t>Rotaçã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340240" y="3911760"/>
            <a:ext cx="3645000" cy="2806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20000"/>
            </a:solidFill>
            <a:miter/>
          </a:ln>
          <a:effectLst>
            <a:outerShdw dist="107932" dir="2700000" blurRad="0" rotWithShape="0">
              <a:srgbClr val="02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5393520" y="4044960"/>
            <a:ext cx="3673440" cy="878400"/>
            <a:chOff x="5393520" y="4044960"/>
            <a:chExt cx="3673440" cy="878400"/>
          </a:xfrm>
        </p:grpSpPr>
        <p:sp>
          <p:nvSpPr>
            <p:cNvPr id="698" name=""/>
            <p:cNvSpPr/>
            <p:nvPr/>
          </p:nvSpPr>
          <p:spPr>
            <a:xfrm>
              <a:off x="6026040" y="4044960"/>
              <a:ext cx="24256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00120" y="4068720"/>
              <a:ext cx="2452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20000"/>
                  </a:solidFill>
                  <a:latin typeface="Arial"/>
                </a:rPr>
                <a:t>1100000010101100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416560" y="4044960"/>
              <a:ext cx="29196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718240" y="4267080"/>
              <a:ext cx="301680" cy="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8461440" y="4267080"/>
              <a:ext cx="301680" cy="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740080" y="40687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2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393520" y="40687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2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077880" y="4525920"/>
              <a:ext cx="2347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d60093"/>
                  </a:solidFill>
                  <a:latin typeface="Arial"/>
                </a:rPr>
                <a:t>Lógico/Aritmético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5471280" y="5721480"/>
            <a:ext cx="3369600" cy="1030680"/>
            <a:chOff x="5471280" y="5721480"/>
            <a:chExt cx="3369600" cy="1030680"/>
          </a:xfrm>
        </p:grpSpPr>
        <p:sp>
          <p:nvSpPr>
            <p:cNvPr id="707" name=""/>
            <p:cNvSpPr/>
            <p:nvPr/>
          </p:nvSpPr>
          <p:spPr>
            <a:xfrm>
              <a:off x="6103800" y="5721480"/>
              <a:ext cx="24256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77880" y="5745240"/>
              <a:ext cx="2452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20000"/>
                  </a:solidFill>
                  <a:latin typeface="Arial"/>
                </a:rPr>
                <a:t>1100000010101101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494320" y="5721480"/>
              <a:ext cx="29196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796000" y="5943600"/>
              <a:ext cx="301680" cy="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8539200" y="5943600"/>
              <a:ext cx="301680" cy="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471280" y="57452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2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19920" y="5946840"/>
              <a:ext cx="0" cy="37764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022800" y="6324480"/>
              <a:ext cx="2816280" cy="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8839080" y="5945040"/>
              <a:ext cx="0" cy="378000"/>
            </a:xfrm>
            <a:prstGeom prst="line">
              <a:avLst/>
            </a:prstGeom>
            <a:ln w="12600">
              <a:solidFill>
                <a:srgbClr val="0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63320" y="6354720"/>
              <a:ext cx="119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d60093"/>
                  </a:solidFill>
                  <a:latin typeface="Arial"/>
                </a:rPr>
                <a:t>Rotação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20400000">
            <a:off x="2590920" y="3429000"/>
            <a:ext cx="914400" cy="304920"/>
          </a:xfrm>
          <a:prstGeom prst="leftArrow">
            <a:avLst>
              <a:gd name="adj1" fmla="val 50000"/>
              <a:gd name="adj2" fmla="val 149871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1880000">
            <a:off x="6172200" y="3428640"/>
            <a:ext cx="914400" cy="304920"/>
          </a:xfrm>
          <a:prstGeom prst="leftArrow">
            <a:avLst>
              <a:gd name="adj1" fmla="val 50000"/>
              <a:gd name="adj2" fmla="val 149871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37016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Operações sobre Dados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71640" y="60944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409920" y="60944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971640" y="60944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409920" y="60944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838080" y="3586320"/>
            <a:ext cx="7381080" cy="1517040"/>
            <a:chOff x="838080" y="3586320"/>
            <a:chExt cx="7381080" cy="1517040"/>
          </a:xfrm>
        </p:grpSpPr>
        <p:sp>
          <p:nvSpPr>
            <p:cNvPr id="725" name=""/>
            <p:cNvSpPr/>
            <p:nvPr/>
          </p:nvSpPr>
          <p:spPr>
            <a:xfrm>
              <a:off x="2882880" y="3586320"/>
              <a:ext cx="3949560" cy="74916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2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172680" y="3716280"/>
              <a:ext cx="3371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20000"/>
                  </a:solidFill>
                  <a:latin typeface="Times New Roman"/>
                </a:rPr>
                <a:t>Transformação de Códig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2038320" y="3886200"/>
              <a:ext cx="0" cy="758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38080" y="4645080"/>
              <a:ext cx="1948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Decodificaçã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7677000" y="3809880"/>
              <a:ext cx="0" cy="758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36640" y="4645080"/>
              <a:ext cx="1082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Códig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041560" y="4113360"/>
              <a:ext cx="8348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842160" y="4113360"/>
              <a:ext cx="8348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287640" y="4576680"/>
            <a:ext cx="8779680" cy="1441080"/>
            <a:chOff x="287640" y="4576680"/>
            <a:chExt cx="8779680" cy="1441080"/>
          </a:xfrm>
        </p:grpSpPr>
        <p:sp>
          <p:nvSpPr>
            <p:cNvPr id="734" name=""/>
            <p:cNvSpPr/>
            <p:nvPr/>
          </p:nvSpPr>
          <p:spPr>
            <a:xfrm>
              <a:off x="2882880" y="4576680"/>
              <a:ext cx="3949560" cy="74952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2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137760" y="4707000"/>
              <a:ext cx="3441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20000"/>
                  </a:solidFill>
                  <a:latin typeface="Times New Roman"/>
                </a:rPr>
                <a:t>Transformação de format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2038320" y="5028840"/>
              <a:ext cx="0" cy="4539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87640" y="5483160"/>
              <a:ext cx="2593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Desempacotament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7677000" y="5105160"/>
              <a:ext cx="0" cy="4539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97960" y="5559480"/>
              <a:ext cx="2169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Empacotament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041560" y="5103720"/>
              <a:ext cx="8348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42160" y="5180040"/>
              <a:ext cx="8348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1289880" y="5567400"/>
            <a:ext cx="7854840" cy="1352160"/>
            <a:chOff x="1289880" y="5567400"/>
            <a:chExt cx="7854840" cy="1352160"/>
          </a:xfrm>
        </p:grpSpPr>
        <p:sp>
          <p:nvSpPr>
            <p:cNvPr id="743" name=""/>
            <p:cNvSpPr/>
            <p:nvPr/>
          </p:nvSpPr>
          <p:spPr>
            <a:xfrm>
              <a:off x="1289880" y="6461280"/>
              <a:ext cx="930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Busca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941880" y="6461280"/>
              <a:ext cx="2202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Armazenament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882880" y="5567400"/>
              <a:ext cx="3949560" cy="74916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2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00120" y="5697360"/>
              <a:ext cx="3117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20000"/>
                  </a:solidFill>
                  <a:latin typeface="Times New Roman"/>
                </a:rPr>
                <a:t>Movimentação de Dad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2038320" y="5943600"/>
              <a:ext cx="0" cy="378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7677000" y="6019560"/>
              <a:ext cx="0" cy="377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041560" y="6094440"/>
              <a:ext cx="8348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842160" y="6094440"/>
              <a:ext cx="8348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Transformação de código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Arial"/>
              </a:rPr>
              <a:t>Afetam codificação do dado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dipositivos de E/S usam diferentes códigos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Ex: ASCII                binário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operações aritméticas são dependentes do código utilizado 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Ex: BCD            Binário 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425840" y="3435480"/>
            <a:ext cx="749520" cy="139680"/>
          </a:xfrm>
          <a:prstGeom prst="rightArrow">
            <a:avLst>
              <a:gd name="adj1" fmla="val 50000"/>
              <a:gd name="adj2" fmla="val 268423"/>
            </a:avLst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21280" y="4730760"/>
            <a:ext cx="749160" cy="139680"/>
          </a:xfrm>
          <a:prstGeom prst="rightArrow">
            <a:avLst>
              <a:gd name="adj1" fmla="val 50000"/>
              <a:gd name="adj2" fmla="val 268294"/>
            </a:avLst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37016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Operações sobre Dados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971640" y="60944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409920" y="60944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971640" y="60944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409920" y="60944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1347120" y="1757520"/>
            <a:ext cx="7184520" cy="2126520"/>
            <a:chOff x="1347120" y="1757520"/>
            <a:chExt cx="7184520" cy="2126520"/>
          </a:xfrm>
        </p:grpSpPr>
        <p:sp>
          <p:nvSpPr>
            <p:cNvPr id="761" name=""/>
            <p:cNvSpPr/>
            <p:nvPr/>
          </p:nvSpPr>
          <p:spPr>
            <a:xfrm>
              <a:off x="2882880" y="2671920"/>
              <a:ext cx="3949560" cy="67284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2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82880" y="1757520"/>
              <a:ext cx="3949560" cy="67284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2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599280" y="2803680"/>
              <a:ext cx="251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20000"/>
                  </a:solidFill>
                  <a:latin typeface="Times New Roman"/>
                </a:rPr>
                <a:t>Operações Lógicas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219480" y="1889280"/>
              <a:ext cx="2975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20000"/>
                  </a:solidFill>
                  <a:latin typeface="Times New Roman"/>
                </a:rPr>
                <a:t>Operações Aritméticas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2038320" y="2057040"/>
              <a:ext cx="0" cy="13683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47120" y="3425760"/>
              <a:ext cx="1387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Operand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041560" y="2055960"/>
              <a:ext cx="8348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842160" y="2055960"/>
              <a:ext cx="8348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677000" y="2058840"/>
              <a:ext cx="0" cy="12924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125840" y="3349800"/>
              <a:ext cx="140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Resultad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041560" y="3046320"/>
              <a:ext cx="8348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842160" y="2970360"/>
              <a:ext cx="8348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838080" y="3586320"/>
            <a:ext cx="7381080" cy="1517040"/>
            <a:chOff x="838080" y="3586320"/>
            <a:chExt cx="7381080" cy="1517040"/>
          </a:xfrm>
        </p:grpSpPr>
        <p:sp>
          <p:nvSpPr>
            <p:cNvPr id="774" name=""/>
            <p:cNvSpPr/>
            <p:nvPr/>
          </p:nvSpPr>
          <p:spPr>
            <a:xfrm>
              <a:off x="2882880" y="3586320"/>
              <a:ext cx="3949560" cy="74916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2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72680" y="3716280"/>
              <a:ext cx="3371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20000"/>
                  </a:solidFill>
                  <a:latin typeface="Times New Roman"/>
                </a:rPr>
                <a:t>Transformação de Códig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2038320" y="3886200"/>
              <a:ext cx="0" cy="758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38080" y="4645080"/>
              <a:ext cx="1948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Decodificaçã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677000" y="3809880"/>
              <a:ext cx="0" cy="758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136640" y="4645080"/>
              <a:ext cx="1082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Códig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041560" y="4113360"/>
              <a:ext cx="8348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842160" y="4113360"/>
              <a:ext cx="8348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287640" y="4576680"/>
            <a:ext cx="8779680" cy="1441080"/>
            <a:chOff x="287640" y="4576680"/>
            <a:chExt cx="8779680" cy="1441080"/>
          </a:xfrm>
        </p:grpSpPr>
        <p:sp>
          <p:nvSpPr>
            <p:cNvPr id="783" name=""/>
            <p:cNvSpPr/>
            <p:nvPr/>
          </p:nvSpPr>
          <p:spPr>
            <a:xfrm>
              <a:off x="2882880" y="4576680"/>
              <a:ext cx="3949560" cy="74952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2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137760" y="4707000"/>
              <a:ext cx="3441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20000"/>
                  </a:solidFill>
                  <a:latin typeface="Times New Roman"/>
                </a:rPr>
                <a:t>Transformação de format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2038320" y="5028840"/>
              <a:ext cx="0" cy="4539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7640" y="5483160"/>
              <a:ext cx="2593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Desempacotament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7677000" y="5105160"/>
              <a:ext cx="0" cy="4539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897960" y="5559480"/>
              <a:ext cx="2169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Empacotament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041560" y="5103720"/>
              <a:ext cx="8348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842160" y="5180040"/>
              <a:ext cx="8348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1289880" y="5567400"/>
            <a:ext cx="7854840" cy="1352160"/>
            <a:chOff x="1289880" y="5567400"/>
            <a:chExt cx="7854840" cy="1352160"/>
          </a:xfrm>
        </p:grpSpPr>
        <p:sp>
          <p:nvSpPr>
            <p:cNvPr id="792" name=""/>
            <p:cNvSpPr/>
            <p:nvPr/>
          </p:nvSpPr>
          <p:spPr>
            <a:xfrm>
              <a:off x="1289880" y="6461280"/>
              <a:ext cx="930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Busca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941880" y="6461280"/>
              <a:ext cx="2202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Armazenament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882880" y="5567400"/>
              <a:ext cx="3949560" cy="74916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2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300120" y="5697360"/>
              <a:ext cx="3117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20000"/>
                  </a:solidFill>
                  <a:latin typeface="Times New Roman"/>
                </a:rPr>
                <a:t>Movimentação de Dad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2038320" y="5943600"/>
              <a:ext cx="0" cy="378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7677000" y="6019560"/>
              <a:ext cx="0" cy="377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041560" y="6094440"/>
              <a:ext cx="8348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842160" y="6094440"/>
              <a:ext cx="8348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530360" y="2978280"/>
            <a:ext cx="7302600" cy="318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20000"/>
            </a:solidFill>
            <a:miter/>
          </a:ln>
          <a:effectLst>
            <a:outerShdw dist="107932" dir="2700000" blurRad="0" rotWithShape="0">
              <a:srgbClr val="02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Operações Lógicas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AND, OR, XOR, NOT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Extração de grupos de bits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587760" y="4959360"/>
            <a:ext cx="303516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644640" y="5013360"/>
            <a:ext cx="289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20000"/>
                </a:solidFill>
                <a:latin typeface="Arial"/>
              </a:rPr>
              <a:t>0000000010111100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682640" y="3587760"/>
            <a:ext cx="303552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739520" y="3641760"/>
            <a:ext cx="289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20000"/>
                </a:solidFill>
                <a:latin typeface="Arial"/>
              </a:rPr>
              <a:t>1011011110111100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879280" y="3184560"/>
            <a:ext cx="57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0093"/>
                </a:solidFill>
                <a:latin typeface="Arial"/>
              </a:rPr>
              <a:t>R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467320" y="3587760"/>
            <a:ext cx="303516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524200" y="3641760"/>
            <a:ext cx="289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20000"/>
                </a:solidFill>
                <a:latin typeface="Arial"/>
              </a:rPr>
              <a:t>000000001111111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663960" y="3184560"/>
            <a:ext cx="57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0093"/>
                </a:solidFill>
                <a:latin typeface="Arial"/>
              </a:rPr>
              <a:t>R2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327920" y="5622840"/>
            <a:ext cx="167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0093"/>
                </a:solidFill>
                <a:latin typeface="Arial"/>
              </a:rPr>
              <a:t>R1 and R2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419720" y="4191120"/>
            <a:ext cx="1295280" cy="685800"/>
          </a:xfrm>
          <a:prstGeom prst="downArrow">
            <a:avLst>
              <a:gd name="adj1" fmla="val 75009"/>
              <a:gd name="adj2" fmla="val 50023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Operações Aritméticas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307880" y="1600200"/>
            <a:ext cx="76071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Arial"/>
              </a:rPr>
              <a:t>Soma, subtração: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Tipos de dados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inteiros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ponto-flutuante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Exemplo: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Wingdings 2" charset="2"/>
              <a:buChar char="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Arial"/>
              </a:rPr>
              <a:t>Pode gerar resultados não representáveis (overflow e underflow)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968640" y="3664080"/>
            <a:ext cx="3492720" cy="2044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20000"/>
            </a:solidFill>
            <a:miter/>
          </a:ln>
          <a:effectLst>
            <a:outerShdw dist="107932" dir="2700000" blurRad="0" rotWithShape="0">
              <a:srgbClr val="02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883040" y="4502160"/>
            <a:ext cx="15876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883040" y="389268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37760" y="3870360"/>
            <a:ext cx="1538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20000"/>
                </a:solidFill>
                <a:latin typeface="Arial"/>
              </a:rPr>
              <a:t>0000010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937760" y="4479840"/>
            <a:ext cx="1538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20000"/>
                </a:solidFill>
                <a:latin typeface="Arial"/>
              </a:rPr>
              <a:t>00000110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883040" y="5187960"/>
            <a:ext cx="15876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937760" y="5165640"/>
            <a:ext cx="1538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20000"/>
                </a:solidFill>
                <a:latin typeface="Arial"/>
              </a:rPr>
              <a:t>0000101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194000" y="4127400"/>
            <a:ext cx="517680" cy="51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241160" y="4176720"/>
            <a:ext cx="36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214880" y="5029200"/>
            <a:ext cx="302400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Operações Aritméticas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Multiplicação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resultado: tamanho duplo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Divisão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dividendo: tamanho duplo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resultados: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quociente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esto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Controle de Fluxo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Arial"/>
              </a:rPr>
              <a:t>Alterar a sequência de execução das instruções: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1812240" y="3130560"/>
            <a:ext cx="2981880" cy="1892160"/>
            <a:chOff x="1812240" y="3130560"/>
            <a:chExt cx="2981880" cy="1892160"/>
          </a:xfrm>
        </p:grpSpPr>
        <p:sp>
          <p:nvSpPr>
            <p:cNvPr id="830" name=""/>
            <p:cNvSpPr/>
            <p:nvPr/>
          </p:nvSpPr>
          <p:spPr>
            <a:xfrm>
              <a:off x="1835280" y="3130560"/>
              <a:ext cx="2958840" cy="18921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20000"/>
              </a:solidFill>
              <a:miter/>
            </a:ln>
            <a:effectLst>
              <a:outerShdw dist="107932" dir="2700000" blurRad="0" rotWithShape="0">
                <a:srgbClr val="02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118240" y="3535200"/>
              <a:ext cx="202284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If ...then ...els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cas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loop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go to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812240" y="3154320"/>
              <a:ext cx="1963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800000"/>
                  </a:solidFill>
                  <a:latin typeface="Arial"/>
                </a:rPr>
                <a:t>Ling. alto nível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5545800" y="3130560"/>
            <a:ext cx="3287160" cy="2044800"/>
            <a:chOff x="5545800" y="3130560"/>
            <a:chExt cx="3287160" cy="2044800"/>
          </a:xfrm>
        </p:grpSpPr>
        <p:sp>
          <p:nvSpPr>
            <p:cNvPr id="834" name=""/>
            <p:cNvSpPr/>
            <p:nvPr/>
          </p:nvSpPr>
          <p:spPr>
            <a:xfrm>
              <a:off x="5568840" y="3130560"/>
              <a:ext cx="3264120" cy="2044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20000"/>
              </a:solidFill>
              <a:miter/>
            </a:ln>
            <a:effectLst>
              <a:outerShdw dist="107932" dir="2700000" blurRad="0" rotWithShape="0">
                <a:srgbClr val="02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849640" y="3535200"/>
              <a:ext cx="2816640" cy="16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Desvio incondicional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Desvio condicional: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se zero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se negativo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se overflow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45800" y="3154320"/>
              <a:ext cx="2656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800000"/>
                  </a:solidFill>
                  <a:latin typeface="Arial"/>
                </a:rPr>
                <a:t>Linguagem máquin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Desvios condicionais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Arial"/>
              </a:rPr>
              <a:t>Realizado em duas etapas: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comparação ou teste (afeta flags)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desvio dependente da comparação/teste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126440" y="3892680"/>
            <a:ext cx="2981880" cy="2021760"/>
            <a:chOff x="1126440" y="3892680"/>
            <a:chExt cx="2981880" cy="2021760"/>
          </a:xfrm>
        </p:grpSpPr>
        <p:sp>
          <p:nvSpPr>
            <p:cNvPr id="840" name=""/>
            <p:cNvSpPr/>
            <p:nvPr/>
          </p:nvSpPr>
          <p:spPr>
            <a:xfrm>
              <a:off x="1149480" y="3892680"/>
              <a:ext cx="2958840" cy="18921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20000"/>
              </a:solidFill>
              <a:miter/>
            </a:ln>
            <a:effectLst>
              <a:outerShdw dist="107932" dir="2700000" blurRad="0" rotWithShape="0">
                <a:srgbClr val="02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428840" y="4297320"/>
              <a:ext cx="1465200" cy="16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If a=b then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   </a:t>
              </a: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a:= a+1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els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   </a:t>
              </a: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a: a-1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end if;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126440" y="3916440"/>
              <a:ext cx="1963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800000"/>
                  </a:solidFill>
                  <a:latin typeface="Arial"/>
                </a:rPr>
                <a:t>Ling. alto nível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4343400" y="3511440"/>
            <a:ext cx="4414680" cy="2860560"/>
            <a:chOff x="4343400" y="3511440"/>
            <a:chExt cx="4414680" cy="2860560"/>
          </a:xfrm>
        </p:grpSpPr>
        <p:sp>
          <p:nvSpPr>
            <p:cNvPr id="844" name=""/>
            <p:cNvSpPr/>
            <p:nvPr/>
          </p:nvSpPr>
          <p:spPr>
            <a:xfrm>
              <a:off x="5111640" y="3511440"/>
              <a:ext cx="3643560" cy="2806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20000"/>
              </a:solidFill>
              <a:miter/>
            </a:ln>
            <a:effectLst>
              <a:outerShdw dist="107932" dir="2700000" blurRad="0" rotWithShape="0">
                <a:srgbClr val="02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340600" y="3840120"/>
              <a:ext cx="341748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          </a:t>
              </a: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lw R1,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          </a:t>
              </a: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lw R2,b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          </a:t>
              </a: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compara R1,R2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          </a:t>
              </a: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Se zero va para end1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          </a:t>
              </a: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Add R1, -1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          </a:t>
              </a: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Va para end2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end1: Add R1, 1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ff"/>
                  </a:solidFill>
                  <a:latin typeface="Arial"/>
                </a:rPr>
                <a:t>end2: sw R1, 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088600" y="3535200"/>
              <a:ext cx="2656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800000"/>
                  </a:solidFill>
                  <a:latin typeface="Arial"/>
                </a:rPr>
                <a:t>Linguagem máquin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343400" y="4343400"/>
              <a:ext cx="609480" cy="457200"/>
            </a:xfrm>
            <a:prstGeom prst="rightArrow">
              <a:avLst>
                <a:gd name="adj1" fmla="val 75009"/>
                <a:gd name="adj2" fmla="val 66684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06680" y="612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44960" y="612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6680" y="612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44960" y="612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016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Componentes de um computador</a:t>
            </a:r>
            <a:endParaRPr b="0" i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0880" y="1676520"/>
            <a:ext cx="5791320" cy="47876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2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663880" y="1908000"/>
            <a:ext cx="1791360" cy="2246400"/>
            <a:chOff x="5663880" y="1908000"/>
            <a:chExt cx="1791360" cy="2246400"/>
          </a:xfrm>
        </p:grpSpPr>
        <p:sp>
          <p:nvSpPr>
            <p:cNvPr id="126" name=""/>
            <p:cNvSpPr/>
            <p:nvPr/>
          </p:nvSpPr>
          <p:spPr>
            <a:xfrm>
              <a:off x="5721480" y="1908000"/>
              <a:ext cx="1663560" cy="2246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2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63880" y="2098440"/>
              <a:ext cx="1791360" cy="20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20000"/>
                  </a:solidFill>
                  <a:latin typeface="Times New Roman"/>
                </a:rPr>
                <a:t>Memória</a:t>
              </a:r>
              <a:endParaRPr b="0" lang="en-US" sz="3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0000"/>
                  </a:solidFill>
                  <a:latin typeface="Times New Roman"/>
                </a:rPr>
                <a:t>Programas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0000"/>
                  </a:solidFill>
                  <a:latin typeface="Times New Roman"/>
                </a:rPr>
                <a:t>Dados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V="1">
            <a:off x="5105520" y="4572000"/>
            <a:ext cx="1363680" cy="30240"/>
          </a:xfrm>
          <a:prstGeom prst="line">
            <a:avLst/>
          </a:prstGeom>
          <a:ln w="7632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461280" y="4161960"/>
            <a:ext cx="0" cy="453960"/>
          </a:xfrm>
          <a:prstGeom prst="line">
            <a:avLst/>
          </a:prstGeom>
          <a:ln w="7632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17600" y="2300400"/>
            <a:ext cx="18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43280" y="1805040"/>
            <a:ext cx="3490560" cy="4232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2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98600" y="1898640"/>
            <a:ext cx="2901960" cy="83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68560" y="3181320"/>
            <a:ext cx="32605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 rot="10800000">
            <a:off x="3416400" y="4749840"/>
            <a:ext cx="1084320" cy="520560"/>
          </a:xfrm>
          <a:custGeom>
            <a:avLst/>
            <a:gdLst>
              <a:gd name="textAreaLeft" fmla="*/ 238320 w 1084320"/>
              <a:gd name="textAreaRight" fmla="*/ 846000 w 1084320"/>
              <a:gd name="textAreaTop" fmla="*/ 114480 h 520560"/>
              <a:gd name="textAreaBottom" fmla="*/ 406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solidFill>
            <a:srgbClr val="ccec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2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16920" y="4803840"/>
            <a:ext cx="81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000"/>
                </a:solidFill>
                <a:latin typeface="Times New Roman"/>
              </a:rPr>
              <a:t>ALU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53000" y="3708360"/>
            <a:ext cx="0" cy="1035000"/>
          </a:xfrm>
          <a:prstGeom prst="line">
            <a:avLst/>
          </a:prstGeom>
          <a:ln w="5076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00560" y="3708360"/>
            <a:ext cx="0" cy="1038240"/>
          </a:xfrm>
          <a:prstGeom prst="line">
            <a:avLst/>
          </a:prstGeom>
          <a:ln w="5076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83040" y="5273640"/>
            <a:ext cx="4680" cy="201600"/>
          </a:xfrm>
          <a:prstGeom prst="line">
            <a:avLst/>
          </a:prstGeom>
          <a:ln w="5076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103480" y="5473800"/>
            <a:ext cx="1900080" cy="1440"/>
          </a:xfrm>
          <a:prstGeom prst="line">
            <a:avLst/>
          </a:prstGeom>
          <a:ln w="5076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63920" y="4105440"/>
            <a:ext cx="272880" cy="0"/>
          </a:xfrm>
          <a:prstGeom prst="line">
            <a:avLst/>
          </a:prstGeom>
          <a:ln w="50760">
            <a:solidFill>
              <a:srgbClr val="02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94080" y="4379760"/>
            <a:ext cx="895320" cy="0"/>
          </a:xfrm>
          <a:prstGeom prst="line">
            <a:avLst/>
          </a:prstGeom>
          <a:ln w="50760">
            <a:solidFill>
              <a:srgbClr val="02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125800" y="4068360"/>
            <a:ext cx="0" cy="1382760"/>
          </a:xfrm>
          <a:prstGeom prst="line">
            <a:avLst/>
          </a:prstGeom>
          <a:ln w="5076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9960" y="4070520"/>
            <a:ext cx="295200" cy="1440"/>
          </a:xfrm>
          <a:prstGeom prst="line">
            <a:avLst/>
          </a:prstGeom>
          <a:ln w="50760">
            <a:solidFill>
              <a:srgbClr val="02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65640" y="3268800"/>
            <a:ext cx="971280" cy="215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2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18720" y="3224160"/>
            <a:ext cx="46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2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59000" y="3251160"/>
            <a:ext cx="969840" cy="216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2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50960" y="3193920"/>
            <a:ext cx="38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20000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441520" y="3681360"/>
            <a:ext cx="971640" cy="901800"/>
            <a:chOff x="2441520" y="3681360"/>
            <a:chExt cx="971640" cy="901800"/>
          </a:xfrm>
        </p:grpSpPr>
        <p:sp>
          <p:nvSpPr>
            <p:cNvPr id="149" name=""/>
            <p:cNvSpPr/>
            <p:nvPr/>
          </p:nvSpPr>
          <p:spPr>
            <a:xfrm>
              <a:off x="2441520" y="4138560"/>
              <a:ext cx="971640" cy="2160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2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441520" y="3681360"/>
              <a:ext cx="971640" cy="901800"/>
              <a:chOff x="2441520" y="3681360"/>
              <a:chExt cx="971640" cy="901800"/>
            </a:xfrm>
          </p:grpSpPr>
          <p:sp>
            <p:nvSpPr>
              <p:cNvPr id="151" name=""/>
              <p:cNvSpPr/>
              <p:nvPr/>
            </p:nvSpPr>
            <p:spPr>
              <a:xfrm>
                <a:off x="2441520" y="3681360"/>
                <a:ext cx="971640" cy="21600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02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441520" y="3909960"/>
                <a:ext cx="971640" cy="21600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02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41520" y="4367160"/>
                <a:ext cx="971640" cy="21600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02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02000" y="3938400"/>
                <a:ext cx="871560" cy="36684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20000"/>
                    </a:solidFill>
                    <a:latin typeface="Arial"/>
                  </a:rPr>
                  <a:t>Gerais</a:t>
                </a:r>
                <a:endParaRPr b="0" lang="en-US" sz="1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4471920" y="3294000"/>
            <a:ext cx="692640" cy="36684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07932" dir="2700000" blurRad="0" rotWithShape="0">
              <a:srgbClr val="02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20000"/>
                </a:solidFill>
                <a:latin typeface="Arial"/>
              </a:rPr>
              <a:t>MAR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81280" y="3913200"/>
            <a:ext cx="692640" cy="36684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07932" dir="2700000" blurRad="0" rotWithShape="0">
              <a:srgbClr val="02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20000"/>
                </a:solidFill>
                <a:latin typeface="Arial"/>
              </a:rPr>
              <a:t>MBR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6640" y="5580000"/>
            <a:ext cx="2732760" cy="3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buClr>
                <a:srgbClr val="0000ff"/>
              </a:buClr>
              <a:buFont typeface="Zapf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Arial"/>
              </a:rPr>
              <a:t>Unid. processament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91080" y="2008080"/>
            <a:ext cx="1896120" cy="3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buClr>
                <a:srgbClr val="0000ff"/>
              </a:buClr>
              <a:buFont typeface="Zapf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Arial"/>
              </a:rPr>
              <a:t>Unid. control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281400" y="5102280"/>
            <a:ext cx="301680" cy="0"/>
          </a:xfrm>
          <a:prstGeom prst="line">
            <a:avLst/>
          </a:prstGeom>
          <a:ln w="12600">
            <a:solidFill>
              <a:srgbClr val="02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43160" y="3794040"/>
            <a:ext cx="206280" cy="0"/>
          </a:xfrm>
          <a:prstGeom prst="line">
            <a:avLst/>
          </a:prstGeom>
          <a:ln w="12600">
            <a:solidFill>
              <a:srgbClr val="02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6840" y="3741840"/>
            <a:ext cx="0" cy="358560"/>
          </a:xfrm>
          <a:prstGeom prst="line">
            <a:avLst/>
          </a:prstGeom>
          <a:ln w="12600">
            <a:solidFill>
              <a:srgbClr val="02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83040" y="4033800"/>
            <a:ext cx="0" cy="301680"/>
          </a:xfrm>
          <a:prstGeom prst="line">
            <a:avLst/>
          </a:prstGeom>
          <a:ln w="12600">
            <a:solidFill>
              <a:srgbClr val="02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54360" y="2733840"/>
            <a:ext cx="0" cy="282240"/>
          </a:xfrm>
          <a:prstGeom prst="line">
            <a:avLst/>
          </a:prstGeom>
          <a:ln w="12600">
            <a:solidFill>
              <a:srgbClr val="02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82960" y="2733840"/>
            <a:ext cx="0" cy="282240"/>
          </a:xfrm>
          <a:prstGeom prst="line">
            <a:avLst/>
          </a:prstGeom>
          <a:ln w="12600">
            <a:solidFill>
              <a:srgbClr val="02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98840" y="2747880"/>
            <a:ext cx="0" cy="282600"/>
          </a:xfrm>
          <a:prstGeom prst="line">
            <a:avLst/>
          </a:prstGeom>
          <a:ln w="12600">
            <a:solidFill>
              <a:srgbClr val="02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13400" y="2763720"/>
            <a:ext cx="0" cy="282600"/>
          </a:xfrm>
          <a:prstGeom prst="line">
            <a:avLst/>
          </a:prstGeom>
          <a:ln w="12600">
            <a:solidFill>
              <a:srgbClr val="02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56040" y="2763720"/>
            <a:ext cx="0" cy="282600"/>
          </a:xfrm>
          <a:prstGeom prst="line">
            <a:avLst/>
          </a:prstGeom>
          <a:ln w="12600">
            <a:solidFill>
              <a:srgbClr val="02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258800" y="4038480"/>
            <a:ext cx="228600" cy="0"/>
          </a:xfrm>
          <a:prstGeom prst="line">
            <a:avLst/>
          </a:prstGeom>
          <a:ln w="57240">
            <a:solidFill>
              <a:srgbClr val="02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Desvios condicionais no MIPS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Arial"/>
              </a:rPr>
              <a:t>Instruções de comparação e desvio: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Bne regd, regs, end_desvio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Beg regd, regs, end_desvio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Arial"/>
              </a:rPr>
              <a:t>Instruções de Comparação: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Slt regd, regs1, regs2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Regd = 1 se regs1 menor que regs2, caso contrário regd = 0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Arial"/>
              </a:rPr>
              <a:t>Registrador com constante zero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390760" y="291600"/>
            <a:ext cx="691848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Exemplo: uma CPU simples...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52280" y="990720"/>
            <a:ext cx="6477120" cy="563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853" name=""/>
          <p:cNvGraphicFramePr/>
          <p:nvPr/>
        </p:nvGraphicFramePr>
        <p:xfrm>
          <a:off x="374760" y="1068480"/>
          <a:ext cx="6105240" cy="55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1068480"/>
                    <a:ext cx="6105240" cy="55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Executando um programa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856" name="F0321" descr=""/>
          <p:cNvPicPr/>
          <p:nvPr/>
        </p:nvPicPr>
        <p:blipFill>
          <a:blip r:embed="rId1"/>
          <a:stretch/>
        </p:blipFill>
        <p:spPr>
          <a:xfrm>
            <a:off x="2133720" y="1576440"/>
            <a:ext cx="655308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Executando um programa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858" name="F0A06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50096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Resumindo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Arial"/>
              </a:rPr>
              <a:t>Organização de um computador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Arial"/>
              </a:rPr>
              <a:t>Definição de arquitetura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Tipos de Dados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Inteiros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Booleanos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Ponto-Flutuante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Formato das instruções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Conjunto de registradores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Resumindo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...Definição de Arquitetura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Repertório de instruções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obre o dado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movimentação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transformação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codificação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aritméticas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lógicas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alteração do fluxo de execução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desvios condicionais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desvios incondicionais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Exercícios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447920" y="25146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if (i == j) then 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f= g+h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else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f=g-h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486400" y="25146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loop: g = g + A[i]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i = i+1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if (i =! h) go to loop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i="1" lang="pt-BR" sz="2000" spc="-1" strike="noStrike">
                <a:solidFill>
                  <a:srgbClr val="0000ff"/>
                </a:solidFill>
                <a:latin typeface="Arial"/>
              </a:rPr>
              <a:t>onde g,h,i,j são variáveis e A é um array de 20 elementos armazenados a partir da posição A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454760" y="1600200"/>
            <a:ext cx="73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Implemente na linguagem de máquina do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MIPS (subconjunto) o código em linguagem C abaix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0000"/>
                </a:solidFill>
                <a:latin typeface="Times New Roman"/>
              </a:rPr>
              <a:t>Usando o Simulador MIPSIT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Arial"/>
              </a:rPr>
              <a:t>Simulador MIPSIT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ff"/>
                </a:solidFill>
                <a:latin typeface="Arial"/>
              </a:rPr>
              <a:t>Local: P:\\cin04\apps\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ff"/>
                </a:solidFill>
                <a:latin typeface="Arial"/>
              </a:rPr>
              <a:t>Executar mipsit.exe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ff"/>
                </a:solidFill>
                <a:latin typeface="Arial"/>
              </a:rPr>
              <a:t>Criando um projeto: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ff"/>
                </a:solidFill>
                <a:latin typeface="Arial"/>
              </a:rPr>
              <a:t>File/new -&gt; criar project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ff"/>
                </a:solidFill>
                <a:latin typeface="Arial"/>
              </a:rPr>
              <a:t>Editando um programa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ff"/>
                </a:solidFill>
                <a:latin typeface="Arial"/>
              </a:rPr>
              <a:t>File/new -&gt; criar arquivo e editar texto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0000"/>
                </a:solidFill>
                <a:latin typeface="Times New Roman"/>
              </a:rPr>
              <a:t>Exemplo de Programa em Linguagem de Montagem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i="1" lang="pt-BR" sz="2400" spc="-1" strike="noStrike">
                <a:solidFill>
                  <a:srgbClr val="ff0000"/>
                </a:solidFill>
                <a:latin typeface="Arial"/>
              </a:rPr>
              <a:t>data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Item: .</a:t>
            </a:r>
            <a:r>
              <a:rPr b="0" i="1" lang="pt-BR" sz="2400" spc="-1" strike="noStrike">
                <a:solidFill>
                  <a:srgbClr val="ff0000"/>
                </a:solidFill>
                <a:latin typeface="Arial"/>
              </a:rPr>
              <a:t>word</a:t>
            </a: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 5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a:      .</a:t>
            </a:r>
            <a:r>
              <a:rPr b="0" i="1" lang="pt-BR" sz="2400" spc="-1" strike="noStrike">
                <a:solidFill>
                  <a:srgbClr val="ff0000"/>
                </a:solidFill>
                <a:latin typeface="Arial"/>
              </a:rPr>
              <a:t>word</a:t>
            </a: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 10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i="1" lang="pt-BR" sz="2400" spc="-1" strike="noStrike">
                <a:solidFill>
                  <a:srgbClr val="ff0000"/>
                </a:solidFill>
                <a:latin typeface="Arial"/>
              </a:rPr>
              <a:t>text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i="1" lang="pt-BR" sz="2400" spc="-1" strike="noStrike">
                <a:solidFill>
                  <a:srgbClr val="ff0000"/>
                </a:solidFill>
                <a:latin typeface="Arial"/>
              </a:rPr>
              <a:t>globl</a:t>
            </a: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 start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i="1" lang="pt-BR" sz="2400" spc="-1" strike="noStrike">
                <a:solidFill>
                  <a:srgbClr val="ff0000"/>
                </a:solidFill>
                <a:latin typeface="Arial"/>
              </a:rPr>
              <a:t>ent </a:t>
            </a: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start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start: </a:t>
            </a:r>
            <a:r>
              <a:rPr b="0" i="1" lang="pt-BR" sz="2400" spc="-1" strike="noStrike">
                <a:solidFill>
                  <a:srgbClr val="ff0000"/>
                </a:solidFill>
                <a:latin typeface="Arial"/>
              </a:rPr>
              <a:t>lw</a:t>
            </a: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 $8, item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i="1" lang="pt-PT" sz="2400" spc="-1" strike="noStrike">
                <a:solidFill>
                  <a:srgbClr val="ff0000"/>
                </a:solidFill>
                <a:latin typeface="Arial"/>
              </a:rPr>
              <a:t>lw</a:t>
            </a:r>
            <a:r>
              <a:rPr b="0" i="1" lang="pt-PT" sz="2400" spc="-1" strike="noStrike">
                <a:solidFill>
                  <a:srgbClr val="0000ff"/>
                </a:solidFill>
                <a:latin typeface="Arial"/>
              </a:rPr>
              <a:t> $9, a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i="1" lang="pt-PT" sz="2400" spc="-1" strike="noStrike">
                <a:solidFill>
                  <a:srgbClr val="ff0000"/>
                </a:solidFill>
                <a:latin typeface="Arial"/>
              </a:rPr>
              <a:t>add</a:t>
            </a:r>
            <a:r>
              <a:rPr b="0" i="1" lang="pt-PT" sz="2400" spc="-1" strike="noStrike">
                <a:solidFill>
                  <a:srgbClr val="0000ff"/>
                </a:solidFill>
                <a:latin typeface="Arial"/>
              </a:rPr>
              <a:t> $10, $9, $8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i="1" lang="pt-PT" sz="2400" spc="-1" strike="noStrike">
                <a:solidFill>
                  <a:srgbClr val="ff0000"/>
                </a:solidFill>
                <a:latin typeface="Arial"/>
              </a:rPr>
              <a:t>sw</a:t>
            </a:r>
            <a:r>
              <a:rPr b="0" i="1" lang="pt-PT" sz="2400" spc="-1" strike="noStrike">
                <a:solidFill>
                  <a:srgbClr val="0000ff"/>
                </a:solidFill>
                <a:latin typeface="Arial"/>
              </a:rPr>
              <a:t> $10,a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i="1" lang="pt-PT" sz="2400" spc="-1" strike="noStrike">
                <a:solidFill>
                  <a:srgbClr val="ff0000"/>
                </a:solidFill>
                <a:latin typeface="Arial"/>
              </a:rPr>
              <a:t>end </a:t>
            </a:r>
            <a:r>
              <a:rPr b="0" i="1" lang="pt-PT" sz="2400" spc="-1" strike="noStrike">
                <a:solidFill>
                  <a:srgbClr val="0000ff"/>
                </a:solidFill>
                <a:latin typeface="Arial"/>
              </a:rPr>
              <a:t>start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0000"/>
                </a:solidFill>
                <a:latin typeface="Times New Roman"/>
              </a:rPr>
              <a:t>Usando o Simulador MIPSIT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Simulador MIPSIT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Compilando um programa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Arial"/>
              </a:rPr>
              <a:t>build -&gt; build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Arial"/>
              </a:rPr>
              <a:t>Códigos objetos são armazenados na pasta object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Carregando código executável para o simulador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Arial"/>
              </a:rPr>
              <a:t>Executar o simulador mips.exe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Arial"/>
              </a:rPr>
              <a:t>Carregar usando mipsit: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ff"/>
                </a:solidFill>
                <a:latin typeface="Arial"/>
              </a:rPr>
              <a:t>Build/upload -&gt; to simulator </a:t>
            </a:r>
            <a:endParaRPr b="0" i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Como funciona um computador?</a:t>
            </a:r>
            <a:endParaRPr b="0" i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3480" y="3159000"/>
            <a:ext cx="2454120" cy="82404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07932" dir="2700000" blurRad="0" rotWithShape="0">
              <a:srgbClr val="02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Busca a próxim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instruçã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1640" y="4471920"/>
            <a:ext cx="2871720" cy="82404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2700000" blurRad="0" rotWithShape="0">
              <a:srgbClr val="02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Executa a instruçã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76600" y="3994200"/>
            <a:ext cx="0" cy="523800"/>
          </a:xfrm>
          <a:prstGeom prst="line">
            <a:avLst/>
          </a:prstGeom>
          <a:ln w="50760">
            <a:solidFill>
              <a:srgbClr val="0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52920" y="5330880"/>
            <a:ext cx="0" cy="371520"/>
          </a:xfrm>
          <a:prstGeom prst="line">
            <a:avLst/>
          </a:prstGeom>
          <a:ln w="50760">
            <a:solidFill>
              <a:srgbClr val="0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76600" y="2333520"/>
            <a:ext cx="0" cy="809640"/>
          </a:xfrm>
          <a:prstGeom prst="line">
            <a:avLst/>
          </a:prstGeom>
          <a:ln w="50760">
            <a:solidFill>
              <a:srgbClr val="0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963800" y="4879800"/>
            <a:ext cx="1077840" cy="0"/>
          </a:xfrm>
          <a:prstGeom prst="line">
            <a:avLst/>
          </a:prstGeom>
          <a:ln w="5076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960560" y="2765160"/>
            <a:ext cx="0" cy="2136600"/>
          </a:xfrm>
          <a:prstGeom prst="line">
            <a:avLst/>
          </a:prstGeom>
          <a:ln w="50760">
            <a:solidFill>
              <a:srgbClr val="0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81080" y="2755440"/>
            <a:ext cx="2521080" cy="11160"/>
          </a:xfrm>
          <a:prstGeom prst="line">
            <a:avLst/>
          </a:prstGeom>
          <a:ln w="50760">
            <a:solidFill>
              <a:srgbClr val="0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887640" y="1752480"/>
            <a:ext cx="1239840" cy="536760"/>
            <a:chOff x="3887640" y="1752480"/>
            <a:chExt cx="1239840" cy="536760"/>
          </a:xfrm>
        </p:grpSpPr>
        <p:sp>
          <p:nvSpPr>
            <p:cNvPr id="179" name=""/>
            <p:cNvSpPr/>
            <p:nvPr/>
          </p:nvSpPr>
          <p:spPr>
            <a:xfrm>
              <a:off x="3887640" y="1752480"/>
              <a:ext cx="1239840" cy="536760"/>
            </a:xfrm>
            <a:custGeom>
              <a:avLst/>
              <a:gdLst/>
              <a:ahLst/>
              <a:rect l="l" t="t" r="r" b="b"/>
              <a:pathLst>
                <a:path w="781" h="338">
                  <a:moveTo>
                    <a:pt x="41" y="0"/>
                  </a:moveTo>
                  <a:lnTo>
                    <a:pt x="26" y="3"/>
                  </a:lnTo>
                  <a:lnTo>
                    <a:pt x="15" y="12"/>
                  </a:lnTo>
                  <a:lnTo>
                    <a:pt x="5" y="26"/>
                  </a:lnTo>
                  <a:lnTo>
                    <a:pt x="0" y="42"/>
                  </a:lnTo>
                  <a:lnTo>
                    <a:pt x="0" y="293"/>
                  </a:lnTo>
                  <a:lnTo>
                    <a:pt x="5" y="309"/>
                  </a:lnTo>
                  <a:lnTo>
                    <a:pt x="15" y="323"/>
                  </a:lnTo>
                  <a:lnTo>
                    <a:pt x="26" y="332"/>
                  </a:lnTo>
                  <a:lnTo>
                    <a:pt x="41" y="337"/>
                  </a:lnTo>
                  <a:lnTo>
                    <a:pt x="739" y="337"/>
                  </a:lnTo>
                  <a:lnTo>
                    <a:pt x="754" y="332"/>
                  </a:lnTo>
                  <a:lnTo>
                    <a:pt x="770" y="323"/>
                  </a:lnTo>
                  <a:lnTo>
                    <a:pt x="775" y="309"/>
                  </a:lnTo>
                  <a:lnTo>
                    <a:pt x="780" y="293"/>
                  </a:lnTo>
                  <a:lnTo>
                    <a:pt x="780" y="42"/>
                  </a:lnTo>
                  <a:lnTo>
                    <a:pt x="775" y="26"/>
                  </a:lnTo>
                  <a:lnTo>
                    <a:pt x="770" y="12"/>
                  </a:lnTo>
                  <a:lnTo>
                    <a:pt x="754" y="3"/>
                  </a:lnTo>
                  <a:lnTo>
                    <a:pt x="739" y="0"/>
                  </a:lnTo>
                  <a:lnTo>
                    <a:pt x="41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20000"/>
              </a:solidFill>
              <a:round/>
            </a:ln>
            <a:effectLst>
              <a:outerShdw dist="107932" dir="2700000" blurRad="0" rotWithShape="0">
                <a:srgbClr val="02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02120" y="1820880"/>
              <a:ext cx="1006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20000"/>
                  </a:solidFill>
                  <a:latin typeface="Arial"/>
                </a:rPr>
                <a:t>Iníci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962520" y="5692680"/>
            <a:ext cx="1241280" cy="540000"/>
            <a:chOff x="3962520" y="5692680"/>
            <a:chExt cx="1241280" cy="540000"/>
          </a:xfrm>
        </p:grpSpPr>
        <p:sp>
          <p:nvSpPr>
            <p:cNvPr id="182" name=""/>
            <p:cNvSpPr/>
            <p:nvPr/>
          </p:nvSpPr>
          <p:spPr>
            <a:xfrm>
              <a:off x="3962520" y="5692680"/>
              <a:ext cx="1241280" cy="540000"/>
            </a:xfrm>
            <a:custGeom>
              <a:avLst/>
              <a:gdLst/>
              <a:ahLst/>
              <a:rect l="l" t="t" r="r" b="b"/>
              <a:pathLst>
                <a:path w="782" h="340">
                  <a:moveTo>
                    <a:pt x="42" y="0"/>
                  </a:moveTo>
                  <a:lnTo>
                    <a:pt x="26" y="6"/>
                  </a:lnTo>
                  <a:lnTo>
                    <a:pt x="15" y="12"/>
                  </a:lnTo>
                  <a:lnTo>
                    <a:pt x="5" y="25"/>
                  </a:lnTo>
                  <a:lnTo>
                    <a:pt x="0" y="44"/>
                  </a:lnTo>
                  <a:lnTo>
                    <a:pt x="0" y="295"/>
                  </a:lnTo>
                  <a:lnTo>
                    <a:pt x="5" y="314"/>
                  </a:lnTo>
                  <a:lnTo>
                    <a:pt x="15" y="326"/>
                  </a:lnTo>
                  <a:lnTo>
                    <a:pt x="26" y="339"/>
                  </a:lnTo>
                  <a:lnTo>
                    <a:pt x="42" y="339"/>
                  </a:lnTo>
                  <a:lnTo>
                    <a:pt x="739" y="339"/>
                  </a:lnTo>
                  <a:lnTo>
                    <a:pt x="755" y="339"/>
                  </a:lnTo>
                  <a:lnTo>
                    <a:pt x="771" y="326"/>
                  </a:lnTo>
                  <a:lnTo>
                    <a:pt x="776" y="314"/>
                  </a:lnTo>
                  <a:lnTo>
                    <a:pt x="781" y="295"/>
                  </a:lnTo>
                  <a:lnTo>
                    <a:pt x="781" y="44"/>
                  </a:lnTo>
                  <a:lnTo>
                    <a:pt x="776" y="25"/>
                  </a:lnTo>
                  <a:lnTo>
                    <a:pt x="771" y="12"/>
                  </a:lnTo>
                  <a:lnTo>
                    <a:pt x="755" y="6"/>
                  </a:lnTo>
                  <a:lnTo>
                    <a:pt x="739" y="0"/>
                  </a:lnTo>
                  <a:lnTo>
                    <a:pt x="42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20000"/>
              </a:solidFill>
              <a:round/>
            </a:ln>
            <a:effectLst>
              <a:outerShdw dist="107932" dir="2700000" blurRad="0" rotWithShape="0">
                <a:srgbClr val="02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78440" y="5764320"/>
              <a:ext cx="1006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20000"/>
                  </a:solidFill>
                  <a:latin typeface="Arial"/>
                </a:rPr>
                <a:t>Términ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0000"/>
                </a:solidFill>
                <a:latin typeface="Times New Roman"/>
              </a:rPr>
              <a:t>Usando o Simulador MIPSIT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Simulando um programa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O que é visível: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Arial"/>
              </a:rPr>
              <a:t>Registradores (CPU)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ff"/>
                </a:solidFill>
                <a:latin typeface="Arial"/>
              </a:rPr>
              <a:t>Conteúdo em hexadecimal</a:t>
            </a:r>
            <a:endParaRPr b="0" i="1" lang="en-US" sz="18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ff"/>
                </a:solidFill>
                <a:latin typeface="Arial"/>
              </a:rPr>
              <a:t>Associação nome e número</a:t>
            </a:r>
            <a:endParaRPr b="0" i="1" lang="en-US" sz="1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Arial"/>
              </a:rPr>
              <a:t>Memória (RAM)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ff"/>
                </a:solidFill>
                <a:latin typeface="Arial"/>
              </a:rPr>
              <a:t>Quatro colunas:</a:t>
            </a:r>
            <a:endParaRPr b="0" i="1" lang="en-US" sz="18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ff"/>
                </a:solidFill>
                <a:latin typeface="Arial"/>
              </a:rPr>
              <a:t>Endereço</a:t>
            </a:r>
            <a:endParaRPr b="0" i="1" lang="en-US" sz="18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ff"/>
                </a:solidFill>
                <a:latin typeface="Arial"/>
              </a:rPr>
              <a:t>Conteúdo (hexa)</a:t>
            </a:r>
            <a:endParaRPr b="0" i="1" lang="en-US" sz="18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ff"/>
                </a:solidFill>
                <a:latin typeface="Arial"/>
              </a:rPr>
              <a:t>Rótulos </a:t>
            </a:r>
            <a:endParaRPr b="0" i="1" lang="en-US" sz="18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ff"/>
                </a:solidFill>
                <a:latin typeface="Arial"/>
              </a:rPr>
              <a:t>Instrução de máquina</a:t>
            </a:r>
            <a:endParaRPr b="0" i="1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0000"/>
                </a:solidFill>
                <a:latin typeface="Times New Roman"/>
              </a:rPr>
              <a:t>Usando o Simulador MIPSIT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Simulando um programa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Iniciando a execução: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Arial"/>
              </a:rPr>
              <a:t>Indo para rótulo inicial</a:t>
            </a:r>
            <a:endParaRPr b="0" i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ff"/>
                </a:solidFill>
                <a:latin typeface="Arial"/>
              </a:rPr>
              <a:t>Jump To Symbol -&gt; start</a:t>
            </a:r>
            <a:endParaRPr b="0" i="1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Executando passo a passo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ff"/>
                </a:solidFill>
                <a:latin typeface="Arial"/>
              </a:rPr>
              <a:t>CPU -&gt; step </a:t>
            </a:r>
            <a:endParaRPr b="0" i="1" lang="en-US" sz="18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ff"/>
                </a:solidFill>
                <a:latin typeface="Arial"/>
              </a:rPr>
              <a:t>Botao: seta para quardrado azul</a:t>
            </a:r>
            <a:endParaRPr b="0" i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Para usar nomes simbólicos: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Inclua no programa em linguagem de montagem: #include ,iregdef.h&gt;</a:t>
            </a: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560" y="457200"/>
            <a:ext cx="6933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O que caracteriza uma Arquitetura?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90920" y="2362320"/>
            <a:ext cx="495288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02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Conjunto de registradores 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ipos de dados 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Acesso à memória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Formato e repertório de instruções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Operações aritméticas 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Arial"/>
              </a:rPr>
              <a:t>Aritméticas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add a,b,c</a:t>
            </a: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a = b + c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a = b + c + d + e?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sub a,b,c</a:t>
            </a: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a = b - c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87640" y="465444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8000"/>
                </a:solidFill>
                <a:latin typeface="Comic Sans MS"/>
              </a:rPr>
              <a:t>Todas as instruções aritméticas possuem 3 operandos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8000"/>
                </a:solidFill>
                <a:latin typeface="Comic Sans MS"/>
              </a:rPr>
              <a:t>destino, fonte 1, fonte 2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2600" y="5791320"/>
            <a:ext cx="68054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A simplicidade é favorecida pela regularidad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Expressões Aritméticas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Arial"/>
              </a:rPr>
              <a:t>f = (g + h) - (i + j)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27400" indent="-2026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Variáveis auxiliares: t0 e t1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27400" indent="-2026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add t0,g,h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27400" indent="-2026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add t1,i,j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27400" indent="-2026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sub f,t0,t1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51040" y="209520"/>
            <a:ext cx="73152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Operandos no Hardware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Para se garantir o desempenho....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236520" indent="-23652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Operandos em registradores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236520" indent="-23652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Vantagens:</a:t>
            </a: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12640" indent="-19692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leitura e escrita em registradores são muito mais rápidas que em memória</a:t>
            </a:r>
            <a:endParaRPr b="0" i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83040" y="5035680"/>
            <a:ext cx="38793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Comic Sans MS"/>
              </a:rPr>
              <a:t>Quanto menor mais rápid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24T17:38:04Z</dcterms:created>
  <dc:creator>Grupo GERDAU</dc:creator>
  <dc:description/>
  <dc:language>en-US</dc:language>
  <cp:lastModifiedBy>ensb</cp:lastModifiedBy>
  <cp:lastPrinted>2000-08-11T18:02:29Z</cp:lastPrinted>
  <dcterms:modified xsi:type="dcterms:W3CDTF">2002-01-18T15:25:27Z</dcterms:modified>
  <cp:revision>91</cp:revision>
  <dc:subject/>
  <dc:title>Transparencias coloridas</dc:title>
</cp:coreProperties>
</file>