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0020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45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189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73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0020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189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73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6858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45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511840" y="65530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F759-5238-4904-B953-A89AADE2E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ula1b/exemplo1/exemplo1.txt" TargetMode="External"/><Relationship Id="rId2" Type="http://schemas.openxmlformats.org/officeDocument/2006/relationships/hyperlink" Target="file:///aula1b/exemplo1/exemplo1.exe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aula1b/exemplo2/exemplo2-wcl.txt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aula1b/exemplo2/exemplo2-wproc.txt" TargetMode="External"/><Relationship Id="rId2" Type="http://schemas.openxmlformats.org/officeDocument/2006/relationships/hyperlink" Target="file:///aula1b/exemplo2/exemplo2-wproc.txt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aula1b/exemplo2/exemplo2-cwnd.txt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aula1b/exemplo2/exemplo2.txt" TargetMode="External"/><Relationship Id="rId2" Type="http://schemas.openxmlformats.org/officeDocument/2006/relationships/hyperlink" Target="file:///aula1b/exemplo2/exemplo2.ex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ação Windows™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la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Sampaio Ro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200" y="6237360"/>
            <a:ext cx="16574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otação Usada Pela Microsoft™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0" y="1981080"/>
          <a:ext cx="6095880" cy="2190960"/>
        </p:xfrm>
        <a:graphic>
          <a:graphicData uri="http://schemas.openxmlformats.org/drawingml/2006/table">
            <a:tbl>
              <a:tblPr/>
              <a:tblGrid>
                <a:gridCol w="1905120"/>
                <a:gridCol w="41907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riável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mbro de alguma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1447920" y="4419720"/>
            <a:ext cx="70102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xemplos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g_iXP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g_iTim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ar *m_szSt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Vector mv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DX4Surfce msur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cações Win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plicação Win32 é composta por uma ou mais janelas que além de serem uma interface para mostrar dados, também controla entrada, saída e process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janela deve ter uma “classe” de janela associada. Esta classe define seu estilo, ícone, cursor, menu, posicionamento, background e proce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3 itens principais de uma aplicação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onto de entrada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inmai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(s) janela(s) associada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dimento de J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udo Começa com a Função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Win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inmai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o ponto de entrada das aplicações win32. Ela é responsável pela criação da(s) janela(s) associadas com a apl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WINAPI Win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HINSTANCE hinsta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INSTANCE hprevinsta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STR lp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ncmdsh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  </a:t>
            </a:r>
            <a:r>
              <a:rPr b="0" lang="pt-BR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uma Jan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riar uma janela, vamos seguir os seguintes pa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a “classe” de jan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vent handl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ou WinPro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ar a classe com o S.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a janela com a classe cr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oop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retira da pilha e despacha as mensagens do windows para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in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uma “Classe” de Jan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lasse é representada pel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NDCLASSE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Os principais camp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szClassNam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nome da cl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O estilo da classe - os principais tip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S_HREDRAW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inta toda a janela se aumentarmos a  largura da jan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S_VREDRAW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inta toda a janela se aumentarmos a altura da j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S_OWNDC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oca um únic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vice contex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 cada janela da 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S_DBLCLK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Envia a mensagem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ouble-click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in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uma “Classe” de Janela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Instan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O apontador da a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pfnWndPro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pontador para a função que processa as mensagens do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Ic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Ícone da 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Curs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Cursor da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brBackgrou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Cor de fundo da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a </a:t>
            </a:r>
            <a:r>
              <a:rPr b="0" lang="pt-BR" sz="3600" spc="-1" strike="noStrike">
                <a:solidFill>
                  <a:srgbClr val="000000"/>
                </a:solidFill>
                <a:latin typeface="Courier New"/>
              </a:rPr>
              <a:t>WinP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a como a janela daquela classe responde aos eventos mandados pelo S.O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RESULT CALLBACK WindowProc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WND hwnd, UINT ms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PARAM wparam, LPARAM lpa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uns tipos de mensage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M_ACTIVATE, WM_CLOSE, WM_DESTROY, WM_MOVE, WM_SIZE, WM_PAINT, WM_Q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33cc"/>
                </a:solidFill>
                <a:uFillTx/>
                <a:latin typeface="Courier New"/>
                <a:hlinkClick r:id="rId1"/>
              </a:rPr>
              <a:t>Exemplo do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Courier New"/>
                <a:hlinkClick r:id="rId2"/>
              </a:rPr>
              <a:t>win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rando a Cl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cisamos informar ao windows da nossa nova classe de jan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gisterClassEx(&amp;winclas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a Jan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WND CreateWindowEx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DWORD dwExStyle, //Estilos avançados  da Janela –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// Geralmente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PCTSTR lpClassName, // Nome da Cl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PCTSTR lpWindowsName, // Título da jan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DWORD dwStyle,// Como a janela aparenta e se compo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x, //Posição superior esquerda – CW_DEFAULT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y, // deixar o windows deci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nWidth, // comprimento da jan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nHeight, // altura da jan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WND hWndParent, // ponteiro para a janela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WND hMenu, // ponteiro para o me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INSTANCE hInstance, // ponteiro para a aplic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PVOID lpParam); // Avançado – use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o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pegar as mensagens da pilha nós utilizamos a função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(GetMessage(&amp;msg,NULL,0,0)) 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Traduz uma mensagem WM_KEYDOWN para WM_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TranslateMessage(&amp;ms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manda a mensagem para a </a:t>
            </a: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win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ispatchMessage(&amp;ms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o resto do processamento vem 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iagrama do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lamothe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ntando tudo – Uma Janela Si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59436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 :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e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janela1" descr=""/>
          <p:cNvPicPr/>
          <p:nvPr/>
        </p:nvPicPr>
        <p:blipFill>
          <a:blip r:embed="rId3"/>
          <a:stretch/>
        </p:blipFill>
        <p:spPr>
          <a:xfrm>
            <a:off x="2209680" y="2057400"/>
            <a:ext cx="49532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f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que o programa anterior  e constru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janela sem a barra de tít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janela só com o botão de fech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janela só com o botão de fechar e com bo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janela tipo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um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para uma Aplicação em Tempo Re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oqueia a execução do programa até que exista uma mensagem na pil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em aplicaçõ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al time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o os jogos por exemplo,  nós queremos ficar executando algum código mesmo que não haja nenhum evento na pil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isto, nós vamos utilizar a função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PeekMessage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invés da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ela nós podemos verificar se existe alguma mensagem na pilha. Se tiver nós processamos os eventos. Se não, nós processamos a lógica do jo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PeekMe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OOL PeekMessage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MSG lpmsg, // apontador para 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WND  hWnd, // apontador para a j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 wMsgFilterMin, // Primeira 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 wMsgFilterMax, // Última 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 wRemoveMsg); PM_NOREMOVE e PM_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Loop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40428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empo é Tu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729324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windows disponibiliza algumas funções relacionadas com o tempo que são de grande utilidade no desenvolvimento de jog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3860640"/>
          <a:ext cx="8326440" cy="2247840"/>
        </p:xfrm>
        <a:graphic>
          <a:graphicData uri="http://schemas.openxmlformats.org/drawingml/2006/table">
            <a:tbl>
              <a:tblPr/>
              <a:tblGrid>
                <a:gridCol w="3382920"/>
                <a:gridCol w="3311640"/>
                <a:gridCol w="1631880"/>
              </a:tblGrid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e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ckCount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imeGet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ilise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QueryPerformanceCount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QueryPerformanceFrequenc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Q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 de Uso das Funções de Temp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5530680" cy="3610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17640" y="603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o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are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1700280"/>
            <a:ext cx="68580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ir a classe CTime em C++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lass CTim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Star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En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uble GetDelta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uble Reset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uble GetCurrent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  IsHC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ando os F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// início do l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WORD start_time = GetTickCount(); //em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no final do loop principal para garantir uma taxa n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superior a 30 fps = 1 frame a cada 33,33 ms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hile((GetTickCount() – start_time)&lt;3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f((GetTickCount() – start_time)&lt;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leep(33-(GetTickCount() – start_tim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nte e Executá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ovimento Independente da Taxa de  F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 jogo desenvolvido, as unidades se movimentam em uma velocidade adequada quando o jogo roda a 50 f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retento, não podemos prever qual a taxa o jogo irá rodar. O máximo que sabemos fazer é limitar a taxa máx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se o jogo for rodado a uma taxa de 30fps 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nder o modelo de eventos do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nder a notação utilizada pela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er a fazer uma aplicação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er a lidar com vários tipos de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er a usar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vimento Independente da Taxa de  FP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1989000"/>
            <a:ext cx="7292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suas unidades se movimentam d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ntão elas passerão a se movimentar de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V * Coe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nde “Coef” depende da taxa atual de f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xemplo anterior, onde a taxa de fps é 50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oef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a taxa de fps fosse 25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oef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ia igual a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 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ef = TaxaFPSDesejada/TaxaFPSAtu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ando um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os fazer que o windows envie uma mensagem para a pilha ou execute uma função   em intervalos definidos  usando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etTimer(HWND hWnd, // apontador da j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nIDevent, // Identificador do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nElapse, //intervalo em m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TIMERPROC lpTimerFunc) //apontador para a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ção a ser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ha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lpTimerFun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or nula, então mensagens do tipo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WM_TIM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rão enviadas para a pilha da aplicação nos intervalos defi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ando o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 recursos do sistema. Portanto, quando não precisar mais deles mate-os  com 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KillTimer(HWND hW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nIDEve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ndo o Jogo quando a Aplicação não está mais 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a aplicação é desativada (perdeu o foco) , é importante colocar o jogo em um estado de pausa. Isto pode ser feito capturando-se o evento do tip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M_ACTIVATEAP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O estado da aplicação é dado pelo parâmetr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Pa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mens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viando Mensa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mensagem pode ser enviada usado uma das funções abaix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endMessage - Manda a mensagem direto para a win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ostMessage – Manda a mensagem para a pilha da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ndMessage(hWnd,WM_DESTROY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ostMessage(hWnd,WM_USER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balhando com o Tec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os capturar a tecla digitada por  3 for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M_CHAR (ASCII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M_KEYDOWN e WM_KEYUP 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scan cod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etAsyncKeystate(int vk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WM_CH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ensagem WM_CHAR possuem os seguintes parâmet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param – ASCII da tecla dig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aram – Um vetor de estados (exem. Bit 29 indica se o ALT está pression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WM_KEYD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ecla digitada é dada pel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can code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onstantes do tipo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VK_*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dem ser usadas (exemplo.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K_ESCAP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 Vejam os parâmet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param – scan code da te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aram – vetor de bits descrevendo outras teclas espe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ros Tipos Jane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Windows possui um grande número de classes de janelas predefinidas. Aqui vai uma pequena l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ic text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uttons (Check box, Push e Ra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st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croll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aber mais, procurem por: “Win32 Common Controls” no M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janelas “filhas”, ou seja, precisam de uma janela pai para aparece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riar um botão, simplesmente use a classe predefinida “butto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distinguir um botão de outro, nós temos que atribuir um identificador ao bot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Windows™ 9x/Me e NT é um sistema oper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tare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ientado a Ev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Bot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PUSH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RADIO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3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AUTO3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AUTO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AUTORADIO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os do Bot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pressionamos um botão, uma mensagem  do  tip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M_COMMAN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enviada ao winproc da janela p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incipais códigos de notificação são: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S_CLICKED, BS_DOUBLE_CLI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057400" y="3124080"/>
          <a:ext cx="6629400" cy="1581120"/>
        </p:xfrm>
        <a:graphic>
          <a:graphicData uri="http://schemas.openxmlformats.org/drawingml/2006/table">
            <a:tbl>
              <a:tblPr/>
              <a:tblGrid>
                <a:gridCol w="2568600"/>
                <a:gridCol w="4060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s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M_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WORD(wparam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dentificador do bot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IWORD(WPARAM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ódigo de notif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pa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pontador do bot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a uma janela que é movida pelas teclas direcionais. (Dica: Use as funções 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GetWindowRe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SetWindowP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í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a uma janela que exiba uma confirmação se o usuário deseja mesmo fechar a jan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ça uma aplicação que possua uma janela que toda vez que o mouse estiver passando sobre ela, ela muda para uma posição em que o mouse não este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 de Ev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ocorre algum evento (movimento do mouse, uma tecla pressionada, etc.), o windows guarda em uma pil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acontec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ocorr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 ocorreu (em que jan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o de Eventos - Dia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743200"/>
            <a:ext cx="1828800" cy="762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çã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2743200"/>
            <a:ext cx="1828800" cy="762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çã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267080"/>
            <a:ext cx="1143000" cy="609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4267080"/>
            <a:ext cx="1143000" cy="609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38280" y="1600200"/>
            <a:ext cx="4114800" cy="3580920"/>
            <a:chOff x="2438280" y="1600200"/>
            <a:chExt cx="4114800" cy="3580920"/>
          </a:xfrm>
        </p:grpSpPr>
        <p:sp>
          <p:nvSpPr>
            <p:cNvPr id="58" name=""/>
            <p:cNvSpPr/>
            <p:nvPr/>
          </p:nvSpPr>
          <p:spPr>
            <a:xfrm>
              <a:off x="2933640" y="1600200"/>
              <a:ext cx="3200400" cy="2069280"/>
            </a:xfrm>
            <a:prstGeom prst="flowChartMultidocumen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ilha de Event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o Siste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38280" y="4146840"/>
              <a:ext cx="1981080" cy="1034280"/>
            </a:xfrm>
            <a:prstGeom prst="flowChartMultidocumen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ilha de Ev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 Aplicação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8" idx="2"/>
              <a:endCxn id="59" idx="0"/>
            </p:cNvCxnSpPr>
            <p:nvPr/>
          </p:nvCxnSpPr>
          <p:spPr>
            <a:xfrm rot="5400000">
              <a:off x="3659760" y="3273120"/>
              <a:ext cx="642240" cy="1105560"/>
            </a:xfrm>
            <a:prstGeom prst="curvedConnector5">
              <a:avLst>
                <a:gd name="adj1" fmla="val 62759"/>
                <a:gd name="adj2" fmla="val 50000"/>
                <a:gd name="adj3" fmla="val 627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647960" y="4146840"/>
              <a:ext cx="1905120" cy="1034280"/>
            </a:xfrm>
            <a:prstGeom prst="flowChartMultidocumen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ilha de Ev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 Aplicação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58" idx="2"/>
              <a:endCxn id="61" idx="0"/>
            </p:cNvCxnSpPr>
            <p:nvPr/>
          </p:nvCxnSpPr>
          <p:spPr>
            <a:xfrm flipH="1" rot="16200000">
              <a:off x="4745520" y="3292200"/>
              <a:ext cx="642240" cy="1067400"/>
            </a:xfrm>
            <a:prstGeom prst="curvedConnector5">
              <a:avLst>
                <a:gd name="adj1" fmla="val 62759"/>
                <a:gd name="adj2" fmla="val 50000"/>
                <a:gd name="adj3" fmla="val 627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63" name=""/>
          <p:cNvCxnSpPr>
            <a:stCxn id="53" idx="2"/>
            <a:endCxn id="55" idx="0"/>
          </p:cNvCxnSpPr>
          <p:nvPr/>
        </p:nvCxnSpPr>
        <p:spPr>
          <a:xfrm flipH="1">
            <a:off x="1180800" y="3505320"/>
            <a:ext cx="388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4" idx="2"/>
            <a:endCxn id="56" idx="0"/>
          </p:cNvCxnSpPr>
          <p:nvPr/>
        </p:nvCxnSpPr>
        <p:spPr>
          <a:xfrm>
            <a:off x="7772400" y="3505320"/>
            <a:ext cx="388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609480" y="5410080"/>
            <a:ext cx="1143000" cy="609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proc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5410080"/>
            <a:ext cx="1143000" cy="609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proc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5" idx="2"/>
            <a:endCxn id="65" idx="0"/>
          </p:cNvCxnSpPr>
          <p:nvPr/>
        </p:nvCxnSpPr>
        <p:spPr>
          <a:xfrm>
            <a:off x="1180800" y="4876560"/>
            <a:ext cx="1080" cy="5338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8" name=""/>
          <p:cNvCxnSpPr>
            <a:stCxn id="56" idx="2"/>
            <a:endCxn id="66" idx="0"/>
          </p:cNvCxnSpPr>
          <p:nvPr/>
        </p:nvCxnSpPr>
        <p:spPr>
          <a:xfrm>
            <a:off x="7810200" y="4876560"/>
            <a:ext cx="1080" cy="5338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9" name=""/>
          <p:cNvCxnSpPr>
            <a:stCxn id="59" idx="1"/>
            <a:endCxn id="55" idx="3"/>
          </p:cNvCxnSpPr>
          <p:nvPr/>
        </p:nvCxnSpPr>
        <p:spPr>
          <a:xfrm flipH="1" flipV="1">
            <a:off x="1751760" y="4571640"/>
            <a:ext cx="68652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1" idx="3"/>
            <a:endCxn id="56" idx="1"/>
          </p:cNvCxnSpPr>
          <p:nvPr/>
        </p:nvCxnSpPr>
        <p:spPr>
          <a:xfrm flipV="1">
            <a:off x="6552720" y="4571640"/>
            <a:ext cx="68652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WND e HIN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oria das operações no windows envolvem apontadores.  Os principais tipos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STANCE é um apontador para a aplicação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ND é um apontador para uma jan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é um apontador gené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otação Usada Pela Microsoft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86000" y="1981080"/>
          <a:ext cx="6095880" cy="4381560"/>
        </p:xfrm>
        <a:graphic>
          <a:graphicData uri="http://schemas.openxmlformats.org/drawingml/2006/table">
            <a:tbl>
              <a:tblPr/>
              <a:tblGrid>
                <a:gridCol w="1905120"/>
                <a:gridCol w="41907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yte (unsigned ch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hort ou 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(i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INT(unsigned i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WORD(unsigned lo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nteiro para fun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otação Usada Pela Microsoft™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0" y="1981080"/>
          <a:ext cx="6095880" cy="3195720"/>
        </p:xfrm>
        <a:graphic>
          <a:graphicData uri="http://schemas.openxmlformats.org/drawingml/2006/table">
            <a:tbl>
              <a:tblPr/>
              <a:tblGrid>
                <a:gridCol w="1905120"/>
                <a:gridCol w="41907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z,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terminada por \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nteiro de 32-bi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pontador (usado para referenciar objetos do window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s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nsa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523880" y="5305320"/>
            <a:ext cx="7010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xemplos: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ar *szFile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*lpi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bActiv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22:37:19Z</dcterms:created>
  <dc:creator>Eduardo</dc:creator>
  <dc:description/>
  <dc:language>en-US</dc:language>
  <cp:lastModifiedBy>glr</cp:lastModifiedBy>
  <dcterms:modified xsi:type="dcterms:W3CDTF">2004-11-23T03:26:57Z</dcterms:modified>
  <cp:revision>61</cp:revision>
  <dc:subject/>
  <dc:title>Programação Windows™</dc:title>
</cp:coreProperties>
</file>