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3C4-DD45-4AB0-B98B-BC1D40D7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BD6-82A1-4AFD-A281-B01434F3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842-6F26-48B0-A4DB-8D530842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0C0-72D3-43C7-8ED7-21047A50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926-CD75-4017-89B3-F16531AE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7163-B965-4A1C-A1C4-F10A86DE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80B-761C-4871-97F5-8D9F3850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FFF-BC0C-4B53-BA98-8171E1A9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0F6-5CB9-4FB0-BBE4-6FA46488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547-D746-4D52-B6B7-6DE9D46D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588-680F-4A2B-B395-4C8996A9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920-3169-4858-93FC-3B0C1F19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91520-6484-44F9-8A10-C017B0919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6" descr="Picture 1.png"/>
          <p:cNvPicPr/>
          <p:nvPr/>
        </p:nvPicPr>
        <p:blipFill>
          <a:blip r:embed="rId1"/>
          <a:srcRect l="0" t="832" r="0" b="66471"/>
          <a:stretch/>
        </p:blipFill>
        <p:spPr>
          <a:xfrm>
            <a:off x="69840" y="0"/>
            <a:ext cx="9074160" cy="855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5637240" y="1311120"/>
            <a:ext cx="33274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auxiliar designers na concepção de prod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jogo de cartas com tabuleiro que promove a </a:t>
            </a:r>
            <a:r>
              <a:rPr b="0" lang="en-US" sz="1400" spc="-1" strike="noStrike">
                <a:solidFill>
                  <a:srgbClr val="e46c0a"/>
                </a:solidFill>
                <a:latin typeface="Arial"/>
              </a:rPr>
              <a:t>explicitude 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e estimula o </a:t>
            </a:r>
            <a:r>
              <a:rPr b="0" lang="en-US" sz="1400" spc="-1" strike="noStrike">
                <a:solidFill>
                  <a:srgbClr val="e46c0a"/>
                </a:solidFill>
                <a:latin typeface="Arial"/>
              </a:rPr>
              <a:t>reuso 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de informação em processos de concepção centrada no usuário de forma </a:t>
            </a:r>
            <a:r>
              <a:rPr b="0" lang="en-US" sz="1400" spc="-1" strike="noStrike">
                <a:solidFill>
                  <a:srgbClr val="e46c0a"/>
                </a:solidFill>
                <a:latin typeface="Arial"/>
              </a:rPr>
              <a:t>ágil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, apoiado em ciclos </a:t>
            </a:r>
            <a:r>
              <a:rPr b="0" lang="en-US" sz="1400" spc="-1" strike="noStrike">
                <a:solidFill>
                  <a:srgbClr val="e46c0a"/>
                </a:solidFill>
                <a:latin typeface="Arial"/>
              </a:rPr>
              <a:t>iterativos 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e </a:t>
            </a:r>
            <a:r>
              <a:rPr b="0" lang="en-US" sz="1400" spc="-1" strike="noStrike">
                <a:solidFill>
                  <a:srgbClr val="e46c0a"/>
                </a:solidFill>
                <a:latin typeface="Arial"/>
              </a:rPr>
              <a:t>increment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668920" y="4402080"/>
            <a:ext cx="3303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d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o jogo é dividido em fases que representam as etapas de um processo clássico de concepção de produtos, podendo o jogador retornar a qualquer das fases já concluídas caso neces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920" y="6595920"/>
            <a:ext cx="22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</a:rPr>
              <a:t>gdrlab – UFPE  prof. andré ne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restricoes.png"/>
          <p:cNvPicPr/>
          <p:nvPr/>
        </p:nvPicPr>
        <p:blipFill>
          <a:blip r:embed="rId1"/>
          <a:stretch/>
        </p:blipFill>
        <p:spPr>
          <a:xfrm>
            <a:off x="6291360" y="3492360"/>
            <a:ext cx="2276280" cy="3162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encomenda.png"/>
          <p:cNvPicPr/>
          <p:nvPr/>
        </p:nvPicPr>
        <p:blipFill>
          <a:blip r:embed="rId2"/>
          <a:stretch/>
        </p:blipFill>
        <p:spPr>
          <a:xfrm>
            <a:off x="552600" y="193680"/>
            <a:ext cx="2276280" cy="316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objetivo.png"/>
          <p:cNvPicPr/>
          <p:nvPr/>
        </p:nvPicPr>
        <p:blipFill>
          <a:blip r:embed="rId3"/>
          <a:stretch/>
        </p:blipFill>
        <p:spPr>
          <a:xfrm>
            <a:off x="3421080" y="193680"/>
            <a:ext cx="2276280" cy="3160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publico.png"/>
          <p:cNvPicPr/>
          <p:nvPr/>
        </p:nvPicPr>
        <p:blipFill>
          <a:blip r:embed="rId4"/>
          <a:stretch/>
        </p:blipFill>
        <p:spPr>
          <a:xfrm>
            <a:off x="6291360" y="193680"/>
            <a:ext cx="2276280" cy="3160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restricoes.png"/>
          <p:cNvPicPr/>
          <p:nvPr/>
        </p:nvPicPr>
        <p:blipFill>
          <a:blip r:embed="rId5"/>
          <a:stretch/>
        </p:blipFill>
        <p:spPr>
          <a:xfrm>
            <a:off x="3421080" y="3492360"/>
            <a:ext cx="2276280" cy="3162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1"/>
          <p:cNvSpPr/>
          <p:nvPr/>
        </p:nvSpPr>
        <p:spPr>
          <a:xfrm>
            <a:off x="717480" y="870120"/>
            <a:ext cx="19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qui o tex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3575160" y="870120"/>
            <a:ext cx="19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qui o tex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6446880" y="870120"/>
            <a:ext cx="19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qui o tex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3575160" y="4156200"/>
            <a:ext cx="19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qui o tex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6446880" y="4156200"/>
            <a:ext cx="19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qui o tex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eo.png"/>
          <p:cNvPicPr/>
          <p:nvPr/>
        </p:nvPicPr>
        <p:blipFill>
          <a:blip r:embed="rId1"/>
          <a:stretch/>
        </p:blipFill>
        <p:spPr>
          <a:xfrm>
            <a:off x="401760" y="154080"/>
            <a:ext cx="2349360" cy="387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quipe de projeto.png"/>
          <p:cNvPicPr/>
          <p:nvPr/>
        </p:nvPicPr>
        <p:blipFill>
          <a:blip r:embed="rId2"/>
          <a:stretch/>
        </p:blipFill>
        <p:spPr>
          <a:xfrm>
            <a:off x="3213000" y="3498840"/>
            <a:ext cx="2387880" cy="317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executivos.png"/>
          <p:cNvPicPr/>
          <p:nvPr/>
        </p:nvPicPr>
        <p:blipFill>
          <a:blip r:embed="rId3"/>
          <a:stretch/>
        </p:blipFill>
        <p:spPr>
          <a:xfrm>
            <a:off x="120600" y="3511440"/>
            <a:ext cx="2882880" cy="3175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gerente de projeto.png"/>
          <p:cNvPicPr/>
          <p:nvPr/>
        </p:nvPicPr>
        <p:blipFill>
          <a:blip r:embed="rId4"/>
          <a:stretch/>
        </p:blipFill>
        <p:spPr>
          <a:xfrm>
            <a:off x="2781360" y="169920"/>
            <a:ext cx="31114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96800" y="249120"/>
            <a:ext cx="870120" cy="11588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87600" y="249120"/>
            <a:ext cx="869760" cy="11588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678040" y="249120"/>
            <a:ext cx="870120" cy="11588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288040" y="249120"/>
            <a:ext cx="868320" cy="11588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378480" y="249120"/>
            <a:ext cx="868320" cy="11588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96800" y="1546200"/>
            <a:ext cx="870120" cy="1160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1587600" y="1546200"/>
            <a:ext cx="869760" cy="1160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678040" y="1546200"/>
            <a:ext cx="870120" cy="1160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5288040" y="1546200"/>
            <a:ext cx="868320" cy="1160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6378480" y="1546200"/>
            <a:ext cx="868320" cy="1160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96800" y="2843280"/>
            <a:ext cx="870120" cy="116028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1587600" y="2843280"/>
            <a:ext cx="869760" cy="116028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2678040" y="2843280"/>
            <a:ext cx="870120" cy="116028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5288040" y="2843280"/>
            <a:ext cx="868320" cy="116028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6378480" y="2843280"/>
            <a:ext cx="868320" cy="116028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496800" y="4141800"/>
            <a:ext cx="870120" cy="11588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1587600" y="4141800"/>
            <a:ext cx="869760" cy="11588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2678040" y="4141800"/>
            <a:ext cx="870120" cy="11588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5288040" y="4141800"/>
            <a:ext cx="868320" cy="11588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6378480" y="4141800"/>
            <a:ext cx="868320" cy="11588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496800" y="5452920"/>
            <a:ext cx="870120" cy="1160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1587600" y="5452920"/>
            <a:ext cx="869760" cy="1160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4"/>
          <p:cNvSpPr/>
          <p:nvPr/>
        </p:nvSpPr>
        <p:spPr>
          <a:xfrm>
            <a:off x="2678040" y="5452920"/>
            <a:ext cx="870120" cy="1160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5"/>
          <p:cNvSpPr/>
          <p:nvPr/>
        </p:nvSpPr>
        <p:spPr>
          <a:xfrm>
            <a:off x="5288040" y="5452920"/>
            <a:ext cx="868320" cy="1160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6378480" y="5452920"/>
            <a:ext cx="868320" cy="1160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3989520" y="249120"/>
            <a:ext cx="869760" cy="6377040"/>
          </a:xfrm>
          <a:prstGeom prst="rect">
            <a:avLst/>
          </a:prstGeom>
          <a:solidFill>
            <a:srgbClr val="558ed5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96800" y="249120"/>
            <a:ext cx="1463760" cy="1951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325760" y="249120"/>
            <a:ext cx="1463760" cy="1951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240600" y="249120"/>
            <a:ext cx="1461960" cy="1951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7896240" y="249120"/>
            <a:ext cx="869760" cy="6377040"/>
          </a:xfrm>
          <a:prstGeom prst="rect">
            <a:avLst/>
          </a:prstGeom>
          <a:solidFill>
            <a:srgbClr val="ff0000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411280" y="249120"/>
            <a:ext cx="1463760" cy="1951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96800" y="2581200"/>
            <a:ext cx="1463760" cy="1951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325760" y="2581200"/>
            <a:ext cx="1463760" cy="1951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240600" y="2581200"/>
            <a:ext cx="1461960" cy="1951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2411280" y="2581200"/>
            <a:ext cx="1463760" cy="1951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62"/>
          <p:cNvSpPr/>
          <p:nvPr/>
        </p:nvSpPr>
        <p:spPr>
          <a:xfrm>
            <a:off x="8937720" y="3218040"/>
            <a:ext cx="206280" cy="206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9"/>
          <p:cNvSpPr/>
          <p:nvPr/>
        </p:nvSpPr>
        <p:spPr>
          <a:xfrm>
            <a:off x="8937720" y="6323040"/>
            <a:ext cx="206280" cy="20628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1"/>
          <p:cNvSpPr/>
          <p:nvPr/>
        </p:nvSpPr>
        <p:spPr>
          <a:xfrm>
            <a:off x="8935920" y="4764240"/>
            <a:ext cx="208080" cy="206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49440" y="235080"/>
            <a:ext cx="1199880" cy="1601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476600" y="235080"/>
            <a:ext cx="1202040" cy="1601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391440" y="235080"/>
            <a:ext cx="1201680" cy="1601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7896240" y="249120"/>
            <a:ext cx="869760" cy="6377040"/>
          </a:xfrm>
          <a:prstGeom prst="rect">
            <a:avLst/>
          </a:prstGeom>
          <a:solidFill>
            <a:srgbClr val="008000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563920" y="235080"/>
            <a:ext cx="1199880" cy="1601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49440" y="2568600"/>
            <a:ext cx="1199880" cy="1600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476600" y="2568600"/>
            <a:ext cx="1202040" cy="1600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391440" y="2568600"/>
            <a:ext cx="1201680" cy="1600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563920" y="2568600"/>
            <a:ext cx="1199880" cy="1600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4"/>
          <p:cNvSpPr/>
          <p:nvPr/>
        </p:nvSpPr>
        <p:spPr>
          <a:xfrm>
            <a:off x="8937720" y="2857680"/>
            <a:ext cx="206280" cy="206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5"/>
          <p:cNvSpPr/>
          <p:nvPr/>
        </p:nvSpPr>
        <p:spPr>
          <a:xfrm>
            <a:off x="8937720" y="5964120"/>
            <a:ext cx="206280" cy="20664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6"/>
          <p:cNvSpPr/>
          <p:nvPr/>
        </p:nvSpPr>
        <p:spPr>
          <a:xfrm>
            <a:off x="8935920" y="4403880"/>
            <a:ext cx="208080" cy="206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8937720" y="2513160"/>
            <a:ext cx="206280" cy="206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8"/>
          <p:cNvSpPr/>
          <p:nvPr/>
        </p:nvSpPr>
        <p:spPr>
          <a:xfrm>
            <a:off x="8937720" y="5619600"/>
            <a:ext cx="206280" cy="20664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9"/>
          <p:cNvSpPr/>
          <p:nvPr/>
        </p:nvSpPr>
        <p:spPr>
          <a:xfrm>
            <a:off x="8935920" y="4059360"/>
            <a:ext cx="208080" cy="206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0"/>
          <p:cNvSpPr/>
          <p:nvPr/>
        </p:nvSpPr>
        <p:spPr>
          <a:xfrm>
            <a:off x="8937720" y="2195640"/>
            <a:ext cx="206280" cy="206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1"/>
          <p:cNvSpPr/>
          <p:nvPr/>
        </p:nvSpPr>
        <p:spPr>
          <a:xfrm>
            <a:off x="8937720" y="5302080"/>
            <a:ext cx="206280" cy="20664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2"/>
          <p:cNvSpPr/>
          <p:nvPr/>
        </p:nvSpPr>
        <p:spPr>
          <a:xfrm>
            <a:off x="8935920" y="3741840"/>
            <a:ext cx="208080" cy="206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1352520" y="4527720"/>
            <a:ext cx="1601640" cy="1601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181480" y="4527720"/>
            <a:ext cx="1602000" cy="1601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3267000" y="4527720"/>
            <a:ext cx="1602000" cy="1601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649440" y="235080"/>
            <a:ext cx="1199880" cy="1601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476600" y="235080"/>
            <a:ext cx="1202040" cy="1601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391440" y="235080"/>
            <a:ext cx="1201680" cy="1601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7896240" y="249120"/>
            <a:ext cx="869760" cy="6377040"/>
          </a:xfrm>
          <a:prstGeom prst="rect">
            <a:avLst/>
          </a:prstGeom>
          <a:solidFill>
            <a:srgbClr val="660066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563920" y="235080"/>
            <a:ext cx="1199880" cy="1601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649440" y="2568600"/>
            <a:ext cx="1199880" cy="1600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76600" y="2568600"/>
            <a:ext cx="1202040" cy="1600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6391440" y="2568600"/>
            <a:ext cx="1201680" cy="1600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563920" y="2568600"/>
            <a:ext cx="1199880" cy="160020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1352520" y="4527720"/>
            <a:ext cx="1601640" cy="1601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5181480" y="4527720"/>
            <a:ext cx="1602000" cy="1601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3267000" y="4527720"/>
            <a:ext cx="1602000" cy="1601640"/>
          </a:xfrm>
          <a:prstGeom prst="rect">
            <a:avLst/>
          </a:prstGeom>
          <a:solidFill>
            <a:srgbClr val="ffffff"/>
          </a:solidFill>
          <a:ln w="3240">
            <a:solidFill>
              <a:srgbClr val="7f7f7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4"/>
          <p:cNvSpPr/>
          <p:nvPr/>
        </p:nvSpPr>
        <p:spPr>
          <a:xfrm>
            <a:off x="1463760" y="6207120"/>
            <a:ext cx="135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Pn  Pn  Pn  Pn  Pn  Pn Pn P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An  An  An  An An  An An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xx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3368520" y="6207120"/>
            <a:ext cx="135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Pn  Pn  Pn  Pn  Pn  Pn Pn P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An  An  An  An An  An An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xx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5288040" y="6207120"/>
            <a:ext cx="134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Pn  Pn  Pn  Pn  Pn  Pn Pn P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An  An  An  An An  An An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xx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2:05:45Z</dcterms:created>
  <dc:creator>andre neves</dc:creator>
  <dc:description/>
  <dc:language>en-US</dc:language>
  <cp:lastModifiedBy>andre neves</cp:lastModifiedBy>
  <dcterms:modified xsi:type="dcterms:W3CDTF">2009-08-25T12:24:14Z</dcterms:modified>
  <cp:revision>325</cp:revision>
  <dc:subject/>
  <dc:title>Slide 1</dc:title>
</cp:coreProperties>
</file>