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3.wmf" ContentType="image/x-wmf"/>
  <Override PartName="/ppt/media/image5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F887-905F-4363-86B1-4DA511A8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D61C-0559-44D3-B174-3D433D8B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BE68-AB0D-4D9C-AC9E-9ECBB9208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B93C-FC46-4795-AF0A-73F498CB5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A0DF-261F-4382-A675-CADFBCD2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D435-777C-4133-9AD2-2B24C91B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C7FC-BFED-4F4F-B64C-45FACB96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57B9-682F-4361-B725-397512C5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9238-F055-4C1E-AF36-AAD94FBE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9691-0B4C-4125-84AA-BACECD8E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1311-B4F4-4BEE-8D6B-E8CBFF67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F29D-8109-425B-A954-3BD35762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0B0C-78D7-4DA9-BBD0-ABF51E3D45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228600"/>
            <a:ext cx="8610480" cy="632448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00"/>
                </a:solidFill>
                <a:latin typeface="Book Antiqua"/>
              </a:rPr>
              <a:t>O</a:t>
            </a:r>
            <a:r>
              <a:rPr b="0" lang="pt-BR" sz="5400" spc="-1" strike="noStrike">
                <a:solidFill>
                  <a:srgbClr val="ffffff"/>
                </a:solidFill>
                <a:latin typeface="Book Antiqua"/>
              </a:rPr>
              <a:t>glond</a:t>
            </a:r>
            <a:br>
              <a:rPr sz="4400"/>
            </a:b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 odisséia de Grums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runo Jami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iogo Lin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F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rancisco Lim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G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ustavo Basto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odrigo Avella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lanço Geral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prendizado Técnico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C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++, POO e programação para Window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irect X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plicação prática de UM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nteligência artificial: Árvore de decisã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aint..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iversão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esvendar as técnicas para se fazer um bom jog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F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azer um jogo não é impossível!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ssíveis extensões do projeto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asso 1: Terminar o que foi proposto..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ovos personage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ovos monstro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ovos cenário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iálogos e NPC’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asso 2: Balanceamento do jog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asso 3: </a:t>
            </a:r>
            <a:r>
              <a:rPr b="0" lang="pt-BR" sz="4000" spc="-1" strike="noStrike">
                <a:solidFill>
                  <a:srgbClr val="ffff00"/>
                </a:solidFill>
                <a:latin typeface="Book Antiqua"/>
              </a:rPr>
              <a:t>O</a:t>
            </a:r>
            <a:r>
              <a:rPr b="0" lang="pt-BR" sz="4000" spc="-1" strike="noStrike">
                <a:solidFill>
                  <a:srgbClr val="ffffff"/>
                </a:solidFill>
                <a:latin typeface="Book Antiqua"/>
              </a:rPr>
              <a:t>glond</a:t>
            </a:r>
            <a:r>
              <a:rPr b="0" lang="pt-BR" sz="4000" spc="-1" strike="noStrike">
                <a:solidFill>
                  <a:srgbClr val="ffffff"/>
                </a:solidFill>
                <a:latin typeface="Comic Sans MS"/>
              </a:rPr>
              <a:t> 3D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rguntas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838080" y="3733920"/>
            <a:ext cx="7121520" cy="2732040"/>
            <a:chOff x="838080" y="3733920"/>
            <a:chExt cx="7121520" cy="2732040"/>
          </a:xfrm>
        </p:grpSpPr>
        <p:pic>
          <p:nvPicPr>
            <p:cNvPr id="45" name="ChronoShot" descr=""/>
            <p:cNvPicPr/>
            <p:nvPr/>
          </p:nvPicPr>
          <p:blipFill>
            <a:blip r:embed="rId1"/>
            <a:srcRect l="0" t="0" r="0" b="13279"/>
            <a:stretch/>
          </p:blipFill>
          <p:spPr>
            <a:xfrm>
              <a:off x="838080" y="3733920"/>
              <a:ext cx="3767400" cy="2392200"/>
            </a:xfrm>
            <a:prstGeom prst="rect">
              <a:avLst/>
            </a:prstGeom>
            <a:ln w="25560">
              <a:solidFill>
                <a:srgbClr val="ffffff"/>
              </a:solidFill>
              <a:miter/>
            </a:ln>
          </p:spPr>
        </p:pic>
        <p:pic>
          <p:nvPicPr>
            <p:cNvPr id="46" name="BofShot" descr=""/>
            <p:cNvPicPr/>
            <p:nvPr/>
          </p:nvPicPr>
          <p:blipFill>
            <a:blip r:embed="rId2"/>
            <a:srcRect l="9709" t="0" r="0" b="31227"/>
            <a:stretch/>
          </p:blipFill>
          <p:spPr>
            <a:xfrm>
              <a:off x="4038480" y="4114800"/>
              <a:ext cx="3921120" cy="2351160"/>
            </a:xfrm>
            <a:prstGeom prst="rect">
              <a:avLst/>
            </a:prstGeom>
            <a:ln w="25560">
              <a:solidFill>
                <a:srgbClr val="ffffff"/>
              </a:solidFill>
              <a:miter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ilo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do jogo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PG Clássico SNE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x: Chrono Trigger, Breath of Fire, Final Fantasy..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rincipal elemento: A história!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F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ocalizam as personalidades dos personage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roblema: </a:t>
            </a:r>
            <a:r>
              <a:rPr b="0" i="1" lang="pt-BR" sz="2400" spc="-1" strike="noStrike">
                <a:solidFill>
                  <a:srgbClr val="ffffff"/>
                </a:solidFill>
                <a:latin typeface="Comic Sans MS"/>
              </a:rPr>
              <a:t>replay value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 pob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367200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wcrono" descr=""/>
          <p:cNvPicPr/>
          <p:nvPr/>
        </p:nvPicPr>
        <p:blipFill>
          <a:blip r:embed="rId4"/>
          <a:stretch/>
        </p:blipFill>
        <p:spPr>
          <a:xfrm>
            <a:off x="0" y="4162320"/>
            <a:ext cx="1800360" cy="2695680"/>
          </a:xfrm>
          <a:prstGeom prst="rect">
            <a:avLst/>
          </a:prstGeom>
          <a:ln w="0">
            <a:noFill/>
          </a:ln>
        </p:spPr>
      </p:pic>
      <p:pic>
        <p:nvPicPr>
          <p:cNvPr id="51" name="katt" descr=""/>
          <p:cNvPicPr/>
          <p:nvPr/>
        </p:nvPicPr>
        <p:blipFill>
          <a:blip r:embed="rId5"/>
          <a:stretch/>
        </p:blipFill>
        <p:spPr>
          <a:xfrm>
            <a:off x="6681960" y="3200400"/>
            <a:ext cx="246204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lhasgemeas" descr=""/>
          <p:cNvPicPr/>
          <p:nvPr/>
        </p:nvPicPr>
        <p:blipFill>
          <a:blip r:embed="rId1">
            <a:lum bright="20000"/>
          </a:blip>
          <a:srcRect l="17498" t="5876" r="6999" b="2938"/>
          <a:stretch/>
        </p:blipFill>
        <p:spPr>
          <a:xfrm>
            <a:off x="380880" y="1371600"/>
            <a:ext cx="3375000" cy="48560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657240" y="1447920"/>
            <a:ext cx="5334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undo onde se passa o jogo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riginado por três divindades suprema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raham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eutralidade. Pai dos outros doi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lysian: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rdem. Venerada pelos humano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agnarok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C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aos. Venerado pelos kobold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Comic Sans MS"/>
              </a:rPr>
              <a:t>K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obolds e humanos vivem em guerra..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Comic Sans MS"/>
              </a:rPr>
              <a:t>C</a:t>
            </a:r>
            <a:r>
              <a:rPr b="0" lang="pt-BR" sz="4000" spc="-1" strike="noStrike">
                <a:solidFill>
                  <a:srgbClr val="ffffff"/>
                </a:solidFill>
                <a:latin typeface="Comic Sans MS"/>
              </a:rPr>
              <a:t>enário: </a:t>
            </a:r>
            <a:r>
              <a:rPr b="0" lang="pt-BR" sz="4000" spc="-1" strike="noStrike">
                <a:solidFill>
                  <a:srgbClr val="ffffff"/>
                </a:solidFill>
                <a:latin typeface="Book Antiqua"/>
              </a:rPr>
              <a:t>Oglond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grumsh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3082680" cy="48006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pt-BR" sz="4000" spc="-1" strike="noStrike">
                <a:solidFill>
                  <a:srgbClr val="ffffff"/>
                </a:solidFill>
                <a:latin typeface="Comic Sans MS"/>
              </a:rPr>
              <a:t>osso herói: Grumsh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Comic Sans MS"/>
              </a:rPr>
              <a:t>K</a:t>
            </a: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obolds: anatomi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Humanóides baixinhos e reptiliano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Pele roxa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Chifres, caud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Tendência sádica e covard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Comic Sans MS"/>
              </a:rPr>
              <a:t>G</a:t>
            </a: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rumsh é um herói da raça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8" name="grumshSmall" descr=""/>
          <p:cNvPicPr/>
          <p:nvPr/>
        </p:nvPicPr>
        <p:blipFill>
          <a:blip r:embed="rId4"/>
          <a:stretch/>
        </p:blipFill>
        <p:spPr>
          <a:xfrm>
            <a:off x="8077320" y="1523880"/>
            <a:ext cx="544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1219320"/>
            <a:ext cx="830592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23360" y="1527120"/>
            <a:ext cx="1938960" cy="2825640"/>
            <a:chOff x="423360" y="1527120"/>
            <a:chExt cx="1938960" cy="2825640"/>
          </a:xfrm>
        </p:grpSpPr>
        <p:pic>
          <p:nvPicPr>
            <p:cNvPr id="61" name="grumshTrash" descr=""/>
            <p:cNvPicPr/>
            <p:nvPr/>
          </p:nvPicPr>
          <p:blipFill>
            <a:blip r:embed="rId1"/>
            <a:srcRect l="0" t="6489" r="0" b="0"/>
            <a:stretch/>
          </p:blipFill>
          <p:spPr>
            <a:xfrm>
              <a:off x="685800" y="2278080"/>
              <a:ext cx="1676520" cy="20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23360" y="1527120"/>
              <a:ext cx="1145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Ator: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Grums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6626160" y="1601640"/>
            <a:ext cx="1908360" cy="2756160"/>
            <a:chOff x="6626160" y="1601640"/>
            <a:chExt cx="1908360" cy="2756160"/>
          </a:xfrm>
        </p:grpSpPr>
        <p:pic>
          <p:nvPicPr>
            <p:cNvPr id="64" name="princesaTrash" descr=""/>
            <p:cNvPicPr/>
            <p:nvPr/>
          </p:nvPicPr>
          <p:blipFill>
            <a:blip r:embed="rId2"/>
            <a:srcRect l="0" t="3245" r="0" b="3245"/>
            <a:stretch/>
          </p:blipFill>
          <p:spPr>
            <a:xfrm>
              <a:off x="6858000" y="2281320"/>
              <a:ext cx="1676520" cy="20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626160" y="1601640"/>
              <a:ext cx="173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Atriz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Princesa Zeld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pt-BR" sz="4000" spc="-1" strike="noStrike">
                <a:solidFill>
                  <a:srgbClr val="ffffff"/>
                </a:solidFill>
                <a:latin typeface="Comic Sans MS"/>
              </a:rPr>
              <a:t>rama: esquema trash-i*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7" name="grumshTrash2" descr=""/>
          <p:cNvPicPr/>
          <p:nvPr/>
        </p:nvPicPr>
        <p:blipFill>
          <a:blip r:embed="rId3"/>
          <a:srcRect l="0" t="6489" r="0" b="0"/>
          <a:stretch/>
        </p:blipFill>
        <p:spPr>
          <a:xfrm>
            <a:off x="685800" y="2276640"/>
            <a:ext cx="1676520" cy="2076120"/>
          </a:xfrm>
          <a:prstGeom prst="rect">
            <a:avLst/>
          </a:prstGeom>
          <a:ln w="0">
            <a:noFill/>
          </a:ln>
        </p:spPr>
      </p:pic>
      <p:pic>
        <p:nvPicPr>
          <p:cNvPr id="68" name="princesaTrash2" descr=""/>
          <p:cNvPicPr/>
          <p:nvPr/>
        </p:nvPicPr>
        <p:blipFill>
          <a:blip r:embed="rId4"/>
          <a:srcRect l="0" t="3245" r="0" b="3245"/>
          <a:stretch/>
        </p:blipFill>
        <p:spPr>
          <a:xfrm>
            <a:off x="6858000" y="2286000"/>
            <a:ext cx="1676520" cy="207648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2819520" y="3049560"/>
            <a:ext cx="3733560" cy="368280"/>
            <a:chOff x="2819520" y="3049560"/>
            <a:chExt cx="3733560" cy="368280"/>
          </a:xfrm>
        </p:grpSpPr>
        <p:sp>
          <p:nvSpPr>
            <p:cNvPr id="70" name=""/>
            <p:cNvSpPr/>
            <p:nvPr/>
          </p:nvSpPr>
          <p:spPr>
            <a:xfrm>
              <a:off x="2819520" y="3352680"/>
              <a:ext cx="37335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74640" y="3049560"/>
              <a:ext cx="206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Sequestrar Zelda!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514600" y="1676520"/>
            <a:ext cx="3124080" cy="1143000"/>
            <a:chOff x="2514600" y="1676520"/>
            <a:chExt cx="3124080" cy="1143000"/>
          </a:xfrm>
        </p:grpSpPr>
        <p:sp>
          <p:nvSpPr>
            <p:cNvPr id="73" name=""/>
            <p:cNvSpPr/>
            <p:nvPr/>
          </p:nvSpPr>
          <p:spPr>
            <a:xfrm flipV="1">
              <a:off x="2514600" y="2286000"/>
              <a:ext cx="838080" cy="5335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05320" y="1676520"/>
              <a:ext cx="2133360" cy="1066680"/>
            </a:xfrm>
            <a:prstGeom prst="flowChartAlternateProcess">
              <a:avLst/>
            </a:prstGeom>
            <a:solidFill>
              <a:srgbClr val="00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Objetivos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ffff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er o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herói da trib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5105520" y="4572000"/>
            <a:ext cx="3429000" cy="1752480"/>
            <a:chOff x="5105520" y="4572000"/>
            <a:chExt cx="3429000" cy="1752480"/>
          </a:xfrm>
        </p:grpSpPr>
        <p:sp>
          <p:nvSpPr>
            <p:cNvPr id="76" name=""/>
            <p:cNvSpPr/>
            <p:nvPr/>
          </p:nvSpPr>
          <p:spPr>
            <a:xfrm flipV="1">
              <a:off x="6858360" y="4572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105520" y="5410080"/>
              <a:ext cx="3429000" cy="914400"/>
            </a:xfrm>
            <a:prstGeom prst="foldedCorner">
              <a:avLst>
                <a:gd name="adj" fmla="val 12500"/>
              </a:avLst>
            </a:prstGeom>
            <a:solidFill>
              <a:srgbClr val="00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Parâmetro desconhecid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A princesa é uma BRUXA!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2362320" y="3583080"/>
            <a:ext cx="4419360" cy="368280"/>
            <a:chOff x="2362320" y="3583080"/>
            <a:chExt cx="4419360" cy="368280"/>
          </a:xfrm>
        </p:grpSpPr>
        <p:sp>
          <p:nvSpPr>
            <p:cNvPr id="79" name=""/>
            <p:cNvSpPr/>
            <p:nvPr/>
          </p:nvSpPr>
          <p:spPr>
            <a:xfrm flipH="1">
              <a:off x="2362320" y="3886200"/>
              <a:ext cx="44193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647440" y="3583080"/>
              <a:ext cx="372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Transforma Grumsh em human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33520" y="4419720"/>
            <a:ext cx="3124080" cy="1980720"/>
            <a:chOff x="533520" y="4419720"/>
            <a:chExt cx="3124080" cy="1980720"/>
          </a:xfrm>
        </p:grpSpPr>
        <p:sp>
          <p:nvSpPr>
            <p:cNvPr id="82" name=""/>
            <p:cNvSpPr/>
            <p:nvPr/>
          </p:nvSpPr>
          <p:spPr>
            <a:xfrm>
              <a:off x="1828800" y="4419720"/>
              <a:ext cx="0" cy="9140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3520" y="5410080"/>
              <a:ext cx="3124080" cy="990360"/>
            </a:xfrm>
            <a:prstGeom prst="flowChartAlternateProcess">
              <a:avLst/>
            </a:prstGeom>
            <a:solidFill>
              <a:srgbClr val="00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Objetivos Corrigido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1.Voltar a sua form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2. Se vingar da bruxa!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ama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lots paralelo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rgulho e preconceito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Comic Sans MS"/>
              </a:rPr>
              <a:t>C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atástrofe Global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stouro da guerra entre kobolds e humano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ibertação acidental dos Trom: Raça ancestral malign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F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ilosofia Grumsh: “o mundo está acabando. E quem se importa?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ficuldades de implementação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rogramação C++ para o Window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rientação a Objeto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arte lógica – ok..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arte gráfica – não..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idar com DirectX 7.0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ificuldade de input: teclado x mous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ocumentação rui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ebug no modo gráfico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udanças na especificação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empo--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colhas important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iles como objeto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Comic Sans MS"/>
              </a:rPr>
              <a:t>F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acilita na detecção de colisão e eventos tile – sprit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ontagem dinâmica: 1 tile = 4 subtile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conomia de espaço no tileset: 8 tiles x 16 tiles cada transição entre 2 terreno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ão uso do mouse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ouse não presente nos jogos em que 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Oglond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 se basei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ão é tão necessário assim..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4572000"/>
            <a:ext cx="2438280" cy="18669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sultados obtido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la de statu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eração personagem ambiente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lisõ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ú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talha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nstros inteligent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la de batalh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ibição dos mapas de entrada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57200" y="4572000"/>
            <a:ext cx="4738680" cy="1838160"/>
            <a:chOff x="457200" y="4572000"/>
            <a:chExt cx="4738680" cy="1838160"/>
          </a:xfrm>
        </p:grpSpPr>
        <p:pic>
          <p:nvPicPr>
            <p:cNvPr id="94" name="mapaChar" descr=""/>
            <p:cNvPicPr/>
            <p:nvPr/>
          </p:nvPicPr>
          <p:blipFill>
            <a:blip r:embed="rId6"/>
            <a:stretch/>
          </p:blipFill>
          <p:spPr>
            <a:xfrm>
              <a:off x="457200" y="4572000"/>
              <a:ext cx="2438280" cy="183816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95" name=""/>
            <p:cNvSpPr/>
            <p:nvPr/>
          </p:nvSpPr>
          <p:spPr>
            <a:xfrm>
              <a:off x="3049200" y="510552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ourier New"/>
                </a:rPr>
                <a:t>+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6" name="tiesetShot" descr=""/>
            <p:cNvPicPr/>
            <p:nvPr/>
          </p:nvPicPr>
          <p:blipFill>
            <a:blip r:embed="rId7"/>
            <a:stretch/>
          </p:blipFill>
          <p:spPr>
            <a:xfrm>
              <a:off x="3733560" y="4572000"/>
              <a:ext cx="1462320" cy="182880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</p:grpSp>
      <p:grpSp>
        <p:nvGrpSpPr>
          <p:cNvPr id="97" name=""/>
          <p:cNvGrpSpPr/>
          <p:nvPr/>
        </p:nvGrpSpPr>
        <p:grpSpPr>
          <a:xfrm>
            <a:off x="5486400" y="4572000"/>
            <a:ext cx="3276720" cy="1903320"/>
            <a:chOff x="5486400" y="4572000"/>
            <a:chExt cx="3276720" cy="1903320"/>
          </a:xfrm>
        </p:grpSpPr>
        <p:sp>
          <p:nvSpPr>
            <p:cNvPr id="98" name=""/>
            <p:cNvSpPr/>
            <p:nvPr/>
          </p:nvSpPr>
          <p:spPr>
            <a:xfrm>
              <a:off x="5486400" y="5410080"/>
              <a:ext cx="6858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screenshot" descr=""/>
            <p:cNvPicPr/>
            <p:nvPr/>
          </p:nvPicPr>
          <p:blipFill>
            <a:blip r:embed="rId8"/>
            <a:stretch/>
          </p:blipFill>
          <p:spPr>
            <a:xfrm>
              <a:off x="6477120" y="4572000"/>
              <a:ext cx="2286000" cy="19033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</p:grpSp>
      <p:sp>
        <p:nvSpPr>
          <p:cNvPr id="100" name=""/>
          <p:cNvSpPr/>
          <p:nvPr/>
        </p:nvSpPr>
        <p:spPr>
          <a:xfrm>
            <a:off x="258120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1T20:46:05Z</dcterms:created>
  <dc:creator>glr</dc:creator>
  <dc:description/>
  <dc:language>en-US</dc:language>
  <cp:lastModifiedBy>bjs</cp:lastModifiedBy>
  <dcterms:modified xsi:type="dcterms:W3CDTF">2002-05-08T18:43:55Z</dcterms:modified>
  <cp:revision>18</cp:revision>
  <dc:subject/>
  <dc:title>Título do projeto</dc:title>
</cp:coreProperties>
</file>