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91E6-BAC0-4FE7-A5A1-3B9410FDF0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e vim aqui apresentar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ominio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rigem do Nome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088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ender e não descr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gente planeja um jogo que a pessoa fique la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rudado no computador.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sso unio elementos dos generos mais vic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gente planeja um jogo que combina esses do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 estrategia onde um grupo de elite vai comba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crime em diferentes missoes. Ele vai estar disponi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 versoes mono e mul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dois generos são viciantes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gente planeja desenvolver jogos para que as pessoa fique la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rudado no computad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uais sáo os generos que fazem iss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hegamos em estrategia e RPG. Unimos os do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colhendo o que há de melhor em cada um de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safio a falar de algum jogo que esses dois n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enham jogado e saibam anali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s empresas de jogos tende para facilitar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senvolvimento de seus produ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qui em recife, formacao do J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ão detalhar sig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publisher e responsavel p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mercializacao do prod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s temos um plano de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cada um deles e podemos entrar 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talhes se necess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8088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ender e não descr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gente planeja um jogo que a pessoa fique la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rudado no computador.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sso unio elementos dos generos mais vic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gente planeja um jogo que combina esses do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 estrategia onde um grupo de elite vai comba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crime em diferentes missoes. Ele vai estar disponi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 versoes mono e mul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075-EBB8-4A48-AF48-CD6C1B49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8AC-F79E-487F-A037-27520086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B8B-849D-4C72-B628-54112850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E90-F2F0-4982-9640-7447FA97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C854-439D-4886-8124-7587C40A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C3BC-51C3-4741-93F6-2EACB33B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6735-54E7-4B6F-9FFF-8A533080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D3E1-AF87-4D52-877D-CBDAF8DB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7088-8B2D-41EB-B464-D4B8DC10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69640" y="264456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632A-C639-4147-9FDC-AFE330AD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017F-06F9-4C80-ACED-711430CD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E71-BA77-4359-8264-2FD32C0A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FCEE-2740-485C-87B8-C64E7FC3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B690-0A4B-422D-9D3A-1DACCEB9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0EFB-C3E5-437C-9D33-F681AC26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3A0D-0E9B-438C-84DC-CC5E0327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D0D6-4A4F-4E23-A271-5CE0E82A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BC9-157F-4A4E-9A77-CF598DC3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600-A67D-4C61-925C-41EF2201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2EC-38E4-42F0-A930-0B18F1E8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69640" y="264456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025-3041-4BFF-9F5E-E999CF7D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18D-5A24-4F55-B56D-6A9D79CB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38AA-141E-4639-B926-7A262C4D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95B-37E1-4CA3-B239-582B2F12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3" marL="1342800" indent="-21456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4" marL="1665000" indent="-21456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8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8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8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F194-605D-41A7-9F45-D1D93145B698}" type="slidenum">
              <a:rPr b="0" lang="pt-BR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99"/>
                </a:solidFill>
                <a:latin typeface="Arial Black"/>
              </a:rPr>
              <a:t>Click to edit the title text format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7435800" y="114480"/>
            <a:ext cx="138132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38080" y="609480"/>
            <a:ext cx="792504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808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264440" y="206280"/>
            <a:ext cx="1752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PT" sz="1200" spc="-1" strike="noStrike">
                <a:solidFill>
                  <a:srgbClr val="ffffff"/>
                </a:solidFill>
                <a:latin typeface="Arial Black"/>
              </a:rPr>
              <a:t>www.vixia.com.b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1009-744A-42C1-B5AD-2BE3F3FF07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1169640" y="264456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3017880" y="373212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8720" y="247320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3" marL="120024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6666"/>
              </a:solidFill>
              <a:latin typeface="Arial Black"/>
            </a:endParaRPr>
          </a:p>
          <a:p>
            <a:pPr lvl="4" marL="1542960" algn="ctr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006666"/>
              </a:solidFill>
              <a:latin typeface="Arial Black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006666"/>
              </a:solidFill>
              <a:latin typeface="Arial Black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0066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PT" sz="1400" spc="-1" strike="noStrike">
                <a:solidFill>
                  <a:srgbClr val="ffffff"/>
                </a:solidFill>
                <a:latin typeface="Arial Black"/>
              </a:rPr>
              <a:t>www.vixia.com.br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logo" descr=""/>
          <p:cNvPicPr/>
          <p:nvPr/>
        </p:nvPicPr>
        <p:blipFill>
          <a:blip r:embed="rId1"/>
          <a:stretch/>
        </p:blipFill>
        <p:spPr>
          <a:xfrm>
            <a:off x="3657600" y="2828880"/>
            <a:ext cx="2133720" cy="46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21B5-167D-42D6-95C5-6F77D718A6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Agradecimentos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Geber 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Borje Karlsson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Amigos da sala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Giordano e Bel (D’Accord)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Nossas famílias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B4A-9345-4EAA-926D-4B89D05AF3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PT" sz="1400" spc="-1" strike="noStrike">
                <a:solidFill>
                  <a:srgbClr val="ffffff"/>
                </a:solidFill>
                <a:latin typeface="Arial Black"/>
              </a:rPr>
              <a:t>www.vixia.com.br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logo" descr=""/>
          <p:cNvPicPr/>
          <p:nvPr/>
        </p:nvPicPr>
        <p:blipFill>
          <a:blip r:embed="rId1"/>
          <a:stretch/>
        </p:blipFill>
        <p:spPr>
          <a:xfrm>
            <a:off x="3657600" y="2828880"/>
            <a:ext cx="2133720" cy="46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9421-1C46-4D25-9E29-143C4DBC13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Equipe de desenvolvimento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Hedlena Bezerra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Matheus Cabral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Paulo Gonçalves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Suzana Mesquita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62E-E55C-42ED-9A53-898C620C43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4475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pt-BR" sz="6600" spc="-1" strike="noStrike">
                <a:solidFill>
                  <a:srgbClr val="006666"/>
                </a:solidFill>
                <a:latin typeface="Arial Black"/>
              </a:rPr>
              <a:t>rganized</a:t>
            </a:r>
            <a:r>
              <a:rPr b="0" lang="pt-BR" sz="6600" spc="-1" strike="noStrike">
                <a:solidFill>
                  <a:srgbClr val="006666"/>
                </a:solidFill>
                <a:latin typeface="Arial Black"/>
              </a:rPr>
              <a:t>      </a:t>
            </a:r>
            <a:endParaRPr b="0" lang="en-US" sz="66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pt-BR" sz="6600" spc="-1" strike="noStrike">
                <a:solidFill>
                  <a:srgbClr val="006666"/>
                </a:solidFill>
                <a:latin typeface="Arial Black"/>
              </a:rPr>
              <a:t>rime </a:t>
            </a:r>
            <a:r>
              <a:rPr b="0" i="1" lang="pt-BR" sz="6600" spc="-1" strike="noStrike">
                <a:solidFill>
                  <a:srgbClr val="006666"/>
                </a:solidFill>
                <a:latin typeface="Arial Black"/>
              </a:rPr>
              <a:t>	</a:t>
            </a:r>
            <a:endParaRPr b="0" lang="en-US" sz="66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Arial Black"/>
              </a:rPr>
              <a:t>C</a:t>
            </a:r>
            <a:r>
              <a:rPr b="0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pt-BR" sz="6600" spc="-1" strike="noStrike">
                <a:solidFill>
                  <a:srgbClr val="006666"/>
                </a:solidFill>
                <a:latin typeface="Arial Black"/>
              </a:rPr>
              <a:t>ombat</a:t>
            </a:r>
            <a:endParaRPr b="0" lang="en-US" sz="66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pt-BR" sz="40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0" i="1" lang="pt-BR" sz="6600" spc="-1" strike="noStrike">
                <a:solidFill>
                  <a:srgbClr val="006666"/>
                </a:solidFill>
                <a:latin typeface="Arial Black"/>
              </a:rPr>
              <a:t>rganization</a:t>
            </a:r>
            <a:endParaRPr b="0" lang="en-US" sz="6600" spc="-1" strike="noStrike">
              <a:solidFill>
                <a:srgbClr val="006666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162920" y="1828800"/>
          <a:ext cx="10206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1828800"/>
                    <a:ext cx="1020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772-8C11-4554-BC91-6D4BBCC63C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Game design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Num mundo corrompido pela violência, empresas fortes se juntam e criam a OCCO. O grupo de elite é designado a diversas regiões do mundo a fim de solucionar problemas locais. 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Mistura de Estratégia, RPG e ação. A idéia consiste em fazer commandos (Gráfico fuderoso) com maior jogabilidade (ação) e elementos de RPG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89E-F18B-41AB-860E-0CCF164562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Implementação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85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Dificuldades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Tempo de desenvolvimento</a:t>
            </a: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Processamento da entrada</a:t>
            </a: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 (</a:t>
            </a:r>
            <a:r>
              <a:rPr b="0" i="1" lang="pt-BR" sz="2800" spc="-1" strike="noStrike">
                <a:solidFill>
                  <a:srgbClr val="006666"/>
                </a:solidFill>
                <a:latin typeface="Arial Black"/>
              </a:rPr>
              <a:t>mouse</a:t>
            </a: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Modelagem 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Gerenciador gráfico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Ordenação dos objetos gráficos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Dificuldade de </a:t>
            </a:r>
            <a:r>
              <a:rPr b="0" i="1" lang="pt-BR" sz="28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debugging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CBD-251B-476C-A958-BF9330700A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Implementação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Principais decisões tomadas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Arquitetura antes de implementar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Detalhamento maior do </a:t>
            </a:r>
            <a:r>
              <a:rPr b="0" i="1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Game Design</a:t>
            </a:r>
            <a:r>
              <a:rPr b="0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 ajudou no entendimento do conceito do jogo por cada membro da equipe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Implementação da IA mínima para sobreviver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O tipo de mapa de </a:t>
            </a:r>
            <a:r>
              <a:rPr b="0" i="1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tiles</a:t>
            </a:r>
            <a:r>
              <a:rPr b="0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 (</a:t>
            </a:r>
            <a:r>
              <a:rPr b="0" i="1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staggered</a:t>
            </a:r>
            <a:r>
              <a:rPr b="0" lang="pt-BR" sz="2400" spc="-1" strike="noStrike">
                <a:solidFill>
                  <a:srgbClr val="006666"/>
                </a:solidFill>
                <a:latin typeface="Arial Black"/>
                <a:ea typeface="Times New Roman"/>
              </a:rPr>
              <a:t>) foi o mais apropriado ao jogo uma vez que o recorte é mínimo em relação aos outros tipos.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AA2-6179-4FD0-8D54-CC44FEE20B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Resultados obtidos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2,5D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Gráfico muito bom (eu acho)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Detecção de colisão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Inimigo um pouco inteligente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Interação com </a:t>
            </a:r>
            <a:r>
              <a:rPr b="0" i="1" lang="pt-BR" sz="3200" spc="-1" strike="noStrike">
                <a:solidFill>
                  <a:srgbClr val="006666"/>
                </a:solidFill>
                <a:latin typeface="Arial Black"/>
              </a:rPr>
              <a:t>mouse</a:t>
            </a: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 e teclado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 Black"/>
              </a:rPr>
              <a:t>Trilha e efeitos sonoros</a:t>
            </a: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CEF-A9A9-4E0C-8123-0731664505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Conclusões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Fazer um jogo fuderoso necessita: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	</a:t>
            </a: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[(tempo + coragem + grupo)]</a:t>
            </a:r>
            <a:r>
              <a:rPr b="0" lang="pt-BR" sz="2800" spc="-1" strike="noStrike" baseline="30000">
                <a:solidFill>
                  <a:srgbClr val="006666"/>
                </a:solidFill>
                <a:latin typeface="Arial Black"/>
              </a:rPr>
              <a:t>2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Impossível fazer um jogo sem dividir os problemas por especialidade de cada membro da equipe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66"/>
                </a:solidFill>
                <a:latin typeface="Arial Black"/>
              </a:rPr>
              <a:t>Game Design</a:t>
            </a: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 é tudo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Para terminar, é necessário tempo e estudo no DirectX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278-2945-48E4-8482-5B7CB1C696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91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6699"/>
                </a:solidFill>
                <a:latin typeface="Arial Black"/>
              </a:rPr>
              <a:t>Conclusões</a:t>
            </a:r>
            <a:endParaRPr b="0" i="1" lang="en-US" sz="3600" spc="-1" strike="noStrike">
              <a:solidFill>
                <a:srgbClr val="006699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985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Engenharia de software e boa programação ajudam no desenvolvimento e manutenção do projeto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 Black"/>
              </a:rPr>
              <a:t>Alguns problemas relativos às aulas: </a:t>
            </a:r>
            <a:endParaRPr b="0" lang="en-US" sz="28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6666"/>
                </a:solidFill>
                <a:latin typeface="Arial Black"/>
              </a:rPr>
              <a:t>Clipping</a:t>
            </a: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 em directx não visto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Aula de isométrico só no fim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Faltam exemplos de estrutura de projeto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66"/>
                </a:solidFill>
                <a:latin typeface="Arial Black"/>
              </a:rPr>
              <a:t>Algumas aulas não eram claras, ou seja, pouco tempo para muito assunto</a:t>
            </a: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7C6-A115-416C-9E43-DF788BCCC3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22:11:26Z</dcterms:created>
  <dc:creator>mc</dc:creator>
  <dc:description/>
  <dc:language>en-US</dc:language>
  <cp:lastModifiedBy>smbm</cp:lastModifiedBy>
  <dcterms:modified xsi:type="dcterms:W3CDTF">2002-05-08T13:13:20Z</dcterms:modified>
  <cp:revision>73</cp:revision>
  <dc:subject/>
  <dc:title>Vixia</dc:title>
</cp:coreProperties>
</file>