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57F-D683-4567-BC4D-E704F5E4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746160"/>
            <a:ext cx="69343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308-D589-4B33-80FF-1C22688D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74616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200" y="374616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041-7AB0-437A-8A37-87907BED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7680" y="167652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2360" y="167652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74616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7680" y="374616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2360" y="3746160"/>
            <a:ext cx="2232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CC5-251D-4D7F-AF49-36AF772A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19F-2336-4A29-967A-6BF9AA4B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605-C85D-454B-A3C0-74BF861E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592-DB92-4149-8CD3-17F06486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22B-4402-4284-AD9E-5BD92C76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32A-DC01-4742-8E52-DBB38D56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74616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DD7-EB6F-42E0-86B2-6B2B45D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200" y="374616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29E-CDD4-4A93-A96B-746C3F85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200" y="1676520"/>
            <a:ext cx="33836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746160"/>
            <a:ext cx="69343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55F-8F54-4CA2-A0DC-4F57DBB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bertur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716-8709-49DA-9C5B-C75C429BE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temp/ce/capitaoerico.exe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c7b9a"/>
                </a:solidFill>
                <a:latin typeface="Verdana"/>
              </a:rPr>
              <a:t>Capitão Érico – Na Batalha Contra os Zorgs</a:t>
            </a:r>
            <a:endParaRPr b="0" lang="en-US" sz="18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André Ne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Leopoldo Franç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Márcio Dah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Rodrigo Pedro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7b9a"/>
                </a:solidFill>
                <a:latin typeface="Verdana"/>
              </a:rPr>
              <a:t>Wanderley Cansanç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Game design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apitão Érico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Verdana"/>
              </a:rPr>
              <a:t>Asteroids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0" i="1" lang="pt-BR" sz="2000" spc="-1" strike="noStrike">
                <a:solidFill>
                  <a:srgbClr val="ffffff"/>
                </a:solidFill>
                <a:latin typeface="Verdana"/>
              </a:rPr>
              <a:t>Wing Commander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ncebido para os gamers dos anos 8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É um jogo de batalha espacial,com um toque de aventura,exigindo habilidade do jogado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2 jogadores (Capitão Érico e Tenente J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Gráficos 2D com visão em 3a. Pesso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Implementação I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incipais decisões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mplementação de um motor para facilitar a implementação do jog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rototipagem inic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odelagem Física do espaç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Fazer um jogo multiplayer “adiando” o uso de re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Implementação II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Dificuldades encontradas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nstruir um “motor” independente de tecnolog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Renderização de gráficos 2D com DirectX 8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ntegração com Flas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Temp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TEMP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Implementação III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6934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aracterísticas do Motor 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2D (não baseado em til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ndependente de tecnologia (interfac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rawing aninhado (Câmera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odelagem físi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A e Rede como entr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Level design baseado em XML (não concluído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Implementação IV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Características do Jog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Pau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Modelagem física leg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Se atirar muito descarrega a ar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Um herói pode atingir o out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m alta velocid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Resultados obtidos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tor quase totalmente implementa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go com todos os recursos implementados(som, input, IA, gráficos, detecção de colisão etc.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enas a primeira fase foi implement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Querem ver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Conclusões e Trabalhos futuros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Fazer um motor é complicado mas simplifica enormemente o trabalho de implementação do jog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É sempre bom orientar a objetos e usar padrões de proje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timizar basta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rawing e audio em OpenGL Open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igrar o motor para Linu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7b9a"/>
                </a:solidFill>
                <a:latin typeface="Verdana"/>
              </a:rPr>
              <a:t>Sugestões para a disciplina</a:t>
            </a:r>
            <a:endParaRPr b="0" lang="en-US" sz="2400" spc="-1" strike="noStrike">
              <a:solidFill>
                <a:srgbClr val="5c7b9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enos foco em DirectX, mais foco em como se program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um jogo. Programar a lógica do jogo orientada a obje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é fácil. O problema surge quando se deseja integrar as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lógica com a interface tecnológica (nosso caso DirectX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alvez a pergunta mais importante para fazer aqui sej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omo criar um MVC (</a:t>
            </a: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model, view, controller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) para 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jogo? A aula do motor poderia ajudar bastante nes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arefa, mas a foi muito rápid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Outro ponto é a necessidade de uma uma aula sob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Verdana"/>
              </a:rPr>
              <a:t>Debugging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usando DirectX. Achamos que todas a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quipes sentiram essa dificuld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0:46:05Z</dcterms:created>
  <dc:creator>glr</dc:creator>
  <dc:description/>
  <dc:language>en-US</dc:language>
  <cp:lastModifiedBy>hps</cp:lastModifiedBy>
  <dcterms:modified xsi:type="dcterms:W3CDTF">2002-05-13T16:43:10Z</dcterms:modified>
  <cp:revision>21</cp:revision>
  <dc:subject/>
  <dc:title>Título do projeto</dc:title>
</cp:coreProperties>
</file>