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A4A9-72D0-46DF-A011-51C3EA34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5719-1964-44C8-9CFC-2E7DCF2B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FB4C-DC5E-4D13-879A-28E0D4D4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56B3-36CF-4DD7-B30A-E9E39981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6429-7CD8-44EF-8F5A-2F54F93C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B3B6-7B82-4606-A7DC-466C57B6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70DD-2D12-4AA9-886B-DA8E3A6B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D0F3-D3EC-4611-AA30-A9035574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AF3F-8166-43EE-BB5B-01A1EDE1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9624-4F82-48F3-AB79-7660644D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4FF5-0A65-4979-A429-98D7DCFC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1DBC-190A-4400-B6BB-3071AD7C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AD26-5398-486C-9FB8-A799AB91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DFE9-C540-42AD-8923-FAA716F5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8C7F-2E54-4B49-93B8-25FA00B6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D364-D6CC-4E90-8DB2-88E328E3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4A40-024B-4A04-A689-741042DC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FC98-9911-4303-A660-06590AD0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1621-463E-45BB-8F84-B548B351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868C-C4C2-4019-9FA9-E864709F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A3C5-CD06-4F6D-83AC-7EBD0830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5C94-9F61-4E21-8E03-E4258958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38DC-4ACB-4A50-9D27-4EC78125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F41E-BA82-4433-AE1E-2CFCF3DC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FB2A-C2B1-486F-A36A-3CFABDF2B7F0}" type="slidenum">
              <a:rPr b="0" lang="pt-BR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79B8-BF03-4A55-965B-6DDD0FF7A55E}" type="slidenum"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Times New Roman"/>
              </a:rPr>
              <a:t>Projeto e Implementação de Jogo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00264c"/>
                </a:solidFill>
                <a:latin typeface="Monotype Corsiva"/>
              </a:rPr>
              <a:t>Os Cangaceiros</a:t>
            </a:r>
            <a:endParaRPr b="0" lang="en-US" sz="8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Equipe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Jean Charles Bulinckx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Manoel Frederico Moreira Junio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Implementar um jog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Aprender Direct X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Visual C++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Conceitos de Game Desig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Times New Roman"/>
              </a:rPr>
              <a:t>Problemas encontrados</a:t>
            </a:r>
            <a:r>
              <a:rPr b="0" lang="pt-BR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Prazo curt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DirectX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Poucos algoritmos de IA para jogo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Falta de textos de referênci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Não seguir o game design origina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Problemas de equip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Times New Roman"/>
              </a:rPr>
              <a:t>Conclusõ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Não adianta especificar o software se você alterar o Game Desig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Fazer qualquer joguinho exige MUITO trabalh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DirectX é uma bala pra desenhar e um c.n.c. pra programa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Times New Roman"/>
              </a:rPr>
              <a:t>Nosso Jog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Estratégia + RPG (não implementadas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Civilizatio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Pirates Gold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Master of Magic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Warcraf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Times New Roman"/>
              </a:rPr>
              <a:t>Sinops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No sertão do Nordeste na década de 20 o jogador deve encarnar o líder de um bando de cangaceiros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Ele irá enfrentar volantes, coronéis e a caating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Diplomacia também será um ponto chave quando ele se encontrar NPC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Times New Roman"/>
              </a:rPr>
              <a:t>Objetivos do jog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Aumentar o band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Acumular riqueza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Fugir das volant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Ficar famoso até se tornar uma </a:t>
            </a:r>
            <a:r>
              <a:rPr b="0" lang="pt-BR" sz="3600" spc="-1" strike="noStrike">
                <a:solidFill>
                  <a:srgbClr val="00264c"/>
                </a:solidFill>
                <a:latin typeface="Times New Roman"/>
              </a:rPr>
              <a:t>LENDA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18:14:30Z</dcterms:created>
  <dc:creator>jcb</dc:creator>
  <dc:description/>
  <dc:language>en-US</dc:language>
  <cp:lastModifiedBy>jcb</cp:lastModifiedBy>
  <dcterms:modified xsi:type="dcterms:W3CDTF">2002-05-10T14:16:52Z</dcterms:modified>
  <cp:revision>11</cp:revision>
  <dc:subject/>
  <dc:title>Projeto de Jogos</dc:title>
</cp:coreProperties>
</file>