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50532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686800"/>
            <a:ext cx="327672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657600" y="8686800"/>
            <a:ext cx="32004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E7BD-C8A7-4F88-9B20-54279BEA1C60}" type="slidenum">
              <a:rPr b="0" lang="pt-B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reqüentemente, os apresentadores têm que mostrar um material de natureza técnica para um público que não está familiarizado com o tópico nem com o vocabulário. O material pode ser complexo ou cheio de detalhes. Para apresentar o material eficientemente, use as seguintes diretrizes da Dale Carnegi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nsidere o tempo disponível e prepare-se para organizar seu material. Divida sua apresentação em segmentos claros. Siga uma progressão lógica. Mantenha seu foco constantemente. Feche a apresentação com um resumo, repetição das etapas-chave ou uma conclusão lóg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embre-se do público constantemente. Por exemplo, certifique-se de que os dados estejam claros e que as informações sejam relevantes. Mantenha o nível de detalhes e vocabulário apropriados ao público.  Use recursos visuais para dar suporte a etapas ou pontos-chave. Fique alerta às necessidades dos seus ouvintes e obterá um público mais recep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sua abertura, estabeleça a relevância do tópico para o público. Forneça uma breve visão da apresentação e estabeleça valores aos ouvintes. Leve em consideração o interesse e experiência do público em relação ao tópico ao escolher seu vocabulário, exemplos e ilustrações. Enfatize a importância do tópico para o seu público e você obterá ouvintes mais atento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a sua abertura, estabeleça a relevância do tópico para o público. Forneça uma breve visão da apresentação e estabeleça valores aos ouvintes. Leve em consideração o interesse e experiência do público em relação ao tópico ao escolher seu vocabulário, exemplos e ilustrações. Enfatize a importância do tópico para o seu público e você obterá ouvintes mais atent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Se você possui vários pontos, etapas ou idéias-chave, use vários slides. Determine se o público compreenderá uma nova idéia, aprenderá um processo ou receberá uma profundidade maior de um conceito familiar. Baseia cada ponto com uma explicação adequada. Quando necessário, complemente sua apresentação com dados técnicos de suporte em papel ou em disco, correio eletrônico ou Internet.  Desenvolva cada ponto adequadamente para comunicar-se com o públic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o melhor fechamento para o seu público e apresentação. Feche com um resumo; ofereça opções; recomende uma estratégia; sugira um plano; defina uma meta. Mantenha o seu foco durante sua apresentação e será mais fácil atingir sua finalida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70021-DBAC-4D5E-B770-B85280697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3ED3D-6991-4ECD-9D1A-9F6887439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B273-75F9-4E66-8747-55A09B830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94442-D1AD-48EB-A209-5DA1F4E09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6E9D4-237B-425A-80DD-2C13926AC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27672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59D0B-1843-4C31-B575-178DE7D62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5CF2E-E67A-4D1C-81D5-D578C5F13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DCB2A-A096-4BA9-B9E9-A4CD28091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7BCD7-BEAA-4F06-B0ED-CC59702F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D6FE7-9812-464B-886D-51D317323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7F876-588A-42C5-9C95-F9B66AEE4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27672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0C8BB-6A37-47F4-AB01-1B8464093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33173-DB38-4665-BC5F-998D9390A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D767B-606F-42F3-A95B-3B6C0C4D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F607F-C1AA-4365-A78F-1B85C1BCC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4FEFB-6A27-4DA8-B5D3-1199322F4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3997440"/>
            <a:ext cx="242892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F993E-011A-4EAD-81A0-5AF9DAE5C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2675B-9B9D-4865-990A-4EF8438A2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7068D-C157-4325-9FBB-D72A9C2D8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76DB5-DEA7-41D0-9962-0EB05C26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76A0-AF5C-4A50-9131-7838A14E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A097-42AE-4EE1-AA97-49AF171A7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2767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399744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E1432-4820-4995-9C43-DB8667CE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3997440"/>
            <a:ext cx="7543800" cy="15627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D3FC-C295-4CB5-A4BF-AE79B7F65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276720"/>
          </a:xfrm>
          <a:prstGeom prst="rect">
            <a:avLst/>
          </a:prstGeom>
          <a:noFill/>
          <a:ln w="0">
            <a:noFill/>
          </a:ln>
        </p:spPr>
        <p:txBody>
          <a:bodyPr lIns="90000" rIns="90000" tIns="46800" bIns="46800" anchor="t">
            <a:normAutofit fontScale="64000"/>
          </a:bodyPr>
          <a:p>
            <a:pPr marL="219240" indent="-21924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75200" indent="-182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731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02384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16520" indent="-1461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5790960"/>
            <a:ext cx="2286000" cy="60948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5791320"/>
            <a:ext cx="4343400" cy="83952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2935-0889-4528-9004-4998D0476730}" type="slidenum">
              <a:rPr b="0" lang="pt-B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294920"/>
            <a:ext cx="77724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5867280"/>
            <a:ext cx="2286000" cy="5335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5866920"/>
            <a:ext cx="4343400" cy="7635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4992-C657-4D14-B27B-C63DCBDFBEC5}" type="slidenum">
              <a:rPr b="0" lang="pt-B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294920"/>
            <a:ext cx="7772400" cy="16765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f1b60f"/>
                </a:solidFill>
                <a:latin typeface="Arial"/>
              </a:rPr>
              <a:t>BillioBank – Simulador de Negócios</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3276360"/>
            <a:ext cx="6400800" cy="24382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jogo onde investidores compram, vendem e beneficiam bens imóveis com o objetivo de obterem a maior quantidade de riqueza possível</a:t>
            </a:r>
            <a:endParaRPr b="0" lang="en-US" sz="3000" spc="-1" strike="noStrike">
              <a:solidFill>
                <a:srgbClr val="ffffff"/>
              </a:solidFill>
              <a:latin typeface="Arial"/>
            </a:endParaRPr>
          </a:p>
        </p:txBody>
      </p:sp>
      <p:sp>
        <p:nvSpPr>
          <p:cNvPr id="97"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pyright 2000-2001 © ISCGames Inc.</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Características</a:t>
            </a:r>
            <a:endParaRPr b="0" lang="en-US" sz="4200" spc="-1" strike="noStrike">
              <a:solidFill>
                <a:srgbClr val="f1b60f"/>
              </a:solidFill>
              <a:latin typeface="Arial"/>
            </a:endParaRPr>
          </a:p>
        </p:txBody>
      </p:sp>
      <p:sp>
        <p:nvSpPr>
          <p:cNvPr id="99"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93000"/>
          </a:bodyPr>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Gênero: Estilo Banco Imobiliári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Proposta de juntar as características boas de diversos jogos deste gênero existentes no mercad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Alto grau de parametrização visual</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udança de cenário via arquivo texto</a:t>
            </a:r>
            <a:endParaRPr b="0" lang="en-US" sz="2600" spc="-1" strike="noStrike">
              <a:solidFill>
                <a:srgbClr val="ffffff"/>
              </a:solidFill>
              <a:latin typeface="Arial"/>
            </a:endParaRPr>
          </a:p>
          <a:p>
            <a:pPr marL="318960" indent="-31896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udança de tabuleiro via arquivo text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Características</a:t>
            </a:r>
            <a:endParaRPr b="0" lang="en-US" sz="4200" spc="-1" strike="noStrike">
              <a:solidFill>
                <a:srgbClr val="f1b60f"/>
              </a:solidFill>
              <a:latin typeface="Arial"/>
            </a:endParaRPr>
          </a:p>
        </p:txBody>
      </p:sp>
      <p:sp>
        <p:nvSpPr>
          <p:cNvPr id="10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Projeto modular</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I/O, gráficos e sons</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Processador do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de Jogo em rede</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trole de IA (jogador computador)</a:t>
            </a:r>
            <a:endParaRPr b="0" lang="en-US" sz="2600" spc="-1" strike="noStrike">
              <a:solidFill>
                <a:srgbClr val="ffffff"/>
              </a:solidFill>
              <a:latin typeface="Arial"/>
            </a:endParaRPr>
          </a:p>
          <a:p>
            <a:pPr lvl="1" marL="743040" indent="0">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Similares Analisados</a:t>
            </a:r>
            <a:endParaRPr b="0" lang="en-US" sz="4200" spc="-1" strike="noStrike">
              <a:solidFill>
                <a:srgbClr val="f1b60f"/>
              </a:solidFill>
              <a:latin typeface="Arial"/>
            </a:endParaRPr>
          </a:p>
        </p:txBody>
      </p:sp>
      <p:sp>
        <p:nvSpPr>
          <p:cNvPr id="103"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78000"/>
          </a:bodyPr>
          <a:p>
            <a:pPr marL="267480" indent="-267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Billionaire 2.18</a:t>
            </a:r>
            <a:endParaRPr b="0" lang="en-US" sz="26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Maior liberdade para construir e controlar dívidas</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Boa jogabilidade</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Valores aumentam com o tempo</a:t>
            </a:r>
            <a:endParaRPr b="0" lang="en-US" sz="2200" spc="-1" strike="noStrike">
              <a:solidFill>
                <a:srgbClr val="ffffff"/>
              </a:solidFill>
              <a:latin typeface="Arial"/>
            </a:endParaRPr>
          </a:p>
          <a:p>
            <a:pPr marL="267480" indent="-26748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Banco Imobiliário 2000</a:t>
            </a:r>
            <a:endParaRPr b="0" lang="en-US" sz="26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Construir é relativamente difícil</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Jogabilidade razoável</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Valores fixos através do tempo</a:t>
            </a:r>
            <a:endParaRPr b="0" lang="en-US" sz="2200" spc="-1" strike="noStrike">
              <a:solidFill>
                <a:srgbClr val="ffffff"/>
              </a:solidFill>
              <a:latin typeface="Arial"/>
            </a:endParaRPr>
          </a:p>
          <a:p>
            <a:pPr lvl="1" marL="579240" indent="-222840">
              <a:lnSpc>
                <a:spcPct val="9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rPr>
              <a:t>Partes gráfica e de sons boa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Concluídas</a:t>
            </a:r>
            <a:endParaRPr b="0" lang="en-US" sz="4200" spc="-1" strike="noStrike">
              <a:solidFill>
                <a:srgbClr val="f1b60f"/>
              </a:solidFill>
              <a:latin typeface="Arial"/>
            </a:endParaRPr>
          </a:p>
        </p:txBody>
      </p:sp>
      <p:sp>
        <p:nvSpPr>
          <p:cNvPr id="105"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Design gráfico e movimentação dos jogador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Dinâmica da tela e do tabuleir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Parametrização do tema gráf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serção de sons</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Concluídas</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fontScale="78000"/>
          </a:bodyPr>
          <a:p>
            <a:pPr marL="267480" indent="-267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ligência do jogo</a:t>
            </a:r>
            <a:endParaRPr b="0" lang="en-US" sz="30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ortamento dos tipos de casas</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Jogada de dados</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r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Venda </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Hipotec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Resgate de hipoteca</a:t>
            </a:r>
            <a:endParaRPr b="0" lang="en-US" sz="2600" spc="-1" strike="noStrike">
              <a:solidFill>
                <a:srgbClr val="ffffff"/>
              </a:solidFill>
              <a:latin typeface="Arial"/>
            </a:endParaRPr>
          </a:p>
          <a:p>
            <a:pPr lvl="1" marL="579240" indent="-222840">
              <a:lnSpc>
                <a:spcPct val="90000"/>
              </a:lnSpc>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ritérios de fim de jogo</a:t>
            </a:r>
            <a:endParaRPr b="0" lang="en-US" sz="2600" spc="-1" strike="noStrike">
              <a:solidFill>
                <a:srgbClr val="ffffff"/>
              </a:solidFill>
              <a:latin typeface="Arial"/>
            </a:endParaRPr>
          </a:p>
          <a:p>
            <a:pPr marL="267480" indent="0">
              <a:lnSpc>
                <a:spcPct val="90000"/>
              </a:lnSpc>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Pendentes</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Jogo em rede</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Jogo contra computador</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gração da parte de controle I/O, gráficos e som com algumas funções da inteligênc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200" spc="-1" strike="noStrike">
                <a:solidFill>
                  <a:srgbClr val="f1b60f"/>
                </a:solidFill>
                <a:latin typeface="Arial"/>
              </a:rPr>
              <a:t>BillioBank – Funções Pendentes</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27672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Inteligência do jogo</a:t>
            </a:r>
            <a:endParaRPr b="0" lang="en-US" sz="30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nstruçã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Salvar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Ler jogo</a:t>
            </a:r>
            <a:endParaRPr b="0" lang="en-US" sz="2600" spc="-1" strike="noStrike">
              <a:solidFill>
                <a:srgbClr val="ffffff"/>
              </a:solidFill>
              <a:latin typeface="Arial"/>
            </a:endParaRPr>
          </a:p>
          <a:p>
            <a:pPr lvl="1" marL="743040" indent="-285840">
              <a:spcBef>
                <a:spcPts val="13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Dados detalhados de cada jogado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5T06:00:31Z</dcterms:created>
  <dc:creator>egc</dc:creator>
  <dc:description/>
  <dc:language>en-US</dc:language>
  <cp:lastModifiedBy>egc</cp:lastModifiedBy>
  <dcterms:modified xsi:type="dcterms:W3CDTF">2001-01-05T06:29:31Z</dcterms:modified>
  <cp:revision>8</cp:revision>
  <dc:subject/>
  <dc:title>BillioBank – Simulador de Negócios</dc:title>
</cp:coreProperties>
</file>