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8088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1516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4944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41880" y="707760"/>
            <a:ext cx="1414080" cy="706680"/>
            <a:chOff x="4241880" y="707760"/>
            <a:chExt cx="1414080" cy="706680"/>
          </a:xfrm>
        </p:grpSpPr>
        <p:sp>
          <p:nvSpPr>
            <p:cNvPr id="1" name=""/>
            <p:cNvSpPr/>
            <p:nvPr/>
          </p:nvSpPr>
          <p:spPr>
            <a:xfrm flipV="1">
              <a:off x="4241880" y="707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948920" y="708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4948920" y="1061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flipV="1">
              <a:off x="4241880" y="1060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5656320" y="707760"/>
            <a:ext cx="1415520" cy="706680"/>
            <a:chOff x="5656320" y="707760"/>
            <a:chExt cx="1415520" cy="706680"/>
          </a:xfrm>
        </p:grpSpPr>
        <p:sp>
          <p:nvSpPr>
            <p:cNvPr id="6" name=""/>
            <p:cNvSpPr/>
            <p:nvPr/>
          </p:nvSpPr>
          <p:spPr>
            <a:xfrm flipV="1">
              <a:off x="5656320" y="7077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364080" y="7081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6364080" y="10612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5656320" y="10609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4950000" y="353520"/>
            <a:ext cx="1414080" cy="708120"/>
            <a:chOff x="4950000" y="353520"/>
            <a:chExt cx="1414080" cy="708120"/>
          </a:xfrm>
        </p:grpSpPr>
        <p:sp>
          <p:nvSpPr>
            <p:cNvPr id="11" name=""/>
            <p:cNvSpPr/>
            <p:nvPr/>
          </p:nvSpPr>
          <p:spPr>
            <a:xfrm flipV="1">
              <a:off x="495000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5704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5657040" y="707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4950000" y="707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4241880" y="1414080"/>
            <a:ext cx="1414080" cy="708120"/>
            <a:chOff x="4241880" y="1414080"/>
            <a:chExt cx="1414080" cy="708120"/>
          </a:xfrm>
        </p:grpSpPr>
        <p:sp>
          <p:nvSpPr>
            <p:cNvPr id="16" name=""/>
            <p:cNvSpPr/>
            <p:nvPr/>
          </p:nvSpPr>
          <p:spPr>
            <a:xfrm flipV="1">
              <a:off x="4241880" y="1414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48920" y="1414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94892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424188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5656320" y="1414080"/>
            <a:ext cx="1415520" cy="708120"/>
            <a:chOff x="5656320" y="1414080"/>
            <a:chExt cx="1415520" cy="708120"/>
          </a:xfrm>
        </p:grpSpPr>
        <p:sp>
          <p:nvSpPr>
            <p:cNvPr id="21" name=""/>
            <p:cNvSpPr/>
            <p:nvPr/>
          </p:nvSpPr>
          <p:spPr>
            <a:xfrm flipV="1">
              <a:off x="5656320" y="14140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364080" y="14144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6364080" y="1768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56320" y="17679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4950000" y="1061640"/>
            <a:ext cx="1414080" cy="706680"/>
            <a:chOff x="4950000" y="1061640"/>
            <a:chExt cx="1414080" cy="706680"/>
          </a:xfrm>
        </p:grpSpPr>
        <p:sp>
          <p:nvSpPr>
            <p:cNvPr id="26" name=""/>
            <p:cNvSpPr/>
            <p:nvPr/>
          </p:nvSpPr>
          <p:spPr>
            <a:xfrm flipV="1">
              <a:off x="4950000" y="10616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657040" y="10620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5657040" y="14151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flipV="1">
              <a:off x="4950000" y="14148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4950000" y="1767960"/>
            <a:ext cx="1414080" cy="708120"/>
            <a:chOff x="4950000" y="1767960"/>
            <a:chExt cx="1414080" cy="708120"/>
          </a:xfrm>
        </p:grpSpPr>
        <p:sp>
          <p:nvSpPr>
            <p:cNvPr id="31" name=""/>
            <p:cNvSpPr/>
            <p:nvPr/>
          </p:nvSpPr>
          <p:spPr>
            <a:xfrm flipV="1">
              <a:off x="495000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5704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565704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4950000" y="21218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6364440" y="353520"/>
            <a:ext cx="1415520" cy="708120"/>
            <a:chOff x="6364440" y="353520"/>
            <a:chExt cx="1415520" cy="708120"/>
          </a:xfrm>
        </p:grpSpPr>
        <p:sp>
          <p:nvSpPr>
            <p:cNvPr id="36" name=""/>
            <p:cNvSpPr/>
            <p:nvPr/>
          </p:nvSpPr>
          <p:spPr>
            <a:xfrm flipV="1">
              <a:off x="6364440" y="353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072200" y="353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7072200" y="707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flipV="1">
              <a:off x="6364440" y="707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7780320" y="353520"/>
            <a:ext cx="1414080" cy="708120"/>
            <a:chOff x="7780320" y="353520"/>
            <a:chExt cx="1414080" cy="708120"/>
          </a:xfrm>
        </p:grpSpPr>
        <p:sp>
          <p:nvSpPr>
            <p:cNvPr id="41" name=""/>
            <p:cNvSpPr/>
            <p:nvPr/>
          </p:nvSpPr>
          <p:spPr>
            <a:xfrm flipV="1">
              <a:off x="778032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48736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8487360" y="707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7780320" y="707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072200" y="-360"/>
            <a:ext cx="1414080" cy="708120"/>
            <a:chOff x="7072200" y="-360"/>
            <a:chExt cx="1414080" cy="708120"/>
          </a:xfrm>
        </p:grpSpPr>
        <p:sp>
          <p:nvSpPr>
            <p:cNvPr id="46" name=""/>
            <p:cNvSpPr/>
            <p:nvPr/>
          </p:nvSpPr>
          <p:spPr>
            <a:xfrm flipV="1">
              <a:off x="7072200" y="-3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79240" y="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77924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707220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364440" y="1061640"/>
            <a:ext cx="1415520" cy="706680"/>
            <a:chOff x="6364440" y="1061640"/>
            <a:chExt cx="1415520" cy="706680"/>
          </a:xfrm>
        </p:grpSpPr>
        <p:sp>
          <p:nvSpPr>
            <p:cNvPr id="51" name=""/>
            <p:cNvSpPr/>
            <p:nvPr/>
          </p:nvSpPr>
          <p:spPr>
            <a:xfrm flipV="1">
              <a:off x="6364440" y="106164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72200" y="10620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072200" y="14151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6364440" y="14148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780320" y="1061640"/>
            <a:ext cx="1414080" cy="706680"/>
            <a:chOff x="7780320" y="1061640"/>
            <a:chExt cx="1414080" cy="706680"/>
          </a:xfrm>
        </p:grpSpPr>
        <p:sp>
          <p:nvSpPr>
            <p:cNvPr id="56" name=""/>
            <p:cNvSpPr/>
            <p:nvPr/>
          </p:nvSpPr>
          <p:spPr>
            <a:xfrm flipV="1">
              <a:off x="7780320" y="10616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87360" y="10620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487360" y="14151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780320" y="14148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072200" y="707760"/>
            <a:ext cx="1414080" cy="706680"/>
            <a:chOff x="7072200" y="707760"/>
            <a:chExt cx="1414080" cy="706680"/>
          </a:xfrm>
        </p:grpSpPr>
        <p:sp>
          <p:nvSpPr>
            <p:cNvPr id="61" name=""/>
            <p:cNvSpPr/>
            <p:nvPr/>
          </p:nvSpPr>
          <p:spPr>
            <a:xfrm flipV="1">
              <a:off x="7072200" y="707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9240" y="708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779240" y="1061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072200" y="1060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364440" y="1767960"/>
            <a:ext cx="1415520" cy="708120"/>
            <a:chOff x="6364440" y="1767960"/>
            <a:chExt cx="1415520" cy="708120"/>
          </a:xfrm>
        </p:grpSpPr>
        <p:sp>
          <p:nvSpPr>
            <p:cNvPr id="66" name=""/>
            <p:cNvSpPr/>
            <p:nvPr/>
          </p:nvSpPr>
          <p:spPr>
            <a:xfrm flipV="1">
              <a:off x="6364440" y="17679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2200" y="1768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072200" y="21222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364440" y="21218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780320" y="1767960"/>
            <a:ext cx="1414080" cy="708120"/>
            <a:chOff x="7780320" y="1767960"/>
            <a:chExt cx="1414080" cy="708120"/>
          </a:xfrm>
        </p:grpSpPr>
        <p:sp>
          <p:nvSpPr>
            <p:cNvPr id="71" name=""/>
            <p:cNvSpPr/>
            <p:nvPr/>
          </p:nvSpPr>
          <p:spPr>
            <a:xfrm flipV="1">
              <a:off x="778032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8736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48736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780320" y="21218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072200" y="1414080"/>
            <a:ext cx="1414080" cy="708120"/>
            <a:chOff x="7072200" y="1414080"/>
            <a:chExt cx="1414080" cy="708120"/>
          </a:xfrm>
        </p:grpSpPr>
        <p:sp>
          <p:nvSpPr>
            <p:cNvPr id="76" name=""/>
            <p:cNvSpPr/>
            <p:nvPr/>
          </p:nvSpPr>
          <p:spPr>
            <a:xfrm flipV="1">
              <a:off x="7072200" y="1414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9240" y="1414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77924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707220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656320" y="-360"/>
            <a:ext cx="1415520" cy="708120"/>
            <a:chOff x="5656320" y="-360"/>
            <a:chExt cx="1415520" cy="708120"/>
          </a:xfrm>
        </p:grpSpPr>
        <p:sp>
          <p:nvSpPr>
            <p:cNvPr id="81" name=""/>
            <p:cNvSpPr/>
            <p:nvPr/>
          </p:nvSpPr>
          <p:spPr>
            <a:xfrm flipV="1">
              <a:off x="5656320" y="-3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64080" y="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364080" y="353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656320" y="353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41880" y="-360"/>
            <a:ext cx="1414080" cy="708120"/>
            <a:chOff x="4241880" y="-360"/>
            <a:chExt cx="1414080" cy="708120"/>
          </a:xfrm>
        </p:grpSpPr>
        <p:sp>
          <p:nvSpPr>
            <p:cNvPr id="86" name=""/>
            <p:cNvSpPr/>
            <p:nvPr/>
          </p:nvSpPr>
          <p:spPr>
            <a:xfrm flipV="1">
              <a:off x="4241880" y="-3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920" y="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94892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24188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707760"/>
            <a:ext cx="1414080" cy="706680"/>
            <a:chOff x="0" y="707760"/>
            <a:chExt cx="1414080" cy="706680"/>
          </a:xfrm>
        </p:grpSpPr>
        <p:sp>
          <p:nvSpPr>
            <p:cNvPr id="91" name=""/>
            <p:cNvSpPr/>
            <p:nvPr/>
          </p:nvSpPr>
          <p:spPr>
            <a:xfrm flipV="1">
              <a:off x="0" y="707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040" y="708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07040" y="1061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0" y="1060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14080" y="707760"/>
            <a:ext cx="1416600" cy="706680"/>
            <a:chOff x="1414080" y="707760"/>
            <a:chExt cx="1416600" cy="706680"/>
          </a:xfrm>
        </p:grpSpPr>
        <p:sp>
          <p:nvSpPr>
            <p:cNvPr id="96" name=""/>
            <p:cNvSpPr/>
            <p:nvPr/>
          </p:nvSpPr>
          <p:spPr>
            <a:xfrm flipV="1">
              <a:off x="1414440" y="70776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22560" y="70812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2200" y="106128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14080" y="106092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8120" y="353520"/>
            <a:ext cx="1414080" cy="708120"/>
            <a:chOff x="708120" y="353520"/>
            <a:chExt cx="1414080" cy="708120"/>
          </a:xfrm>
        </p:grpSpPr>
        <p:sp>
          <p:nvSpPr>
            <p:cNvPr id="101" name=""/>
            <p:cNvSpPr/>
            <p:nvPr/>
          </p:nvSpPr>
          <p:spPr>
            <a:xfrm flipV="1">
              <a:off x="70812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516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415160" y="707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708120" y="707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1414080"/>
            <a:ext cx="1414080" cy="708120"/>
            <a:chOff x="0" y="1414080"/>
            <a:chExt cx="1414080" cy="708120"/>
          </a:xfrm>
        </p:grpSpPr>
        <p:sp>
          <p:nvSpPr>
            <p:cNvPr id="106" name=""/>
            <p:cNvSpPr/>
            <p:nvPr/>
          </p:nvSpPr>
          <p:spPr>
            <a:xfrm flipV="1">
              <a:off x="0" y="1414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7040" y="1414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0704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14080" y="1414080"/>
            <a:ext cx="1416600" cy="708120"/>
            <a:chOff x="1414080" y="1414080"/>
            <a:chExt cx="1416600" cy="708120"/>
          </a:xfrm>
        </p:grpSpPr>
        <p:sp>
          <p:nvSpPr>
            <p:cNvPr id="111" name=""/>
            <p:cNvSpPr/>
            <p:nvPr/>
          </p:nvSpPr>
          <p:spPr>
            <a:xfrm flipV="1">
              <a:off x="1414440" y="141408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2560" y="141444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122200" y="176832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414080" y="17679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08120" y="1061640"/>
            <a:ext cx="1414080" cy="706680"/>
            <a:chOff x="708120" y="1061640"/>
            <a:chExt cx="1414080" cy="706680"/>
          </a:xfrm>
        </p:grpSpPr>
        <p:sp>
          <p:nvSpPr>
            <p:cNvPr id="116" name=""/>
            <p:cNvSpPr/>
            <p:nvPr/>
          </p:nvSpPr>
          <p:spPr>
            <a:xfrm flipV="1">
              <a:off x="708120" y="10616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15160" y="10620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415160" y="14151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8120" y="14148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08120" y="1767960"/>
            <a:ext cx="1414080" cy="708120"/>
            <a:chOff x="708120" y="1767960"/>
            <a:chExt cx="1414080" cy="708120"/>
          </a:xfrm>
        </p:grpSpPr>
        <p:sp>
          <p:nvSpPr>
            <p:cNvPr id="121" name=""/>
            <p:cNvSpPr/>
            <p:nvPr/>
          </p:nvSpPr>
          <p:spPr>
            <a:xfrm flipV="1">
              <a:off x="70812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1516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41516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08120" y="21218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122560" y="353520"/>
            <a:ext cx="1415520" cy="708120"/>
            <a:chOff x="2122560" y="353520"/>
            <a:chExt cx="1415520" cy="708120"/>
          </a:xfrm>
        </p:grpSpPr>
        <p:sp>
          <p:nvSpPr>
            <p:cNvPr id="126" name=""/>
            <p:cNvSpPr/>
            <p:nvPr/>
          </p:nvSpPr>
          <p:spPr>
            <a:xfrm flipV="1">
              <a:off x="2122560" y="353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30320" y="353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830320" y="707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122560" y="707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38440" y="353520"/>
            <a:ext cx="1414080" cy="708120"/>
            <a:chOff x="3538440" y="353520"/>
            <a:chExt cx="1414080" cy="708120"/>
          </a:xfrm>
        </p:grpSpPr>
        <p:sp>
          <p:nvSpPr>
            <p:cNvPr id="131" name=""/>
            <p:cNvSpPr/>
            <p:nvPr/>
          </p:nvSpPr>
          <p:spPr>
            <a:xfrm flipV="1">
              <a:off x="353844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4548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245480" y="707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538440" y="707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830680" y="-360"/>
            <a:ext cx="1414080" cy="708120"/>
            <a:chOff x="2830680" y="-360"/>
            <a:chExt cx="1414080" cy="708120"/>
          </a:xfrm>
        </p:grpSpPr>
        <p:sp>
          <p:nvSpPr>
            <p:cNvPr id="136" name=""/>
            <p:cNvSpPr/>
            <p:nvPr/>
          </p:nvSpPr>
          <p:spPr>
            <a:xfrm flipV="1">
              <a:off x="2830680" y="-3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7720" y="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53772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83068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122560" y="1061640"/>
            <a:ext cx="1415520" cy="706680"/>
            <a:chOff x="2122560" y="1061640"/>
            <a:chExt cx="1415520" cy="706680"/>
          </a:xfrm>
        </p:grpSpPr>
        <p:sp>
          <p:nvSpPr>
            <p:cNvPr id="141" name=""/>
            <p:cNvSpPr/>
            <p:nvPr/>
          </p:nvSpPr>
          <p:spPr>
            <a:xfrm flipV="1">
              <a:off x="2122560" y="106164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0320" y="10620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830320" y="14151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122560" y="14148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538440" y="1061640"/>
            <a:ext cx="1414080" cy="706680"/>
            <a:chOff x="3538440" y="1061640"/>
            <a:chExt cx="1414080" cy="706680"/>
          </a:xfrm>
        </p:grpSpPr>
        <p:sp>
          <p:nvSpPr>
            <p:cNvPr id="146" name=""/>
            <p:cNvSpPr/>
            <p:nvPr/>
          </p:nvSpPr>
          <p:spPr>
            <a:xfrm flipV="1">
              <a:off x="3538440" y="10616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5480" y="10620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245480" y="14151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538440" y="14148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30680" y="707760"/>
            <a:ext cx="1414080" cy="706680"/>
            <a:chOff x="2830680" y="707760"/>
            <a:chExt cx="1414080" cy="706680"/>
          </a:xfrm>
        </p:grpSpPr>
        <p:sp>
          <p:nvSpPr>
            <p:cNvPr id="151" name=""/>
            <p:cNvSpPr/>
            <p:nvPr/>
          </p:nvSpPr>
          <p:spPr>
            <a:xfrm flipV="1">
              <a:off x="2830680" y="707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37720" y="708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37720" y="1061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830680" y="1060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22560" y="1767960"/>
            <a:ext cx="1415520" cy="708120"/>
            <a:chOff x="2122560" y="1767960"/>
            <a:chExt cx="1415520" cy="708120"/>
          </a:xfrm>
        </p:grpSpPr>
        <p:sp>
          <p:nvSpPr>
            <p:cNvPr id="156" name=""/>
            <p:cNvSpPr/>
            <p:nvPr/>
          </p:nvSpPr>
          <p:spPr>
            <a:xfrm flipV="1">
              <a:off x="2122560" y="17679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0320" y="1768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830320" y="21222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122560" y="21218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538440" y="1767960"/>
            <a:ext cx="1414080" cy="708120"/>
            <a:chOff x="3538440" y="1767960"/>
            <a:chExt cx="1414080" cy="708120"/>
          </a:xfrm>
        </p:grpSpPr>
        <p:sp>
          <p:nvSpPr>
            <p:cNvPr id="161" name=""/>
            <p:cNvSpPr/>
            <p:nvPr/>
          </p:nvSpPr>
          <p:spPr>
            <a:xfrm flipV="1">
              <a:off x="353844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4548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24548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538440" y="21218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830680" y="1414080"/>
            <a:ext cx="1414080" cy="708120"/>
            <a:chOff x="2830680" y="1414080"/>
            <a:chExt cx="1414080" cy="708120"/>
          </a:xfrm>
        </p:grpSpPr>
        <p:sp>
          <p:nvSpPr>
            <p:cNvPr id="166" name=""/>
            <p:cNvSpPr/>
            <p:nvPr/>
          </p:nvSpPr>
          <p:spPr>
            <a:xfrm flipV="1">
              <a:off x="2830680" y="1414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7720" y="1414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537720" y="1768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30680" y="1767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14080" y="-360"/>
            <a:ext cx="1416600" cy="708120"/>
            <a:chOff x="1414080" y="-360"/>
            <a:chExt cx="1416600" cy="708120"/>
          </a:xfrm>
        </p:grpSpPr>
        <p:sp>
          <p:nvSpPr>
            <p:cNvPr id="171" name=""/>
            <p:cNvSpPr/>
            <p:nvPr/>
          </p:nvSpPr>
          <p:spPr>
            <a:xfrm flipV="1">
              <a:off x="1414440" y="-3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22560" y="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122200" y="35388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1414080" y="35352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0" y="-360"/>
            <a:ext cx="1414080" cy="708120"/>
            <a:chOff x="0" y="-360"/>
            <a:chExt cx="1414080" cy="708120"/>
          </a:xfrm>
        </p:grpSpPr>
        <p:sp>
          <p:nvSpPr>
            <p:cNvPr id="176" name=""/>
            <p:cNvSpPr/>
            <p:nvPr/>
          </p:nvSpPr>
          <p:spPr>
            <a:xfrm flipV="1">
              <a:off x="0" y="-3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040" y="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0704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8508960" y="-360"/>
            <a:ext cx="1414080" cy="708120"/>
            <a:chOff x="8508960" y="-360"/>
            <a:chExt cx="1414080" cy="708120"/>
          </a:xfrm>
        </p:grpSpPr>
        <p:sp>
          <p:nvSpPr>
            <p:cNvPr id="181" name=""/>
            <p:cNvSpPr/>
            <p:nvPr/>
          </p:nvSpPr>
          <p:spPr>
            <a:xfrm flipV="1">
              <a:off x="8508960" y="-3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16000" y="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216000" y="353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508960" y="353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241880" y="2122200"/>
            <a:ext cx="1414080" cy="708120"/>
            <a:chOff x="4241880" y="2122200"/>
            <a:chExt cx="1414080" cy="708120"/>
          </a:xfrm>
        </p:grpSpPr>
        <p:sp>
          <p:nvSpPr>
            <p:cNvPr id="186" name=""/>
            <p:cNvSpPr/>
            <p:nvPr/>
          </p:nvSpPr>
          <p:spPr>
            <a:xfrm flipV="1">
              <a:off x="424188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8920" y="2122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4892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24188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656320" y="2122200"/>
            <a:ext cx="1415520" cy="708120"/>
            <a:chOff x="5656320" y="2122200"/>
            <a:chExt cx="1415520" cy="708120"/>
          </a:xfrm>
        </p:grpSpPr>
        <p:sp>
          <p:nvSpPr>
            <p:cNvPr id="191" name=""/>
            <p:cNvSpPr/>
            <p:nvPr/>
          </p:nvSpPr>
          <p:spPr>
            <a:xfrm flipV="1">
              <a:off x="5656320" y="21222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64080" y="21225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364080" y="24764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5656320" y="24760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364440" y="2476080"/>
            <a:ext cx="1415520" cy="708120"/>
            <a:chOff x="6364440" y="2476080"/>
            <a:chExt cx="1415520" cy="708120"/>
          </a:xfrm>
        </p:grpSpPr>
        <p:sp>
          <p:nvSpPr>
            <p:cNvPr id="196" name=""/>
            <p:cNvSpPr/>
            <p:nvPr/>
          </p:nvSpPr>
          <p:spPr>
            <a:xfrm flipV="1">
              <a:off x="6364440" y="24760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72200" y="24764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072200" y="2830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364440" y="28299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780320" y="2476080"/>
            <a:ext cx="1414080" cy="708120"/>
            <a:chOff x="7780320" y="2476080"/>
            <a:chExt cx="1414080" cy="708120"/>
          </a:xfrm>
        </p:grpSpPr>
        <p:sp>
          <p:nvSpPr>
            <p:cNvPr id="201" name=""/>
            <p:cNvSpPr/>
            <p:nvPr/>
          </p:nvSpPr>
          <p:spPr>
            <a:xfrm flipV="1">
              <a:off x="778032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8736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48736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7780320" y="2829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72200" y="2122200"/>
            <a:ext cx="1414080" cy="708120"/>
            <a:chOff x="7072200" y="2122200"/>
            <a:chExt cx="1414080" cy="708120"/>
          </a:xfrm>
        </p:grpSpPr>
        <p:sp>
          <p:nvSpPr>
            <p:cNvPr id="206" name=""/>
            <p:cNvSpPr/>
            <p:nvPr/>
          </p:nvSpPr>
          <p:spPr>
            <a:xfrm flipV="1">
              <a:off x="707220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9240" y="2122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7924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07220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64440" y="3184200"/>
            <a:ext cx="1415520" cy="706680"/>
            <a:chOff x="6364440" y="3184200"/>
            <a:chExt cx="1415520" cy="706680"/>
          </a:xfrm>
        </p:grpSpPr>
        <p:sp>
          <p:nvSpPr>
            <p:cNvPr id="211" name=""/>
            <p:cNvSpPr/>
            <p:nvPr/>
          </p:nvSpPr>
          <p:spPr>
            <a:xfrm flipV="1">
              <a:off x="6364440" y="31842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2200" y="31845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072200" y="35377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364440" y="35373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780320" y="3184200"/>
            <a:ext cx="1414080" cy="706680"/>
            <a:chOff x="7780320" y="3184200"/>
            <a:chExt cx="1414080" cy="706680"/>
          </a:xfrm>
        </p:grpSpPr>
        <p:sp>
          <p:nvSpPr>
            <p:cNvPr id="216" name=""/>
            <p:cNvSpPr/>
            <p:nvPr/>
          </p:nvSpPr>
          <p:spPr>
            <a:xfrm flipV="1">
              <a:off x="7780320" y="31842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87360" y="31845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487360" y="35377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780320" y="35373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72200" y="2830320"/>
            <a:ext cx="1414080" cy="708120"/>
            <a:chOff x="7072200" y="2830320"/>
            <a:chExt cx="1414080" cy="708120"/>
          </a:xfrm>
        </p:grpSpPr>
        <p:sp>
          <p:nvSpPr>
            <p:cNvPr id="221" name=""/>
            <p:cNvSpPr/>
            <p:nvPr/>
          </p:nvSpPr>
          <p:spPr>
            <a:xfrm flipV="1">
              <a:off x="707220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9240" y="28306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779240" y="3184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072200" y="3184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072200" y="3538080"/>
            <a:ext cx="1414080" cy="706680"/>
            <a:chOff x="7072200" y="3538080"/>
            <a:chExt cx="1414080" cy="706680"/>
          </a:xfrm>
        </p:grpSpPr>
        <p:sp>
          <p:nvSpPr>
            <p:cNvPr id="226" name=""/>
            <p:cNvSpPr/>
            <p:nvPr/>
          </p:nvSpPr>
          <p:spPr>
            <a:xfrm flipV="1">
              <a:off x="7072200" y="35380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9240" y="35384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779240" y="38916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7072200" y="38912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241880" y="2830320"/>
            <a:ext cx="1414080" cy="708120"/>
            <a:chOff x="4241880" y="2830320"/>
            <a:chExt cx="1414080" cy="708120"/>
          </a:xfrm>
        </p:grpSpPr>
        <p:sp>
          <p:nvSpPr>
            <p:cNvPr id="231" name=""/>
            <p:cNvSpPr/>
            <p:nvPr/>
          </p:nvSpPr>
          <p:spPr>
            <a:xfrm flipV="1">
              <a:off x="424188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8920" y="28306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948920" y="3184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241880" y="3184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656320" y="2830320"/>
            <a:ext cx="1415520" cy="708120"/>
            <a:chOff x="5656320" y="2830320"/>
            <a:chExt cx="1415520" cy="708120"/>
          </a:xfrm>
        </p:grpSpPr>
        <p:sp>
          <p:nvSpPr>
            <p:cNvPr id="236" name=""/>
            <p:cNvSpPr/>
            <p:nvPr/>
          </p:nvSpPr>
          <p:spPr>
            <a:xfrm flipV="1">
              <a:off x="5656320" y="2830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64080" y="28306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64080" y="31845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656320" y="31842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950000" y="2476080"/>
            <a:ext cx="1414080" cy="708120"/>
            <a:chOff x="4950000" y="2476080"/>
            <a:chExt cx="1414080" cy="708120"/>
          </a:xfrm>
        </p:grpSpPr>
        <p:sp>
          <p:nvSpPr>
            <p:cNvPr id="241" name=""/>
            <p:cNvSpPr/>
            <p:nvPr/>
          </p:nvSpPr>
          <p:spPr>
            <a:xfrm flipV="1">
              <a:off x="495000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5704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5704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4950000" y="2829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41880" y="3538080"/>
            <a:ext cx="1414080" cy="706680"/>
            <a:chOff x="4241880" y="3538080"/>
            <a:chExt cx="1414080" cy="706680"/>
          </a:xfrm>
        </p:grpSpPr>
        <p:sp>
          <p:nvSpPr>
            <p:cNvPr id="246" name=""/>
            <p:cNvSpPr/>
            <p:nvPr/>
          </p:nvSpPr>
          <p:spPr>
            <a:xfrm flipV="1">
              <a:off x="4241880" y="35380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8920" y="35384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948920" y="38916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241880" y="38912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656320" y="3538080"/>
            <a:ext cx="1415520" cy="706680"/>
            <a:chOff x="5656320" y="3538080"/>
            <a:chExt cx="1415520" cy="706680"/>
          </a:xfrm>
        </p:grpSpPr>
        <p:sp>
          <p:nvSpPr>
            <p:cNvPr id="251" name=""/>
            <p:cNvSpPr/>
            <p:nvPr/>
          </p:nvSpPr>
          <p:spPr>
            <a:xfrm flipV="1">
              <a:off x="5656320" y="35380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64080" y="353844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64080" y="38916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5656320" y="389124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0000" y="3184200"/>
            <a:ext cx="1414080" cy="706680"/>
            <a:chOff x="4950000" y="3184200"/>
            <a:chExt cx="1414080" cy="706680"/>
          </a:xfrm>
        </p:grpSpPr>
        <p:sp>
          <p:nvSpPr>
            <p:cNvPr id="256" name=""/>
            <p:cNvSpPr/>
            <p:nvPr/>
          </p:nvSpPr>
          <p:spPr>
            <a:xfrm flipV="1">
              <a:off x="4950000" y="31842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7040" y="31845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57040" y="35377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950000" y="35373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0" y="2122200"/>
            <a:ext cx="1414080" cy="708120"/>
            <a:chOff x="0" y="2122200"/>
            <a:chExt cx="1414080" cy="708120"/>
          </a:xfrm>
        </p:grpSpPr>
        <p:sp>
          <p:nvSpPr>
            <p:cNvPr id="261" name=""/>
            <p:cNvSpPr/>
            <p:nvPr/>
          </p:nvSpPr>
          <p:spPr>
            <a:xfrm flipV="1">
              <a:off x="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7040" y="2122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0704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414080" y="2122200"/>
            <a:ext cx="1416600" cy="708120"/>
            <a:chOff x="1414080" y="2122200"/>
            <a:chExt cx="1416600" cy="708120"/>
          </a:xfrm>
        </p:grpSpPr>
        <p:sp>
          <p:nvSpPr>
            <p:cNvPr id="266" name=""/>
            <p:cNvSpPr/>
            <p:nvPr/>
          </p:nvSpPr>
          <p:spPr>
            <a:xfrm flipV="1">
              <a:off x="1414440" y="212220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2560" y="21225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122200" y="247644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1414080" y="247608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122560" y="2476080"/>
            <a:ext cx="1415520" cy="708120"/>
            <a:chOff x="2122560" y="2476080"/>
            <a:chExt cx="1415520" cy="708120"/>
          </a:xfrm>
        </p:grpSpPr>
        <p:sp>
          <p:nvSpPr>
            <p:cNvPr id="271" name=""/>
            <p:cNvSpPr/>
            <p:nvPr/>
          </p:nvSpPr>
          <p:spPr>
            <a:xfrm flipV="1">
              <a:off x="2122560" y="24760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30320" y="24764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830320" y="28303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122560" y="28299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538440" y="2476080"/>
            <a:ext cx="1414080" cy="708120"/>
            <a:chOff x="3538440" y="2476080"/>
            <a:chExt cx="1414080" cy="708120"/>
          </a:xfrm>
        </p:grpSpPr>
        <p:sp>
          <p:nvSpPr>
            <p:cNvPr id="276" name=""/>
            <p:cNvSpPr/>
            <p:nvPr/>
          </p:nvSpPr>
          <p:spPr>
            <a:xfrm flipV="1">
              <a:off x="353844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4548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24548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3538440" y="2829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830680" y="2122200"/>
            <a:ext cx="1414080" cy="708120"/>
            <a:chOff x="2830680" y="2122200"/>
            <a:chExt cx="1414080" cy="708120"/>
          </a:xfrm>
        </p:grpSpPr>
        <p:sp>
          <p:nvSpPr>
            <p:cNvPr id="281" name=""/>
            <p:cNvSpPr/>
            <p:nvPr/>
          </p:nvSpPr>
          <p:spPr>
            <a:xfrm flipV="1">
              <a:off x="2830680" y="2122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37720" y="2122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53772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83068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22560" y="3184200"/>
            <a:ext cx="1415520" cy="706680"/>
            <a:chOff x="2122560" y="3184200"/>
            <a:chExt cx="1415520" cy="706680"/>
          </a:xfrm>
        </p:grpSpPr>
        <p:sp>
          <p:nvSpPr>
            <p:cNvPr id="286" name=""/>
            <p:cNvSpPr/>
            <p:nvPr/>
          </p:nvSpPr>
          <p:spPr>
            <a:xfrm flipV="1">
              <a:off x="2122560" y="318420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30320" y="31845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30320" y="35377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122560" y="35373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538440" y="3184200"/>
            <a:ext cx="1414080" cy="706680"/>
            <a:chOff x="3538440" y="3184200"/>
            <a:chExt cx="1414080" cy="706680"/>
          </a:xfrm>
        </p:grpSpPr>
        <p:sp>
          <p:nvSpPr>
            <p:cNvPr id="291" name=""/>
            <p:cNvSpPr/>
            <p:nvPr/>
          </p:nvSpPr>
          <p:spPr>
            <a:xfrm flipV="1">
              <a:off x="3538440" y="31842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45480" y="31845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245480" y="35377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538440" y="35373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830680" y="2830320"/>
            <a:ext cx="1414080" cy="708120"/>
            <a:chOff x="2830680" y="2830320"/>
            <a:chExt cx="1414080" cy="708120"/>
          </a:xfrm>
        </p:grpSpPr>
        <p:sp>
          <p:nvSpPr>
            <p:cNvPr id="296" name=""/>
            <p:cNvSpPr/>
            <p:nvPr/>
          </p:nvSpPr>
          <p:spPr>
            <a:xfrm flipV="1">
              <a:off x="283068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37720" y="28306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537720" y="3184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2830680" y="3184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30680" y="3538080"/>
            <a:ext cx="1414080" cy="706680"/>
            <a:chOff x="2830680" y="3538080"/>
            <a:chExt cx="1414080" cy="706680"/>
          </a:xfrm>
        </p:grpSpPr>
        <p:sp>
          <p:nvSpPr>
            <p:cNvPr id="301" name=""/>
            <p:cNvSpPr/>
            <p:nvPr/>
          </p:nvSpPr>
          <p:spPr>
            <a:xfrm flipV="1">
              <a:off x="2830680" y="35380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37720" y="35384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37720" y="38916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830680" y="38912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2830320"/>
            <a:ext cx="1414080" cy="708120"/>
            <a:chOff x="0" y="2830320"/>
            <a:chExt cx="1414080" cy="708120"/>
          </a:xfrm>
        </p:grpSpPr>
        <p:sp>
          <p:nvSpPr>
            <p:cNvPr id="306" name=""/>
            <p:cNvSpPr/>
            <p:nvPr/>
          </p:nvSpPr>
          <p:spPr>
            <a:xfrm flipV="1">
              <a:off x="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7040" y="28306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07040" y="3184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0" y="3184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414080" y="2830320"/>
            <a:ext cx="1416600" cy="708120"/>
            <a:chOff x="1414080" y="2830320"/>
            <a:chExt cx="1416600" cy="708120"/>
          </a:xfrm>
        </p:grpSpPr>
        <p:sp>
          <p:nvSpPr>
            <p:cNvPr id="311" name=""/>
            <p:cNvSpPr/>
            <p:nvPr/>
          </p:nvSpPr>
          <p:spPr>
            <a:xfrm flipV="1">
              <a:off x="1414440" y="283032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22560" y="283068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122200" y="31845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1414080" y="318420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08120" y="2476080"/>
            <a:ext cx="1414080" cy="708120"/>
            <a:chOff x="708120" y="2476080"/>
            <a:chExt cx="1414080" cy="708120"/>
          </a:xfrm>
        </p:grpSpPr>
        <p:sp>
          <p:nvSpPr>
            <p:cNvPr id="316" name=""/>
            <p:cNvSpPr/>
            <p:nvPr/>
          </p:nvSpPr>
          <p:spPr>
            <a:xfrm flipV="1">
              <a:off x="708120" y="2476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15160" y="2476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415160" y="28303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08120" y="28299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0" y="3538080"/>
            <a:ext cx="1414080" cy="706680"/>
            <a:chOff x="0" y="3538080"/>
            <a:chExt cx="1414080" cy="706680"/>
          </a:xfrm>
        </p:grpSpPr>
        <p:sp>
          <p:nvSpPr>
            <p:cNvPr id="321" name=""/>
            <p:cNvSpPr/>
            <p:nvPr/>
          </p:nvSpPr>
          <p:spPr>
            <a:xfrm flipV="1">
              <a:off x="0" y="35380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7040" y="35384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07040" y="38916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0" y="38912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414080" y="3538080"/>
            <a:ext cx="1416600" cy="706680"/>
            <a:chOff x="1414080" y="3538080"/>
            <a:chExt cx="1416600" cy="706680"/>
          </a:xfrm>
        </p:grpSpPr>
        <p:sp>
          <p:nvSpPr>
            <p:cNvPr id="326" name=""/>
            <p:cNvSpPr/>
            <p:nvPr/>
          </p:nvSpPr>
          <p:spPr>
            <a:xfrm flipV="1">
              <a:off x="1414440" y="353808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22560" y="353844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22200" y="389160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1414080" y="389124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08120" y="3184200"/>
            <a:ext cx="1414080" cy="706680"/>
            <a:chOff x="708120" y="3184200"/>
            <a:chExt cx="1414080" cy="706680"/>
          </a:xfrm>
        </p:grpSpPr>
        <p:sp>
          <p:nvSpPr>
            <p:cNvPr id="331" name=""/>
            <p:cNvSpPr/>
            <p:nvPr/>
          </p:nvSpPr>
          <p:spPr>
            <a:xfrm flipV="1">
              <a:off x="708120" y="31842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15160" y="31845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415160" y="35377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708120" y="35373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64440" y="3890520"/>
            <a:ext cx="1415520" cy="708120"/>
            <a:chOff x="6364440" y="3890520"/>
            <a:chExt cx="1415520" cy="708120"/>
          </a:xfrm>
        </p:grpSpPr>
        <p:sp>
          <p:nvSpPr>
            <p:cNvPr id="336" name=""/>
            <p:cNvSpPr/>
            <p:nvPr/>
          </p:nvSpPr>
          <p:spPr>
            <a:xfrm flipV="1">
              <a:off x="6364440" y="3890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72200" y="3890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072200" y="4244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6364440" y="4244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780320" y="3890520"/>
            <a:ext cx="1414080" cy="708120"/>
            <a:chOff x="7780320" y="3890520"/>
            <a:chExt cx="1414080" cy="708120"/>
          </a:xfrm>
        </p:grpSpPr>
        <p:sp>
          <p:nvSpPr>
            <p:cNvPr id="341" name=""/>
            <p:cNvSpPr/>
            <p:nvPr/>
          </p:nvSpPr>
          <p:spPr>
            <a:xfrm flipV="1">
              <a:off x="7780320" y="3890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487360" y="3890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48736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7780320" y="4244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241880" y="4244760"/>
            <a:ext cx="1414080" cy="708120"/>
            <a:chOff x="4241880" y="4244760"/>
            <a:chExt cx="1414080" cy="708120"/>
          </a:xfrm>
        </p:grpSpPr>
        <p:sp>
          <p:nvSpPr>
            <p:cNvPr id="346" name=""/>
            <p:cNvSpPr/>
            <p:nvPr/>
          </p:nvSpPr>
          <p:spPr>
            <a:xfrm flipV="1">
              <a:off x="424188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48920" y="4245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948920" y="4599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241880" y="4598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656320" y="4244760"/>
            <a:ext cx="1415520" cy="708120"/>
            <a:chOff x="5656320" y="4244760"/>
            <a:chExt cx="1415520" cy="708120"/>
          </a:xfrm>
        </p:grpSpPr>
        <p:sp>
          <p:nvSpPr>
            <p:cNvPr id="351" name=""/>
            <p:cNvSpPr/>
            <p:nvPr/>
          </p:nvSpPr>
          <p:spPr>
            <a:xfrm flipV="1">
              <a:off x="5656320" y="4244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64080" y="42451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364080" y="45990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656320" y="45986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950000" y="3890520"/>
            <a:ext cx="1414080" cy="708120"/>
            <a:chOff x="4950000" y="3890520"/>
            <a:chExt cx="1414080" cy="708120"/>
          </a:xfrm>
        </p:grpSpPr>
        <p:sp>
          <p:nvSpPr>
            <p:cNvPr id="356" name=""/>
            <p:cNvSpPr/>
            <p:nvPr/>
          </p:nvSpPr>
          <p:spPr>
            <a:xfrm flipV="1">
              <a:off x="4950000" y="3890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7040" y="3890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65704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4950000" y="4244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072200" y="4244760"/>
            <a:ext cx="1414080" cy="708120"/>
            <a:chOff x="7072200" y="4244760"/>
            <a:chExt cx="1414080" cy="708120"/>
          </a:xfrm>
        </p:grpSpPr>
        <p:sp>
          <p:nvSpPr>
            <p:cNvPr id="361" name=""/>
            <p:cNvSpPr/>
            <p:nvPr/>
          </p:nvSpPr>
          <p:spPr>
            <a:xfrm flipV="1">
              <a:off x="707220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79240" y="4245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779240" y="4599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072200" y="4598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122560" y="3890520"/>
            <a:ext cx="1415520" cy="708120"/>
            <a:chOff x="2122560" y="3890520"/>
            <a:chExt cx="1415520" cy="708120"/>
          </a:xfrm>
        </p:grpSpPr>
        <p:sp>
          <p:nvSpPr>
            <p:cNvPr id="366" name=""/>
            <p:cNvSpPr/>
            <p:nvPr/>
          </p:nvSpPr>
          <p:spPr>
            <a:xfrm flipV="1">
              <a:off x="2122560" y="3890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30320" y="3890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830320" y="4244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122560" y="4244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538440" y="3890520"/>
            <a:ext cx="1414080" cy="708120"/>
            <a:chOff x="3538440" y="3890520"/>
            <a:chExt cx="1414080" cy="708120"/>
          </a:xfrm>
        </p:grpSpPr>
        <p:sp>
          <p:nvSpPr>
            <p:cNvPr id="371" name=""/>
            <p:cNvSpPr/>
            <p:nvPr/>
          </p:nvSpPr>
          <p:spPr>
            <a:xfrm flipV="1">
              <a:off x="3538440" y="3890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45480" y="3890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24548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538440" y="4244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0" y="4244760"/>
            <a:ext cx="1414080" cy="708120"/>
            <a:chOff x="0" y="4244760"/>
            <a:chExt cx="1414080" cy="708120"/>
          </a:xfrm>
        </p:grpSpPr>
        <p:sp>
          <p:nvSpPr>
            <p:cNvPr id="376" name=""/>
            <p:cNvSpPr/>
            <p:nvPr/>
          </p:nvSpPr>
          <p:spPr>
            <a:xfrm flipV="1">
              <a:off x="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7040" y="4245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07040" y="4599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0" y="4598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414080" y="4244760"/>
            <a:ext cx="1416600" cy="708120"/>
            <a:chOff x="1414080" y="4244760"/>
            <a:chExt cx="1416600" cy="708120"/>
          </a:xfrm>
        </p:grpSpPr>
        <p:sp>
          <p:nvSpPr>
            <p:cNvPr id="381" name=""/>
            <p:cNvSpPr/>
            <p:nvPr/>
          </p:nvSpPr>
          <p:spPr>
            <a:xfrm flipV="1">
              <a:off x="1414440" y="42447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22560" y="424512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122200" y="459900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1414080" y="459864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08120" y="3890520"/>
            <a:ext cx="1414080" cy="708120"/>
            <a:chOff x="708120" y="3890520"/>
            <a:chExt cx="1414080" cy="708120"/>
          </a:xfrm>
        </p:grpSpPr>
        <p:sp>
          <p:nvSpPr>
            <p:cNvPr id="386" name=""/>
            <p:cNvSpPr/>
            <p:nvPr/>
          </p:nvSpPr>
          <p:spPr>
            <a:xfrm flipV="1">
              <a:off x="708120" y="3890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5160" y="3890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41516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708120" y="4244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830680" y="4244760"/>
            <a:ext cx="1414080" cy="708120"/>
            <a:chOff x="2830680" y="4244760"/>
            <a:chExt cx="1414080" cy="708120"/>
          </a:xfrm>
        </p:grpSpPr>
        <p:sp>
          <p:nvSpPr>
            <p:cNvPr id="391" name=""/>
            <p:cNvSpPr/>
            <p:nvPr/>
          </p:nvSpPr>
          <p:spPr>
            <a:xfrm flipV="1">
              <a:off x="2830680" y="4244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7720" y="4245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537720" y="4599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830680" y="4598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245120" y="4952520"/>
            <a:ext cx="1414080" cy="708120"/>
            <a:chOff x="4245120" y="4952520"/>
            <a:chExt cx="1414080" cy="708120"/>
          </a:xfrm>
        </p:grpSpPr>
        <p:sp>
          <p:nvSpPr>
            <p:cNvPr id="396" name=""/>
            <p:cNvSpPr/>
            <p:nvPr/>
          </p:nvSpPr>
          <p:spPr>
            <a:xfrm flipV="1">
              <a:off x="4245120" y="4952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52160" y="4952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95216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4245120" y="5306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659560" y="4952520"/>
            <a:ext cx="1415520" cy="708120"/>
            <a:chOff x="5659560" y="4952520"/>
            <a:chExt cx="1415520" cy="708120"/>
          </a:xfrm>
        </p:grpSpPr>
        <p:sp>
          <p:nvSpPr>
            <p:cNvPr id="401" name=""/>
            <p:cNvSpPr/>
            <p:nvPr/>
          </p:nvSpPr>
          <p:spPr>
            <a:xfrm flipV="1">
              <a:off x="5659560" y="4952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67320" y="4952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367320" y="5306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5659560" y="5306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366960" y="5306760"/>
            <a:ext cx="1416600" cy="708120"/>
            <a:chOff x="6366960" y="5306760"/>
            <a:chExt cx="1416600" cy="708120"/>
          </a:xfrm>
        </p:grpSpPr>
        <p:sp>
          <p:nvSpPr>
            <p:cNvPr id="406" name=""/>
            <p:cNvSpPr/>
            <p:nvPr/>
          </p:nvSpPr>
          <p:spPr>
            <a:xfrm flipV="1">
              <a:off x="6367320" y="53067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75440" y="530712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075080" y="566100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366960" y="566064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783560" y="5306760"/>
            <a:ext cx="1414080" cy="708120"/>
            <a:chOff x="7783560" y="5306760"/>
            <a:chExt cx="1414080" cy="708120"/>
          </a:xfrm>
        </p:grpSpPr>
        <p:sp>
          <p:nvSpPr>
            <p:cNvPr id="411" name=""/>
            <p:cNvSpPr/>
            <p:nvPr/>
          </p:nvSpPr>
          <p:spPr>
            <a:xfrm flipV="1">
              <a:off x="778356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90600" y="5307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49060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778356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075440" y="4952520"/>
            <a:ext cx="1414080" cy="708120"/>
            <a:chOff x="7075440" y="4952520"/>
            <a:chExt cx="1414080" cy="708120"/>
          </a:xfrm>
        </p:grpSpPr>
        <p:sp>
          <p:nvSpPr>
            <p:cNvPr id="416" name=""/>
            <p:cNvSpPr/>
            <p:nvPr/>
          </p:nvSpPr>
          <p:spPr>
            <a:xfrm flipV="1">
              <a:off x="7075440" y="4952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82480" y="4952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78248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7075440" y="5306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6960" y="6014520"/>
            <a:ext cx="1416600" cy="706680"/>
            <a:chOff x="6366960" y="6014520"/>
            <a:chExt cx="1416600" cy="706680"/>
          </a:xfrm>
        </p:grpSpPr>
        <p:sp>
          <p:nvSpPr>
            <p:cNvPr id="421" name=""/>
            <p:cNvSpPr/>
            <p:nvPr/>
          </p:nvSpPr>
          <p:spPr>
            <a:xfrm flipV="1">
              <a:off x="6367320" y="601452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75440" y="601488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075080" y="636804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6366960" y="6367680"/>
              <a:ext cx="70812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783560" y="6014520"/>
            <a:ext cx="1414080" cy="706680"/>
            <a:chOff x="7783560" y="6014520"/>
            <a:chExt cx="1414080" cy="706680"/>
          </a:xfrm>
        </p:grpSpPr>
        <p:sp>
          <p:nvSpPr>
            <p:cNvPr id="426" name=""/>
            <p:cNvSpPr/>
            <p:nvPr/>
          </p:nvSpPr>
          <p:spPr>
            <a:xfrm flipV="1">
              <a:off x="7783560" y="60145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90600" y="60148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8490600" y="63680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7783560" y="63676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075440" y="5660640"/>
            <a:ext cx="1414080" cy="708120"/>
            <a:chOff x="7075440" y="5660640"/>
            <a:chExt cx="1414080" cy="708120"/>
          </a:xfrm>
        </p:grpSpPr>
        <p:sp>
          <p:nvSpPr>
            <p:cNvPr id="431" name=""/>
            <p:cNvSpPr/>
            <p:nvPr/>
          </p:nvSpPr>
          <p:spPr>
            <a:xfrm flipV="1">
              <a:off x="707544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8248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782480" y="6014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075440" y="6014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075440" y="6368760"/>
            <a:ext cx="1414080" cy="706680"/>
            <a:chOff x="7075440" y="6368760"/>
            <a:chExt cx="1414080" cy="706680"/>
          </a:xfrm>
        </p:grpSpPr>
        <p:sp>
          <p:nvSpPr>
            <p:cNvPr id="436" name=""/>
            <p:cNvSpPr/>
            <p:nvPr/>
          </p:nvSpPr>
          <p:spPr>
            <a:xfrm flipV="1">
              <a:off x="7075440" y="6368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82480" y="6369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782480" y="6722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075440" y="6721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245120" y="5660640"/>
            <a:ext cx="1414080" cy="708120"/>
            <a:chOff x="4245120" y="5660640"/>
            <a:chExt cx="1414080" cy="708120"/>
          </a:xfrm>
        </p:grpSpPr>
        <p:sp>
          <p:nvSpPr>
            <p:cNvPr id="441" name=""/>
            <p:cNvSpPr/>
            <p:nvPr/>
          </p:nvSpPr>
          <p:spPr>
            <a:xfrm flipV="1">
              <a:off x="424512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216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952160" y="6014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245120" y="6014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659560" y="5660640"/>
            <a:ext cx="1415520" cy="708120"/>
            <a:chOff x="5659560" y="5660640"/>
            <a:chExt cx="1415520" cy="708120"/>
          </a:xfrm>
        </p:grpSpPr>
        <p:sp>
          <p:nvSpPr>
            <p:cNvPr id="446" name=""/>
            <p:cNvSpPr/>
            <p:nvPr/>
          </p:nvSpPr>
          <p:spPr>
            <a:xfrm flipV="1">
              <a:off x="5659560" y="56606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67320" y="56610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367320" y="6014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659560" y="6014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952880" y="5306760"/>
            <a:ext cx="1414080" cy="708120"/>
            <a:chOff x="4952880" y="5306760"/>
            <a:chExt cx="1414080" cy="708120"/>
          </a:xfrm>
        </p:grpSpPr>
        <p:sp>
          <p:nvSpPr>
            <p:cNvPr id="451" name=""/>
            <p:cNvSpPr/>
            <p:nvPr/>
          </p:nvSpPr>
          <p:spPr>
            <a:xfrm flipV="1">
              <a:off x="495288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59920" y="5307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65992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495288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245120" y="6368760"/>
            <a:ext cx="1414080" cy="706680"/>
            <a:chOff x="4245120" y="6368760"/>
            <a:chExt cx="1414080" cy="706680"/>
          </a:xfrm>
        </p:grpSpPr>
        <p:sp>
          <p:nvSpPr>
            <p:cNvPr id="456" name=""/>
            <p:cNvSpPr/>
            <p:nvPr/>
          </p:nvSpPr>
          <p:spPr>
            <a:xfrm flipV="1">
              <a:off x="4245120" y="6368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2160" y="6369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952160" y="6722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245120" y="6721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659560" y="6368760"/>
            <a:ext cx="1415520" cy="706680"/>
            <a:chOff x="5659560" y="6368760"/>
            <a:chExt cx="1415520" cy="706680"/>
          </a:xfrm>
        </p:grpSpPr>
        <p:sp>
          <p:nvSpPr>
            <p:cNvPr id="461" name=""/>
            <p:cNvSpPr/>
            <p:nvPr/>
          </p:nvSpPr>
          <p:spPr>
            <a:xfrm flipV="1">
              <a:off x="5659560" y="63687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67320" y="63691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367320" y="67222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5659560" y="67219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952880" y="6014520"/>
            <a:ext cx="1414080" cy="706680"/>
            <a:chOff x="4952880" y="6014520"/>
            <a:chExt cx="1414080" cy="706680"/>
          </a:xfrm>
        </p:grpSpPr>
        <p:sp>
          <p:nvSpPr>
            <p:cNvPr id="466" name=""/>
            <p:cNvSpPr/>
            <p:nvPr/>
          </p:nvSpPr>
          <p:spPr>
            <a:xfrm flipV="1">
              <a:off x="4952880" y="60145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59920" y="60148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659920" y="63680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952880" y="63676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240" y="4952520"/>
            <a:ext cx="1414080" cy="708120"/>
            <a:chOff x="3240" y="4952520"/>
            <a:chExt cx="1414080" cy="708120"/>
          </a:xfrm>
        </p:grpSpPr>
        <p:sp>
          <p:nvSpPr>
            <p:cNvPr id="471" name=""/>
            <p:cNvSpPr/>
            <p:nvPr/>
          </p:nvSpPr>
          <p:spPr>
            <a:xfrm flipV="1">
              <a:off x="3240" y="4952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0280" y="4952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1028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3240" y="5306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417680" y="4952520"/>
            <a:ext cx="1415520" cy="708120"/>
            <a:chOff x="1417680" y="4952520"/>
            <a:chExt cx="1415520" cy="708120"/>
          </a:xfrm>
        </p:grpSpPr>
        <p:sp>
          <p:nvSpPr>
            <p:cNvPr id="476" name=""/>
            <p:cNvSpPr/>
            <p:nvPr/>
          </p:nvSpPr>
          <p:spPr>
            <a:xfrm flipV="1">
              <a:off x="1417680" y="4952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25440" y="4952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125440" y="5306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1417680" y="53064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125800" y="5306760"/>
            <a:ext cx="1415520" cy="708120"/>
            <a:chOff x="2125800" y="5306760"/>
            <a:chExt cx="1415520" cy="708120"/>
          </a:xfrm>
        </p:grpSpPr>
        <p:sp>
          <p:nvSpPr>
            <p:cNvPr id="481" name=""/>
            <p:cNvSpPr/>
            <p:nvPr/>
          </p:nvSpPr>
          <p:spPr>
            <a:xfrm flipV="1">
              <a:off x="2125800" y="53067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33560" y="53071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33560" y="56610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2125800" y="56606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541680" y="5306760"/>
            <a:ext cx="1414080" cy="708120"/>
            <a:chOff x="3541680" y="5306760"/>
            <a:chExt cx="1414080" cy="708120"/>
          </a:xfrm>
        </p:grpSpPr>
        <p:sp>
          <p:nvSpPr>
            <p:cNvPr id="486" name=""/>
            <p:cNvSpPr/>
            <p:nvPr/>
          </p:nvSpPr>
          <p:spPr>
            <a:xfrm flipV="1">
              <a:off x="354168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8720" y="5307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24872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354168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33560" y="4952520"/>
            <a:ext cx="1414080" cy="708120"/>
            <a:chOff x="2833560" y="4952520"/>
            <a:chExt cx="1414080" cy="708120"/>
          </a:xfrm>
        </p:grpSpPr>
        <p:sp>
          <p:nvSpPr>
            <p:cNvPr id="491" name=""/>
            <p:cNvSpPr/>
            <p:nvPr/>
          </p:nvSpPr>
          <p:spPr>
            <a:xfrm flipV="1">
              <a:off x="2833560" y="4952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40600" y="4952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54060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833560" y="53064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125800" y="6014520"/>
            <a:ext cx="1415520" cy="706680"/>
            <a:chOff x="2125800" y="6014520"/>
            <a:chExt cx="1415520" cy="706680"/>
          </a:xfrm>
        </p:grpSpPr>
        <p:sp>
          <p:nvSpPr>
            <p:cNvPr id="496" name=""/>
            <p:cNvSpPr/>
            <p:nvPr/>
          </p:nvSpPr>
          <p:spPr>
            <a:xfrm flipV="1">
              <a:off x="2125800" y="60145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3560" y="60148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833560" y="636804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125800" y="63676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541680" y="6014520"/>
            <a:ext cx="1414080" cy="706680"/>
            <a:chOff x="3541680" y="6014520"/>
            <a:chExt cx="1414080" cy="706680"/>
          </a:xfrm>
        </p:grpSpPr>
        <p:sp>
          <p:nvSpPr>
            <p:cNvPr id="501" name=""/>
            <p:cNvSpPr/>
            <p:nvPr/>
          </p:nvSpPr>
          <p:spPr>
            <a:xfrm flipV="1">
              <a:off x="3541680" y="60145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48720" y="60148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248720" y="63680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541680" y="63676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833560" y="5660640"/>
            <a:ext cx="1414080" cy="708120"/>
            <a:chOff x="2833560" y="5660640"/>
            <a:chExt cx="1414080" cy="708120"/>
          </a:xfrm>
        </p:grpSpPr>
        <p:sp>
          <p:nvSpPr>
            <p:cNvPr id="506" name=""/>
            <p:cNvSpPr/>
            <p:nvPr/>
          </p:nvSpPr>
          <p:spPr>
            <a:xfrm flipV="1">
              <a:off x="283356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060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540600" y="6014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833560" y="6014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833560" y="6368760"/>
            <a:ext cx="1414080" cy="706680"/>
            <a:chOff x="2833560" y="6368760"/>
            <a:chExt cx="1414080" cy="706680"/>
          </a:xfrm>
        </p:grpSpPr>
        <p:sp>
          <p:nvSpPr>
            <p:cNvPr id="511" name=""/>
            <p:cNvSpPr/>
            <p:nvPr/>
          </p:nvSpPr>
          <p:spPr>
            <a:xfrm flipV="1">
              <a:off x="2833560" y="6368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40600" y="6369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540600" y="6722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2833560" y="6721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40" y="5660640"/>
            <a:ext cx="1414080" cy="708120"/>
            <a:chOff x="3240" y="5660640"/>
            <a:chExt cx="1414080" cy="708120"/>
          </a:xfrm>
        </p:grpSpPr>
        <p:sp>
          <p:nvSpPr>
            <p:cNvPr id="516" name=""/>
            <p:cNvSpPr/>
            <p:nvPr/>
          </p:nvSpPr>
          <p:spPr>
            <a:xfrm flipV="1">
              <a:off x="324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28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10280" y="60148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240" y="60145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417680" y="5660640"/>
            <a:ext cx="1415520" cy="708120"/>
            <a:chOff x="1417680" y="5660640"/>
            <a:chExt cx="1415520" cy="708120"/>
          </a:xfrm>
        </p:grpSpPr>
        <p:sp>
          <p:nvSpPr>
            <p:cNvPr id="521" name=""/>
            <p:cNvSpPr/>
            <p:nvPr/>
          </p:nvSpPr>
          <p:spPr>
            <a:xfrm flipV="1">
              <a:off x="1417680" y="56606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25440" y="56610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125440" y="60148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1417680" y="601452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11360" y="5306760"/>
            <a:ext cx="1414080" cy="708120"/>
            <a:chOff x="711360" y="5306760"/>
            <a:chExt cx="1414080" cy="708120"/>
          </a:xfrm>
        </p:grpSpPr>
        <p:sp>
          <p:nvSpPr>
            <p:cNvPr id="526" name=""/>
            <p:cNvSpPr/>
            <p:nvPr/>
          </p:nvSpPr>
          <p:spPr>
            <a:xfrm flipV="1">
              <a:off x="711360" y="53067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18400" y="530712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418400" y="56610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711360" y="56606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240" y="6368760"/>
            <a:ext cx="1414080" cy="706680"/>
            <a:chOff x="3240" y="6368760"/>
            <a:chExt cx="1414080" cy="706680"/>
          </a:xfrm>
        </p:grpSpPr>
        <p:sp>
          <p:nvSpPr>
            <p:cNvPr id="531" name=""/>
            <p:cNvSpPr/>
            <p:nvPr/>
          </p:nvSpPr>
          <p:spPr>
            <a:xfrm flipV="1">
              <a:off x="3240" y="636876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0280" y="63691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10280" y="67222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3240" y="67219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417680" y="6368760"/>
            <a:ext cx="1415520" cy="706680"/>
            <a:chOff x="1417680" y="6368760"/>
            <a:chExt cx="1415520" cy="706680"/>
          </a:xfrm>
        </p:grpSpPr>
        <p:sp>
          <p:nvSpPr>
            <p:cNvPr id="536" name=""/>
            <p:cNvSpPr/>
            <p:nvPr/>
          </p:nvSpPr>
          <p:spPr>
            <a:xfrm flipV="1">
              <a:off x="1417680" y="636876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25440" y="63691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2125440" y="672228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1417680" y="6721920"/>
              <a:ext cx="70776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11360" y="6014520"/>
            <a:ext cx="1414080" cy="706680"/>
            <a:chOff x="711360" y="6014520"/>
            <a:chExt cx="1414080" cy="706680"/>
          </a:xfrm>
        </p:grpSpPr>
        <p:sp>
          <p:nvSpPr>
            <p:cNvPr id="541" name=""/>
            <p:cNvSpPr/>
            <p:nvPr/>
          </p:nvSpPr>
          <p:spPr>
            <a:xfrm flipV="1">
              <a:off x="711360" y="601452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18400" y="60148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418400" y="63680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711360" y="63676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366960" y="6721200"/>
            <a:ext cx="1416600" cy="708120"/>
            <a:chOff x="6366960" y="6721200"/>
            <a:chExt cx="1416600" cy="708120"/>
          </a:xfrm>
        </p:grpSpPr>
        <p:sp>
          <p:nvSpPr>
            <p:cNvPr id="546" name=""/>
            <p:cNvSpPr/>
            <p:nvPr/>
          </p:nvSpPr>
          <p:spPr>
            <a:xfrm flipV="1">
              <a:off x="6367320" y="672120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5440" y="672156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075080" y="707544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6366960" y="7075080"/>
              <a:ext cx="70812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7783560" y="6721200"/>
            <a:ext cx="1414080" cy="708120"/>
            <a:chOff x="7783560" y="6721200"/>
            <a:chExt cx="1414080" cy="708120"/>
          </a:xfrm>
        </p:grpSpPr>
        <p:sp>
          <p:nvSpPr>
            <p:cNvPr id="551" name=""/>
            <p:cNvSpPr/>
            <p:nvPr/>
          </p:nvSpPr>
          <p:spPr>
            <a:xfrm flipV="1">
              <a:off x="7783560" y="6721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90600" y="6721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8490600" y="7075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7783560" y="7075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952880" y="6721200"/>
            <a:ext cx="1414080" cy="708120"/>
            <a:chOff x="4952880" y="6721200"/>
            <a:chExt cx="1414080" cy="708120"/>
          </a:xfrm>
        </p:grpSpPr>
        <p:sp>
          <p:nvSpPr>
            <p:cNvPr id="556" name=""/>
            <p:cNvSpPr/>
            <p:nvPr/>
          </p:nvSpPr>
          <p:spPr>
            <a:xfrm flipV="1">
              <a:off x="4952880" y="6721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59920" y="6721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659920" y="7075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4952880" y="7075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125800" y="6721200"/>
            <a:ext cx="1415520" cy="708120"/>
            <a:chOff x="2125800" y="6721200"/>
            <a:chExt cx="1415520" cy="708120"/>
          </a:xfrm>
        </p:grpSpPr>
        <p:sp>
          <p:nvSpPr>
            <p:cNvPr id="561" name=""/>
            <p:cNvSpPr/>
            <p:nvPr/>
          </p:nvSpPr>
          <p:spPr>
            <a:xfrm flipV="1">
              <a:off x="2125800" y="672120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33560" y="672156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833560" y="707544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2125800" y="7075080"/>
              <a:ext cx="70776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541680" y="6721200"/>
            <a:ext cx="1414080" cy="708120"/>
            <a:chOff x="3541680" y="6721200"/>
            <a:chExt cx="1414080" cy="708120"/>
          </a:xfrm>
        </p:grpSpPr>
        <p:sp>
          <p:nvSpPr>
            <p:cNvPr id="566" name=""/>
            <p:cNvSpPr/>
            <p:nvPr/>
          </p:nvSpPr>
          <p:spPr>
            <a:xfrm flipV="1">
              <a:off x="3541680" y="6721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8720" y="6721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248720" y="7075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541680" y="7075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11360" y="6721200"/>
            <a:ext cx="1414080" cy="708120"/>
            <a:chOff x="711360" y="6721200"/>
            <a:chExt cx="1414080" cy="708120"/>
          </a:xfrm>
        </p:grpSpPr>
        <p:sp>
          <p:nvSpPr>
            <p:cNvPr id="571" name=""/>
            <p:cNvSpPr/>
            <p:nvPr/>
          </p:nvSpPr>
          <p:spPr>
            <a:xfrm flipV="1">
              <a:off x="711360" y="672120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18400" y="672156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418400" y="707544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11360" y="7075080"/>
              <a:ext cx="707040" cy="353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777080" y="4600080"/>
            <a:ext cx="1414080" cy="706680"/>
            <a:chOff x="7777080" y="4600080"/>
            <a:chExt cx="1414080" cy="706680"/>
          </a:xfrm>
        </p:grpSpPr>
        <p:sp>
          <p:nvSpPr>
            <p:cNvPr id="576" name=""/>
            <p:cNvSpPr/>
            <p:nvPr/>
          </p:nvSpPr>
          <p:spPr>
            <a:xfrm flipV="1">
              <a:off x="7777080" y="460008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84120" y="46004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484120" y="495360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7777080" y="4953240"/>
              <a:ext cx="707040" cy="353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838224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o &amp; Implementação de Jogos – 200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Extensão do wGEM para suporte a jogos isométr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nando Tr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ar Mir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ó para lembrar... (ou para explicar pela 1a. vez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904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gos Isométricos (2D ½ 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egação não 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ção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31000" y="15238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13360" y="2209680"/>
            <a:ext cx="18352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6217200" y="1904400"/>
            <a:ext cx="1227600" cy="611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36800" y="1561680"/>
            <a:ext cx="2586240" cy="1293840"/>
            <a:chOff x="5536800" y="1561680"/>
            <a:chExt cx="2586240" cy="1293840"/>
          </a:xfrm>
        </p:grpSpPr>
        <p:grpSp>
          <p:nvGrpSpPr>
            <p:cNvPr id="627" name=""/>
            <p:cNvGrpSpPr/>
            <p:nvPr/>
          </p:nvGrpSpPr>
          <p:grpSpPr>
            <a:xfrm>
              <a:off x="5967000" y="1776240"/>
              <a:ext cx="862200" cy="431640"/>
              <a:chOff x="5967000" y="1776240"/>
              <a:chExt cx="862200" cy="431640"/>
            </a:xfrm>
          </p:grpSpPr>
          <p:sp>
            <p:nvSpPr>
              <p:cNvPr id="628" name=""/>
              <p:cNvSpPr/>
              <p:nvPr/>
            </p:nvSpPr>
            <p:spPr>
              <a:xfrm flipV="1">
                <a:off x="5967360" y="177624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398280" y="177660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6397920" y="199224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5967000" y="199188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536800" y="1992240"/>
              <a:ext cx="862200" cy="432000"/>
              <a:chOff x="5536800" y="1992240"/>
              <a:chExt cx="862200" cy="43200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553716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6808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96772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553680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399000" y="1561680"/>
              <a:ext cx="862200" cy="430200"/>
              <a:chOff x="6399000" y="1561680"/>
              <a:chExt cx="862200" cy="43020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6399360" y="1561680"/>
                <a:ext cx="430920" cy="21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30280" y="1562040"/>
                <a:ext cx="430920" cy="21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829920" y="1776960"/>
                <a:ext cx="430920" cy="21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6399000" y="1776600"/>
                <a:ext cx="430920" cy="21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6399000" y="1992240"/>
              <a:ext cx="862200" cy="432000"/>
              <a:chOff x="6399000" y="1992240"/>
              <a:chExt cx="862200" cy="43200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639936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3028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82992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39900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260840" y="1992240"/>
              <a:ext cx="862200" cy="432000"/>
              <a:chOff x="7260840" y="1992240"/>
              <a:chExt cx="862200" cy="43200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726120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92120" y="1992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69176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726084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829200" y="1776240"/>
              <a:ext cx="862200" cy="431640"/>
              <a:chOff x="6829200" y="1776240"/>
              <a:chExt cx="862200" cy="431640"/>
            </a:xfrm>
          </p:grpSpPr>
          <p:sp>
            <p:nvSpPr>
              <p:cNvPr id="653" name=""/>
              <p:cNvSpPr/>
              <p:nvPr/>
            </p:nvSpPr>
            <p:spPr>
              <a:xfrm flipV="1">
                <a:off x="6829560" y="177624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60480" y="177660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7260120" y="199224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6829200" y="199188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967000" y="2208240"/>
              <a:ext cx="862200" cy="432000"/>
              <a:chOff x="5967000" y="2208240"/>
              <a:chExt cx="862200" cy="43200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596736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9828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397920" y="2424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5967000" y="2424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399000" y="2423880"/>
              <a:ext cx="862200" cy="431640"/>
              <a:chOff x="6399000" y="2423880"/>
              <a:chExt cx="862200" cy="43164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6399360" y="242388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830280" y="242424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6829920" y="263988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6399000" y="2639520"/>
                <a:ext cx="43092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829200" y="2208240"/>
              <a:ext cx="862200" cy="432000"/>
              <a:chOff x="6829200" y="2208240"/>
              <a:chExt cx="862200" cy="43200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682956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60480" y="2208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260120" y="2424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6829200" y="2424240"/>
                <a:ext cx="43092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 flipV="1">
            <a:off x="6217200" y="1904400"/>
            <a:ext cx="1227600" cy="611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0880" y="3657600"/>
            <a:ext cx="8382240" cy="190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tor de jogos para dispositivos mó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va 2 Micro Edition – J2ME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estões de Implemen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são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pas a serem implementad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lide (L e R), Staggered, Diamond e um Hexag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023920" y="2639520"/>
            <a:ext cx="576000" cy="289080"/>
            <a:chOff x="2023920" y="2639520"/>
            <a:chExt cx="576000" cy="289080"/>
          </a:xfrm>
        </p:grpSpPr>
        <p:sp>
          <p:nvSpPr>
            <p:cNvPr id="677" name=""/>
            <p:cNvSpPr/>
            <p:nvPr/>
          </p:nvSpPr>
          <p:spPr>
            <a:xfrm flipV="1">
              <a:off x="2023920" y="263952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920" y="263988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311920" y="278424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2023920" y="278388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736640" y="2784240"/>
            <a:ext cx="574560" cy="289080"/>
            <a:chOff x="1736640" y="2784240"/>
            <a:chExt cx="574560" cy="289080"/>
          </a:xfrm>
        </p:grpSpPr>
        <p:sp>
          <p:nvSpPr>
            <p:cNvPr id="682" name=""/>
            <p:cNvSpPr/>
            <p:nvPr/>
          </p:nvSpPr>
          <p:spPr>
            <a:xfrm flipV="1">
              <a:off x="1736640" y="2784240"/>
              <a:ext cx="287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23920" y="2784600"/>
              <a:ext cx="287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023920" y="2928960"/>
              <a:ext cx="287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1736640" y="2928600"/>
              <a:ext cx="287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311560" y="2784240"/>
            <a:ext cx="576000" cy="289080"/>
            <a:chOff x="2311560" y="2784240"/>
            <a:chExt cx="576000" cy="289080"/>
          </a:xfrm>
        </p:grpSpPr>
        <p:sp>
          <p:nvSpPr>
            <p:cNvPr id="687" name=""/>
            <p:cNvSpPr/>
            <p:nvPr/>
          </p:nvSpPr>
          <p:spPr>
            <a:xfrm flipV="1">
              <a:off x="2311560" y="278424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9560" y="278460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599560" y="292896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311560" y="292860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447920" y="2928600"/>
            <a:ext cx="576000" cy="287640"/>
            <a:chOff x="1447920" y="2928600"/>
            <a:chExt cx="576000" cy="287640"/>
          </a:xfrm>
        </p:grpSpPr>
        <p:sp>
          <p:nvSpPr>
            <p:cNvPr id="692" name=""/>
            <p:cNvSpPr/>
            <p:nvPr/>
          </p:nvSpPr>
          <p:spPr>
            <a:xfrm flipV="1">
              <a:off x="1447920" y="292860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35920" y="292896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735920" y="307260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1447920" y="307224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023920" y="2928600"/>
            <a:ext cx="576000" cy="287640"/>
            <a:chOff x="2023920" y="2928600"/>
            <a:chExt cx="576000" cy="287640"/>
          </a:xfrm>
        </p:grpSpPr>
        <p:sp>
          <p:nvSpPr>
            <p:cNvPr id="697" name=""/>
            <p:cNvSpPr/>
            <p:nvPr/>
          </p:nvSpPr>
          <p:spPr>
            <a:xfrm flipV="1">
              <a:off x="2023920" y="292860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11920" y="292896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311920" y="307260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023920" y="307224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311560" y="3072960"/>
            <a:ext cx="576000" cy="287640"/>
            <a:chOff x="2311560" y="3072960"/>
            <a:chExt cx="576000" cy="287640"/>
          </a:xfrm>
        </p:grpSpPr>
        <p:sp>
          <p:nvSpPr>
            <p:cNvPr id="702" name=""/>
            <p:cNvSpPr/>
            <p:nvPr/>
          </p:nvSpPr>
          <p:spPr>
            <a:xfrm flipV="1">
              <a:off x="2311560" y="307296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99560" y="307332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599560" y="321696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2311560" y="3216600"/>
              <a:ext cx="28800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600280" y="2928600"/>
            <a:ext cx="574560" cy="287640"/>
            <a:chOff x="2600280" y="2928600"/>
            <a:chExt cx="574560" cy="287640"/>
          </a:xfrm>
        </p:grpSpPr>
        <p:sp>
          <p:nvSpPr>
            <p:cNvPr id="707" name=""/>
            <p:cNvSpPr/>
            <p:nvPr/>
          </p:nvSpPr>
          <p:spPr>
            <a:xfrm flipV="1">
              <a:off x="2600280" y="292860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87560" y="292896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2887560" y="307260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600280" y="307224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023920" y="3215880"/>
            <a:ext cx="576000" cy="289080"/>
            <a:chOff x="2023920" y="3215880"/>
            <a:chExt cx="576000" cy="289080"/>
          </a:xfrm>
        </p:grpSpPr>
        <p:sp>
          <p:nvSpPr>
            <p:cNvPr id="712" name=""/>
            <p:cNvSpPr/>
            <p:nvPr/>
          </p:nvSpPr>
          <p:spPr>
            <a:xfrm flipV="1">
              <a:off x="2023920" y="321588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11920" y="321624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311920" y="336060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2023920" y="3360240"/>
              <a:ext cx="288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1736640" y="3072960"/>
            <a:ext cx="574560" cy="287640"/>
            <a:chOff x="1736640" y="3072960"/>
            <a:chExt cx="574560" cy="287640"/>
          </a:xfrm>
        </p:grpSpPr>
        <p:sp>
          <p:nvSpPr>
            <p:cNvPr id="717" name=""/>
            <p:cNvSpPr/>
            <p:nvPr/>
          </p:nvSpPr>
          <p:spPr>
            <a:xfrm flipV="1">
              <a:off x="1736640" y="307296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23920" y="307332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023920" y="321696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736640" y="3216600"/>
              <a:ext cx="2872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2639520"/>
            <a:ext cx="1726200" cy="864000"/>
            <a:chOff x="3505320" y="2639520"/>
            <a:chExt cx="1726200" cy="864000"/>
          </a:xfrm>
        </p:grpSpPr>
        <p:grpSp>
          <p:nvGrpSpPr>
            <p:cNvPr id="722" name=""/>
            <p:cNvGrpSpPr/>
            <p:nvPr/>
          </p:nvGrpSpPr>
          <p:grpSpPr>
            <a:xfrm>
              <a:off x="3505320" y="2639520"/>
              <a:ext cx="576000" cy="287640"/>
              <a:chOff x="3505320" y="2639520"/>
              <a:chExt cx="576000" cy="287640"/>
            </a:xfrm>
          </p:grpSpPr>
          <p:sp>
            <p:nvSpPr>
              <p:cNvPr id="723" name=""/>
              <p:cNvSpPr/>
              <p:nvPr/>
            </p:nvSpPr>
            <p:spPr>
              <a:xfrm flipV="1">
                <a:off x="3505320" y="2639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793320" y="2639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793320" y="2783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3505320" y="27831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081320" y="2639520"/>
              <a:ext cx="576000" cy="287640"/>
              <a:chOff x="4081320" y="2639520"/>
              <a:chExt cx="576000" cy="287640"/>
            </a:xfrm>
          </p:grpSpPr>
          <p:sp>
            <p:nvSpPr>
              <p:cNvPr id="728" name=""/>
              <p:cNvSpPr/>
              <p:nvPr/>
            </p:nvSpPr>
            <p:spPr>
              <a:xfrm flipV="1">
                <a:off x="4081320" y="2639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369320" y="2639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4369320" y="2783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4081320" y="27831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4368600" y="2783880"/>
              <a:ext cx="576000" cy="287640"/>
              <a:chOff x="4368600" y="2783880"/>
              <a:chExt cx="576000" cy="287640"/>
            </a:xfrm>
          </p:grpSpPr>
          <p:sp>
            <p:nvSpPr>
              <p:cNvPr id="733" name=""/>
              <p:cNvSpPr/>
              <p:nvPr/>
            </p:nvSpPr>
            <p:spPr>
              <a:xfrm flipV="1">
                <a:off x="4368600" y="2783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56600" y="27842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656600" y="2927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4368600" y="2927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657320" y="2639520"/>
              <a:ext cx="574200" cy="287640"/>
              <a:chOff x="4657320" y="2639520"/>
              <a:chExt cx="574200" cy="28764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4657680" y="26395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944600" y="26398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944240" y="27835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4657320" y="27831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4368600" y="3071160"/>
              <a:ext cx="576000" cy="287640"/>
              <a:chOff x="4368600" y="3071160"/>
              <a:chExt cx="576000" cy="28764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4368600" y="30711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656600" y="3071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4656600" y="32151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4368600" y="32148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4657320" y="2926800"/>
              <a:ext cx="574200" cy="289080"/>
              <a:chOff x="4657320" y="2926800"/>
              <a:chExt cx="574200" cy="2890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4657680" y="292680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944600" y="292716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4944240" y="307152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4657320" y="307116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4657320" y="3215880"/>
              <a:ext cx="574200" cy="287640"/>
              <a:chOff x="4657320" y="3215880"/>
              <a:chExt cx="574200" cy="287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4657680" y="32158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944600" y="32162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4944240" y="33598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4657320" y="33595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3505320" y="2926800"/>
              <a:ext cx="576000" cy="289080"/>
              <a:chOff x="3505320" y="2926800"/>
              <a:chExt cx="576000" cy="289080"/>
            </a:xfrm>
          </p:grpSpPr>
          <p:sp>
            <p:nvSpPr>
              <p:cNvPr id="758" name=""/>
              <p:cNvSpPr/>
              <p:nvPr/>
            </p:nvSpPr>
            <p:spPr>
              <a:xfrm flipV="1">
                <a:off x="3505320" y="292680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93320" y="292716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793320" y="307152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3505320" y="307116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081320" y="2926800"/>
              <a:ext cx="576000" cy="289080"/>
              <a:chOff x="4081320" y="2926800"/>
              <a:chExt cx="576000" cy="289080"/>
            </a:xfrm>
          </p:grpSpPr>
          <p:sp>
            <p:nvSpPr>
              <p:cNvPr id="763" name=""/>
              <p:cNvSpPr/>
              <p:nvPr/>
            </p:nvSpPr>
            <p:spPr>
              <a:xfrm flipV="1">
                <a:off x="4081320" y="292680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69320" y="292716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4369320" y="307152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4081320" y="307116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3793680" y="2783880"/>
              <a:ext cx="574200" cy="287640"/>
              <a:chOff x="3793680" y="2783880"/>
              <a:chExt cx="574200" cy="287640"/>
            </a:xfrm>
          </p:grpSpPr>
          <p:sp>
            <p:nvSpPr>
              <p:cNvPr id="768" name=""/>
              <p:cNvSpPr/>
              <p:nvPr/>
            </p:nvSpPr>
            <p:spPr>
              <a:xfrm flipV="1">
                <a:off x="3794040" y="27838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80960" y="27842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4080600" y="29278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3793680" y="29275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505320" y="3215880"/>
              <a:ext cx="576000" cy="287640"/>
              <a:chOff x="3505320" y="3215880"/>
              <a:chExt cx="576000" cy="287640"/>
            </a:xfrm>
          </p:grpSpPr>
          <p:sp>
            <p:nvSpPr>
              <p:cNvPr id="773" name=""/>
              <p:cNvSpPr/>
              <p:nvPr/>
            </p:nvSpPr>
            <p:spPr>
              <a:xfrm flipV="1">
                <a:off x="3505320" y="3215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93320" y="32162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793320" y="3359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3505320" y="3359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081320" y="3215880"/>
              <a:ext cx="576000" cy="287640"/>
              <a:chOff x="4081320" y="3215880"/>
              <a:chExt cx="576000" cy="287640"/>
            </a:xfrm>
          </p:grpSpPr>
          <p:sp>
            <p:nvSpPr>
              <p:cNvPr id="778" name=""/>
              <p:cNvSpPr/>
              <p:nvPr/>
            </p:nvSpPr>
            <p:spPr>
              <a:xfrm flipV="1">
                <a:off x="4081320" y="3215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369320" y="32162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369320" y="33598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 flipV="1">
                <a:off x="4081320" y="33595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793680" y="3071160"/>
              <a:ext cx="574200" cy="287640"/>
              <a:chOff x="3793680" y="3071160"/>
              <a:chExt cx="574200" cy="28764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3794040" y="30711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080960" y="30715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080600" y="32151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3793680" y="32148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" name=""/>
          <p:cNvGrpSpPr/>
          <p:nvPr/>
        </p:nvGrpSpPr>
        <p:grpSpPr>
          <a:xfrm>
            <a:off x="5410080" y="2715840"/>
            <a:ext cx="2301480" cy="576360"/>
            <a:chOff x="5410080" y="2715840"/>
            <a:chExt cx="2301480" cy="576360"/>
          </a:xfrm>
        </p:grpSpPr>
        <p:grpSp>
          <p:nvGrpSpPr>
            <p:cNvPr id="788" name=""/>
            <p:cNvGrpSpPr/>
            <p:nvPr/>
          </p:nvGrpSpPr>
          <p:grpSpPr>
            <a:xfrm>
              <a:off x="7135560" y="2715840"/>
              <a:ext cx="576000" cy="287640"/>
              <a:chOff x="7135560" y="2715840"/>
              <a:chExt cx="576000" cy="2876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7135560" y="2715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23560" y="2716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423560" y="2859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7135560" y="28594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986080" y="2715840"/>
              <a:ext cx="576000" cy="287640"/>
              <a:chOff x="5986080" y="2715840"/>
              <a:chExt cx="576000" cy="287640"/>
            </a:xfrm>
          </p:grpSpPr>
          <p:sp>
            <p:nvSpPr>
              <p:cNvPr id="794" name=""/>
              <p:cNvSpPr/>
              <p:nvPr/>
            </p:nvSpPr>
            <p:spPr>
              <a:xfrm flipV="1">
                <a:off x="5986080" y="2715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74080" y="2716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274080" y="2859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 flipV="1">
                <a:off x="5986080" y="28594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273360" y="2860200"/>
              <a:ext cx="576000" cy="287640"/>
              <a:chOff x="6273360" y="2860200"/>
              <a:chExt cx="576000" cy="287640"/>
            </a:xfrm>
          </p:grpSpPr>
          <p:sp>
            <p:nvSpPr>
              <p:cNvPr id="799" name=""/>
              <p:cNvSpPr/>
              <p:nvPr/>
            </p:nvSpPr>
            <p:spPr>
              <a:xfrm flipV="1">
                <a:off x="6273360" y="2860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561360" y="28605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561360" y="3004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6273360" y="3003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6849720" y="2860200"/>
              <a:ext cx="576000" cy="287640"/>
              <a:chOff x="6849720" y="2860200"/>
              <a:chExt cx="576000" cy="28764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6849720" y="2860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137720" y="28605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7137720" y="30042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6849720" y="30038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562080" y="2715840"/>
              <a:ext cx="574200" cy="287640"/>
              <a:chOff x="6562080" y="2715840"/>
              <a:chExt cx="574200" cy="28764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6562440" y="27158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9360" y="27162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849000" y="28598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6562080" y="28594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562080" y="3003120"/>
              <a:ext cx="574200" cy="289080"/>
              <a:chOff x="6562080" y="3003120"/>
              <a:chExt cx="574200" cy="28908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6562440" y="300312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849360" y="300348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49000" y="314784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flipV="1">
                <a:off x="6562080" y="314748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410080" y="3003120"/>
              <a:ext cx="576000" cy="289080"/>
              <a:chOff x="5410080" y="3003120"/>
              <a:chExt cx="576000" cy="289080"/>
            </a:xfrm>
          </p:grpSpPr>
          <p:sp>
            <p:nvSpPr>
              <p:cNvPr id="819" name=""/>
              <p:cNvSpPr/>
              <p:nvPr/>
            </p:nvSpPr>
            <p:spPr>
              <a:xfrm flipV="1">
                <a:off x="5410080" y="300312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698080" y="30034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5698080" y="31478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flipV="1">
                <a:off x="5410080" y="31474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986080" y="3003120"/>
              <a:ext cx="576000" cy="289080"/>
              <a:chOff x="5986080" y="3003120"/>
              <a:chExt cx="576000" cy="289080"/>
            </a:xfrm>
          </p:grpSpPr>
          <p:sp>
            <p:nvSpPr>
              <p:cNvPr id="824" name=""/>
              <p:cNvSpPr/>
              <p:nvPr/>
            </p:nvSpPr>
            <p:spPr>
              <a:xfrm flipV="1">
                <a:off x="5986080" y="300312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74080" y="30034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6274080" y="31478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5986080" y="31474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698440" y="2860200"/>
              <a:ext cx="574200" cy="287640"/>
              <a:chOff x="5698440" y="2860200"/>
              <a:chExt cx="574200" cy="28764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5698800" y="28602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985720" y="28605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5985360" y="30042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flipV="1">
                <a:off x="5698440" y="30038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1737000" y="4343040"/>
            <a:ext cx="2301480" cy="576720"/>
            <a:chOff x="1737000" y="4343040"/>
            <a:chExt cx="2301480" cy="576720"/>
          </a:xfrm>
        </p:grpSpPr>
        <p:grpSp>
          <p:nvGrpSpPr>
            <p:cNvPr id="834" name=""/>
            <p:cNvGrpSpPr/>
            <p:nvPr/>
          </p:nvGrpSpPr>
          <p:grpSpPr>
            <a:xfrm>
              <a:off x="1737000" y="4343040"/>
              <a:ext cx="576000" cy="287640"/>
              <a:chOff x="1737000" y="4343040"/>
              <a:chExt cx="576000" cy="287640"/>
            </a:xfrm>
          </p:grpSpPr>
          <p:sp>
            <p:nvSpPr>
              <p:cNvPr id="835" name=""/>
              <p:cNvSpPr/>
              <p:nvPr/>
            </p:nvSpPr>
            <p:spPr>
              <a:xfrm flipH="1" flipV="1">
                <a:off x="2025000" y="43430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1737000" y="43434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37000" y="44870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025000" y="44866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2886480" y="4343040"/>
              <a:ext cx="576000" cy="287640"/>
              <a:chOff x="2886480" y="4343040"/>
              <a:chExt cx="576000" cy="287640"/>
            </a:xfrm>
          </p:grpSpPr>
          <p:sp>
            <p:nvSpPr>
              <p:cNvPr id="840" name=""/>
              <p:cNvSpPr/>
              <p:nvPr/>
            </p:nvSpPr>
            <p:spPr>
              <a:xfrm flipH="1" flipV="1">
                <a:off x="3174480" y="43430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2886480" y="43434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886480" y="448704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3174480" y="448668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599200" y="4487760"/>
              <a:ext cx="576000" cy="287640"/>
              <a:chOff x="2599200" y="4487760"/>
              <a:chExt cx="576000" cy="287640"/>
            </a:xfrm>
          </p:grpSpPr>
          <p:sp>
            <p:nvSpPr>
              <p:cNvPr id="845" name=""/>
              <p:cNvSpPr/>
              <p:nvPr/>
            </p:nvSpPr>
            <p:spPr>
              <a:xfrm flipH="1" flipV="1">
                <a:off x="2887200" y="44877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2599200" y="44881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599200" y="46317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887200" y="46314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022840" y="4487760"/>
              <a:ext cx="576000" cy="287640"/>
              <a:chOff x="2022840" y="4487760"/>
              <a:chExt cx="576000" cy="287640"/>
            </a:xfrm>
          </p:grpSpPr>
          <p:sp>
            <p:nvSpPr>
              <p:cNvPr id="850" name=""/>
              <p:cNvSpPr/>
              <p:nvPr/>
            </p:nvSpPr>
            <p:spPr>
              <a:xfrm flipH="1" flipV="1">
                <a:off x="2310840" y="44877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2022840" y="448812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22840" y="463176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2310840" y="4631400"/>
                <a:ext cx="28800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2312280" y="4343040"/>
              <a:ext cx="574200" cy="287640"/>
              <a:chOff x="2312280" y="4343040"/>
              <a:chExt cx="574200" cy="287640"/>
            </a:xfrm>
          </p:grpSpPr>
          <p:sp>
            <p:nvSpPr>
              <p:cNvPr id="855" name=""/>
              <p:cNvSpPr/>
              <p:nvPr/>
            </p:nvSpPr>
            <p:spPr>
              <a:xfrm flipH="1" flipV="1">
                <a:off x="2599200" y="43430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2312280" y="43434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12640" y="448704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2599560" y="448668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312280" y="4630680"/>
              <a:ext cx="574200" cy="289080"/>
              <a:chOff x="2312280" y="4630680"/>
              <a:chExt cx="574200" cy="289080"/>
            </a:xfrm>
          </p:grpSpPr>
          <p:sp>
            <p:nvSpPr>
              <p:cNvPr id="860" name=""/>
              <p:cNvSpPr/>
              <p:nvPr/>
            </p:nvSpPr>
            <p:spPr>
              <a:xfrm flipH="1" flipV="1">
                <a:off x="2599200" y="463068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2312280" y="463104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312640" y="477540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599560" y="4775040"/>
                <a:ext cx="28692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3462480" y="4630680"/>
              <a:ext cx="576000" cy="289080"/>
              <a:chOff x="3462480" y="4630680"/>
              <a:chExt cx="576000" cy="289080"/>
            </a:xfrm>
          </p:grpSpPr>
          <p:sp>
            <p:nvSpPr>
              <p:cNvPr id="865" name=""/>
              <p:cNvSpPr/>
              <p:nvPr/>
            </p:nvSpPr>
            <p:spPr>
              <a:xfrm flipH="1" flipV="1">
                <a:off x="3750480" y="46306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462480" y="46310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462480" y="477540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3750480" y="47750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2886480" y="4630680"/>
              <a:ext cx="576000" cy="289080"/>
              <a:chOff x="2886480" y="4630680"/>
              <a:chExt cx="576000" cy="289080"/>
            </a:xfrm>
          </p:grpSpPr>
          <p:sp>
            <p:nvSpPr>
              <p:cNvPr id="870" name=""/>
              <p:cNvSpPr/>
              <p:nvPr/>
            </p:nvSpPr>
            <p:spPr>
              <a:xfrm flipH="1" flipV="1">
                <a:off x="3174480" y="463068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886480" y="46310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886480" y="477540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3174480" y="4775040"/>
                <a:ext cx="288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175920" y="4487760"/>
              <a:ext cx="574200" cy="287640"/>
              <a:chOff x="3175920" y="4487760"/>
              <a:chExt cx="574200" cy="287640"/>
            </a:xfrm>
          </p:grpSpPr>
          <p:sp>
            <p:nvSpPr>
              <p:cNvPr id="875" name=""/>
              <p:cNvSpPr/>
              <p:nvPr/>
            </p:nvSpPr>
            <p:spPr>
              <a:xfrm flipH="1" flipV="1">
                <a:off x="3462840" y="44877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175920" y="448812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176280" y="463176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3463200" y="4631400"/>
                <a:ext cx="28692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5410080" y="3588840"/>
            <a:ext cx="1733400" cy="1473840"/>
            <a:chOff x="5410080" y="3588840"/>
            <a:chExt cx="1733400" cy="1473840"/>
          </a:xfrm>
        </p:grpSpPr>
        <p:grpSp>
          <p:nvGrpSpPr>
            <p:cNvPr id="880" name=""/>
            <p:cNvGrpSpPr/>
            <p:nvPr/>
          </p:nvGrpSpPr>
          <p:grpSpPr>
            <a:xfrm>
              <a:off x="6000840" y="3588840"/>
              <a:ext cx="590400" cy="586440"/>
              <a:chOff x="6000840" y="3588840"/>
              <a:chExt cx="590400" cy="58644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6004080" y="3876480"/>
                <a:ext cx="574560" cy="289080"/>
                <a:chOff x="6004080" y="3876480"/>
                <a:chExt cx="574560" cy="289080"/>
              </a:xfrm>
            </p:grpSpPr>
            <p:sp>
              <p:nvSpPr>
                <p:cNvPr id="882" name=""/>
                <p:cNvSpPr/>
                <p:nvPr/>
              </p:nvSpPr>
              <p:spPr>
                <a:xfrm flipH="1" flipV="1">
                  <a:off x="6291360" y="387648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6004080" y="387684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004080" y="402120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291360" y="402084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>
                <a:off x="6019920" y="3733920"/>
                <a:ext cx="533160" cy="228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6004080" y="3588840"/>
                <a:ext cx="574560" cy="287640"/>
                <a:chOff x="6004080" y="3588840"/>
                <a:chExt cx="574560" cy="287640"/>
              </a:xfrm>
            </p:grpSpPr>
            <p:sp>
              <p:nvSpPr>
                <p:cNvPr id="888" name=""/>
                <p:cNvSpPr/>
                <p:nvPr/>
              </p:nvSpPr>
              <p:spPr>
                <a:xfrm flipH="1" flipV="1">
                  <a:off x="6291360" y="35888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6004080" y="358920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004080" y="37328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6291360" y="37324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2" name=""/>
              <p:cNvSpPr/>
              <p:nvPr/>
            </p:nvSpPr>
            <p:spPr>
              <a:xfrm>
                <a:off x="6000840" y="3943440"/>
                <a:ext cx="59040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10200" y="37274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289560" y="38703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575400" y="37209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15000" y="4038120"/>
              <a:ext cx="590400" cy="586440"/>
              <a:chOff x="5715000" y="4038120"/>
              <a:chExt cx="590400" cy="5864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5718240" y="4325760"/>
                <a:ext cx="574560" cy="289080"/>
                <a:chOff x="5718240" y="4325760"/>
                <a:chExt cx="574560" cy="289080"/>
              </a:xfrm>
            </p:grpSpPr>
            <p:sp>
              <p:nvSpPr>
                <p:cNvPr id="898" name=""/>
                <p:cNvSpPr/>
                <p:nvPr/>
              </p:nvSpPr>
              <p:spPr>
                <a:xfrm flipH="1" flipV="1">
                  <a:off x="6005520" y="432576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5718240" y="432612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718240" y="447048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6005520" y="447012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>
                <a:off x="5734080" y="4183200"/>
                <a:ext cx="533160" cy="228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5718240" y="4038120"/>
                <a:ext cx="574560" cy="287640"/>
                <a:chOff x="5718240" y="4038120"/>
                <a:chExt cx="574560" cy="287640"/>
              </a:xfrm>
            </p:grpSpPr>
            <p:sp>
              <p:nvSpPr>
                <p:cNvPr id="904" name=""/>
                <p:cNvSpPr/>
                <p:nvPr/>
              </p:nvSpPr>
              <p:spPr>
                <a:xfrm flipH="1" flipV="1">
                  <a:off x="6005520" y="40381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5718240" y="40384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718240" y="41821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6005520" y="418176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>
                <a:off x="5715000" y="4392720"/>
                <a:ext cx="59040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24360" y="4176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003720" y="43196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89560" y="41702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6248520" y="4038120"/>
              <a:ext cx="590400" cy="586440"/>
              <a:chOff x="6248520" y="4038120"/>
              <a:chExt cx="590400" cy="58644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6251760" y="4325760"/>
                <a:ext cx="574560" cy="289080"/>
                <a:chOff x="6251760" y="4325760"/>
                <a:chExt cx="574560" cy="289080"/>
              </a:xfrm>
            </p:grpSpPr>
            <p:sp>
              <p:nvSpPr>
                <p:cNvPr id="914" name=""/>
                <p:cNvSpPr/>
                <p:nvPr/>
              </p:nvSpPr>
              <p:spPr>
                <a:xfrm flipH="1" flipV="1">
                  <a:off x="6539040" y="432576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6251760" y="432612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251760" y="447048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6539040" y="447012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6267600" y="4183200"/>
                <a:ext cx="533160" cy="228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6251760" y="4038120"/>
                <a:ext cx="574560" cy="287640"/>
                <a:chOff x="6251760" y="4038120"/>
                <a:chExt cx="574560" cy="287640"/>
              </a:xfrm>
            </p:grpSpPr>
            <p:sp>
              <p:nvSpPr>
                <p:cNvPr id="920" name=""/>
                <p:cNvSpPr/>
                <p:nvPr/>
              </p:nvSpPr>
              <p:spPr>
                <a:xfrm flipH="1" flipV="1">
                  <a:off x="6539040" y="40381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6251760" y="40384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251760" y="41821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6539040" y="418176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6248520" y="4392720"/>
                <a:ext cx="59040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257880" y="417672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37240" y="43196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23080" y="41702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410080" y="4452480"/>
              <a:ext cx="590400" cy="585720"/>
              <a:chOff x="5410080" y="4452480"/>
              <a:chExt cx="590400" cy="58572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5413320" y="4740120"/>
                <a:ext cx="574560" cy="288000"/>
                <a:chOff x="5413320" y="4740120"/>
                <a:chExt cx="574560" cy="288000"/>
              </a:xfrm>
            </p:grpSpPr>
            <p:sp>
              <p:nvSpPr>
                <p:cNvPr id="930" name=""/>
                <p:cNvSpPr/>
                <p:nvPr/>
              </p:nvSpPr>
              <p:spPr>
                <a:xfrm flipH="1" flipV="1">
                  <a:off x="5700600" y="47401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5413320" y="47401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413320" y="48841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5700600" y="48841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429160" y="4597200"/>
                <a:ext cx="533160" cy="228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413320" y="4452480"/>
                <a:ext cx="574560" cy="287640"/>
                <a:chOff x="5413320" y="4452480"/>
                <a:chExt cx="574560" cy="287640"/>
              </a:xfrm>
            </p:grpSpPr>
            <p:sp>
              <p:nvSpPr>
                <p:cNvPr id="936" name=""/>
                <p:cNvSpPr/>
                <p:nvPr/>
              </p:nvSpPr>
              <p:spPr>
                <a:xfrm flipH="1" flipV="1">
                  <a:off x="5700600" y="44524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5413320" y="44528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413320" y="45964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5700600" y="45961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5410080" y="4806720"/>
                <a:ext cx="59040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419440" y="4590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8800" y="47336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984640" y="4584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986440" y="4466880"/>
              <a:ext cx="590400" cy="585720"/>
              <a:chOff x="5986440" y="4466880"/>
              <a:chExt cx="590400" cy="585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989680" y="4754520"/>
                <a:ext cx="574560" cy="288000"/>
                <a:chOff x="5989680" y="4754520"/>
                <a:chExt cx="574560" cy="288000"/>
              </a:xfrm>
            </p:grpSpPr>
            <p:sp>
              <p:nvSpPr>
                <p:cNvPr id="946" name=""/>
                <p:cNvSpPr/>
                <p:nvPr/>
              </p:nvSpPr>
              <p:spPr>
                <a:xfrm flipH="1" flipV="1">
                  <a:off x="6276960" y="47545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5989680" y="47545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989680" y="48985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V="1">
                  <a:off x="6276960" y="4898520"/>
                  <a:ext cx="28728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6005520" y="4611600"/>
                <a:ext cx="533160" cy="228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5989680" y="4466880"/>
                <a:ext cx="574560" cy="287640"/>
                <a:chOff x="5989680" y="4466880"/>
                <a:chExt cx="574560" cy="287640"/>
              </a:xfrm>
            </p:grpSpPr>
            <p:sp>
              <p:nvSpPr>
                <p:cNvPr id="952" name=""/>
                <p:cNvSpPr/>
                <p:nvPr/>
              </p:nvSpPr>
              <p:spPr>
                <a:xfrm flipH="1" flipV="1">
                  <a:off x="6276960" y="44668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5989680" y="44672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989680" y="46108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6276960" y="461052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5986440" y="4821120"/>
                <a:ext cx="59040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95800" y="46051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275160" y="47480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1000" y="45986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6553080" y="4476240"/>
              <a:ext cx="590400" cy="586440"/>
              <a:chOff x="6553080" y="4476240"/>
              <a:chExt cx="590400" cy="58644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6556320" y="4763880"/>
                <a:ext cx="574560" cy="289080"/>
                <a:chOff x="6556320" y="4763880"/>
                <a:chExt cx="574560" cy="289080"/>
              </a:xfrm>
            </p:grpSpPr>
            <p:sp>
              <p:nvSpPr>
                <p:cNvPr id="962" name=""/>
                <p:cNvSpPr/>
                <p:nvPr/>
              </p:nvSpPr>
              <p:spPr>
                <a:xfrm flipH="1" flipV="1">
                  <a:off x="6843600" y="476388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6556320" y="476424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556320" y="490860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V="1">
                  <a:off x="6843600" y="4908240"/>
                  <a:ext cx="28728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>
                <a:off x="6572160" y="4621320"/>
                <a:ext cx="533160" cy="228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6556320" y="4476240"/>
                <a:ext cx="574560" cy="287640"/>
                <a:chOff x="6556320" y="4476240"/>
                <a:chExt cx="574560" cy="287640"/>
              </a:xfrm>
            </p:grpSpPr>
            <p:sp>
              <p:nvSpPr>
                <p:cNvPr id="968" name=""/>
                <p:cNvSpPr/>
                <p:nvPr/>
              </p:nvSpPr>
              <p:spPr>
                <a:xfrm flipH="1" flipV="1">
                  <a:off x="6843600" y="44762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6556320" y="447660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556320" y="462024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6843600" y="4619880"/>
                  <a:ext cx="287280" cy="14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6553080" y="4830840"/>
                <a:ext cx="59040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562440" y="46148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41800" y="47577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127640" y="46083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6" name="">
            <a:hlinkClick r:id="rId1" action="ppaction://hlinksldjump"/>
          </p:cNvPr>
          <p:cNvSpPr/>
          <p:nvPr/>
        </p:nvSpPr>
        <p:spPr>
          <a:xfrm>
            <a:off x="5914080" y="52182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Exemp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uti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builder 6.0 com MobileSet 2.0: para implementação, documentação, tes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ação de J2ME, e conseqüente imposição de Restriçõ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ncipal: Necessidade de dispositivos que ofereçam suporte a transparênci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ualmente, nem todos dispositivos oferecem este supor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320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mapas foram implementados e tes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e: criação de um mapa, um objeto que s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imente pelo mapa e enfrente obstáculos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pa inicialmente descrito segundo o format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á utilizado pelo wGEM, e posteriorment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inicial referência: GIF animad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4419720"/>
            <a:ext cx="8382240" cy="12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Zelda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2095560" cy="15480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19051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ssos resultad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ato com uma nova tecnologia: J2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 final conseg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tensão de w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 que ainda pode ser feito...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 de M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ção dos algoritmos uti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ção de um jogo mais elabor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ssos resultad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úvidas ?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-bert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1" name="qbert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8280" y="1143000"/>
            <a:ext cx="4946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2:16:06Z</dcterms:created>
  <dc:creator>Ivana Braga</dc:creator>
  <dc:description/>
  <dc:language>en-US</dc:language>
  <cp:lastModifiedBy>Fernando Antonio Mota Trinta</cp:lastModifiedBy>
  <dcterms:modified xsi:type="dcterms:W3CDTF">2002-01-08T14:07:14Z</dcterms:modified>
  <cp:revision>3</cp:revision>
  <dc:subject/>
  <dc:title>Extensão do wGEM para suporte a jogos isométricos</dc:title>
</cp:coreProperties>
</file>