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3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0.jpeg" ContentType="image/jpeg"/>
  <Override PartName="/ppt/media/image5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18080"/>
            <a:ext cx="3168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18080"/>
            <a:ext cx="3168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6FCD-80BB-451E-BBA0-A8DF45ACC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145040" y="9118440"/>
            <a:ext cx="31687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D2DD-7AD6-450D-872A-2CB4EBCD8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5040" y="9118440"/>
            <a:ext cx="31687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60B8-EE2E-4E15-9EDF-90E3D472A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5040" y="9118440"/>
            <a:ext cx="31687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FD27-1AEA-472F-A1AF-AA4C33964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5040" y="9118440"/>
            <a:ext cx="31687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AE43-E408-49EC-BA39-EFD2ABBE5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6D53-EF5C-4A51-9688-97F3644D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A870-7CD9-48D4-897F-ECF29657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69C7-6F75-49F8-B354-B03243AC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A455-B552-4B05-B3B2-D183A115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79A1-7D99-4F80-AD59-F96C94BC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E14B-F156-4D52-A787-CCDAFB4A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193C-F460-4991-91BC-F5F9BAE3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67E-F267-48C3-B330-231EFEAE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2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7419-4A1A-49C5-841A-5267E8A5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78D6-2E62-4847-A11A-9E00CAD1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6318-CADC-44A4-8A33-1F7B9483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CCBA-6178-41D7-BEB3-1F1B50D0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171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3512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D993-39C7-4C06-8DA9-AE5973722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oracle.com/technetwork/java/javase/downloads/jdk6-jsp-136632.html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597204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isão Geral da Plataforma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ava Micro Edi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4" descr="Introducao - Java Platform"/>
          <p:cNvPicPr/>
          <p:nvPr/>
        </p:nvPicPr>
        <p:blipFill>
          <a:blip r:embed="rId1"/>
          <a:stretch/>
        </p:blipFill>
        <p:spPr>
          <a:xfrm>
            <a:off x="2314440" y="2090880"/>
            <a:ext cx="4705560" cy="39290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2311560" y="1557360"/>
            <a:ext cx="47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taform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ornece um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njunto de bibliotecas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apacidades da máquina virtual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mais básicos para uma família de dispositiv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finem uma plataforma para um segmento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horizontal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de mercad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cluem um conjunto básico de classes Jav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ão especificadas pela JC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gura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nected Device Configuration (CD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positivos com ampla variação de capacidade computacion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DAs, TV Set-top boxes, etc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ed, Limited Device Configuration (CLD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positivos com capacidade computacional limita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gura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figuração específica para que uma plataforma Java execute em dispositivos com limitações de memória, processamento e gráfic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raz melhorias com relação à CLDC 1.0, dentre el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Adição de Ponto Flutuan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Memória mínima de 162Kb para 192K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nected, Limited Device Configuration (CLDC 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cotes herdades de J2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java.la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java.i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java.uti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cotes específicos do CLD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avax.microedition.i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nected, Limited Device Configuration (CLDC 1.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leção d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PIs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em Java que dá suporte a um grupo específico de dispositivo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finem uma plataforma para um segmento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vertical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de mercad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incipal objetivo é garantir interoperabilidade entre dispositivos de um mesmo gru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fine, entre outras cois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iclo de vida da aplicação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sistênci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terface com o usuário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ectividade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quisitos de hardware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utras API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DP 2.0: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javax.microedition.lcdui.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5"/>
          <p:cNvGrpSpPr/>
          <p:nvPr/>
        </p:nvGrpSpPr>
        <p:grpSpPr>
          <a:xfrm>
            <a:off x="1403280" y="5013360"/>
            <a:ext cx="6050160" cy="1728720"/>
            <a:chOff x="1403280" y="5013360"/>
            <a:chExt cx="6050160" cy="1728720"/>
          </a:xfrm>
        </p:grpSpPr>
        <p:sp>
          <p:nvSpPr>
            <p:cNvPr id="103" name="Rectangle 6"/>
            <p:cNvSpPr/>
            <p:nvPr/>
          </p:nvSpPr>
          <p:spPr>
            <a:xfrm>
              <a:off x="1403280" y="5302080"/>
              <a:ext cx="424980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7"/>
            <p:cNvSpPr/>
            <p:nvPr/>
          </p:nvSpPr>
          <p:spPr>
            <a:xfrm>
              <a:off x="5940360" y="5302080"/>
              <a:ext cx="151308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8"/>
            <p:cNvSpPr/>
            <p:nvPr/>
          </p:nvSpPr>
          <p:spPr>
            <a:xfrm>
              <a:off x="2578320" y="5518080"/>
              <a:ext cx="5709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9"/>
            <p:cNvSpPr/>
            <p:nvPr/>
          </p:nvSpPr>
          <p:spPr>
            <a:xfrm>
              <a:off x="1650600" y="6310080"/>
              <a:ext cx="9151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iledLay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0"/>
            <p:cNvSpPr/>
            <p:nvPr/>
          </p:nvSpPr>
          <p:spPr>
            <a:xfrm>
              <a:off x="3085560" y="6310080"/>
              <a:ext cx="6012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pri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"/>
            <p:cNvSpPr/>
            <p:nvPr/>
          </p:nvSpPr>
          <p:spPr>
            <a:xfrm>
              <a:off x="4169880" y="5518080"/>
              <a:ext cx="1217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yer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2"/>
            <p:cNvSpPr/>
            <p:nvPr/>
          </p:nvSpPr>
          <p:spPr>
            <a:xfrm>
              <a:off x="4251600" y="6310080"/>
              <a:ext cx="11181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ameCanv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AutoShape 13"/>
            <p:cNvCxnSpPr>
              <a:stCxn id="106" idx="0"/>
              <a:endCxn id="105" idx="2"/>
            </p:cNvCxnSpPr>
            <p:nvPr/>
          </p:nvCxnSpPr>
          <p:spPr>
            <a:xfrm flipH="1" flipV="1" rot="5400000">
              <a:off x="2231640" y="5677560"/>
              <a:ext cx="508680" cy="7563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AutoShape 14"/>
            <p:cNvCxnSpPr>
              <a:stCxn id="107" idx="0"/>
              <a:endCxn id="105" idx="2"/>
            </p:cNvCxnSpPr>
            <p:nvPr/>
          </p:nvCxnSpPr>
          <p:spPr>
            <a:xfrm flipV="1" rot="16200000">
              <a:off x="2870280" y="5794200"/>
              <a:ext cx="508680" cy="523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AutoShape 15"/>
            <p:cNvCxnSpPr>
              <a:stCxn id="105" idx="3"/>
              <a:endCxn id="108" idx="1"/>
            </p:cNvCxnSpPr>
            <p:nvPr/>
          </p:nvCxnSpPr>
          <p:spPr>
            <a:xfrm>
              <a:off x="3171960" y="5660640"/>
              <a:ext cx="96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3" name="Text Box 16"/>
            <p:cNvSpPr/>
            <p:nvPr/>
          </p:nvSpPr>
          <p:spPr>
            <a:xfrm>
              <a:off x="3140280" y="5445000"/>
              <a:ext cx="2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7"/>
            <p:cNvSpPr/>
            <p:nvPr/>
          </p:nvSpPr>
          <p:spPr>
            <a:xfrm>
              <a:off x="1418040" y="5013360"/>
              <a:ext cx="58932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a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8"/>
            <p:cNvSpPr/>
            <p:nvPr/>
          </p:nvSpPr>
          <p:spPr>
            <a:xfrm>
              <a:off x="6342480" y="6310080"/>
              <a:ext cx="6926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anv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" name="AutoShape 19"/>
            <p:cNvCxnSpPr>
              <a:stCxn id="109" idx="3"/>
              <a:endCxn id="115" idx="1"/>
            </p:cNvCxnSpPr>
            <p:nvPr/>
          </p:nvCxnSpPr>
          <p:spPr>
            <a:xfrm>
              <a:off x="5409720" y="6452640"/>
              <a:ext cx="903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Text Box 20"/>
            <p:cNvSpPr/>
            <p:nvPr/>
          </p:nvSpPr>
          <p:spPr>
            <a:xfrm>
              <a:off x="5953320" y="5013360"/>
              <a:ext cx="5220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cdu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1"/>
            <p:cNvSpPr/>
            <p:nvPr/>
          </p:nvSpPr>
          <p:spPr>
            <a:xfrm>
              <a:off x="6188040" y="5518080"/>
              <a:ext cx="1006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Displaya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9" name="AutoShape 22"/>
            <p:cNvCxnSpPr>
              <a:stCxn id="115" idx="0"/>
              <a:endCxn id="118" idx="2"/>
            </p:cNvCxnSpPr>
            <p:nvPr/>
          </p:nvCxnSpPr>
          <p:spPr>
            <a:xfrm flipH="1" flipV="1" rot="5400000">
              <a:off x="6436440" y="6054840"/>
              <a:ext cx="50868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SA: Mobile Service Architec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228600" y="1544760"/>
            <a:ext cx="866448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 uma aplicação MID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ssui uma classe Java que extende a classe 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MIDle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e controla o ciclo de vida da aplicação, implementando os método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artApp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auseApp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stroyApp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que é um MIDl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 gerenciado pelo Java Application Manager (JAM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licação que acompanha a implementação do MIDP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trola instalação, execução e remoção de MIDle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ta erros ocorridos durante instalação e execução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que é um MIDl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4920" y="2205000"/>
            <a:ext cx="830268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Aula 1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Introdução a Java Micro Edi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clo de Vida de um MIDl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030400" y="2527200"/>
            <a:ext cx="1905120" cy="533520"/>
          </a:xfrm>
          <a:prstGeom prst="rect">
            <a:avLst/>
          </a:prstGeom>
          <a:solidFill>
            <a:srgbClr val="ffcc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5535720" y="3654360"/>
            <a:ext cx="1904760" cy="533520"/>
          </a:xfrm>
          <a:prstGeom prst="rect">
            <a:avLst/>
          </a:prstGeom>
          <a:solidFill>
            <a:srgbClr val="ffcc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030400" y="4721400"/>
            <a:ext cx="1905120" cy="533160"/>
          </a:xfrm>
          <a:prstGeom prst="rect">
            <a:avLst/>
          </a:prstGeom>
          <a:solidFill>
            <a:srgbClr val="ffcc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3935520" y="5025960"/>
            <a:ext cx="251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 flipV="1">
            <a:off x="6450120" y="418788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3935520" y="2816280"/>
            <a:ext cx="251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 flipV="1">
            <a:off x="6450120" y="281628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 flipV="1">
            <a:off x="2992320" y="16765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 flipV="1">
            <a:off x="2639880" y="3044520"/>
            <a:ext cx="0" cy="1676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 flipV="1">
            <a:off x="3325680" y="3044520"/>
            <a:ext cx="0" cy="1676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24240" y="3654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f2f2"/>
                </a:solidFill>
                <a:latin typeface="Courier New"/>
              </a:rPr>
              <a:t>pauseApp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4695480" y="23590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f2f2"/>
                </a:solidFill>
                <a:latin typeface="Courier New"/>
              </a:rPr>
              <a:t>destroyApp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4695480" y="51022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f2f2"/>
                </a:solidFill>
                <a:latin typeface="Courier New"/>
              </a:rPr>
              <a:t>destroyApp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1114560" y="3654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f2f2"/>
                </a:solidFill>
                <a:latin typeface="Courier New"/>
              </a:rPr>
              <a:t>startApp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3097080" y="182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f2f2"/>
                </a:solidFill>
                <a:latin typeface="Courier New"/>
              </a:rPr>
              <a:t>new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Dlet Su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junto de arquivos empacotados num J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 possuir pelo menos um MID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R contém arquivos .class, recursos e manif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ava Application Descriptor (JAD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quivo texto que descreve uma Su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ado pela JAM para fazer verificações antes de baixar a Su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mbém usado pa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r proprieda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 aplic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Dlet Suite e Descrito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4427640" y="4869000"/>
            <a:ext cx="4537080" cy="15843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MIDlet-1: AloMundo, ,br.ufpe.cin.j2me.MyMIDl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MIDlet-Name: Alo Mun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MIDlet-Vendor: CIn UF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MIDlet-Version: 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MIDlet-Jar-Size: 78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MIDlet-Jar-URL: HelloWorld.j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va SE SD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oracle.com/technetwork/java/javase/downloads/jdk6-jsp-136632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va ME SDK 3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oracle.com/technetwork/java/javame/downloads/sdk30-jsp-139759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 Wireless Toolk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oracle.com/technetwork/java/index-jsp-137162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lipse + Eclipse 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clipse.org/downloads/index.ph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eclipseme.org/docs/installation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DKs dos fabric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k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bbe0e3"/>
                </a:solidFill>
                <a:latin typeface="Arial"/>
              </a:rPr>
              <a:t>http://forum.nokia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torol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developer.motorola.com/docstools/sdks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yEricss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developer.sonyericsson.com/site/global/home/p_home.js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biente de Desenvolvimen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tenha a API sempre por per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http://java.sun.com/javame/reference/apis/jsr118/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[WTKdir]\docs\api\midp\index.htm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rcício 1: Hello Worl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2" descr="C:\Users\Scholz\Desktop\API.png"/>
          <p:cNvPicPr/>
          <p:nvPr/>
        </p:nvPicPr>
        <p:blipFill>
          <a:blip r:embed="rId1"/>
          <a:stretch/>
        </p:blipFill>
        <p:spPr>
          <a:xfrm>
            <a:off x="755640" y="2781360"/>
            <a:ext cx="77072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mentar 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ello Worl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nceitos de 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Graphic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e suas funçõe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ntes embarcada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iação e exibição de um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Low-Level Displayabl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tamento de tecla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riação e renderização de imagen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rcício 2: Usando UI de Baixo Ní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apas na concepção de um jog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anej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je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senvolvi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stes em emulador (emulação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stes no dispositivo real (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deplo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lhoria de 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primeiro jogo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6659640" y="3716280"/>
            <a:ext cx="175716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0" y="5778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cardo Schol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der Téc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ardo.scholz@meantime.com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+55 81 3425.48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2205000"/>
            <a:ext cx="830268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Aula 2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Desenvolvimento de Jogos em J2M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se d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me Desig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/ Concep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colha do mercado/público-al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colha da catego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rcad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uzz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ção, Esportes, RPG, et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nchma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ari, Mega Drive, Nintendo 8 bits, et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ultiplay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|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ngleplay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arelhos-al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acterísticas de um bom jogo para cel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vegação e aprendizagem inicial fáce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itar uso de muita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ftke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 pressionamento de tecl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rva de aprendizagem: desafiador, mas não impossível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gos casuais ou com opção de salva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ejamen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3" descr="games_02"/>
          <p:cNvPicPr/>
          <p:nvPr/>
        </p:nvPicPr>
        <p:blipFill>
          <a:blip r:embed="rId1"/>
          <a:stretch/>
        </p:blipFill>
        <p:spPr>
          <a:xfrm>
            <a:off x="34920" y="1125360"/>
            <a:ext cx="9036000" cy="531972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2"/>
          <p:cNvSpPr/>
          <p:nvPr/>
        </p:nvSpPr>
        <p:spPr>
          <a:xfrm>
            <a:off x="5867280" y="4497480"/>
            <a:ext cx="3060720" cy="1584360"/>
          </a:xfrm>
          <a:prstGeom prst="roundRect">
            <a:avLst>
              <a:gd name="adj" fmla="val 13806"/>
            </a:avLst>
          </a:prstGeom>
          <a:solidFill>
            <a:srgbClr val="99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obre a Meanti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012000" y="4653000"/>
            <a:ext cx="277164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A base dos conhecimentos em sistemas mobile da Meantime (processos e ferramentas) vieram da longa experiência com o desenvolvimento de jogos para celu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324000" y="4341960"/>
            <a:ext cx="2708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cc66"/>
                </a:solidFill>
                <a:latin typeface="Arial"/>
              </a:rPr>
              <a:t>+ </a:t>
            </a:r>
            <a:r>
              <a:rPr b="1" lang="pt-BR" sz="3600" spc="-1" strike="noStrike">
                <a:solidFill>
                  <a:srgbClr val="ffcc66"/>
                </a:solidFill>
                <a:latin typeface="Arial"/>
              </a:rPr>
              <a:t>de</a:t>
            </a:r>
            <a:r>
              <a:rPr b="1" lang="pt-BR" sz="5400" spc="-1" strike="noStrike">
                <a:solidFill>
                  <a:srgbClr val="ffcc66"/>
                </a:solidFill>
                <a:latin typeface="Arial"/>
              </a:rPr>
              <a:t> 6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324000" y="5062680"/>
            <a:ext cx="2708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66"/>
                </a:solidFill>
                <a:latin typeface="Arial Narrow"/>
              </a:rPr>
              <a:t>J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66"/>
                </a:solidFill>
                <a:latin typeface="Arial Narrow"/>
              </a:rPr>
              <a:t>DESENVOLV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e 4 e 7 pesso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disciplinar: artistas gráficos, músicos, engenheiros de software, engenheiros de testes, game designers, gerent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gências do Merc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orting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00+ aparelh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clo de desenvolvimento curto: 15 dias a 2 m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ç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re R$ 10 mil e R$ 60 m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is Limitaçõ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manho de te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ória volátil e capacidade de processa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nejamento (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1628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samos tudo o que foi falado 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t’em up game simplificadííííííssimo! </a:t>
            </a:r>
            <a:r>
              <a:rPr b="0" lang="pt-B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sso Jogo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6084720" y="3500280"/>
            <a:ext cx="2490840" cy="2934000"/>
          </a:xfrm>
          <a:prstGeom prst="rect">
            <a:avLst/>
          </a:prstGeom>
          <a:ln w="0">
            <a:noFill/>
          </a:ln>
        </p:spPr>
      </p:pic>
      <p:sp>
        <p:nvSpPr>
          <p:cNvPr id="165" name="CaixaDeTexto 6"/>
          <p:cNvSpPr/>
          <p:nvPr/>
        </p:nvSpPr>
        <p:spPr>
          <a:xfrm>
            <a:off x="468360" y="3500280"/>
            <a:ext cx="5327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pt-BR" sz="2000" spc="-1" strike="noStrike">
                <a:solidFill>
                  <a:srgbClr val="ffc000"/>
                </a:solidFill>
                <a:latin typeface="Arial"/>
              </a:rPr>
              <a:t>Star Hero</a:t>
            </a:r>
            <a:r>
              <a:rPr b="0" i="1" lang="pt-BR" sz="2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é um jogo singleplayer, no estilo shoot’em up . O jogo consiste em uma espaçonave controlada pelo jogador que trafega pelo espaço, atirando em inimigos. Essas ações resultam em pontos para o jogador. O objetivo do jogo é acumular o máximo de pontos possíveis e salvar a galáxia!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to ::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ecisamos d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 MIDlet (claro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a classe que trata os comandos alto-nível e possui o loop principal do jog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ê in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ualiza estado do mini-mun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nta a te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a classe que representa um elemento animado do j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a classe representando a n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a classe representando os inimig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a classe representando as bal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a classe representando a tela principal com a lógica principal do j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a classe com todas as constantes (para facilitar o acesso e regulagem dos parâmetr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á temos o conceito… mãos à obr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65"/>
          <p:cNvSpPr/>
          <p:nvPr/>
        </p:nvSpPr>
        <p:spPr>
          <a:xfrm>
            <a:off x="3059280" y="580536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8"/>
          <p:cNvSpPr/>
          <p:nvPr/>
        </p:nvSpPr>
        <p:spPr>
          <a:xfrm flipV="1">
            <a:off x="4859280" y="4797360"/>
            <a:ext cx="2403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ojeto de Cl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26"/>
          <p:cNvGrpSpPr/>
          <p:nvPr/>
        </p:nvGrpSpPr>
        <p:grpSpPr>
          <a:xfrm>
            <a:off x="2603520" y="3139920"/>
            <a:ext cx="1366560" cy="1055880"/>
            <a:chOff x="2603520" y="3139920"/>
            <a:chExt cx="1366560" cy="1055880"/>
          </a:xfrm>
        </p:grpSpPr>
        <p:grpSp>
          <p:nvGrpSpPr>
            <p:cNvPr id="172" name="Group 21"/>
            <p:cNvGrpSpPr/>
            <p:nvPr/>
          </p:nvGrpSpPr>
          <p:grpSpPr>
            <a:xfrm>
              <a:off x="2603520" y="3139920"/>
              <a:ext cx="1366560" cy="1055880"/>
              <a:chOff x="2603520" y="3139920"/>
              <a:chExt cx="1366560" cy="1055880"/>
            </a:xfrm>
          </p:grpSpPr>
          <p:sp>
            <p:nvSpPr>
              <p:cNvPr id="173" name="Rectangle 4"/>
              <p:cNvSpPr/>
              <p:nvPr/>
            </p:nvSpPr>
            <p:spPr>
              <a:xfrm>
                <a:off x="2603520" y="3139920"/>
                <a:ext cx="1366560" cy="1055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startApp(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pauseApp(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estroyApp(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20"/>
              <p:cNvSpPr/>
              <p:nvPr/>
            </p:nvSpPr>
            <p:spPr>
              <a:xfrm>
                <a:off x="2603520" y="340344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 Box 13"/>
            <p:cNvSpPr/>
            <p:nvPr/>
          </p:nvSpPr>
          <p:spPr>
            <a:xfrm>
              <a:off x="2762280" y="313992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hipMidl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7"/>
          <p:cNvGrpSpPr/>
          <p:nvPr/>
        </p:nvGrpSpPr>
        <p:grpSpPr>
          <a:xfrm>
            <a:off x="1704960" y="5213520"/>
            <a:ext cx="1611360" cy="1055520"/>
            <a:chOff x="1704960" y="5213520"/>
            <a:chExt cx="1611360" cy="1055520"/>
          </a:xfrm>
        </p:grpSpPr>
        <p:grpSp>
          <p:nvGrpSpPr>
            <p:cNvPr id="177" name="Group 22"/>
            <p:cNvGrpSpPr/>
            <p:nvPr/>
          </p:nvGrpSpPr>
          <p:grpSpPr>
            <a:xfrm>
              <a:off x="1704960" y="5213520"/>
              <a:ext cx="1532520" cy="1055520"/>
              <a:chOff x="1704960" y="5213520"/>
              <a:chExt cx="1532520" cy="1055520"/>
            </a:xfrm>
          </p:grpSpPr>
          <p:sp>
            <p:nvSpPr>
              <p:cNvPr id="178" name="Rectangle 23"/>
              <p:cNvSpPr/>
              <p:nvPr/>
            </p:nvSpPr>
            <p:spPr>
              <a:xfrm>
                <a:off x="1704960" y="5213520"/>
                <a:ext cx="153252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24"/>
              <p:cNvSpPr/>
              <p:nvPr/>
            </p:nvSpPr>
            <p:spPr>
              <a:xfrm>
                <a:off x="1704960" y="5476680"/>
                <a:ext cx="153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Text Box 25"/>
            <p:cNvSpPr/>
            <p:nvPr/>
          </p:nvSpPr>
          <p:spPr>
            <a:xfrm>
              <a:off x="1855440" y="5213520"/>
              <a:ext cx="146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hipControll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Group 53"/>
          <p:cNvGrpSpPr/>
          <p:nvPr/>
        </p:nvGrpSpPr>
        <p:grpSpPr>
          <a:xfrm>
            <a:off x="5711760" y="1125360"/>
            <a:ext cx="1366560" cy="1055880"/>
            <a:chOff x="5711760" y="1125360"/>
            <a:chExt cx="1366560" cy="1055880"/>
          </a:xfrm>
        </p:grpSpPr>
        <p:grpSp>
          <p:nvGrpSpPr>
            <p:cNvPr id="182" name="Group 29"/>
            <p:cNvGrpSpPr/>
            <p:nvPr/>
          </p:nvGrpSpPr>
          <p:grpSpPr>
            <a:xfrm>
              <a:off x="5711760" y="1125360"/>
              <a:ext cx="1366560" cy="1055880"/>
              <a:chOff x="5711760" y="1125360"/>
              <a:chExt cx="1366560" cy="1055880"/>
            </a:xfrm>
          </p:grpSpPr>
          <p:sp>
            <p:nvSpPr>
              <p:cNvPr id="183" name="Rectangle 30"/>
              <p:cNvSpPr/>
              <p:nvPr/>
            </p:nvSpPr>
            <p:spPr>
              <a:xfrm>
                <a:off x="5711760" y="1125360"/>
                <a:ext cx="1366560" cy="1055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31"/>
              <p:cNvSpPr/>
              <p:nvPr/>
            </p:nvSpPr>
            <p:spPr>
              <a:xfrm>
                <a:off x="5711760" y="138888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Text Box 32"/>
            <p:cNvSpPr/>
            <p:nvPr/>
          </p:nvSpPr>
          <p:spPr>
            <a:xfrm>
              <a:off x="6026760" y="112536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pri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54"/>
          <p:cNvGrpSpPr/>
          <p:nvPr/>
        </p:nvGrpSpPr>
        <p:grpSpPr>
          <a:xfrm>
            <a:off x="5869080" y="3284640"/>
            <a:ext cx="1366560" cy="1055520"/>
            <a:chOff x="5869080" y="3284640"/>
            <a:chExt cx="1366560" cy="1055520"/>
          </a:xfrm>
        </p:grpSpPr>
        <p:grpSp>
          <p:nvGrpSpPr>
            <p:cNvPr id="187" name="Group 33"/>
            <p:cNvGrpSpPr/>
            <p:nvPr/>
          </p:nvGrpSpPr>
          <p:grpSpPr>
            <a:xfrm>
              <a:off x="5869080" y="3284640"/>
              <a:ext cx="1366560" cy="1055520"/>
              <a:chOff x="5869080" y="3284640"/>
              <a:chExt cx="1366560" cy="1055520"/>
            </a:xfrm>
          </p:grpSpPr>
          <p:sp>
            <p:nvSpPr>
              <p:cNvPr id="188" name="Rectangle 34"/>
              <p:cNvSpPr/>
              <p:nvPr/>
            </p:nvSpPr>
            <p:spPr>
              <a:xfrm>
                <a:off x="5869080" y="328464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35"/>
              <p:cNvSpPr/>
              <p:nvPr/>
            </p:nvSpPr>
            <p:spPr>
              <a:xfrm>
                <a:off x="5869080" y="354780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Text Box 36"/>
            <p:cNvSpPr/>
            <p:nvPr/>
          </p:nvSpPr>
          <p:spPr>
            <a:xfrm>
              <a:off x="6300000" y="328464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h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58"/>
          <p:cNvGrpSpPr/>
          <p:nvPr/>
        </p:nvGrpSpPr>
        <p:grpSpPr>
          <a:xfrm>
            <a:off x="7283520" y="3933720"/>
            <a:ext cx="1366560" cy="1055520"/>
            <a:chOff x="7283520" y="3933720"/>
            <a:chExt cx="1366560" cy="1055520"/>
          </a:xfrm>
        </p:grpSpPr>
        <p:grpSp>
          <p:nvGrpSpPr>
            <p:cNvPr id="192" name="Group 37"/>
            <p:cNvGrpSpPr/>
            <p:nvPr/>
          </p:nvGrpSpPr>
          <p:grpSpPr>
            <a:xfrm>
              <a:off x="7283520" y="3933720"/>
              <a:ext cx="1366560" cy="1055520"/>
              <a:chOff x="7283520" y="3933720"/>
              <a:chExt cx="1366560" cy="1055520"/>
            </a:xfrm>
          </p:grpSpPr>
          <p:sp>
            <p:nvSpPr>
              <p:cNvPr id="193" name="Rectangle 38"/>
              <p:cNvSpPr/>
              <p:nvPr/>
            </p:nvSpPr>
            <p:spPr>
              <a:xfrm>
                <a:off x="7283520" y="393372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39"/>
              <p:cNvSpPr/>
              <p:nvPr/>
            </p:nvSpPr>
            <p:spPr>
              <a:xfrm>
                <a:off x="7283520" y="419688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40"/>
            <p:cNvSpPr/>
            <p:nvPr/>
          </p:nvSpPr>
          <p:spPr>
            <a:xfrm>
              <a:off x="7720560" y="39337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57"/>
          <p:cNvGrpSpPr/>
          <p:nvPr/>
        </p:nvGrpSpPr>
        <p:grpSpPr>
          <a:xfrm>
            <a:off x="4416480" y="2852640"/>
            <a:ext cx="1366560" cy="1055520"/>
            <a:chOff x="4416480" y="2852640"/>
            <a:chExt cx="1366560" cy="1055520"/>
          </a:xfrm>
        </p:grpSpPr>
        <p:grpSp>
          <p:nvGrpSpPr>
            <p:cNvPr id="197" name="Group 41"/>
            <p:cNvGrpSpPr/>
            <p:nvPr/>
          </p:nvGrpSpPr>
          <p:grpSpPr>
            <a:xfrm>
              <a:off x="4416480" y="2852640"/>
              <a:ext cx="1366560" cy="1055520"/>
              <a:chOff x="4416480" y="2852640"/>
              <a:chExt cx="1366560" cy="1055520"/>
            </a:xfrm>
          </p:grpSpPr>
          <p:sp>
            <p:nvSpPr>
              <p:cNvPr id="198" name="Rectangle 42"/>
              <p:cNvSpPr/>
              <p:nvPr/>
            </p:nvSpPr>
            <p:spPr>
              <a:xfrm>
                <a:off x="4416480" y="2852640"/>
                <a:ext cx="13665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43"/>
              <p:cNvSpPr/>
              <p:nvPr/>
            </p:nvSpPr>
            <p:spPr>
              <a:xfrm>
                <a:off x="4416480" y="311580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Text Box 44"/>
            <p:cNvSpPr/>
            <p:nvPr/>
          </p:nvSpPr>
          <p:spPr>
            <a:xfrm>
              <a:off x="4782600" y="285264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nem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55"/>
          <p:cNvGrpSpPr/>
          <p:nvPr/>
        </p:nvGrpSpPr>
        <p:grpSpPr>
          <a:xfrm>
            <a:off x="3476520" y="5227560"/>
            <a:ext cx="1566360" cy="1055520"/>
            <a:chOff x="3476520" y="5227560"/>
            <a:chExt cx="1566360" cy="1055520"/>
          </a:xfrm>
        </p:grpSpPr>
        <p:grpSp>
          <p:nvGrpSpPr>
            <p:cNvPr id="202" name="Group 45"/>
            <p:cNvGrpSpPr/>
            <p:nvPr/>
          </p:nvGrpSpPr>
          <p:grpSpPr>
            <a:xfrm>
              <a:off x="3476520" y="5227560"/>
              <a:ext cx="1566360" cy="1055520"/>
              <a:chOff x="3476520" y="5227560"/>
              <a:chExt cx="1566360" cy="1055520"/>
            </a:xfrm>
          </p:grpSpPr>
          <p:sp>
            <p:nvSpPr>
              <p:cNvPr id="203" name="Rectangle 46"/>
              <p:cNvSpPr/>
              <p:nvPr/>
            </p:nvSpPr>
            <p:spPr>
              <a:xfrm>
                <a:off x="3476520" y="5227560"/>
                <a:ext cx="1566360" cy="10555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47"/>
              <p:cNvSpPr/>
              <p:nvPr/>
            </p:nvSpPr>
            <p:spPr>
              <a:xfrm>
                <a:off x="3476520" y="5490720"/>
                <a:ext cx="156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Text Box 48"/>
            <p:cNvSpPr/>
            <p:nvPr/>
          </p:nvSpPr>
          <p:spPr>
            <a:xfrm>
              <a:off x="3491280" y="5227560"/>
              <a:ext cx="1514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hipGameScre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56"/>
          <p:cNvGrpSpPr/>
          <p:nvPr/>
        </p:nvGrpSpPr>
        <p:grpSpPr>
          <a:xfrm>
            <a:off x="7308720" y="5300640"/>
            <a:ext cx="1366560" cy="1055880"/>
            <a:chOff x="7308720" y="5300640"/>
            <a:chExt cx="1366560" cy="1055880"/>
          </a:xfrm>
        </p:grpSpPr>
        <p:grpSp>
          <p:nvGrpSpPr>
            <p:cNvPr id="207" name="Group 49"/>
            <p:cNvGrpSpPr/>
            <p:nvPr/>
          </p:nvGrpSpPr>
          <p:grpSpPr>
            <a:xfrm>
              <a:off x="7308720" y="5300640"/>
              <a:ext cx="1366560" cy="1055880"/>
              <a:chOff x="7308720" y="5300640"/>
              <a:chExt cx="1366560" cy="1055880"/>
            </a:xfrm>
          </p:grpSpPr>
          <p:sp>
            <p:nvSpPr>
              <p:cNvPr id="208" name="Rectangle 50"/>
              <p:cNvSpPr/>
              <p:nvPr/>
            </p:nvSpPr>
            <p:spPr>
              <a:xfrm>
                <a:off x="7308720" y="5300640"/>
                <a:ext cx="1366560" cy="1055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51"/>
              <p:cNvSpPr/>
              <p:nvPr/>
            </p:nvSpPr>
            <p:spPr>
              <a:xfrm>
                <a:off x="7308720" y="5564160"/>
                <a:ext cx="13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Text Box 52"/>
            <p:cNvSpPr/>
            <p:nvPr/>
          </p:nvSpPr>
          <p:spPr>
            <a:xfrm>
              <a:off x="7526520" y="5300640"/>
              <a:ext cx="100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onsta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Line 60"/>
          <p:cNvSpPr/>
          <p:nvPr/>
        </p:nvSpPr>
        <p:spPr>
          <a:xfrm flipV="1">
            <a:off x="5208480" y="2204640"/>
            <a:ext cx="8762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61"/>
          <p:cNvSpPr/>
          <p:nvPr/>
        </p:nvSpPr>
        <p:spPr>
          <a:xfrm flipV="1">
            <a:off x="6361200" y="2204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2"/>
          <p:cNvSpPr/>
          <p:nvPr/>
        </p:nvSpPr>
        <p:spPr>
          <a:xfrm flipH="1" flipV="1">
            <a:off x="6648120" y="2205000"/>
            <a:ext cx="136836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3"/>
          <p:cNvSpPr/>
          <p:nvPr/>
        </p:nvSpPr>
        <p:spPr>
          <a:xfrm flipH="1">
            <a:off x="2280960" y="4219560"/>
            <a:ext cx="86364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64"/>
          <p:cNvSpPr/>
          <p:nvPr/>
        </p:nvSpPr>
        <p:spPr>
          <a:xfrm>
            <a:off x="3289320" y="4219560"/>
            <a:ext cx="995400" cy="1009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66"/>
          <p:cNvSpPr/>
          <p:nvPr/>
        </p:nvSpPr>
        <p:spPr>
          <a:xfrm flipV="1">
            <a:off x="4427640" y="3933360"/>
            <a:ext cx="504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67"/>
          <p:cNvSpPr/>
          <p:nvPr/>
        </p:nvSpPr>
        <p:spPr>
          <a:xfrm flipV="1">
            <a:off x="4572000" y="4076640"/>
            <a:ext cx="128412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1"/>
          <p:cNvSpPr/>
          <p:nvPr/>
        </p:nvSpPr>
        <p:spPr>
          <a:xfrm>
            <a:off x="1692360" y="5492880"/>
            <a:ext cx="1411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ru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ause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GameOver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A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2"/>
          <p:cNvSpPr/>
          <p:nvPr/>
        </p:nvSpPr>
        <p:spPr>
          <a:xfrm>
            <a:off x="3492360" y="5516640"/>
            <a:ext cx="1584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GameObjects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aint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keyPresse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3"/>
          <p:cNvSpPr/>
          <p:nvPr/>
        </p:nvSpPr>
        <p:spPr>
          <a:xfrm>
            <a:off x="5713560" y="1336680"/>
            <a:ext cx="1095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X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Y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sects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4"/>
          <p:cNvSpPr/>
          <p:nvPr/>
        </p:nvSpPr>
        <p:spPr>
          <a:xfrm>
            <a:off x="4418280" y="2997360"/>
            <a:ext cx="79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5"/>
          <p:cNvSpPr/>
          <p:nvPr/>
        </p:nvSpPr>
        <p:spPr>
          <a:xfrm>
            <a:off x="5857920" y="3429000"/>
            <a:ext cx="79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6"/>
          <p:cNvSpPr/>
          <p:nvPr/>
        </p:nvSpPr>
        <p:spPr>
          <a:xfrm>
            <a:off x="7297920" y="4005360"/>
            <a:ext cx="79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pda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raw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79"/>
          <p:cNvGrpSpPr/>
          <p:nvPr/>
        </p:nvGrpSpPr>
        <p:grpSpPr>
          <a:xfrm>
            <a:off x="2687760" y="1916280"/>
            <a:ext cx="1209600" cy="720720"/>
            <a:chOff x="2687760" y="1916280"/>
            <a:chExt cx="1209600" cy="720720"/>
          </a:xfrm>
        </p:grpSpPr>
        <p:sp>
          <p:nvSpPr>
            <p:cNvPr id="225" name="Rectangle 80"/>
            <p:cNvSpPr/>
            <p:nvPr/>
          </p:nvSpPr>
          <p:spPr>
            <a:xfrm>
              <a:off x="2687760" y="1916280"/>
              <a:ext cx="1209600" cy="720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81"/>
            <p:cNvSpPr/>
            <p:nvPr/>
          </p:nvSpPr>
          <p:spPr>
            <a:xfrm>
              <a:off x="2687760" y="2095920"/>
              <a:ext cx="12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 Box 82"/>
          <p:cNvSpPr/>
          <p:nvPr/>
        </p:nvSpPr>
        <p:spPr>
          <a:xfrm>
            <a:off x="2951640" y="1878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D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3"/>
          <p:cNvSpPr/>
          <p:nvPr/>
        </p:nvSpPr>
        <p:spPr>
          <a:xfrm flipV="1">
            <a:off x="3276720" y="26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4"/>
          <p:cNvSpPr/>
          <p:nvPr/>
        </p:nvSpPr>
        <p:spPr>
          <a:xfrm>
            <a:off x="7125120" y="2674800"/>
            <a:ext cx="85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5"/>
          <p:cNvSpPr/>
          <p:nvPr/>
        </p:nvSpPr>
        <p:spPr>
          <a:xfrm>
            <a:off x="2443680" y="2760840"/>
            <a:ext cx="85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6"/>
          <p:cNvSpPr/>
          <p:nvPr/>
        </p:nvSpPr>
        <p:spPr>
          <a:xfrm>
            <a:off x="4764600" y="2349360"/>
            <a:ext cx="85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7"/>
          <p:cNvSpPr/>
          <p:nvPr/>
        </p:nvSpPr>
        <p:spPr>
          <a:xfrm>
            <a:off x="6333120" y="2924280"/>
            <a:ext cx="851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extends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88"/>
          <p:cNvSpPr/>
          <p:nvPr/>
        </p:nvSpPr>
        <p:spPr>
          <a:xfrm>
            <a:off x="1390680" y="3525840"/>
            <a:ext cx="360360" cy="4334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92"/>
          <p:cNvSpPr/>
          <p:nvPr/>
        </p:nvSpPr>
        <p:spPr>
          <a:xfrm>
            <a:off x="339840" y="4495680"/>
            <a:ext cx="360360" cy="4320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3"/>
          <p:cNvSpPr/>
          <p:nvPr/>
        </p:nvSpPr>
        <p:spPr>
          <a:xfrm>
            <a:off x="828000" y="323856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Liste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4"/>
          <p:cNvSpPr/>
          <p:nvPr/>
        </p:nvSpPr>
        <p:spPr>
          <a:xfrm>
            <a:off x="78480" y="41878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un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5"/>
          <p:cNvSpPr/>
          <p:nvPr/>
        </p:nvSpPr>
        <p:spPr>
          <a:xfrm flipH="1" flipV="1">
            <a:off x="684360" y="4868640"/>
            <a:ext cx="1008000" cy="86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6"/>
          <p:cNvSpPr/>
          <p:nvPr/>
        </p:nvSpPr>
        <p:spPr>
          <a:xfrm>
            <a:off x="223200" y="5313240"/>
            <a:ext cx="103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implements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7"/>
          <p:cNvSpPr/>
          <p:nvPr/>
        </p:nvSpPr>
        <p:spPr>
          <a:xfrm>
            <a:off x="936720" y="4510080"/>
            <a:ext cx="103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implements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8"/>
          <p:cNvSpPr/>
          <p:nvPr/>
        </p:nvSpPr>
        <p:spPr>
          <a:xfrm flipH="1" flipV="1">
            <a:off x="1692360" y="3933720"/>
            <a:ext cx="50472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9"/>
          <p:cNvSpPr/>
          <p:nvPr/>
        </p:nvSpPr>
        <p:spPr>
          <a:xfrm>
            <a:off x="4647240" y="400536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0"/>
          <p:cNvSpPr/>
          <p:nvPr/>
        </p:nvSpPr>
        <p:spPr>
          <a:xfrm>
            <a:off x="7023600" y="4869000"/>
            <a:ext cx="241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andos do j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acterísticas dos obje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acterísticas do aparelho (ex.: largura e altura da tel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agens usadas pelos obje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étodo para carregar as imagens (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oadImages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MID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ui referência para a tela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ui referência para o controlador do j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cializa os objetos acima no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artApp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cializa o loop do jogo no controla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ra a tela do j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jeto de Cl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ad que contém o loop do j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ta todos os comandos alto-nível do j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a a máquina de estados do jogo (pause – resu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a: NÃO CONFUNDIR com a máquina de estados do MIDlet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ição {X,Y} na te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tura e largura de cada frame e do spr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resentação grá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cção de colis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locidades horizontal e verti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étodos abstrato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upda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draw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jeto de Cl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É um Spr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ui um array de bal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 máquina de estados própria: FLYING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PLO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mação das imag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étodos para mover a nave (exercí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étodo para disparar balas (exercí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É um Spr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nderiza a imagem da bala (não possui animaçã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ui máquina de estados própria: WAITING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renciamento quando bala sai da te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ualiza posição, de acordo com a velocidade (exercí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jeto de Cl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6680" indent="-167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É um Spr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sui comportamento ingênuo: randôm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agens anim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6680" indent="-167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GameSc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cializa e possui todos os elementos do jogo: nave, inimigos e balas (exercí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raliza a atualização dos estados dos objetos (exercí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cta colisão de balas com inimigos (exercí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cta colisão de inimigos com a nave (exercí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nderiza todos os objetos (exercí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a e pinta todas as informações do jogo (pontuação, nível e vid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ta pressionamento das teclas (esquerda, direita e fire) (exercíc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2440" indent="-279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jeto de Cl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000" y="303516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BUILD &amp; RUN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33843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ver the Air” (O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fra vermel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abo s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4"/>
          <p:cNvSpPr/>
          <p:nvPr/>
        </p:nvSpPr>
        <p:spPr>
          <a:xfrm>
            <a:off x="5079960" y="2068560"/>
            <a:ext cx="1298520" cy="1519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sgi_altix3700_1"/>
          <p:cNvPicPr/>
          <p:nvPr/>
        </p:nvPicPr>
        <p:blipFill>
          <a:blip r:embed="rId1"/>
          <a:stretch/>
        </p:blipFill>
        <p:spPr>
          <a:xfrm>
            <a:off x="5345280" y="2205000"/>
            <a:ext cx="698400" cy="1152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sony-ericsson_P800_01"/>
          <p:cNvPicPr/>
          <p:nvPr/>
        </p:nvPicPr>
        <p:blipFill>
          <a:blip r:embed="rId2"/>
          <a:stretch/>
        </p:blipFill>
        <p:spPr>
          <a:xfrm>
            <a:off x="2627280" y="259092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sony-ericsson_P800_01"/>
          <p:cNvPicPr/>
          <p:nvPr/>
        </p:nvPicPr>
        <p:blipFill>
          <a:blip r:embed="rId3"/>
          <a:stretch/>
        </p:blipFill>
        <p:spPr>
          <a:xfrm>
            <a:off x="2627280" y="443700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sony-ericsson_P800_01"/>
          <p:cNvPicPr/>
          <p:nvPr/>
        </p:nvPicPr>
        <p:blipFill>
          <a:blip r:embed="rId4"/>
          <a:stretch/>
        </p:blipFill>
        <p:spPr>
          <a:xfrm>
            <a:off x="3830760" y="536580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sony-ericsson_P800_01"/>
          <p:cNvPicPr/>
          <p:nvPr/>
        </p:nvPicPr>
        <p:blipFill>
          <a:blip r:embed="rId5"/>
          <a:stretch/>
        </p:blipFill>
        <p:spPr>
          <a:xfrm>
            <a:off x="5425920" y="537372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sony-ericsson_P800_01"/>
          <p:cNvPicPr/>
          <p:nvPr/>
        </p:nvPicPr>
        <p:blipFill>
          <a:blip r:embed="rId6"/>
          <a:stretch/>
        </p:blipFill>
        <p:spPr>
          <a:xfrm>
            <a:off x="7769160" y="533088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sony-ericsson_P800_01"/>
          <p:cNvPicPr/>
          <p:nvPr/>
        </p:nvPicPr>
        <p:blipFill>
          <a:blip r:embed="rId7"/>
          <a:stretch/>
        </p:blipFill>
        <p:spPr>
          <a:xfrm>
            <a:off x="7767720" y="3489480"/>
            <a:ext cx="608040" cy="674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sony-ericsson_P800_01"/>
          <p:cNvPicPr/>
          <p:nvPr/>
        </p:nvPicPr>
        <p:blipFill>
          <a:blip r:embed="rId8"/>
          <a:stretch/>
        </p:blipFill>
        <p:spPr>
          <a:xfrm>
            <a:off x="7740720" y="1989000"/>
            <a:ext cx="608040" cy="675000"/>
          </a:xfrm>
          <a:prstGeom prst="rect">
            <a:avLst/>
          </a:prstGeom>
          <a:ln w="0">
            <a:noFill/>
          </a:ln>
        </p:spPr>
      </p:pic>
      <p:sp>
        <p:nvSpPr>
          <p:cNvPr id="262" name="Line 13"/>
          <p:cNvSpPr/>
          <p:nvPr/>
        </p:nvSpPr>
        <p:spPr>
          <a:xfrm flipH="1">
            <a:off x="3347640" y="2852640"/>
            <a:ext cx="1584360" cy="71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4"/>
          <p:cNvSpPr/>
          <p:nvPr/>
        </p:nvSpPr>
        <p:spPr>
          <a:xfrm flipH="1">
            <a:off x="3347640" y="3284640"/>
            <a:ext cx="1655640" cy="1224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5"/>
          <p:cNvSpPr/>
          <p:nvPr/>
        </p:nvSpPr>
        <p:spPr>
          <a:xfrm flipH="1">
            <a:off x="5657400" y="3933720"/>
            <a:ext cx="1800" cy="1293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6"/>
          <p:cNvSpPr/>
          <p:nvPr/>
        </p:nvSpPr>
        <p:spPr>
          <a:xfrm>
            <a:off x="6227640" y="3645000"/>
            <a:ext cx="1440000" cy="2016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7"/>
          <p:cNvSpPr/>
          <p:nvPr/>
        </p:nvSpPr>
        <p:spPr>
          <a:xfrm>
            <a:off x="6588000" y="3068640"/>
            <a:ext cx="1079640" cy="792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8"/>
          <p:cNvSpPr/>
          <p:nvPr/>
        </p:nvSpPr>
        <p:spPr>
          <a:xfrm flipH="1">
            <a:off x="4356000" y="3716280"/>
            <a:ext cx="936720" cy="144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0"/>
          <p:cNvSpPr/>
          <p:nvPr/>
        </p:nvSpPr>
        <p:spPr>
          <a:xfrm>
            <a:off x="2414160" y="324324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Arial"/>
              </a:rPr>
              <a:t>descobe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1"/>
          <p:cNvSpPr/>
          <p:nvPr/>
        </p:nvSpPr>
        <p:spPr>
          <a:xfrm>
            <a:off x="2456640" y="509760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Arial"/>
              </a:rPr>
              <a:t>instal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2"/>
          <p:cNvSpPr/>
          <p:nvPr/>
        </p:nvSpPr>
        <p:spPr>
          <a:xfrm>
            <a:off x="5253840" y="602136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Arial"/>
              </a:rPr>
              <a:t>execu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3"/>
          <p:cNvSpPr/>
          <p:nvPr/>
        </p:nvSpPr>
        <p:spPr>
          <a:xfrm flipV="1">
            <a:off x="5802480" y="3933720"/>
            <a:ext cx="1440" cy="12938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4"/>
          <p:cNvSpPr/>
          <p:nvPr/>
        </p:nvSpPr>
        <p:spPr>
          <a:xfrm>
            <a:off x="7553160" y="412416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Arial"/>
              </a:rPr>
              <a:t>atualiz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5"/>
          <p:cNvSpPr/>
          <p:nvPr/>
        </p:nvSpPr>
        <p:spPr>
          <a:xfrm>
            <a:off x="7599600" y="1628640"/>
            <a:ext cx="87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Arial"/>
              </a:rPr>
              <a:t>remo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6"/>
          <p:cNvSpPr/>
          <p:nvPr/>
        </p:nvSpPr>
        <p:spPr>
          <a:xfrm>
            <a:off x="3562200" y="602136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Arial"/>
              </a:rPr>
              <a:t>confirm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7"/>
          <p:cNvSpPr/>
          <p:nvPr/>
        </p:nvSpPr>
        <p:spPr>
          <a:xfrm>
            <a:off x="7582680" y="598788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Arial"/>
              </a:rPr>
              <a:t>checag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30"/>
          <p:cNvSpPr/>
          <p:nvPr/>
        </p:nvSpPr>
        <p:spPr>
          <a:xfrm>
            <a:off x="2916360" y="3551400"/>
            <a:ext cx="0" cy="79200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1"/>
          <p:cNvSpPr/>
          <p:nvPr/>
        </p:nvSpPr>
        <p:spPr>
          <a:xfrm>
            <a:off x="3348000" y="4869000"/>
            <a:ext cx="720720" cy="47772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2"/>
          <p:cNvSpPr/>
          <p:nvPr/>
        </p:nvSpPr>
        <p:spPr>
          <a:xfrm>
            <a:off x="4538520" y="5732640"/>
            <a:ext cx="792360" cy="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3"/>
          <p:cNvSpPr/>
          <p:nvPr/>
        </p:nvSpPr>
        <p:spPr>
          <a:xfrm>
            <a:off x="6156360" y="5732640"/>
            <a:ext cx="1440000" cy="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4"/>
          <p:cNvSpPr/>
          <p:nvPr/>
        </p:nvSpPr>
        <p:spPr>
          <a:xfrm flipV="1">
            <a:off x="8045280" y="4436640"/>
            <a:ext cx="0" cy="79236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5"/>
          <p:cNvSpPr/>
          <p:nvPr/>
        </p:nvSpPr>
        <p:spPr>
          <a:xfrm flipV="1">
            <a:off x="8040600" y="2695680"/>
            <a:ext cx="0" cy="720720"/>
          </a:xfrm>
          <a:prstGeom prst="line">
            <a:avLst/>
          </a:prstGeom>
          <a:ln cap="rnd" w="57240">
            <a:solidFill>
              <a:srgbClr val="ffcc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8"/>
          <p:cNvSpPr/>
          <p:nvPr/>
        </p:nvSpPr>
        <p:spPr>
          <a:xfrm>
            <a:off x="4645080" y="44370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9"/>
          <p:cNvSpPr/>
          <p:nvPr/>
        </p:nvSpPr>
        <p:spPr>
          <a:xfrm>
            <a:off x="6880680" y="29973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JAR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plo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20"/>
          <p:cNvSpPr/>
          <p:nvPr/>
        </p:nvSpPr>
        <p:spPr>
          <a:xfrm>
            <a:off x="5045760" y="168120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ffffff"/>
                </a:solidFill>
                <a:latin typeface="Arial"/>
              </a:rPr>
              <a:t>MIDlet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9"/>
          <p:cNvSpPr/>
          <p:nvPr/>
        </p:nvSpPr>
        <p:spPr>
          <a:xfrm>
            <a:off x="6232680" y="4508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JAD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9"/>
          <p:cNvSpPr/>
          <p:nvPr/>
        </p:nvSpPr>
        <p:spPr>
          <a:xfrm>
            <a:off x="3712680" y="3429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JAD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Mercado de Jogos Móve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deia de Val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senvolvimento precisa ser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ápid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torno do investimento é len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upo 41"/>
          <p:cNvGrpSpPr/>
          <p:nvPr/>
        </p:nvGrpSpPr>
        <p:grpSpPr>
          <a:xfrm>
            <a:off x="1332000" y="2276640"/>
            <a:ext cx="6480000" cy="1677240"/>
            <a:chOff x="1332000" y="2276640"/>
            <a:chExt cx="6480000" cy="1677240"/>
          </a:xfrm>
        </p:grpSpPr>
        <p:sp>
          <p:nvSpPr>
            <p:cNvPr id="59" name="AutoShape 8"/>
            <p:cNvSpPr/>
            <p:nvPr/>
          </p:nvSpPr>
          <p:spPr>
            <a:xfrm>
              <a:off x="2568600" y="2623680"/>
              <a:ext cx="1222200" cy="946080"/>
            </a:xfrm>
            <a:custGeom>
              <a:avLst/>
              <a:gdLst>
                <a:gd name="textAreaLeft" fmla="*/ 0 w 1222200"/>
                <a:gd name="textAreaRight" fmla="*/ 1222560 w 122220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400" y="0"/>
                  </a:lnTo>
                  <a:lnTo>
                    <a:pt x="21600" y="10800"/>
                  </a:lnTo>
                  <a:lnTo>
                    <a:pt x="19400" y="21600"/>
                  </a:lnTo>
                  <a:lnTo>
                    <a:pt x="0" y="21600"/>
                  </a:lnTo>
                  <a:lnTo>
                    <a:pt x="220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velo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upo 39"/>
            <p:cNvGrpSpPr/>
            <p:nvPr/>
          </p:nvGrpSpPr>
          <p:grpSpPr>
            <a:xfrm>
              <a:off x="5605560" y="2623680"/>
              <a:ext cx="1157040" cy="946080"/>
              <a:chOff x="5605560" y="2623680"/>
              <a:chExt cx="1157040" cy="946080"/>
            </a:xfrm>
          </p:grpSpPr>
          <p:sp>
            <p:nvSpPr>
              <p:cNvPr id="61" name="AutoShape 9"/>
              <p:cNvSpPr/>
              <p:nvPr/>
            </p:nvSpPr>
            <p:spPr>
              <a:xfrm>
                <a:off x="5605560" y="2623680"/>
                <a:ext cx="1157040" cy="946080"/>
              </a:xfrm>
              <a:custGeom>
                <a:avLst/>
                <a:gdLst>
                  <a:gd name="textAreaLeft" fmla="*/ 0 w 1157040"/>
                  <a:gd name="textAreaRight" fmla="*/ 1157040 w 1157040"/>
                  <a:gd name="textAreaTop" fmla="*/ 0 h 946080"/>
                  <a:gd name="textAreaBottom" fmla="*/ 946440 h 94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400" y="0"/>
                    </a:lnTo>
                    <a:lnTo>
                      <a:pt x="21600" y="10800"/>
                    </a:lnTo>
                    <a:lnTo>
                      <a:pt x="19400" y="21600"/>
                    </a:lnTo>
                    <a:lnTo>
                      <a:pt x="0" y="21600"/>
                    </a:lnTo>
                    <a:lnTo>
                      <a:pt x="22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10"/>
              <p:cNvSpPr/>
              <p:nvPr/>
            </p:nvSpPr>
            <p:spPr>
              <a:xfrm>
                <a:off x="5845680" y="2911680"/>
                <a:ext cx="767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arri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Grupo 40"/>
            <p:cNvGrpSpPr/>
            <p:nvPr/>
          </p:nvGrpSpPr>
          <p:grpSpPr>
            <a:xfrm>
              <a:off x="6648480" y="2617920"/>
              <a:ext cx="1163520" cy="946080"/>
              <a:chOff x="6648480" y="2617920"/>
              <a:chExt cx="1163520" cy="946080"/>
            </a:xfrm>
          </p:grpSpPr>
          <p:sp>
            <p:nvSpPr>
              <p:cNvPr id="64" name="AutoShape 14"/>
              <p:cNvSpPr/>
              <p:nvPr/>
            </p:nvSpPr>
            <p:spPr>
              <a:xfrm>
                <a:off x="6648480" y="2617920"/>
                <a:ext cx="1163520" cy="946080"/>
              </a:xfrm>
              <a:custGeom>
                <a:avLst/>
                <a:gdLst>
                  <a:gd name="textAreaLeft" fmla="*/ 0 w 1163520"/>
                  <a:gd name="textAreaRight" fmla="*/ 1163880 w 1163520"/>
                  <a:gd name="textAreaTop" fmla="*/ 0 h 946080"/>
                  <a:gd name="textAreaBottom" fmla="*/ 946440 h 94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757" y="0"/>
                    </a:lnTo>
                    <a:lnTo>
                      <a:pt x="21600" y="10800"/>
                    </a:lnTo>
                    <a:lnTo>
                      <a:pt x="19757" y="21600"/>
                    </a:lnTo>
                    <a:lnTo>
                      <a:pt x="0" y="21600"/>
                    </a:lnTo>
                    <a:lnTo>
                      <a:pt x="1843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 Box 15"/>
              <p:cNvSpPr/>
              <p:nvPr/>
            </p:nvSpPr>
            <p:spPr>
              <a:xfrm>
                <a:off x="6804000" y="2924640"/>
                <a:ext cx="951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nd-us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AutoShape 18"/>
            <p:cNvSpPr/>
            <p:nvPr/>
          </p:nvSpPr>
          <p:spPr>
            <a:xfrm>
              <a:off x="4656600" y="2623680"/>
              <a:ext cx="1096560" cy="946080"/>
            </a:xfrm>
            <a:custGeom>
              <a:avLst/>
              <a:gdLst>
                <a:gd name="textAreaLeft" fmla="*/ 0 w 1096560"/>
                <a:gd name="textAreaRight" fmla="*/ 1096920 w 109656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750" y="0"/>
                  </a:lnTo>
                  <a:lnTo>
                    <a:pt x="21600" y="10800"/>
                  </a:lnTo>
                  <a:lnTo>
                    <a:pt x="19750" y="21600"/>
                  </a:lnTo>
                  <a:lnTo>
                    <a:pt x="0" y="21600"/>
                  </a:lnTo>
                  <a:lnTo>
                    <a:pt x="1850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bile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upo 38"/>
            <p:cNvGrpSpPr/>
            <p:nvPr/>
          </p:nvGrpSpPr>
          <p:grpSpPr>
            <a:xfrm>
              <a:off x="3657240" y="2623680"/>
              <a:ext cx="1134000" cy="947880"/>
              <a:chOff x="3657240" y="2623680"/>
              <a:chExt cx="1134000" cy="947880"/>
            </a:xfrm>
          </p:grpSpPr>
          <p:sp>
            <p:nvSpPr>
              <p:cNvPr id="68" name="AutoShape 17"/>
              <p:cNvSpPr/>
              <p:nvPr/>
            </p:nvSpPr>
            <p:spPr>
              <a:xfrm>
                <a:off x="3657240" y="2623680"/>
                <a:ext cx="1134000" cy="947880"/>
              </a:xfrm>
              <a:custGeom>
                <a:avLst/>
                <a:gdLst>
                  <a:gd name="textAreaLeft" fmla="*/ 0 w 1134000"/>
                  <a:gd name="textAreaRight" fmla="*/ 1134360 w 1134000"/>
                  <a:gd name="textAreaTop" fmla="*/ 0 h 947880"/>
                  <a:gd name="textAreaBottom" fmla="*/ 948240 h 947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107" y="0"/>
                    </a:lnTo>
                    <a:lnTo>
                      <a:pt x="21600" y="10800"/>
                    </a:lnTo>
                    <a:lnTo>
                      <a:pt x="19107" y="21600"/>
                    </a:lnTo>
                    <a:lnTo>
                      <a:pt x="0" y="21600"/>
                    </a:lnTo>
                    <a:lnTo>
                      <a:pt x="2493" y="1080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9"/>
              <p:cNvSpPr/>
              <p:nvPr/>
            </p:nvSpPr>
            <p:spPr>
              <a:xfrm>
                <a:off x="3794400" y="2923560"/>
                <a:ext cx="992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ublish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upo 37"/>
            <p:cNvGrpSpPr/>
            <p:nvPr/>
          </p:nvGrpSpPr>
          <p:grpSpPr>
            <a:xfrm>
              <a:off x="1348560" y="2630520"/>
              <a:ext cx="1372680" cy="946080"/>
              <a:chOff x="1348560" y="2630520"/>
              <a:chExt cx="1372680" cy="946080"/>
            </a:xfrm>
          </p:grpSpPr>
          <p:sp>
            <p:nvSpPr>
              <p:cNvPr id="71" name="AutoShape 4"/>
              <p:cNvSpPr/>
              <p:nvPr/>
            </p:nvSpPr>
            <p:spPr>
              <a:xfrm>
                <a:off x="1376640" y="2630520"/>
                <a:ext cx="1339560" cy="946080"/>
              </a:xfrm>
              <a:custGeom>
                <a:avLst/>
                <a:gdLst>
                  <a:gd name="textAreaLeft" fmla="*/ 0 w 1339560"/>
                  <a:gd name="textAreaRight" fmla="*/ 1339920 w 1339560"/>
                  <a:gd name="textAreaTop" fmla="*/ 0 h 946080"/>
                  <a:gd name="textAreaBottom" fmla="*/ 946440 h 946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400" y="0"/>
                    </a:lnTo>
                    <a:lnTo>
                      <a:pt x="21600" y="10800"/>
                    </a:lnTo>
                    <a:lnTo>
                      <a:pt x="19400" y="21600"/>
                    </a:lnTo>
                    <a:lnTo>
                      <a:pt x="0" y="21600"/>
                    </a:lnTo>
                    <a:lnTo>
                      <a:pt x="220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5"/>
              <p:cNvSpPr/>
              <p:nvPr/>
            </p:nvSpPr>
            <p:spPr>
              <a:xfrm>
                <a:off x="1348560" y="3162240"/>
                <a:ext cx="13680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chnolog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 Box 6"/>
              <p:cNvSpPr/>
              <p:nvPr/>
            </p:nvSpPr>
            <p:spPr>
              <a:xfrm>
                <a:off x="1348560" y="2695320"/>
                <a:ext cx="136800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rand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20"/>
              <p:cNvSpPr/>
              <p:nvPr/>
            </p:nvSpPr>
            <p:spPr>
              <a:xfrm>
                <a:off x="1502280" y="3128040"/>
                <a:ext cx="1218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Text Box 21"/>
            <p:cNvSpPr/>
            <p:nvPr/>
          </p:nvSpPr>
          <p:spPr>
            <a:xfrm>
              <a:off x="1332000" y="2276640"/>
              <a:ext cx="64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2f2f2"/>
                  </a:solidFill>
                  <a:latin typeface="Verdana"/>
                </a:rPr>
                <a:t>Fluxo de produção &gt;&gt;&gt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2"/>
            <p:cNvSpPr/>
            <p:nvPr/>
          </p:nvSpPr>
          <p:spPr>
            <a:xfrm>
              <a:off x="1332000" y="3616560"/>
              <a:ext cx="648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2f2f2"/>
                  </a:solidFill>
                  <a:latin typeface="Verdana"/>
                </a:rPr>
                <a:t>&lt;&lt;&lt; Fluxo de receita ($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ição de Splash Scr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ição de men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lhorar tela de game ov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r tela de recordes (persistência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ckground com scrolling (efeito de paralax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efe de f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leta de itens com diferentes funcionalidad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pos diferentes de inimig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A dos Inimig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pload de pontuação para servid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lhori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fuscadores para diminuir tamanho de códi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guard, Retroguard, etc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utela no uso de herança e excesso de clas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vite usar classes anônimas ou aninhad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essos a variáveis estáticas e métodos estáticos é mais rápi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oops de trás para frente (comparação com 0, null e false é mais rápida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use objet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uidado no uso de String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imize, se necessár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bine várias imagens em uma só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úmero de cores das image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o de clip para pintur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incipais restriçõe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manho do JAR: a partir de 64K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ória volátil: a partir de ~200K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amento: 6 a 10 frames por segun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imize, se necessár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4" name="Object 2"/>
          <p:cNvGraphicFramePr/>
          <p:nvPr/>
        </p:nvGraphicFramePr>
        <p:xfrm>
          <a:off x="2411280" y="1700280"/>
          <a:ext cx="844560" cy="14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700280"/>
                    <a:ext cx="84456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3"/>
          <p:cNvGraphicFramePr/>
          <p:nvPr/>
        </p:nvGraphicFramePr>
        <p:xfrm>
          <a:off x="5219640" y="1916280"/>
          <a:ext cx="2732040" cy="3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1916280"/>
                    <a:ext cx="27320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6"/>
          <p:cNvSpPr/>
          <p:nvPr/>
        </p:nvSpPr>
        <p:spPr>
          <a:xfrm>
            <a:off x="5931360" y="2347920"/>
            <a:ext cx="127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Imagem P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.7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823320" y="2060640"/>
            <a:ext cx="126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Imagens 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6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zer nosso Sprite herdar do Sprite de MIDP 2.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usar a colisão do Sprite de MIDP 2.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ar GameCanvas para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tamento de teclas, via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getKeyState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ze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ackbuff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usando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getGraphics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rnar o jog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ull scr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icionar som (sugestão: MIDI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rcício: Porting para MIDP 2.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1098720"/>
            <a:ext cx="9144000" cy="575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Spri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4" descr="sequenceDemo"/>
          <p:cNvPicPr/>
          <p:nvPr/>
        </p:nvPicPr>
        <p:blipFill>
          <a:blip r:embed="rId1"/>
          <a:stretch/>
        </p:blipFill>
        <p:spPr>
          <a:xfrm>
            <a:off x="3780000" y="6138720"/>
            <a:ext cx="914400" cy="3430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2"/>
          <a:stretch/>
        </p:blipFill>
        <p:spPr>
          <a:xfrm>
            <a:off x="826920" y="2249640"/>
            <a:ext cx="3743640" cy="2266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"/>
          <p:cNvPicPr/>
          <p:nvPr/>
        </p:nvPicPr>
        <p:blipFill>
          <a:blip r:embed="rId3"/>
          <a:stretch/>
        </p:blipFill>
        <p:spPr>
          <a:xfrm>
            <a:off x="561960" y="2022480"/>
            <a:ext cx="4905360" cy="2914560"/>
          </a:xfrm>
          <a:prstGeom prst="rect">
            <a:avLst/>
          </a:prstGeom>
          <a:ln w="0">
            <a:noFill/>
          </a:ln>
        </p:spPr>
      </p:pic>
      <p:grpSp>
        <p:nvGrpSpPr>
          <p:cNvPr id="307" name="Group 7"/>
          <p:cNvGrpSpPr/>
          <p:nvPr/>
        </p:nvGrpSpPr>
        <p:grpSpPr>
          <a:xfrm>
            <a:off x="3635280" y="1890720"/>
            <a:ext cx="4997520" cy="4638600"/>
            <a:chOff x="3635280" y="1890720"/>
            <a:chExt cx="4997520" cy="4638600"/>
          </a:xfrm>
        </p:grpSpPr>
        <p:pic>
          <p:nvPicPr>
            <p:cNvPr id="308" name="Picture 8" descr=""/>
            <p:cNvPicPr/>
            <p:nvPr/>
          </p:nvPicPr>
          <p:blipFill>
            <a:blip r:embed="rId4"/>
            <a:stretch/>
          </p:blipFill>
          <p:spPr>
            <a:xfrm>
              <a:off x="5651640" y="1890720"/>
              <a:ext cx="2981160" cy="463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9" descr=""/>
            <p:cNvPicPr/>
            <p:nvPr/>
          </p:nvPicPr>
          <p:blipFill>
            <a:blip r:embed="rId5"/>
            <a:stretch/>
          </p:blipFill>
          <p:spPr>
            <a:xfrm>
              <a:off x="3635280" y="3618000"/>
              <a:ext cx="115272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Rectangle 10"/>
          <p:cNvSpPr/>
          <p:nvPr/>
        </p:nvSpPr>
        <p:spPr>
          <a:xfrm>
            <a:off x="5580000" y="1890720"/>
            <a:ext cx="3095640" cy="5745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986400" y="4915080"/>
            <a:ext cx="347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Verdana"/>
              </a:rPr>
              <a:t>Sprite s = new Sprite(image, frameWidth, frameHeigh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3635280" y="5634000"/>
            <a:ext cx="12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Verdana"/>
              </a:rPr>
              <a:t>s.move(10, 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Verdana"/>
              </a:rPr>
              <a:t>s.nextFram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3"/>
          <p:cNvSpPr/>
          <p:nvPr/>
        </p:nvSpPr>
        <p:spPr>
          <a:xfrm>
            <a:off x="5049360" y="1506600"/>
            <a:ext cx="3243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Verdana"/>
              </a:rPr>
              <a:t>s.setFrameSequence(new int[]{0, 1, 2, … , 1, 1, 1, 1}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3641760" y="5634000"/>
            <a:ext cx="1297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Verdana"/>
              </a:rPr>
              <a:t>s.nextFram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dir imagens separad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ar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frame sequenc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em vez de vetores de image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terar classe Sprite para herdar de </a:t>
            </a:r>
            <a:r>
              <a:rPr b="0" lang="en-US" sz="2600" spc="-1" strike="noStrike">
                <a:solidFill>
                  <a:srgbClr val="ffffff"/>
                </a:solidFill>
                <a:latin typeface="Courier New"/>
                <a:ea typeface="Courier New"/>
              </a:rPr>
              <a:t>javax.microedition.lcdui.game.Spri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lterar objetos que usam os Sprites atuais para se adaptarem à interface de Spri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ndo Sprite de MIDP 2.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r imagens separ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daptar método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Constants.loadImages(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exercício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ansformar vetores de imagens em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frame sequence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na classe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Constant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(exercício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ar classe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pr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clarar heranç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mover declaração de características herdad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legar posicionamento a métodos do Sprite MIDP 2.0 (exercício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daptar interface do construtor para receber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frame seque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mplementar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draw(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usando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Sprite.paint(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lhando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ar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rame sequ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ara controlar animações nas classes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hi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Enem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F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verter chamadas a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Image()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m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FrameSequence(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icializar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frame sequenc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nos construtores e nas mudanças de estado das classes (exercício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mover métodos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draw(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tualizar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frame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no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update(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ar inicialização das classes usando novo constru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daptar classe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  <a:ea typeface="Courier New"/>
              </a:rPr>
              <a:t>ShipGameScree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para passar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frame sequenc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no lugar do vetor de imagens (exercício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lhando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mplos de variaçã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manho de tel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pacidade de processam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pacidade de memória voláti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PIs (ex.: som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ersão MID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gs específicos da implementação da KV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ionalidades do jo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iom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cala: 500+ aparelh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ter código único, usando pré-processam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tenna: http://antenna.sourceforge.n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clipse ME: http://eclipseme.org/index.ht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stema de build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ant.apache.org/man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ável pro gerar as várias versões da aplic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é-processa código antes de compi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rencia recursos: seleciona arquivos (imagens, sons, etc) por vers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acota tudo gerando JAR e J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Mercado de Jogos Móve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incipais Jogador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A Mobile (Jamdat), Gameloft (Ubi Software), Glu Mob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odelo de Negócio: </a:t>
            </a:r>
            <a:r>
              <a:rPr b="0" i="1" lang="pt-BR" sz="2800" spc="-1" strike="noStrike">
                <a:solidFill>
                  <a:srgbClr val="ffffff"/>
                </a:solidFill>
                <a:latin typeface="Arial"/>
              </a:rPr>
              <a:t>Revenue Sh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al das operado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icipação ($) baixa para desenvolvedo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torno lento e sem possibilidade de auditor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jas como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Stor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pple) estão tornando-se cada vez mais pop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Bypas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nas operador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2724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ior participação ($) para desenvolvedo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ros sites interess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okia: http://www.forum.nokia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torola: http://www.motocoder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n Dev: http://developers.sun.com/mobi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Dlet Review: http://www.midlet-review.c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úvid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icardo.scholz@meantime.com.b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cas Fina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"/>
          <p:cNvSpPr/>
          <p:nvPr/>
        </p:nvSpPr>
        <p:spPr>
          <a:xfrm>
            <a:off x="0" y="5778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cardo Schol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der Téc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ardo.scholz@meantime.com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+55 81 3425.48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ais Tecnolog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Espaço Reservado para Conteúdo 2"/>
          <p:cNvSpPr/>
          <p:nvPr/>
        </p:nvSpPr>
        <p:spPr>
          <a:xfrm>
            <a:off x="457200" y="981000"/>
            <a:ext cx="822960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3880" indent="-171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S/M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171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gos baseados em troca de mensagens de texto e multimídia (forca,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quizz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enalty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171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va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171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va otimizado para dispositivos com limit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171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obe Flash 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171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são leve do Adobe Flash P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171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mb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171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stema operacional da Nok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171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orta várias linguagens: C++, Symbian C++, Python, Rubi, .NE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171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iv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171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guagem OO utilizada nas aplicações e jogos para o iOS (SO do iPh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3880" indent="-171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r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1713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stema operacional da Google, baseado em 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va Community Proccess (JCP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rganização aberta, liderada pela industri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bjetiva a melhoria da plataforma Jav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prova requisições de novas APIs ou componente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va Specification Request (JSR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ocumentação formal descrevendo tecnologias e especificações propostas para serem adicionadas à plataforma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s resultados de uma JSR sã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ma especificação que explica os detalhes e define os princípios da JS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ma implementação de referênci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m conjunto de testes que cada implementação deve passar para ser considerada compatível com a JS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isão Geral da Plataforma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Java Micro Edi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Java ME é um conjunto de tecnologias e especificações para criar uma plataforma adequada às necessidades de dispositivos móvei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3880" indent="-171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cnologias e especificações podem ser combinados para criar um ambiente de execução Java específico para um determinado disposi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4:54:57Z</dcterms:created>
  <dc:creator>dcc</dc:creator>
  <dc:description/>
  <dc:language>en-US</dc:language>
  <cp:lastModifiedBy>Scholz</cp:lastModifiedBy>
  <dcterms:modified xsi:type="dcterms:W3CDTF">2010-09-21T12:06:05Z</dcterms:modified>
  <cp:revision>359</cp:revision>
  <dc:subject/>
  <dc:title>Slide 1</dc:title>
</cp:coreProperties>
</file>