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89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736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89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736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45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45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OUSE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1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DFEC-D277-4444-8198-F0E4C456F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xemplo1/exemplo1.txt" TargetMode="External"/><Relationship Id="rId2" Type="http://schemas.openxmlformats.org/officeDocument/2006/relationships/hyperlink" Target="file:///exemplo1/exemplo1.exe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xemplo2/exemplo2.txt" TargetMode="External"/><Relationship Id="rId2" Type="http://schemas.openxmlformats.org/officeDocument/2006/relationships/hyperlink" Target="file:///exemplo2/exemplo2.exe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xemplo3/exemplo3.txt" TargetMode="External"/><Relationship Id="rId2" Type="http://schemas.openxmlformats.org/officeDocument/2006/relationships/hyperlink" Target="file:///Exemplo3/exemplo3.exe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Exemplo4/exemplo4.txt" TargetMode="External"/><Relationship Id="rId2" Type="http://schemas.openxmlformats.org/officeDocument/2006/relationships/hyperlink" Target="file:///Exemplo4/exemplo4.exe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exemplo5/exemplo5.txt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gramação Windows™</a:t>
            </a:r>
            <a:br>
              <a:rPr sz="4000"/>
            </a:b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ul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uardo Sampaio R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validando a Jan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769760"/>
            <a:ext cx="716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 vez que movemos, modificamos o tamanho ou encobrimos uma janela, o windows invalida uma parte ou toda a área do cli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 do cliente inválida  =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WM_PA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fila de ev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os também forçar uma área inválida utilizando a função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Invalidate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tendo um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Graphical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Device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m várias formas de se obter um GDC. As 2 principais s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ndo as funções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eginPa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nd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ndo as funções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etD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e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leas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BeginPaint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End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as dentr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M_PA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win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idam a área que era inválida (o windows para de mandar a mensagem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M_PA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inta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o DC para que vc repinte a área in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repinta na tela a área invá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urier New"/>
              </a:rPr>
              <a:t>GetDC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4000" spc="-1" strike="noStrike">
                <a:solidFill>
                  <a:srgbClr val="000000"/>
                </a:solidFill>
                <a:latin typeface="Courier New"/>
              </a:rPr>
              <a:t>Release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usado em qualquer parte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validam a área pin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limpam o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DC GetDC(HWND hWnd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ReleaseDC (HWND hW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DC hD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ifique o exemplo1 para que possamos pintar toda a área do cliente (independente da região inválida) no processamento da mensagem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WM_PAINT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Obs.: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e utilizando as funções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BeginPaint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EndP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de Manipulação de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SetPixel( //plota um pixel no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x, int y, // coordenada do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crColor); // cor do pix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OOL SetPixelV( //plota um pixel no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x, int y, // coordenada do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crColor); // cor do pix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LORREF GetPixel( //retorna a cor de um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nXPos, int nYPo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os G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BITM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 gráfico bidimensional, geralmente carregado de um  arqu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BRUS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 padrão de preenchimento colorido de uma área do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PE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a linha colorida com determinado estilo e largura. Usado para desenhar primitivas (linhas, retângulos e elipses) no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FO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  conjunto de caracteres que possuem determinadas características e que são  usados para imprimir textos no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RG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epresenta uma região que pode ser usada para preenchimento e corte no D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sando os Objetos GDI nos 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vice contex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sui exatamente 1 (um) objeto de cada ti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substituir um objeto do DC, nós utilizamos a seguinte fu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HGDIOBJ SelectObject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HGDIOBJ hgdiobj);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H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PEN CreatePe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fnPenStyle, // est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nWidth, // lar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OLORREF crColor);; // 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los da can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NULL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invi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SOLI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sólida. Pode ter qualquer larg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ASH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tracejada. Tem que ter uma largur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0 o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O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neta pontilhada. Largura tem que ser de 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ASHDO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tem que ser de 0 ou 1.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S_DASHDOTDO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tem que ser de 0 ou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dificando a Posição A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C guarda a posição atual. Assim podemos desenhar figuras contínuas sem grande esfor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ara modificar e verificar a posição corrente nós utilizamos as seguintes fun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MoveToEx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x, int y, //coodernada da nova 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POINT lppoint);//posição ant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GetCurrentPositionEx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POINT lpPoint); //posição a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r melhor o subsistema gráfico do windows (G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er o que é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vic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er a lidar com fontes, bitmaps e primitiv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esenhando uma Lin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LineTo desenha uma linha do ponto atual ao ponto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ter desenhado, a função move o ponto atual para o pont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LineTo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End,nYEnd //pont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1" lang="pt-BR" sz="4000" spc="-1" strike="noStrike">
                <a:solidFill>
                  <a:srgbClr val="000000"/>
                </a:solidFill>
                <a:latin typeface="Courier New"/>
              </a:rPr>
              <a:t>HBRU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RUSH CreateSolidBrus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LORREF cr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RUSH CreateHatchBrus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fnSty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LORREF cr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los de Preenchi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S_BDIAGONAL, HS_CROSS, HS_DIAGCROSS, HS_FDIAGONAL, HS_HORIZONTAL, HS_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eenchendo uma Á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ExtFloodFill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Start, int nYStart, // de onde começar 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preen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LORREF crCo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INT fuFillType); // FLOODFILLBORDER ou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FLOODFILL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FillRect( HDC hd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ST RECT *lpr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BRUSH hb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Fon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ifique o exemplo anterior para que cada vez que  clicarmos com o botão direito do mouse, o estilo de preenchimento seja diferent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-robin dos estilos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ras Funções de Preench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Round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urem no MSDN por: 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illed Shape Fun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 HR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região é uma forma (retângulo, elipse, polígono, etc) que pode ser usado em várias operaçõe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raming, clipping, fillin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riar uma região use uma das seguintes fun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Elliptic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Polygon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Rect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reateRoundR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sando HRGN -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Cli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lecionar uma região no DC, basta usar a funçã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electObjec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já vimos antes. Entretanto, no caso dos objetos HRNG, o código de retorno mu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EREGION  - região consiste de um retângulo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LEXREGION – região consiste de mais de um retâng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LLREGION – a região é vaz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ras Utilidades para HR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lR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Preenche uma determinada região com o HBRUSH passado como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PaintR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Preenche uma determinada região com o HBRUSH já selecionado no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R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– Cria uma moldura para a região utilizando um determinado HB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balhando com F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lmente nos jogos nós carregamos a nossa própria fonte. Isso pode ser feito com a seguite fu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AddFontResourc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CTSTR lpszFilename); //apontador para 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 do arquiv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terminarmos de usar tal fonte, ela pode ser removida do sistema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RemoveFontResour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CTSTR lpsz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balhando com Font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carregado a fonte, basta criar o objeto HF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FONT CreateFon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nHeigh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 É enorme!!! São 13 parâmetros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 Olhem o MSDN para a lista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CTSTR lpszFace);// TypeFac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Fonte e Execut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indows™ é um sistema operacional 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onseguir produzir tais gráficos, o Windows™ possui um subsistema chamad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raphical Device Interfac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DI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GDI cria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st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dispositivo a ser desenhado (tela, memória, impressora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erformance do GDI não é tão boa quanto desejamos para jogos (por isso for criado o DirectX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queremos guardar um gráfico em memória, nós utilizamos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CreateCompatibleDC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h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OOL DeleteDC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h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ando um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HBIT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BITMAP CreateCompatibleBitmap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DC hd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n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n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bitmap criado poderá conter sujeira. Portanto, use o a função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lRe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limpá-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rregando um Bit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ção LoadImage é usada para carregar Bitmaps, Ícones e Cur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ANDLE LoadImag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INSTANCE hint, // Se o bitmap for um recurso d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licação passe o apontador d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plicação. Se for carreg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rquivo passe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PCTSTR  lpszName, //nome do arqu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INT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uType, //IMAGE_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xDesired, // largura do 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yDesired, // altura do bit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INT fuLoad); // LR_LOADFROM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Bit Block Trans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mover uma imagem de um DC para outro, nós vamos utilizar a seguinte fu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 BitBl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Dest, //apontador do DC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Dest, int nYDest, // coord.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Width, int nHeight, // Rectân. dest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DC hdcSrc, //apontador do DC 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nXSrc, int nYSrc, // coord. F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WORD dwRop); //Como a transferência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bits deve ser fe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ções Bit a 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CO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pia os bits sem se importar com o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s bits do destino é combinado com os da imagem fonte fazendo um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PA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Os bits do destino é combinado com os da imagem fonte fazendo u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CI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Os bits do destino é combinado com os da imagem fonte fazendo um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itBlt - Ex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26665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COPY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PAINT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INVERT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RCAND: Fonte e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8125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itBlt - Transpar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desenhar na tela figuras mais complexas quando só dispomo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li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retângul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onseguir a transparência, nós vamos nos basear nas três regras básicas das operações com b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 AND 1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 AND 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 OR  0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" descr=""/>
          <p:cNvPicPr/>
          <p:nvPr/>
        </p:nvPicPr>
        <p:blipFill>
          <a:blip r:embed="rId1"/>
          <a:stretch/>
        </p:blipFill>
        <p:spPr>
          <a:xfrm>
            <a:off x="8001000" y="1981080"/>
            <a:ext cx="812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BitBlt – Transparência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36572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8680" y="5181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anela9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2819520" cy="2117520"/>
          </a:xfrm>
          <a:prstGeom prst="rect">
            <a:avLst/>
          </a:prstGeom>
          <a:ln w="0">
            <a:noFill/>
          </a:ln>
        </p:spPr>
      </p:pic>
      <p:pic>
        <p:nvPicPr>
          <p:cNvPr id="137" name="mask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990720" cy="604800"/>
          </a:xfrm>
          <a:prstGeom prst="rect">
            <a:avLst/>
          </a:prstGeom>
          <a:ln w="0">
            <a:noFill/>
          </a:ln>
        </p:spPr>
      </p:pic>
      <p:pic>
        <p:nvPicPr>
          <p:cNvPr id="138" name="fundoAndMask" descr=""/>
          <p:cNvPicPr/>
          <p:nvPr/>
        </p:nvPicPr>
        <p:blipFill>
          <a:blip r:embed="rId3"/>
          <a:stretch/>
        </p:blipFill>
        <p:spPr>
          <a:xfrm>
            <a:off x="3962520" y="4495680"/>
            <a:ext cx="990360" cy="679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19960" y="5256360"/>
            <a:ext cx="142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c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TrapFinal" descr=""/>
          <p:cNvPicPr/>
          <p:nvPr/>
        </p:nvPicPr>
        <p:blipFill>
          <a:blip r:embed="rId4"/>
          <a:stretch/>
        </p:blipFill>
        <p:spPr>
          <a:xfrm>
            <a:off x="5943600" y="4495680"/>
            <a:ext cx="1046160" cy="61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92760" y="523404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A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e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a a aplicação do exemplo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GDI - Dia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3720" y="2057400"/>
            <a:ext cx="5105160" cy="3657600"/>
            <a:chOff x="2133720" y="2057400"/>
            <a:chExt cx="5105160" cy="3657600"/>
          </a:xfrm>
        </p:grpSpPr>
        <p:sp>
          <p:nvSpPr>
            <p:cNvPr id="48" name=""/>
            <p:cNvSpPr/>
            <p:nvPr/>
          </p:nvSpPr>
          <p:spPr>
            <a:xfrm>
              <a:off x="2133720" y="2057400"/>
              <a:ext cx="51051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n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200400"/>
              <a:ext cx="4343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phical Device Interface (GD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267080"/>
              <a:ext cx="2667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 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0480" y="5257800"/>
              <a:ext cx="45720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rdware (video,impressora,et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48" idx="2"/>
              <a:endCxn id="49" idx="0"/>
            </p:cNvCxnSpPr>
            <p:nvPr/>
          </p:nvCxnSpPr>
          <p:spPr>
            <a:xfrm>
              <a:off x="4686120" y="259056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3" name=""/>
            <p:cNvCxnSpPr>
              <a:stCxn id="49" idx="2"/>
              <a:endCxn id="50" idx="0"/>
            </p:cNvCxnSpPr>
            <p:nvPr/>
          </p:nvCxnSpPr>
          <p:spPr>
            <a:xfrm>
              <a:off x="4686120" y="36572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4" name=""/>
            <p:cNvCxnSpPr>
              <a:stCxn id="50" idx="2"/>
              <a:endCxn id="51" idx="0"/>
            </p:cNvCxnSpPr>
            <p:nvPr/>
          </p:nvCxnSpPr>
          <p:spPr>
            <a:xfrm>
              <a:off x="4686120" y="472428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Device Contex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 a abstração do dispositivo a ser desenh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rante as transformações necessárias entre um sistema de coordenada comum e  os vários dos dispositivos (e.g. impressora de 600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pi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uma tela de 72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p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analogia com Java™,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vice contex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Java™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struturas Básicas de Manipulação Grá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ypedef struct tagPo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 POINT,*PPO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typedef struct _REC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righ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ONG bott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 RECT, *PR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82880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onto (x,y) está contido no retângulo se x&gt;=left, x&lt;right, y&gt;=top e y&lt;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952880" y="4343040"/>
            <a:ext cx="3200400" cy="1219680"/>
            <a:chOff x="4952880" y="4343040"/>
            <a:chExt cx="3200400" cy="1219680"/>
          </a:xfrm>
        </p:grpSpPr>
        <p:grpSp>
          <p:nvGrpSpPr>
            <p:cNvPr id="61" name=""/>
            <p:cNvGrpSpPr/>
            <p:nvPr/>
          </p:nvGrpSpPr>
          <p:grpSpPr>
            <a:xfrm>
              <a:off x="4952880" y="4343040"/>
              <a:ext cx="3200400" cy="1219680"/>
              <a:chOff x="4952880" y="4343040"/>
              <a:chExt cx="3200400" cy="1219680"/>
            </a:xfrm>
          </p:grpSpPr>
          <p:sp>
            <p:nvSpPr>
              <p:cNvPr id="62" name=""/>
              <p:cNvSpPr/>
              <p:nvPr/>
            </p:nvSpPr>
            <p:spPr>
              <a:xfrm>
                <a:off x="4952880" y="43434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52880" y="5562720"/>
                <a:ext cx="32004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8153280" y="4343040"/>
                <a:ext cx="0" cy="1219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52880" y="434340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6075000" y="472284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anipulando Retângulos e Po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2057400"/>
          <a:ext cx="7620120" cy="3862440"/>
        </p:xfrm>
        <a:graphic>
          <a:graphicData uri="http://schemas.openxmlformats.org/drawingml/2006/table">
            <a:tbl>
              <a:tblPr/>
              <a:tblGrid>
                <a:gridCol w="1981440"/>
                <a:gridCol w="1295280"/>
                <a:gridCol w="434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 os membros de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RectEmp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 zero em todos os membros de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py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a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a a área comum entre dois R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a o menor RECT que contém os 2 RECTS passados como parâ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fset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 o RECT por 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de dois RECTs são ig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Emp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de todos os membros de RECT são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tIn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 se um POINT está na área de 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 Anatomia de uma Jane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2152800"/>
            <a:ext cx="4886280" cy="4109760"/>
            <a:chOff x="2133720" y="2152800"/>
            <a:chExt cx="4886280" cy="4109760"/>
          </a:xfrm>
        </p:grpSpPr>
        <p:pic>
          <p:nvPicPr>
            <p:cNvPr id="71" name="janela" descr=""/>
            <p:cNvPicPr/>
            <p:nvPr/>
          </p:nvPicPr>
          <p:blipFill>
            <a:blip r:embed="rId1"/>
            <a:stretch/>
          </p:blipFill>
          <p:spPr>
            <a:xfrm>
              <a:off x="2133720" y="3124080"/>
              <a:ext cx="4886280" cy="31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744640" y="4592520"/>
              <a:ext cx="34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lient Area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urier New"/>
                </a:rPr>
                <a:t>WM_PA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152800"/>
              <a:ext cx="3962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on-Client Area –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</a:rPr>
                <a:t>WM_NCPA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558880"/>
              <a:ext cx="0" cy="7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Área da Janela e do Cl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aber a área da janela, usamos a funçã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GetWindowR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etWindowRect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RECT lpRect); //Retângulo da Janela no sistem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de coordenadas do 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desktop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aber a área do cliente, usamos a função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GetClientR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etClientRect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RECT lpRect); //Retângulo da área do cliente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// 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left=0, top=0, right=width 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// bottom=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22:37:19Z</dcterms:created>
  <dc:creator>Eduardo</dc:creator>
  <dc:description/>
  <dc:language>en-US</dc:language>
  <cp:lastModifiedBy>ejtsr</cp:lastModifiedBy>
  <dcterms:modified xsi:type="dcterms:W3CDTF">2002-02-08T12:12:54Z</dcterms:modified>
  <cp:revision>62</cp:revision>
  <dc:subject/>
  <dc:title>Programação Windows™</dc:title>
</cp:coreProperties>
</file>