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03D5-F01C-4394-90CB-D217446BD0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locar figura da memoria de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900-F8F5-4A95-9D29-2670BD08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3EF-3704-4183-9917-EF721E70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7CD-0A14-42F3-A20A-6182F5CF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654D-A2AC-45DB-9A49-AE0D52A2B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2346-0C6B-4E6C-B5FC-489E8701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D748-6A56-4D2C-9110-8D7FF35C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5D8B-9E05-4628-BD22-B2424C6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0959-6C08-446E-94B0-DBA4CE44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8CF-9EA6-4BBE-B9E9-130EB6EE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E4D-EE4C-4CE1-9D2F-F98F5324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5F5F-8B8E-4930-9E95-7B9AE095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CAE-AA88-479A-A217-5194E075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A773-3074-4C14-B8D4-58A7FFEC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71A-81C0-4EBB-87E5-E591A33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8922-65EF-4339-808C-CDF90787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BED5D-6279-4FF5-B71E-49C0CB88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6987-9530-43F1-8B2B-C02F2A98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227-F8CD-4DCA-9C3D-079876F3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FD2-9593-4A0E-8CE0-3251BC7C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218-CAEC-4DC9-9C37-B459A6AD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C97-5A59-42F6-9CC5-C6997C2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3BD4-B6DB-49A1-A621-172CC0A5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257-96BE-4279-9FFB-2ED59DE8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A46D-3054-4876-8F6F-9CD4FE6E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CD63-381C-4109-9863-9DFDA950A5B4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B3B8-4727-490B-AE42-9B437CB1C4E9}" type="slidenum">
              <a:rPr b="0" lang="pt-B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1523520"/>
            <a:ext cx="7926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Arial"/>
              </a:rPr>
              <a:t>Forge 16V</a:t>
            </a:r>
            <a:endParaRPr b="0" lang="en-US" sz="5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uardo Sampaio Ro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a aplicação Win3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a instância do Game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a instância do Game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dicionar o GameState no Game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iciar o motor no modo janela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800x600 (CF16VVideoEngine::CreateWindowe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iciar o motor no modo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fullscreen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800x600x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Limitar o motor a 30 fp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8128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do e inicializado automaticamente pelo GameManag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ssui suporte a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use de até 8 botõ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Joystick de até 128 bot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rabalha nos mod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edi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uffered (Event Listen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3645000"/>
            <a:ext cx="2862360" cy="914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Input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71720" y="2276640"/>
            <a:ext cx="1873080" cy="576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69920" y="530064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16VKey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234936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8iJoystic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314172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8iJoystic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41720"/>
            <a:ext cx="1873440" cy="5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V8iJoystick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8" idx="2"/>
            <a:endCxn id="157" idx="0"/>
          </p:cNvCxnSpPr>
          <p:nvPr/>
        </p:nvCxnSpPr>
        <p:spPr>
          <a:xfrm flipV="1" rot="10800000">
            <a:off x="2907720" y="2852280"/>
            <a:ext cx="1080" cy="793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"/>
          <p:cNvCxnSpPr>
            <a:stCxn id="157" idx="2"/>
            <a:endCxn id="159" idx="0"/>
          </p:cNvCxnSpPr>
          <p:nvPr/>
        </p:nvCxnSpPr>
        <p:spPr>
          <a:xfrm rot="5400000">
            <a:off x="2536200" y="4928760"/>
            <a:ext cx="741960" cy="2520"/>
          </a:xfrm>
          <a:prstGeom prst="bentConnector3">
            <a:avLst>
              <a:gd name="adj1" fmla="val 49854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5" name=""/>
          <p:cNvCxnSpPr>
            <a:stCxn id="160" idx="1"/>
            <a:endCxn id="157" idx="3"/>
          </p:cNvCxnSpPr>
          <p:nvPr/>
        </p:nvCxnSpPr>
        <p:spPr>
          <a:xfrm flipV="1" rot="10800000">
            <a:off x="4338000" y="2638080"/>
            <a:ext cx="1529280" cy="146448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"/>
          <p:cNvCxnSpPr>
            <a:stCxn id="161" idx="1"/>
            <a:endCxn id="157" idx="3"/>
          </p:cNvCxnSpPr>
          <p:nvPr/>
        </p:nvCxnSpPr>
        <p:spPr>
          <a:xfrm flipV="1" rot="10800000">
            <a:off x="4338000" y="3430080"/>
            <a:ext cx="1529280" cy="67248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2" idx="1"/>
            <a:endCxn id="157" idx="3"/>
          </p:cNvCxnSpPr>
          <p:nvPr/>
        </p:nvCxnSpPr>
        <p:spPr>
          <a:xfrm rot="10800000">
            <a:off x="4338000" y="4101480"/>
            <a:ext cx="1529280" cy="112932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6755040" y="3841920"/>
            <a:ext cx="22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16VInputEngine  - Acessando os Dispositivos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CF16VMouse* GetMouse(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CF16VKeyboard* GetKeyboard(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int GetNumberOfJoysticks(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CF16VJoystick* GetJoystick(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int index);</a:t>
            </a:r>
            <a:r>
              <a:rPr b="0" lang="pt-BR" sz="3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 - Mous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ropriedad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ição limit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sição liv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nsibil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tor Aceler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cessando no modo imedi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GetMousePos(LONG *x, LONG *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V8iInputEngine – Mouse (Cont.)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o Buffered – Usando o Event Listen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IF16VMouseEventListener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Moved(long lX, long lY, long lZ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MovedFreePos( long lX, long lY, long lZ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ButtonDown( int iButton 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ButtonUp( int iButton 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virtual void MouseResetState(void) {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quiser receber os eventos, basta registrar um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listener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com o méto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Courier New"/>
              </a:rPr>
              <a:t>RegisterMouseEventListener(IF16VMouseEventListener *el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V8iInputEngine – Mouse (Cont.)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4720" y="3139920"/>
            <a:ext cx="216072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38920" y="198900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V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38920" y="297180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V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38920" y="494028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38920" y="3956040"/>
            <a:ext cx="24494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F16VMouseEven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1280" y="3309840"/>
            <a:ext cx="863640" cy="57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6" idx="1"/>
            <a:endCxn id="181" idx="3"/>
          </p:cNvCxnSpPr>
          <p:nvPr/>
        </p:nvCxnSpPr>
        <p:spPr>
          <a:xfrm flipV="1" rot="10800000">
            <a:off x="1474200" y="3596040"/>
            <a:ext cx="1370520" cy="2520"/>
          </a:xfrm>
          <a:prstGeom prst="bentConnector3">
            <a:avLst>
              <a:gd name="adj1" fmla="val 49921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3" name=""/>
          <p:cNvCxnSpPr>
            <a:stCxn id="178" idx="1"/>
            <a:endCxn id="176" idx="3"/>
          </p:cNvCxnSpPr>
          <p:nvPr/>
        </p:nvCxnSpPr>
        <p:spPr>
          <a:xfrm flipV="1" rot="10800000">
            <a:off x="5004720" y="3260880"/>
            <a:ext cx="934200" cy="336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4" name=""/>
          <p:cNvCxnSpPr>
            <a:stCxn id="180" idx="1"/>
            <a:endCxn id="176" idx="3"/>
          </p:cNvCxnSpPr>
          <p:nvPr/>
        </p:nvCxnSpPr>
        <p:spPr>
          <a:xfrm rot="10800000">
            <a:off x="5004720" y="3597120"/>
            <a:ext cx="934200" cy="648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5" name=""/>
          <p:cNvCxnSpPr>
            <a:stCxn id="179" idx="1"/>
            <a:endCxn id="176" idx="3"/>
          </p:cNvCxnSpPr>
          <p:nvPr/>
        </p:nvCxnSpPr>
        <p:spPr>
          <a:xfrm rot="10800000">
            <a:off x="5004720" y="3596400"/>
            <a:ext cx="934200" cy="1632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6" name=""/>
          <p:cNvCxnSpPr>
            <a:stCxn id="177" idx="1"/>
            <a:endCxn id="176" idx="3"/>
          </p:cNvCxnSpPr>
          <p:nvPr/>
        </p:nvCxnSpPr>
        <p:spPr>
          <a:xfrm flipV="1" rot="10800000">
            <a:off x="5004720" y="2277720"/>
            <a:ext cx="934200" cy="1319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765080" y="3067200"/>
            <a:ext cx="8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Mou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InputEngine - Teclado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uida do estado de 256 tecl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odo Imediat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OOL GetKeyDown(int key, DWORD *time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odo Buffer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F16VKeyboardEventListe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InputEngine - Joystick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uida de Joysticks de até 128 bot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gumas proprieda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ição em 3 eix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ot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locidade/Aceler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rque/Forç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o Imedi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odo Buff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F16VJoystickEv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e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verter o exemplo 2 do modo imediato para o modo buffer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a tecla F5 for pressionada, usar a função 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VideoEngine::ChangeVideoMo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para converter do modo fullscreen para o modo janela e vice-ver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cas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se a função IsFullScreen do VideoEngine para saber qual o modo a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unção ChangeVideoMode se chamado apenas com o primeiro parâmetro, tenta manter as dimensões do modo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omo usar o motor?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5229360"/>
            <a:ext cx="7772400" cy="13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bordagem modular – a cada nova versão será disponibilizado um .lib e os .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03280" y="1773360"/>
            <a:ext cx="187344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Forge16V.l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1773360"/>
            <a:ext cx="187308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cludes (.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2997360"/>
            <a:ext cx="2862360" cy="914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jeto de J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isual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2843280"/>
            <a:ext cx="2305080" cy="1224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9" idx="0"/>
            <a:endCxn id="97" idx="2"/>
          </p:cNvCxnSpPr>
          <p:nvPr/>
        </p:nvCxnSpPr>
        <p:spPr>
          <a:xfrm flipV="1" rot="16200000">
            <a:off x="2767320" y="1921320"/>
            <a:ext cx="648360" cy="15040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2" name=""/>
          <p:cNvCxnSpPr>
            <a:stCxn id="99" idx="0"/>
            <a:endCxn id="98" idx="2"/>
          </p:cNvCxnSpPr>
          <p:nvPr/>
        </p:nvCxnSpPr>
        <p:spPr>
          <a:xfrm flipH="1" flipV="1" rot="5400000">
            <a:off x="4316040" y="1876320"/>
            <a:ext cx="648360" cy="1594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03" name=""/>
          <p:cNvCxnSpPr>
            <a:stCxn id="99" idx="3"/>
            <a:endCxn id="100" idx="1"/>
          </p:cNvCxnSpPr>
          <p:nvPr/>
        </p:nvCxnSpPr>
        <p:spPr>
          <a:xfrm>
            <a:off x="5273640" y="3454560"/>
            <a:ext cx="1170720" cy="2160"/>
          </a:xfrm>
          <a:prstGeom prst="bentConnector3">
            <a:avLst>
              <a:gd name="adj1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916360" y="4437000"/>
            <a:ext cx="1873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irectX 8 Li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0"/>
            <a:endCxn id="99" idx="2"/>
          </p:cNvCxnSpPr>
          <p:nvPr/>
        </p:nvCxnSpPr>
        <p:spPr>
          <a:xfrm flipH="1" flipV="1">
            <a:off x="3843000" y="3911040"/>
            <a:ext cx="1008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Fazer o exemplo 3 mostrar o mouse (dica: use a função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tCursorVisibl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o VideoEng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xecutar 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scroll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a figura  com o mouse (quando o mouse estiver a 10 pixels da bor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tar o evento do botão esquerdo do mouse (F16VM_BUTTON0) ser pressionado, ajustando a posição do mouse para o centro da te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justar a sensibilidade do mouse para 1.0, depois para 1.3 e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ocar o botão do mouse esquerdo para o direito (CMouse::SetMouseSwapButtons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incipal componente do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ida basicamente com Surfaces (imagem em área de memór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encia automaticamente a memória de víde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uporta os seguintes esquemas de co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5 bb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6 b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24 b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32 bp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Su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bstração de Surface do DDr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otor se encarrega de manter sempre uma surface vál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surface sempre fica na área de memória do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otor cria uma cópia na área da memória de vídeo (cach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Gerenciador Gráfico – Gerenciamento de Memória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nde uma figura deve ser armazenad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emória de vídeo x Memória do Sist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DirectDraw, o programador resolve i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835280" y="3357720"/>
            <a:ext cx="5500800" cy="3262320"/>
            <a:chOff x="1835280" y="3357720"/>
            <a:chExt cx="5500800" cy="3262320"/>
          </a:xfrm>
        </p:grpSpPr>
        <p:sp>
          <p:nvSpPr>
            <p:cNvPr id="203" name=""/>
            <p:cNvSpPr/>
            <p:nvPr/>
          </p:nvSpPr>
          <p:spPr>
            <a:xfrm>
              <a:off x="4386240" y="4232160"/>
              <a:ext cx="132552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89640" y="4448160"/>
              <a:ext cx="66348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5280" y="3905280"/>
              <a:ext cx="204156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41640" y="6240600"/>
              <a:ext cx="3722760" cy="379440"/>
            </a:xfrm>
            <a:prstGeom prst="leftRightArrow">
              <a:avLst>
                <a:gd name="adj1" fmla="val 50000"/>
                <a:gd name="adj2" fmla="val 1953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Barra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9960" y="3357720"/>
              <a:ext cx="1383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Memória 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Comput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14520" y="3645000"/>
              <a:ext cx="16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Memória 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Placa de Ví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160800" y="4448160"/>
              <a:ext cx="204840" cy="325440"/>
              <a:chOff x="3160800" y="4448160"/>
              <a:chExt cx="204840" cy="325440"/>
            </a:xfrm>
          </p:grpSpPr>
          <p:sp>
            <p:nvSpPr>
              <p:cNvPr id="210" name=""/>
              <p:cNvSpPr/>
              <p:nvPr/>
            </p:nvSpPr>
            <p:spPr>
              <a:xfrm>
                <a:off x="3160800" y="4448160"/>
                <a:ext cx="204840" cy="325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177720" y="4498200"/>
                <a:ext cx="170280" cy="199800"/>
                <a:chOff x="3177720" y="4498200"/>
                <a:chExt cx="170280" cy="19980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24576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45760" y="4498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27996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1156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1380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177720" y="4548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228840" y="4597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262680" y="4597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279960" y="4648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211560" y="4648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" name=""/>
            <p:cNvSpPr/>
            <p:nvPr/>
          </p:nvSpPr>
          <p:spPr>
            <a:xfrm>
              <a:off x="4716360" y="52084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50960" y="4883040"/>
              <a:ext cx="118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Área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xib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63760" y="4775040"/>
              <a:ext cx="0" cy="1521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263760" y="6294600"/>
              <a:ext cx="147960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743360" y="4882680"/>
              <a:ext cx="0" cy="1411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04" idx="3"/>
              <a:endCxn id="223" idx="0"/>
            </p:cNvCxnSpPr>
            <p:nvPr/>
          </p:nvCxnSpPr>
          <p:spPr>
            <a:xfrm>
              <a:off x="5252760" y="4747680"/>
              <a:ext cx="1491480" cy="1357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4746240" y="5805360"/>
              <a:ext cx="23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ransferência de </a:t>
              </a:r>
              <a:r>
                <a:rPr b="0" i="1" lang="pt-BR" sz="18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4691160" y="4556160"/>
              <a:ext cx="204840" cy="325440"/>
              <a:chOff x="4691160" y="4556160"/>
              <a:chExt cx="204840" cy="325440"/>
            </a:xfrm>
          </p:grpSpPr>
          <p:sp>
            <p:nvSpPr>
              <p:cNvPr id="230" name=""/>
              <p:cNvSpPr/>
              <p:nvPr/>
            </p:nvSpPr>
            <p:spPr>
              <a:xfrm>
                <a:off x="4691160" y="4556160"/>
                <a:ext cx="204840" cy="325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4708080" y="4606200"/>
                <a:ext cx="170280" cy="199800"/>
                <a:chOff x="4708080" y="4606200"/>
                <a:chExt cx="170280" cy="199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612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776120" y="4606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81032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4192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84416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708080" y="465624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59200" y="4705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93040" y="47059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810320" y="4756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41920" y="47563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5405400" y="4937040"/>
              <a:ext cx="204840" cy="325440"/>
              <a:chOff x="5405400" y="4937040"/>
              <a:chExt cx="204840" cy="325440"/>
            </a:xfrm>
          </p:grpSpPr>
          <p:sp>
            <p:nvSpPr>
              <p:cNvPr id="243" name=""/>
              <p:cNvSpPr/>
              <p:nvPr/>
            </p:nvSpPr>
            <p:spPr>
              <a:xfrm>
                <a:off x="5405400" y="4937040"/>
                <a:ext cx="204840" cy="3254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5422320" y="4987080"/>
                <a:ext cx="170280" cy="199800"/>
                <a:chOff x="5422320" y="4987080"/>
                <a:chExt cx="170280" cy="1998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49036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490360" y="498708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2456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45616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55840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422320" y="503712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73440" y="50868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507280" y="50868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24560" y="5137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456160" y="5137200"/>
                  <a:ext cx="34200" cy="49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 flipV="1">
              <a:off x="4896000" y="5153040"/>
              <a:ext cx="511200" cy="14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896000" y="4883040"/>
              <a:ext cx="0" cy="270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Gerenciador Gráfico – Gerenciamento de Memória 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Forge 16V utiliza um sistema de Cache de Surfa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enciamento é transparente ao programa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1640" y="3429000"/>
            <a:ext cx="7676640" cy="2879640"/>
            <a:chOff x="971640" y="3429000"/>
            <a:chExt cx="7676640" cy="2879640"/>
          </a:xfrm>
        </p:grpSpPr>
        <p:grpSp>
          <p:nvGrpSpPr>
            <p:cNvPr id="260" name=""/>
            <p:cNvGrpSpPr/>
            <p:nvPr/>
          </p:nvGrpSpPr>
          <p:grpSpPr>
            <a:xfrm>
              <a:off x="971640" y="4725720"/>
              <a:ext cx="718560" cy="649080"/>
              <a:chOff x="971640" y="4725720"/>
              <a:chExt cx="718560" cy="649080"/>
            </a:xfrm>
          </p:grpSpPr>
          <p:sp>
            <p:nvSpPr>
              <p:cNvPr id="261" name=""/>
              <p:cNvSpPr/>
              <p:nvPr/>
            </p:nvSpPr>
            <p:spPr>
              <a:xfrm>
                <a:off x="1114200" y="515736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114200" y="501300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114200" y="486864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114200" y="4725720"/>
                <a:ext cx="576000" cy="21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971640" y="479700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71640" y="4797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71640" y="4941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71640" y="508608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71640" y="522900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971640" y="537336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3490920" y="4005000"/>
              <a:ext cx="1873080" cy="136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0560" y="5013000"/>
              <a:ext cx="24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4138560" y="4857480"/>
              <a:ext cx="216000" cy="287280"/>
              <a:chOff x="4138560" y="4857480"/>
              <a:chExt cx="216000" cy="287280"/>
            </a:xfrm>
          </p:grpSpPr>
          <p:sp>
            <p:nvSpPr>
              <p:cNvPr id="274" name=""/>
              <p:cNvSpPr/>
              <p:nvPr/>
            </p:nvSpPr>
            <p:spPr>
              <a:xfrm>
                <a:off x="4138560" y="4857480"/>
                <a:ext cx="216000" cy="287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4156200" y="4901760"/>
                <a:ext cx="179640" cy="176400"/>
                <a:chOff x="4156200" y="4901760"/>
                <a:chExt cx="179640" cy="1764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22784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227840" y="490176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26420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19184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29984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156200" y="49460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210200" y="498996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245840" y="498996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264200" y="50342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191840" y="5034240"/>
                  <a:ext cx="36000" cy="43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6" name=""/>
            <p:cNvSpPr/>
            <p:nvPr/>
          </p:nvSpPr>
          <p:spPr>
            <a:xfrm>
              <a:off x="4431960" y="5516280"/>
              <a:ext cx="16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urface.Draw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95640" y="5805360"/>
              <a:ext cx="2736720" cy="503280"/>
            </a:xfrm>
            <a:prstGeom prst="leftRightArrow">
              <a:avLst>
                <a:gd name="adj1" fmla="val 50000"/>
                <a:gd name="adj2" fmla="val 1082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Barr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80000" y="4365360"/>
              <a:ext cx="129528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68920" y="43844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06920" y="3429000"/>
              <a:ext cx="158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o Comput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35640" y="3717720"/>
              <a:ext cx="1584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Memória da Placa de Ví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96000" y="4581360"/>
              <a:ext cx="5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82920" y="51577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2920" y="580536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6514920" y="5013000"/>
              <a:ext cx="216000" cy="287640"/>
              <a:chOff x="6514920" y="5013000"/>
              <a:chExt cx="216000" cy="287640"/>
            </a:xfrm>
          </p:grpSpPr>
          <p:sp>
            <p:nvSpPr>
              <p:cNvPr id="296" name=""/>
              <p:cNvSpPr/>
              <p:nvPr/>
            </p:nvSpPr>
            <p:spPr>
              <a:xfrm>
                <a:off x="6514920" y="5013000"/>
                <a:ext cx="216000" cy="287640"/>
              </a:xfrm>
              <a:prstGeom prst="rect">
                <a:avLst/>
              </a:prstGeom>
              <a:solidFill>
                <a:srgbClr val="eaeaea">
                  <a:alpha val="5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6532560" y="5057280"/>
                <a:ext cx="179640" cy="176760"/>
                <a:chOff x="6532560" y="5057280"/>
                <a:chExt cx="179640" cy="1767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0420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505728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64056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6820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67620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532560" y="51015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586560" y="514548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622200" y="514548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4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640560" y="5190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568200" y="5190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 flipV="1">
              <a:off x="6588000" y="530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5889600" y="4652640"/>
              <a:ext cx="216000" cy="287640"/>
              <a:chOff x="5889600" y="4652640"/>
              <a:chExt cx="216000" cy="287640"/>
            </a:xfrm>
          </p:grpSpPr>
          <p:sp>
            <p:nvSpPr>
              <p:cNvPr id="310" name=""/>
              <p:cNvSpPr/>
              <p:nvPr/>
            </p:nvSpPr>
            <p:spPr>
              <a:xfrm>
                <a:off x="5889600" y="4652640"/>
                <a:ext cx="216000" cy="287640"/>
              </a:xfrm>
              <a:prstGeom prst="rect">
                <a:avLst/>
              </a:prstGeom>
              <a:solidFill>
                <a:srgbClr val="eaeaea">
                  <a:alpha val="5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5907240" y="4696920"/>
                <a:ext cx="179640" cy="176760"/>
                <a:chOff x="5907240" y="4696920"/>
                <a:chExt cx="179640" cy="1767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97888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978880" y="46969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01524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4288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5088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907240" y="474120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961240" y="4785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996880" y="478512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4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15240" y="48297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942880" y="4829760"/>
                  <a:ext cx="36000" cy="43920"/>
                </a:xfrm>
                <a:prstGeom prst="rect">
                  <a:avLst/>
                </a:prstGeom>
                <a:solidFill>
                  <a:srgbClr val="000000">
                    <a:alpha val="5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6154560" y="4678200"/>
              <a:ext cx="433440" cy="334800"/>
            </a:xfrm>
            <a:custGeom>
              <a:avLst/>
              <a:gdLst/>
              <a:ahLst/>
              <a:rect l="l" t="t" r="r" b="b"/>
              <a:pathLst>
                <a:path w="273" h="211">
                  <a:moveTo>
                    <a:pt x="273" y="211"/>
                  </a:moveTo>
                  <a:cubicBezTo>
                    <a:pt x="227" y="135"/>
                    <a:pt x="182" y="60"/>
                    <a:pt x="137" y="30"/>
                  </a:cubicBezTo>
                  <a:cubicBezTo>
                    <a:pt x="92" y="0"/>
                    <a:pt x="30" y="23"/>
                    <a:pt x="0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4560" y="4437000"/>
              <a:ext cx="141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</a:rPr>
                <a:t>Área de Exibi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27640" y="4197240"/>
              <a:ext cx="1511280" cy="384120"/>
            </a:xfrm>
            <a:custGeom>
              <a:avLst/>
              <a:gdLst/>
              <a:ahLst/>
              <a:rect l="l" t="t" r="r" b="b"/>
              <a:pathLst>
                <a:path w="952" h="242">
                  <a:moveTo>
                    <a:pt x="0" y="242"/>
                  </a:moveTo>
                  <a:cubicBezTo>
                    <a:pt x="238" y="136"/>
                    <a:pt x="476" y="30"/>
                    <a:pt x="635" y="15"/>
                  </a:cubicBezTo>
                  <a:cubicBezTo>
                    <a:pt x="794" y="0"/>
                    <a:pt x="869" y="121"/>
                    <a:pt x="952" y="1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67600" y="4652640"/>
              <a:ext cx="174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Surface.Creat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Gerenciador Gráfico - Surfaces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395280" y="2060640"/>
          <a:ext cx="8280360" cy="4118040"/>
        </p:xfrm>
        <a:graphic>
          <a:graphicData uri="http://schemas.openxmlformats.org/drawingml/2006/table">
            <a:tbl>
              <a:tblPr/>
              <a:tblGrid>
                <a:gridCol w="2449440"/>
                <a:gridCol w="3238560"/>
                <a:gridCol w="259236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acteríst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rface DirectDr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ge 16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f39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quivos Gráfic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MP, JPEG, PCX, TGA e P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lha da melhor área de memó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al – o programador deve escolh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mática – o motor verifica a melhor ár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tamento de imagens corrompid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 ser realizado pelo program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Forge 16V recarrega a imagem automaticam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s seguintes operações podem ser feitas em uma surfa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lit (com ou sem Color Ke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orizontal ou Vertical F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pha blending* (em todos os sistemas de co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nsformações de Esca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Surface pode ser carregada de arquiv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JPE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C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Surface pode ser gravada 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332000" y="2852640"/>
            <a:ext cx="619272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Video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0" y="4940280"/>
            <a:ext cx="259236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Video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348000" y="4076640"/>
            <a:ext cx="165564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u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35280" y="313992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Til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580000" y="313992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p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139920"/>
            <a:ext cx="165564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4" idx="0"/>
            <a:endCxn id="335" idx="2"/>
          </p:cNvCxnSpPr>
          <p:nvPr/>
        </p:nvCxnSpPr>
        <p:spPr>
          <a:xfrm flipH="1" flipV="1" rot="5400000">
            <a:off x="3958920" y="4722120"/>
            <a:ext cx="432360" cy="3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0" name=""/>
          <p:cNvCxnSpPr>
            <a:stCxn id="335" idx="0"/>
            <a:endCxn id="336" idx="2"/>
          </p:cNvCxnSpPr>
          <p:nvPr/>
        </p:nvCxnSpPr>
        <p:spPr>
          <a:xfrm flipH="1" flipV="1" rot="5400000">
            <a:off x="4067640" y="3680280"/>
            <a:ext cx="505440" cy="288000"/>
          </a:xfrm>
          <a:prstGeom prst="bentConnector3">
            <a:avLst>
              <a:gd name="adj1" fmla="val 49964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1" name=""/>
          <p:cNvCxnSpPr>
            <a:stCxn id="335" idx="0"/>
            <a:endCxn id="338" idx="2"/>
          </p:cNvCxnSpPr>
          <p:nvPr/>
        </p:nvCxnSpPr>
        <p:spPr>
          <a:xfrm flipV="1" rot="16200000">
            <a:off x="3059640" y="2959200"/>
            <a:ext cx="505440" cy="1729440"/>
          </a:xfrm>
          <a:prstGeom prst="bentConnector3">
            <a:avLst>
              <a:gd name="adj1" fmla="val 4996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42" name=""/>
          <p:cNvCxnSpPr>
            <a:stCxn id="335" idx="0"/>
            <a:endCxn id="337" idx="2"/>
          </p:cNvCxnSpPr>
          <p:nvPr/>
        </p:nvCxnSpPr>
        <p:spPr>
          <a:xfrm flipH="1" flipV="1" rot="5400000">
            <a:off x="5040000" y="2707920"/>
            <a:ext cx="505440" cy="2232720"/>
          </a:xfrm>
          <a:prstGeom prst="bentConnector3">
            <a:avLst>
              <a:gd name="adj1" fmla="val 49964"/>
            </a:avLst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1908000" y="1628640"/>
            <a:ext cx="165600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so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89440" y="1628640"/>
            <a:ext cx="1655640" cy="43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32" idx="0"/>
            <a:endCxn id="343" idx="2"/>
          </p:cNvCxnSpPr>
          <p:nvPr/>
        </p:nvCxnSpPr>
        <p:spPr>
          <a:xfrm flipV="1" rot="16200000">
            <a:off x="3191040" y="1605240"/>
            <a:ext cx="783360" cy="1693080"/>
          </a:xfrm>
          <a:prstGeom prst="bentConnector3">
            <a:avLst>
              <a:gd name="adj1" fmla="val 49287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46" name=""/>
          <p:cNvCxnSpPr>
            <a:stCxn id="332" idx="0"/>
            <a:endCxn id="344" idx="2"/>
          </p:cNvCxnSpPr>
          <p:nvPr/>
        </p:nvCxnSpPr>
        <p:spPr>
          <a:xfrm flipH="1" flipV="1" rot="5400000">
            <a:off x="4631760" y="1856880"/>
            <a:ext cx="783360" cy="1189800"/>
          </a:xfrm>
          <a:prstGeom prst="bentConnector3">
            <a:avLst>
              <a:gd name="adj1" fmla="val 49287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omo exibir uma imagem na tela?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Forge 16V usa um buffer (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backbuffer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) pra montar toda imagem antes de mostrá-la no moni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sse buffer é uma CF16VSur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acessar esse buffer, use a função CF16VVideoEngine::GetBackBuffer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Depois basta chamar a função Draw da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que se deseja exibir na tela passando como parâmetro o backbu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Principais Componentes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3760" y="2759040"/>
            <a:ext cx="1249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2720" y="2759040"/>
            <a:ext cx="1249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30960" y="2759040"/>
            <a:ext cx="124920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ráf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3760" y="1557360"/>
            <a:ext cx="12492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S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65600" y="3962520"/>
            <a:ext cx="1249200" cy="691920"/>
          </a:xfrm>
          <a:prstGeom prst="rect">
            <a:avLst/>
          </a:prstGeom>
          <a:solidFill>
            <a:srgbClr val="ffffff"/>
          </a:solidFill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o Mu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1920" y="3962520"/>
            <a:ext cx="124920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ultiusu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65600" y="5100480"/>
            <a:ext cx="12492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38400" y="3898800"/>
            <a:ext cx="1249200" cy="8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Fí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7" idx="1"/>
            <a:endCxn id="108" idx="3"/>
          </p:cNvCxnSpPr>
          <p:nvPr/>
        </p:nvCxnSpPr>
        <p:spPr>
          <a:xfrm rot="10800000">
            <a:off x="3301200" y="3106080"/>
            <a:ext cx="5025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"/>
          <p:cNvCxnSpPr>
            <a:stCxn id="107" idx="0"/>
            <a:endCxn id="110" idx="2"/>
          </p:cNvCxnSpPr>
          <p:nvPr/>
        </p:nvCxnSpPr>
        <p:spPr>
          <a:xfrm flipV="1">
            <a:off x="4428720" y="2248920"/>
            <a:ext cx="108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07" idx="3"/>
            <a:endCxn id="109" idx="1"/>
          </p:cNvCxnSpPr>
          <p:nvPr/>
        </p:nvCxnSpPr>
        <p:spPr>
          <a:xfrm>
            <a:off x="5052960" y="3106440"/>
            <a:ext cx="37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07" idx="2"/>
            <a:endCxn id="111" idx="0"/>
          </p:cNvCxnSpPr>
          <p:nvPr/>
        </p:nvCxnSpPr>
        <p:spPr>
          <a:xfrm rot="5400000">
            <a:off x="3708360" y="3234600"/>
            <a:ext cx="502560" cy="938880"/>
          </a:xfrm>
          <a:prstGeom prst="bentConnector3">
            <a:avLst>
              <a:gd name="adj1" fmla="val 5060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>
            <a:stCxn id="107" idx="2"/>
            <a:endCxn id="112" idx="0"/>
          </p:cNvCxnSpPr>
          <p:nvPr/>
        </p:nvCxnSpPr>
        <p:spPr>
          <a:xfrm flipH="1" rot="16200000">
            <a:off x="4643280" y="3238200"/>
            <a:ext cx="510480" cy="938880"/>
          </a:xfrm>
          <a:prstGeom prst="bentConnector3">
            <a:avLst>
              <a:gd name="adj1" fmla="val 49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1" idx="2"/>
            <a:endCxn id="113" idx="0"/>
          </p:cNvCxnSpPr>
          <p:nvPr/>
        </p:nvCxnSpPr>
        <p:spPr>
          <a:xfrm flipV="1" rot="10800000">
            <a:off x="3490200" y="4662000"/>
            <a:ext cx="1080" cy="43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1" idx="1"/>
            <a:endCxn id="114" idx="3"/>
          </p:cNvCxnSpPr>
          <p:nvPr/>
        </p:nvCxnSpPr>
        <p:spPr>
          <a:xfrm flipV="1" rot="10800000">
            <a:off x="2486880" y="4308120"/>
            <a:ext cx="370800" cy="7200"/>
          </a:xfrm>
          <a:prstGeom prst="bentConnector3">
            <a:avLst>
              <a:gd name="adj1" fmla="val 488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1238400" y="5100480"/>
            <a:ext cx="12492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di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Cená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11" idx="2"/>
          </p:cNvCxnSpPr>
          <p:nvPr/>
        </p:nvCxnSpPr>
        <p:spPr>
          <a:xfrm flipV="1">
            <a:off x="2487240" y="4661640"/>
            <a:ext cx="1003680" cy="78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2054160" y="1557360"/>
            <a:ext cx="12495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Gerenci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de Lo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4" idx="2"/>
            <a:endCxn id="107" idx="0"/>
          </p:cNvCxnSpPr>
          <p:nvPr/>
        </p:nvCxnSpPr>
        <p:spPr>
          <a:xfrm>
            <a:off x="2679480" y="2249280"/>
            <a:ext cx="1749960" cy="51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icar a figura de background do exemplo 4 para 800x600. (dica: use a função DrawStretch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verter o background usando as funções DrawHFlip e DrawVFli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senhar o homem das cavernas no centro da tela usando uma Su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senhar o homem das cavernas no centro da tela usando um TileSet. Animar o homem das cavernas. (dica: para carregar as informações do tileset, use o método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etTileInfoFromSurfa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sar o TileSet para criar um Sprite e animá-lo a taxa de 30 f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Log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software desta complexidade deve possuir um sistema de 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e componente é criado automaticamente pelo Game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mensagens podem ser enviadas par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qu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ole Gráf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ri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ole DOS(stderr/stdou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V8iLog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xistem 10 níveis de mensage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da dispositivo pode especificar um nível mínimo de “interesse”. Assim, somente as mensagens com nível superior ao nível mínimo, serão repassadas pelo gerenciador de l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V8iLog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95640" y="2349360"/>
            <a:ext cx="2376360" cy="719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Log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155736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File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224784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COM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294012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LPT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56000" y="3716280"/>
            <a:ext cx="165564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Cons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67280" y="363060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TDOUT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322880"/>
            <a:ext cx="1656000" cy="43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STDERR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5014800"/>
            <a:ext cx="1656000" cy="4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Net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endCxn id="356" idx="1"/>
          </p:cNvCxnSpPr>
          <p:nvPr/>
        </p:nvCxnSpPr>
        <p:spPr>
          <a:xfrm>
            <a:off x="755640" y="2709360"/>
            <a:ext cx="14403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>
            <a:stCxn id="360" idx="0"/>
            <a:endCxn id="356" idx="2"/>
          </p:cNvCxnSpPr>
          <p:nvPr/>
        </p:nvCxnSpPr>
        <p:spPr>
          <a:xfrm flipV="1">
            <a:off x="3384360" y="3067920"/>
            <a:ext cx="1080" cy="648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arrow" w="sm"/>
          </a:ln>
        </p:spPr>
      </p:cxnSp>
      <p:cxnSp>
        <p:nvCxnSpPr>
          <p:cNvPr id="366" name=""/>
          <p:cNvCxnSpPr>
            <a:stCxn id="356" idx="3"/>
            <a:endCxn id="357" idx="1"/>
          </p:cNvCxnSpPr>
          <p:nvPr/>
        </p:nvCxnSpPr>
        <p:spPr>
          <a:xfrm flipV="1">
            <a:off x="4572000" y="1772640"/>
            <a:ext cx="1296000" cy="93708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56" idx="3"/>
            <a:endCxn id="358" idx="1"/>
          </p:cNvCxnSpPr>
          <p:nvPr/>
        </p:nvCxnSpPr>
        <p:spPr>
          <a:xfrm flipV="1">
            <a:off x="4572000" y="2463120"/>
            <a:ext cx="1296000" cy="24660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56" idx="3"/>
            <a:endCxn id="359" idx="1"/>
          </p:cNvCxnSpPr>
          <p:nvPr/>
        </p:nvCxnSpPr>
        <p:spPr>
          <a:xfrm>
            <a:off x="4572000" y="2709720"/>
            <a:ext cx="1296000" cy="44712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56" idx="3"/>
            <a:endCxn id="361" idx="1"/>
          </p:cNvCxnSpPr>
          <p:nvPr/>
        </p:nvCxnSpPr>
        <p:spPr>
          <a:xfrm>
            <a:off x="4572000" y="2709720"/>
            <a:ext cx="1296000" cy="113760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0" name=""/>
          <p:cNvCxnSpPr>
            <a:stCxn id="356" idx="3"/>
            <a:endCxn id="362" idx="1"/>
          </p:cNvCxnSpPr>
          <p:nvPr/>
        </p:nvCxnSpPr>
        <p:spPr>
          <a:xfrm>
            <a:off x="4572000" y="2709720"/>
            <a:ext cx="1296000" cy="182952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56" idx="3"/>
            <a:endCxn id="363" idx="1"/>
          </p:cNvCxnSpPr>
          <p:nvPr/>
        </p:nvCxnSpPr>
        <p:spPr>
          <a:xfrm>
            <a:off x="4572000" y="2709360"/>
            <a:ext cx="1296000" cy="2521800"/>
          </a:xfrm>
          <a:prstGeom prst="bentConnector3">
            <a:avLst>
              <a:gd name="adj1" fmla="val 4998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821520" y="234936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Mensag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Sound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Não é criado automatic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ara criá-lo basta chamar o méto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GameEngine::InitSoundEngine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uporte a sons Wave e mid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uporte a múltiplos ambi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mbient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ter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verb (não implementado ain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SoundEngin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52640"/>
            <a:ext cx="2808360" cy="9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F16VSound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84720" y="184464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F16V3DSound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84720" y="272556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tereo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84720" y="449100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tereo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284720" y="537372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F16V3DSound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45440" y="1844640"/>
            <a:ext cx="1224000" cy="4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345440" y="263700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45440" y="342900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345440" y="515628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7" idx="1"/>
            <a:endCxn id="376" idx="3"/>
          </p:cNvCxnSpPr>
          <p:nvPr/>
        </p:nvCxnSpPr>
        <p:spPr>
          <a:xfrm flipV="1" rot="10800000">
            <a:off x="3418920" y="2096640"/>
            <a:ext cx="865800" cy="122472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6" name=""/>
          <p:cNvCxnSpPr>
            <a:stCxn id="378" idx="1"/>
            <a:endCxn id="376" idx="3"/>
          </p:cNvCxnSpPr>
          <p:nvPr/>
        </p:nvCxnSpPr>
        <p:spPr>
          <a:xfrm flipV="1" rot="10800000">
            <a:off x="3418920" y="2977920"/>
            <a:ext cx="865800" cy="34344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7" name=""/>
          <p:cNvCxnSpPr>
            <a:endCxn id="376" idx="3"/>
          </p:cNvCxnSpPr>
          <p:nvPr/>
        </p:nvCxnSpPr>
        <p:spPr>
          <a:xfrm rot="10800000">
            <a:off x="3418920" y="3320280"/>
            <a:ext cx="865800" cy="54036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"/>
          <p:cNvCxnSpPr>
            <a:stCxn id="379" idx="1"/>
            <a:endCxn id="376" idx="3"/>
          </p:cNvCxnSpPr>
          <p:nvPr/>
        </p:nvCxnSpPr>
        <p:spPr>
          <a:xfrm rot="10800000">
            <a:off x="3418920" y="3320280"/>
            <a:ext cx="865800" cy="142308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9" name=""/>
          <p:cNvCxnSpPr>
            <a:stCxn id="380" idx="1"/>
            <a:endCxn id="376" idx="3"/>
          </p:cNvCxnSpPr>
          <p:nvPr/>
        </p:nvCxnSpPr>
        <p:spPr>
          <a:xfrm rot="10800000">
            <a:off x="3418920" y="3320280"/>
            <a:ext cx="865800" cy="2305440"/>
          </a:xfrm>
          <a:prstGeom prst="bentConnector3">
            <a:avLst>
              <a:gd name="adj1" fmla="val 49875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0" name=""/>
          <p:cNvCxnSpPr>
            <a:stCxn id="381" idx="1"/>
            <a:endCxn id="377" idx="3"/>
          </p:cNvCxnSpPr>
          <p:nvPr/>
        </p:nvCxnSpPr>
        <p:spPr>
          <a:xfrm flipV="1" rot="10800000">
            <a:off x="6660360" y="2059560"/>
            <a:ext cx="685080" cy="3708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81" idx="1"/>
            <a:endCxn id="378" idx="3"/>
          </p:cNvCxnSpPr>
          <p:nvPr/>
        </p:nvCxnSpPr>
        <p:spPr>
          <a:xfrm flipV="1" rot="10800000">
            <a:off x="6660360" y="2059560"/>
            <a:ext cx="685080" cy="91836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83" idx="1"/>
            <a:endCxn id="378" idx="3"/>
          </p:cNvCxnSpPr>
          <p:nvPr/>
        </p:nvCxnSpPr>
        <p:spPr>
          <a:xfrm rot="10800000">
            <a:off x="6660360" y="2977560"/>
            <a:ext cx="685080" cy="66744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3" name=""/>
          <p:cNvCxnSpPr/>
          <p:nvPr/>
        </p:nvCxnSpPr>
        <p:spPr>
          <a:xfrm rot="10800000">
            <a:off x="6737400" y="3860640"/>
            <a:ext cx="682920" cy="6483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4" name=""/>
          <p:cNvCxnSpPr>
            <a:stCxn id="384" idx="1"/>
            <a:endCxn id="379" idx="3"/>
          </p:cNvCxnSpPr>
          <p:nvPr/>
        </p:nvCxnSpPr>
        <p:spPr>
          <a:xfrm rot="10800000">
            <a:off x="6660360" y="4742640"/>
            <a:ext cx="685080" cy="62964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5" name=""/>
          <p:cNvCxnSpPr>
            <a:stCxn id="384" idx="1"/>
            <a:endCxn id="380" idx="3"/>
          </p:cNvCxnSpPr>
          <p:nvPr/>
        </p:nvCxnSpPr>
        <p:spPr>
          <a:xfrm flipV="1" rot="10800000">
            <a:off x="6660360" y="5371200"/>
            <a:ext cx="685080" cy="25452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6" name=""/>
          <p:cNvCxnSpPr>
            <a:stCxn id="382" idx="1"/>
            <a:endCxn id="378" idx="3"/>
          </p:cNvCxnSpPr>
          <p:nvPr/>
        </p:nvCxnSpPr>
        <p:spPr>
          <a:xfrm flipV="1" rot="10800000">
            <a:off x="6660360" y="2851560"/>
            <a:ext cx="685080" cy="126360"/>
          </a:xfrm>
          <a:prstGeom prst="bentConnector3">
            <a:avLst>
              <a:gd name="adj1" fmla="val 49842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7" name=""/>
          <p:cNvSpPr/>
          <p:nvPr/>
        </p:nvSpPr>
        <p:spPr>
          <a:xfrm>
            <a:off x="4284720" y="3645000"/>
            <a:ext cx="2376360" cy="503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CF16V3DSound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380360" y="4292640"/>
            <a:ext cx="1224000" cy="431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F16V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Sound Egine – Como usar?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o SoundEng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 ambiente através dos métodos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eateStereoEnvironment() ou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este3DSoundEnvironment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stanciar um objeto do tipo CF16VSo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rregar o som através do método CF16VSound::CreateSegmentFromFile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ocar o som através do método 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Sound::Pl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Isométrico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uporte a mapas do tipo Slide, Sttaggered, Diam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lasse principal é a CF16VMap que representa um mapa de ti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F16VTilePlot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F16VTileWal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F16VMouseM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Isométrico – Como usar?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Herdar a classe CF16VMapCell que representam um t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r GetExtentRect e PaintC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 array de objetos da classe que herda CF16VMap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um mapa (CF16VMa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gistrar o array de células com o map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odar o exemplo 6 e verificar os tipos de mapas através das teclas F1, F2, F3 e F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Alterar o exemplo 6 e colocar as árvores em aproximadamente 35% dos tiles (distribuídas aleatoria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locar as sombras das árvo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riar mais uma camada para retirar o defeito causado pela sobr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16VGameManager (Gerenciador Principal)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 principal do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rve de ponte para acessar os outros compon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ecisa ser criada antes de utilizar qualquer classe do mo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ó existe uma única instância desta classe no programa (Singlet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mite estabelecer uma taxa máxima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frame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r segu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Verifica se a máquina dispõe dos requisitos mínimos para rodar o motor (DirectX 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Tarefa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azer a vaca andar atrás do mouse usando os tiles como referência no exemplo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riando o CF16VGameManager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static CF16VGameManager*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nstanciate(void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ria uma instância desta classe. Se alguma instância foi criada anteriormente, ela é retorn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ria automaticamente os componentes de Vídeo,Input e Log que são essenciais a qualquer jogo. Se houver qualquer erro, a aplicação é finaliz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s demais componentes (Som, Net, etc.) precisam ser criados explicitamente. Se houver qualquer erro na criação, o motor não trata, apenas inform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Arial"/>
              </a:rPr>
              <a:t>CFV8iGameManager – Acessando os demais módulos.</a:t>
            </a:r>
            <a:endParaRPr b="0" lang="en-US" sz="3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48664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VideoEngine* GetVideo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InputEngine* GetInput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SoundEngine* GetSound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CF16VLogEngine*   GetLogEngine(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Usando o motor - Game Stat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F16VGame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presenta um estado do jogo (Menu, opções, video, jogo, etc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renciado pelo CF16VGame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ó existe um a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O seu jogo deve herdar esta classe e registrar com o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</a:rPr>
              <a:t>game man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GameStat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GameStat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atingGameStat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activatingGameState(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oveGameState(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e tecl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e 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e Joyst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ventos do Wind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Arial"/>
              </a:rPr>
              <a:t>CF16VGameState</a:t>
            </a:r>
            <a:endParaRPr b="0" lang="en-US" sz="4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3613320"/>
            <a:ext cx="9349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73440" y="3468600"/>
            <a:ext cx="12222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1917720"/>
            <a:ext cx="3745080" cy="40323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429000"/>
            <a:ext cx="151308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F16VG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ate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2131920"/>
            <a:ext cx="1081080" cy="108108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3392640"/>
            <a:ext cx="1081080" cy="1081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36000" y="4653000"/>
            <a:ext cx="1081080" cy="108108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2880" y="1577880"/>
            <a:ext cx="186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ódulo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7" idx="3"/>
            <a:endCxn id="138" idx="1"/>
          </p:cNvCxnSpPr>
          <p:nvPr/>
        </p:nvCxnSpPr>
        <p:spPr>
          <a:xfrm flipV="1">
            <a:off x="1690560" y="3936240"/>
            <a:ext cx="1083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8" idx="3"/>
            <a:endCxn id="140" idx="1"/>
          </p:cNvCxnSpPr>
          <p:nvPr/>
        </p:nvCxnSpPr>
        <p:spPr>
          <a:xfrm flipV="1">
            <a:off x="3995280" y="3933000"/>
            <a:ext cx="864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0" idx="3"/>
            <a:endCxn id="142" idx="2"/>
          </p:cNvCxnSpPr>
          <p:nvPr/>
        </p:nvCxnSpPr>
        <p:spPr>
          <a:xfrm>
            <a:off x="6372360" y="3933360"/>
            <a:ext cx="856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833840" y="36450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vento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2960" y="39546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03560" y="36450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ey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96200" y="366696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ey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04-01-26T03:29:01Z</dcterms:modified>
  <cp:revision>16</cp:revision>
  <dc:subject/>
  <dc:title>PowerPoint Presentation</dc:title>
</cp:coreProperties>
</file>