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285720"/>
            <a:ext cx="8578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7720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1760" y="141588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2280" y="141588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28572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1760" y="328572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2280" y="328572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5880"/>
            <a:ext cx="857880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570880" cy="32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415880"/>
            <a:ext cx="857880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7720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285720"/>
            <a:ext cx="8578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285720"/>
            <a:ext cx="8578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7720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81760" y="141588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82280" y="141588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28572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81760" y="328572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82280" y="328572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570880" cy="32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7720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285720"/>
            <a:ext cx="8578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4de0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5880"/>
            <a:ext cx="857880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39852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227320" indent="-3970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227320" indent="-397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227320" indent="-397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35440" y="6432480"/>
            <a:ext cx="1054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137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F73A-C198-4394-B455-06DBDCA8A78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4de0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5920" algn="ctr">
              <a:lnSpc>
                <a:spcPct val="90000"/>
              </a:lnSpc>
              <a:spcBef>
                <a:spcPts val="751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35240" indent="95040" algn="ctr">
              <a:lnSpc>
                <a:spcPct val="90000"/>
              </a:lnSpc>
              <a:spcBef>
                <a:spcPts val="675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35200" indent="95040" algn="ctr">
              <a:lnSpc>
                <a:spcPct val="90000"/>
              </a:lnSpc>
              <a:spcBef>
                <a:spcPts val="675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35200" indent="950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35200" indent="950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4de0e"/>
                </a:solidFill>
                <a:latin typeface="Arial"/>
              </a:rPr>
              <a:t>DirectX Audi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43000" y="3885840"/>
            <a:ext cx="7315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ojeto e Implementação de Jog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2002.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Bruno Jamir e Silv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Baseado na apresentação de Márcio Leal de Melo Dahi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Segments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41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ncapsulam cada um dos dados sonoros que representam um “todo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ave, MIDI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odem ser de 2 tip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imário </a:t>
            </a:r>
            <a:r>
              <a:rPr b="1" i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Apenas 1 ativo de cada vez (principa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cundários </a:t>
            </a:r>
            <a:r>
              <a:rPr b="1" i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Vários ativ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ada vez que um segment é tocado, cria-se um objeto SegmentSt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terface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DirectMusicSegment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Metodos de  Segment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110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HRESULT Download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Unknown *</a:t>
            </a: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pAudioPath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interf.performance ou audiopa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5600" y="2143080"/>
            <a:ext cx="278676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137160" anchor="t">
            <a:sp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SetLoopPoin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SetRepea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SetStartPoi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GetGrap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Set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GetTra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GetTrackGrou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InsertTra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RemoveTra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SetTrackConfi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Clo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Compo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GetAudioPathConfi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InitPla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SetPChannels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362320"/>
            <a:ext cx="3886200" cy="42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Unlo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AddNotificationTy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RemoveNotificationTy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GetPara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SetPara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GetDefaultResolu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GetLeng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GetLoopPo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GetRepea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GetStartPoi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SetDefaultResolu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Set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Tracks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37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Cada parte de divisível de um Seg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MIDI possui 16 cana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ada um deles esta num track diferen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Cada track pode ser direcionado para um caminho diferen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feitos diferentes para cada trac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Interface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DirectMusicTrack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Não será vis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Performance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37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Gerencia o fluxo dos dados até o sintetizad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ntrola quais os sons estão em execução, para onde estão indo e quando vão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ipicamente, só existe um performance na  aplic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terface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DirectMusicPerformance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Metodos do Performance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HRESULT InitAudio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DirectMusic** ppDirectMusic,//NU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DirectSound** ppDirectSound,//NU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HWND hWnd,// da janel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WORD dwDefaultPathType,</a:t>
            </a:r>
            <a:r>
              <a:rPr b="1" i="1" lang="pt-BR" sz="1700" spc="-1" strike="noStrike">
                <a:solidFill>
                  <a:srgbClr val="ffffff"/>
                </a:solidFill>
                <a:latin typeface="Courier New"/>
              </a:rPr>
              <a:t>//DMUS_APATH_SHARED_STEREOPLUSREVERB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WORD dwPChannelCount, // MIDI 16, Wave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WORD dwFlags,//DMUS_AUDIOF_A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MUS_AUDIOPARAMS *pParams //NU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)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Metodos do Performance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5788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HRESULT PlaySegmentEx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Unknown* pSource,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ponteiro para um obj. toca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CHAR *pwzSegmentName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,//não implementado! NUL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Unknown* pTransition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,//param. Composicao. NUL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WORD dwFlags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,//Muda o comportamento do segment. 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__int64 i64StartTime,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 tempo. Assiciado com dwfla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DirectMusicSegmentState** ppSegmentState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Unknown* pFrom, //segment tocando antes. NU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Unknown* pAudioPath // NU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)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HRESULT StopEx(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IUnknown *pObjectToStop, //ponteiro para um obj. toca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__int64 i64StopTime,//tempo para parar. Associado com dwfla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DWORD dwFlags //quando a parada deve ocorrer.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)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AudioPaths e Buffers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33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udioPath define um barramento que indicará para que Buffer um track irá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dAudioPath </a:t>
            </a:r>
            <a:r>
              <a:rPr b="1" i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3dBuff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terface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DirectMusicAudioPath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nterface IDirectMusicBuffer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Não serão vist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41198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Arquitetura do Directx Audi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40320" y="20520"/>
            <a:ext cx="449568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35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</a:rPr>
              <a:t>Cabeçalh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#define INITGUI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#include &lt;dmusici.h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</a:rPr>
              <a:t>Declara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IDirectMusicLoader8* g_pLoader = NULL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IDirectMusicPerformance8* g_pPerformance = NULL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IDirectMusicSegment8* g_pSegment = NULL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 - Inicializand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46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// Initialize 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CoInitialize(NULL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// Create loader ob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CoCreateInstance( CLSID_DirectMusicLoader, NULL,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LSCTX_INPROC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IID_IDirectMusicLoader8,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(void**)&amp;g_pLoader 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// Create performance ob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CoCreateInstance( CLSID_DirectMusicPerformance,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 NULL, CLSCTX_INPROC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IID_IDirectMusicPerformance8,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(void**)&amp;g_pPerformance 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Roteiro da Apresentaçã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46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eor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 que 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lação entre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DirectMusic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 DirectS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incipais conceitos, interfaces e funcionalida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rquitetura do DirectX Au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xempl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cando” um arquivo de áu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s... E aí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gestão de arquitetur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rcíc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 – Criando audiopath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Performance-&gt;InitAudio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IDirectMusic interface not needed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IDirectSound interface not needed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Window handl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MUS_APATH_SHARED_STEREOPLUSREVERB, // Defaultaudiopath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typ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64, // Number of performance channel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MUS_AUDIOF_ALL, // Features on synthesizer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 // Audio parameters; use defaults. );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 – escolhendo um dir.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1080" y="1415520"/>
            <a:ext cx="9144000" cy="47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 Find the Windows media directory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CHAR strPath[MAX_PATH]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etWindowsDirectory( strPath, MAX_PATH )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strcat( strPath, "\\media" )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 Convert to Unicod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CHAR wstrSearchPath[MAX_PATH]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MultiByteToWideChar(CP_ACP, 0, strPath, -1,wstrSearchPath,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MAX_PATH 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 Set the search directory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Loader-&gt;SetSearchDirectory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UID_DirectMusicAllTypes, // Types of files sough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strSearchPath, // Where to loo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FALSE // Don't clear object data. );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 – abrindo um arquiv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415520"/>
            <a:ext cx="9144000" cy="45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CHAR wstrFileName[MAX_PATH] = L"The Microsoft Sound.wav"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f (FAILED(g_pLoader-&gt;LoadObjectFromFile( CLSID_DirectMusicSegment, // Class identifi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ID_IDirectMusicSegment8, // ID of desired interfa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strFileName, // Filena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(LPVOID*) &amp;g_pSegment ))) // Pointer that receives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interfac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{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MessageBox( NULL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"Media not found, sample will now quit."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"DMusic Tutorial", MB_OK ); return 0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 – tocand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0720" y="1415880"/>
            <a:ext cx="8962920" cy="47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// Download the segment's instruments to the synthesiz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g_pSegment-&gt;Download( g_pPerformance 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Performance-&gt;PlaySegmentEx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Segment, // Segment to pla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Used for songs; not implemen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For transition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0, // Flag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0, // Start time; 0 is immedi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Pointer that receives segment stat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Object to stop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 // Audiopath, if not default. 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MessageBox(NULL,"Click OK to Exit.","Play Audio", MB_OK );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 – finalizand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1010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Performance-&gt;Stop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Stop all segm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Stop all segment sta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0, // Do it immediately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0 // Flags. 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Performance-&gt;CloseDown(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 Cleanup all interfa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Loader-&gt;Release(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Performance-&gt;Release(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Segment-&gt;Release()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 Close down 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CoUninitialize();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mas... E aí?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196640"/>
            <a:ext cx="8578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ugestão de arquitetura.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219640" y="1916280"/>
            <a:ext cx="2952720" cy="1073520"/>
            <a:chOff x="5219640" y="1916280"/>
            <a:chExt cx="2952720" cy="1073520"/>
          </a:xfrm>
        </p:grpSpPr>
        <p:sp>
          <p:nvSpPr>
            <p:cNvPr id="130" name=""/>
            <p:cNvSpPr/>
            <p:nvPr/>
          </p:nvSpPr>
          <p:spPr>
            <a:xfrm>
              <a:off x="5219640" y="2276640"/>
              <a:ext cx="720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7160" bIns="-137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24360" y="1916280"/>
              <a:ext cx="17287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Load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19640" y="2708280"/>
              <a:ext cx="720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7160" bIns="-137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40360" y="2349360"/>
              <a:ext cx="22320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Performa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133080" y="2137320"/>
            <a:ext cx="2055240" cy="2296080"/>
            <a:chOff x="3133080" y="2137320"/>
            <a:chExt cx="2055240" cy="2296080"/>
          </a:xfrm>
        </p:grpSpPr>
        <p:sp>
          <p:nvSpPr>
            <p:cNvPr id="135" name=""/>
            <p:cNvSpPr/>
            <p:nvPr/>
          </p:nvSpPr>
          <p:spPr>
            <a:xfrm>
              <a:off x="3133080" y="2137320"/>
              <a:ext cx="2055240" cy="640440"/>
            </a:xfrm>
            <a:prstGeom prst="rect">
              <a:avLst/>
            </a:prstGeom>
            <a:gradFill rotWithShape="0">
              <a:gsLst>
                <a:gs pos="0">
                  <a:srgbClr val="3c6319"/>
                </a:gs>
                <a:gs pos="100000">
                  <a:srgbClr val="83d737">
                    <a:alpha val="8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13716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Gerenci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40000" y="2781360"/>
              <a:ext cx="0" cy="1008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72640" y="3792960"/>
              <a:ext cx="1211040" cy="640440"/>
            </a:xfrm>
            <a:prstGeom prst="rect">
              <a:avLst/>
            </a:prstGeom>
            <a:gradFill rotWithShape="0">
              <a:gsLst>
                <a:gs pos="0">
                  <a:srgbClr val="3c6319"/>
                </a:gs>
                <a:gs pos="100000">
                  <a:srgbClr val="83d737">
                    <a:alpha val="8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13716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Obje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30600" y="3357720"/>
              <a:ext cx="337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13716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284720" y="2997000"/>
            <a:ext cx="3671640" cy="2367720"/>
            <a:chOff x="4284720" y="2997000"/>
            <a:chExt cx="3671640" cy="2367720"/>
          </a:xfrm>
        </p:grpSpPr>
        <p:sp>
          <p:nvSpPr>
            <p:cNvPr id="140" name=""/>
            <p:cNvSpPr/>
            <p:nvPr/>
          </p:nvSpPr>
          <p:spPr>
            <a:xfrm>
              <a:off x="4788000" y="4292640"/>
              <a:ext cx="1223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7160" bIns="-137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24360" y="4005360"/>
              <a:ext cx="22320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Segment 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788000" y="2997000"/>
              <a:ext cx="1512720" cy="936720"/>
              <a:chOff x="4788000" y="2997000"/>
              <a:chExt cx="1512720" cy="936720"/>
            </a:xfrm>
          </p:grpSpPr>
          <p:sp>
            <p:nvSpPr>
              <p:cNvPr id="143" name=""/>
              <p:cNvSpPr/>
              <p:nvPr/>
            </p:nvSpPr>
            <p:spPr>
              <a:xfrm>
                <a:off x="4788000" y="3933720"/>
                <a:ext cx="15127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7160" bIns="-137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6300720" y="2997000"/>
                <a:ext cx="0" cy="93636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"/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4572000" y="4724280"/>
              <a:ext cx="1439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7160" bIns="-137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24360" y="4365720"/>
              <a:ext cx="22320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Segment 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4720" y="5084640"/>
              <a:ext cx="1726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7160" bIns="-137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24360" y="4724280"/>
              <a:ext cx="22320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Segment 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284720" y="4436640"/>
              <a:ext cx="0" cy="647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572000" y="4437000"/>
              <a:ext cx="0" cy="287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826920" y="3933720"/>
            <a:ext cx="3097440" cy="1431000"/>
            <a:chOff x="826920" y="3933720"/>
            <a:chExt cx="3097440" cy="1431000"/>
          </a:xfrm>
        </p:grpSpPr>
        <p:sp>
          <p:nvSpPr>
            <p:cNvPr id="152" name=""/>
            <p:cNvSpPr/>
            <p:nvPr/>
          </p:nvSpPr>
          <p:spPr>
            <a:xfrm flipH="1">
              <a:off x="2626920" y="5084640"/>
              <a:ext cx="1297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7160" bIns="-137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626920" y="4653000"/>
              <a:ext cx="1081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7160" bIns="-137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2627280" y="4292640"/>
              <a:ext cx="9381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7160" bIns="-137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924360" y="4436640"/>
              <a:ext cx="0" cy="647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708360" y="4437000"/>
              <a:ext cx="0" cy="21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8840" bIns="78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6920" y="3933720"/>
              <a:ext cx="22320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Play1(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6920" y="4292640"/>
              <a:ext cx="22320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Play2(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6920" y="4724280"/>
              <a:ext cx="22320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PlayN(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rcíci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udar o arquivo fonte para wa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locar trilha sonora em uma aplic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locar efeito sonoro disparado por algum even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hamar “Play” com input ou animaçã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ncronizar a ação com o s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eitos sonoros podem ser encontrados 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ttp://www.findsounds.c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 Geber tem um CD com um monte deles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O que é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njunto de APIs para lidar com áud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stá para a placa de som como DGraphics para a placa de víde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Sound e DirectMus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ersão 8 integra bem os do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nipulam arquivos MIDI, wave e DM Producer´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 MP3, WMA etc.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arece que não dá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751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ite da Microsoft não mencio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751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w-latency mix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Show lida com esse tipo de arquiv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Relação entre </a:t>
            </a:r>
            <a:r>
              <a:rPr b="1" i="1" lang="pt-BR" sz="4400" spc="-1" strike="noStrike">
                <a:solidFill>
                  <a:srgbClr val="f4de0e"/>
                </a:solidFill>
                <a:latin typeface="Arial"/>
              </a:rPr>
              <a:t>DirectMusic </a:t>
            </a: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e</a:t>
            </a:r>
            <a:r>
              <a:rPr b="1" i="1" lang="pt-BR" sz="4400" spc="-1" strike="noStrike">
                <a:solidFill>
                  <a:srgbClr val="f4de0e"/>
                </a:solidFill>
                <a:latin typeface="Arial"/>
              </a:rPr>
              <a:t> DirectSound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54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as versões anterio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irectMusic para o áudio baseado em mensagem (MID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irectSound para adquirir e reproduzir wa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irectx 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irectMusic fornece interface para tocar wave o MIDI até um determinado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buffer DirectS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irectSound continua responsável por aquisição e gerencia seu caminho do buffer até a placa de s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m resum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Music </a:t>
            </a:r>
            <a:r>
              <a:rPr b="1" lang="pt-B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arquivo até buff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Sound </a:t>
            </a:r>
            <a:r>
              <a:rPr b="1" lang="pt-B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buffer até pla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Relação entre </a:t>
            </a:r>
            <a:r>
              <a:rPr b="1" i="1" lang="pt-BR" sz="4400" spc="-1" strike="noStrike">
                <a:solidFill>
                  <a:srgbClr val="f4de0e"/>
                </a:solidFill>
                <a:latin typeface="Arial"/>
              </a:rPr>
              <a:t>DirectMusic </a:t>
            </a: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e</a:t>
            </a:r>
            <a:r>
              <a:rPr b="1" i="1" lang="pt-BR" sz="4400" spc="-1" strike="noStrike">
                <a:solidFill>
                  <a:srgbClr val="f4de0e"/>
                </a:solidFill>
                <a:latin typeface="Arial"/>
              </a:rPr>
              <a:t> DirectSound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578800" cy="28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irectx 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irectMusic de nível mais al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mposições dinâmicas através de regras musica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751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Styles: conjunto de patterns + time signature + tempo +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751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hordma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751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Style-Based seg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Principais conceitos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25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ad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gment e Segment St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rac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udiopath e Buff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Loader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34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Primeiro objeto a ser criad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Viabiliza o armazenamento de todos os objetos de áudio da aplic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Cria uma representação do objeto para a aplicaçã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epara o processo de streaming dos objetos de áu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nterface IDirectMusicLoader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Métodos do Loader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78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HRESULT SetSearchDirectory(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REFGUID rguidClass,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GUID_DirectMusicAll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CHAR* pwszPath,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File path for directory. &lt; MAX_PATH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BOOL fClear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 //apaga a info. Do objeto após busc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HRESULT LoadObjectFromFile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REFGUID rguidClassID,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CLSID_DirectMusicSeg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REFIID iidInterfaceID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, //IID_IDirectMusicSegment8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CHAR *pwzFilePath,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nome do arquiv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void ** ppObject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ponteiro para o objet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Métodos do Loader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EnumObjec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ScanDirector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CacheObjec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ClearCach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CollectGarbag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EnableCach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ReleaseObjec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ReleaseObjectByUnknow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GetObjec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SetObject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21:29:37Z</dcterms:created>
  <dc:creator>mlmd</dc:creator>
  <dc:description/>
  <dc:language>en-US</dc:language>
  <cp:lastModifiedBy>Bruno e Thiago Jamir e Silva</cp:lastModifiedBy>
  <dcterms:modified xsi:type="dcterms:W3CDTF">2003-02-12T00:21:21Z</dcterms:modified>
  <cp:revision>130</cp:revision>
  <dc:subject/>
  <dc:title>DirectMusic e DirectSound</dc:title>
</cp:coreProperties>
</file>