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A163-5664-4E53-98E7-9C123FA3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F6B-E653-47AC-8ABB-8B5C904B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81F4-ADFF-407A-AEBA-172C60E1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836-CC54-45B0-B951-5C90B8A9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0C50-30BD-4E91-A54C-7E49BB2A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B658-598C-49F7-BC43-251EC2D4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8739-9852-4552-8E1E-9B203283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F9B5-AAEF-4A6F-AB21-DB005428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FA91-A7A4-46AA-84E5-1BF61AF8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C0DF7-65FD-489E-A9A6-9BAF2726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D4E3-9AFB-4E16-A05B-02B7320C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F92-D6B2-48B9-8F09-2B60027B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88AE-192D-4E9E-9696-19A2A3AD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5661-0392-4D8E-897C-698378D5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B5D6-D635-4C77-A1DE-5507BF9E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1D5D-9F9F-4E33-B341-DD4A72EF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C0C7-CA00-4B74-A17C-F80B11F3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76E-958A-4D64-8F71-FE4C068F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6EB-BF59-4CD7-BBFD-C0D4FDA4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951-874F-49EC-873B-A9988AA0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B38-0456-47BF-9D8D-99B5CBEF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C00-7940-401B-90A8-29003802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712-69D3-4A70-BFCC-028C01D0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519-40E7-4075-A1E6-33F782CE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2DD8-5423-48CE-84DA-12C5D827C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C01E-669C-479A-8E07-8E5CCC3C4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irectDraw 7.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E Implementação De J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0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car E Bor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1 - backgroun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ifique a imagem de fundo do projeto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 região começando em 0,0 de tamanho 640x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 imagem all.b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Tamanho do arquivo 640x8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Cor de transparência é RGB(0, 255, 2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2 - fa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647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zer o herói girar no centro da t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ireção existem 3 sprites de ani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r const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#define UP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#define LE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#define DOW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#define RIGH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 de cada sprite é 24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osição inicial dos sprites é 0x4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cronize com o tempo : timeGet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3 - ani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647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ver o herói pela borda d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r vetor de Velocidade (v_x, v_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th = (0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uth = (0, 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ast = (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est = (-1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posx += time_diff * v_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posy += time_diff * v_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ncronizar velocidade de animação e desloc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4 – Mapa de Ti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647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uma matriz que represente um mapa de tiles e exibir este mapa na t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rquivo com tiles esta em http://www.cin.ufpe.br/~ogm/jogos/aula-dd-2/tiles1.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tile mede 16x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5 – Scroll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647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ndo o exercício anterior implementar scrolling naquele ma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2T00:53:33Z</dcterms:created>
  <dc:creator>Alexandre Brainer</dc:creator>
  <dc:description/>
  <dc:language>en-US</dc:language>
  <cp:lastModifiedBy>ogm</cp:lastModifiedBy>
  <dcterms:modified xsi:type="dcterms:W3CDTF">2002-02-27T17:54:01Z</dcterms:modified>
  <cp:revision>80</cp:revision>
  <dc:subject/>
  <dc:title>Curso Intensivo de DirectX</dc:title>
</cp:coreProperties>
</file>