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6CA5-50A2-445E-B757-46B43E62C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pGuid – driver que vai ser utilizado, NULL chama o driver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UnkOuter – sempre 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rface pode ser primaria e secund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pping normalmente e usado em modo jan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71B3-B07E-49C0-ACD2-FC6DE12A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7E4-2CB2-4CCC-95F7-8E386AC4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0963-EA0A-4BCD-8AA5-824DDDE5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54BD-EFF9-4D23-B612-19618059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4EF5-0657-4952-8992-C00EDFD6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AEDC-17E5-40D6-8351-DE1FD8D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7C5E-D0AF-4C35-955B-FA16CF3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9B84-BF4A-4914-88F7-73BE37A1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7CA3A-4F40-421F-BDA9-CFFCD8D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A74-B911-4282-85BE-487997F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CD9B-035F-4A6A-BB42-BE4DC6F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CC9-26DE-4154-A306-02B6944A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62A9-98D3-43B5-AF81-C21230E0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C05E-5AB6-4AC9-8B28-F14745E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9080-DA16-41D4-8610-86254A1E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57B7-8950-4331-BBAF-C6F400D6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6FF2-8C46-4274-B967-847A7FC1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C97-2763-4FA7-B469-D256D87E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7E2C-0BAD-4991-9973-616BB6D8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6DFF-EC5C-4CB5-BAB7-7145F0CC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C72-EE54-4D65-9347-2E03EBD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05BD-59F7-4C80-8FB4-6E7B2310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5AC-E9E5-49B4-B483-72D0A616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0C0-27B5-413C-98C1-C7269AE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A891-29AE-4050-B41F-2A89C4FFE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A5A2-779E-41DB-A663-BB18239A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file:///stretch.exe" TargetMode="External"/><Relationship Id="rId4" Type="http://schemas.openxmlformats.org/officeDocument/2006/relationships/hyperlink" Target="file:///stretch.exe" TargetMode="External"/><Relationship Id="rId5" Type="http://schemas.openxmlformats.org/officeDocument/2006/relationships/hyperlink" Target="file:///stretch.exe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donut.bm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irectDraw 7.0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to E Implementação De J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01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car E Bor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 ser manipulado pelas interfaces IDirectDraw, IDirectDraw2, IDirectDraw4 e IDirectDraw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trabalharemos com a IDirectDraw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um objeto DirectDraw usamos a função DirectDrawCreateEx, com a sintaxe:</a:t>
            </a:r>
            <a:br>
              <a:rPr sz="2400"/>
            </a:b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RESULT WINAPI DirectDrawCreateEx(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GUID FA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 lpGuid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NULL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LPVOID *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lpDD,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objeto DirectDraw        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REFIID 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iid,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IID_DirectDraw7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  IUnknown FA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 *pUnkOuter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Courier New"/>
              </a:rPr>
              <a:t>// NULL 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RESULT h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WND hW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PDIRECTDRAW7        m_pD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// DDraw stuff begin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( FAILED( hr = DirectDrawCreateEx( NULL, (VOID**)&amp;m_pD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ID_IDirectDraw7, NULL ) )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turn E_FAI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Nível de Cooperação (Cooperative Level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 como o DirectDraw interage com a tela e como reage a 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a aplicação será em modo de janela ou tela ch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pode ou não haver rebo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deve minimizar ou maximizar a aplicação em resposta a algum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usará resoluções de mod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odo Janela x Tela Che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ESULT SetCooperativeLevel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,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window ha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WORD dwFlags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fl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odo tela ch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 = m_pDD-&gt;SetCooperativeLevel( hWn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EXCLUSIVE |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FULLSCREEN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modo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hr = m_pDD-&gt;SetCooperativeLevel( hWnd,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DSCL_NORMA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solu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 as dimensões e a quantidade de bits por cor(profundidade) que a placa de vídeo envia para o monitor como a superfície prim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lterada usando o método SetDisplay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RESULT SetDisplayMode(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Widt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/ largura em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Height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ura em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BP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fund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RefreshRat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fresh rate, 0 p/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dwFlag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/ extra  flags, 0 p/ defa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art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24920" y="148428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ESULT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WND hW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LPDIRECTDRAW7 m_pD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DDraw stuff begin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r = DirectDrawCreateEx( NULL, (VOID**)&amp;m_pD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ID_IDirectDraw7, NULL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Set cooperative lev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hr = m_pDD-&gt;SetCooperativeLevel( hWnd, DDSCL_EXCLUSIVE 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DSCL_FULLSCREEN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Set the display mode 640x480x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hr = m_pDD-&gt;SetDisplayMode( 640, 480, 8, 0, 0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( FAILED(h ) ) return h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ur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’ o bitmap em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tiliza paleta de cores ou RG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estar em memória de vídeo(VRAM) ou memória do sis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ser de dois tip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rresponde diretamente a memória de vídeo sendo raster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xiste apenas u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 ser compatível com a resolução de ví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cundá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rmalmente se utiliza uma ou duas surfaces secundarias como back buffers(double ou triple buffe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ambém usado para imagens e animações de objetos do j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riando Superfície Primá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198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o método Create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necessá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pecificar quantos backbuffers serão us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vai usar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vai usar operações complex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HRESULT CreateSurface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LPDDSURFACEDESC2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pDDSurfaceDesc2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DIRECTDRAWSURFACE7 FAR 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plpDDSurface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Unknown FAR *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UnkOuter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/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7        m_pD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Set the display mode 640x480x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 = m_pDD-&gt;SetDisplayMode( 640, 480, 8, 0, 0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( FAILED(h 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// Create primary surface (with backbuffer attach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URFACEDESC2 dds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ZeroMemory( &amp;ddsd, sizeof( ddsd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Size            = sizeof( ddsd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Flags           = DDSD_CAPS | DDSD_BACKBUFFER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dsCaps.dwCaps    = DDSCAPS_PRIMARYSURFACE | DDSCAPS_FLIP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| DDSCAPS_COMPLEX | DDSCAPS_3DDEVI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d.dwBackBufferCount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 = m_pDD-&gt;CreateSurface( &amp;ddsd, &amp;m_pddsFrontBuffer, NULL)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cuperando o backbuff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7        m_pD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 = m_pDD-&gt;CreateSurface( &amp;ddsd, &amp;m_pddsFrontBuffer, NULL);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000000"/>
                </a:solidFill>
                <a:latin typeface="Courier New"/>
              </a:rPr>
              <a:t>// Get a pointer to the back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CAPS2 ddscap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ZeroMemory( &amp;ddscaps, sizeof( ddscaps )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ddscaps.dwCaps = DDSCAPS_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 = m_pddsFrontBuffer-&gt;GetAttachedSurface( &amp;ddscap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                                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&amp;m_pddsBackBuffer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if( FAILED(hr) ) return h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ge Flip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operação de troca entre dois (ou mais)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vídeo, chamados no DX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alcançar uma maior eficiência, utiliza-se 2 ou mai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rip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enquanto se exibe uma delas, as outras são process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evita que o sincronismo do monitor atrapalhe o processamento do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pode ser realizado em tela cheia. Em modo de janela, é realizado o blitting nor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age Flip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248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ame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dInpu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Ga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pdateScre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rawScree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657240" y="1980720"/>
            <a:ext cx="5288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m_pddsFront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Flip the su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while (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hRet = m_pddsFrontBuffer-&gt;Flip(NULL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== DD_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== DDERR_SURFACELO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hRet = RestoreA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!= DD_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if (hRet != DDERR_WASSTILLDRAW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Bli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trabalhar com bitmaps usa-se bli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ing vem de BLT (Block Transfer) e é o nome que se dá à transferência de um bitmap de uma área de memória para ou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transferência pode ser feita de diversas formas dependendo dos bits da fonte e do dest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é o ponto forte do DirectDraw pois permite transferir imagens entre o vídeo e a 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eenchendo Memó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      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                     ddbltf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Use the blter to do a color fill to clear the back buf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ZeroMemory(&amp;ddbltfx, sizeof(ddbltfx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.dwSize = sizeof(ddbltf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fx.dwFillColor = 0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m_pddsBackBuffer -&gt;Blt(NULL, // pointer to dest 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NULL, // pointer to source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NULL, // pointer to source R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DDBLT_COLORFILL | DDBLT_WAI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// do a color fill and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&amp;ddbltfx); // pointer to DDBLTFX holding 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piando Bitmaps entre surfa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26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odo Blt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 copia o bitmap de uma surface p/ ou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</a:rPr>
              <a:t>LPDIRECTDRAWSURFACE7        m_pddsBackBuff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LPDIRECTDRAWSURFACE7        g_pAnimationSurfac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ECT                        rcRec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// regiao do sprite na surface origem(64x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left  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top    =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right  = 6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.bottom = 6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m_pddsBackBuffer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-&gt;BltFast(frameX, 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osicao X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frameY, 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posicao Y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g_pAnimationSurface,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rface orige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</a:rPr>
              <a:t>rcRect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,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regiao da imagem origem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</a:rPr>
              <a:t>DDBLTFAST_SRCCOLORKEY); //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usa tranparencia da im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perações de Escala e Rot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o do método B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SURFACE7        m_pddsBackBuff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LPDIRECTDRAWSURFACE7        g_pAnimationSurfa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ECT                        rcSrcRect,  rcDestRec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 ddbltfx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rotaciona  - cada unidade e’ 1/100 do ângulo de rotaca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ZeroMemory(&amp;ddbltfx, sizeof(ddbltfx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.dwSize = sizeof(ddbltf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bltfx.dwFillColor = angle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origem 64x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left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top 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right  = 6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SrcRect.bottom = 64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destino 128x1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left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top   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right  = 12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rcDestRect.bottom = 12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r = m_pddsBackBuffer -&gt;Blt(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rcDestRec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AnimationSurfac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rcSrcRec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(DDBLT_WAIT | DDBLT_KEYSRC | DDBLT_ROTATIONANGLE) 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&amp;ddbltfx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s de Anima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-se uma ou mais surfaces p/ armazenar os sprites ou tiles de ma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ém objetos utilizados na memória de vídeo podem usar as operações de blit e 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mazena os objetos numa surface off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95280" y="3581280"/>
          <a:ext cx="4800600" cy="29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81280"/>
                    <a:ext cx="4800600" cy="29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628320" y="4495680"/>
            <a:ext cx="14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3"/>
              </a:rPr>
              <a:t>stretch</a:t>
            </a: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99ccff"/>
                </a:solidFill>
                <a:uFillTx/>
                <a:latin typeface="Times New Roman"/>
                <a:hlinkClick r:id="rId5"/>
              </a:rPr>
              <a:t>e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 Bás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6471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o componente da API DirectX que permite acessar diret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mória de víde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de blitting d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erações de fli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ém compatibilidade com G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aceleração tanto em modo de janela como em tela che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baseada no us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processadas po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l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urface offscree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DDSURFACEDESC2              dds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HRESULT                     h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7               g_pD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LPDIRECTDRAWSURFACE7        g_pDDSOffscreen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// Create a offscreen bitm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Flags = DDSD_CAPS | DDSD_HEIGHT | DDSD_WIDTH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dsCaps.dwCaps = DDSCAPS_OFFSCREENPLAIN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Height = 480; //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al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dsd.dwWidth = 640;  //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arg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Ret = g_pDD-&gt;CreateSurface(&amp;ddsd, &amp;g_pDDSOffscreen, NUL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if (hRet != DD_OK) return 0; // err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DI x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imeiros jogos para Windows tinham o problema de serem bem mais lentos que os jogos  para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ncipal razão para isso era o fato de que a GDI (Graphics Device Interface) só trabalhava com a memória do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DirectDraw resolve esse problema e é bem mais eficiente na áre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litt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não tendo quase nenhum recurs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ra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Draw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desenhar no DirectDraw e para realizar certas operações com bitmaps usamos rotinas da GDI, tais co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tDC, CreateDC e Release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adBitmap, BitBlt e CreateDIB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lipse, Polygon, Rect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veTo, LineTo, A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ut, Draw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434340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LPDIRECTDRAWSURFACE7        g_pDDSOffscree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HDC            hDC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DDSOffscreen-&gt;GetDC(&amp;hDC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Use GDI to draw the text on the su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TextOut( hDC, dwOriginX, dwOriginY, strText, _tcslen(strText)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Arial"/>
              </a:rPr>
              <a:t>// Stretch the bitmap to cover this su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StretchBlt( hDC, 0, 0,  dwWidth, dwHeight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hDCImage, dwBMPOriginX, dwBMPOrigin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dwBMPWidth, dwBMPHeight, SRCCOPY 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</a:rPr>
              <a:t>g_pDDSOffscreen-&gt;ReleaseDC(&amp;hDC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 CDispla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x 8 oferece a classe de exemp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Displa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e contem métodos para as principais fun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DD em modo full-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r DD em modo j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er Blit/Fl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rregar bitmap de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zer double-bu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lasse fica no diretóri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amples\Multimedia\Common\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X 7.0 Programmer's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cks of The Windows Game Programming Gurus, André Lamo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xercício propos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r o exemplo samples\Multimedia\Demos\DirectDraw\FullScreenMode para ter a cor de fundo branco.(fac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zer a animação qualquer do sprite do arquivo anexo.(difícil) 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donut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CA1: Existem 60 sprites e a região do i-esimo retângulo na imagem pode ser calculada da seguinte f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left = i % 10 *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top = i / 10 *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right = i % 10 * 64 +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cRect.bottom = i / 10 * 64 + 6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DICA2: use a cor de fundo dos sprites como cor de transpa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egração d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324840" cy="41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Interfaces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1984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primeiro objeto e é usado para criar os dem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Surface (“surfa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, em grosso modo, um bitmap em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Palette (“palet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paleta de cores (para os modos de 16-256 c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ctDrawClipper (“clipper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sado para delimitar uma área de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os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4836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cessamento de uma aplicação DirectDra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 sempre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imária e duas ou mais atrás chamada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uffer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licação escreve em um back buffer, então faz um flipping, para que apareça na t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quanto o sistema está mostrando a imagem, a aplicação escreve de novo no back bu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sso permite uma animação de forma rápida e efici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ge fli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l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ndo bit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tartu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objeto DirectDraw usando interface IDirectDraw7 e ajustar cooperation level e resolução de víde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as surfaces IDirectDrawSurface, pelo menos uma primá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r paleta IDirectDrawPalette, iniciar tripla RGB e anexar as superfíc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for em modo janela, criar o clipp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enhar superfície prim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00:53:33Z</dcterms:created>
  <dc:creator>Alexandre Brainer</dc:creator>
  <dc:description/>
  <dc:language>en-US</dc:language>
  <cp:lastModifiedBy>ogm</cp:lastModifiedBy>
  <dcterms:modified xsi:type="dcterms:W3CDTF">2002-02-22T15:43:07Z</dcterms:modified>
  <cp:revision>63</cp:revision>
  <dc:subject/>
  <dc:title>Curso Intensivo de DirectX</dc:title>
</cp:coreProperties>
</file>