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64C-8E31-4C5A-AD38-0DB7FC35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660A-C089-4AD1-91EF-440122D8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CB1-CDDB-40D9-9830-994CF8DC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AC5-16EC-490A-A3BD-AB2BC197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1357-C6EC-425C-8A34-6C965FC2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06C5-8B32-4A16-96F0-82584A29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4B00-6A84-47E0-BEB7-740D47E3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9998-73F5-475F-94CE-A4D0F43C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223E-B0C5-4FA2-A75F-8BAC3F5C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AF22-A2D8-4ACC-9947-0C78D720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4C1A-F12B-45E0-8B7D-E08045B8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451-3FD0-4D0C-AE9E-89BA67D4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7EBA-7A03-469F-838B-8D3E1970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CA95-A381-404A-860D-210AE282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6248-415C-46A3-BF7D-F075BE28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E0A0-E437-4E12-9553-CBB65726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4470-9B63-45EF-85D8-9B6716ED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704-94AF-44C1-A714-7FF887ED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9EE-AE13-4C07-A2E0-8F350493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D96-ACC5-4D1A-9B9E-94BF3389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192-E0F5-404C-A478-A34A08D6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34F-8B8C-4D5F-BBE9-617E9851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56E-A5F8-4AD6-8DF8-44865CB8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749-63E9-4415-B63C-35AAE879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FBEB-648E-47B4-B9C0-7D6784AFA52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82D0-57AF-42F5-8CCB-718F51A3F1D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92000" y="2852640"/>
            <a:ext cx="676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todologia Ágil para Projetos de Advergam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85080" y="6066000"/>
            <a:ext cx="2124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Allan Araujo</a:t>
            </a:r>
            <a:br>
              <a:rPr sz="2400"/>
            </a:br>
            <a:r>
              <a:rPr b="0" i="1" lang="en-US" sz="1800" spc="-1" strike="noStrike">
                <a:solidFill>
                  <a:srgbClr val="b2b2b2"/>
                </a:solidFill>
                <a:latin typeface="Arial"/>
              </a:rPr>
              <a:t>arsa@cin.ufpe.b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os de Jo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48836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556000" y="6308640"/>
            <a:ext cx="3744720" cy="360360"/>
            <a:chOff x="2556000" y="6308640"/>
            <a:chExt cx="3744720" cy="36036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556000" y="6392880"/>
              <a:ext cx="374328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556000" y="6308640"/>
              <a:ext cx="3744720" cy="360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lores Áge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racterísticas/Objetiv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daptati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senvolvimento Iterativo e Increment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rientação a Tes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Gerenciamento Descentralizad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uporte ao Gerenciamento e Desenvolvimen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tegração de Process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egócios e Produção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strutura da Metodologia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69120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pé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503440"/>
            <a:ext cx="64803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ases e Disciplin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5534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áticas Recomendad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stórias (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User Storie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Story Poi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DD 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Continuous Desig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unicação Transparen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aily Meet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mbiente de Trabalho Otimizad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Feedback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Constante e Ciclos Curt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Pair-Programm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õ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2035080"/>
            <a:ext cx="7115040" cy="405792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2556000" y="6308640"/>
            <a:ext cx="3744720" cy="360360"/>
            <a:chOff x="2556000" y="6308640"/>
            <a:chExt cx="3744720" cy="36036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2556000" y="6392880"/>
              <a:ext cx="374328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556000" y="6308640"/>
              <a:ext cx="3744720" cy="360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042920" y="5661000"/>
            <a:ext cx="4465800" cy="50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õ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vantage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errament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últiplos Projet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tividades Abstrat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rabalhos Futur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dir (Projetos e Processo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lhoria e Refinamento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erramentas (Integração e Suport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Gerenciamento de Portfól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22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RAUJO, Allan. Agile Game Process – Metodologia Ágil para Projetos de Advergames. Trabalho de Graduação, Bacharelado em Ciência da Computação, Universidade Federal de Pernambuco. 2006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92000" y="2852640"/>
            <a:ext cx="676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todologia Ágil para Projetos de Advergam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85080" y="6066000"/>
            <a:ext cx="2124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Allan Araujo</a:t>
            </a:r>
            <a:br>
              <a:rPr sz="2400"/>
            </a:br>
            <a:r>
              <a:rPr b="0" i="1" lang="en-US" sz="1800" spc="-1" strike="noStrike">
                <a:solidFill>
                  <a:srgbClr val="b2b2b2"/>
                </a:solidFill>
                <a:latin typeface="Arial"/>
              </a:rPr>
              <a:t>arsa@cin.ufpe.b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Jog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vergam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cessos para Jog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gile Game Process (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AG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nclusõ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tividad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strutur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mi-Estrutur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r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stímul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ísico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ntai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3743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gos Eletrônicos - Histó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ennis for Two (1958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paceWar (196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uper Mario (1985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nic (199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al Fantasy (1997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ge of Empires (1999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alo 2 (2004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oW (2004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ll of Duty 2 (2005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88000" y="2077920"/>
            <a:ext cx="1817640" cy="1711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29400" y="1989000"/>
            <a:ext cx="2479680" cy="180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4321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gos Eletrônicos - Esti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ipologia do Enred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spor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stratég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ventur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P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alida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retenimen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ducação e Treinamen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blicida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500640" cy="2333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4927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g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412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Jogos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Publicidad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mers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terativida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racterístic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ronogra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úblic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periênc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527280" cy="2305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32360" y="4067280"/>
            <a:ext cx="35211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g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9320" y="205092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gênci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senvolvedor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jet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rçamento: US$ 10 a 500 mil (em média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mbiente Dinâmico e Complex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uração: 3 a 15 seman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quipe Multidisciplinar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898800" cy="2156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164360" y="6446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c0c0"/>
                </a:solidFill>
                <a:latin typeface="Arial"/>
              </a:rPr>
              <a:t>Fonte: IG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etanto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781360"/>
            <a:ext cx="74880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    “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O jogo foi entregue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com atraso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 Ele contém muitos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bugs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 As funcionalidades originalmente pretendidas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não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foram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entregues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 Lançar o jogo levou muitas horas de desenvolvimento com o time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sob pressão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 Uma vez lançado o jogo, a gerência parecia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 não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estar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satisfeita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(...)”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os de Jo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aterfal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cessos Iterativos (UP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etodologias Áge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reme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ogramming (XP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ru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04:19:43Z</dcterms:created>
  <dc:creator>Allan Araujo</dc:creator>
  <dc:description/>
  <dc:language>en-US</dc:language>
  <cp:lastModifiedBy>Allan Araujo</cp:lastModifiedBy>
  <dcterms:modified xsi:type="dcterms:W3CDTF">2006-10-06T09:15:22Z</dcterms:modified>
  <cp:revision>90</cp:revision>
  <dc:subject/>
  <dc:title>Slide 1</dc:title>
</cp:coreProperties>
</file>