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5.gif" ContentType="image/gif"/>
  <Override PartName="/ppt/media/image13.jpeg" ContentType="image/jpeg"/>
  <Override PartName="/ppt/media/image23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28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993-E8C1-45F6-A0D4-E606803F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550-DAA0-4618-ADCF-8E2033C1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FEB-4975-41D2-A1B9-30F54904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E16-ED9E-4A4F-8C32-D2EED558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E90-5EA6-40A4-A8E5-5FBB330F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961-C93A-48D9-ADC9-BFA029FB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234-513E-4344-814B-39BC9524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1B7-E9F0-449B-B4EA-DFA905C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A5E-F133-4973-9AAB-356213F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76E-A816-41C4-8BF8-F2DAB664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3E4-D837-446F-9DDA-E2876938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F62-6C19-437B-AC18-66ABD5A8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e0b5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53352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17520" y="44280"/>
            <a:ext cx="749160" cy="432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0080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vemb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4420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E2A1-2552-4290-9945-7ECDA9633C9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818480" y="68400"/>
            <a:ext cx="1050840" cy="4316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851280" y="6348240"/>
            <a:ext cx="14400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4141-DED6-4536-BEE4-4215A8AE8C0C}" type="slidenum"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lipse.org/downloads/index.php" TargetMode="External"/><Relationship Id="rId3" Type="http://schemas.openxmlformats.org/officeDocument/2006/relationships/hyperlink" Target="http://www.eclipse.org/downloads/index.php" TargetMode="External"/><Relationship Id="rId4" Type="http://schemas.openxmlformats.org/officeDocument/2006/relationships/hyperlink" Target="http://www.eclipse.org/downloads/index.php" TargetMode="External"/><Relationship Id="rId5" Type="http://schemas.openxmlformats.org/officeDocument/2006/relationships/hyperlink" Target="http://forum.nokia.com/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33.jpeg"/><Relationship Id="rId11" Type="http://schemas.openxmlformats.org/officeDocument/2006/relationships/image" Target="../media/image33.jpeg"/><Relationship Id="rId1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tenna.sourceforge.net/" TargetMode="External"/><Relationship Id="rId3" Type="http://schemas.openxmlformats.org/officeDocument/2006/relationships/hyperlink" Target="http://eclipseme.org/index.html" TargetMode="External"/><Relationship Id="rId4" Type="http://schemas.openxmlformats.org/officeDocument/2006/relationships/hyperlink" Target="http://ant.apache.org/manual/" TargetMode="External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rum.nokia.com/" TargetMode="External"/><Relationship Id="rId3" Type="http://schemas.openxmlformats.org/officeDocument/2006/relationships/hyperlink" Target="http://www.motocoder.com/" TargetMode="External"/><Relationship Id="rId4" Type="http://schemas.openxmlformats.org/officeDocument/2006/relationships/hyperlink" Target="http://wireless.java.sun.com/" TargetMode="External"/><Relationship Id="rId5" Type="http://schemas.openxmlformats.org/officeDocument/2006/relationships/hyperlink" Target="http://www.microjava.com/" TargetMode="External"/><Relationship Id="rId6" Type="http://schemas.openxmlformats.org/officeDocument/2006/relationships/hyperlink" Target="http://www.midlet-review.com/" TargetMode="External"/><Relationship Id="rId7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ava 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1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Introdução à Java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niverso Java ME Hoj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Community Process (JC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Specification Request (JSR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java.sun.com/javame/technology/jcp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132000" y="2976480"/>
            <a:ext cx="6012000" cy="3881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1943280"/>
            <a:ext cx="3133800" cy="491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05320" y="6453360"/>
            <a:ext cx="935280" cy="366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00400" y="5635800"/>
            <a:ext cx="687600" cy="529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figur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especificação que define o ambiente de software para uma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família d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spositivos, geralmen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tipos e quantidade de memória disponí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s de processadores e velo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 de conexão de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lui um conjunto básico de classes J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 Device Configuration (C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igh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DA, TV set-top boxes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, Limited Device Configuration (CL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w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l phones, limited PDAs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DC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- Connected Limited, Device 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positivos limitados com poucos 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dor de, no mínimo 8 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partir de 160 K de memória heap reservada pra 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cesso a rede com pouca largura de ba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rget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wo Way P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onal Organiz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cop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nguagem Java e características da V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fra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ão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o ciclo de vida da aplicação (instalação, execução, dele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ação entre usuário e aplicação (comandos, etc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0 possui algumas 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Weak 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Fi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existe o método finalize() no CL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suporte a J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 API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efl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emon-threa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thread group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suporte a 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a conversão de byt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nico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vice-ver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tratamento de Er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enas duas classe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VirtualMachineErr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OutOfMemory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1 adiciona alguns recursos ao CLDC 1.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Weak Re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uporte a nomes de Thre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mínima de 162 para 192 k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Herdados do J2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l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specíficos do CLD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 profile ou “perfil” é uma coleção de API´s  em Java que complementa uma configuração a fim de prover habilidades para uma família de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principal objetivo é garantir a interoperabilidade entre uma família de dispos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(Mobile Information Device Profile): Principal e presente na maioria absoluta dos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2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3.0 (em bre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ID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67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bile Information Device Profile (MIDP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defi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rsistência (usando um modelo simples orientado a registr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tworking (estende o Generic Connection framework do CLD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iclo de vida da Aplic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ratamento de eventos (teclas, interrupção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quisitos de Hard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360" y="3860640"/>
          <a:ext cx="7719840" cy="2421000"/>
        </p:xfrm>
        <a:graphic>
          <a:graphicData uri="http://schemas.openxmlformats.org/drawingml/2006/table">
            <a:tbl>
              <a:tblPr/>
              <a:tblGrid>
                <a:gridCol w="3508560"/>
                <a:gridCol w="2133000"/>
                <a:gridCol w="207828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P 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P 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ória não volá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 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6 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ória volá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 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 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x54 - 2 c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lado e/ou touch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ectiv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 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exig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ns, WAV, MI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MIDP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Packag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id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idlet.MIDlet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rms.RecordSt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8876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bre quem vos fala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3068640"/>
            <a:ext cx="8964720" cy="30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ts val="18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Meantime Mobile Creations – Empresa incubada no C.E.S.A.R focado no desenvolvimento de jogos e aplicativos, baseados em dispositivos móveis, para usuários fin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Um d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pioneiros mundiai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(desde 2001) na tecnologia J2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Várias tecnologias wireless: J2ME, BREW, WAP, SMS e M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lmente, distribui jogos par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EUA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Europa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lguns países d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América Latina e Ás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arceria com diversos fabricantes, publishers e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roduzim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mais de 40 jogo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para celulares (alguns para a Motorola, Sony Ericsson, et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 como publisher no Brasil, com parceria com todas as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44364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187280" y="119700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adicionais do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lnSpc>
                <a:spcPct val="90000"/>
              </a:lnSpc>
              <a:spcBef>
                <a:spcPts val="1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.VolumeControl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io.PushRegis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16000" y="3789360"/>
            <a:ext cx="6049440" cy="1728720"/>
            <a:chOff x="1116000" y="3789360"/>
            <a:chExt cx="6049440" cy="1728720"/>
          </a:xfrm>
        </p:grpSpPr>
        <p:sp>
          <p:nvSpPr>
            <p:cNvPr id="184" name=""/>
            <p:cNvSpPr/>
            <p:nvPr/>
          </p:nvSpPr>
          <p:spPr>
            <a:xfrm>
              <a:off x="1116000" y="4078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2720" y="4078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0680" y="4294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2600" y="5086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97560" y="5086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1880" y="4294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3960" y="5086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7" idx="0"/>
              <a:endCxn id="186" idx="2"/>
            </p:cNvCxnSpPr>
            <p:nvPr/>
          </p:nvCxnSpPr>
          <p:spPr>
            <a:xfrm flipH="1" flipV="1" rot="5400000">
              <a:off x="1944000" y="4453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88" idx="0"/>
              <a:endCxn id="186" idx="2"/>
            </p:cNvCxnSpPr>
            <p:nvPr/>
          </p:nvCxnSpPr>
          <p:spPr>
            <a:xfrm flipV="1" rot="16200000">
              <a:off x="2582640" y="4570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6" idx="3"/>
              <a:endCxn id="189" idx="1"/>
            </p:cNvCxnSpPr>
            <p:nvPr/>
          </p:nvCxnSpPr>
          <p:spPr>
            <a:xfrm>
              <a:off x="2883960" y="4436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"/>
            <p:cNvSpPr/>
            <p:nvPr/>
          </p:nvSpPr>
          <p:spPr>
            <a:xfrm>
              <a:off x="2852280" y="4221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30760" y="3789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4480" y="5086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0" idx="3"/>
              <a:endCxn id="196" idx="1"/>
            </p:cNvCxnSpPr>
            <p:nvPr/>
          </p:nvCxnSpPr>
          <p:spPr>
            <a:xfrm>
              <a:off x="5122440" y="5228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5665320" y="3789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0040" y="4294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6" idx="0"/>
              <a:endCxn id="199" idx="2"/>
            </p:cNvCxnSpPr>
            <p:nvPr/>
          </p:nvCxnSpPr>
          <p:spPr>
            <a:xfrm flipH="1" flipV="1" rot="5400000">
              <a:off x="6148440" y="4830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a aplicação MIDP: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a classe Java que estende da classe MIDlet e implementa os seguintes méto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rt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use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troy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 modelo de ciclo de vida similar aos Applets (explicado adiant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enciado pelo “Java Application Manager” (JA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que deve vir acompanhando a implementação do MIDP e que controla a instalação, execução e remo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ê o ambiente de execu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 todos os erros ocorridos durante a instalação e execução dos aplicativos sem “derrubar” o disposi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iclo de vida dos MIDl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56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MIDlet Suites e Descritores (J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MIDlet Suite é um conjunto de MIDlets (e seus arquivos) empacotados em u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ma suite deve possuir pelo menos um MID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R contém: Arquivos .class , arquivos de recursos (imagem .png, sons .midi, etc) e um manif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IDLets numa mesma suite podem compartilhar classes, recursos contidos no JAR e memória persist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Dlets de suites diferentes não podem interagir (MIDP 1 e 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Java Application Descrip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queno arquivo texto que descreve uma Su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ado pela JAM para fazer verificações antes de baixar a Su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de ser usado para guardar propriedades da aplic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par JAR/JAD representa o executável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4653000"/>
            <a:ext cx="3816360" cy="10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1: AloMundo, , org.cesar.j2me.Alo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Name: Alô Mu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ndor: C.E.S.A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rsion: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Size: 7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URL: HelloExample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ssos para o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112240" cy="3781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56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1916280"/>
            <a:ext cx="26532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44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437000"/>
            <a:ext cx="26532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44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mbiente de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ditor texto + Sun Wireless Toolkit (WTK)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java.sun.com/products/sjwtoolkit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tBeans Mobility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netbeans.org/products/mobility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 + EclipseME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www.eclipse.org/downloads/index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.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ph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eclipseme.org/docs/installation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DK´s dos fabricantes (Nokia, Motorola, SonyEricsson, Siemens,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motorola.com/docstools/sdks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forum.nokia.com</a:t>
            </a: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sonyericsson.com/site/global/home/p_home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orland JBuilder ($400 individu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borland.com/us/products/jbuilder/index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ambient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 Europa (3.3) for Java Develop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me plugin 1.7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un Java Wireless Toolkit for CLDC (WTK) 2.5.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r o famigerado “Alô mundo!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ceitos de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ção e exibição de um High-Level Display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ceitos de adição e tratamento de Coman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: Esteja com a API ao alcanc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504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rcado de jogos wire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rodução a Java 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Wireless Game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riando nosso J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ugestão de Melhor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rementar o “Alô Mund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Graphics e suas fun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ow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tec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renderização de Im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ora que vocês já estão craque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amos ao nosso Jogo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tapas na concepção de um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jet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e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ulando um Jogo (tes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loy do Jogo (testes rea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ava 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68360" y="2924280"/>
            <a:ext cx="554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2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Prática de jogos em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Java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se de game design / concep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o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a categoria (Arcade, Puzzle, Ação, Esportes,RPG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enchmark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atari, mega drive, nintendo 8 bit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Multiplay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nglep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e um bom jogo wire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ápido e fácil de começar e de navegar (evitar uso de muit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ftkey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pressionamento de tecl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afiador mas não impos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ogos curtos ou 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ave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m muitas combinações de teclas e reg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qui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ntre 4 e 7 pesso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disciplinar: artitas gráficos, músicos, game designers, engenheiros de software, engenheiro de testes, etc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r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m torno de R$ 12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xigências do mercado (desafios extr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iclo de desenvolvimento curto: 3 a 6 me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Porte e localiz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imização e qual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stribui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ais de conteú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ravos das oper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úmero de dispositivos é barreira de ent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as te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he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úmero de c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tência da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usto final do jogo deve ficar entre R$ 5,00 e R$ 10,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usto alto no uso da rede (~1 centavo por kbyte –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$ 1,00 a mais no custo de um jogo de 100 kb, só pra fazer o downlo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Jogo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8642160" cy="27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mos tudo que foi falado e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hot´em up game simplificadíiiiiiiiiissimo!! </a:t>
            </a:r>
            <a:r>
              <a:rPr b="0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pt-BR" sz="2200" spc="-1" strike="noStrike">
                <a:solidFill>
                  <a:srgbClr val="ff9900"/>
                </a:solidFill>
                <a:latin typeface="Verdana"/>
              </a:rPr>
              <a:t>Star Hero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é um jogo singleplayer, no estilo shoot’em up . O jogo consiste em uma espaçonave controlada pelo jogador que trafega pelas galáxias, atirando em inimigos. Essas ações resultam em pontos para o jogador. O objetivo do jogo é acumular o máximo de pontos possívei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575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Já Temos as Características...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jetando as classes. Precisamos 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MIDlet (óbvio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trata os comandos alto-nível e possui o looping básico do jogo (lê entrada, atualiza estado e pinta a te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representa um elemento do jogo (GameObje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n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os inimi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s ba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tela principal com a lógica principal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com todas as constantes (facilitar o aces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jeto de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641680" y="3139920"/>
            <a:ext cx="1366560" cy="1055880"/>
            <a:chOff x="2641680" y="3139920"/>
            <a:chExt cx="1366560" cy="1055880"/>
          </a:xfrm>
        </p:grpSpPr>
        <p:grpSp>
          <p:nvGrpSpPr>
            <p:cNvPr id="249" name=""/>
            <p:cNvGrpSpPr/>
            <p:nvPr/>
          </p:nvGrpSpPr>
          <p:grpSpPr>
            <a:xfrm>
              <a:off x="2641680" y="3139920"/>
              <a:ext cx="1366560" cy="1055880"/>
              <a:chOff x="2641680" y="3139920"/>
              <a:chExt cx="1366560" cy="1055880"/>
            </a:xfrm>
          </p:grpSpPr>
          <p:sp>
            <p:nvSpPr>
              <p:cNvPr id="250" name=""/>
              <p:cNvSpPr/>
              <p:nvPr/>
            </p:nvSpPr>
            <p:spPr>
              <a:xfrm>
                <a:off x="2641680" y="313992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start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pause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destroy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41680" y="340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807640" y="313992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Mid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704960" y="5213520"/>
            <a:ext cx="1366560" cy="1055520"/>
            <a:chOff x="1704960" y="5213520"/>
            <a:chExt cx="1366560" cy="1055520"/>
          </a:xfrm>
        </p:grpSpPr>
        <p:grpSp>
          <p:nvGrpSpPr>
            <p:cNvPr id="254" name=""/>
            <p:cNvGrpSpPr/>
            <p:nvPr/>
          </p:nvGrpSpPr>
          <p:grpSpPr>
            <a:xfrm>
              <a:off x="1704960" y="5213520"/>
              <a:ext cx="1366560" cy="1055520"/>
              <a:chOff x="1704960" y="5213520"/>
              <a:chExt cx="1366560" cy="1055520"/>
            </a:xfrm>
          </p:grpSpPr>
          <p:sp>
            <p:nvSpPr>
              <p:cNvPr id="255" name=""/>
              <p:cNvSpPr/>
              <p:nvPr/>
            </p:nvSpPr>
            <p:spPr>
              <a:xfrm>
                <a:off x="1704960" y="52135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04960" y="54766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777320" y="5213520"/>
              <a:ext cx="12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300720" y="1700280"/>
            <a:ext cx="1366560" cy="1055520"/>
            <a:chOff x="6300720" y="1700280"/>
            <a:chExt cx="1366560" cy="1055520"/>
          </a:xfrm>
        </p:grpSpPr>
        <p:grpSp>
          <p:nvGrpSpPr>
            <p:cNvPr id="259" name=""/>
            <p:cNvGrpSpPr/>
            <p:nvPr/>
          </p:nvGrpSpPr>
          <p:grpSpPr>
            <a:xfrm>
              <a:off x="6300720" y="1700280"/>
              <a:ext cx="1366560" cy="1055520"/>
              <a:chOff x="6300720" y="1700280"/>
              <a:chExt cx="1366560" cy="1055520"/>
            </a:xfrm>
          </p:grpSpPr>
          <p:sp>
            <p:nvSpPr>
              <p:cNvPr id="260" name=""/>
              <p:cNvSpPr/>
              <p:nvPr/>
            </p:nvSpPr>
            <p:spPr>
              <a:xfrm>
                <a:off x="6300720" y="170028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00720" y="196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447240" y="170028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856120" y="3284640"/>
            <a:ext cx="1366560" cy="1055520"/>
            <a:chOff x="5856120" y="3284640"/>
            <a:chExt cx="1366560" cy="1055520"/>
          </a:xfrm>
        </p:grpSpPr>
        <p:grpSp>
          <p:nvGrpSpPr>
            <p:cNvPr id="264" name=""/>
            <p:cNvGrpSpPr/>
            <p:nvPr/>
          </p:nvGrpSpPr>
          <p:grpSpPr>
            <a:xfrm>
              <a:off x="5856120" y="3284640"/>
              <a:ext cx="1366560" cy="1055520"/>
              <a:chOff x="5856120" y="3284640"/>
              <a:chExt cx="1366560" cy="1055520"/>
            </a:xfrm>
          </p:grpSpPr>
          <p:sp>
            <p:nvSpPr>
              <p:cNvPr id="265" name=""/>
              <p:cNvSpPr/>
              <p:nvPr/>
            </p:nvSpPr>
            <p:spPr>
              <a:xfrm>
                <a:off x="5856120" y="3284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56120" y="3547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296040" y="328464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296120" y="3933720"/>
            <a:ext cx="1366560" cy="1055520"/>
            <a:chOff x="7296120" y="3933720"/>
            <a:chExt cx="1366560" cy="1055520"/>
          </a:xfrm>
        </p:grpSpPr>
        <p:grpSp>
          <p:nvGrpSpPr>
            <p:cNvPr id="269" name=""/>
            <p:cNvGrpSpPr/>
            <p:nvPr/>
          </p:nvGrpSpPr>
          <p:grpSpPr>
            <a:xfrm>
              <a:off x="7296120" y="3933720"/>
              <a:ext cx="1366560" cy="1055520"/>
              <a:chOff x="7296120" y="3933720"/>
              <a:chExt cx="1366560" cy="1055520"/>
            </a:xfrm>
          </p:grpSpPr>
          <p:sp>
            <p:nvSpPr>
              <p:cNvPr id="270" name=""/>
              <p:cNvSpPr/>
              <p:nvPr/>
            </p:nvSpPr>
            <p:spPr>
              <a:xfrm>
                <a:off x="7296120" y="39337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96120" y="4196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738200" y="39337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16480" y="2852640"/>
            <a:ext cx="1366560" cy="1055520"/>
            <a:chOff x="4416480" y="2852640"/>
            <a:chExt cx="1366560" cy="1055520"/>
          </a:xfrm>
        </p:grpSpPr>
        <p:grpSp>
          <p:nvGrpSpPr>
            <p:cNvPr id="274" name=""/>
            <p:cNvGrpSpPr/>
            <p:nvPr/>
          </p:nvGrpSpPr>
          <p:grpSpPr>
            <a:xfrm>
              <a:off x="4416480" y="2852640"/>
              <a:ext cx="1366560" cy="1055520"/>
              <a:chOff x="4416480" y="2852640"/>
              <a:chExt cx="1366560" cy="1055520"/>
            </a:xfrm>
          </p:grpSpPr>
          <p:sp>
            <p:nvSpPr>
              <p:cNvPr id="275" name=""/>
              <p:cNvSpPr/>
              <p:nvPr/>
            </p:nvSpPr>
            <p:spPr>
              <a:xfrm>
                <a:off x="4416480" y="2852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16480" y="3115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4796640" y="285264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e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471480" y="5227560"/>
            <a:ext cx="1411920" cy="1055520"/>
            <a:chOff x="3471480" y="5227560"/>
            <a:chExt cx="1411920" cy="1055520"/>
          </a:xfrm>
        </p:grpSpPr>
        <p:grpSp>
          <p:nvGrpSpPr>
            <p:cNvPr id="279" name=""/>
            <p:cNvGrpSpPr/>
            <p:nvPr/>
          </p:nvGrpSpPr>
          <p:grpSpPr>
            <a:xfrm>
              <a:off x="3471480" y="5227560"/>
              <a:ext cx="1366560" cy="1055520"/>
              <a:chOff x="3471480" y="5227560"/>
              <a:chExt cx="1366560" cy="1055520"/>
            </a:xfrm>
          </p:grpSpPr>
          <p:sp>
            <p:nvSpPr>
              <p:cNvPr id="280" name=""/>
              <p:cNvSpPr/>
              <p:nvPr/>
            </p:nvSpPr>
            <p:spPr>
              <a:xfrm>
                <a:off x="3471480" y="522756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71480" y="549072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480480" y="52275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GameSc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308720" y="5300640"/>
            <a:ext cx="1366560" cy="1055880"/>
            <a:chOff x="7308720" y="5300640"/>
            <a:chExt cx="1366560" cy="1055880"/>
          </a:xfrm>
        </p:grpSpPr>
        <p:grpSp>
          <p:nvGrpSpPr>
            <p:cNvPr id="284" name=""/>
            <p:cNvGrpSpPr/>
            <p:nvPr/>
          </p:nvGrpSpPr>
          <p:grpSpPr>
            <a:xfrm>
              <a:off x="7308720" y="5300640"/>
              <a:ext cx="1366560" cy="1055880"/>
              <a:chOff x="7308720" y="5300640"/>
              <a:chExt cx="1366560" cy="1055880"/>
            </a:xfrm>
          </p:grpSpPr>
          <p:sp>
            <p:nvSpPr>
              <p:cNvPr id="285" name=""/>
              <p:cNvSpPr/>
              <p:nvPr/>
            </p:nvSpPr>
            <p:spPr>
              <a:xfrm>
                <a:off x="7308720" y="530064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08720" y="556416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542000" y="5300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nst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V="1">
            <a:off x="5208480" y="2420640"/>
            <a:ext cx="10191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361200" y="2781360"/>
            <a:ext cx="5158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7451640" y="2781000"/>
            <a:ext cx="5652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80960" y="42195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9320" y="421956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73320" y="573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27640" y="393336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572000" y="4076640"/>
            <a:ext cx="12841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859280" y="4797360"/>
            <a:ext cx="2403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78040" y="5492880"/>
            <a:ext cx="1323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u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Pau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GameOve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mandActio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21080" y="5516640"/>
            <a:ext cx="147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dGameObj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int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yPres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02520" y="1911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lySpe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s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8280" y="2997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57920" y="342900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97920" y="4005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771640" y="1916280"/>
            <a:ext cx="1209960" cy="720720"/>
            <a:chOff x="2771640" y="1916280"/>
            <a:chExt cx="1209960" cy="720720"/>
          </a:xfrm>
        </p:grpSpPr>
        <p:sp>
          <p:nvSpPr>
            <p:cNvPr id="304" name=""/>
            <p:cNvSpPr/>
            <p:nvPr/>
          </p:nvSpPr>
          <p:spPr>
            <a:xfrm>
              <a:off x="2771640" y="1916280"/>
              <a:ext cx="12099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71640" y="2095920"/>
              <a:ext cx="120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070800" y="184464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34800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19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63200" y="27813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82480" y="23493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63560" y="292428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3500280"/>
            <a:ext cx="360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4581360"/>
            <a:ext cx="360360" cy="432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5160" y="32130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Liste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0440" y="427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610920" y="501336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5300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55880" y="4292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331640" y="4005000"/>
            <a:ext cx="86508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49400" y="4005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25760" y="4869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372360" y="620640"/>
            <a:ext cx="1209600" cy="720720"/>
            <a:chOff x="6372360" y="620640"/>
            <a:chExt cx="1209600" cy="720720"/>
          </a:xfrm>
        </p:grpSpPr>
        <p:sp>
          <p:nvSpPr>
            <p:cNvPr id="323" name=""/>
            <p:cNvSpPr/>
            <p:nvPr/>
          </p:nvSpPr>
          <p:spPr>
            <a:xfrm>
              <a:off x="6372360" y="620640"/>
              <a:ext cx="12096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360" y="80028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678000" y="58248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7020000" y="1341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3560" y="141300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72360" y="620640"/>
            <a:ext cx="1224000" cy="720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tes de codificar, vamos ver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Recursos de jogos do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zer nosso GameObject herdar do Sprite de MIDP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684360" y="1747800"/>
            <a:ext cx="7920000" cy="719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clo de desenvolvimento deve ser rápido (&lt;6 mes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torno do investimento l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Cadeia de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90560" y="2157480"/>
            <a:ext cx="1676520" cy="1218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4240" y="2843280"/>
            <a:ext cx="182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9160" y="2241720"/>
            <a:ext cx="12985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46240" y="2766960"/>
            <a:ext cx="1295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95360" y="2157480"/>
            <a:ext cx="1528920" cy="1218960"/>
          </a:xfrm>
          <a:custGeom>
            <a:avLst/>
            <a:gdLst>
              <a:gd name="textAreaLeft" fmla="*/ 0 w 1528920"/>
              <a:gd name="textAreaRight" fmla="*/ 1529280 w 1528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2800" y="215748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11520" y="2629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0840" y="2157480"/>
            <a:ext cx="1295280" cy="121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4" y="0"/>
                </a:lnTo>
                <a:lnTo>
                  <a:pt x="21600" y="10800"/>
                </a:lnTo>
                <a:lnTo>
                  <a:pt x="18874" y="21600"/>
                </a:lnTo>
                <a:lnTo>
                  <a:pt x="0" y="21600"/>
                </a:lnTo>
                <a:lnTo>
                  <a:pt x="2726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3840" y="2157480"/>
            <a:ext cx="1371600" cy="12189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0" y="0"/>
                </a:lnTo>
                <a:lnTo>
                  <a:pt x="21600" y="10800"/>
                </a:lnTo>
                <a:lnTo>
                  <a:pt x="19750" y="21600"/>
                </a:lnTo>
                <a:lnTo>
                  <a:pt x="0" y="21600"/>
                </a:lnTo>
                <a:lnTo>
                  <a:pt x="185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7880" y="26146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8440" y="2157480"/>
            <a:ext cx="1218960" cy="1218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9720" y="2629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-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60840" y="2157480"/>
            <a:ext cx="2514600" cy="1218960"/>
            <a:chOff x="3660840" y="2157480"/>
            <a:chExt cx="2514600" cy="1218960"/>
          </a:xfrm>
        </p:grpSpPr>
        <p:sp>
          <p:nvSpPr>
            <p:cNvPr id="113" name=""/>
            <p:cNvSpPr/>
            <p:nvPr/>
          </p:nvSpPr>
          <p:spPr>
            <a:xfrm>
              <a:off x="3660840" y="2157480"/>
              <a:ext cx="1295280" cy="12189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74" y="0"/>
                  </a:lnTo>
                  <a:lnTo>
                    <a:pt x="21600" y="10800"/>
                  </a:lnTo>
                  <a:lnTo>
                    <a:pt x="18874" y="21600"/>
                  </a:lnTo>
                  <a:lnTo>
                    <a:pt x="0" y="21600"/>
                  </a:lnTo>
                  <a:lnTo>
                    <a:pt x="272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3840" y="2157480"/>
              <a:ext cx="1371600" cy="121896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50" y="0"/>
                  </a:lnTo>
                  <a:lnTo>
                    <a:pt x="21600" y="10800"/>
                  </a:lnTo>
                  <a:lnTo>
                    <a:pt x="19750" y="21600"/>
                  </a:lnTo>
                  <a:lnTo>
                    <a:pt x="0" y="21600"/>
                  </a:lnTo>
                  <a:lnTo>
                    <a:pt x="185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7880" y="26146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s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17640" y="276696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1700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Fluxo de produção &gt;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42756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&lt;&lt;&lt; Fluxo de receita (R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 Jogos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>
              <a:spcBef>
                <a:spcPts val="176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ide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7724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58920" y="2781360"/>
            <a:ext cx="6049800" cy="1728720"/>
            <a:chOff x="1258920" y="2781360"/>
            <a:chExt cx="6049800" cy="1728720"/>
          </a:xfrm>
        </p:grpSpPr>
        <p:sp>
          <p:nvSpPr>
            <p:cNvPr id="335" name=""/>
            <p:cNvSpPr/>
            <p:nvPr/>
          </p:nvSpPr>
          <p:spPr>
            <a:xfrm>
              <a:off x="1258920" y="3070080"/>
              <a:ext cx="424980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6000" y="3070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3600" y="3286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06240" y="407844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41200" y="407844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5160" y="3286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7240" y="407844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"/>
            <p:cNvCxnSpPr>
              <a:stCxn id="338" idx="0"/>
              <a:endCxn id="337" idx="2"/>
            </p:cNvCxnSpPr>
            <p:nvPr/>
          </p:nvCxnSpPr>
          <p:spPr>
            <a:xfrm flipH="1" flipV="1" rot="5400000">
              <a:off x="2086920" y="3445920"/>
              <a:ext cx="509040" cy="75636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"/>
            <p:cNvCxnSpPr>
              <a:stCxn id="339" idx="0"/>
              <a:endCxn id="337" idx="2"/>
            </p:cNvCxnSpPr>
            <p:nvPr/>
          </p:nvCxnSpPr>
          <p:spPr>
            <a:xfrm flipV="1" rot="16200000">
              <a:off x="2725920" y="3562560"/>
              <a:ext cx="509040" cy="52308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"/>
            <p:cNvCxnSpPr>
              <a:stCxn id="337" idx="3"/>
              <a:endCxn id="340" idx="1"/>
            </p:cNvCxnSpPr>
            <p:nvPr/>
          </p:nvCxnSpPr>
          <p:spPr>
            <a:xfrm>
              <a:off x="3027240" y="3428640"/>
              <a:ext cx="9691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5" name=""/>
            <p:cNvSpPr/>
            <p:nvPr/>
          </p:nvSpPr>
          <p:spPr>
            <a:xfrm>
              <a:off x="2995920" y="3213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73680" y="2781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8120" y="407844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8" name=""/>
            <p:cNvCxnSpPr>
              <a:stCxn id="341" idx="3"/>
              <a:endCxn id="347" idx="1"/>
            </p:cNvCxnSpPr>
            <p:nvPr/>
          </p:nvCxnSpPr>
          <p:spPr>
            <a:xfrm>
              <a:off x="5265360" y="4220640"/>
              <a:ext cx="9039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9" name=""/>
            <p:cNvSpPr/>
            <p:nvPr/>
          </p:nvSpPr>
          <p:spPr>
            <a:xfrm>
              <a:off x="5808600" y="2781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3680" y="3286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"/>
            <p:cNvCxnSpPr>
              <a:stCxn id="347" idx="0"/>
              <a:endCxn id="350" idx="2"/>
            </p:cNvCxnSpPr>
            <p:nvPr/>
          </p:nvCxnSpPr>
          <p:spPr>
            <a:xfrm flipH="1" flipV="1" rot="5400000">
              <a:off x="6291360" y="3822840"/>
              <a:ext cx="509040" cy="252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2" name=""/>
            <p:cNvSpPr/>
            <p:nvPr/>
          </p:nvSpPr>
          <p:spPr>
            <a:xfrm>
              <a:off x="2916360" y="4076640"/>
              <a:ext cx="647640" cy="2890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16320" y="3284640"/>
              <a:ext cx="618840" cy="2887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702160" y="4724280"/>
            <a:ext cx="1072440" cy="276480"/>
          </a:xfrm>
          <a:prstGeom prst="rect">
            <a:avLst/>
          </a:prstGeom>
          <a:solidFill>
            <a:srgbClr val="ffc0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me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0"/>
            <a:endCxn id="352" idx="2"/>
          </p:cNvCxnSpPr>
          <p:nvPr/>
        </p:nvCxnSpPr>
        <p:spPr>
          <a:xfrm flipH="1" flipV="1" rot="5400000">
            <a:off x="3069360" y="4553280"/>
            <a:ext cx="340200" cy="2160"/>
          </a:xfrm>
          <a:prstGeom prst="bentConnector3">
            <a:avLst>
              <a:gd name="adj1" fmla="val 527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780000" y="5589720"/>
            <a:ext cx="914400" cy="3427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3743640" cy="2266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561960" y="1473120"/>
            <a:ext cx="4905360" cy="291456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3635280" y="1341360"/>
            <a:ext cx="4997520" cy="4638600"/>
            <a:chOff x="3635280" y="1341360"/>
            <a:chExt cx="4997520" cy="4638600"/>
          </a:xfrm>
        </p:grpSpPr>
        <p:pic>
          <p:nvPicPr>
            <p:cNvPr id="362" name="" descr=""/>
            <p:cNvPicPr/>
            <p:nvPr/>
          </p:nvPicPr>
          <p:blipFill>
            <a:blip r:embed="rId5"/>
            <a:stretch/>
          </p:blipFill>
          <p:spPr>
            <a:xfrm>
              <a:off x="5651640" y="1341360"/>
              <a:ext cx="298116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6"/>
            <a:stretch/>
          </p:blipFill>
          <p:spPr>
            <a:xfrm>
              <a:off x="3635280" y="3068640"/>
              <a:ext cx="115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5580000" y="1341360"/>
            <a:ext cx="3095640" cy="57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4800" y="4365720"/>
            <a:ext cx="36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prite s = new Sprite(image, frameWidth, frameHeigh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508464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move(10,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71600" y="957240"/>
            <a:ext cx="339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setFrameSequence(new int[]{0, 1, 2, … , 1, 1, 1, 1}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41760" y="5084640"/>
            <a:ext cx="129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onst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30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andos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clarar frame sequences (</a:t>
            </a: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 aparelho (largura e altura da tel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usadas pel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ara carregar as imagens (loadImages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1814760" cy="3078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3348000" y="3068640"/>
            <a:ext cx="12254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a tela principal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o controlador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s objetos acima no startApp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 looping do jogo no control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stra a tela do jog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Contro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hread que contêm o looping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todos os comandos “alto nível”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o estado de pause/resume do jogo (lembrar que não tem relação com o pauseApp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GameOb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erda de javax.microedition.lcdui.game.Spr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sição x e y na te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tura e larg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rame sequence para controlar as anima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presentação gráfica (método paint(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tecção de colis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en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Velocidades horizontal e vert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étodo abstrato update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ponsabilidades das subclasses: Ship, Enemy e F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icializar frame sequences nos construtores e nas mudanças de estado das cla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azendo isso, não é necessário especializar o método paint(), ou seja, a lógica de renderização é reus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Game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 de ba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dicação se a nave está explodin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r frame sequences nos construtores e nas mudanças de estado das clas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para mover a na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ra disparar ba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F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Game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mento ao sair d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tualiza a posição, dada a velocida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Ene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Game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um comportamento ingênuo (randômic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dicação se a nave está explodin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s frame sequences nos construtores e nas mudanças de estado das classes (</a:t>
            </a:r>
            <a:r>
              <a:rPr b="0" lang="pt-BR" sz="22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GameScre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e possui todos os objetos do jogo (Nave, Inimigos e Balas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entraliza a atualização dos estados d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balas com inimig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inimigos com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todos 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e pinta informações do jogo (pontuação, level e vid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pressionamento das teclas (esquerda,direita e fire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Visão g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incipais Players: EA Mobile (Jamdat), Gameloft (Ubi Software), Glu Mobile, Digital Chocolate, Hands On e I-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presas com atuação mund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turamentos crescentes e superiores a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60 milh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 dólares por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delo de negócios padrão: revenue share em cima das vendas das operadoras para os usuários fina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rcando em processo de consolid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26366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UILD &amp; RUN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Deplo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ver the Air” (OT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bo ser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fra vermel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5079960" y="2068560"/>
            <a:ext cx="1298520" cy="151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345280" y="2205000"/>
            <a:ext cx="698400" cy="11527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2556000" y="32130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301932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5180040" y="5505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726768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7701120" y="3489480"/>
            <a:ext cx="607680" cy="6746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7556400" y="2048040"/>
            <a:ext cx="608040" cy="674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 flipV="1">
            <a:off x="3713040" y="2282760"/>
            <a:ext cx="720720" cy="225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400200" y="3049560"/>
            <a:ext cx="1106280" cy="393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57964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05400" y="3805200"/>
            <a:ext cx="86544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89880" y="3105000"/>
            <a:ext cx="768240" cy="338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905280" y="3836880"/>
            <a:ext cx="960480" cy="140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97640" y="1065240"/>
            <a:ext cx="1243080" cy="635040"/>
          </a:xfrm>
          <a:prstGeom prst="wedgeRoundRectCallout">
            <a:avLst>
              <a:gd name="adj1" fmla="val -77967"/>
              <a:gd name="adj2" fmla="val 88750"/>
              <a:gd name="adj3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IDLe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29960" y="19987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57880" y="3726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stal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9880" y="62467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2436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10560" y="3654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Atual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5000" y="27176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mo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98640" y="58150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onfi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11280" y="56610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hec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3648960" y="3008520"/>
            <a:ext cx="507960" cy="474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6265800" y="4107960"/>
            <a:ext cx="507960" cy="438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916000" y="2637000"/>
            <a:ext cx="191880" cy="5634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76680" y="3902040"/>
            <a:ext cx="288720" cy="1125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00680" y="5724360"/>
            <a:ext cx="115380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089760" y="5724360"/>
            <a:ext cx="115236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740720" y="4220640"/>
            <a:ext cx="288720" cy="9558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8058240" y="3129120"/>
            <a:ext cx="47520" cy="67464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0"/>
          <a:stretch/>
        </p:blipFill>
        <p:spPr>
          <a:xfrm>
            <a:off x="3984480" y="4160880"/>
            <a:ext cx="457200" cy="506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1"/>
          <a:stretch/>
        </p:blipFill>
        <p:spPr>
          <a:xfrm>
            <a:off x="6649920" y="3008160"/>
            <a:ext cx="457200" cy="5065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072320" y="4653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18600" y="2657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plash scree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men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lhorar tela de game 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bela com recordes (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Background com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ol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hefe de f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itens (campo de força, diferentes tiros, et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ipos diferentes de inimig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.A dos inimig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pload de pontu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 no uso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Outros recursos de jogos do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e, se necessá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bfuscadores para diminuir tamanh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guard, Retroguard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utela no uso de herança e excesso de clas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vite usar classes anônimas ou aninh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cessos a variáveis estáticas e métodos estáticos é mais ráp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s no lugar de Vec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oops de trás pra frente (comparação com 0,null e false é mais rápid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use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uidado no uso d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açã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bine várias imagens em uma s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úmero de cores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o do Clip pra pin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ocupa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 (64k ~ 15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(200k ~ 1 M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mento (5 fps ~ 12 f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771640" y="2205000"/>
          <a:ext cx="84456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205000"/>
                    <a:ext cx="8445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995640" y="2276640"/>
          <a:ext cx="273204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276640"/>
                    <a:ext cx="273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5004720" y="270828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34560" y="321300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m pouco mais sobre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ortância do por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a parte do desenvolvimento (~ 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sar no porte desde o projeto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mplos de vari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manho de t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I de 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ão API (MIDP 1.0 ou 2.0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gs do celu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ários idio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ionalidades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ga-se a gerar +2000 versões de um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oas práticas para o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ter código ún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é-processamento //#ifdef &lt;symbo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antenna.sourceforge.ne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http://eclipseme.org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squisa acadê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stemas de bu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ável por gerar as várias versõ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é-processa código antes de compi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 resources: seleciona arquivos (imagens, sons, etc) por ver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acota tudo gerando executáveis (jar e j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ant.apache.org/manual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s fin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ites interessa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www.forum.noki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www.motocoder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wireless.java.sun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www.microjav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6"/>
              </a:rPr>
              <a:t>http://www.midlet-review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stas de discus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kvm-inte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-brasi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476360" y="3860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úvidas, questionamentos ou afliçõ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tarcisio.camara@meantime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MS/M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na troca de mensagens (forca, quiz, penalty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AP/xHTML/i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em páginas estáticas (velha, pedra papel tesou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rew (Binary Runtime Environment for Window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biente de execução para chipset Qualco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++ e API definida pela Qualcomm (animações, som, recursos de rede, etc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incipal mercado: E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 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 otimizado para dispositivos com limita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dotado por todos os maiores players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I’s especificadas pela comunidade JC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Padrão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381120" cy="547668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611280" y="1341360"/>
            <a:ext cx="3132720" cy="750960"/>
            <a:chOff x="611280" y="1341360"/>
            <a:chExt cx="3132720" cy="750960"/>
          </a:xfrm>
        </p:grpSpPr>
        <p:pic>
          <p:nvPicPr>
            <p:cNvPr id="452" name="" descr="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2581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1778760" y="1846080"/>
              <a:ext cx="19652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76, 2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466240" y="620640"/>
            <a:ext cx="2109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etTransform(Sprite.TRANS_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11280" y="2276640"/>
            <a:ext cx="3410280" cy="1895400"/>
            <a:chOff x="611280" y="2276640"/>
            <a:chExt cx="3410280" cy="1895400"/>
          </a:xfrm>
        </p:grpSpPr>
        <p:pic>
          <p:nvPicPr>
            <p:cNvPr id="456" name="" descr=""/>
            <p:cNvPicPr/>
            <p:nvPr/>
          </p:nvPicPr>
          <p:blipFill>
            <a:blip r:embed="rId4"/>
            <a:stretch/>
          </p:blipFill>
          <p:spPr>
            <a:xfrm>
              <a:off x="611280" y="2276640"/>
              <a:ext cx="28954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127960" y="2781360"/>
              <a:ext cx="1893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25,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66120" cy="460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lefones Java (&gt;650 dispositiv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4365720"/>
            <a:ext cx="6264360" cy="358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4560" y="138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382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developers.sun.com/techtopics/mobility/device/pub/device/list.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349360"/>
            <a:ext cx="136836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82160" y="4653000"/>
            <a:ext cx="755640" cy="1728720"/>
          </a:xfrm>
          <a:prstGeom prst="downArrow">
            <a:avLst>
              <a:gd name="adj1" fmla="val 66806"/>
              <a:gd name="adj2" fmla="val 3092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963920" y="5234040"/>
            <a:ext cx="14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 disposi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 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ção a plataform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36600" y="2414520"/>
            <a:ext cx="1440000" cy="385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95760" y="4056120"/>
            <a:ext cx="1440000" cy="221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916360" y="3141720"/>
            <a:ext cx="1439640" cy="3130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276960" y="4683240"/>
            <a:ext cx="1440000" cy="1589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97080" y="2060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280" y="27608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3320" y="391320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MAR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75280" y="1312920"/>
            <a:ext cx="1130400" cy="1298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753080" y="1305000"/>
            <a:ext cx="1155600" cy="128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4240" y="1320840"/>
            <a:ext cx="1152360" cy="128124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5200" y="1316160"/>
            <a:ext cx="1152720" cy="128088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6240" y="2604960"/>
            <a:ext cx="14400" cy="2433600"/>
          </a:xfrm>
          <a:prstGeom prst="line">
            <a:avLst/>
          </a:prstGeom>
          <a:ln cap="rnd" w="76320">
            <a:solidFill>
              <a:srgbClr val="ffcc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3645000"/>
            <a:ext cx="167940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549600" y="1376280"/>
            <a:ext cx="112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quitetura Java 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5407200"/>
            <a:ext cx="475308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603680"/>
            <a:ext cx="475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3800520"/>
            <a:ext cx="2376720" cy="792000"/>
          </a:xfrm>
          <a:prstGeom prst="rect">
            <a:avLst/>
          </a:prstGeom>
          <a:solidFill>
            <a:srgbClr val="ffc0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2997360"/>
            <a:ext cx="475308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2320" y="3805200"/>
            <a:ext cx="2376360" cy="38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4205160"/>
            <a:ext cx="2376360" cy="38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2205000"/>
            <a:ext cx="475308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5T10:21:18Z</dcterms:created>
  <dc:creator>Windows_NT</dc:creator>
  <dc:description/>
  <dc:language>en-US</dc:language>
  <cp:lastModifiedBy>Tarcisio Pinto Camara</cp:lastModifiedBy>
  <cp:lastPrinted>1998-09-17T18:01:36Z</cp:lastPrinted>
  <dcterms:modified xsi:type="dcterms:W3CDTF">2007-11-06T15:17:10Z</dcterms:modified>
  <cp:revision>630</cp:revision>
  <dc:subject/>
  <dc:title>Slide sem título </dc:title>
</cp:coreProperties>
</file>