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3.wmf" ContentType="image/x-wmf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917-9943-4A9A-93F1-30F012D003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r exemplos para cada estilo de personali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xtrovertido: sociável/retraído, afetivo/reser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razível: confiante/desconfiado, prestativo/não-pres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onsciente: organizado/desogarnizado, cuidadoso/desleix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eurótico: preocupado/calmo, seguro/in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berto à experiência:independente/dependente, criativo/não-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ED4-37B8-4E0F-B435-4F8C70DD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A85-0D14-4E1B-8274-226E7255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2CB-00BC-43FA-92F3-8B2C6316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020-9EDC-4C33-8B92-23430B4C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19A5-C270-4AA1-B8A5-B762B54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946F-F1C9-4D2B-B600-02623A0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381-16DF-414F-BEFF-DD3B7F5D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6961-6527-4412-8995-1835EE8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F757-8FB9-4C81-BDA5-8C2072D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1920" y="-7632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DA4-07B1-4D2A-A91A-18498EE3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3852-8FC1-434A-8A9E-3F9D63E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834-B00A-4BA3-8B13-6560694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0C82-C2B2-48B9-9661-537F3BD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2310-0F3F-4B67-A366-D452587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042-62CD-4C1B-A1BA-7506B04D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8AE3-6139-4D84-8A47-7558828A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84912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CCB-227F-4CC6-AFF7-F27FB29F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4C8-0B15-424A-A13D-0B81348A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F06-05EB-4253-A271-CDF567B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EE0-3610-4319-BDB3-730C9324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-7632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974-B169-48D0-9D5F-FCB5C34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DF5-3808-4B3B-A48C-F4D513B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84912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A9C-0DAF-4288-A109-692D93C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693-4364-4749-BAFC-C0CAD3C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C76-6B21-4CF6-92B3-C7EF4C098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839080" cy="412920"/>
          </a:xfrm>
          <a:prstGeom prst="rect">
            <a:avLst/>
          </a:prstGeom>
          <a:ln w="0">
            <a:noFill/>
          </a:ln>
        </p:spPr>
      </p:pic>
      <p:pic>
        <p:nvPicPr>
          <p:cNvPr id="6" name="paint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B770-47A5-4C69-BC55-B816B006A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304920" y="6597720"/>
            <a:ext cx="8839080" cy="412560"/>
          </a:xfrm>
          <a:prstGeom prst="rect">
            <a:avLst/>
          </a:prstGeom>
          <a:ln w="0">
            <a:noFill/>
          </a:ln>
        </p:spPr>
      </p:pic>
      <p:pic>
        <p:nvPicPr>
          <p:cNvPr id="48" name="paint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edia.mit.edu/characters/" TargetMode="External"/><Relationship Id="rId2" Type="http://schemas.openxmlformats.org/officeDocument/2006/relationships/hyperlink" Target="http://www.media.mit.edu/characters/" TargetMode="External"/><Relationship Id="rId3" Type="http://schemas.openxmlformats.org/officeDocument/2006/relationships/hyperlink" Target="http://www.media.mit.edu/characters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plashpageimage" descr=""/>
          <p:cNvPicPr/>
          <p:nvPr/>
        </p:nvPicPr>
        <p:blipFill>
          <a:blip r:embed="rId1"/>
          <a:stretch/>
        </p:blipFill>
        <p:spPr>
          <a:xfrm>
            <a:off x="76320" y="3728880"/>
            <a:ext cx="3962160" cy="2976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agem de Atores Sintético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160" y="25909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e Implementação de Jog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A em Jog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rço 200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s_18" descr=""/>
          <p:cNvPicPr/>
          <p:nvPr/>
        </p:nvPicPr>
        <p:blipFill>
          <a:blip r:embed="rId2"/>
          <a:stretch/>
        </p:blipFill>
        <p:spPr>
          <a:xfrm>
            <a:off x="2666880" y="5105520"/>
            <a:ext cx="2057400" cy="1550880"/>
          </a:xfrm>
          <a:prstGeom prst="rect">
            <a:avLst/>
          </a:prstGeom>
          <a:ln w="0">
            <a:noFill/>
          </a:ln>
        </p:spPr>
      </p:pic>
      <p:pic>
        <p:nvPicPr>
          <p:cNvPr id="97" name="ogre" descr=""/>
          <p:cNvPicPr/>
          <p:nvPr/>
        </p:nvPicPr>
        <p:blipFill>
          <a:blip r:embed="rId3"/>
          <a:stretch/>
        </p:blipFill>
        <p:spPr>
          <a:xfrm>
            <a:off x="474840" y="1384200"/>
            <a:ext cx="205740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176-8558-4DD7-BA07-13BE1E418363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ração de emoç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23640"/>
            <a:ext cx="86868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emoções são geradas a partir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dos percebidos e memó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, padrões e atitu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 do cor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ções sociais (c/ outros agentes ou c/ usuár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b-02(1)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326960" cy="1562040"/>
          </a:xfrm>
          <a:prstGeom prst="rect">
            <a:avLst/>
          </a:prstGeom>
          <a:ln w="0">
            <a:noFill/>
          </a:ln>
        </p:spPr>
      </p:pic>
      <p:pic>
        <p:nvPicPr>
          <p:cNvPr id="168" name="b-03(4)" descr=""/>
          <p:cNvPicPr/>
          <p:nvPr/>
        </p:nvPicPr>
        <p:blipFill>
          <a:blip r:embed="rId2"/>
          <a:stretch/>
        </p:blipFill>
        <p:spPr>
          <a:xfrm>
            <a:off x="6629400" y="4876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b-06" descr=""/>
          <p:cNvPicPr/>
          <p:nvPr/>
        </p:nvPicPr>
        <p:blipFill>
          <a:blip r:embed="rId3"/>
          <a:stretch/>
        </p:blipFill>
        <p:spPr>
          <a:xfrm>
            <a:off x="2467080" y="5334120"/>
            <a:ext cx="1266840" cy="1333440"/>
          </a:xfrm>
          <a:prstGeom prst="rect">
            <a:avLst/>
          </a:prstGeom>
          <a:ln w="0">
            <a:noFill/>
          </a:ln>
        </p:spPr>
      </p:pic>
      <p:pic>
        <p:nvPicPr>
          <p:cNvPr id="170" name="b-20" descr=""/>
          <p:cNvPicPr/>
          <p:nvPr/>
        </p:nvPicPr>
        <p:blipFill>
          <a:blip r:embed="rId4"/>
          <a:stretch/>
        </p:blipFill>
        <p:spPr>
          <a:xfrm>
            <a:off x="3886200" y="4038480"/>
            <a:ext cx="2133720" cy="13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E32-492D-49CC-9E50-8A6350116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r_static" descr=""/>
          <p:cNvPicPr/>
          <p:nvPr/>
        </p:nvPicPr>
        <p:blipFill>
          <a:blip r:embed="rId1"/>
          <a:stretch/>
        </p:blipFill>
        <p:spPr>
          <a:xfrm>
            <a:off x="4952880" y="4946760"/>
            <a:ext cx="4267440" cy="1663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5560" y="1303200"/>
            <a:ext cx="8450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igabilidade = angústia/3 + irritação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 não amigá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ições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gústia = intensidade(ANGÚSTIA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ritação = intensidade(IRRITAÇÃ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or = soma(angústia/3, irritação/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_valor = valor_corrente(AMIGABILIDADE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lor != pc_va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çõ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iciona_propriedade(amigabilidade, val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A31-898E-4BE8-8339-C2C7A2D167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luência das emoç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oções afetam os seguintes itens dos ag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icionando/removendo objetiv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ônica estava feliz por ter passado no teste,  então decidiu ir ao cinema com Magal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prior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 sele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 seleção de agentes e objetos quando existem possibilidades múltip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C34-E786-4C80-A46C-7FA4C5FA6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moções Modelad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9880" y="1474920"/>
          <a:ext cx="934272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474920"/>
                    <a:ext cx="93427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2B4-0689-43D0-BDF6-42A72796CB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atro Virtu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dade baseada na Teoria dos traços e da aprendizagem so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dos inicia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o social-psicológico do person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erarquia de 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junto máquinas de est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o do mundo vir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rip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ênfase na execução de ações está em selecionar aquela que mais se aproxima aos traços de personalidade que o agente transpo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9FA-DE7E-4353-B194-2A0370326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atro Virtu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8000" y="1959120"/>
            <a:ext cx="8991720" cy="3644640"/>
            <a:chOff x="108000" y="1959120"/>
            <a:chExt cx="8991720" cy="3644640"/>
          </a:xfrm>
        </p:grpSpPr>
        <p:sp>
          <p:nvSpPr>
            <p:cNvPr id="183" name=""/>
            <p:cNvSpPr/>
            <p:nvPr/>
          </p:nvSpPr>
          <p:spPr>
            <a:xfrm>
              <a:off x="1327320" y="5603760"/>
              <a:ext cx="59436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70920" y="3851280"/>
              <a:ext cx="1066680" cy="175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7320" y="3851280"/>
              <a:ext cx="0" cy="1752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08000" y="1959120"/>
              <a:ext cx="8991720" cy="3187440"/>
              <a:chOff x="108000" y="1959120"/>
              <a:chExt cx="8991720" cy="3187440"/>
            </a:xfrm>
          </p:grpSpPr>
          <p:sp>
            <p:nvSpPr>
              <p:cNvPr id="187" name=""/>
              <p:cNvSpPr/>
              <p:nvPr/>
            </p:nvSpPr>
            <p:spPr>
              <a:xfrm>
                <a:off x="2851200" y="453708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stado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ísico-emociona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27520" y="1959120"/>
                <a:ext cx="2057400" cy="53316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titu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84920" y="331776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raços d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ersonalida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51800" y="3254400"/>
                <a:ext cx="1447920" cy="53352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çõ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000" y="3317760"/>
                <a:ext cx="2209680" cy="533520"/>
              </a:xfrm>
              <a:prstGeom prst="rect">
                <a:avLst/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dos percebi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18280" y="3622680"/>
                <a:ext cx="609840" cy="144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8600" y="2251080"/>
                <a:ext cx="1371600" cy="10666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984920" y="3927240"/>
                <a:ext cx="1295280" cy="99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708200" y="2327040"/>
                <a:ext cx="1219320" cy="990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8200" y="3851280"/>
                <a:ext cx="1143000" cy="99072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17680" y="3546360"/>
                <a:ext cx="2743200" cy="180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8" name="monica2" descr=""/>
          <p:cNvPicPr/>
          <p:nvPr/>
        </p:nvPicPr>
        <p:blipFill>
          <a:blip r:embed="rId1"/>
          <a:stretch/>
        </p:blipFill>
        <p:spPr>
          <a:xfrm>
            <a:off x="133200" y="165744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199" name="monica4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1028880" cy="15048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981080" y="1050840"/>
            <a:ext cx="6742080" cy="2121120"/>
            <a:chOff x="1981080" y="1050840"/>
            <a:chExt cx="6742080" cy="2121120"/>
          </a:xfrm>
        </p:grpSpPr>
        <p:sp>
          <p:nvSpPr>
            <p:cNvPr id="201" name=""/>
            <p:cNvSpPr/>
            <p:nvPr/>
          </p:nvSpPr>
          <p:spPr>
            <a:xfrm>
              <a:off x="1981080" y="1050840"/>
              <a:ext cx="52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Correlated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gressividade, gostar_de, 1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Correlated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gressividade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raiva, 0.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 rot="5400000">
              <a:off x="5909040" y="1603080"/>
              <a:ext cx="990720" cy="128916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289160"/>
                <a:gd name="textAreaBottom" fmla="*/ 1289160 h 12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monica-preto" descr=""/>
            <p:cNvPicPr/>
            <p:nvPr/>
          </p:nvPicPr>
          <p:blipFill>
            <a:blip r:embed="rId3"/>
            <a:stretch/>
          </p:blipFill>
          <p:spPr>
            <a:xfrm>
              <a:off x="7135920" y="1066680"/>
              <a:ext cx="1587240" cy="210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monicaturma" descr=""/>
          <p:cNvPicPr/>
          <p:nvPr/>
        </p:nvPicPr>
        <p:blipFill>
          <a:blip r:embed="rId4"/>
          <a:stretch/>
        </p:blipFill>
        <p:spPr>
          <a:xfrm>
            <a:off x="3505320" y="2590920"/>
            <a:ext cx="1143000" cy="873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371600" y="6019920"/>
            <a:ext cx="6629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lo centrado nos traço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instabilid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594-65FB-4341-9F09-876E2F34F03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ção dos traç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ntificados no intervalo [-10,10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ços podem ser definidos de 2 for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AULT(&lt;traço&gt;,valo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&lt;traço&gt;,&lt;correlação&gt;,valo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mbos são exclus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b certas circunstâncias o comportamento do personagem pode ser dif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_SITUATION(&lt;traço&gt;,&lt;prioridade&gt;,&lt;condições&gt;,&lt;valor&gt;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A85-C19E-4585-AA96-F8E1F089AD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5560" y="13838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a Mô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agressividade, raiva, 0.7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RRELETED(agressividade, simpatia,0.3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ressividade = (0.3*grau de simpatia ) + (0.7*irri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_SITUATION(agressividade, 1, raiva&lt;-5, simpatia*.7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C198-2257-46CB-928B-09790D6A02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s Físico-Emociona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 Atitud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160" y="1544400"/>
            <a:ext cx="844992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m relação aos estados físico-emociona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rientado ao próprio ag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LF_MOOD(&lt;mood&gt;, val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rientado a outros ag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GENT_MOOD(&lt;mood&gt;,&lt;agente&gt;,val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m relação as atit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ITTUDE(&lt;atitude&gt;,&lt;agente&gt;,val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D35-5C01-46D8-879B-AC4AF2CAE8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625760"/>
            <a:ext cx="8686800" cy="46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ô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F_MOOD(alegria,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F_MOOD(raiva,1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GENT_MOOD(raiva, Cascão, 1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ITTUDE(gostar_de, Cebolinha, 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D21-EE13-41DD-BF25-85A27DE81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ig_finfin" descr=""/>
          <p:cNvPicPr/>
          <p:nvPr/>
        </p:nvPicPr>
        <p:blipFill>
          <a:blip r:embed="rId1"/>
          <a:stretch/>
        </p:blipFill>
        <p:spPr>
          <a:xfrm>
            <a:off x="6648480" y="1143000"/>
            <a:ext cx="2419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res Sintétic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po de agente intelig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ções, limitações físicas, relações interpesso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drão de comportamento do personag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ltado para o campo de entretenimento interativo cujo objetivo é fornecer “ilusão de vi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po de pesquisa relativamente no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bra a ênfase “resolução de problemas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licado em animais virtuais e histórias intera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á-los aos requisitos exigidos pelos NP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94B-33B2-4364-A576-9A6E392FCDE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cessos envolvid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5560" y="13838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inicialização dos atores é feita utilizando os seguintes pas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ar a situação 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lcular o valor corrente de atitude e m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ar o valor corrente de cada traço de 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situação efe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orrelação a outros compon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 valor defa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B8C-241A-41EE-ABE2-7353E3EF8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121932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onstruir personalidades que não estão relacionadas com reações emocionais ou traços psic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p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onstruir personalidades através da definição de grupos de objetivos prioritários e de preferências sobre planos para realizar tais objetiv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ase Psicológica (Page 198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ersonalidade é um padrão coerente de tipos de comportamento e interações com o ambiente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Modelo de Gul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8609-791C-4ACA-84DB-664F23E4CE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004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Modelo Gul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5562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o centrado nos objetivo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ilidade mas descarta emo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2286000"/>
            <a:ext cx="7238520" cy="2285640"/>
            <a:chOff x="304920" y="2286000"/>
            <a:chExt cx="7238520" cy="2285640"/>
          </a:xfrm>
        </p:grpSpPr>
        <p:sp>
          <p:nvSpPr>
            <p:cNvPr id="221" name=""/>
            <p:cNvSpPr/>
            <p:nvPr/>
          </p:nvSpPr>
          <p:spPr>
            <a:xfrm>
              <a:off x="304920" y="2286000"/>
              <a:ext cx="198036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sona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99080" y="3301920"/>
              <a:ext cx="1900440" cy="507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06400" y="3328200"/>
              <a:ext cx="133704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920" y="3365280"/>
              <a:ext cx="2048760" cy="4446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s 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1240" y="3564000"/>
              <a:ext cx="563040" cy="1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296360" y="3809880"/>
              <a:ext cx="5632200" cy="761760"/>
              <a:chOff x="1296360" y="3809880"/>
              <a:chExt cx="5632200" cy="76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1296360" y="4571640"/>
                <a:ext cx="47754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071760" y="3809880"/>
                <a:ext cx="856800" cy="7617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6360" y="3809880"/>
                <a:ext cx="0" cy="7617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309400" y="3555720"/>
              <a:ext cx="1478160" cy="14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5280" y="2476440"/>
              <a:ext cx="1502280" cy="8254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monica3" descr=""/>
          <p:cNvPicPr/>
          <p:nvPr/>
        </p:nvPicPr>
        <p:blipFill>
          <a:blip r:embed="rId1"/>
          <a:stretch/>
        </p:blipFill>
        <p:spPr>
          <a:xfrm>
            <a:off x="6934320" y="3979800"/>
            <a:ext cx="198108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657600" y="1143000"/>
            <a:ext cx="5410080" cy="2104920"/>
            <a:chOff x="3657600" y="1143000"/>
            <a:chExt cx="5410080" cy="2104920"/>
          </a:xfrm>
        </p:grpSpPr>
        <p:sp>
          <p:nvSpPr>
            <p:cNvPr id="234" name=""/>
            <p:cNvSpPr/>
            <p:nvPr/>
          </p:nvSpPr>
          <p:spPr>
            <a:xfrm>
              <a:off x="3657600" y="1508040"/>
              <a:ext cx="36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Objetivo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ater_cebolinh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 1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 rot="5400000">
              <a:off x="6515280" y="1981080"/>
              <a:ext cx="990720" cy="114300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" name="monica-preto" descr=""/>
            <p:cNvPicPr/>
            <p:nvPr/>
          </p:nvPicPr>
          <p:blipFill>
            <a:blip r:embed="rId2"/>
            <a:stretch/>
          </p:blipFill>
          <p:spPr>
            <a:xfrm>
              <a:off x="7659720" y="1143000"/>
              <a:ext cx="14079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EE8-5DE0-46B0-A4F7-3E745819AA2D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0666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alidade é representada como uma árvore de obje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581280" y="2286000"/>
            <a:ext cx="4800600" cy="2895120"/>
            <a:chOff x="3581280" y="2286000"/>
            <a:chExt cx="4800600" cy="2895120"/>
          </a:xfrm>
        </p:grpSpPr>
        <p:sp>
          <p:nvSpPr>
            <p:cNvPr id="239" name=""/>
            <p:cNvSpPr/>
            <p:nvPr/>
          </p:nvSpPr>
          <p:spPr>
            <a:xfrm>
              <a:off x="5562360" y="228600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0800" y="3352680"/>
              <a:ext cx="914400" cy="8377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3352680"/>
              <a:ext cx="914400" cy="8377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410080" y="3047760"/>
              <a:ext cx="38088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160" y="3047760"/>
              <a:ext cx="30492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674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958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160" y="4343040"/>
              <a:ext cx="914400" cy="8380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3760" y="4187520"/>
              <a:ext cx="76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705360" y="4190760"/>
              <a:ext cx="7632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419360" y="4038480"/>
              <a:ext cx="4572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38880" y="4038480"/>
              <a:ext cx="380880" cy="38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071360" y="5645160"/>
            <a:ext cx="6301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 árvore é a mesma para todos os agen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 que muda são as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2286000"/>
            <a:ext cx="2468880" cy="1219320"/>
            <a:chOff x="1066680" y="2286000"/>
            <a:chExt cx="2468880" cy="1219320"/>
          </a:xfrm>
        </p:grpSpPr>
        <p:sp>
          <p:nvSpPr>
            <p:cNvPr id="254" name=""/>
            <p:cNvSpPr/>
            <p:nvPr/>
          </p:nvSpPr>
          <p:spPr>
            <a:xfrm>
              <a:off x="1066680" y="2286000"/>
              <a:ext cx="2459160" cy="121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51280" y="2362320"/>
              <a:ext cx="677880" cy="53352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35800" y="2935440"/>
              <a:ext cx="23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(P) - prior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9360" y="240192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- obje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E34-1684-4B81-AE81-FA9B67F955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143000"/>
            <a:ext cx="84582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inomia para objetivos baseada na psicologia (Ford 199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ho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umentar posses, dinheiro, 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on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r amizades, evitar isolamento social,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.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tivos ligados a construção da imagem do indiví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ten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ências excitantes, evita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325-E977-48DF-8FD7-0058D986E7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ada tipo de personalidade atribui uma determinada prioridade aos objetivos de cada gru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ersonali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ltruísta - PR(+), GM(-), I(+), R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ormativo - RS(+), I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goísta - GM(+), PR(-), RS(-), I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lévolo - E(+), PR(-), RS(-), I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952880"/>
            <a:ext cx="3276720" cy="1600200"/>
          </a:xfrm>
          <a:prstGeom prst="rect">
            <a:avLst/>
          </a:prstGeom>
          <a:noFill/>
          <a:ln cap="rnd" w="32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R -prover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GM - ganho mater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 - Imag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RS - relacionament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E - entreten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593-FF38-4B65-9487-A83D26A36F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44400"/>
            <a:ext cx="86868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uaçã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ba o jantar e os pratos estão su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ruísta - Se oferec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mativo - Vai lavar se for a vez del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oísta - Vai lavar se lhe oferecerem algo em troc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évolo - Finge que está do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6C6-086D-4AA0-BDC9-D146E367AF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sso Model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5560" y="1223640"/>
            <a:ext cx="84502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mis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 coerente e clara ao longo do te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tividade em função de estados físico-emocio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ções com outros personagens e jog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iciente e simples de implemen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743-C774-4FEF-B028-F91959F2DEF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siderações Gera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383840"/>
            <a:ext cx="86868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stado interno do 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dos físico-emocionais, atitudes e 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junto de traços que definem a 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Elementos quantificados sob intervalos numér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cotom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ontos de diferenciaçã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lacionamento dos ele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ersonalidade definida em função da teoria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“The Big Fiv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3BB-3666-4539-934B-A97034DA42F3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 Black"/>
              </a:rPr>
              <a:t>The Big Fiv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nece cinco categorias de personal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categoria agrupa traços semelhantes não ortogon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áveis de personalida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overtido, aprazível, consciente, neurótico 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“aberto à experiênci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teta - {10, 10, 0, 0, 0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ônica - { 0, 0, 10, 10, 0}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8D2-27D1-40EC-A46E-C2248B3C25B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quisitos para NPC </a:t>
            </a:r>
            <a:br>
              <a:rPr sz="2800"/>
            </a:b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Reilly 96, Crawford 86)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5920" y="1224000"/>
            <a:ext cx="563400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bir uma personalidade que se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erente a longo termo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laramente identificá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s_21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3124080" cy="235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25909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r reatividade segundo estados físico-emocio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46%5B1%5D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28954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908680" y="914400"/>
            <a:ext cx="3231360" cy="2552760"/>
            <a:chOff x="5908680" y="914400"/>
            <a:chExt cx="3231360" cy="2552760"/>
          </a:xfrm>
        </p:grpSpPr>
        <p:pic>
          <p:nvPicPr>
            <p:cNvPr id="107" name="shakingscoobyshaggy" descr=""/>
            <p:cNvPicPr/>
            <p:nvPr/>
          </p:nvPicPr>
          <p:blipFill>
            <a:blip r:embed="rId3"/>
            <a:stretch/>
          </p:blipFill>
          <p:spPr>
            <a:xfrm>
              <a:off x="5908680" y="914400"/>
              <a:ext cx="192240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89160" y="19051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Scoobdo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4191120"/>
            <a:ext cx="5333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er relações com outros personagens e jog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334120"/>
            <a:ext cx="5334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ahoma"/>
              </a:rPr>
              <a:t>Candidatos ideais para jogos RPG e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Tahoma"/>
              </a:rPr>
              <a:t>Televisão inte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E5F-6F9C-4F0C-98A9-7A4511A667EA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sso Modelo de Personalida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91120" y="2481120"/>
            <a:ext cx="3962160" cy="2587320"/>
            <a:chOff x="4191120" y="2481120"/>
            <a:chExt cx="3962160" cy="2587320"/>
          </a:xfrm>
        </p:grpSpPr>
        <p:sp>
          <p:nvSpPr>
            <p:cNvPr id="274" name=""/>
            <p:cNvSpPr/>
            <p:nvPr/>
          </p:nvSpPr>
          <p:spPr>
            <a:xfrm>
              <a:off x="6781680" y="3548160"/>
              <a:ext cx="1371600" cy="560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46680" y="3830760"/>
              <a:ext cx="1015920" cy="1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199040" y="4157280"/>
              <a:ext cx="2887560" cy="911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91120" y="2481120"/>
              <a:ext cx="281916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31960" y="2336400"/>
            <a:ext cx="743040" cy="3098520"/>
            <a:chOff x="1731960" y="2336400"/>
            <a:chExt cx="743040" cy="3098520"/>
          </a:xfrm>
        </p:grpSpPr>
        <p:sp>
          <p:nvSpPr>
            <p:cNvPr id="279" name=""/>
            <p:cNvSpPr/>
            <p:nvPr/>
          </p:nvSpPr>
          <p:spPr>
            <a:xfrm rot="16200000">
              <a:off x="1981080" y="2325240"/>
              <a:ext cx="482760" cy="505080"/>
            </a:xfrm>
            <a:custGeom>
              <a:avLst/>
              <a:gdLst/>
              <a:ahLst/>
              <a:rect l="l" t="t" r="r" b="b"/>
              <a:pathLst>
                <a:path w="240" h="248">
                  <a:moveTo>
                    <a:pt x="0" y="248"/>
                  </a:moveTo>
                  <a:cubicBezTo>
                    <a:pt x="28" y="132"/>
                    <a:pt x="56" y="16"/>
                    <a:pt x="96" y="8"/>
                  </a:cubicBezTo>
                  <a:cubicBezTo>
                    <a:pt x="136" y="0"/>
                    <a:pt x="216" y="168"/>
                    <a:pt x="240" y="2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5400000">
              <a:off x="1726200" y="4957200"/>
              <a:ext cx="482760" cy="471600"/>
            </a:xfrm>
            <a:custGeom>
              <a:avLst/>
              <a:gdLst/>
              <a:ahLst/>
              <a:rect l="l" t="t" r="r" b="b"/>
              <a:pathLst>
                <a:path w="240" h="248">
                  <a:moveTo>
                    <a:pt x="0" y="248"/>
                  </a:moveTo>
                  <a:cubicBezTo>
                    <a:pt x="28" y="132"/>
                    <a:pt x="56" y="16"/>
                    <a:pt x="96" y="8"/>
                  </a:cubicBezTo>
                  <a:cubicBezTo>
                    <a:pt x="136" y="0"/>
                    <a:pt x="216" y="168"/>
                    <a:pt x="240" y="2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3581280"/>
            <a:ext cx="1828800" cy="703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ços de Person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80880" y="2405160"/>
            <a:ext cx="3814920" cy="3172320"/>
            <a:chOff x="380880" y="2405160"/>
            <a:chExt cx="3814920" cy="3172320"/>
          </a:xfrm>
        </p:grpSpPr>
        <p:sp>
          <p:nvSpPr>
            <p:cNvPr id="283" name=""/>
            <p:cNvSpPr/>
            <p:nvPr/>
          </p:nvSpPr>
          <p:spPr>
            <a:xfrm>
              <a:off x="2286000" y="4873680"/>
              <a:ext cx="1909800" cy="703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tados físico-emo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8280" y="2405160"/>
              <a:ext cx="175284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t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3429000"/>
              <a:ext cx="1828800" cy="790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209680" y="2852640"/>
              <a:ext cx="1905120" cy="2057400"/>
              <a:chOff x="2209680" y="2852640"/>
              <a:chExt cx="1905120" cy="205740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2286000" y="3199680"/>
                <a:ext cx="1816200" cy="390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114800" y="2852640"/>
                <a:ext cx="0" cy="76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209680" y="4114440"/>
                <a:ext cx="1905120" cy="795600"/>
                <a:chOff x="2209680" y="4114440"/>
                <a:chExt cx="1905120" cy="7956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209680" y="4114440"/>
                  <a:ext cx="1892520" cy="53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114800" y="4300200"/>
                  <a:ext cx="0" cy="609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2" name=""/>
          <p:cNvGrpSpPr/>
          <p:nvPr/>
        </p:nvGrpSpPr>
        <p:grpSpPr>
          <a:xfrm>
            <a:off x="1676520" y="974880"/>
            <a:ext cx="7046640" cy="2197080"/>
            <a:chOff x="1676520" y="974880"/>
            <a:chExt cx="7046640" cy="2197080"/>
          </a:xfrm>
        </p:grpSpPr>
        <p:sp>
          <p:nvSpPr>
            <p:cNvPr id="293" name=""/>
            <p:cNvSpPr/>
            <p:nvPr/>
          </p:nvSpPr>
          <p:spPr>
            <a:xfrm>
              <a:off x="1676520" y="974880"/>
              <a:ext cx="5943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ffffff"/>
                  </a:solidFill>
                  <a:latin typeface="Arial"/>
                </a:rPr>
                <a:t>AGSAgent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(“Mônica”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Personalidade.NEUROTICA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mbiente</a:t>
              </a: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 rot="5400000">
              <a:off x="6170760" y="1447560"/>
              <a:ext cx="990720" cy="1143000"/>
            </a:xfrm>
            <a:custGeom>
              <a:avLst/>
              <a:gdLst>
                <a:gd name="textAreaLeft" fmla="*/ 360 w 990720"/>
                <a:gd name="textAreaRight" fmla="*/ 991440 w 990720"/>
                <a:gd name="textAreaTop" fmla="*/ -360 h 1143000"/>
                <a:gd name="textAreaBottom" fmla="*/ 11430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monica-preto" descr=""/>
            <p:cNvPicPr/>
            <p:nvPr/>
          </p:nvPicPr>
          <p:blipFill>
            <a:blip r:embed="rId1"/>
            <a:stretch/>
          </p:blipFill>
          <p:spPr>
            <a:xfrm>
              <a:off x="7315200" y="1066680"/>
              <a:ext cx="1407960" cy="210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1219320" y="4114800"/>
            <a:ext cx="6948360" cy="1846800"/>
            <a:chOff x="1219320" y="4114800"/>
            <a:chExt cx="6948360" cy="1846800"/>
          </a:xfrm>
        </p:grpSpPr>
        <p:sp>
          <p:nvSpPr>
            <p:cNvPr id="297" name=""/>
            <p:cNvSpPr/>
            <p:nvPr/>
          </p:nvSpPr>
          <p:spPr>
            <a:xfrm>
              <a:off x="6858000" y="5562720"/>
              <a:ext cx="13096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27960" y="4114800"/>
              <a:ext cx="15840" cy="144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219320" y="4267080"/>
              <a:ext cx="5638680" cy="1524240"/>
              <a:chOff x="1219320" y="4267080"/>
              <a:chExt cx="5638680" cy="1524240"/>
            </a:xfrm>
          </p:grpSpPr>
          <p:sp>
            <p:nvSpPr>
              <p:cNvPr id="300" name=""/>
              <p:cNvSpPr/>
              <p:nvPr/>
            </p:nvSpPr>
            <p:spPr>
              <a:xfrm>
                <a:off x="1219320" y="4267080"/>
                <a:ext cx="0" cy="1524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19320" y="5791320"/>
                <a:ext cx="5638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2" name="monica2" descr=""/>
          <p:cNvPicPr/>
          <p:nvPr/>
        </p:nvPicPr>
        <p:blipFill>
          <a:blip r:embed="rId2"/>
          <a:stretch/>
        </p:blipFill>
        <p:spPr>
          <a:xfrm>
            <a:off x="152280" y="165744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303" name="monica4" descr=""/>
          <p:cNvPicPr/>
          <p:nvPr/>
        </p:nvPicPr>
        <p:blipFill>
          <a:blip r:embed="rId3"/>
          <a:stretch/>
        </p:blipFill>
        <p:spPr>
          <a:xfrm>
            <a:off x="77760" y="46483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304" name="monica&amp;cebolinha2" descr=""/>
          <p:cNvPicPr/>
          <p:nvPr/>
        </p:nvPicPr>
        <p:blipFill>
          <a:blip r:embed="rId4"/>
          <a:stretch/>
        </p:blipFill>
        <p:spPr>
          <a:xfrm>
            <a:off x="4495680" y="1684440"/>
            <a:ext cx="1295640" cy="906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6248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ilidade com reativ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827-BCAE-42CE-BCFC-C3094500ED3F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presentaçã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cada ator existem 2 bases de regra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danças dos estados inter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ção de objetivos e a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entação a Obje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dade de representação: modularidade, abstração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AS é definido em função de um conjunto de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E2E-CEB8-44A8-97F0-F04A81B484C0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diagrama0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5419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gumas Cla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365-2B7C-42F4-B733-34135106EEF6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 Interno do 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4857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 personalidade é composta de cinco variáveis que definem as categorias representadas pela teoria “The Big Five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da variável tem um objeto intensidade associ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valo de valor: [-10,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lor default: [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Valor vigente: [5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ioridade da categoria: [1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77C-B039-429B-B5E7-C0DE6264C8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stado Interno do 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físico-emocionais, atitudes e objetivos são definidos em função de conju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e-se adicionar emoções e atitudes a qualquer tempo no estado interno do 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s elementos possuem as seguintes propriedad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valo de valor [-10,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or default [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or vigente [10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tor de incremen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tor de decre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egoria (positiva, negativa, neut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C7F-B773-4327-BEB9-244AD8D053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ando Personage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É necessário que o novo tipo de personagem seja uma herança do modelo de ator sintético propo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r o conjunto de estados físico-emocionais e atitu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r as ações e objetiv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ecificar as bases de reg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3EA-8853-41A6-B517-4ADCC00575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emplo: A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066320"/>
            <a:ext cx="8359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uardiões Ictius, Virgo e Quirã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ersonalidades diferen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extrovertido e aprazí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ados físico-emociona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alegria/tristeza, medo/coragem e h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energ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itud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gosta de conheciment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formar guardiões, ajudar jogador, fornecer o elixi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287-55A4-4154-A3BA-A814277BECE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 Guardiã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51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FCF-BFE1-4981-81CA-65A97D931D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120320"/>
            <a:ext cx="8381880" cy="524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Criando guardiões.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Avatar =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CHGuardianAvatar(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"Ictius",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nome do guardi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transform,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sistema de coordenada relativ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canvas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pt-BR" sz="2400" spc="-1" strike="noStrike">
                <a:solidFill>
                  <a:srgbClr val="ffcc00"/>
                </a:solidFill>
                <a:latin typeface="Bookman Old Style"/>
              </a:rPr>
              <a:t>// janela de renderiz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 = </a:t>
            </a:r>
            <a:r>
              <a:rPr b="1" lang="pt-BR" sz="2400" spc="-1" strike="noStrike">
                <a:solidFill>
                  <a:srgbClr val="ffffff"/>
                </a:solidFill>
                <a:latin typeface="Bookman Old Style"/>
              </a:rPr>
              <a:t>new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 CHGAgent("Ictius",10,0,0,0,0,0, gaiaAgent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Avatar(ictiusAvatar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InternaKB("RBase01.rules"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setAcaoKB("RBase02.rules"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ictiusGuardiao.inserirInternoKB(gaia);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1139-1FF0-4257-8851-64886844D1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R do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095480"/>
            <a:ext cx="868680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Para todo agente guardião e jogador, tem-se: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se guardião percebe um pedido de ajuda de um jogador com o qua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mantém uma relação positiva de “gostar de”, então o guard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fica feliz em poder ajudar o jogador.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haracter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HGuardianAgent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ame.GAGaiaAgent ga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ame.GAPerception percep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Bookman Old Style"/>
              </a:rPr>
              <a:t>character.CHPolegarAgent jogad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ercepcao.ehTipo(Perception.AJUD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ehAmigav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getAtitudes().isHigh("GOSTAR", jogado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modificaPEmocao(EMOCAO.ALEGRIA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atualizaEI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removerInternoKB(percepcao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uardiao.inserirAcaoKB(percepcao);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A6E-4E2B-402C-BCCC-165D04960A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7162920" y="3809880"/>
            <a:ext cx="1957320" cy="2898720"/>
            <a:chOff x="7162920" y="3809880"/>
            <a:chExt cx="1957320" cy="2898720"/>
          </a:xfrm>
        </p:grpSpPr>
        <p:pic>
          <p:nvPicPr>
            <p:cNvPr id="112" name="poster_clr" descr=""/>
            <p:cNvPicPr/>
            <p:nvPr/>
          </p:nvPicPr>
          <p:blipFill>
            <a:blip r:embed="rId1"/>
            <a:stretch/>
          </p:blipFill>
          <p:spPr>
            <a:xfrm>
              <a:off x="7162920" y="3809880"/>
              <a:ext cx="1957320" cy="28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09320" y="62049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Wogg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049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lguns Modelo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58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1) Projeto O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MU University, Joseph B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2) Teatro Vir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tanford University, Barbara Hayes-R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3) Projeto Gu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MU University e Institute of Psicology NRC, Paola Rizzo e Manuela Vel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4) Personality-centred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in - UFPE, grupo de IA e jog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(Outros) Sony, MIT, Intellimedia Initiative , Creature La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0CE-85D3-4A8A-8DE3-269C849B4E14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R dos Guardiõ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1430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Para todo agente guardião e jogador, tem-se: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se guardião percebe um pedido de ajuda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ele é um guardião amigável e feliz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/* então o guardião decide ajudar o jogador */</a:t>
            </a:r>
            <a:r>
              <a:rPr b="0" i="1" lang="en-US" sz="18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rule ruleRB202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haracter.CHGuardianAgent guardia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ame.GAPerception per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ame.GAGaiaAgent ga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character.CHPolegarAgent jogad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pre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erception.ehTipo(Perception.AJUD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hAmigav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podeAjudar(jogad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stahFeliz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configuraObjetivoVigente(GAGoal.AJUDA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guardiao.executaAcoes(Dica.TIPO_1, jog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pt-BR" sz="1800" spc="-1" strike="noStrike">
                <a:solidFill>
                  <a:srgbClr val="ffffff"/>
                </a:solidFill>
                <a:latin typeface="Bookman Old Style"/>
              </a:rPr>
              <a:t>guardiao.removerAcaoKB(perception)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3750-6E28-48A2-86BA-14D3E260811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-15264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ogos Atuais Usando essa Abordag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Final Fanta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lack &amp;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r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Half-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Star Tr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War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ahoma"/>
              </a:rPr>
              <a:t>Army Simulation Training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9F6-F097-4B0C-9E43-7B3787FA60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ferênci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jeto Oz. URL:http://www-2.cs.cmu.edu/afs/cs.cmu.edu/project/oz/web/oz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Teatro Virtual. URL: http://www-ksl.stanford.edu/projects/cait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reatures. URL: http://www.creatures.co.uk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John Lair. URL: http://ai.eecs.umich.edu/people/laird/gamesresearch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Game AI Page. URL: http://www.gameai.com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MIT. URL: 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www.media.mit.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edu/characters</a:t>
            </a:r>
            <a:r>
              <a:rPr b="0" lang="pt-BR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A3F-C8E9-472A-8368-154AD261C6B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ntos em comum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quitetura padrão para ag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ceber-raciocinar-ag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rtamento definido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dos físico-emocionais, atitudes (objetos e atores) e objet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id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junto de traços de persona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ações desses elem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áveis quantificadas numericamente [-10,10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resentam dicotom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36C-EBCC-4921-B466-E9E42CAD765F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ntos Com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6440" y="1463760"/>
            <a:ext cx="82468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ços de personalid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vertido/extrovertido, amigável/não-amigá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físico-emocio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gria/tristeza, medo/corag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onfiar/confiar em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iar/gostar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91320" y="2895480"/>
            <a:ext cx="2225880" cy="932400"/>
            <a:chOff x="5791320" y="2895480"/>
            <a:chExt cx="2225880" cy="932400"/>
          </a:xfrm>
        </p:grpSpPr>
        <p:pic>
          <p:nvPicPr>
            <p:cNvPr id="121" name="ANI_CAT" descr=""/>
            <p:cNvPicPr/>
            <p:nvPr/>
          </p:nvPicPr>
          <p:blipFill>
            <a:blip r:embed="rId1"/>
            <a:stretch/>
          </p:blipFill>
          <p:spPr>
            <a:xfrm>
              <a:off x="5791320" y="2895480"/>
              <a:ext cx="144756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6560" y="342900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medo(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982920" y="914400"/>
            <a:ext cx="2389680" cy="1770480"/>
            <a:chOff x="6982920" y="914400"/>
            <a:chExt cx="2389680" cy="1770480"/>
          </a:xfrm>
        </p:grpSpPr>
        <p:pic>
          <p:nvPicPr>
            <p:cNvPr id="124" name="tazmanian" descr=""/>
            <p:cNvPicPr/>
            <p:nvPr/>
          </p:nvPicPr>
          <p:blipFill>
            <a:blip r:embed="rId2"/>
            <a:stretch/>
          </p:blipFill>
          <p:spPr>
            <a:xfrm>
              <a:off x="7010280" y="914400"/>
              <a:ext cx="23623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982920" y="2286000"/>
              <a:ext cx="21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amigabilidade(-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43400" y="3962520"/>
            <a:ext cx="3286440" cy="2219040"/>
            <a:chOff x="4343400" y="3962520"/>
            <a:chExt cx="3286440" cy="2219040"/>
          </a:xfrm>
        </p:grpSpPr>
        <p:pic>
          <p:nvPicPr>
            <p:cNvPr id="127" name="APINKSAX" descr=""/>
            <p:cNvPicPr/>
            <p:nvPr/>
          </p:nvPicPr>
          <p:blipFill>
            <a:blip r:embed="rId3"/>
            <a:stretch/>
          </p:blipFill>
          <p:spPr>
            <a:xfrm>
              <a:off x="4343400" y="3962520"/>
              <a:ext cx="152388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634000" y="5638680"/>
              <a:ext cx="19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ranqüilidade(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837-C59D-4901-916E-403CAA435DB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ergências e Problem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5920" y="1383840"/>
            <a:ext cx="776592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as emoções, atitudes, estados físicos e traços de personalidade se relaciona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eles são influenciados pela percepçã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esses elementos influenciam a tomada de decisã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4267080"/>
            <a:ext cx="8245440" cy="2438280"/>
            <a:chOff x="380880" y="4267080"/>
            <a:chExt cx="8245440" cy="2438280"/>
          </a:xfrm>
        </p:grpSpPr>
        <p:graphicFrame>
          <p:nvGraphicFramePr>
            <p:cNvPr id="132" name=""/>
            <p:cNvGraphicFramePr/>
            <p:nvPr/>
          </p:nvGraphicFramePr>
          <p:xfrm>
            <a:off x="7026120" y="5105160"/>
            <a:ext cx="1600200" cy="16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26120" y="5105160"/>
                      <a:ext cx="16002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380880" y="4267080"/>
              <a:ext cx="8016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Tahoma"/>
                </a:rPr>
                <a:t>Como manter uma personalidade coerente a longo termo, mas exibir reatividade em função dos estados físico-emocionai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577-9E4A-4EF7-9D83-AF506066F5C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o OZ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dade é baseada no modelo de emoções O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sas emoções são resultantes de três tipos de avaliações subjetiv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mportância de eventos com respeito ao objetivo do agent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aprovação das ações do próprio agente ou mesmo de outros com respeito ao conjunto de padrões de comportamento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sto aos objetos com respeito as atitudes do ag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0D7-32EB-4993-890B-43FFD9DE0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8592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o Oz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5943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o centrado nas emoçõe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stabilid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905120"/>
            <a:ext cx="8839080" cy="3581280"/>
            <a:chOff x="304920" y="1905120"/>
            <a:chExt cx="8839080" cy="3581280"/>
          </a:xfrm>
        </p:grpSpPr>
        <p:sp>
          <p:nvSpPr>
            <p:cNvPr id="140" name=""/>
            <p:cNvSpPr/>
            <p:nvPr/>
          </p:nvSpPr>
          <p:spPr>
            <a:xfrm>
              <a:off x="2971800" y="3124080"/>
              <a:ext cx="2057400" cy="6098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d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ísico-emo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1905120"/>
              <a:ext cx="2057400" cy="5331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itu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71800" y="4495680"/>
              <a:ext cx="205740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ços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a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3200400"/>
              <a:ext cx="144792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96080" y="3200400"/>
              <a:ext cx="144792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çõ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3200400"/>
              <a:ext cx="2057400" cy="5335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dos percebi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962520" y="2437920"/>
              <a:ext cx="9360" cy="685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733920"/>
              <a:ext cx="0" cy="838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920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920" y="3505320"/>
              <a:ext cx="6094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1371600" cy="10666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29200" y="3809880"/>
              <a:ext cx="1295280" cy="990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371600" y="3733920"/>
              <a:ext cx="7010280" cy="1752480"/>
              <a:chOff x="1371600" y="3733920"/>
              <a:chExt cx="7010280" cy="1752480"/>
            </a:xfrm>
          </p:grpSpPr>
          <p:sp>
            <p:nvSpPr>
              <p:cNvPr id="154" name=""/>
              <p:cNvSpPr/>
              <p:nvPr/>
            </p:nvSpPr>
            <p:spPr>
              <a:xfrm>
                <a:off x="1371600" y="5486400"/>
                <a:ext cx="5943600" cy="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7315200" y="3733920"/>
                <a:ext cx="1066680" cy="17524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71600" y="3733920"/>
                <a:ext cx="0" cy="175248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0" y="1050840"/>
            <a:ext cx="8838720" cy="2044800"/>
            <a:chOff x="0" y="1050840"/>
            <a:chExt cx="8838720" cy="2044800"/>
          </a:xfrm>
        </p:grpSpPr>
        <p:grpSp>
          <p:nvGrpSpPr>
            <p:cNvPr id="158" name=""/>
            <p:cNvGrpSpPr/>
            <p:nvPr/>
          </p:nvGrpSpPr>
          <p:grpSpPr>
            <a:xfrm>
              <a:off x="0" y="1050840"/>
              <a:ext cx="8273160" cy="1311480"/>
              <a:chOff x="0" y="1050840"/>
              <a:chExt cx="8273160" cy="131148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1050840"/>
                <a:ext cx="827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Trac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agressividade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 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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emoca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raiva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- </a:t>
                </a:r>
                <a:r>
                  <a:rPr b="0" i="1" lang="pt-BR" sz="2000" spc="-1" strike="noStrike">
                    <a:solidFill>
                      <a:srgbClr val="ffffff"/>
                    </a:solidFill>
                    <a:latin typeface="Arial"/>
                  </a:rPr>
                  <a:t>emocao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alegria</a:t>
                </a:r>
                <a:r>
                  <a:rPr b="0" lang="pt-BR" sz="2000" spc="-1" strike="noStrike">
                    <a:solidFill>
                      <a:srgbClr val="ffffff"/>
                    </a:solidFill>
                    <a:latin typeface="Arial"/>
                  </a:rPr>
                  <a:t>)/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5789880" y="1447920"/>
                <a:ext cx="1471320" cy="914400"/>
              </a:xfrm>
              <a:custGeom>
                <a:avLst/>
                <a:gdLst>
                  <a:gd name="textAreaLeft" fmla="*/ 490320 w 1471320"/>
                  <a:gd name="textAreaRight" fmla="*/ 1260360 w 1471320"/>
                  <a:gd name="textAreaTop" fmla="*/ 526680 h 914400"/>
                  <a:gd name="textAreaBottom" fmla="*/ 78336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1" name="monica-preto" descr=""/>
            <p:cNvPicPr/>
            <p:nvPr/>
          </p:nvPicPr>
          <p:blipFill>
            <a:blip r:embed="rId1"/>
            <a:stretch/>
          </p:blipFill>
          <p:spPr>
            <a:xfrm>
              <a:off x="7261920" y="1143000"/>
              <a:ext cx="1576800" cy="195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monica2" descr=""/>
          <p:cNvPicPr/>
          <p:nvPr/>
        </p:nvPicPr>
        <p:blipFill>
          <a:blip r:embed="rId2"/>
          <a:stretch/>
        </p:blipFill>
        <p:spPr>
          <a:xfrm>
            <a:off x="399960" y="1600200"/>
            <a:ext cx="1752840" cy="1449360"/>
          </a:xfrm>
          <a:prstGeom prst="rect">
            <a:avLst/>
          </a:prstGeom>
          <a:ln w="0">
            <a:noFill/>
          </a:ln>
        </p:spPr>
      </p:pic>
      <p:pic>
        <p:nvPicPr>
          <p:cNvPr id="163" name="monica4" descr=""/>
          <p:cNvPicPr/>
          <p:nvPr/>
        </p:nvPicPr>
        <p:blipFill>
          <a:blip r:embed="rId3"/>
          <a:stretch/>
        </p:blipFill>
        <p:spPr>
          <a:xfrm>
            <a:off x="1828800" y="38862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monica3" descr=""/>
          <p:cNvPicPr/>
          <p:nvPr/>
        </p:nvPicPr>
        <p:blipFill>
          <a:blip r:embed="rId4"/>
          <a:stretch/>
        </p:blipFill>
        <p:spPr>
          <a:xfrm>
            <a:off x="6019920" y="4191120"/>
            <a:ext cx="1371600" cy="93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EC6-06A0-4918-BDC9-6EF21747125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01:46:29Z</dcterms:created>
  <dc:creator>drds, all</dc:creator>
  <dc:description/>
  <dc:language>en-US</dc:language>
  <cp:lastModifiedBy>glr</cp:lastModifiedBy>
  <cp:lastPrinted>2000-11-03T18:22:39Z</cp:lastPrinted>
  <dcterms:modified xsi:type="dcterms:W3CDTF">2004-02-02T04:17:48Z</dcterms:modified>
  <cp:revision>125</cp:revision>
  <dc:subject/>
  <dc:title>Implementação de Atores Sintéticos</dc:title>
</cp:coreProperties>
</file>