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DB2-773A-4EE6-BA4F-9D131178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9E0-65D0-415C-A45F-7D95770C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A95-35F4-4C55-A46F-1360BC59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428-FEA0-4DA8-B0F4-D16F5410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07A2-64C0-46EE-A118-DF243CC5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6178-6936-449A-879F-84F01E1C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2292-D203-4FF4-AB09-01E2E5C6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BC10-A86B-4872-BC76-C2905642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3F09-997F-4564-8DD0-1E1DE830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8561-EE6D-4F29-8EC0-0953CE7D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6391-3F18-4EC8-850D-791C684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F9F-2516-448E-B5A0-7ADA54AC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6B0F-EA95-4A13-9FBA-E31B13B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BF35-4367-4491-834E-B3BF4ED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8DDA-D62E-4379-929C-F3A83D0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9EC7-E156-4BF3-A457-F0F99DB2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8A1C-5D86-4230-AA4C-B90F0476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9BE-C20E-455C-85C9-9B01B78B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1C3-709C-4CEB-B6DC-3705E98D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355-A2A2-4BA9-BE06-A7BBDFF9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35B-D43B-4419-BF73-855CE58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F5F-7B0D-4A21-B822-897966E2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2FD-D460-4BDA-988A-A85BF5F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F1D-653E-4755-B5A4-DD74CC7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8124-F9E1-48C4-98BB-63C30B6A7DD3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DE93-B553-4363-B136-45458F238C81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avaboutique.internet.com/tutorials/Java_Game_Programming/Applets/PongKI/PongKI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athengine.com/" TargetMode="External"/><Relationship Id="rId2" Type="http://schemas.openxmlformats.org/officeDocument/2006/relationships/hyperlink" Target="http://www.mathengine.com/" TargetMode="External"/><Relationship Id="rId3" Type="http://schemas.openxmlformats.org/officeDocument/2006/relationships/hyperlink" Target="http://www.mathengine.com/" TargetMode="External"/><Relationship Id="rId4" Type="http://schemas.openxmlformats.org/officeDocument/2006/relationships/hyperlink" Target="http://www.mathengine.com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delagem Física para Jog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Érico Souza Texeir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Mardoqueu Souza Vieir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9F9E-7020-49A7-A325-DA740FE991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orça de Atri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Plano  inclinad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usar o exemplo do jogo Mári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 colocar as equacoes com o pseudo codig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BC9-421D-4547-B806-4BC9675D9B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orça Centrípe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Falar onde pode ser utilizad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xempl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Conceito físic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Usar o pendulo world Up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EFD-0CC5-45BC-90A3-6E7C5A7032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orça Centrípe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xemplo de carro de corrid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06A-5F68-4A59-94EF-AE21707C1F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Detecção de colisõ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Verdana"/>
              </a:rPr>
              <a:t>Técnica fundamental para simular o mundo físico mais precisamente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Verdana"/>
              </a:rPr>
              <a:t>Tem sido estudado em diferentes comunidades: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Verdana"/>
              </a:rPr>
              <a:t>robótica, computação gráfica, CAD and geometria computaciona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Verdana"/>
              </a:rPr>
              <a:t>Problema: como reagir a uma colisão?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D0F-E061-4086-97DB-2AD9313106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lástica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Conserva a energia cinética e o momento dos objet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ais fácil de implement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Técnica mais utilizada em jog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Inelástica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ão conserva nem a energia cinética nem o momento dos objet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9AE-6DDB-4A91-B6D3-9DA2705788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733920"/>
            <a:ext cx="79246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if(x &gt; EAST_EDGE || x &lt; WEST_EDG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    </a:t>
            </a: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xv = -xv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if(y &gt; SOUTH_EDGE||y &lt; NORTH_EDG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    </a:t>
            </a: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yv = -yv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eação: Colisão Elást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gião regular, “bem orientada”, de massa muito maior que o objet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Po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Soluçã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Pensando em termos de resulta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50E-C1FC-4A59-81A0-32BD8AAAAC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eação: Colisão Elást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Região irregular de massa muito maior que o objet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352680"/>
            <a:ext cx="2971800" cy="24386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581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581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724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F41-D0E7-4AC1-8D30-7A1349B77F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eação: Colisão Elást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ntre dois objeto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1B1-BC21-4047-BB43-0CF82A4C56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ticulação de Corpos Ríg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B7A-5E70-48BC-A135-C7277E1234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ticulação de Corpos Ríg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Problema 1(fig 13-38)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Usar Simple Kinematics do liv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4BD-7621-4B4B-A3CA-2C5369C7C2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m busca de realismo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Exemplo de jogo...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FE8-A8B2-485A-88FE-F18AA1281B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ticulação de Corpos Ríg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Problema 2(fig 13-39)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Usar Simple Kinematics do liv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225-30C2-4612-8CFB-1B9E0C8441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Sistema de Partícul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São modelos físicos que modelam partículas pequena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xplosões, fogo, água,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739-78FD-493D-BBF4-F40A3C9549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tor de Modelagem Fís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Karm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rover modelagem física rápida e está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Dinâmica de corpos rígid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Detecção de colisã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propriado para aplicações 3D interativ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B4E-65FF-4230-B7E4-945DD5BEC4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Arial"/>
              </a:rPr>
              <a:t>[1] Karma </a:t>
            </a:r>
            <a:r>
              <a:rPr b="1" lang="pt-BR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</a:t>
            </a:r>
            <a:r>
              <a:rPr b="1" lang="pt-BR" sz="20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://www.</a:t>
            </a:r>
            <a:r>
              <a:rPr b="1" lang="pt-BR" sz="2000" spc="-1" strike="noStrike" u="sng">
                <a:solidFill>
                  <a:srgbClr val="b97c01"/>
                </a:solidFill>
                <a:uFillTx/>
                <a:latin typeface="Arial"/>
                <a:hlinkClick r:id="rId3"/>
              </a:rPr>
              <a:t>mathengine</a:t>
            </a:r>
            <a:r>
              <a:rPr b="1" lang="pt-BR" sz="2000" spc="-1" strike="noStrike" u="sng">
                <a:solidFill>
                  <a:srgbClr val="b97c01"/>
                </a:solidFill>
                <a:uFillTx/>
                <a:latin typeface="Arial"/>
                <a:hlinkClick r:id="rId4"/>
              </a:rPr>
              <a:t>.com/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E9A-D50F-4301-AD91-1EB17ECB43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delagem Fís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ef 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ntativa de reprodução de propriedades físicas do mundo re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. atrito, gravidade, aceleração, .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597-EB35-4819-966C-58BE6565D3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Históric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Conceitos Físicos Fundamentai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Efeitos Gravitacionai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Força de Atrit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Força Centrípeta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Detecção de Colisã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Articulação de Corpos Rígido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Motor de Modelagem Física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679-274F-4BBB-957D-B2EDC3ACE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Nas décadas de 70 e 80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ão existia muita modelagem física envolvida nos video games.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Na década de 90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odelagem física se tornou muito mais importa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Inicio da era 3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ecessidade de realismo no movimento dos objet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E03-3AC5-4D36-9AA9-884549B66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Conceitos Físicos Fundament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Temp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Mass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Velocidade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Aceleraçã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Forc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Momento Linear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885-7FDD-45D6-9F50-0646B22BB3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Efeitos Gravitacion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Conceito gera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8B5-9E24-47FC-B368-26EC985FD6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Efeitos Gravitacion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´Modelando Trajetórias de Projetei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usar o exemplo do jogo sonic, xmen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 colocar as equacoes com o pseudo codig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62B-BA1F-4719-9306-8E8D1F5E5A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orça de Atri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Falar onde pode ser utilizad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xemplo do carro de corrida 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Conceito gera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9DD-36A8-4609-8780-FFA03C37E6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6:06:32Z</dcterms:created>
  <dc:creator>msv</dc:creator>
  <dc:description/>
  <dc:language>en-US</dc:language>
  <cp:lastModifiedBy>msv</cp:lastModifiedBy>
  <dcterms:modified xsi:type="dcterms:W3CDTF">2002-04-26T01:27:29Z</dcterms:modified>
  <cp:revision>8</cp:revision>
  <dc:subject/>
  <dc:title>Modelagem Física para Jogos</dc:title>
</cp:coreProperties>
</file>