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331450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32EE-695A-4D2C-8F62-7803FCB84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14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4360" y="3918600"/>
            <a:ext cx="89614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AFC0-7FCD-4E86-8099-9352A9277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66160" y="1371240"/>
            <a:ext cx="437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437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66160" y="3918600"/>
            <a:ext cx="437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85F1-A95A-4D95-A005-95FE46383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2885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4480" y="1371240"/>
            <a:ext cx="2885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34600" y="1371240"/>
            <a:ext cx="2885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74360" y="3918600"/>
            <a:ext cx="2885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4480" y="3918600"/>
            <a:ext cx="2885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834600" y="3918600"/>
            <a:ext cx="2885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5864-5B11-44EA-B211-72C30AE38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74360" y="1371240"/>
            <a:ext cx="8961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10B1-450A-4288-A7F2-C89A2ED465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1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E4C3-FC43-4775-B214-D9EC18C19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66160" y="1371240"/>
            <a:ext cx="437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43A7-2CBC-41DE-A635-F982FC6BE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511D-C9C3-45DA-BBB5-1CE26491A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72640" y="204120"/>
            <a:ext cx="87584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7303-0C9F-4985-8AB4-AF0ED9BA5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6160" y="1371240"/>
            <a:ext cx="437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437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ADC3-67E3-45B8-B986-C6BA75DFD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66160" y="1371240"/>
            <a:ext cx="437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66160" y="3918600"/>
            <a:ext cx="437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2947-6936-4CCD-AA99-653A84A25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437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66160" y="1371240"/>
            <a:ext cx="4372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74360" y="3918600"/>
            <a:ext cx="89614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303F-F494-42A3-A794-EE605A5FD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4360" y="1371240"/>
            <a:ext cx="8961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0480" y="0"/>
            <a:ext cx="685800" cy="6861240"/>
            <a:chOff x="60480" y="0"/>
            <a:chExt cx="685800" cy="6861240"/>
          </a:xfrm>
        </p:grpSpPr>
        <p:grpSp>
          <p:nvGrpSpPr>
            <p:cNvPr id="3" name=""/>
            <p:cNvGrpSpPr/>
            <p:nvPr/>
          </p:nvGrpSpPr>
          <p:grpSpPr>
            <a:xfrm>
              <a:off x="85680" y="0"/>
              <a:ext cx="646200" cy="6859440"/>
              <a:chOff x="85680" y="0"/>
              <a:chExt cx="646200" cy="6859440"/>
            </a:xfrm>
          </p:grpSpPr>
          <p:sp>
            <p:nvSpPr>
              <p:cNvPr id="4" name=""/>
              <p:cNvSpPr/>
              <p:nvPr/>
            </p:nvSpPr>
            <p:spPr>
              <a:xfrm>
                <a:off x="92160" y="0"/>
                <a:ext cx="637920" cy="6835680"/>
              </a:xfrm>
              <a:custGeom>
                <a:avLst/>
                <a:gdLst/>
                <a:ahLst/>
                <a:rect l="l" t="t" r="r" b="b"/>
                <a:pathLst>
                  <a:path w="402" h="4306">
                    <a:moveTo>
                      <a:pt x="401" y="0"/>
                    </a:moveTo>
                    <a:lnTo>
                      <a:pt x="401" y="4305"/>
                    </a:lnTo>
                    <a:lnTo>
                      <a:pt x="0" y="4305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2160" y="1700280"/>
                <a:ext cx="637920" cy="449280"/>
              </a:xfrm>
              <a:custGeom>
                <a:avLst/>
                <a:gdLst/>
                <a:ahLst/>
                <a:rect l="l" t="t" r="r" b="b"/>
                <a:pathLst>
                  <a:path w="402" h="28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10"/>
                    </a:lnTo>
                    <a:lnTo>
                      <a:pt x="401" y="23"/>
                    </a:lnTo>
                    <a:lnTo>
                      <a:pt x="401" y="41"/>
                    </a:lnTo>
                    <a:lnTo>
                      <a:pt x="401" y="61"/>
                    </a:lnTo>
                    <a:lnTo>
                      <a:pt x="401" y="85"/>
                    </a:lnTo>
                    <a:lnTo>
                      <a:pt x="401" y="134"/>
                    </a:lnTo>
                    <a:lnTo>
                      <a:pt x="401" y="182"/>
                    </a:lnTo>
                    <a:lnTo>
                      <a:pt x="401" y="207"/>
                    </a:lnTo>
                    <a:lnTo>
                      <a:pt x="401" y="227"/>
                    </a:lnTo>
                    <a:lnTo>
                      <a:pt x="401" y="244"/>
                    </a:lnTo>
                    <a:lnTo>
                      <a:pt x="401" y="258"/>
                    </a:lnTo>
                    <a:lnTo>
                      <a:pt x="401" y="266"/>
                    </a:lnTo>
                    <a:lnTo>
                      <a:pt x="401" y="269"/>
                    </a:lnTo>
                    <a:lnTo>
                      <a:pt x="375" y="264"/>
                    </a:lnTo>
                    <a:lnTo>
                      <a:pt x="351" y="262"/>
                    </a:lnTo>
                    <a:lnTo>
                      <a:pt x="329" y="258"/>
                    </a:lnTo>
                    <a:lnTo>
                      <a:pt x="306" y="258"/>
                    </a:lnTo>
                    <a:lnTo>
                      <a:pt x="286" y="255"/>
                    </a:lnTo>
                    <a:lnTo>
                      <a:pt x="266" y="255"/>
                    </a:lnTo>
                    <a:lnTo>
                      <a:pt x="248" y="255"/>
                    </a:lnTo>
                    <a:lnTo>
                      <a:pt x="230" y="255"/>
                    </a:lnTo>
                    <a:lnTo>
                      <a:pt x="214" y="255"/>
                    </a:lnTo>
                    <a:lnTo>
                      <a:pt x="198" y="258"/>
                    </a:lnTo>
                    <a:lnTo>
                      <a:pt x="183" y="258"/>
                    </a:lnTo>
                    <a:lnTo>
                      <a:pt x="169" y="260"/>
                    </a:lnTo>
                    <a:lnTo>
                      <a:pt x="156" y="262"/>
                    </a:lnTo>
                    <a:lnTo>
                      <a:pt x="144" y="264"/>
                    </a:lnTo>
                    <a:lnTo>
                      <a:pt x="132" y="266"/>
                    </a:lnTo>
                    <a:lnTo>
                      <a:pt x="121" y="269"/>
                    </a:lnTo>
                    <a:lnTo>
                      <a:pt x="101" y="273"/>
                    </a:lnTo>
                    <a:lnTo>
                      <a:pt x="83" y="275"/>
                    </a:lnTo>
                    <a:lnTo>
                      <a:pt x="66" y="280"/>
                    </a:lnTo>
                    <a:lnTo>
                      <a:pt x="52" y="282"/>
                    </a:lnTo>
                    <a:lnTo>
                      <a:pt x="37" y="282"/>
                    </a:lnTo>
                    <a:lnTo>
                      <a:pt x="25" y="280"/>
                    </a:lnTo>
                    <a:lnTo>
                      <a:pt x="12" y="275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2160" y="1289160"/>
                <a:ext cx="637920" cy="455400"/>
              </a:xfrm>
              <a:custGeom>
                <a:avLst/>
                <a:gdLst/>
                <a:ahLst/>
                <a:rect l="l" t="t" r="r" b="b"/>
                <a:pathLst>
                  <a:path w="402" h="287">
                    <a:moveTo>
                      <a:pt x="401" y="0"/>
                    </a:moveTo>
                    <a:lnTo>
                      <a:pt x="401" y="271"/>
                    </a:lnTo>
                    <a:lnTo>
                      <a:pt x="394" y="275"/>
                    </a:lnTo>
                    <a:lnTo>
                      <a:pt x="387" y="278"/>
                    </a:lnTo>
                    <a:lnTo>
                      <a:pt x="378" y="280"/>
                    </a:lnTo>
                    <a:lnTo>
                      <a:pt x="370" y="284"/>
                    </a:lnTo>
                    <a:lnTo>
                      <a:pt x="360" y="284"/>
                    </a:lnTo>
                    <a:lnTo>
                      <a:pt x="349" y="286"/>
                    </a:lnTo>
                    <a:lnTo>
                      <a:pt x="328" y="286"/>
                    </a:lnTo>
                    <a:lnTo>
                      <a:pt x="303" y="286"/>
                    </a:lnTo>
                    <a:lnTo>
                      <a:pt x="277" y="284"/>
                    </a:lnTo>
                    <a:lnTo>
                      <a:pt x="250" y="280"/>
                    </a:lnTo>
                    <a:lnTo>
                      <a:pt x="221" y="277"/>
                    </a:lnTo>
                    <a:lnTo>
                      <a:pt x="163" y="269"/>
                    </a:lnTo>
                    <a:lnTo>
                      <a:pt x="134" y="268"/>
                    </a:lnTo>
                    <a:lnTo>
                      <a:pt x="105" y="264"/>
                    </a:lnTo>
                    <a:lnTo>
                      <a:pt x="77" y="264"/>
                    </a:lnTo>
                    <a:lnTo>
                      <a:pt x="50" y="264"/>
                    </a:lnTo>
                    <a:lnTo>
                      <a:pt x="24" y="268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2160" y="160200"/>
                <a:ext cx="637920" cy="289080"/>
              </a:xfrm>
              <a:custGeom>
                <a:avLst/>
                <a:gdLst/>
                <a:ahLst/>
                <a:rect l="l" t="t" r="r" b="b"/>
                <a:pathLst>
                  <a:path w="402" h="182">
                    <a:moveTo>
                      <a:pt x="401" y="23"/>
                    </a:moveTo>
                    <a:lnTo>
                      <a:pt x="401" y="164"/>
                    </a:lnTo>
                    <a:lnTo>
                      <a:pt x="394" y="166"/>
                    </a:lnTo>
                    <a:lnTo>
                      <a:pt x="386" y="168"/>
                    </a:lnTo>
                    <a:lnTo>
                      <a:pt x="377" y="170"/>
                    </a:lnTo>
                    <a:lnTo>
                      <a:pt x="367" y="172"/>
                    </a:lnTo>
                    <a:lnTo>
                      <a:pt x="356" y="173"/>
                    </a:lnTo>
                    <a:lnTo>
                      <a:pt x="345" y="174"/>
                    </a:lnTo>
                    <a:lnTo>
                      <a:pt x="333" y="176"/>
                    </a:lnTo>
                    <a:lnTo>
                      <a:pt x="319" y="177"/>
                    </a:lnTo>
                    <a:lnTo>
                      <a:pt x="292" y="179"/>
                    </a:lnTo>
                    <a:lnTo>
                      <a:pt x="263" y="180"/>
                    </a:lnTo>
                    <a:lnTo>
                      <a:pt x="232" y="181"/>
                    </a:lnTo>
                    <a:lnTo>
                      <a:pt x="200" y="181"/>
                    </a:lnTo>
                    <a:lnTo>
                      <a:pt x="169" y="181"/>
                    </a:lnTo>
                    <a:lnTo>
                      <a:pt x="138" y="180"/>
                    </a:lnTo>
                    <a:lnTo>
                      <a:pt x="109" y="179"/>
                    </a:lnTo>
                    <a:lnTo>
                      <a:pt x="81" y="177"/>
                    </a:lnTo>
                    <a:lnTo>
                      <a:pt x="68" y="176"/>
                    </a:lnTo>
                    <a:lnTo>
                      <a:pt x="56" y="174"/>
                    </a:lnTo>
                    <a:lnTo>
                      <a:pt x="45" y="173"/>
                    </a:lnTo>
                    <a:lnTo>
                      <a:pt x="34" y="172"/>
                    </a:lnTo>
                    <a:lnTo>
                      <a:pt x="23" y="170"/>
                    </a:lnTo>
                    <a:lnTo>
                      <a:pt x="15" y="168"/>
                    </a:lnTo>
                    <a:lnTo>
                      <a:pt x="7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5" y="19"/>
                    </a:lnTo>
                    <a:lnTo>
                      <a:pt x="11" y="14"/>
                    </a:lnTo>
                    <a:lnTo>
                      <a:pt x="18" y="11"/>
                    </a:lnTo>
                    <a:lnTo>
                      <a:pt x="25" y="8"/>
                    </a:lnTo>
                    <a:lnTo>
                      <a:pt x="34" y="6"/>
                    </a:lnTo>
                    <a:lnTo>
                      <a:pt x="43" y="4"/>
                    </a:lnTo>
                    <a:lnTo>
                      <a:pt x="61" y="1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82" y="1"/>
                    </a:lnTo>
                    <a:lnTo>
                      <a:pt x="197" y="2"/>
                    </a:lnTo>
                    <a:lnTo>
                      <a:pt x="213" y="3"/>
                    </a:lnTo>
                    <a:lnTo>
                      <a:pt x="248" y="6"/>
                    </a:lnTo>
                    <a:lnTo>
                      <a:pt x="283" y="10"/>
                    </a:lnTo>
                    <a:lnTo>
                      <a:pt x="318" y="14"/>
                    </a:lnTo>
                    <a:lnTo>
                      <a:pt x="334" y="16"/>
                    </a:lnTo>
                    <a:lnTo>
                      <a:pt x="350" y="18"/>
                    </a:lnTo>
                    <a:lnTo>
                      <a:pt x="365" y="19"/>
                    </a:lnTo>
                    <a:lnTo>
                      <a:pt x="378" y="21"/>
                    </a:lnTo>
                    <a:lnTo>
                      <a:pt x="390" y="22"/>
                    </a:lnTo>
                    <a:lnTo>
                      <a:pt x="401" y="23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92160" y="992160"/>
                <a:ext cx="637920" cy="336600"/>
              </a:xfrm>
              <a:custGeom>
                <a:avLst/>
                <a:gdLst/>
                <a:ahLst/>
                <a:rect l="l" t="t" r="r" b="b"/>
                <a:pathLst>
                  <a:path w="402" h="212">
                    <a:moveTo>
                      <a:pt x="401" y="0"/>
                    </a:moveTo>
                    <a:lnTo>
                      <a:pt x="401" y="188"/>
                    </a:lnTo>
                    <a:lnTo>
                      <a:pt x="394" y="190"/>
                    </a:lnTo>
                    <a:lnTo>
                      <a:pt x="386" y="193"/>
                    </a:lnTo>
                    <a:lnTo>
                      <a:pt x="377" y="196"/>
                    </a:lnTo>
                    <a:lnTo>
                      <a:pt x="367" y="198"/>
                    </a:lnTo>
                    <a:lnTo>
                      <a:pt x="356" y="200"/>
                    </a:lnTo>
                    <a:lnTo>
                      <a:pt x="345" y="203"/>
                    </a:lnTo>
                    <a:lnTo>
                      <a:pt x="333" y="204"/>
                    </a:lnTo>
                    <a:lnTo>
                      <a:pt x="319" y="205"/>
                    </a:lnTo>
                    <a:lnTo>
                      <a:pt x="292" y="208"/>
                    </a:lnTo>
                    <a:lnTo>
                      <a:pt x="263" y="209"/>
                    </a:lnTo>
                    <a:lnTo>
                      <a:pt x="232" y="211"/>
                    </a:lnTo>
                    <a:lnTo>
                      <a:pt x="200" y="211"/>
                    </a:lnTo>
                    <a:lnTo>
                      <a:pt x="169" y="211"/>
                    </a:lnTo>
                    <a:lnTo>
                      <a:pt x="138" y="209"/>
                    </a:lnTo>
                    <a:lnTo>
                      <a:pt x="109" y="208"/>
                    </a:lnTo>
                    <a:lnTo>
                      <a:pt x="81" y="205"/>
                    </a:lnTo>
                    <a:lnTo>
                      <a:pt x="68" y="204"/>
                    </a:lnTo>
                    <a:lnTo>
                      <a:pt x="56" y="203"/>
                    </a:lnTo>
                    <a:lnTo>
                      <a:pt x="45" y="200"/>
                    </a:lnTo>
                    <a:lnTo>
                      <a:pt x="34" y="198"/>
                    </a:lnTo>
                    <a:lnTo>
                      <a:pt x="23" y="196"/>
                    </a:lnTo>
                    <a:lnTo>
                      <a:pt x="15" y="193"/>
                    </a:lnTo>
                    <a:lnTo>
                      <a:pt x="7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4"/>
                    </a:lnTo>
                    <a:lnTo>
                      <a:pt x="64" y="6"/>
                    </a:lnTo>
                    <a:lnTo>
                      <a:pt x="84" y="8"/>
                    </a:lnTo>
                    <a:lnTo>
                      <a:pt x="103" y="9"/>
                    </a:lnTo>
                    <a:lnTo>
                      <a:pt x="121" y="10"/>
                    </a:lnTo>
                    <a:lnTo>
                      <a:pt x="138" y="10"/>
                    </a:lnTo>
                    <a:lnTo>
                      <a:pt x="155" y="12"/>
                    </a:lnTo>
                    <a:lnTo>
                      <a:pt x="171" y="12"/>
                    </a:lnTo>
                    <a:lnTo>
                      <a:pt x="185" y="12"/>
                    </a:lnTo>
                    <a:lnTo>
                      <a:pt x="200" y="12"/>
                    </a:lnTo>
                    <a:lnTo>
                      <a:pt x="213" y="12"/>
                    </a:lnTo>
                    <a:lnTo>
                      <a:pt x="238" y="12"/>
                    </a:lnTo>
                    <a:lnTo>
                      <a:pt x="261" y="10"/>
                    </a:lnTo>
                    <a:lnTo>
                      <a:pt x="283" y="9"/>
                    </a:lnTo>
                    <a:lnTo>
                      <a:pt x="302" y="8"/>
                    </a:lnTo>
                    <a:lnTo>
                      <a:pt x="320" y="5"/>
                    </a:lnTo>
                    <a:lnTo>
                      <a:pt x="337" y="4"/>
                    </a:lnTo>
                    <a:lnTo>
                      <a:pt x="353" y="2"/>
                    </a:lnTo>
                    <a:lnTo>
                      <a:pt x="370" y="1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92160" y="685800"/>
                <a:ext cx="637920" cy="433440"/>
              </a:xfrm>
              <a:custGeom>
                <a:avLst/>
                <a:gdLst/>
                <a:ahLst/>
                <a:rect l="l" t="t" r="r" b="b"/>
                <a:pathLst>
                  <a:path w="402" h="27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3"/>
                    </a:lnTo>
                    <a:lnTo>
                      <a:pt x="401" y="6"/>
                    </a:lnTo>
                    <a:lnTo>
                      <a:pt x="401" y="11"/>
                    </a:lnTo>
                    <a:lnTo>
                      <a:pt x="401" y="18"/>
                    </a:lnTo>
                    <a:lnTo>
                      <a:pt x="401" y="24"/>
                    </a:lnTo>
                    <a:lnTo>
                      <a:pt x="401" y="42"/>
                    </a:lnTo>
                    <a:lnTo>
                      <a:pt x="401" y="62"/>
                    </a:lnTo>
                    <a:lnTo>
                      <a:pt x="401" y="86"/>
                    </a:lnTo>
                    <a:lnTo>
                      <a:pt x="401" y="111"/>
                    </a:lnTo>
                    <a:lnTo>
                      <a:pt x="401" y="136"/>
                    </a:lnTo>
                    <a:lnTo>
                      <a:pt x="401" y="161"/>
                    </a:lnTo>
                    <a:lnTo>
                      <a:pt x="401" y="186"/>
                    </a:lnTo>
                    <a:lnTo>
                      <a:pt x="401" y="209"/>
                    </a:lnTo>
                    <a:lnTo>
                      <a:pt x="401" y="229"/>
                    </a:lnTo>
                    <a:lnTo>
                      <a:pt x="401" y="247"/>
                    </a:lnTo>
                    <a:lnTo>
                      <a:pt x="401" y="254"/>
                    </a:lnTo>
                    <a:lnTo>
                      <a:pt x="401" y="261"/>
                    </a:lnTo>
                    <a:lnTo>
                      <a:pt x="401" y="265"/>
                    </a:lnTo>
                    <a:lnTo>
                      <a:pt x="401" y="269"/>
                    </a:lnTo>
                    <a:lnTo>
                      <a:pt x="401" y="271"/>
                    </a:lnTo>
                    <a:lnTo>
                      <a:pt x="401" y="272"/>
                    </a:lnTo>
                    <a:lnTo>
                      <a:pt x="390" y="266"/>
                    </a:lnTo>
                    <a:lnTo>
                      <a:pt x="379" y="262"/>
                    </a:lnTo>
                    <a:lnTo>
                      <a:pt x="360" y="254"/>
                    </a:lnTo>
                    <a:lnTo>
                      <a:pt x="343" y="248"/>
                    </a:lnTo>
                    <a:lnTo>
                      <a:pt x="326" y="245"/>
                    </a:lnTo>
                    <a:lnTo>
                      <a:pt x="308" y="243"/>
                    </a:lnTo>
                    <a:lnTo>
                      <a:pt x="290" y="241"/>
                    </a:lnTo>
                    <a:lnTo>
                      <a:pt x="280" y="241"/>
                    </a:lnTo>
                    <a:lnTo>
                      <a:pt x="270" y="241"/>
                    </a:lnTo>
                    <a:lnTo>
                      <a:pt x="258" y="241"/>
                    </a:lnTo>
                    <a:lnTo>
                      <a:pt x="246" y="241"/>
                    </a:lnTo>
                    <a:lnTo>
                      <a:pt x="234" y="241"/>
                    </a:lnTo>
                    <a:lnTo>
                      <a:pt x="219" y="242"/>
                    </a:lnTo>
                    <a:lnTo>
                      <a:pt x="203" y="244"/>
                    </a:lnTo>
                    <a:lnTo>
                      <a:pt x="188" y="245"/>
                    </a:lnTo>
                    <a:lnTo>
                      <a:pt x="155" y="251"/>
                    </a:lnTo>
                    <a:lnTo>
                      <a:pt x="121" y="256"/>
                    </a:lnTo>
                    <a:lnTo>
                      <a:pt x="87" y="262"/>
                    </a:lnTo>
                    <a:lnTo>
                      <a:pt x="71" y="265"/>
                    </a:lnTo>
                    <a:lnTo>
                      <a:pt x="55" y="267"/>
                    </a:lnTo>
                    <a:lnTo>
                      <a:pt x="39" y="269"/>
                    </a:lnTo>
                    <a:lnTo>
                      <a:pt x="25" y="271"/>
                    </a:lnTo>
                    <a:lnTo>
                      <a:pt x="12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2160" y="403200"/>
                <a:ext cx="639720" cy="325440"/>
              </a:xfrm>
              <a:custGeom>
                <a:avLst/>
                <a:gdLst/>
                <a:ahLst/>
                <a:rect l="l" t="t" r="r" b="b"/>
                <a:pathLst>
                  <a:path w="403" h="205">
                    <a:moveTo>
                      <a:pt x="402" y="13"/>
                    </a:moveTo>
                    <a:lnTo>
                      <a:pt x="402" y="191"/>
                    </a:lnTo>
                    <a:lnTo>
                      <a:pt x="396" y="195"/>
                    </a:lnTo>
                    <a:lnTo>
                      <a:pt x="390" y="199"/>
                    </a:lnTo>
                    <a:lnTo>
                      <a:pt x="383" y="202"/>
                    </a:lnTo>
                    <a:lnTo>
                      <a:pt x="375" y="203"/>
                    </a:lnTo>
                    <a:lnTo>
                      <a:pt x="368" y="204"/>
                    </a:lnTo>
                    <a:lnTo>
                      <a:pt x="359" y="204"/>
                    </a:lnTo>
                    <a:lnTo>
                      <a:pt x="340" y="202"/>
                    </a:lnTo>
                    <a:lnTo>
                      <a:pt x="319" y="198"/>
                    </a:lnTo>
                    <a:lnTo>
                      <a:pt x="296" y="195"/>
                    </a:lnTo>
                    <a:lnTo>
                      <a:pt x="272" y="192"/>
                    </a:lnTo>
                    <a:lnTo>
                      <a:pt x="247" y="191"/>
                    </a:lnTo>
                    <a:lnTo>
                      <a:pt x="233" y="191"/>
                    </a:lnTo>
                    <a:lnTo>
                      <a:pt x="219" y="192"/>
                    </a:lnTo>
                    <a:lnTo>
                      <a:pt x="202" y="193"/>
                    </a:lnTo>
                    <a:lnTo>
                      <a:pt x="186" y="195"/>
                    </a:lnTo>
                    <a:lnTo>
                      <a:pt x="168" y="197"/>
                    </a:lnTo>
                    <a:lnTo>
                      <a:pt x="150" y="198"/>
                    </a:lnTo>
                    <a:lnTo>
                      <a:pt x="113" y="202"/>
                    </a:lnTo>
                    <a:lnTo>
                      <a:pt x="96" y="203"/>
                    </a:lnTo>
                    <a:lnTo>
                      <a:pt x="78" y="204"/>
                    </a:lnTo>
                    <a:lnTo>
                      <a:pt x="61" y="204"/>
                    </a:lnTo>
                    <a:lnTo>
                      <a:pt x="46" y="203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9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5" y="10"/>
                    </a:lnTo>
                    <a:lnTo>
                      <a:pt x="12" y="8"/>
                    </a:lnTo>
                    <a:lnTo>
                      <a:pt x="19" y="6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67" y="1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40" y="1"/>
                    </a:lnTo>
                    <a:lnTo>
                      <a:pt x="166" y="2"/>
                    </a:lnTo>
                    <a:lnTo>
                      <a:pt x="191" y="4"/>
                    </a:lnTo>
                    <a:lnTo>
                      <a:pt x="218" y="5"/>
                    </a:lnTo>
                    <a:lnTo>
                      <a:pt x="242" y="7"/>
                    </a:lnTo>
                    <a:lnTo>
                      <a:pt x="266" y="9"/>
                    </a:lnTo>
                    <a:lnTo>
                      <a:pt x="288" y="10"/>
                    </a:lnTo>
                    <a:lnTo>
                      <a:pt x="308" y="11"/>
                    </a:lnTo>
                    <a:lnTo>
                      <a:pt x="317" y="12"/>
                    </a:lnTo>
                    <a:lnTo>
                      <a:pt x="325" y="13"/>
                    </a:lnTo>
                    <a:lnTo>
                      <a:pt x="332" y="13"/>
                    </a:lnTo>
                    <a:lnTo>
                      <a:pt x="339" y="13"/>
                    </a:lnTo>
                    <a:lnTo>
                      <a:pt x="351" y="13"/>
                    </a:lnTo>
                    <a:lnTo>
                      <a:pt x="361" y="13"/>
                    </a:lnTo>
                    <a:lnTo>
                      <a:pt x="369" y="13"/>
                    </a:lnTo>
                    <a:lnTo>
                      <a:pt x="375" y="13"/>
                    </a:lnTo>
                    <a:lnTo>
                      <a:pt x="381" y="13"/>
                    </a:lnTo>
                    <a:lnTo>
                      <a:pt x="385" y="13"/>
                    </a:lnTo>
                    <a:lnTo>
                      <a:pt x="388" y="13"/>
                    </a:lnTo>
                    <a:lnTo>
                      <a:pt x="391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8" y="13"/>
                    </a:lnTo>
                    <a:lnTo>
                      <a:pt x="399" y="13"/>
                    </a:lnTo>
                    <a:lnTo>
                      <a:pt x="40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680" y="3938760"/>
                <a:ext cx="636480" cy="457200"/>
              </a:xfrm>
              <a:custGeom>
                <a:avLst/>
                <a:gdLst/>
                <a:ahLst/>
                <a:rect l="l" t="t" r="r" b="b"/>
                <a:pathLst>
                  <a:path w="401" h="288">
                    <a:moveTo>
                      <a:pt x="400" y="0"/>
                    </a:moveTo>
                    <a:lnTo>
                      <a:pt x="400" y="5"/>
                    </a:lnTo>
                    <a:lnTo>
                      <a:pt x="400" y="14"/>
                    </a:lnTo>
                    <a:lnTo>
                      <a:pt x="400" y="27"/>
                    </a:lnTo>
                    <a:lnTo>
                      <a:pt x="400" y="45"/>
                    </a:lnTo>
                    <a:lnTo>
                      <a:pt x="400" y="85"/>
                    </a:lnTo>
                    <a:lnTo>
                      <a:pt x="400" y="139"/>
                    </a:lnTo>
                    <a:lnTo>
                      <a:pt x="400" y="188"/>
                    </a:lnTo>
                    <a:lnTo>
                      <a:pt x="400" y="233"/>
                    </a:lnTo>
                    <a:lnTo>
                      <a:pt x="400" y="246"/>
                    </a:lnTo>
                    <a:lnTo>
                      <a:pt x="400" y="260"/>
                    </a:lnTo>
                    <a:lnTo>
                      <a:pt x="400" y="269"/>
                    </a:lnTo>
                    <a:lnTo>
                      <a:pt x="400" y="273"/>
                    </a:lnTo>
                    <a:lnTo>
                      <a:pt x="374" y="269"/>
                    </a:lnTo>
                    <a:lnTo>
                      <a:pt x="350" y="264"/>
                    </a:lnTo>
                    <a:lnTo>
                      <a:pt x="328" y="264"/>
                    </a:lnTo>
                    <a:lnTo>
                      <a:pt x="306" y="260"/>
                    </a:lnTo>
                    <a:lnTo>
                      <a:pt x="285" y="260"/>
                    </a:lnTo>
                    <a:lnTo>
                      <a:pt x="266" y="260"/>
                    </a:lnTo>
                    <a:lnTo>
                      <a:pt x="247" y="260"/>
                    </a:lnTo>
                    <a:lnTo>
                      <a:pt x="230" y="260"/>
                    </a:lnTo>
                    <a:lnTo>
                      <a:pt x="214" y="260"/>
                    </a:lnTo>
                    <a:lnTo>
                      <a:pt x="198" y="260"/>
                    </a:lnTo>
                    <a:lnTo>
                      <a:pt x="183" y="260"/>
                    </a:lnTo>
                    <a:lnTo>
                      <a:pt x="169" y="264"/>
                    </a:lnTo>
                    <a:lnTo>
                      <a:pt x="156" y="264"/>
                    </a:lnTo>
                    <a:lnTo>
                      <a:pt x="144" y="269"/>
                    </a:lnTo>
                    <a:lnTo>
                      <a:pt x="132" y="269"/>
                    </a:lnTo>
                    <a:lnTo>
                      <a:pt x="121" y="273"/>
                    </a:lnTo>
                    <a:lnTo>
                      <a:pt x="101" y="278"/>
                    </a:lnTo>
                    <a:lnTo>
                      <a:pt x="82" y="282"/>
                    </a:lnTo>
                    <a:lnTo>
                      <a:pt x="66" y="282"/>
                    </a:lnTo>
                    <a:lnTo>
                      <a:pt x="51" y="287"/>
                    </a:lnTo>
                    <a:lnTo>
                      <a:pt x="37" y="287"/>
                    </a:lnTo>
                    <a:lnTo>
                      <a:pt x="25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680" y="3538440"/>
                <a:ext cx="636480" cy="460440"/>
              </a:xfrm>
              <a:custGeom>
                <a:avLst/>
                <a:gdLst/>
                <a:ahLst/>
                <a:rect l="l" t="t" r="r" b="b"/>
                <a:pathLst>
                  <a:path w="401" h="290">
                    <a:moveTo>
                      <a:pt x="400" y="0"/>
                    </a:moveTo>
                    <a:lnTo>
                      <a:pt x="400" y="272"/>
                    </a:lnTo>
                    <a:lnTo>
                      <a:pt x="393" y="276"/>
                    </a:lnTo>
                    <a:lnTo>
                      <a:pt x="386" y="280"/>
                    </a:lnTo>
                    <a:lnTo>
                      <a:pt x="378" y="280"/>
                    </a:lnTo>
                    <a:lnTo>
                      <a:pt x="368" y="284"/>
                    </a:lnTo>
                    <a:lnTo>
                      <a:pt x="359" y="284"/>
                    </a:lnTo>
                    <a:lnTo>
                      <a:pt x="349" y="284"/>
                    </a:lnTo>
                    <a:lnTo>
                      <a:pt x="326" y="289"/>
                    </a:lnTo>
                    <a:lnTo>
                      <a:pt x="302" y="284"/>
                    </a:lnTo>
                    <a:lnTo>
                      <a:pt x="276" y="284"/>
                    </a:lnTo>
                    <a:lnTo>
                      <a:pt x="249" y="280"/>
                    </a:lnTo>
                    <a:lnTo>
                      <a:pt x="221" y="276"/>
                    </a:lnTo>
                    <a:lnTo>
                      <a:pt x="162" y="268"/>
                    </a:lnTo>
                    <a:lnTo>
                      <a:pt x="133" y="268"/>
                    </a:lnTo>
                    <a:lnTo>
                      <a:pt x="105" y="264"/>
                    </a:lnTo>
                    <a:lnTo>
                      <a:pt x="76" y="264"/>
                    </a:lnTo>
                    <a:lnTo>
                      <a:pt x="49" y="264"/>
                    </a:lnTo>
                    <a:lnTo>
                      <a:pt x="24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680" y="2406600"/>
                <a:ext cx="636480" cy="292320"/>
              </a:xfrm>
              <a:custGeom>
                <a:avLst/>
                <a:gdLst/>
                <a:ahLst/>
                <a:rect l="l" t="t" r="r" b="b"/>
                <a:pathLst>
                  <a:path w="401" h="184">
                    <a:moveTo>
                      <a:pt x="400" y="22"/>
                    </a:moveTo>
                    <a:lnTo>
                      <a:pt x="400" y="164"/>
                    </a:lnTo>
                    <a:lnTo>
                      <a:pt x="393" y="166"/>
                    </a:lnTo>
                    <a:lnTo>
                      <a:pt x="385" y="169"/>
                    </a:lnTo>
                    <a:lnTo>
                      <a:pt x="377" y="169"/>
                    </a:lnTo>
                    <a:lnTo>
                      <a:pt x="366" y="172"/>
                    </a:lnTo>
                    <a:lnTo>
                      <a:pt x="356" y="174"/>
                    </a:lnTo>
                    <a:lnTo>
                      <a:pt x="343" y="174"/>
                    </a:lnTo>
                    <a:lnTo>
                      <a:pt x="332" y="177"/>
                    </a:lnTo>
                    <a:lnTo>
                      <a:pt x="318" y="177"/>
                    </a:lnTo>
                    <a:lnTo>
                      <a:pt x="291" y="180"/>
                    </a:lnTo>
                    <a:lnTo>
                      <a:pt x="261" y="180"/>
                    </a:lnTo>
                    <a:lnTo>
                      <a:pt x="230" y="183"/>
                    </a:lnTo>
                    <a:lnTo>
                      <a:pt x="200" y="183"/>
                    </a:lnTo>
                    <a:lnTo>
                      <a:pt x="169" y="183"/>
                    </a:lnTo>
                    <a:lnTo>
                      <a:pt x="138" y="180"/>
                    </a:lnTo>
                    <a:lnTo>
                      <a:pt x="109" y="180"/>
                    </a:lnTo>
                    <a:lnTo>
                      <a:pt x="81" y="177"/>
                    </a:lnTo>
                    <a:lnTo>
                      <a:pt x="68" y="177"/>
                    </a:lnTo>
                    <a:lnTo>
                      <a:pt x="56" y="174"/>
                    </a:lnTo>
                    <a:lnTo>
                      <a:pt x="44" y="174"/>
                    </a:lnTo>
                    <a:lnTo>
                      <a:pt x="33" y="172"/>
                    </a:lnTo>
                    <a:lnTo>
                      <a:pt x="24" y="169"/>
                    </a:lnTo>
                    <a:lnTo>
                      <a:pt x="14" y="169"/>
                    </a:lnTo>
                    <a:lnTo>
                      <a:pt x="6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5" y="17"/>
                    </a:lnTo>
                    <a:lnTo>
                      <a:pt x="11" y="14"/>
                    </a:lnTo>
                    <a:lnTo>
                      <a:pt x="17" y="11"/>
                    </a:lnTo>
                    <a:lnTo>
                      <a:pt x="25" y="8"/>
                    </a:lnTo>
                    <a:lnTo>
                      <a:pt x="33" y="6"/>
                    </a:lnTo>
                    <a:lnTo>
                      <a:pt x="42" y="3"/>
                    </a:lnTo>
                    <a:lnTo>
                      <a:pt x="61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66" y="0"/>
                    </a:lnTo>
                    <a:lnTo>
                      <a:pt x="180" y="0"/>
                    </a:lnTo>
                    <a:lnTo>
                      <a:pt x="196" y="3"/>
                    </a:lnTo>
                    <a:lnTo>
                      <a:pt x="213" y="3"/>
                    </a:lnTo>
                    <a:lnTo>
                      <a:pt x="247" y="6"/>
                    </a:lnTo>
                    <a:lnTo>
                      <a:pt x="282" y="11"/>
                    </a:lnTo>
                    <a:lnTo>
                      <a:pt x="317" y="14"/>
                    </a:lnTo>
                    <a:lnTo>
                      <a:pt x="333" y="17"/>
                    </a:lnTo>
                    <a:lnTo>
                      <a:pt x="349" y="17"/>
                    </a:lnTo>
                    <a:lnTo>
                      <a:pt x="364" y="19"/>
                    </a:lnTo>
                    <a:lnTo>
                      <a:pt x="377" y="19"/>
                    </a:lnTo>
                    <a:lnTo>
                      <a:pt x="389" y="22"/>
                    </a:lnTo>
                    <a:lnTo>
                      <a:pt x="400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680" y="3236760"/>
                <a:ext cx="636480" cy="339840"/>
              </a:xfrm>
              <a:custGeom>
                <a:avLst/>
                <a:gdLst/>
                <a:ahLst/>
                <a:rect l="l" t="t" r="r" b="b"/>
                <a:pathLst>
                  <a:path w="401" h="214">
                    <a:moveTo>
                      <a:pt x="400" y="0"/>
                    </a:moveTo>
                    <a:lnTo>
                      <a:pt x="400" y="188"/>
                    </a:lnTo>
                    <a:lnTo>
                      <a:pt x="393" y="191"/>
                    </a:lnTo>
                    <a:lnTo>
                      <a:pt x="385" y="195"/>
                    </a:lnTo>
                    <a:lnTo>
                      <a:pt x="377" y="195"/>
                    </a:lnTo>
                    <a:lnTo>
                      <a:pt x="366" y="198"/>
                    </a:lnTo>
                    <a:lnTo>
                      <a:pt x="356" y="202"/>
                    </a:lnTo>
                    <a:lnTo>
                      <a:pt x="343" y="202"/>
                    </a:lnTo>
                    <a:lnTo>
                      <a:pt x="332" y="206"/>
                    </a:lnTo>
                    <a:lnTo>
                      <a:pt x="318" y="206"/>
                    </a:lnTo>
                    <a:lnTo>
                      <a:pt x="291" y="209"/>
                    </a:lnTo>
                    <a:lnTo>
                      <a:pt x="261" y="209"/>
                    </a:lnTo>
                    <a:lnTo>
                      <a:pt x="230" y="213"/>
                    </a:lnTo>
                    <a:lnTo>
                      <a:pt x="200" y="213"/>
                    </a:lnTo>
                    <a:lnTo>
                      <a:pt x="169" y="213"/>
                    </a:lnTo>
                    <a:lnTo>
                      <a:pt x="138" y="209"/>
                    </a:lnTo>
                    <a:lnTo>
                      <a:pt x="109" y="209"/>
                    </a:lnTo>
                    <a:lnTo>
                      <a:pt x="81" y="206"/>
                    </a:lnTo>
                    <a:lnTo>
                      <a:pt x="68" y="206"/>
                    </a:lnTo>
                    <a:lnTo>
                      <a:pt x="56" y="202"/>
                    </a:lnTo>
                    <a:lnTo>
                      <a:pt x="44" y="202"/>
                    </a:lnTo>
                    <a:lnTo>
                      <a:pt x="33" y="198"/>
                    </a:lnTo>
                    <a:lnTo>
                      <a:pt x="24" y="195"/>
                    </a:lnTo>
                    <a:lnTo>
                      <a:pt x="14" y="195"/>
                    </a:lnTo>
                    <a:lnTo>
                      <a:pt x="6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4"/>
                    </a:lnTo>
                    <a:lnTo>
                      <a:pt x="44" y="4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11"/>
                    </a:lnTo>
                    <a:lnTo>
                      <a:pt x="121" y="11"/>
                    </a:lnTo>
                    <a:lnTo>
                      <a:pt x="138" y="11"/>
                    </a:lnTo>
                    <a:lnTo>
                      <a:pt x="155" y="11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3" y="14"/>
                    </a:lnTo>
                    <a:lnTo>
                      <a:pt x="238" y="11"/>
                    </a:lnTo>
                    <a:lnTo>
                      <a:pt x="261" y="11"/>
                    </a:lnTo>
                    <a:lnTo>
                      <a:pt x="282" y="11"/>
                    </a:lnTo>
                    <a:lnTo>
                      <a:pt x="302" y="7"/>
                    </a:lnTo>
                    <a:lnTo>
                      <a:pt x="320" y="7"/>
                    </a:lnTo>
                    <a:lnTo>
                      <a:pt x="337" y="4"/>
                    </a:lnTo>
                    <a:lnTo>
                      <a:pt x="353" y="4"/>
                    </a:lnTo>
                    <a:lnTo>
                      <a:pt x="369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680" y="2932200"/>
                <a:ext cx="636480" cy="431640"/>
              </a:xfrm>
              <a:custGeom>
                <a:avLst/>
                <a:gdLst/>
                <a:ahLst/>
                <a:rect l="l" t="t" r="r" b="b"/>
                <a:pathLst>
                  <a:path w="401" h="272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1"/>
                    </a:lnTo>
                    <a:lnTo>
                      <a:pt x="400" y="24"/>
                    </a:lnTo>
                    <a:lnTo>
                      <a:pt x="400" y="44"/>
                    </a:lnTo>
                    <a:lnTo>
                      <a:pt x="400" y="85"/>
                    </a:lnTo>
                    <a:lnTo>
                      <a:pt x="400" y="136"/>
                    </a:lnTo>
                    <a:lnTo>
                      <a:pt x="400" y="186"/>
                    </a:lnTo>
                    <a:lnTo>
                      <a:pt x="400" y="230"/>
                    </a:lnTo>
                    <a:lnTo>
                      <a:pt x="400" y="247"/>
                    </a:lnTo>
                    <a:lnTo>
                      <a:pt x="400" y="261"/>
                    </a:lnTo>
                    <a:lnTo>
                      <a:pt x="400" y="268"/>
                    </a:lnTo>
                    <a:lnTo>
                      <a:pt x="400" y="271"/>
                    </a:lnTo>
                    <a:lnTo>
                      <a:pt x="388" y="264"/>
                    </a:lnTo>
                    <a:lnTo>
                      <a:pt x="379" y="261"/>
                    </a:lnTo>
                    <a:lnTo>
                      <a:pt x="359" y="251"/>
                    </a:lnTo>
                    <a:lnTo>
                      <a:pt x="341" y="244"/>
                    </a:lnTo>
                    <a:lnTo>
                      <a:pt x="325" y="241"/>
                    </a:lnTo>
                    <a:lnTo>
                      <a:pt x="307" y="241"/>
                    </a:lnTo>
                    <a:lnTo>
                      <a:pt x="290" y="237"/>
                    </a:lnTo>
                    <a:lnTo>
                      <a:pt x="279" y="237"/>
                    </a:lnTo>
                    <a:lnTo>
                      <a:pt x="270" y="237"/>
                    </a:lnTo>
                    <a:lnTo>
                      <a:pt x="258" y="237"/>
                    </a:lnTo>
                    <a:lnTo>
                      <a:pt x="246" y="237"/>
                    </a:lnTo>
                    <a:lnTo>
                      <a:pt x="233" y="237"/>
                    </a:lnTo>
                    <a:lnTo>
                      <a:pt x="219" y="237"/>
                    </a:lnTo>
                    <a:lnTo>
                      <a:pt x="204" y="241"/>
                    </a:lnTo>
                    <a:lnTo>
                      <a:pt x="188" y="244"/>
                    </a:lnTo>
                    <a:lnTo>
                      <a:pt x="155" y="247"/>
                    </a:lnTo>
                    <a:lnTo>
                      <a:pt x="121" y="254"/>
                    </a:lnTo>
                    <a:lnTo>
                      <a:pt x="87" y="261"/>
                    </a:lnTo>
                    <a:lnTo>
                      <a:pt x="70" y="264"/>
                    </a:lnTo>
                    <a:lnTo>
                      <a:pt x="54" y="264"/>
                    </a:lnTo>
                    <a:lnTo>
                      <a:pt x="40" y="268"/>
                    </a:lnTo>
                    <a:lnTo>
                      <a:pt x="25" y="271"/>
                    </a:lnTo>
                    <a:lnTo>
                      <a:pt x="12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680" y="2649600"/>
                <a:ext cx="636480" cy="32220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2"/>
                    </a:moveTo>
                    <a:lnTo>
                      <a:pt x="400" y="190"/>
                    </a:lnTo>
                    <a:lnTo>
                      <a:pt x="394" y="196"/>
                    </a:lnTo>
                    <a:lnTo>
                      <a:pt x="389" y="199"/>
                    </a:lnTo>
                    <a:lnTo>
                      <a:pt x="382" y="202"/>
                    </a:lnTo>
                    <a:lnTo>
                      <a:pt x="374" y="202"/>
                    </a:lnTo>
                    <a:lnTo>
                      <a:pt x="366" y="202"/>
                    </a:lnTo>
                    <a:lnTo>
                      <a:pt x="358" y="202"/>
                    </a:lnTo>
                    <a:lnTo>
                      <a:pt x="338" y="202"/>
                    </a:lnTo>
                    <a:lnTo>
                      <a:pt x="317" y="199"/>
                    </a:lnTo>
                    <a:lnTo>
                      <a:pt x="295" y="193"/>
                    </a:lnTo>
                    <a:lnTo>
                      <a:pt x="270" y="190"/>
                    </a:lnTo>
                    <a:lnTo>
                      <a:pt x="246" y="190"/>
                    </a:lnTo>
                    <a:lnTo>
                      <a:pt x="232" y="190"/>
                    </a:lnTo>
                    <a:lnTo>
                      <a:pt x="218" y="190"/>
                    </a:lnTo>
                    <a:lnTo>
                      <a:pt x="202" y="193"/>
                    </a:lnTo>
                    <a:lnTo>
                      <a:pt x="185" y="193"/>
                    </a:lnTo>
                    <a:lnTo>
                      <a:pt x="168" y="196"/>
                    </a:lnTo>
                    <a:lnTo>
                      <a:pt x="149" y="199"/>
                    </a:lnTo>
                    <a:lnTo>
                      <a:pt x="112" y="202"/>
                    </a:lnTo>
                    <a:lnTo>
                      <a:pt x="95" y="202"/>
                    </a:lnTo>
                    <a:lnTo>
                      <a:pt x="78" y="202"/>
                    </a:lnTo>
                    <a:lnTo>
                      <a:pt x="61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8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5" y="9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0"/>
                    </a:lnTo>
                    <a:lnTo>
                      <a:pt x="67" y="0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3"/>
                    </a:lnTo>
                    <a:lnTo>
                      <a:pt x="217" y="3"/>
                    </a:lnTo>
                    <a:lnTo>
                      <a:pt x="241" y="6"/>
                    </a:lnTo>
                    <a:lnTo>
                      <a:pt x="265" y="9"/>
                    </a:lnTo>
                    <a:lnTo>
                      <a:pt x="287" y="9"/>
                    </a:lnTo>
                    <a:lnTo>
                      <a:pt x="307" y="12"/>
                    </a:lnTo>
                    <a:lnTo>
                      <a:pt x="316" y="12"/>
                    </a:lnTo>
                    <a:lnTo>
                      <a:pt x="324" y="12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9" y="12"/>
                    </a:lnTo>
                    <a:lnTo>
                      <a:pt x="359" y="12"/>
                    </a:lnTo>
                    <a:lnTo>
                      <a:pt x="368" y="12"/>
                    </a:lnTo>
                    <a:lnTo>
                      <a:pt x="374" y="12"/>
                    </a:lnTo>
                    <a:lnTo>
                      <a:pt x="379" y="12"/>
                    </a:lnTo>
                    <a:lnTo>
                      <a:pt x="383" y="12"/>
                    </a:lnTo>
                    <a:lnTo>
                      <a:pt x="386" y="12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4" y="12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400" y="12"/>
                    </a:ln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2160" y="4978440"/>
                <a:ext cx="636480" cy="446040"/>
              </a:xfrm>
              <a:custGeom>
                <a:avLst/>
                <a:gdLst/>
                <a:ahLst/>
                <a:rect l="l" t="t" r="r" b="b"/>
                <a:pathLst>
                  <a:path w="401" h="281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0"/>
                    </a:lnTo>
                    <a:lnTo>
                      <a:pt x="400" y="43"/>
                    </a:lnTo>
                    <a:lnTo>
                      <a:pt x="400" y="87"/>
                    </a:lnTo>
                    <a:lnTo>
                      <a:pt x="400" y="137"/>
                    </a:lnTo>
                    <a:lnTo>
                      <a:pt x="400" y="186"/>
                    </a:lnTo>
                    <a:lnTo>
                      <a:pt x="400" y="225"/>
                    </a:lnTo>
                    <a:lnTo>
                      <a:pt x="400" y="258"/>
                    </a:lnTo>
                    <a:lnTo>
                      <a:pt x="400" y="263"/>
                    </a:lnTo>
                    <a:lnTo>
                      <a:pt x="400" y="269"/>
                    </a:lnTo>
                    <a:lnTo>
                      <a:pt x="374" y="263"/>
                    </a:lnTo>
                    <a:lnTo>
                      <a:pt x="350" y="263"/>
                    </a:lnTo>
                    <a:lnTo>
                      <a:pt x="328" y="258"/>
                    </a:lnTo>
                    <a:lnTo>
                      <a:pt x="306" y="258"/>
                    </a:lnTo>
                    <a:lnTo>
                      <a:pt x="286" y="258"/>
                    </a:lnTo>
                    <a:lnTo>
                      <a:pt x="266" y="252"/>
                    </a:lnTo>
                    <a:lnTo>
                      <a:pt x="247" y="252"/>
                    </a:lnTo>
                    <a:lnTo>
                      <a:pt x="230" y="252"/>
                    </a:lnTo>
                    <a:lnTo>
                      <a:pt x="214" y="252"/>
                    </a:lnTo>
                    <a:lnTo>
                      <a:pt x="198" y="258"/>
                    </a:lnTo>
                    <a:lnTo>
                      <a:pt x="182" y="258"/>
                    </a:lnTo>
                    <a:lnTo>
                      <a:pt x="169" y="258"/>
                    </a:lnTo>
                    <a:lnTo>
                      <a:pt x="156" y="263"/>
                    </a:lnTo>
                    <a:lnTo>
                      <a:pt x="144" y="263"/>
                    </a:lnTo>
                    <a:lnTo>
                      <a:pt x="132" y="263"/>
                    </a:lnTo>
                    <a:lnTo>
                      <a:pt x="121" y="269"/>
                    </a:lnTo>
                    <a:lnTo>
                      <a:pt x="101" y="269"/>
                    </a:lnTo>
                    <a:lnTo>
                      <a:pt x="82" y="274"/>
                    </a:lnTo>
                    <a:lnTo>
                      <a:pt x="66" y="280"/>
                    </a:lnTo>
                    <a:lnTo>
                      <a:pt x="51" y="280"/>
                    </a:lnTo>
                    <a:lnTo>
                      <a:pt x="37" y="280"/>
                    </a:lnTo>
                    <a:lnTo>
                      <a:pt x="25" y="280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2160" y="4568760"/>
                <a:ext cx="636480" cy="453960"/>
              </a:xfrm>
              <a:custGeom>
                <a:avLst/>
                <a:gdLst/>
                <a:ahLst/>
                <a:rect l="l" t="t" r="r" b="b"/>
                <a:pathLst>
                  <a:path w="401" h="286">
                    <a:moveTo>
                      <a:pt x="400" y="0"/>
                    </a:moveTo>
                    <a:lnTo>
                      <a:pt x="400" y="270"/>
                    </a:lnTo>
                    <a:lnTo>
                      <a:pt x="393" y="275"/>
                    </a:lnTo>
                    <a:lnTo>
                      <a:pt x="386" y="275"/>
                    </a:lnTo>
                    <a:lnTo>
                      <a:pt x="377" y="280"/>
                    </a:lnTo>
                    <a:lnTo>
                      <a:pt x="369" y="280"/>
                    </a:lnTo>
                    <a:lnTo>
                      <a:pt x="359" y="285"/>
                    </a:lnTo>
                    <a:lnTo>
                      <a:pt x="349" y="285"/>
                    </a:lnTo>
                    <a:lnTo>
                      <a:pt x="327" y="285"/>
                    </a:lnTo>
                    <a:lnTo>
                      <a:pt x="302" y="285"/>
                    </a:lnTo>
                    <a:lnTo>
                      <a:pt x="277" y="280"/>
                    </a:lnTo>
                    <a:lnTo>
                      <a:pt x="249" y="280"/>
                    </a:lnTo>
                    <a:lnTo>
                      <a:pt x="221" y="275"/>
                    </a:lnTo>
                    <a:lnTo>
                      <a:pt x="163" y="270"/>
                    </a:lnTo>
                    <a:lnTo>
                      <a:pt x="134" y="265"/>
                    </a:lnTo>
                    <a:lnTo>
                      <a:pt x="105" y="265"/>
                    </a:lnTo>
                    <a:lnTo>
                      <a:pt x="76" y="265"/>
                    </a:lnTo>
                    <a:lnTo>
                      <a:pt x="50" y="265"/>
                    </a:lnTo>
                    <a:lnTo>
                      <a:pt x="24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5680" y="5680080"/>
                <a:ext cx="636480" cy="289080"/>
              </a:xfrm>
              <a:custGeom>
                <a:avLst/>
                <a:gdLst/>
                <a:ahLst/>
                <a:rect l="l" t="t" r="r" b="b"/>
                <a:pathLst>
                  <a:path w="401" h="182">
                    <a:moveTo>
                      <a:pt x="400" y="24"/>
                    </a:moveTo>
                    <a:lnTo>
                      <a:pt x="400" y="163"/>
                    </a:lnTo>
                    <a:lnTo>
                      <a:pt x="393" y="163"/>
                    </a:lnTo>
                    <a:lnTo>
                      <a:pt x="385" y="169"/>
                    </a:lnTo>
                    <a:lnTo>
                      <a:pt x="376" y="169"/>
                    </a:lnTo>
                    <a:lnTo>
                      <a:pt x="366" y="169"/>
                    </a:lnTo>
                    <a:lnTo>
                      <a:pt x="355" y="175"/>
                    </a:lnTo>
                    <a:lnTo>
                      <a:pt x="344" y="175"/>
                    </a:lnTo>
                    <a:lnTo>
                      <a:pt x="332" y="175"/>
                    </a:lnTo>
                    <a:lnTo>
                      <a:pt x="318" y="175"/>
                    </a:lnTo>
                    <a:lnTo>
                      <a:pt x="291" y="181"/>
                    </a:lnTo>
                    <a:lnTo>
                      <a:pt x="262" y="181"/>
                    </a:lnTo>
                    <a:lnTo>
                      <a:pt x="231" y="181"/>
                    </a:lnTo>
                    <a:lnTo>
                      <a:pt x="200" y="181"/>
                    </a:lnTo>
                    <a:lnTo>
                      <a:pt x="168" y="181"/>
                    </a:lnTo>
                    <a:lnTo>
                      <a:pt x="137" y="181"/>
                    </a:lnTo>
                    <a:lnTo>
                      <a:pt x="108" y="181"/>
                    </a:lnTo>
                    <a:lnTo>
                      <a:pt x="81" y="175"/>
                    </a:lnTo>
                    <a:lnTo>
                      <a:pt x="68" y="175"/>
                    </a:lnTo>
                    <a:lnTo>
                      <a:pt x="55" y="175"/>
                    </a:lnTo>
                    <a:lnTo>
                      <a:pt x="44" y="175"/>
                    </a:lnTo>
                    <a:lnTo>
                      <a:pt x="33" y="169"/>
                    </a:lnTo>
                    <a:lnTo>
                      <a:pt x="23" y="169"/>
                    </a:lnTo>
                    <a:lnTo>
                      <a:pt x="14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42" y="6"/>
                    </a:lnTo>
                    <a:lnTo>
                      <a:pt x="62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3" y="0"/>
                    </a:lnTo>
                    <a:lnTo>
                      <a:pt x="167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3" y="6"/>
                    </a:lnTo>
                    <a:lnTo>
                      <a:pt x="247" y="6"/>
                    </a:lnTo>
                    <a:lnTo>
                      <a:pt x="282" y="12"/>
                    </a:lnTo>
                    <a:lnTo>
                      <a:pt x="317" y="12"/>
                    </a:lnTo>
                    <a:lnTo>
                      <a:pt x="333" y="18"/>
                    </a:lnTo>
                    <a:lnTo>
                      <a:pt x="349" y="18"/>
                    </a:lnTo>
                    <a:lnTo>
                      <a:pt x="364" y="18"/>
                    </a:lnTo>
                    <a:lnTo>
                      <a:pt x="377" y="24"/>
                    </a:lnTo>
                    <a:lnTo>
                      <a:pt x="389" y="24"/>
                    </a:lnTo>
                    <a:lnTo>
                      <a:pt x="400" y="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5680" y="6507000"/>
                <a:ext cx="636480" cy="352440"/>
              </a:xfrm>
              <a:custGeom>
                <a:avLst/>
                <a:gdLst/>
                <a:ahLst/>
                <a:rect l="l" t="t" r="r" b="b"/>
                <a:pathLst>
                  <a:path w="401" h="222">
                    <a:moveTo>
                      <a:pt x="399" y="0"/>
                    </a:moveTo>
                    <a:lnTo>
                      <a:pt x="400" y="221"/>
                    </a:lnTo>
                    <a:lnTo>
                      <a:pt x="3" y="22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7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7"/>
                    </a:lnTo>
                    <a:lnTo>
                      <a:pt x="121" y="14"/>
                    </a:lnTo>
                    <a:lnTo>
                      <a:pt x="138" y="14"/>
                    </a:lnTo>
                    <a:lnTo>
                      <a:pt x="155" y="14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2" y="14"/>
                    </a:lnTo>
                    <a:lnTo>
                      <a:pt x="238" y="14"/>
                    </a:lnTo>
                    <a:lnTo>
                      <a:pt x="260" y="14"/>
                    </a:lnTo>
                    <a:lnTo>
                      <a:pt x="282" y="7"/>
                    </a:lnTo>
                    <a:lnTo>
                      <a:pt x="301" y="7"/>
                    </a:lnTo>
                    <a:lnTo>
                      <a:pt x="319" y="7"/>
                    </a:lnTo>
                    <a:lnTo>
                      <a:pt x="336" y="7"/>
                    </a:lnTo>
                    <a:lnTo>
                      <a:pt x="352" y="0"/>
                    </a:lnTo>
                    <a:lnTo>
                      <a:pt x="368" y="0"/>
                    </a:lnTo>
                    <a:lnTo>
                      <a:pt x="39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680" y="6200640"/>
                <a:ext cx="636480" cy="436680"/>
              </a:xfrm>
              <a:custGeom>
                <a:avLst/>
                <a:gdLst/>
                <a:ahLst/>
                <a:rect l="l" t="t" r="r" b="b"/>
                <a:pathLst>
                  <a:path w="401" h="275">
                    <a:moveTo>
                      <a:pt x="400" y="0"/>
                    </a:moveTo>
                    <a:lnTo>
                      <a:pt x="400" y="13"/>
                    </a:lnTo>
                    <a:lnTo>
                      <a:pt x="400" y="40"/>
                    </a:lnTo>
                    <a:lnTo>
                      <a:pt x="400" y="87"/>
                    </a:lnTo>
                    <a:lnTo>
                      <a:pt x="400" y="140"/>
                    </a:lnTo>
                    <a:lnTo>
                      <a:pt x="400" y="187"/>
                    </a:lnTo>
                    <a:lnTo>
                      <a:pt x="400" y="234"/>
                    </a:lnTo>
                    <a:lnTo>
                      <a:pt x="400" y="261"/>
                    </a:lnTo>
                    <a:lnTo>
                      <a:pt x="400" y="274"/>
                    </a:lnTo>
                    <a:lnTo>
                      <a:pt x="388" y="267"/>
                    </a:lnTo>
                    <a:lnTo>
                      <a:pt x="379" y="261"/>
                    </a:lnTo>
                    <a:lnTo>
                      <a:pt x="359" y="254"/>
                    </a:lnTo>
                    <a:lnTo>
                      <a:pt x="341" y="247"/>
                    </a:lnTo>
                    <a:lnTo>
                      <a:pt x="325" y="247"/>
                    </a:lnTo>
                    <a:lnTo>
                      <a:pt x="307" y="241"/>
                    </a:lnTo>
                    <a:lnTo>
                      <a:pt x="289" y="241"/>
                    </a:lnTo>
                    <a:lnTo>
                      <a:pt x="280" y="241"/>
                    </a:lnTo>
                    <a:lnTo>
                      <a:pt x="269" y="241"/>
                    </a:lnTo>
                    <a:lnTo>
                      <a:pt x="257" y="241"/>
                    </a:lnTo>
                    <a:lnTo>
                      <a:pt x="246" y="241"/>
                    </a:lnTo>
                    <a:lnTo>
                      <a:pt x="232" y="241"/>
                    </a:lnTo>
                    <a:lnTo>
                      <a:pt x="218" y="241"/>
                    </a:lnTo>
                    <a:lnTo>
                      <a:pt x="204" y="241"/>
                    </a:lnTo>
                    <a:lnTo>
                      <a:pt x="187" y="247"/>
                    </a:lnTo>
                    <a:lnTo>
                      <a:pt x="155" y="254"/>
                    </a:lnTo>
                    <a:lnTo>
                      <a:pt x="121" y="261"/>
                    </a:lnTo>
                    <a:lnTo>
                      <a:pt x="87" y="261"/>
                    </a:lnTo>
                    <a:lnTo>
                      <a:pt x="70" y="267"/>
                    </a:lnTo>
                    <a:lnTo>
                      <a:pt x="54" y="267"/>
                    </a:lnTo>
                    <a:lnTo>
                      <a:pt x="39" y="274"/>
                    </a:lnTo>
                    <a:lnTo>
                      <a:pt x="25" y="274"/>
                    </a:lnTo>
                    <a:lnTo>
                      <a:pt x="12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680" y="5921280"/>
                <a:ext cx="636480" cy="32220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3"/>
                    </a:moveTo>
                    <a:lnTo>
                      <a:pt x="400" y="189"/>
                    </a:lnTo>
                    <a:lnTo>
                      <a:pt x="394" y="196"/>
                    </a:lnTo>
                    <a:lnTo>
                      <a:pt x="388" y="196"/>
                    </a:lnTo>
                    <a:lnTo>
                      <a:pt x="381" y="202"/>
                    </a:lnTo>
                    <a:lnTo>
                      <a:pt x="374" y="202"/>
                    </a:lnTo>
                    <a:lnTo>
                      <a:pt x="357" y="202"/>
                    </a:lnTo>
                    <a:lnTo>
                      <a:pt x="338" y="202"/>
                    </a:lnTo>
                    <a:lnTo>
                      <a:pt x="317" y="196"/>
                    </a:lnTo>
                    <a:lnTo>
                      <a:pt x="294" y="196"/>
                    </a:lnTo>
                    <a:lnTo>
                      <a:pt x="270" y="189"/>
                    </a:lnTo>
                    <a:lnTo>
                      <a:pt x="245" y="189"/>
                    </a:lnTo>
                    <a:lnTo>
                      <a:pt x="232" y="189"/>
                    </a:lnTo>
                    <a:lnTo>
                      <a:pt x="218" y="189"/>
                    </a:lnTo>
                    <a:lnTo>
                      <a:pt x="202" y="189"/>
                    </a:lnTo>
                    <a:lnTo>
                      <a:pt x="185" y="196"/>
                    </a:lnTo>
                    <a:lnTo>
                      <a:pt x="167" y="196"/>
                    </a:lnTo>
                    <a:lnTo>
                      <a:pt x="150" y="196"/>
                    </a:lnTo>
                    <a:lnTo>
                      <a:pt x="113" y="202"/>
                    </a:lnTo>
                    <a:lnTo>
                      <a:pt x="96" y="202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6"/>
                    </a:lnTo>
                    <a:lnTo>
                      <a:pt x="8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0"/>
                    </a:lnTo>
                    <a:lnTo>
                      <a:pt x="216" y="6"/>
                    </a:lnTo>
                    <a:lnTo>
                      <a:pt x="241" y="6"/>
                    </a:lnTo>
                    <a:lnTo>
                      <a:pt x="265" y="6"/>
                    </a:lnTo>
                    <a:lnTo>
                      <a:pt x="287" y="13"/>
                    </a:lnTo>
                    <a:lnTo>
                      <a:pt x="306" y="13"/>
                    </a:lnTo>
                    <a:lnTo>
                      <a:pt x="316" y="13"/>
                    </a:lnTo>
                    <a:lnTo>
                      <a:pt x="324" y="13"/>
                    </a:lnTo>
                    <a:lnTo>
                      <a:pt x="331" y="13"/>
                    </a:lnTo>
                    <a:lnTo>
                      <a:pt x="338" y="13"/>
                    </a:lnTo>
                    <a:lnTo>
                      <a:pt x="350" y="13"/>
                    </a:lnTo>
                    <a:lnTo>
                      <a:pt x="359" y="13"/>
                    </a:lnTo>
                    <a:lnTo>
                      <a:pt x="368" y="13"/>
                    </a:lnTo>
                    <a:lnTo>
                      <a:pt x="374" y="13"/>
                    </a:lnTo>
                    <a:lnTo>
                      <a:pt x="379" y="13"/>
                    </a:lnTo>
                    <a:lnTo>
                      <a:pt x="383" y="13"/>
                    </a:lnTo>
                    <a:lnTo>
                      <a:pt x="387" y="13"/>
                    </a:lnTo>
                    <a:lnTo>
                      <a:pt x="390" y="13"/>
                    </a:lnTo>
                    <a:lnTo>
                      <a:pt x="392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7" y="13"/>
                    </a:lnTo>
                    <a:lnTo>
                      <a:pt x="40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" name=""/>
            <p:cNvSpPr/>
            <p:nvPr/>
          </p:nvSpPr>
          <p:spPr>
            <a:xfrm>
              <a:off x="60480" y="3240"/>
              <a:ext cx="287280" cy="6858000"/>
            </a:xfrm>
            <a:custGeom>
              <a:avLst/>
              <a:gdLst/>
              <a:ahLst/>
              <a:rect l="l" t="t" r="r" b="b"/>
              <a:pathLst>
                <a:path w="181" h="4320">
                  <a:moveTo>
                    <a:pt x="135" y="0"/>
                  </a:moveTo>
                  <a:lnTo>
                    <a:pt x="141" y="54"/>
                  </a:lnTo>
                  <a:lnTo>
                    <a:pt x="146" y="117"/>
                  </a:lnTo>
                  <a:lnTo>
                    <a:pt x="151" y="172"/>
                  </a:lnTo>
                  <a:lnTo>
                    <a:pt x="155" y="227"/>
                  </a:lnTo>
                  <a:lnTo>
                    <a:pt x="159" y="282"/>
                  </a:lnTo>
                  <a:lnTo>
                    <a:pt x="163" y="331"/>
                  </a:lnTo>
                  <a:lnTo>
                    <a:pt x="170" y="435"/>
                  </a:lnTo>
                  <a:lnTo>
                    <a:pt x="173" y="538"/>
                  </a:lnTo>
                  <a:lnTo>
                    <a:pt x="177" y="642"/>
                  </a:lnTo>
                  <a:lnTo>
                    <a:pt x="179" y="739"/>
                  </a:lnTo>
                  <a:lnTo>
                    <a:pt x="180" y="836"/>
                  </a:lnTo>
                  <a:lnTo>
                    <a:pt x="179" y="932"/>
                  </a:lnTo>
                  <a:lnTo>
                    <a:pt x="178" y="1029"/>
                  </a:lnTo>
                  <a:lnTo>
                    <a:pt x="176" y="1126"/>
                  </a:lnTo>
                  <a:lnTo>
                    <a:pt x="173" y="1230"/>
                  </a:lnTo>
                  <a:lnTo>
                    <a:pt x="170" y="1326"/>
                  </a:lnTo>
                  <a:lnTo>
                    <a:pt x="166" y="1430"/>
                  </a:lnTo>
                  <a:lnTo>
                    <a:pt x="156" y="1651"/>
                  </a:lnTo>
                  <a:lnTo>
                    <a:pt x="146" y="1879"/>
                  </a:lnTo>
                  <a:lnTo>
                    <a:pt x="137" y="2135"/>
                  </a:lnTo>
                  <a:lnTo>
                    <a:pt x="132" y="2266"/>
                  </a:lnTo>
                  <a:lnTo>
                    <a:pt x="128" y="2411"/>
                  </a:lnTo>
                  <a:lnTo>
                    <a:pt x="124" y="2563"/>
                  </a:lnTo>
                  <a:lnTo>
                    <a:pt x="121" y="2715"/>
                  </a:lnTo>
                  <a:lnTo>
                    <a:pt x="118" y="2881"/>
                  </a:lnTo>
                  <a:lnTo>
                    <a:pt x="117" y="3054"/>
                  </a:lnTo>
                  <a:lnTo>
                    <a:pt x="115" y="3240"/>
                  </a:lnTo>
                  <a:lnTo>
                    <a:pt x="115" y="3434"/>
                  </a:lnTo>
                  <a:lnTo>
                    <a:pt x="117" y="3641"/>
                  </a:lnTo>
                  <a:lnTo>
                    <a:pt x="119" y="3856"/>
                  </a:lnTo>
                  <a:lnTo>
                    <a:pt x="123" y="4077"/>
                  </a:lnTo>
                  <a:lnTo>
                    <a:pt x="129" y="4319"/>
                  </a:lnTo>
                  <a:lnTo>
                    <a:pt x="2" y="4319"/>
                  </a:lnTo>
                  <a:lnTo>
                    <a:pt x="0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50800" y="3240"/>
              <a:ext cx="195480" cy="6856200"/>
            </a:xfrm>
            <a:custGeom>
              <a:avLst/>
              <a:gdLst/>
              <a:ahLst/>
              <a:rect l="l" t="t" r="r" b="b"/>
              <a:pathLst>
                <a:path w="123" h="4319">
                  <a:moveTo>
                    <a:pt x="18" y="0"/>
                  </a:moveTo>
                  <a:lnTo>
                    <a:pt x="16" y="75"/>
                  </a:lnTo>
                  <a:lnTo>
                    <a:pt x="16" y="158"/>
                  </a:lnTo>
                  <a:lnTo>
                    <a:pt x="16" y="255"/>
                  </a:lnTo>
                  <a:lnTo>
                    <a:pt x="16" y="365"/>
                  </a:lnTo>
                  <a:lnTo>
                    <a:pt x="17" y="483"/>
                  </a:lnTo>
                  <a:lnTo>
                    <a:pt x="18" y="614"/>
                  </a:lnTo>
                  <a:lnTo>
                    <a:pt x="20" y="752"/>
                  </a:lnTo>
                  <a:lnTo>
                    <a:pt x="22" y="891"/>
                  </a:lnTo>
                  <a:lnTo>
                    <a:pt x="27" y="1202"/>
                  </a:lnTo>
                  <a:lnTo>
                    <a:pt x="31" y="1527"/>
                  </a:lnTo>
                  <a:lnTo>
                    <a:pt x="36" y="1865"/>
                  </a:lnTo>
                  <a:lnTo>
                    <a:pt x="41" y="2203"/>
                  </a:lnTo>
                  <a:lnTo>
                    <a:pt x="45" y="2549"/>
                  </a:lnTo>
                  <a:lnTo>
                    <a:pt x="46" y="2880"/>
                  </a:lnTo>
                  <a:lnTo>
                    <a:pt x="46" y="3198"/>
                  </a:lnTo>
                  <a:lnTo>
                    <a:pt x="45" y="3350"/>
                  </a:lnTo>
                  <a:lnTo>
                    <a:pt x="44" y="3495"/>
                  </a:lnTo>
                  <a:lnTo>
                    <a:pt x="41" y="3634"/>
                  </a:lnTo>
                  <a:lnTo>
                    <a:pt x="38" y="3758"/>
                  </a:lnTo>
                  <a:lnTo>
                    <a:pt x="34" y="3883"/>
                  </a:lnTo>
                  <a:lnTo>
                    <a:pt x="29" y="3993"/>
                  </a:lnTo>
                  <a:lnTo>
                    <a:pt x="24" y="4090"/>
                  </a:lnTo>
                  <a:lnTo>
                    <a:pt x="17" y="4180"/>
                  </a:lnTo>
                  <a:lnTo>
                    <a:pt x="9" y="4256"/>
                  </a:lnTo>
                  <a:lnTo>
                    <a:pt x="0" y="4318"/>
                  </a:lnTo>
                  <a:lnTo>
                    <a:pt x="122" y="4318"/>
                  </a:lnTo>
                  <a:lnTo>
                    <a:pt x="122" y="0"/>
                  </a:lnTo>
                  <a:lnTo>
                    <a:pt x="1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" name=""/>
          <p:cNvSpPr/>
          <p:nvPr/>
        </p:nvSpPr>
        <p:spPr>
          <a:xfrm>
            <a:off x="8961480" y="6553080"/>
            <a:ext cx="1371600" cy="27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6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In- UF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sldNum" idx="1"/>
          </p:nvPr>
        </p:nvSpPr>
        <p:spPr>
          <a:xfrm>
            <a:off x="8275320" y="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764FF77-B1A6-446E-BE9D-E0095F541D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2640" y="-30240"/>
            <a:ext cx="8758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Agente solucionador de problemas </a:t>
            </a:r>
            <a:br>
              <a:rPr sz="3200"/>
            </a:b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(guiado por objetivo)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4360" y="1295280"/>
            <a:ext cx="89629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gente reativ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colhe suas ações com base apenas nas percepções atu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736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ão tem estado interno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736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ortanto, não pode pensar no futur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abe “aonde vai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gent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olucionador de proble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usca um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eqüência de açõ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que leve a estados desejáveis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790720" y="3365640"/>
            <a:ext cx="1276560" cy="1117440"/>
            <a:chOff x="2790720" y="3365640"/>
            <a:chExt cx="1276560" cy="1117440"/>
          </a:xfrm>
        </p:grpSpPr>
        <p:sp>
          <p:nvSpPr>
            <p:cNvPr id="66" name=""/>
            <p:cNvSpPr/>
            <p:nvPr/>
          </p:nvSpPr>
          <p:spPr>
            <a:xfrm>
              <a:off x="2790720" y="3365640"/>
              <a:ext cx="42228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18040" y="3365640"/>
              <a:ext cx="4219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45000" y="3365640"/>
              <a:ext cx="42228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90720" y="3738600"/>
              <a:ext cx="42228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18040" y="3738600"/>
              <a:ext cx="42192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45000" y="3738600"/>
              <a:ext cx="42228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90720" y="4113360"/>
              <a:ext cx="42228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45000" y="4113360"/>
              <a:ext cx="42228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8040" y="4113360"/>
              <a:ext cx="4219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586560" y="3365640"/>
            <a:ext cx="1287360" cy="1117440"/>
            <a:chOff x="6586560" y="3365640"/>
            <a:chExt cx="1287360" cy="1117440"/>
          </a:xfrm>
        </p:grpSpPr>
        <p:sp>
          <p:nvSpPr>
            <p:cNvPr id="76" name=""/>
            <p:cNvSpPr/>
            <p:nvPr/>
          </p:nvSpPr>
          <p:spPr>
            <a:xfrm>
              <a:off x="6586560" y="3365640"/>
              <a:ext cx="42228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13520" y="3365640"/>
              <a:ext cx="42228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51640" y="3365640"/>
              <a:ext cx="42228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86560" y="3738600"/>
              <a:ext cx="42228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13520" y="3738600"/>
              <a:ext cx="42228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51640" y="3738600"/>
              <a:ext cx="42228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86560" y="4113360"/>
              <a:ext cx="42228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13520" y="4113360"/>
              <a:ext cx="42228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51640" y="4113360"/>
              <a:ext cx="42228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3520" y="3738600"/>
              <a:ext cx="42228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556160" y="396252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77880" y="3260880"/>
            <a:ext cx="4334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C349-C19D-47B0-976B-2E4A860B22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5960" y="204120"/>
            <a:ext cx="8732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edida de Desempenho na Busc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4360" y="1218960"/>
            <a:ext cx="8955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empenho de um algoritmo de busc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O algoritmo encontrou alguma soluçã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É uma boa soluçã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(qualidade da solução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É uma solução computacionalmente bar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usto da busc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(tempo e memória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usto do caminho + custo de bus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aço de estados gran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romisso (conflito) entre a melhor solução e a solução mais bar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809A-0D38-4890-8459-211C91C88D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85960" y="334800"/>
            <a:ext cx="8732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Custo diferente =&gt; Solução diferente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1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1) número de cidades visitada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2) distância entre as cidad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3) tempo de viagem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ão mais bara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1) Canudos, Belém do S. Francisco, Salgueiro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2) Canudos, Belém do S. Francisco, Salgueiro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3) Canudos, Juazeiro, Pretrolina, Cabrobó, Salguei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E7C3-6144-4E44-94D6-CC703EE5DB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Importância da formulaçã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962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go das 8 Rainh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por 8 rainhas no tabuleiro de forma que não possam  se “ataca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ão pode haver mais de uma rainha em uma mesma linha, coluna ou diagon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nte o custo da busca co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ão existe  custo de caminh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em diferentes estados e operadores possíve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a escolha pode ter conseqüências boas ou nefastas na complexidade da busca ou no tamanho do espaço de es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553080" y="2743200"/>
            <a:ext cx="1904760" cy="1904760"/>
            <a:chOff x="6553080" y="2743200"/>
            <a:chExt cx="1904760" cy="1904760"/>
          </a:xfrm>
        </p:grpSpPr>
        <p:grpSp>
          <p:nvGrpSpPr>
            <p:cNvPr id="197" name=""/>
            <p:cNvGrpSpPr/>
            <p:nvPr/>
          </p:nvGrpSpPr>
          <p:grpSpPr>
            <a:xfrm>
              <a:off x="6553080" y="2743200"/>
              <a:ext cx="1904040" cy="1904400"/>
              <a:chOff x="6553080" y="2743200"/>
              <a:chExt cx="1904040" cy="1904400"/>
            </a:xfrm>
          </p:grpSpPr>
          <p:sp>
            <p:nvSpPr>
              <p:cNvPr id="198" name=""/>
              <p:cNvSpPr/>
              <p:nvPr/>
            </p:nvSpPr>
            <p:spPr>
              <a:xfrm>
                <a:off x="6553080" y="274320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90680" y="274320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28640" y="2743200"/>
                <a:ext cx="23832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67320" y="274320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505280" y="274320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743240" y="2743200"/>
                <a:ext cx="23832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81560" y="274320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219520" y="274320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19520" y="2980800"/>
                <a:ext cx="23760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553080" y="2980800"/>
                <a:ext cx="23760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90680" y="2980800"/>
                <a:ext cx="23760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028640" y="2980800"/>
                <a:ext cx="23832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267320" y="2980800"/>
                <a:ext cx="23760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05280" y="2980800"/>
                <a:ext cx="23760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43240" y="2980800"/>
                <a:ext cx="23832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81560" y="2980800"/>
                <a:ext cx="23760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53080" y="321948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90680" y="321948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28640" y="3219480"/>
                <a:ext cx="23832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67320" y="321948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05280" y="321948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743240" y="3219480"/>
                <a:ext cx="23832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81560" y="321948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219520" y="321948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219520" y="345708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53080" y="345708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90680" y="345708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28640" y="3457080"/>
                <a:ext cx="23832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67320" y="345708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05280" y="345708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43240" y="3457080"/>
                <a:ext cx="23832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81560" y="345708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53080" y="3695040"/>
                <a:ext cx="23760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90680" y="3695040"/>
                <a:ext cx="23760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28640" y="3695040"/>
                <a:ext cx="23832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67320" y="3695040"/>
                <a:ext cx="23760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05280" y="3695040"/>
                <a:ext cx="23760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43240" y="3695040"/>
                <a:ext cx="23832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81560" y="3695040"/>
                <a:ext cx="23760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219520" y="3695040"/>
                <a:ext cx="23760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19520" y="393336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53080" y="393336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90680" y="393336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028640" y="3933360"/>
                <a:ext cx="23832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267320" y="393336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05280" y="393336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43240" y="3933360"/>
                <a:ext cx="23832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81560" y="393336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53080" y="417132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90680" y="417132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28640" y="4171320"/>
                <a:ext cx="23832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67320" y="417132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05280" y="417132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43240" y="4171320"/>
                <a:ext cx="23832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981560" y="4171320"/>
                <a:ext cx="237600" cy="23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219520" y="4171320"/>
                <a:ext cx="237600" cy="23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219520" y="4409280"/>
                <a:ext cx="23760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53080" y="4409280"/>
                <a:ext cx="23760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90680" y="4409280"/>
                <a:ext cx="23760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28640" y="4409280"/>
                <a:ext cx="23832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67320" y="4409280"/>
                <a:ext cx="23760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05280" y="4409280"/>
                <a:ext cx="23760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43240" y="4409280"/>
                <a:ext cx="238320" cy="23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81560" y="4409280"/>
                <a:ext cx="237600" cy="2383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553080" y="2743200"/>
              <a:ext cx="195120" cy="198360"/>
            </a:xfrm>
            <a:custGeom>
              <a:avLst/>
              <a:gdLst/>
              <a:ahLst/>
              <a:rect l="l" t="t" r="r" b="b"/>
              <a:pathLst>
                <a:path w="2075" h="2127">
                  <a:moveTo>
                    <a:pt x="8" y="713"/>
                  </a:moveTo>
                  <a:lnTo>
                    <a:pt x="0" y="254"/>
                  </a:lnTo>
                  <a:lnTo>
                    <a:pt x="447" y="406"/>
                  </a:lnTo>
                  <a:lnTo>
                    <a:pt x="351" y="487"/>
                  </a:lnTo>
                  <a:lnTo>
                    <a:pt x="450" y="597"/>
                  </a:lnTo>
                  <a:lnTo>
                    <a:pt x="551" y="731"/>
                  </a:lnTo>
                  <a:lnTo>
                    <a:pt x="631" y="832"/>
                  </a:lnTo>
                  <a:lnTo>
                    <a:pt x="718" y="960"/>
                  </a:lnTo>
                  <a:lnTo>
                    <a:pt x="812" y="1121"/>
                  </a:lnTo>
                  <a:lnTo>
                    <a:pt x="885" y="1294"/>
                  </a:lnTo>
                  <a:lnTo>
                    <a:pt x="886" y="370"/>
                  </a:lnTo>
                  <a:lnTo>
                    <a:pt x="766" y="371"/>
                  </a:lnTo>
                  <a:lnTo>
                    <a:pt x="1033" y="0"/>
                  </a:lnTo>
                  <a:lnTo>
                    <a:pt x="1301" y="371"/>
                  </a:lnTo>
                  <a:lnTo>
                    <a:pt x="1183" y="369"/>
                  </a:lnTo>
                  <a:lnTo>
                    <a:pt x="1183" y="1305"/>
                  </a:lnTo>
                  <a:lnTo>
                    <a:pt x="1261" y="1127"/>
                  </a:lnTo>
                  <a:lnTo>
                    <a:pt x="1335" y="987"/>
                  </a:lnTo>
                  <a:lnTo>
                    <a:pt x="1423" y="858"/>
                  </a:lnTo>
                  <a:lnTo>
                    <a:pt x="1526" y="725"/>
                  </a:lnTo>
                  <a:lnTo>
                    <a:pt x="1602" y="620"/>
                  </a:lnTo>
                  <a:lnTo>
                    <a:pt x="1717" y="487"/>
                  </a:lnTo>
                  <a:lnTo>
                    <a:pt x="1629" y="406"/>
                  </a:lnTo>
                  <a:lnTo>
                    <a:pt x="2075" y="251"/>
                  </a:lnTo>
                  <a:lnTo>
                    <a:pt x="2064" y="713"/>
                  </a:lnTo>
                  <a:lnTo>
                    <a:pt x="1953" y="645"/>
                  </a:lnTo>
                  <a:lnTo>
                    <a:pt x="1867" y="775"/>
                  </a:lnTo>
                  <a:lnTo>
                    <a:pt x="1765" y="914"/>
                  </a:lnTo>
                  <a:lnTo>
                    <a:pt x="1681" y="1042"/>
                  </a:lnTo>
                  <a:lnTo>
                    <a:pt x="1607" y="1160"/>
                  </a:lnTo>
                  <a:lnTo>
                    <a:pt x="1545" y="1271"/>
                  </a:lnTo>
                  <a:lnTo>
                    <a:pt x="1484" y="1388"/>
                  </a:lnTo>
                  <a:lnTo>
                    <a:pt x="1418" y="1533"/>
                  </a:lnTo>
                  <a:lnTo>
                    <a:pt x="1388" y="1680"/>
                  </a:lnTo>
                  <a:lnTo>
                    <a:pt x="1387" y="2127"/>
                  </a:lnTo>
                  <a:lnTo>
                    <a:pt x="693" y="2127"/>
                  </a:lnTo>
                  <a:lnTo>
                    <a:pt x="693" y="1681"/>
                  </a:lnTo>
                  <a:lnTo>
                    <a:pt x="662" y="1533"/>
                  </a:lnTo>
                  <a:lnTo>
                    <a:pt x="579" y="1353"/>
                  </a:lnTo>
                  <a:lnTo>
                    <a:pt x="511" y="1235"/>
                  </a:lnTo>
                  <a:lnTo>
                    <a:pt x="452" y="1135"/>
                  </a:lnTo>
                  <a:lnTo>
                    <a:pt x="380" y="1018"/>
                  </a:lnTo>
                  <a:lnTo>
                    <a:pt x="306" y="907"/>
                  </a:lnTo>
                  <a:lnTo>
                    <a:pt x="219" y="785"/>
                  </a:lnTo>
                  <a:lnTo>
                    <a:pt x="118" y="641"/>
                  </a:lnTo>
                  <a:lnTo>
                    <a:pt x="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8480" y="2981160"/>
              <a:ext cx="195120" cy="198360"/>
            </a:xfrm>
            <a:custGeom>
              <a:avLst/>
              <a:gdLst/>
              <a:ahLst/>
              <a:rect l="l" t="t" r="r" b="b"/>
              <a:pathLst>
                <a:path w="2075" h="2127">
                  <a:moveTo>
                    <a:pt x="8" y="713"/>
                  </a:moveTo>
                  <a:lnTo>
                    <a:pt x="0" y="254"/>
                  </a:lnTo>
                  <a:lnTo>
                    <a:pt x="447" y="406"/>
                  </a:lnTo>
                  <a:lnTo>
                    <a:pt x="351" y="487"/>
                  </a:lnTo>
                  <a:lnTo>
                    <a:pt x="450" y="597"/>
                  </a:lnTo>
                  <a:lnTo>
                    <a:pt x="551" y="731"/>
                  </a:lnTo>
                  <a:lnTo>
                    <a:pt x="631" y="832"/>
                  </a:lnTo>
                  <a:lnTo>
                    <a:pt x="718" y="960"/>
                  </a:lnTo>
                  <a:lnTo>
                    <a:pt x="812" y="1121"/>
                  </a:lnTo>
                  <a:lnTo>
                    <a:pt x="885" y="1294"/>
                  </a:lnTo>
                  <a:lnTo>
                    <a:pt x="886" y="370"/>
                  </a:lnTo>
                  <a:lnTo>
                    <a:pt x="766" y="371"/>
                  </a:lnTo>
                  <a:lnTo>
                    <a:pt x="1033" y="0"/>
                  </a:lnTo>
                  <a:lnTo>
                    <a:pt x="1301" y="371"/>
                  </a:lnTo>
                  <a:lnTo>
                    <a:pt x="1183" y="369"/>
                  </a:lnTo>
                  <a:lnTo>
                    <a:pt x="1183" y="1305"/>
                  </a:lnTo>
                  <a:lnTo>
                    <a:pt x="1261" y="1127"/>
                  </a:lnTo>
                  <a:lnTo>
                    <a:pt x="1335" y="987"/>
                  </a:lnTo>
                  <a:lnTo>
                    <a:pt x="1423" y="858"/>
                  </a:lnTo>
                  <a:lnTo>
                    <a:pt x="1526" y="725"/>
                  </a:lnTo>
                  <a:lnTo>
                    <a:pt x="1602" y="620"/>
                  </a:lnTo>
                  <a:lnTo>
                    <a:pt x="1717" y="487"/>
                  </a:lnTo>
                  <a:lnTo>
                    <a:pt x="1629" y="406"/>
                  </a:lnTo>
                  <a:lnTo>
                    <a:pt x="2075" y="251"/>
                  </a:lnTo>
                  <a:lnTo>
                    <a:pt x="2064" y="713"/>
                  </a:lnTo>
                  <a:lnTo>
                    <a:pt x="1953" y="645"/>
                  </a:lnTo>
                  <a:lnTo>
                    <a:pt x="1867" y="775"/>
                  </a:lnTo>
                  <a:lnTo>
                    <a:pt x="1765" y="914"/>
                  </a:lnTo>
                  <a:lnTo>
                    <a:pt x="1681" y="1042"/>
                  </a:lnTo>
                  <a:lnTo>
                    <a:pt x="1607" y="1160"/>
                  </a:lnTo>
                  <a:lnTo>
                    <a:pt x="1545" y="1271"/>
                  </a:lnTo>
                  <a:lnTo>
                    <a:pt x="1484" y="1388"/>
                  </a:lnTo>
                  <a:lnTo>
                    <a:pt x="1418" y="1533"/>
                  </a:lnTo>
                  <a:lnTo>
                    <a:pt x="1388" y="1680"/>
                  </a:lnTo>
                  <a:lnTo>
                    <a:pt x="1387" y="2127"/>
                  </a:lnTo>
                  <a:lnTo>
                    <a:pt x="693" y="2127"/>
                  </a:lnTo>
                  <a:lnTo>
                    <a:pt x="693" y="1681"/>
                  </a:lnTo>
                  <a:lnTo>
                    <a:pt x="662" y="1533"/>
                  </a:lnTo>
                  <a:lnTo>
                    <a:pt x="579" y="1353"/>
                  </a:lnTo>
                  <a:lnTo>
                    <a:pt x="511" y="1235"/>
                  </a:lnTo>
                  <a:lnTo>
                    <a:pt x="452" y="1135"/>
                  </a:lnTo>
                  <a:lnTo>
                    <a:pt x="380" y="1018"/>
                  </a:lnTo>
                  <a:lnTo>
                    <a:pt x="306" y="907"/>
                  </a:lnTo>
                  <a:lnTo>
                    <a:pt x="219" y="785"/>
                  </a:lnTo>
                  <a:lnTo>
                    <a:pt x="118" y="641"/>
                  </a:lnTo>
                  <a:lnTo>
                    <a:pt x="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33880" y="3259080"/>
              <a:ext cx="195480" cy="198360"/>
            </a:xfrm>
            <a:custGeom>
              <a:avLst/>
              <a:gdLst/>
              <a:ahLst/>
              <a:rect l="l" t="t" r="r" b="b"/>
              <a:pathLst>
                <a:path w="2075" h="2127">
                  <a:moveTo>
                    <a:pt x="8" y="713"/>
                  </a:moveTo>
                  <a:lnTo>
                    <a:pt x="0" y="254"/>
                  </a:lnTo>
                  <a:lnTo>
                    <a:pt x="447" y="406"/>
                  </a:lnTo>
                  <a:lnTo>
                    <a:pt x="351" y="487"/>
                  </a:lnTo>
                  <a:lnTo>
                    <a:pt x="450" y="597"/>
                  </a:lnTo>
                  <a:lnTo>
                    <a:pt x="551" y="731"/>
                  </a:lnTo>
                  <a:lnTo>
                    <a:pt x="631" y="832"/>
                  </a:lnTo>
                  <a:lnTo>
                    <a:pt x="718" y="960"/>
                  </a:lnTo>
                  <a:lnTo>
                    <a:pt x="812" y="1121"/>
                  </a:lnTo>
                  <a:lnTo>
                    <a:pt x="885" y="1294"/>
                  </a:lnTo>
                  <a:lnTo>
                    <a:pt x="886" y="370"/>
                  </a:lnTo>
                  <a:lnTo>
                    <a:pt x="766" y="371"/>
                  </a:lnTo>
                  <a:lnTo>
                    <a:pt x="1033" y="0"/>
                  </a:lnTo>
                  <a:lnTo>
                    <a:pt x="1301" y="371"/>
                  </a:lnTo>
                  <a:lnTo>
                    <a:pt x="1183" y="369"/>
                  </a:lnTo>
                  <a:lnTo>
                    <a:pt x="1183" y="1305"/>
                  </a:lnTo>
                  <a:lnTo>
                    <a:pt x="1261" y="1127"/>
                  </a:lnTo>
                  <a:lnTo>
                    <a:pt x="1335" y="987"/>
                  </a:lnTo>
                  <a:lnTo>
                    <a:pt x="1423" y="858"/>
                  </a:lnTo>
                  <a:lnTo>
                    <a:pt x="1526" y="725"/>
                  </a:lnTo>
                  <a:lnTo>
                    <a:pt x="1602" y="620"/>
                  </a:lnTo>
                  <a:lnTo>
                    <a:pt x="1717" y="487"/>
                  </a:lnTo>
                  <a:lnTo>
                    <a:pt x="1629" y="406"/>
                  </a:lnTo>
                  <a:lnTo>
                    <a:pt x="2075" y="251"/>
                  </a:lnTo>
                  <a:lnTo>
                    <a:pt x="2064" y="713"/>
                  </a:lnTo>
                  <a:lnTo>
                    <a:pt x="1953" y="645"/>
                  </a:lnTo>
                  <a:lnTo>
                    <a:pt x="1867" y="775"/>
                  </a:lnTo>
                  <a:lnTo>
                    <a:pt x="1765" y="914"/>
                  </a:lnTo>
                  <a:lnTo>
                    <a:pt x="1681" y="1042"/>
                  </a:lnTo>
                  <a:lnTo>
                    <a:pt x="1607" y="1160"/>
                  </a:lnTo>
                  <a:lnTo>
                    <a:pt x="1545" y="1271"/>
                  </a:lnTo>
                  <a:lnTo>
                    <a:pt x="1484" y="1388"/>
                  </a:lnTo>
                  <a:lnTo>
                    <a:pt x="1418" y="1533"/>
                  </a:lnTo>
                  <a:lnTo>
                    <a:pt x="1388" y="1680"/>
                  </a:lnTo>
                  <a:lnTo>
                    <a:pt x="1387" y="2127"/>
                  </a:lnTo>
                  <a:lnTo>
                    <a:pt x="693" y="2127"/>
                  </a:lnTo>
                  <a:lnTo>
                    <a:pt x="693" y="1681"/>
                  </a:lnTo>
                  <a:lnTo>
                    <a:pt x="662" y="1533"/>
                  </a:lnTo>
                  <a:lnTo>
                    <a:pt x="579" y="1353"/>
                  </a:lnTo>
                  <a:lnTo>
                    <a:pt x="511" y="1235"/>
                  </a:lnTo>
                  <a:lnTo>
                    <a:pt x="452" y="1135"/>
                  </a:lnTo>
                  <a:lnTo>
                    <a:pt x="380" y="1018"/>
                  </a:lnTo>
                  <a:lnTo>
                    <a:pt x="306" y="907"/>
                  </a:lnTo>
                  <a:lnTo>
                    <a:pt x="219" y="785"/>
                  </a:lnTo>
                  <a:lnTo>
                    <a:pt x="118" y="641"/>
                  </a:lnTo>
                  <a:lnTo>
                    <a:pt x="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86440" y="3497040"/>
              <a:ext cx="195120" cy="198720"/>
            </a:xfrm>
            <a:custGeom>
              <a:avLst/>
              <a:gdLst/>
              <a:ahLst/>
              <a:rect l="l" t="t" r="r" b="b"/>
              <a:pathLst>
                <a:path w="2075" h="2127">
                  <a:moveTo>
                    <a:pt x="8" y="713"/>
                  </a:moveTo>
                  <a:lnTo>
                    <a:pt x="0" y="254"/>
                  </a:lnTo>
                  <a:lnTo>
                    <a:pt x="447" y="406"/>
                  </a:lnTo>
                  <a:lnTo>
                    <a:pt x="351" y="487"/>
                  </a:lnTo>
                  <a:lnTo>
                    <a:pt x="450" y="597"/>
                  </a:lnTo>
                  <a:lnTo>
                    <a:pt x="551" y="731"/>
                  </a:lnTo>
                  <a:lnTo>
                    <a:pt x="631" y="832"/>
                  </a:lnTo>
                  <a:lnTo>
                    <a:pt x="718" y="960"/>
                  </a:lnTo>
                  <a:lnTo>
                    <a:pt x="812" y="1121"/>
                  </a:lnTo>
                  <a:lnTo>
                    <a:pt x="885" y="1294"/>
                  </a:lnTo>
                  <a:lnTo>
                    <a:pt x="886" y="370"/>
                  </a:lnTo>
                  <a:lnTo>
                    <a:pt x="766" y="371"/>
                  </a:lnTo>
                  <a:lnTo>
                    <a:pt x="1033" y="0"/>
                  </a:lnTo>
                  <a:lnTo>
                    <a:pt x="1301" y="371"/>
                  </a:lnTo>
                  <a:lnTo>
                    <a:pt x="1183" y="369"/>
                  </a:lnTo>
                  <a:lnTo>
                    <a:pt x="1183" y="1305"/>
                  </a:lnTo>
                  <a:lnTo>
                    <a:pt x="1261" y="1127"/>
                  </a:lnTo>
                  <a:lnTo>
                    <a:pt x="1335" y="987"/>
                  </a:lnTo>
                  <a:lnTo>
                    <a:pt x="1423" y="858"/>
                  </a:lnTo>
                  <a:lnTo>
                    <a:pt x="1526" y="725"/>
                  </a:lnTo>
                  <a:lnTo>
                    <a:pt x="1602" y="620"/>
                  </a:lnTo>
                  <a:lnTo>
                    <a:pt x="1717" y="487"/>
                  </a:lnTo>
                  <a:lnTo>
                    <a:pt x="1629" y="406"/>
                  </a:lnTo>
                  <a:lnTo>
                    <a:pt x="2075" y="251"/>
                  </a:lnTo>
                  <a:lnTo>
                    <a:pt x="2064" y="713"/>
                  </a:lnTo>
                  <a:lnTo>
                    <a:pt x="1953" y="645"/>
                  </a:lnTo>
                  <a:lnTo>
                    <a:pt x="1867" y="775"/>
                  </a:lnTo>
                  <a:lnTo>
                    <a:pt x="1765" y="914"/>
                  </a:lnTo>
                  <a:lnTo>
                    <a:pt x="1681" y="1042"/>
                  </a:lnTo>
                  <a:lnTo>
                    <a:pt x="1607" y="1160"/>
                  </a:lnTo>
                  <a:lnTo>
                    <a:pt x="1545" y="1271"/>
                  </a:lnTo>
                  <a:lnTo>
                    <a:pt x="1484" y="1388"/>
                  </a:lnTo>
                  <a:lnTo>
                    <a:pt x="1418" y="1533"/>
                  </a:lnTo>
                  <a:lnTo>
                    <a:pt x="1388" y="1680"/>
                  </a:lnTo>
                  <a:lnTo>
                    <a:pt x="1387" y="2127"/>
                  </a:lnTo>
                  <a:lnTo>
                    <a:pt x="693" y="2127"/>
                  </a:lnTo>
                  <a:lnTo>
                    <a:pt x="693" y="1681"/>
                  </a:lnTo>
                  <a:lnTo>
                    <a:pt x="662" y="1533"/>
                  </a:lnTo>
                  <a:lnTo>
                    <a:pt x="579" y="1353"/>
                  </a:lnTo>
                  <a:lnTo>
                    <a:pt x="511" y="1235"/>
                  </a:lnTo>
                  <a:lnTo>
                    <a:pt x="452" y="1135"/>
                  </a:lnTo>
                  <a:lnTo>
                    <a:pt x="380" y="1018"/>
                  </a:lnTo>
                  <a:lnTo>
                    <a:pt x="306" y="907"/>
                  </a:lnTo>
                  <a:lnTo>
                    <a:pt x="219" y="785"/>
                  </a:lnTo>
                  <a:lnTo>
                    <a:pt x="118" y="641"/>
                  </a:lnTo>
                  <a:lnTo>
                    <a:pt x="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72200" y="3735360"/>
              <a:ext cx="195120" cy="198360"/>
            </a:xfrm>
            <a:custGeom>
              <a:avLst/>
              <a:gdLst/>
              <a:ahLst/>
              <a:rect l="l" t="t" r="r" b="b"/>
              <a:pathLst>
                <a:path w="2075" h="2127">
                  <a:moveTo>
                    <a:pt x="8" y="713"/>
                  </a:moveTo>
                  <a:lnTo>
                    <a:pt x="0" y="254"/>
                  </a:lnTo>
                  <a:lnTo>
                    <a:pt x="447" y="406"/>
                  </a:lnTo>
                  <a:lnTo>
                    <a:pt x="351" y="487"/>
                  </a:lnTo>
                  <a:lnTo>
                    <a:pt x="450" y="597"/>
                  </a:lnTo>
                  <a:lnTo>
                    <a:pt x="551" y="731"/>
                  </a:lnTo>
                  <a:lnTo>
                    <a:pt x="631" y="832"/>
                  </a:lnTo>
                  <a:lnTo>
                    <a:pt x="718" y="960"/>
                  </a:lnTo>
                  <a:lnTo>
                    <a:pt x="812" y="1121"/>
                  </a:lnTo>
                  <a:lnTo>
                    <a:pt x="885" y="1294"/>
                  </a:lnTo>
                  <a:lnTo>
                    <a:pt x="886" y="370"/>
                  </a:lnTo>
                  <a:lnTo>
                    <a:pt x="766" y="371"/>
                  </a:lnTo>
                  <a:lnTo>
                    <a:pt x="1033" y="0"/>
                  </a:lnTo>
                  <a:lnTo>
                    <a:pt x="1301" y="371"/>
                  </a:lnTo>
                  <a:lnTo>
                    <a:pt x="1183" y="369"/>
                  </a:lnTo>
                  <a:lnTo>
                    <a:pt x="1183" y="1305"/>
                  </a:lnTo>
                  <a:lnTo>
                    <a:pt x="1261" y="1127"/>
                  </a:lnTo>
                  <a:lnTo>
                    <a:pt x="1335" y="987"/>
                  </a:lnTo>
                  <a:lnTo>
                    <a:pt x="1423" y="858"/>
                  </a:lnTo>
                  <a:lnTo>
                    <a:pt x="1526" y="725"/>
                  </a:lnTo>
                  <a:lnTo>
                    <a:pt x="1602" y="620"/>
                  </a:lnTo>
                  <a:lnTo>
                    <a:pt x="1717" y="487"/>
                  </a:lnTo>
                  <a:lnTo>
                    <a:pt x="1629" y="406"/>
                  </a:lnTo>
                  <a:lnTo>
                    <a:pt x="2075" y="251"/>
                  </a:lnTo>
                  <a:lnTo>
                    <a:pt x="2064" y="713"/>
                  </a:lnTo>
                  <a:lnTo>
                    <a:pt x="1953" y="645"/>
                  </a:lnTo>
                  <a:lnTo>
                    <a:pt x="1867" y="775"/>
                  </a:lnTo>
                  <a:lnTo>
                    <a:pt x="1765" y="914"/>
                  </a:lnTo>
                  <a:lnTo>
                    <a:pt x="1681" y="1042"/>
                  </a:lnTo>
                  <a:lnTo>
                    <a:pt x="1607" y="1160"/>
                  </a:lnTo>
                  <a:lnTo>
                    <a:pt x="1545" y="1271"/>
                  </a:lnTo>
                  <a:lnTo>
                    <a:pt x="1484" y="1388"/>
                  </a:lnTo>
                  <a:lnTo>
                    <a:pt x="1418" y="1533"/>
                  </a:lnTo>
                  <a:lnTo>
                    <a:pt x="1388" y="1680"/>
                  </a:lnTo>
                  <a:lnTo>
                    <a:pt x="1387" y="2127"/>
                  </a:lnTo>
                  <a:lnTo>
                    <a:pt x="693" y="2127"/>
                  </a:lnTo>
                  <a:lnTo>
                    <a:pt x="693" y="1681"/>
                  </a:lnTo>
                  <a:lnTo>
                    <a:pt x="662" y="1533"/>
                  </a:lnTo>
                  <a:lnTo>
                    <a:pt x="579" y="1353"/>
                  </a:lnTo>
                  <a:lnTo>
                    <a:pt x="511" y="1235"/>
                  </a:lnTo>
                  <a:lnTo>
                    <a:pt x="452" y="1135"/>
                  </a:lnTo>
                  <a:lnTo>
                    <a:pt x="380" y="1018"/>
                  </a:lnTo>
                  <a:lnTo>
                    <a:pt x="306" y="907"/>
                  </a:lnTo>
                  <a:lnTo>
                    <a:pt x="219" y="785"/>
                  </a:lnTo>
                  <a:lnTo>
                    <a:pt x="118" y="641"/>
                  </a:lnTo>
                  <a:lnTo>
                    <a:pt x="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24400" y="3973320"/>
              <a:ext cx="195480" cy="198360"/>
            </a:xfrm>
            <a:custGeom>
              <a:avLst/>
              <a:gdLst/>
              <a:ahLst/>
              <a:rect l="l" t="t" r="r" b="b"/>
              <a:pathLst>
                <a:path w="2075" h="2127">
                  <a:moveTo>
                    <a:pt x="8" y="713"/>
                  </a:moveTo>
                  <a:lnTo>
                    <a:pt x="0" y="254"/>
                  </a:lnTo>
                  <a:lnTo>
                    <a:pt x="447" y="406"/>
                  </a:lnTo>
                  <a:lnTo>
                    <a:pt x="351" y="487"/>
                  </a:lnTo>
                  <a:lnTo>
                    <a:pt x="450" y="597"/>
                  </a:lnTo>
                  <a:lnTo>
                    <a:pt x="551" y="731"/>
                  </a:lnTo>
                  <a:lnTo>
                    <a:pt x="631" y="832"/>
                  </a:lnTo>
                  <a:lnTo>
                    <a:pt x="718" y="960"/>
                  </a:lnTo>
                  <a:lnTo>
                    <a:pt x="812" y="1121"/>
                  </a:lnTo>
                  <a:lnTo>
                    <a:pt x="885" y="1294"/>
                  </a:lnTo>
                  <a:lnTo>
                    <a:pt x="886" y="370"/>
                  </a:lnTo>
                  <a:lnTo>
                    <a:pt x="766" y="371"/>
                  </a:lnTo>
                  <a:lnTo>
                    <a:pt x="1033" y="0"/>
                  </a:lnTo>
                  <a:lnTo>
                    <a:pt x="1301" y="371"/>
                  </a:lnTo>
                  <a:lnTo>
                    <a:pt x="1183" y="369"/>
                  </a:lnTo>
                  <a:lnTo>
                    <a:pt x="1183" y="1305"/>
                  </a:lnTo>
                  <a:lnTo>
                    <a:pt x="1261" y="1127"/>
                  </a:lnTo>
                  <a:lnTo>
                    <a:pt x="1335" y="987"/>
                  </a:lnTo>
                  <a:lnTo>
                    <a:pt x="1423" y="858"/>
                  </a:lnTo>
                  <a:lnTo>
                    <a:pt x="1526" y="725"/>
                  </a:lnTo>
                  <a:lnTo>
                    <a:pt x="1602" y="620"/>
                  </a:lnTo>
                  <a:lnTo>
                    <a:pt x="1717" y="487"/>
                  </a:lnTo>
                  <a:lnTo>
                    <a:pt x="1629" y="406"/>
                  </a:lnTo>
                  <a:lnTo>
                    <a:pt x="2075" y="251"/>
                  </a:lnTo>
                  <a:lnTo>
                    <a:pt x="2064" y="713"/>
                  </a:lnTo>
                  <a:lnTo>
                    <a:pt x="1953" y="645"/>
                  </a:lnTo>
                  <a:lnTo>
                    <a:pt x="1867" y="775"/>
                  </a:lnTo>
                  <a:lnTo>
                    <a:pt x="1765" y="914"/>
                  </a:lnTo>
                  <a:lnTo>
                    <a:pt x="1681" y="1042"/>
                  </a:lnTo>
                  <a:lnTo>
                    <a:pt x="1607" y="1160"/>
                  </a:lnTo>
                  <a:lnTo>
                    <a:pt x="1545" y="1271"/>
                  </a:lnTo>
                  <a:lnTo>
                    <a:pt x="1484" y="1388"/>
                  </a:lnTo>
                  <a:lnTo>
                    <a:pt x="1418" y="1533"/>
                  </a:lnTo>
                  <a:lnTo>
                    <a:pt x="1388" y="1680"/>
                  </a:lnTo>
                  <a:lnTo>
                    <a:pt x="1387" y="2127"/>
                  </a:lnTo>
                  <a:lnTo>
                    <a:pt x="693" y="2127"/>
                  </a:lnTo>
                  <a:lnTo>
                    <a:pt x="693" y="1681"/>
                  </a:lnTo>
                  <a:lnTo>
                    <a:pt x="662" y="1533"/>
                  </a:lnTo>
                  <a:lnTo>
                    <a:pt x="579" y="1353"/>
                  </a:lnTo>
                  <a:lnTo>
                    <a:pt x="511" y="1235"/>
                  </a:lnTo>
                  <a:lnTo>
                    <a:pt x="452" y="1135"/>
                  </a:lnTo>
                  <a:lnTo>
                    <a:pt x="380" y="1018"/>
                  </a:lnTo>
                  <a:lnTo>
                    <a:pt x="306" y="907"/>
                  </a:lnTo>
                  <a:lnTo>
                    <a:pt x="219" y="785"/>
                  </a:lnTo>
                  <a:lnTo>
                    <a:pt x="118" y="641"/>
                  </a:lnTo>
                  <a:lnTo>
                    <a:pt x="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10160" y="4211640"/>
              <a:ext cx="195480" cy="198360"/>
            </a:xfrm>
            <a:custGeom>
              <a:avLst/>
              <a:gdLst/>
              <a:ahLst/>
              <a:rect l="l" t="t" r="r" b="b"/>
              <a:pathLst>
                <a:path w="2075" h="2127">
                  <a:moveTo>
                    <a:pt x="8" y="713"/>
                  </a:moveTo>
                  <a:lnTo>
                    <a:pt x="0" y="254"/>
                  </a:lnTo>
                  <a:lnTo>
                    <a:pt x="447" y="406"/>
                  </a:lnTo>
                  <a:lnTo>
                    <a:pt x="351" y="487"/>
                  </a:lnTo>
                  <a:lnTo>
                    <a:pt x="450" y="597"/>
                  </a:lnTo>
                  <a:lnTo>
                    <a:pt x="551" y="731"/>
                  </a:lnTo>
                  <a:lnTo>
                    <a:pt x="631" y="832"/>
                  </a:lnTo>
                  <a:lnTo>
                    <a:pt x="718" y="960"/>
                  </a:lnTo>
                  <a:lnTo>
                    <a:pt x="812" y="1121"/>
                  </a:lnTo>
                  <a:lnTo>
                    <a:pt x="885" y="1294"/>
                  </a:lnTo>
                  <a:lnTo>
                    <a:pt x="886" y="370"/>
                  </a:lnTo>
                  <a:lnTo>
                    <a:pt x="766" y="371"/>
                  </a:lnTo>
                  <a:lnTo>
                    <a:pt x="1033" y="0"/>
                  </a:lnTo>
                  <a:lnTo>
                    <a:pt x="1301" y="371"/>
                  </a:lnTo>
                  <a:lnTo>
                    <a:pt x="1183" y="369"/>
                  </a:lnTo>
                  <a:lnTo>
                    <a:pt x="1183" y="1305"/>
                  </a:lnTo>
                  <a:lnTo>
                    <a:pt x="1261" y="1127"/>
                  </a:lnTo>
                  <a:lnTo>
                    <a:pt x="1335" y="987"/>
                  </a:lnTo>
                  <a:lnTo>
                    <a:pt x="1423" y="858"/>
                  </a:lnTo>
                  <a:lnTo>
                    <a:pt x="1526" y="725"/>
                  </a:lnTo>
                  <a:lnTo>
                    <a:pt x="1602" y="620"/>
                  </a:lnTo>
                  <a:lnTo>
                    <a:pt x="1717" y="487"/>
                  </a:lnTo>
                  <a:lnTo>
                    <a:pt x="1629" y="406"/>
                  </a:lnTo>
                  <a:lnTo>
                    <a:pt x="2075" y="251"/>
                  </a:lnTo>
                  <a:lnTo>
                    <a:pt x="2064" y="713"/>
                  </a:lnTo>
                  <a:lnTo>
                    <a:pt x="1953" y="645"/>
                  </a:lnTo>
                  <a:lnTo>
                    <a:pt x="1867" y="775"/>
                  </a:lnTo>
                  <a:lnTo>
                    <a:pt x="1765" y="914"/>
                  </a:lnTo>
                  <a:lnTo>
                    <a:pt x="1681" y="1042"/>
                  </a:lnTo>
                  <a:lnTo>
                    <a:pt x="1607" y="1160"/>
                  </a:lnTo>
                  <a:lnTo>
                    <a:pt x="1545" y="1271"/>
                  </a:lnTo>
                  <a:lnTo>
                    <a:pt x="1484" y="1388"/>
                  </a:lnTo>
                  <a:lnTo>
                    <a:pt x="1418" y="1533"/>
                  </a:lnTo>
                  <a:lnTo>
                    <a:pt x="1388" y="1680"/>
                  </a:lnTo>
                  <a:lnTo>
                    <a:pt x="1387" y="2127"/>
                  </a:lnTo>
                  <a:lnTo>
                    <a:pt x="693" y="2127"/>
                  </a:lnTo>
                  <a:lnTo>
                    <a:pt x="693" y="1681"/>
                  </a:lnTo>
                  <a:lnTo>
                    <a:pt x="662" y="1533"/>
                  </a:lnTo>
                  <a:lnTo>
                    <a:pt x="579" y="1353"/>
                  </a:lnTo>
                  <a:lnTo>
                    <a:pt x="511" y="1235"/>
                  </a:lnTo>
                  <a:lnTo>
                    <a:pt x="452" y="1135"/>
                  </a:lnTo>
                  <a:lnTo>
                    <a:pt x="380" y="1018"/>
                  </a:lnTo>
                  <a:lnTo>
                    <a:pt x="306" y="907"/>
                  </a:lnTo>
                  <a:lnTo>
                    <a:pt x="219" y="785"/>
                  </a:lnTo>
                  <a:lnTo>
                    <a:pt x="118" y="641"/>
                  </a:lnTo>
                  <a:lnTo>
                    <a:pt x="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62720" y="4449600"/>
              <a:ext cx="195120" cy="198360"/>
            </a:xfrm>
            <a:custGeom>
              <a:avLst/>
              <a:gdLst/>
              <a:ahLst/>
              <a:rect l="l" t="t" r="r" b="b"/>
              <a:pathLst>
                <a:path w="2075" h="2127">
                  <a:moveTo>
                    <a:pt x="8" y="713"/>
                  </a:moveTo>
                  <a:lnTo>
                    <a:pt x="0" y="254"/>
                  </a:lnTo>
                  <a:lnTo>
                    <a:pt x="447" y="406"/>
                  </a:lnTo>
                  <a:lnTo>
                    <a:pt x="351" y="487"/>
                  </a:lnTo>
                  <a:lnTo>
                    <a:pt x="450" y="597"/>
                  </a:lnTo>
                  <a:lnTo>
                    <a:pt x="551" y="731"/>
                  </a:lnTo>
                  <a:lnTo>
                    <a:pt x="631" y="832"/>
                  </a:lnTo>
                  <a:lnTo>
                    <a:pt x="718" y="960"/>
                  </a:lnTo>
                  <a:lnTo>
                    <a:pt x="812" y="1121"/>
                  </a:lnTo>
                  <a:lnTo>
                    <a:pt x="885" y="1294"/>
                  </a:lnTo>
                  <a:lnTo>
                    <a:pt x="886" y="370"/>
                  </a:lnTo>
                  <a:lnTo>
                    <a:pt x="766" y="371"/>
                  </a:lnTo>
                  <a:lnTo>
                    <a:pt x="1033" y="0"/>
                  </a:lnTo>
                  <a:lnTo>
                    <a:pt x="1301" y="371"/>
                  </a:lnTo>
                  <a:lnTo>
                    <a:pt x="1183" y="369"/>
                  </a:lnTo>
                  <a:lnTo>
                    <a:pt x="1183" y="1305"/>
                  </a:lnTo>
                  <a:lnTo>
                    <a:pt x="1261" y="1127"/>
                  </a:lnTo>
                  <a:lnTo>
                    <a:pt x="1335" y="987"/>
                  </a:lnTo>
                  <a:lnTo>
                    <a:pt x="1423" y="858"/>
                  </a:lnTo>
                  <a:lnTo>
                    <a:pt x="1526" y="725"/>
                  </a:lnTo>
                  <a:lnTo>
                    <a:pt x="1602" y="620"/>
                  </a:lnTo>
                  <a:lnTo>
                    <a:pt x="1717" y="487"/>
                  </a:lnTo>
                  <a:lnTo>
                    <a:pt x="1629" y="406"/>
                  </a:lnTo>
                  <a:lnTo>
                    <a:pt x="2075" y="251"/>
                  </a:lnTo>
                  <a:lnTo>
                    <a:pt x="2064" y="713"/>
                  </a:lnTo>
                  <a:lnTo>
                    <a:pt x="1953" y="645"/>
                  </a:lnTo>
                  <a:lnTo>
                    <a:pt x="1867" y="775"/>
                  </a:lnTo>
                  <a:lnTo>
                    <a:pt x="1765" y="914"/>
                  </a:lnTo>
                  <a:lnTo>
                    <a:pt x="1681" y="1042"/>
                  </a:lnTo>
                  <a:lnTo>
                    <a:pt x="1607" y="1160"/>
                  </a:lnTo>
                  <a:lnTo>
                    <a:pt x="1545" y="1271"/>
                  </a:lnTo>
                  <a:lnTo>
                    <a:pt x="1484" y="1388"/>
                  </a:lnTo>
                  <a:lnTo>
                    <a:pt x="1418" y="1533"/>
                  </a:lnTo>
                  <a:lnTo>
                    <a:pt x="1388" y="1680"/>
                  </a:lnTo>
                  <a:lnTo>
                    <a:pt x="1387" y="2127"/>
                  </a:lnTo>
                  <a:lnTo>
                    <a:pt x="693" y="2127"/>
                  </a:lnTo>
                  <a:lnTo>
                    <a:pt x="693" y="1681"/>
                  </a:lnTo>
                  <a:lnTo>
                    <a:pt x="662" y="1533"/>
                  </a:lnTo>
                  <a:lnTo>
                    <a:pt x="579" y="1353"/>
                  </a:lnTo>
                  <a:lnTo>
                    <a:pt x="511" y="1235"/>
                  </a:lnTo>
                  <a:lnTo>
                    <a:pt x="452" y="1135"/>
                  </a:lnTo>
                  <a:lnTo>
                    <a:pt x="380" y="1018"/>
                  </a:lnTo>
                  <a:lnTo>
                    <a:pt x="306" y="907"/>
                  </a:lnTo>
                  <a:lnTo>
                    <a:pt x="219" y="785"/>
                  </a:lnTo>
                  <a:lnTo>
                    <a:pt x="118" y="641"/>
                  </a:lnTo>
                  <a:lnTo>
                    <a:pt x="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DDF8-EEB4-47D0-8DD7-B2433364B6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Formulações para 8 Rainha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4720" y="990720"/>
            <a:ext cx="9283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ção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dos: qualquer disposição com n (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8) rain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dores: adicionar uma rainha a qualquer quad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4^8 possibilidades: vai até o fim para testar se dá cer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ção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dos: disposição com n (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8) rainhas sem ataque mútuo (teste gradu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dores: adicionar uma rainha na coluna vazia mais à esquerda em que não possa ser ata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hor (2057 possibilidades), mas pode não haver ação possí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ção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dos: disposição com 8 rainhas, uma em cada col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dores: mover uma rainha atacada para outra casa na mesma col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F8A4-6383-4B04-8A1A-BDE24E13A9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Tipos de Problema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1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stem 4 tip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blemas de estado único (o mais tratado por busca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blemas de múltiplos es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blemas contingen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blemas explorató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udo depende do conhecimento do agente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38A4-D534-4F84-A7B6-CD8EFE05CA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85960" y="204120"/>
            <a:ext cx="8732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emplo: Agente Aspirador de Pó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478320" y="1104840"/>
            <a:ext cx="3512880" cy="30862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74720" y="4495680"/>
            <a:ext cx="919152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ção do problema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dos = mostrados na fig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do inicial = qualquer um dos estados possí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e de término = os dois quartos lim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dores = mover direita, mover esquerda, aspir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 do caminho = quantidade de ações realiz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FB0A-2E5E-41FD-8E6F-8AF9CB97C2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49320" y="204120"/>
            <a:ext cx="87580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Tipo 1: Problemas de estado únic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4360" y="1295280"/>
            <a:ext cx="8955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do ag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abe em que estado está (mundo totalmente acessí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abe o efeito de cada uma de suas 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=&gt; sabe onde está depois de uma seqüência qualquer de açõ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da ação leva a um único esta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. aspirador de pó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tado inicial = 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qüência de ações = [direita, aspirar]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eva ao estado 8 (final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écnica a aplicar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3353-A1F9-4D76-B481-24C39CA127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spaço de estado do agente aspirador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62120" y="1362240"/>
            <a:ext cx="9118440" cy="43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23BA-7CE4-4D2D-991D-24FF2C0372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85960" y="212040"/>
            <a:ext cx="8732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Tipo 2: Problemas de múltiplos estado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4360" y="1218960"/>
            <a:ext cx="8955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do agen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abe seu estado inicial (percepção deficiente), mas sabe o efeito de suas ações, </a:t>
            </a:r>
            <a:r>
              <a:rPr b="0" lang="pt-BR" sz="2200" spc="-1" strike="noStrike">
                <a:solidFill>
                  <a:srgbClr val="3333cc"/>
                </a:solidFill>
                <a:latin typeface="Arial"/>
              </a:rPr>
              <a:t>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abe o efeito das ações (execução deficiente), mas sabe seu estado in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ei de Murphy: aspira poeira existente e também  pode jogar poeira quando o quarto já estava limp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deve raciocinar sobre 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onjuntos de estad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s quais ele pode chegar pelas açõ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stes casos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empr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xist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seqüência de ações que leva a um estado fin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écnica a aplicar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EA8A-056E-439E-A55C-A36082C932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2640" y="1285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emplo - problema tipo 2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935000" y="838080"/>
            <a:ext cx="6467760" cy="593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EFAA-06D6-4BBE-AF90-BB8CD9467D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44560" y="509040"/>
            <a:ext cx="87580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Agentes solucionadores de problema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0312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 é um problema em I.A.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formulá-l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buscar a solução do problem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usca ce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usca heurís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is são os tipos de problema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is são as aplicaçõ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9BF2-AB35-4253-8A15-55DA17824A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85960" y="198360"/>
            <a:ext cx="8732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Tipo 3: Problemas contingencia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8955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do ag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agente não enxerga o ambiente inteiro </a:t>
            </a:r>
            <a:r>
              <a:rPr b="0" lang="pt-BR" sz="2200" spc="-1" strike="noStrike">
                <a:solidFill>
                  <a:srgbClr val="3333cc"/>
                </a:solidFill>
                <a:latin typeface="Arial"/>
              </a:rPr>
              <a:t>O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agente não sabe precisar o efeito das 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s. agente enxerga apenas o quarto onde está, dirigir com map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há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qüência prévia de açõ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garanta a solução do probl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gente precis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intercalar busca e execu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. o agente só pode decidir aspirar quando chegar ao quar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{1,5} -&gt; [aspirar, direita, aspirar se existe poeira]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écnica a aplicar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ment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 agente constrói  uma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árvore de ações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nde cada ramo lida com uma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ossível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contingência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C568-C1C3-4D25-9E57-2FCF05F5FA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85960" y="279360"/>
            <a:ext cx="8732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Tipo 4: Problemas exploratório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50680" y="1295280"/>
            <a:ext cx="90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do ag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agente não conhece seus possíveis estados </a:t>
            </a:r>
            <a:r>
              <a:rPr b="0" lang="pt-BR" sz="22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agente não sabe o efeito de suas 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. estar perdido em uma cidade desconhecida sem mapa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dev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plorar seu ambi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scobrindo gradualmente o resultado de suas ações e os estados existen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 agente “sobreviver”, terá aprendido um mapa do ambiente, que poderá ser reutilizado em problemas subseqü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écnica a aplicar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izag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9892-6820-4FDD-97E2-BED87AA565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Aplicações de Busca: “Toy Problems”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1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ogo das n rainh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ogo dos n números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-puzzl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riptoaritmét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lavras cruz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nibais e missionár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20120" y="3368520"/>
            <a:ext cx="9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+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181120" y="4876920"/>
            <a:ext cx="1635480" cy="1523880"/>
            <a:chOff x="5181120" y="4876920"/>
            <a:chExt cx="1635480" cy="1523880"/>
          </a:xfrm>
        </p:grpSpPr>
        <p:grpSp>
          <p:nvGrpSpPr>
            <p:cNvPr id="293" name=""/>
            <p:cNvGrpSpPr/>
            <p:nvPr/>
          </p:nvGrpSpPr>
          <p:grpSpPr>
            <a:xfrm>
              <a:off x="5181120" y="5181840"/>
              <a:ext cx="304920" cy="533160"/>
              <a:chOff x="5181120" y="5181840"/>
              <a:chExt cx="304920" cy="533160"/>
            </a:xfrm>
          </p:grpSpPr>
          <p:sp>
            <p:nvSpPr>
              <p:cNvPr id="294" name=""/>
              <p:cNvSpPr/>
              <p:nvPr/>
            </p:nvSpPr>
            <p:spPr>
              <a:xfrm>
                <a:off x="5257440" y="518184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33760" y="5334120"/>
                <a:ext cx="0" cy="22860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181120" y="5562720"/>
                <a:ext cx="152280" cy="15228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333760" y="5562720"/>
                <a:ext cx="152280" cy="15228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33760" y="5410440"/>
                <a:ext cx="152280" cy="7596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181120" y="5410440"/>
                <a:ext cx="152280" cy="7596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333400" y="5334120"/>
              <a:ext cx="304920" cy="533160"/>
              <a:chOff x="5333400" y="5334120"/>
              <a:chExt cx="304920" cy="533160"/>
            </a:xfrm>
          </p:grpSpPr>
          <p:sp>
            <p:nvSpPr>
              <p:cNvPr id="301" name=""/>
              <p:cNvSpPr/>
              <p:nvPr/>
            </p:nvSpPr>
            <p:spPr>
              <a:xfrm>
                <a:off x="5409720" y="533412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86040" y="5486400"/>
                <a:ext cx="0" cy="22860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333400" y="5715000"/>
                <a:ext cx="152280" cy="15228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86040" y="5715000"/>
                <a:ext cx="152280" cy="15228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86040" y="5562720"/>
                <a:ext cx="152280" cy="7596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5333400" y="5562720"/>
                <a:ext cx="152280" cy="7596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5485680" y="5486400"/>
              <a:ext cx="304920" cy="533160"/>
              <a:chOff x="5485680" y="5486400"/>
              <a:chExt cx="304920" cy="533160"/>
            </a:xfrm>
          </p:grpSpPr>
          <p:sp>
            <p:nvSpPr>
              <p:cNvPr id="308" name=""/>
              <p:cNvSpPr/>
              <p:nvPr/>
            </p:nvSpPr>
            <p:spPr>
              <a:xfrm>
                <a:off x="5562000" y="54864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638320" y="5638680"/>
                <a:ext cx="0" cy="22860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485680" y="5867280"/>
                <a:ext cx="152280" cy="15228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638320" y="5867280"/>
                <a:ext cx="152280" cy="15228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638320" y="5715000"/>
                <a:ext cx="152280" cy="7596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485680" y="5715000"/>
                <a:ext cx="152280" cy="7596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485680" y="5105520"/>
              <a:ext cx="304920" cy="533160"/>
              <a:chOff x="5485680" y="5105520"/>
              <a:chExt cx="304920" cy="533160"/>
            </a:xfrm>
          </p:grpSpPr>
          <p:sp>
            <p:nvSpPr>
              <p:cNvPr id="315" name=""/>
              <p:cNvSpPr/>
              <p:nvPr/>
            </p:nvSpPr>
            <p:spPr>
              <a:xfrm>
                <a:off x="5562000" y="5105520"/>
                <a:ext cx="152640" cy="15228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38320" y="5257800"/>
                <a:ext cx="0" cy="22860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485680" y="5486400"/>
                <a:ext cx="152280" cy="1522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38320" y="5486400"/>
                <a:ext cx="152280" cy="1522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638320" y="5334120"/>
                <a:ext cx="152280" cy="7596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485680" y="5334120"/>
                <a:ext cx="152280" cy="7596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638320" y="5257800"/>
              <a:ext cx="304920" cy="533160"/>
              <a:chOff x="5638320" y="5257800"/>
              <a:chExt cx="304920" cy="533160"/>
            </a:xfrm>
          </p:grpSpPr>
          <p:sp>
            <p:nvSpPr>
              <p:cNvPr id="322" name=""/>
              <p:cNvSpPr/>
              <p:nvPr/>
            </p:nvSpPr>
            <p:spPr>
              <a:xfrm>
                <a:off x="5714640" y="5257800"/>
                <a:ext cx="152640" cy="15228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90960" y="5410080"/>
                <a:ext cx="0" cy="22860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5638320" y="5638680"/>
                <a:ext cx="152280" cy="1522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90960" y="5638680"/>
                <a:ext cx="152280" cy="1522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790960" y="5486400"/>
                <a:ext cx="152280" cy="7596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638320" y="5486400"/>
                <a:ext cx="152280" cy="7596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790600" y="5410440"/>
              <a:ext cx="304920" cy="533160"/>
              <a:chOff x="5790600" y="5410440"/>
              <a:chExt cx="30492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5866920" y="5410440"/>
                <a:ext cx="152640" cy="15228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943240" y="5562720"/>
                <a:ext cx="0" cy="22860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790600" y="5791320"/>
                <a:ext cx="152280" cy="1522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943240" y="5791320"/>
                <a:ext cx="152280" cy="1522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943240" y="5639040"/>
                <a:ext cx="152280" cy="7596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790600" y="5639040"/>
                <a:ext cx="152280" cy="7596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159240" y="5029200"/>
              <a:ext cx="482760" cy="1371600"/>
              <a:chOff x="6159240" y="5029200"/>
              <a:chExt cx="482760" cy="1371600"/>
            </a:xfrm>
          </p:grpSpPr>
          <p:sp>
            <p:nvSpPr>
              <p:cNvPr id="336" name=""/>
              <p:cNvSpPr/>
              <p:nvPr/>
            </p:nvSpPr>
            <p:spPr>
              <a:xfrm>
                <a:off x="6159240" y="5029200"/>
                <a:ext cx="165240" cy="1371600"/>
              </a:xfrm>
              <a:custGeom>
                <a:avLst/>
                <a:gdLst/>
                <a:ahLst/>
                <a:rect l="l" t="t" r="r" b="b"/>
                <a:pathLst>
                  <a:path w="104" h="864">
                    <a:moveTo>
                      <a:pt x="104" y="0"/>
                    </a:moveTo>
                    <a:cubicBezTo>
                      <a:pt x="60" y="68"/>
                      <a:pt x="16" y="136"/>
                      <a:pt x="8" y="240"/>
                    </a:cubicBezTo>
                    <a:cubicBezTo>
                      <a:pt x="0" y="344"/>
                      <a:pt x="56" y="520"/>
                      <a:pt x="56" y="624"/>
                    </a:cubicBezTo>
                    <a:cubicBezTo>
                      <a:pt x="56" y="728"/>
                      <a:pt x="32" y="796"/>
                      <a:pt x="8" y="86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5029200"/>
                <a:ext cx="165240" cy="1371600"/>
              </a:xfrm>
              <a:custGeom>
                <a:avLst/>
                <a:gdLst/>
                <a:ahLst/>
                <a:rect l="l" t="t" r="r" b="b"/>
                <a:pathLst>
                  <a:path w="104" h="864">
                    <a:moveTo>
                      <a:pt x="104" y="0"/>
                    </a:moveTo>
                    <a:cubicBezTo>
                      <a:pt x="60" y="68"/>
                      <a:pt x="16" y="136"/>
                      <a:pt x="8" y="240"/>
                    </a:cubicBezTo>
                    <a:cubicBezTo>
                      <a:pt x="0" y="344"/>
                      <a:pt x="56" y="520"/>
                      <a:pt x="56" y="624"/>
                    </a:cubicBezTo>
                    <a:cubicBezTo>
                      <a:pt x="56" y="728"/>
                      <a:pt x="32" y="796"/>
                      <a:pt x="8" y="86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324480" y="5029200"/>
                <a:ext cx="164880" cy="1371600"/>
              </a:xfrm>
              <a:custGeom>
                <a:avLst/>
                <a:gdLst/>
                <a:ahLst/>
                <a:rect l="l" t="t" r="r" b="b"/>
                <a:pathLst>
                  <a:path w="104" h="864">
                    <a:moveTo>
                      <a:pt x="104" y="0"/>
                    </a:moveTo>
                    <a:cubicBezTo>
                      <a:pt x="60" y="68"/>
                      <a:pt x="16" y="136"/>
                      <a:pt x="8" y="240"/>
                    </a:cubicBezTo>
                    <a:cubicBezTo>
                      <a:pt x="0" y="344"/>
                      <a:pt x="56" y="520"/>
                      <a:pt x="56" y="624"/>
                    </a:cubicBezTo>
                    <a:cubicBezTo>
                      <a:pt x="56" y="728"/>
                      <a:pt x="32" y="796"/>
                      <a:pt x="8" y="86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76760" y="5029200"/>
                <a:ext cx="165240" cy="1371600"/>
              </a:xfrm>
              <a:custGeom>
                <a:avLst/>
                <a:gdLst/>
                <a:ahLst/>
                <a:rect l="l" t="t" r="r" b="b"/>
                <a:pathLst>
                  <a:path w="104" h="864">
                    <a:moveTo>
                      <a:pt x="104" y="0"/>
                    </a:moveTo>
                    <a:cubicBezTo>
                      <a:pt x="60" y="68"/>
                      <a:pt x="16" y="136"/>
                      <a:pt x="8" y="240"/>
                    </a:cubicBezTo>
                    <a:cubicBezTo>
                      <a:pt x="0" y="344"/>
                      <a:pt x="56" y="520"/>
                      <a:pt x="56" y="624"/>
                    </a:cubicBezTo>
                    <a:cubicBezTo>
                      <a:pt x="56" y="728"/>
                      <a:pt x="32" y="796"/>
                      <a:pt x="8" y="86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400440" y="5029200"/>
                <a:ext cx="165240" cy="1371600"/>
              </a:xfrm>
              <a:custGeom>
                <a:avLst/>
                <a:gdLst/>
                <a:ahLst/>
                <a:rect l="l" t="t" r="r" b="b"/>
                <a:pathLst>
                  <a:path w="104" h="864">
                    <a:moveTo>
                      <a:pt x="104" y="0"/>
                    </a:moveTo>
                    <a:cubicBezTo>
                      <a:pt x="60" y="68"/>
                      <a:pt x="16" y="136"/>
                      <a:pt x="8" y="240"/>
                    </a:cubicBezTo>
                    <a:cubicBezTo>
                      <a:pt x="0" y="344"/>
                      <a:pt x="56" y="520"/>
                      <a:pt x="56" y="624"/>
                    </a:cubicBezTo>
                    <a:cubicBezTo>
                      <a:pt x="56" y="728"/>
                      <a:pt x="32" y="796"/>
                      <a:pt x="8" y="86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6248160" y="4876920"/>
              <a:ext cx="568440" cy="84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96E7-88F9-4EEC-9B32-4E9DDD77C9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5960" y="204120"/>
            <a:ext cx="8732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plicações: Problemas Rea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8955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álculo de rot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otas em redes de comp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s de planejamento de via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ejamento de rotas de avi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ixeiro viaj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ocação (Schedul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alas de a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áquinas industriais (job sh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 de VL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ell lay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hannel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856C-8F4C-4AC3-9934-0AA0613296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plicações: Problemas Rea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1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avegação de robô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neralização do problema da naveg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obôs movem-se em espaços contínuos, com um conjunto (infinito) de possíveis ações e es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trolar os movimentos do robô no chão, e de seus braços e pernas requer espaço multi-dimension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tagem de objetos complexos por robô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rdenar a montagem das diversas partes do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c..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B5B7-170F-40FC-B5FE-8088C48AB2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em Espaço de Estado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1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a vez o problema bem formulado... o estado final deve ser “buscado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outras palavras, deve-se usar 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 de bus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 sabe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m correta de aplicação dos operad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 lavará do estado inicial ao f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vez a busca terminada com sucesso, é só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ar a  soluçã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= conjunto ordenado de operadores a aplica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CD10-44FC-49BD-B2B6-A852B0D275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85960" y="37440"/>
            <a:ext cx="873288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em Espaço de Estados: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Geração e Teste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50680" y="1294920"/>
            <a:ext cx="89024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ronteira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 espaço de est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ós (estados) a serem expandidos no 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algoritmo começa com a fronteira contendo o estado inicial do proble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elecion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primeiro nó (estado) d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ronteir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espaço de es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 a fronteira está vazia, o algoritmo termina co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falh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Test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 o nó é um estado final (soluçã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 “sim, então retornar nó - a busca termina co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uces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er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 novo conjunto de estados pela aplicação dos operadores      ao estado selecion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nseri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s nós gerados n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ronteir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e acordo com a estratégia de busca usada, e voltar para o passo (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8A26-74F4-4533-950E-1E9B232380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Exemplo:</a:t>
            </a:r>
            <a:r>
              <a:rPr b="1" i="1" lang="pt-BR" sz="3000" spc="-1" strike="noStrike">
                <a:solidFill>
                  <a:srgbClr val="3333cc"/>
                </a:solidFill>
                <a:latin typeface="Arial"/>
              </a:rPr>
              <a:t> viajar de Jeremoabo a Cajazeiras</a:t>
            </a:r>
            <a:endParaRPr b="1" i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70760" y="1096920"/>
            <a:ext cx="1289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Jeremoa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4680" y="1066680"/>
            <a:ext cx="196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do inicial 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314440" y="1935000"/>
            <a:ext cx="5563080" cy="1235880"/>
            <a:chOff x="2314440" y="1935000"/>
            <a:chExt cx="5563080" cy="1235880"/>
          </a:xfrm>
        </p:grpSpPr>
        <p:sp>
          <p:nvSpPr>
            <p:cNvPr id="354" name=""/>
            <p:cNvSpPr/>
            <p:nvPr/>
          </p:nvSpPr>
          <p:spPr>
            <a:xfrm>
              <a:off x="4447080" y="1935000"/>
              <a:ext cx="1289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Jeremoab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14440" y="2773440"/>
              <a:ext cx="5563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anudos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aulo Afonso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racaj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60880" y="2286000"/>
              <a:ext cx="1676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8968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18280" y="2286000"/>
              <a:ext cx="22096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466720" y="3763800"/>
            <a:ext cx="5563080" cy="1235880"/>
            <a:chOff x="2466720" y="3763800"/>
            <a:chExt cx="5563080" cy="1235880"/>
          </a:xfrm>
        </p:grpSpPr>
        <p:sp>
          <p:nvSpPr>
            <p:cNvPr id="360" name=""/>
            <p:cNvSpPr/>
            <p:nvPr/>
          </p:nvSpPr>
          <p:spPr>
            <a:xfrm>
              <a:off x="4599360" y="3763800"/>
              <a:ext cx="1289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Jeremoab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66720" y="4602240"/>
              <a:ext cx="5563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anudos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aulo Afonso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racaj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412800" y="4114800"/>
              <a:ext cx="1676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41960" y="4114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70560" y="4114800"/>
              <a:ext cx="22096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324800" y="5440320"/>
            <a:ext cx="389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trolin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. do S. Fran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041560" y="502920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32280" y="5029200"/>
            <a:ext cx="8380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0" y="1073160"/>
            <a:ext cx="21970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00320" y="1987560"/>
            <a:ext cx="593100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85920" y="3740040"/>
            <a:ext cx="783576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201A-96E4-4D0E-B068-B82F714955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5960" y="36360"/>
            <a:ext cx="873288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em Espaço de Estados: Implementaçã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50680" y="1218960"/>
            <a:ext cx="8955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aços de Est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371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dem ser representados como uma árvore onde os estados são nós e as operações são ar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nós da árvore podem guardar mais informação do que apenas o estad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ão um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rutu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dados com 5 component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0">
              <a:lnSpc>
                <a:spcPct val="11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o estado correspond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o seu nó p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o operador aplicado para gerar o nó (a partir do pa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a profundidade do n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o custo do nó (desde a rai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09EB-EF01-47BD-936B-F5B527D327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3640" y="204120"/>
            <a:ext cx="9601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Busca em Espaço de Estados: implementação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9204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9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-Inse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ontrola a ordem de inserção de nós na fronteira do espaço de esta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-Genér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-Inse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     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solução ou fal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ronteir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z-Fil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z-Nó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do-Inici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] )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oop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ronteir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tá vazia então retorna fal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ó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move-Primeir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ronteir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ste-Términ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] aplicado 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ó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]  tiver 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ces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ão retorn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ronteir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unção-Inse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ronteir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er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obl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]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CDBE-DE8B-40A9-A313-7DCCB18C6C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2640" y="1375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Solução de Problemas: definiçõe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914400"/>
            <a:ext cx="8962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24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m problema em IA é definido em termos de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) um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paço de esta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possíveis, incluind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estado in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(ou mais) estado final =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mplo 1: dirigir de Recife a Cajazei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0880" indent="-19872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paço de estado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as as cidades da regiã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mplo 2: jogo de 8-núme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0880" indent="-19872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nício: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im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5000"/>
              </a:lnSpc>
              <a:spcBef>
                <a:spcPts val="24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) um conjunto de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çõ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que permitem passar de um estado a out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1. dirigir de uma cidade a out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2. mover uma peça do jogo de n-números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-puzzl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8120" y="4038480"/>
            <a:ext cx="838080" cy="733320"/>
            <a:chOff x="3048120" y="4038480"/>
            <a:chExt cx="838080" cy="733320"/>
          </a:xfrm>
        </p:grpSpPr>
        <p:sp>
          <p:nvSpPr>
            <p:cNvPr id="93" name=""/>
            <p:cNvSpPr/>
            <p:nvPr/>
          </p:nvSpPr>
          <p:spPr>
            <a:xfrm>
              <a:off x="3048120" y="4038480"/>
              <a:ext cx="277200" cy="2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28560" y="4038480"/>
              <a:ext cx="276840" cy="2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09000" y="4038480"/>
              <a:ext cx="277200" cy="2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8120" y="4283280"/>
              <a:ext cx="277200" cy="24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8560" y="4283280"/>
              <a:ext cx="276840" cy="24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09000" y="4283280"/>
              <a:ext cx="277200" cy="24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4529160"/>
              <a:ext cx="277200" cy="2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09000" y="4529160"/>
              <a:ext cx="277200" cy="2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28560" y="4529160"/>
              <a:ext cx="276840" cy="2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181480" y="4038480"/>
            <a:ext cx="838440" cy="733680"/>
            <a:chOff x="5181480" y="4038480"/>
            <a:chExt cx="838440" cy="733680"/>
          </a:xfrm>
        </p:grpSpPr>
        <p:sp>
          <p:nvSpPr>
            <p:cNvPr id="103" name=""/>
            <p:cNvSpPr/>
            <p:nvPr/>
          </p:nvSpPr>
          <p:spPr>
            <a:xfrm>
              <a:off x="5181480" y="4038480"/>
              <a:ext cx="27792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62640" y="4038480"/>
              <a:ext cx="27612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2000" y="4038480"/>
              <a:ext cx="27792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4282920"/>
              <a:ext cx="277920" cy="24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2640" y="4282920"/>
              <a:ext cx="276120" cy="24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2000" y="4282920"/>
              <a:ext cx="277920" cy="24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1480" y="4529160"/>
              <a:ext cx="27792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2000" y="4529160"/>
              <a:ext cx="27792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2640" y="4529160"/>
              <a:ext cx="27612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182560" y="4191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4908-200D-431A-8F35-E574B363A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5960" y="204120"/>
            <a:ext cx="87328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étodos de Busc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4360" y="914400"/>
            <a:ext cx="8955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24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exaustiva - ce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abe qual 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elh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ó da fronteira a ser expandido = menor custo de caminho desse nó até um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ó fin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objetivo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ratégias de Busca (ordem de expansão dos nó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aminhamento em largur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aminhamento em profundida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ção de Bus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o estado inicial para o objetiv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o objetivo para o estado inici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heurística - informa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ima qual o melhor nó da fronteira a ser expandido com base em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funções heurístic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&gt; conh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ratégia de busca: best-first search (melhor escolh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ção de Busca: idem à busca ce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A641-E5BB-45FE-BC0F-2E8266F177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3000" y="-40320"/>
            <a:ext cx="90331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Critérios de Avaliação das Estratégias de Busc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1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let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ratégia sempre encontra uma solução quando existe algum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o temp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tempo gasta para encontrar  uma soluçã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memó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a memória é necessária para realizar a bus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timalidade/qualidade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ptimalit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ratégia encontra a melhor solução quando existem diferentes soluçõ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5ADA-23A7-45E7-9320-F143778CF9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2640" y="204120"/>
            <a:ext cx="8758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Solução de Problemas: definiçõe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4360" y="1371240"/>
            <a:ext cx="8961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ção do objetiv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priedade abstr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., condição de xeque-mate no Xadrez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junto de estados finais do m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., estar em Cajazeir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minho (seqüência de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ações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oper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que leva do estado inicial a um estado final (objetiv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aço de Estad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junto de todos os estados alcançáveis a partir do estado inicial por qualquer seqüência de açõ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C174-E233-427C-B064-EAD87581F4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85960" y="52200"/>
            <a:ext cx="873288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Solucionando o problema: </a:t>
            </a:r>
            <a:br>
              <a:rPr sz="3200"/>
            </a:br>
            <a:r>
              <a:rPr b="1" i="1" lang="en-US" sz="3000" spc="-1" strike="noStrike">
                <a:solidFill>
                  <a:srgbClr val="3333cc"/>
                </a:solidFill>
                <a:latin typeface="Arial"/>
              </a:rPr>
              <a:t>formulação, busca e execução</a:t>
            </a:r>
            <a:endParaRPr b="1" i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955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ção do problema e do objetiv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is são o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a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çõ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consider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 é (e como representar) 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ca (solução do problema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o que gera/analisa seqüências de ações para alcançar um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luçã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caminho entre estado inicial e estado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usto do caminh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qualidade da solu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çã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cutar a solução completa encontrada, 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calar execução com busca: planej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3B9A-8F24-4073-B2BB-BCCE001C3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44560" y="249120"/>
            <a:ext cx="87580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emplos de formulação de problem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9115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ogo de 8 númer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= cada possível configuração do tabulei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tado inici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qualquer um dos estados possí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ste de términ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ordenado, com branco na posição [3,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per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mover branco (esquerda, direita, para cima e para baix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 do caminh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número de passos da solu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a para Cajazeir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= cada possível cidade do map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tado inici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Jeremoa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ste de términ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estar em Cajazei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per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dirigir de uma cidade para out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 do caminh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número de cidades visitadas, distância percorrida, tempo de viagem, grau de divertimento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9F21-A953-402F-9DD7-BBAF447EE0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2640" y="-38160"/>
            <a:ext cx="8758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Árvore de busca para o “jogo dos 8 números”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000160" y="1308240"/>
            <a:ext cx="6029280" cy="5384520"/>
            <a:chOff x="2000160" y="1308240"/>
            <a:chExt cx="6029280" cy="5384520"/>
          </a:xfrm>
        </p:grpSpPr>
        <p:grpSp>
          <p:nvGrpSpPr>
            <p:cNvPr id="121" name=""/>
            <p:cNvGrpSpPr/>
            <p:nvPr/>
          </p:nvGrpSpPr>
          <p:grpSpPr>
            <a:xfrm>
              <a:off x="4390920" y="1308240"/>
              <a:ext cx="1276560" cy="1117440"/>
              <a:chOff x="4390920" y="1308240"/>
              <a:chExt cx="1276560" cy="1117440"/>
            </a:xfrm>
          </p:grpSpPr>
          <p:sp>
            <p:nvSpPr>
              <p:cNvPr id="122" name=""/>
              <p:cNvSpPr/>
              <p:nvPr/>
            </p:nvSpPr>
            <p:spPr>
              <a:xfrm>
                <a:off x="4390920" y="130824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18240" y="1308240"/>
                <a:ext cx="42192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245200" y="130824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90920" y="1681200"/>
                <a:ext cx="42228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18240" y="1681200"/>
                <a:ext cx="42192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45200" y="1681200"/>
                <a:ext cx="42228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90920" y="205596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45200" y="205596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18240" y="2055960"/>
                <a:ext cx="42192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57560" y="2984400"/>
              <a:ext cx="1276200" cy="1117800"/>
              <a:chOff x="2257560" y="2984400"/>
              <a:chExt cx="1276200" cy="1117800"/>
            </a:xfrm>
          </p:grpSpPr>
          <p:sp>
            <p:nvSpPr>
              <p:cNvPr id="132" name=""/>
              <p:cNvSpPr/>
              <p:nvPr/>
            </p:nvSpPr>
            <p:spPr>
              <a:xfrm>
                <a:off x="225756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8452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1148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5756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8452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1148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5756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1148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8452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753240" y="2984400"/>
              <a:ext cx="1276200" cy="1117800"/>
              <a:chOff x="6753240" y="2984400"/>
              <a:chExt cx="1276200" cy="1117800"/>
            </a:xfrm>
          </p:grpSpPr>
          <p:sp>
            <p:nvSpPr>
              <p:cNvPr id="142" name=""/>
              <p:cNvSpPr/>
              <p:nvPr/>
            </p:nvSpPr>
            <p:spPr>
              <a:xfrm>
                <a:off x="675324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8020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07160" y="298440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5324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8020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07160" y="3357720"/>
                <a:ext cx="422280" cy="371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5324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0716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80200" y="3732120"/>
                <a:ext cx="422280" cy="37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390920" y="3060720"/>
              <a:ext cx="1276560" cy="1117440"/>
              <a:chOff x="4390920" y="3060720"/>
              <a:chExt cx="1276560" cy="1117440"/>
            </a:xfrm>
          </p:grpSpPr>
          <p:sp>
            <p:nvSpPr>
              <p:cNvPr id="152" name=""/>
              <p:cNvSpPr/>
              <p:nvPr/>
            </p:nvSpPr>
            <p:spPr>
              <a:xfrm>
                <a:off x="4390920" y="306072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18240" y="3060720"/>
                <a:ext cx="42192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45200" y="306072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390920" y="3433680"/>
                <a:ext cx="42228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818240" y="3433680"/>
                <a:ext cx="42192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45200" y="3433680"/>
                <a:ext cx="422280" cy="37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90920" y="380844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45200" y="3808440"/>
                <a:ext cx="42228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18240" y="3808440"/>
                <a:ext cx="421920" cy="36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75880" y="33829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H="1">
              <a:off x="3107880" y="1981080"/>
              <a:ext cx="12193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13360" y="24382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99160" y="1981080"/>
              <a:ext cx="16765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82480" y="2185920"/>
              <a:ext cx="41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05680" y="2262240"/>
              <a:ext cx="692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85720" y="2490840"/>
              <a:ext cx="617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376880" y="5575320"/>
              <a:ext cx="1287360" cy="1117440"/>
              <a:chOff x="4376880" y="5575320"/>
              <a:chExt cx="1287360" cy="11174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76880" y="557532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3840" y="557532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41960" y="557532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6880" y="5948280"/>
                <a:ext cx="422280" cy="3715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03840" y="5948280"/>
                <a:ext cx="422280" cy="3715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41960" y="5948280"/>
                <a:ext cx="422280" cy="3715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76880" y="632304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03840" y="632304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41960" y="6323040"/>
                <a:ext cx="422280" cy="369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803840" y="5948280"/>
                <a:ext cx="422280" cy="3715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013360" y="4876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013000" y="4876920"/>
              <a:ext cx="22860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08440" y="487692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575080" y="4114800"/>
              <a:ext cx="3045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79640" y="4114800"/>
              <a:ext cx="3049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00160" y="4167360"/>
              <a:ext cx="692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04280" y="4167360"/>
              <a:ext cx="617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7B93-DCC9-4F06-A05A-905D7086DB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 rot="16200000">
            <a:off x="-942480" y="3004920"/>
            <a:ext cx="42800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Jeremoabo - Cajazeira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65360" y="131760"/>
            <a:ext cx="6566040" cy="643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63E4-4DFD-439A-B863-1620C98C23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44560" y="106200"/>
            <a:ext cx="875808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Agentes Solucionadores de Problemas</a:t>
            </a:r>
            <a:br>
              <a:rPr sz="3200"/>
            </a:br>
            <a:r>
              <a:rPr b="1" i="1" lang="pt-BR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BR" sz="3000" spc="-1" strike="noStrike">
                <a:solidFill>
                  <a:srgbClr val="3333cc"/>
                </a:solidFill>
                <a:latin typeface="Arial"/>
              </a:rPr>
              <a:t>formulação, busca e execução</a:t>
            </a:r>
            <a:endParaRPr b="1" i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442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-Simples-S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um dado percep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-Es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do, 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seqüência de ações) está va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objetivo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ula-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ula-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do, 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ff0033"/>
                </a:solidFill>
                <a:latin typeface="Arial"/>
              </a:rPr>
              <a:t>Busca</a:t>
            </a:r>
            <a:r>
              <a:rPr b="0" lang="pt-BR" sz="2400" spc="-1" strike="noStrike">
                <a:solidFill>
                  <a:srgbClr val="ff0033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ff0033"/>
                </a:solidFill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ei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, es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, es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orna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C959-C0C7-4F2D-B3B5-89EF12DA89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21:28:29Z</dcterms:created>
  <dc:creator>Departamento de Informática</dc:creator>
  <dc:description/>
  <dc:language>en-US</dc:language>
  <cp:lastModifiedBy>jhbg</cp:lastModifiedBy>
  <cp:lastPrinted>1999-08-26T17:52:17Z</cp:lastPrinted>
  <dcterms:modified xsi:type="dcterms:W3CDTF">2000-09-30T16:14:09Z</dcterms:modified>
  <cp:revision>450</cp:revision>
  <dc:subject/>
  <dc:title>Representação do Conhecimen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di.ufpe.br</vt:lpwstr>
  </property>
  <property fmtid="{D5CDD505-2E9C-101B-9397-08002B2CF9AE}" pid="9" name="LinkColor">
    <vt:r8>16711782</vt:r8>
  </property>
  <property fmtid="{D5CDD505-2E9C-101B-9397-08002B2CF9AE}" pid="10" name="MailAddress">
    <vt:lpwstr>fab@di.ufpe.b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eus documentos\aulas-gera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