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331450" cy="6858000"/>
  <p:notesSz cx="6688138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B9F9-92D5-46E8-9011-AEBAA5E51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4387-9168-4F30-9E86-4361A92E0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E22D-D1AB-4FC7-AF75-4F79D89F4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484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3532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436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484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83532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657-600D-4ADA-8F78-CB8B1C96A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B058-2050-496D-89F3-3E616EF55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4328-AF71-4BFF-8AE7-31FC2BBD1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0990-7EA1-44B8-8153-8CFCC6E9F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FD05-B316-45BA-AD0C-336B54B5F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7720" y="204120"/>
            <a:ext cx="87584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ECF2-DF86-4797-B48A-7A7EAE4E7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BAB4-3794-46F1-9CF6-8A7A89DE5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A7F6-CBBB-49ED-8DE6-BDB31502D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89AC-F297-40CC-8879-A6EB57A1D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0480" y="0"/>
            <a:ext cx="685800" cy="6861240"/>
            <a:chOff x="60480" y="0"/>
            <a:chExt cx="685800" cy="6861240"/>
          </a:xfrm>
        </p:grpSpPr>
        <p:grpSp>
          <p:nvGrpSpPr>
            <p:cNvPr id="3" name=""/>
            <p:cNvGrpSpPr/>
            <p:nvPr/>
          </p:nvGrpSpPr>
          <p:grpSpPr>
            <a:xfrm>
              <a:off x="85680" y="0"/>
              <a:ext cx="646200" cy="6859440"/>
              <a:chOff x="85680" y="0"/>
              <a:chExt cx="646200" cy="6859440"/>
            </a:xfrm>
          </p:grpSpPr>
          <p:sp>
            <p:nvSpPr>
              <p:cNvPr id="4" name=""/>
              <p:cNvSpPr/>
              <p:nvPr/>
            </p:nvSpPr>
            <p:spPr>
              <a:xfrm>
                <a:off x="92160" y="0"/>
                <a:ext cx="637920" cy="683568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2160" y="1700280"/>
                <a:ext cx="637920" cy="44928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2160" y="1289160"/>
                <a:ext cx="637920" cy="45540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2160" y="160200"/>
                <a:ext cx="637920" cy="2890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2160" y="992160"/>
                <a:ext cx="637920" cy="33660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2160" y="685800"/>
                <a:ext cx="637920" cy="4334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2160" y="403200"/>
                <a:ext cx="639720" cy="3254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938760"/>
                <a:ext cx="636480" cy="45720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538440"/>
                <a:ext cx="636480" cy="46044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2406600"/>
                <a:ext cx="636480" cy="2923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3236760"/>
                <a:ext cx="636480" cy="33984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2932200"/>
                <a:ext cx="636480" cy="43164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264960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2160" y="4978440"/>
                <a:ext cx="636480" cy="44604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2160" y="4568760"/>
                <a:ext cx="636480" cy="45396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680080"/>
                <a:ext cx="636480" cy="2890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6507000"/>
                <a:ext cx="636480" cy="35244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6200640"/>
                <a:ext cx="636480" cy="4366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592128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60480" y="3240"/>
              <a:ext cx="287280" cy="68580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50800" y="3240"/>
              <a:ext cx="195480" cy="68562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8961480" y="6553080"/>
            <a:ext cx="137160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In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1"/>
          </p:nvPr>
        </p:nvSpPr>
        <p:spPr>
          <a:xfrm>
            <a:off x="8275320" y="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14270F2-E997-48EE-8320-9E0E495EF9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Heurística - Informad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4360" y="1219320"/>
            <a:ext cx="89629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atégias de Busca Exaustiva (Ceg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contram soluções para problemas pela geraç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istemá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novos estados, que são comparados ao obje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neficient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a maioria dos ca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ão capazes de calcula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o nó atual ao nó inicial (fun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), para decidir qual o próximo nó da fronteira a ser expandid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sa medida não necessariamente conduz a busca na direção do objetiv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encontrar um barco perdi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 podemos procurar no oceano inteiro..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bservamos as correntes marítimas, o vento, etc..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38E2-A3C5-4905-8836-89C6181C78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lgoritmo A*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4360" y="1218960"/>
            <a:ext cx="89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 (n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nunca irá superestimar o custo real da melhor solução atravé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este caso, a rota escolhida entr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anu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etrolând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de fato a mais curta, uma vez que: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 (BSF) = 2,5 u + 1,5 u = 4 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 (Jeremoabo) = 1,5 u + 2,1 u = 3,6 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-A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4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Melhor-Escolh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g+h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2BB2-5910-4A48-AA8F-51FC3A4C3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lgoritmo A* : exempl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859040"/>
          <a:ext cx="949500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9040"/>
                    <a:ext cx="9495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513240" y="11430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r de Arad a Bucha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3829-D6DD-4EA3-ABBC-CCA1AFEDD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2640" y="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e fosse pela Busca Gulosa...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793800"/>
          <a:ext cx="816912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93800"/>
                    <a:ext cx="816912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BA38-DDA9-4492-9F2E-5F81C081E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Usando A*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320" y="1295280"/>
          <a:ext cx="10104480" cy="498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1010448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7F64-495E-43F2-996A-866A16887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lgoritmo A*: função de avaliaçã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4360" y="990360"/>
            <a:ext cx="89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função heurística h é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notôni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 (n)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h (sucessor(n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sso vale para a maioria das funções heurístic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erindo-se esse comportamento para a função de avali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 =g+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temos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 (sucessor(n))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f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ma vez que g é não decrescen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 custo de cada nó gerado no mesmo caminho nunca diminu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não monotônica, para se garantir a monotonicida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f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em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 f(suc(n)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 (n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-s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 f(suc(n))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x ( f(n), g(suc(n)) + h(suc(n))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1259-AEF2-4CDB-9063-B0B021696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lgoritmo A* : análise do comportament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720" y="990360"/>
            <a:ext cx="9283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stratégia é completa e óti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ponencial com o comprimento da solução, porém boas funções heurísticas diminuem significativamente esse cu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 fator de expansão fica próximo de 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memóri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(b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uarda todos os nós expandidos na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a possibilitar o backtrack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ficiência óti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ó expande nós co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f*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n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custo do caminho ó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 é não decrescen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nhum outro algoritmo ótimo garante expandir menos nó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4881-4402-40C7-86D8-14699A77E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2640" y="20304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* define Contorn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971800" y="1066680"/>
          <a:ext cx="7104240" cy="529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066680"/>
                    <a:ext cx="710424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0680" y="5257800"/>
            <a:ext cx="3035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f(n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* (f é admissível)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fator de expansão próximo d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EA1B-D39A-4F99-A5DD-CA3EB1D37F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74720" y="1752480"/>
            <a:ext cx="8783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4720" y="1866960"/>
            <a:ext cx="89629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-38160"/>
            <a:ext cx="8758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Busca com Limite de Memória </a:t>
            </a:r>
            <a:br>
              <a:rPr sz="3200"/>
            </a:b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Memory Bounded Search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A* (Iterative Deepening A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gual ao aprofundamento iterativo,  porém seu limite é dado pela  função de avaliação (f) , e não pela profundidade (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cessita de menos memória do que 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MA* (Simplified Memory-Bounded A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número de nós guardados em memória é fixado previ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41FF-FC2A-491D-B215-61242472A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IDA* (Iterative Deepening A*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53960" y="1371600"/>
          <a:ext cx="66456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371600"/>
                    <a:ext cx="664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A71C-0EC9-4CCC-8B2E-C3B47B6C55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4343400" cy="100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"/>
              </a:rPr>
              <a:t>SMA*  </a:t>
            </a:r>
            <a:r>
              <a:rPr b="1" i="1" lang="pt-BR" sz="3000" spc="-1" strike="noStrike">
                <a:solidFill>
                  <a:srgbClr val="3333cc"/>
                </a:solidFill>
                <a:latin typeface="Arial"/>
              </a:rPr>
              <a:t>(Simplified Memory-Bounded A*)  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9" name="fig04_11" descr=""/>
          <p:cNvPicPr/>
          <p:nvPr/>
        </p:nvPicPr>
        <p:blipFill>
          <a:blip r:embed="rId1"/>
          <a:stretch/>
        </p:blipFill>
        <p:spPr>
          <a:xfrm>
            <a:off x="4773600" y="304920"/>
            <a:ext cx="5208480" cy="62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4A34-972F-40BB-AF49-74A42754D5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Heurística - Informad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990720"/>
            <a:ext cx="8962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atégias de Busca Heurís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specífic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problema na escolha do próximo nó a ser expa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rco per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rrentes marítimas, vento, etc..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 de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unção de avalia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 cada nó na fronteira do espaço de est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função estima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nó atual até o objetivo mais próximo utilizando um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unção heurís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75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s de algoritmos para busca heurísti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Busca pela melhor escolha (Best-First sear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Busca com limite de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Busca com melhora ite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F108-A1ED-45DA-8918-6B0B7D8C6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Funções Heurístic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4360" y="990720"/>
            <a:ext cx="8962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heurística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esti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 custo do caminho mais barato do estado atual até  o estado final mais próx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heurísticas são específicas para cada probl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encontrar a rota mais barata de Jeremoabo a Cajazeir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distância direta entre o nó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o n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escolher uma boa função heurístic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a deve ser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admissí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.e., nunc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uperestima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 custo real da sol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diret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orque o caminho mais curto entre dois pontos é sempre uma linha r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2F85-AEB4-481A-A746-2E5D3BD53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2640" y="-7920"/>
            <a:ext cx="87584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3333cc"/>
                </a:solidFill>
                <a:latin typeface="Arial"/>
              </a:rPr>
              <a:t>Busca pela Melhor Escolha (BME) </a:t>
            </a:r>
            <a:br>
              <a:rPr sz="3000"/>
            </a:br>
            <a:r>
              <a:rPr b="1" i="1" lang="pt-BR" sz="3000" spc="-1" strike="noStrike">
                <a:solidFill>
                  <a:srgbClr val="3333cc"/>
                </a:solidFill>
                <a:latin typeface="Arial"/>
              </a:rPr>
              <a:t>Best-First Search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219320"/>
            <a:ext cx="89629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genérica onde o nó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enor custo “aparente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na fronteira do espaço de estados é expandido primei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as abordagens básic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Busca Gulosa (Greedy search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Algoritmo 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Função-Insere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dena nós com base na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Função-Avali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-Melhor-Escolh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-Aval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Genéri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Função-Inse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6318-792B-446A-821D-972C416ED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ME: Busca Gulos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9558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elhante à busca em profundidade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ta expandir o nó mais próximo do nó final com base na estimativa feita p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unção heurística 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-Gul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Melhor-Escolh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7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contrar a rota mais barat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nu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trolând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distância direta entre o nó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e o nó f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dd é admissíve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5136-9576-4C32-8FD1-85295BB0C7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Gulos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254240"/>
            <a:ext cx="7731360" cy="49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2010-C55E-4C66-8D2E-E8D8D93BF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Gulos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360" y="1066680"/>
            <a:ext cx="8962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busca mínim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expande nós fora do caminh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é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óti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e o caminho que é mais econômico à primeira vi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elém do S. Francisco, Petrolândia = 4,4 unidad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ém, existe um caminho mais curto de Canudos a Petrolâ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eremoabo, P. Afonso, Petrolândia = 4 unidad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solução via Belém do S. Francisco foi escolhida por este algoritmo por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BSF) = 1,5 u.,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quant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Jer) = 2,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0F5-3761-4E75-A31C-1892165A4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Gulos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é comple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entrar em looping se não  detectar a expansão de estados repet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tentar desenvolver um caminho infin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 e memória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uarda todos os nós expandidos na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8677-8520-4E50-92C7-034FBAF6A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ME: Algoritmo A*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4360" y="1142640"/>
            <a:ext cx="89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spcAft>
                <a:spcPts val="1349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a minimizar o custo total da solução combinan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ca Gulo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ômica, porém não é completa nem ó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ca de Custo Unifor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ficiente, porém completa e ó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ção de avaliaç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(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 (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 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 (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distância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nó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 (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distância estimada d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nó f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* expande o nó  de menor valor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a fronteira do espaço de est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66CE-08AF-450A-AD59-ECBF746E09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21:28:29Z</dcterms:created>
  <dc:creator>Departamento de Informática</dc:creator>
  <dc:description/>
  <dc:language>en-US</dc:language>
  <cp:lastModifiedBy>Teresa Ludermir</cp:lastModifiedBy>
  <cp:lastPrinted>2000-04-01T15:16:47Z</cp:lastPrinted>
  <dcterms:modified xsi:type="dcterms:W3CDTF">2000-06-09T17:17:11Z</dcterms:modified>
  <cp:revision>341</cp:revision>
  <dc:subject/>
  <dc:title>Representação do Conhecimento</dc:title>
</cp:coreProperties>
</file>