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33145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C7D0-2BB2-469D-AD4F-E81D298FD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4360" y="391860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24C3-2EF0-4540-8E27-989520A29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6724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9D9D-83A6-4F25-935E-B48B1EA44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484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35320" y="137124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436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484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835320" y="3918600"/>
            <a:ext cx="2885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8EA3-4BA8-4BBE-BA58-A39FD75F3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1E41-260D-48B1-A14C-2C9462C78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DF0A-C3EB-4834-9729-66129A015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FBB4-74C2-4B8C-B95A-94E174333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2B4A-B97B-408E-9E5C-B93A101D1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72640" y="204120"/>
            <a:ext cx="87584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82FB-4EEB-494A-BCE3-158D4A16E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B139-E104-4948-BD0B-C2A16BA48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67240" y="391860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2082-AE6E-4B85-84BF-F3608E31B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67240" y="1371240"/>
            <a:ext cx="4373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896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AD25-2F20-469F-B31A-6F7DF5706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0480" y="0"/>
            <a:ext cx="685800" cy="6861240"/>
            <a:chOff x="60480" y="0"/>
            <a:chExt cx="685800" cy="6861240"/>
          </a:xfrm>
        </p:grpSpPr>
        <p:grpSp>
          <p:nvGrpSpPr>
            <p:cNvPr id="3" name=""/>
            <p:cNvGrpSpPr/>
            <p:nvPr/>
          </p:nvGrpSpPr>
          <p:grpSpPr>
            <a:xfrm>
              <a:off x="85680" y="0"/>
              <a:ext cx="646200" cy="6859440"/>
              <a:chOff x="85680" y="0"/>
              <a:chExt cx="646200" cy="6859440"/>
            </a:xfrm>
          </p:grpSpPr>
          <p:sp>
            <p:nvSpPr>
              <p:cNvPr id="4" name=""/>
              <p:cNvSpPr/>
              <p:nvPr/>
            </p:nvSpPr>
            <p:spPr>
              <a:xfrm>
                <a:off x="92160" y="0"/>
                <a:ext cx="637920" cy="683568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2160" y="1700280"/>
                <a:ext cx="637920" cy="44928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2160" y="1289160"/>
                <a:ext cx="637920" cy="45540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2160" y="160200"/>
                <a:ext cx="637920" cy="28908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2160" y="992160"/>
                <a:ext cx="637920" cy="33660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2160" y="685800"/>
                <a:ext cx="637920" cy="4334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2160" y="403200"/>
                <a:ext cx="639720" cy="32544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938760"/>
                <a:ext cx="636480" cy="45720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538440"/>
                <a:ext cx="636480" cy="46044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2406600"/>
                <a:ext cx="636480" cy="29232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3236760"/>
                <a:ext cx="636480" cy="33984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2932200"/>
                <a:ext cx="636480" cy="43164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264960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2160" y="4978440"/>
                <a:ext cx="636480" cy="44604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2160" y="4568760"/>
                <a:ext cx="636480" cy="45396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680080"/>
                <a:ext cx="636480" cy="28908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6507000"/>
                <a:ext cx="636480" cy="35244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6200640"/>
                <a:ext cx="636480" cy="4366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592128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60480" y="3240"/>
              <a:ext cx="287280" cy="68580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50800" y="3240"/>
              <a:ext cx="195480" cy="68562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8961480" y="6553080"/>
            <a:ext cx="1371600" cy="2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6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In- UF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1"/>
          </p:nvPr>
        </p:nvSpPr>
        <p:spPr>
          <a:xfrm>
            <a:off x="8275320" y="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FB3689-57F2-4383-AB01-AD0913944D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Cega (Exaustiva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4360" y="1142640"/>
            <a:ext cx="89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atégias para determinar a ordem de expansão dos nó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 em larg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Busca de custo uni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Busca em profund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Busca com aprofundament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reção da expans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Do estado inicial para um estado f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De um estado final para o estad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Busca bi-dire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2640" y="-7920"/>
            <a:ext cx="875844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de Custo Uniforme</a:t>
            </a:r>
            <a:br>
              <a:rPr sz="32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Fronteira do exemplo anterior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218960"/>
            <a:ext cx="8962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 = {S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sta se S é o estado objetivo, expande-o e guarda seus filhos A, B e C ordenadamente na fronte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 = {A, B, C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sta A, expande-o e guarda seu filho G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ordenad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bs.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 algoritmo de geração e teste guarda na fronteira todos os nós gerados, testando se um nó é o objetivo apenas quando ele é retirado da list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= {B, G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C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sta B, expande-o e guarda seu filho G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rdenad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= {G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C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sta G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par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de Custo Uniform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4360" y="1143000"/>
            <a:ext cx="8962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 estratégia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ótim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 (sucessor(n)) 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g (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usto de caminh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o mesmo caminh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não decres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.e., não tem operadores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usto negativ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so contrário, teríamos que expandir todo o espaço de estados em busca da melhor sol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. Seria necessário expandir também o nó C do exemplo, pois o próximo operador poderia ter custo associado = -13, por exemplo, gerando um  caminho mais barato do que através de 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 e de memó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icamente, igual ao da Busca em Larg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Profundidad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74360" y="1066320"/>
            <a:ext cx="8962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dem de expansão dos nó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pre expande o nó n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ível mais profund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a árvo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nó ra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primeiro nó de profundid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primeiro nó de profundidade 2, etc…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do um nó final não é solução, o algoritmo volta para expandir os nós que ainda estão na fronteira do espaço de es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em-Profund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solução ou falh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Genéric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Insere-no-Começ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2640" y="357120"/>
            <a:ext cx="875844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Profundidad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0160" y="1371600"/>
            <a:ext cx="8962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340000" y="1828800"/>
          <a:ext cx="564336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28800"/>
                    <a:ext cx="564336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9120" y="7560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Profundidad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4360" y="838080"/>
            <a:ext cx="8978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 estratégia não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nem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ótim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memó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ntém na memória o caminho que está sendo expandido no momento, e os nós irmãos dos nós no caminho (para possibilitar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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ta armazenar apenas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.m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ós para um espaço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com fator de expan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e profundida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maior qu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rofundidade da 1a. soluç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 pior ca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oblemas com várias soluções, esta estratégia pode ser bem mais rápida do que busca em largu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estratégia deve ser evitada quando as árvores geradas são mu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fun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gera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minhos infin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com Aprofundamento Iterativ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0680" y="1219320"/>
            <a:ext cx="8978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 o problema de caminhos muito longos ou infinitos impondo um limite máxim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profundidade para os caminhos gerados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  </a:t>
            </a:r>
            <a:r>
              <a:rPr b="0" i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d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on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limite de profundidade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a profundidade da primeira solução do probl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estratégia tenta limites com valores crescentes, partindo de zero, até encontrar a primeira sol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ixa profundidade =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executa bus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não chegou a um objetivo, recomeça busca com profundidade =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 + n (n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lq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ora o tempo de busca, porém melhora o custo de memóri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l à Busca em Largura par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=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=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com Aprofundamento Iterativ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2960" y="11426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bina as vantagen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 em largu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 em profundidade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ótim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n = 1 e operadores com custos ig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memó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cessita armazenar apena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.d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ós para um espaço de estados com fator de expansã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limite de profundidade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ns resultados quando o espaço de estados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ran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fundidade desconhecid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com Aprofundamento Iterativ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78000" y="1371600"/>
            <a:ext cx="9055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79440" y="1266840"/>
          <a:ext cx="755676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1266840"/>
                    <a:ext cx="755676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2640" y="623880"/>
            <a:ext cx="875844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Arial"/>
              </a:rPr>
              <a:t>Comparando Estratégias de Busca Exaustiva</a:t>
            </a:r>
            <a:endParaRPr b="1" i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27360" y="2662200"/>
          <a:ext cx="720252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662200"/>
                    <a:ext cx="720252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Bidirecional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4360" y="914400"/>
            <a:ext cx="89629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ca em duas direçõ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frente, a partir do nó inicial,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trás, a partir do nó final (objetiv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usca pára quando os dois processos geram um mesmo estado intermediári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possível utiliza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atégi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erentes em cada direção da bus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00400" y="4114800"/>
          <a:ext cx="50464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4114800"/>
                    <a:ext cx="5046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5640" y="387360"/>
            <a:ext cx="8758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ritérios de Avaliação das Estratégias de Busca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tude(completez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ratégi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mp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ncontra uma solução quando existe algu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o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gasta para encontrar  uma soluçã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memó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necessária para realizar a bus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/otimalidad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ptimalit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ratégia encontr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 melhor solu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ando existem soluções diferent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enor custo de caminh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85960" y="152280"/>
            <a:ext cx="87328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Bidirecional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4360" y="990720"/>
            <a:ext cx="8962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fator de expansão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nas duas direções, e a profundidade do último nó gerado é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(2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d/2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d/2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memória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d/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para trás ger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edecess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o nó f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operadores sã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versíve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conjunto de predecessores do nó = conjunto de sucessores do nó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rém, esses operadores podem gerar árv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infinit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so contrár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 geração de predecessores fica muito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scrição desse conjunto é uma propriedade abstrat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.g., como determinar exatamente todos os estados que precedem um estado de xeque-mate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 também quando existem muitos estados finais (objetivos) no probl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2640" y="33480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vitar Geração de Estados Repetid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geral em Bus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pandir estados presentes em caminhos já explor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inevitável quando existe operadores reversíve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 encontrar rotas, canibais e missionários, 8-númer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árvore de busca é potencialmente infin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é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a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prune) estados repetidos, para gerar apenas a parte da árvore que corresponde ao grafo do espaço de estados (que é finito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smo quando esta árvore é finita...evitar estados repetidos pode reduzir exponencialmente o custo da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vitar Geração de Estados Repetid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4360" y="990360"/>
            <a:ext cx="89629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 + 1) estados no espaço =&gt;  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inhos na árv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o evitar expandir estados presentes em caminhos já explorad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ordem crescente de eficácia e custo computacion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69080" y="2133720"/>
            <a:ext cx="5502960" cy="2437920"/>
            <a:chOff x="2269080" y="2133720"/>
            <a:chExt cx="5502960" cy="2437920"/>
          </a:xfrm>
        </p:grpSpPr>
        <p:graphicFrame>
          <p:nvGraphicFramePr>
            <p:cNvPr id="185" name=""/>
            <p:cNvGraphicFramePr/>
            <p:nvPr/>
          </p:nvGraphicFramePr>
          <p:xfrm>
            <a:off x="2463120" y="2553840"/>
            <a:ext cx="5308920" cy="201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3120" y="2553840"/>
                      <a:ext cx="5308920" cy="201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2269080" y="2133720"/>
              <a:ext cx="23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spaço de es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26640" y="2133720"/>
              <a:ext cx="20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Árvore de bus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2640" y="1825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vitar Estados Repetidos: soluçõe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4360" y="1218960"/>
            <a:ext cx="8962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Não retornar ao estado “pai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unção que rejeita geração de sucessor igual ao p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Não criar caminhos com cic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gerar sucessores para qualquer estado que já apareceu no caminho sendo expa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Não gerar qualquer estado que já tenha sido criado antes (em qualquer ram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quer que todos os estados gerados permaneçam na memó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sto de memória: O(b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implementado mais eficientemente co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Tensão (trade-off) bási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sto de armazenamento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verificaçã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pende do probl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“loops”, mais vantagem em evitá-lo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1752480"/>
            <a:ext cx="301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Custo ext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bus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Largur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9629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dem de expansão dos nó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Nó ra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Todos os nós de profundidade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Todos os nós de profundidade 2, etc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em-Largu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solução ou falh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usca-Genéric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Insere-no-Fi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5105520"/>
          <a:ext cx="671832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105520"/>
                    <a:ext cx="67183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emplo: Jogo dos 8 númer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000160" y="1308240"/>
            <a:ext cx="6029280" cy="5384520"/>
            <a:chOff x="2000160" y="1308240"/>
            <a:chExt cx="6029280" cy="5384520"/>
          </a:xfrm>
        </p:grpSpPr>
        <p:grpSp>
          <p:nvGrpSpPr>
            <p:cNvPr id="73" name=""/>
            <p:cNvGrpSpPr/>
            <p:nvPr/>
          </p:nvGrpSpPr>
          <p:grpSpPr>
            <a:xfrm>
              <a:off x="4390920" y="1308240"/>
              <a:ext cx="1276560" cy="1117440"/>
              <a:chOff x="4390920" y="1308240"/>
              <a:chExt cx="1276560" cy="1117440"/>
            </a:xfrm>
          </p:grpSpPr>
          <p:sp>
            <p:nvSpPr>
              <p:cNvPr id="74" name=""/>
              <p:cNvSpPr/>
              <p:nvPr/>
            </p:nvSpPr>
            <p:spPr>
              <a:xfrm>
                <a:off x="4390920" y="13082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18240" y="130824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45200" y="13082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90920" y="168120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18240" y="1681200"/>
                <a:ext cx="42192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45200" y="168120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90920" y="205596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45200" y="205596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8240" y="205596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57560" y="2984400"/>
              <a:ext cx="1276200" cy="1117800"/>
              <a:chOff x="2257560" y="2984400"/>
              <a:chExt cx="1276200" cy="1117800"/>
            </a:xfrm>
          </p:grpSpPr>
          <p:sp>
            <p:nvSpPr>
              <p:cNvPr id="84" name=""/>
              <p:cNvSpPr/>
              <p:nvPr/>
            </p:nvSpPr>
            <p:spPr>
              <a:xfrm>
                <a:off x="225756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8452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1148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5756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452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1148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5756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1148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8452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753240" y="2984400"/>
              <a:ext cx="1276200" cy="1117800"/>
              <a:chOff x="6753240" y="2984400"/>
              <a:chExt cx="1276200" cy="1117800"/>
            </a:xfrm>
          </p:grpSpPr>
          <p:sp>
            <p:nvSpPr>
              <p:cNvPr id="94" name=""/>
              <p:cNvSpPr/>
              <p:nvPr/>
            </p:nvSpPr>
            <p:spPr>
              <a:xfrm>
                <a:off x="675324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8020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0716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5324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8020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0716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5324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0716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8020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390920" y="3060720"/>
              <a:ext cx="1276560" cy="1117440"/>
              <a:chOff x="4390920" y="3060720"/>
              <a:chExt cx="1276560" cy="1117440"/>
            </a:xfrm>
          </p:grpSpPr>
          <p:sp>
            <p:nvSpPr>
              <p:cNvPr id="104" name=""/>
              <p:cNvSpPr/>
              <p:nvPr/>
            </p:nvSpPr>
            <p:spPr>
              <a:xfrm>
                <a:off x="4390920" y="306072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18240" y="306072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45200" y="306072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0920" y="343368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18240" y="3433680"/>
                <a:ext cx="42192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45200" y="343368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90920" y="38084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45200" y="38084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18240" y="380844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75880" y="3382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 flipH="1">
              <a:off x="3107880" y="1981080"/>
              <a:ext cx="12193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13360" y="24382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99160" y="1981080"/>
              <a:ext cx="16765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82480" y="2185920"/>
              <a:ext cx="41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5680" y="2262240"/>
              <a:ext cx="692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5720" y="2490840"/>
              <a:ext cx="61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376880" y="5575320"/>
              <a:ext cx="1287360" cy="1117440"/>
              <a:chOff x="4376880" y="5575320"/>
              <a:chExt cx="1287360" cy="111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4376880" y="557532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03840" y="557532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41960" y="557532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7688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384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4196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76880" y="632304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3840" y="632304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41960" y="632304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384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5013360" y="4876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013000" y="4876920"/>
              <a:ext cx="22860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08440" y="487692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575080" y="4114800"/>
              <a:ext cx="3045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79640" y="4114800"/>
              <a:ext cx="304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00160" y="4167360"/>
              <a:ext cx="692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04280" y="4167360"/>
              <a:ext cx="61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Largur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27000" y="1295280"/>
            <a:ext cx="896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estratégia é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óti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mpre encontra a solução mais “rasa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e nem sempre é a solução de men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sto de caminho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o os operadores tenham valores diferentes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óti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,n’  profundidade(n’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fundidade(n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 de caminho(n’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usto de caminho (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sto de caminh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é não-decrescente com a profundidade do n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sa função acumula o custo do caminho da origem ao nó atua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lmente, isto só ocorre quando todos os operadores têm o mesmo custo (=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Largur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27000" y="1219320"/>
            <a:ext cx="896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tor de expansão da árvore de busc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nós gerados a partir de cada nó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 fator de expansão do problema =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 e a primeira solução para o problema está no nível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 o número máximo de nós gerados até se encontrar a solução = 1 +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+ … +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 exponen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 (b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memó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o espaço de estados deve permanecer  na memó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 problema mais crucial do que o tempo de execução da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Largur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50680" y="914040"/>
            <a:ext cx="8962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11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estratégia só dá bons resultados quand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und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árvore de busca é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qu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tor de expansão b =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000 nós gerados por seg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ó ocupa 100 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3657600"/>
          <a:ext cx="9656640" cy="30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965664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de Custo Uniform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955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 a busca em largura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de o nó da fronteira com menor custo de caminho na fronteira do espaço de es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operador pode ter um custo associado diferente, medido pela funçã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ara o nó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 g(n) dá o custo do caminho da origem ao nó 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busca em largura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undid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usca-de-Custo-Unifor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a solução ou falh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usca-Genéri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sere-Ordem-Cresc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79120" y="204120"/>
            <a:ext cx="87454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de Custo Uniform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27160" y="1189080"/>
            <a:ext cx="837396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21:28:29Z</dcterms:created>
  <dc:creator>Departamento de Informática</dc:creator>
  <dc:description/>
  <dc:language>en-US</dc:language>
  <cp:lastModifiedBy>jhbg</cp:lastModifiedBy>
  <cp:lastPrinted>1998-03-25T12:46:30Z</cp:lastPrinted>
  <dcterms:modified xsi:type="dcterms:W3CDTF">2000-09-30T15:19:00Z</dcterms:modified>
  <cp:revision>403</cp:revision>
  <dc:subject/>
  <dc:title>Representação do Conhecimento</dc:title>
</cp:coreProperties>
</file>