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33145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6391-C909-4007-8CEF-31FD4E129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4360" y="391860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C2F0-71BE-46B0-ABB7-6B209150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6724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43EF-2E3E-4F7B-B054-A2D2CE13D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484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3532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7436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484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83532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90FB-4900-4439-81C0-CAD10785C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2CC9-07CF-4792-9D2F-B3370F255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A0DE-83D5-407D-8CB1-AA2588ADA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4823-0780-441E-B6BA-C2E9E8DAE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6E82-C16A-46AC-A8F2-DB15AA771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72640" y="204120"/>
            <a:ext cx="87584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6B2B-42FF-44DD-B4F3-90EDF5384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49D0-5231-43E9-9624-48146DB36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6724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67F4-2C7A-4BEB-BA0C-18E3175E0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F6D0-DC03-4FCF-8E3E-E983EECCF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0480" y="0"/>
            <a:ext cx="685800" cy="6861240"/>
            <a:chOff x="60480" y="0"/>
            <a:chExt cx="685800" cy="6861240"/>
          </a:xfrm>
        </p:grpSpPr>
        <p:grpSp>
          <p:nvGrpSpPr>
            <p:cNvPr id="3" name=""/>
            <p:cNvGrpSpPr/>
            <p:nvPr/>
          </p:nvGrpSpPr>
          <p:grpSpPr>
            <a:xfrm>
              <a:off x="85680" y="0"/>
              <a:ext cx="646200" cy="6859440"/>
              <a:chOff x="85680" y="0"/>
              <a:chExt cx="646200" cy="6859440"/>
            </a:xfrm>
          </p:grpSpPr>
          <p:sp>
            <p:nvSpPr>
              <p:cNvPr id="4" name=""/>
              <p:cNvSpPr/>
              <p:nvPr/>
            </p:nvSpPr>
            <p:spPr>
              <a:xfrm>
                <a:off x="92160" y="0"/>
                <a:ext cx="637920" cy="683568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2160" y="1700280"/>
                <a:ext cx="637920" cy="44928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2160" y="1289160"/>
                <a:ext cx="637920" cy="45540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2160" y="160200"/>
                <a:ext cx="637920" cy="28908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2160" y="992160"/>
                <a:ext cx="637920" cy="33660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2160" y="685800"/>
                <a:ext cx="637920" cy="43344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2160" y="403200"/>
                <a:ext cx="639720" cy="32544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680" y="3938760"/>
                <a:ext cx="636480" cy="45720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680" y="3538440"/>
                <a:ext cx="636480" cy="46044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680" y="2406600"/>
                <a:ext cx="636480" cy="29232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680" y="3236760"/>
                <a:ext cx="636480" cy="33984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680" y="2932200"/>
                <a:ext cx="636480" cy="43164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680" y="264960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2160" y="4978440"/>
                <a:ext cx="636480" cy="44604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2160" y="4568760"/>
                <a:ext cx="636480" cy="45396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680" y="5680080"/>
                <a:ext cx="636480" cy="28908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80" y="6507000"/>
                <a:ext cx="636480" cy="35244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680" y="6200640"/>
                <a:ext cx="636480" cy="43668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680" y="592128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60480" y="3240"/>
              <a:ext cx="287280" cy="685800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50800" y="3240"/>
              <a:ext cx="195480" cy="685620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8961480" y="6553080"/>
            <a:ext cx="1371600" cy="2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6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In- UF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1"/>
          </p:nvPr>
        </p:nvSpPr>
        <p:spPr>
          <a:xfrm>
            <a:off x="8275320" y="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B4A31E-8D40-4ACF-8BC5-2EC1819AB3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Inventando Funções Heurístic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8902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escolher uma boa função heurística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pende de cada problema particul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ve se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uperestimar o custo real da solu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m estratégias genéricas para defini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) Relaxar restrições do proble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) Usar informação estatíst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) Identificar os atributos mais relevantes do problema (exige aprendizage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AAC7-D2F3-482C-924D-BF2D3F2DB8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lgoritmos de Melhorias Iterativ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4360" y="1219320"/>
            <a:ext cx="8978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4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ses algoritmos guardam apenas o estado atual, e não vêem além dos vizinhos imediatos do est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udo, muitas vezes são os melhores métodos para tratar problemas reais muito complex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uas classes de algoritm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Hill-Climb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Subida da Encosta ou Gradiente Ascendent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ó faz modificações que melhoram o estado atua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Anelamento Simu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de fazer modificações que pioram o estado temporariamente, para possivelmente melhorá-lo no futuro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1B03-75C1-4834-9C32-148C7C27F3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2640" y="7560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Subida da Encosta: algoritm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89913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mantém uma árvore de busc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uarda apenas o estado atual e sua avali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simplesmente um “loop” que se move na direçã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resc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para maximizar) o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ecresc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para minimizar) da função de avali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riáveis locais: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o nó atual)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o próximo n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z-N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do-Ini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oop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ucess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 maior valor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(expande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                                       nó </a:t>
            </a:r>
            <a:r>
              <a:rPr b="0" i="1" lang="pt-BR" sz="2000" spc="-1" strike="noStrike">
                <a:solidFill>
                  <a:srgbClr val="3333cc"/>
                </a:solidFill>
                <a:latin typeface="Arial"/>
              </a:rPr>
              <a:t>corrente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 e seleciona seu melhor fil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 &lt;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(ou &gt;, para minimiz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(o algoritmo pá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A10B-8130-4C36-A3E8-54FCF41C24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Exemplo de Subida da Encost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4360" y="1066320"/>
            <a:ext cx="8962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álculo da </a:t>
            </a: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eno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rotas com 5 nó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(N1, N2, N3, N4, N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soma das distâncias diretas entre cada nó, na ordem escolhida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dmissív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per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permutar dois nós quaisquer do cami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tri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somente caminhos conectados são estados vá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ado fin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nó onde valor de f é 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ínim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1 = {N1, N2, N3, N4, N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(N1, N2, N3, N4, N5) = 1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2 = {N2, N1, N3, N4, N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(N2, N1, N3, N4, N5) = 1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3 = {N2, N1, N4, N3, N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(N2, N1, N3, N4, N5) = 9!!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F6D7-4104-4456-A65A-5319CD6628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Subida da Encost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991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move-se sempre na direção que apresenta maior taxa de variação para 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sso pode acarretar em 3 problem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Máximos loc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Planícies (platô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Encostas e p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g1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9524880" cy="19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1802-0868-4FC3-9B5C-11B91BECFA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Máximos loca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contraste com máximos globais, são picos mais baixos do que  o pico mais alto no espaço de estados (solução ótim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função de avaliação leva a um valor máximo para o caminho sendo percorri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unção de avaliação é menor para todos os estados filhos do estado atual, apesar de o objetivo estar em um ponto mais al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sa função utiliza informação “local”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.g., xadrez: eliminar a Rainha do adversário pode levar o jogador a perder o jo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2F58-BCE7-492F-AB26-4C43DD0D6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Máximos loca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spcAft>
                <a:spcPts val="150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pára no máximo lo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is só pode mover-se com taxa crescente de vari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71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strição do algoritmo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.g., 8-números: mover uma peça para fora da sua posição correta para dar passagem a outra peça que está fora do lugar tem taxa de variação negativa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E087-F1DD-4B60-91C2-EC26C507BF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Platôs (Planícies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360" y="1066680"/>
            <a:ext cx="89629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2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região do espaço de estados onde a função de avaliação dá o mesmo result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os movimentos locais são iguais (taxa de variação zer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(n) = f(filhos(n)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lgoritmo pára depois de algumas tent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strição do algoritm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 jogo 8-números: nenhum movimento possível vai influenciar no valor de f, pois nenhum número vai chegar ao seu loca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E8E7-09FC-4B33-82CD-67558E17D2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Encostas e Pic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esar de estar em uma direção que leva ao pico, nenhum dos operadores válidos conduz o algoritmo nessa dire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ovimentos possíveis têm taxa de variação zero ou nega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strição do problema e do algoritm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 rotas: quando é permutar dois pontos e o caminho resultante não está conec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48CE-835B-49EF-9BAF-9BAA9DD01A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20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Subida da Encost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962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s casos acima, o algoritmo chega a um ponto de onde não faz mais progr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olução: reinício aleatório (random restar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lgoritmo realiza uma série de buscas a partir de estados iniciais gerados aleatoriament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busca é executa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é que um número máximo estipulado de iterações seja atingido, 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é que os resultados encontrados não apresentem melhora significa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escolhe o melhor resultado obtido com as diferentes busc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ivo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3904-1451-48AC-A7D6-92D5CAE437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Subida da Encosta: anális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4360" y="1066320"/>
            <a:ext cx="8962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é complet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M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roblema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ma vez que cada nó tratado pelo algoritmo é sempre um estado completo (uma solução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ÃO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roblemas onde os nós não são estados compl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.g., jogo dos 8-número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melhante à busca em profundida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é ótim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ALVEZ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roblema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quando iterações suficientes forem permitidas..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ÃO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roblemas onde os nós não são estados compl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E8B1-C9BA-4D06-B776-8F73832AEC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9296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Relaxa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rsão simplificada do problema original, onde os operadores são menos restr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jogo dos 8 números - operador orig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número pode mover-se de A para B se A é adjacente a B  e B está va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 exaustiva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dos possí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peradores relaxad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um número pode mover-se de A para B se A é adjacente a B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um número pode mover-se de A para B se B está va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um número pode mover-se de A para B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953400" y="3276720"/>
            <a:ext cx="1275840" cy="1117440"/>
            <a:chOff x="6953400" y="3276720"/>
            <a:chExt cx="1275840" cy="1117440"/>
          </a:xfrm>
        </p:grpSpPr>
        <p:sp>
          <p:nvSpPr>
            <p:cNvPr id="67" name=""/>
            <p:cNvSpPr/>
            <p:nvPr/>
          </p:nvSpPr>
          <p:spPr>
            <a:xfrm>
              <a:off x="6953400" y="3276720"/>
              <a:ext cx="4219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80360" y="3276720"/>
              <a:ext cx="4215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07320" y="3276720"/>
              <a:ext cx="4219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53400" y="3649680"/>
              <a:ext cx="42192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80360" y="3649680"/>
              <a:ext cx="42156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07320" y="3649680"/>
              <a:ext cx="42192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3400" y="4024440"/>
              <a:ext cx="4219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07320" y="4024440"/>
              <a:ext cx="4219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0360" y="4024440"/>
              <a:ext cx="4215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(1) Relaxando o problem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B265-C9CA-4D19-A644-140F754C26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Subida da Encosta: anális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38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O sucesso deste método depende muito do formato da superfície do espaço de estado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há poucos máximos locais, o reinício aleatório encontra uma boa solução rapid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so contrário, o custo de tempo é exponen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AA25-6FFE-4488-936D-242195077C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nelamento Simulado 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4720" y="837720"/>
            <a:ext cx="92836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e algoritmo é semelhante à Subida da Encosta, porém oferece meios para se escapar de máximos loca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do a busca fica “presa” em um máximo local, o algoritmo não reinicia a busca aleatori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le retrocede para escapar desse máxim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es retrocessos são chamado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assos indir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esar de aumentar o tempo de busca, essa estratégia consegue escapar dos máximos loca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alogia com cozimento de vidros ou metai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cesso de resfriar um líquido gradualmente até ele se soli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g2" descr=""/>
          <p:cNvPicPr/>
          <p:nvPr/>
        </p:nvPicPr>
        <p:blipFill>
          <a:blip r:embed="rId1"/>
          <a:stretch/>
        </p:blipFill>
        <p:spPr>
          <a:xfrm>
            <a:off x="2971800" y="5038560"/>
            <a:ext cx="495288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BF82-2F0D-4A2E-BAA1-083A41D017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nelamento Simulado 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62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utiliza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peamento de resfriamen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 instantes de temp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em temperatura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as iterações iniciais, não escolhe necessariamente o “melhor”  passo, e sim um movimento aleatór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a situação melhorar, esse movimento será sempre escolhido posteriorm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so contrário, associa a esse movimento uma probabilidade de escolha menor do que 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sa probabilidade depende de dois parâmetros, e decresce exponencialmente com a piora causada pelo movimento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E/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on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= Valor[próximo-nó]  -  Valor[nó-atual]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= Temperatur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C5EB-2D1F-4516-B99E-1743BF535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2640" y="7560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nelamento Simulado: algoritm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4360" y="1066680"/>
            <a:ext cx="89629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nelamento-Simul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blema,mape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riáveis locais: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, T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temperatura que controla a probabilidade de passos para trá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z-N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do-Ini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apeamento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um sucessor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colhido aleatori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&gt; 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próx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ã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rr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óximo com probabilidade = e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E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623E-FDA1-43B2-82ED-CDC163470C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leo05" descr=""/>
          <p:cNvPicPr/>
          <p:nvPr/>
        </p:nvPicPr>
        <p:blipFill>
          <a:blip r:embed="rId1"/>
          <a:stretch/>
        </p:blipFill>
        <p:spPr>
          <a:xfrm>
            <a:off x="2743200" y="3127320"/>
            <a:ext cx="4419720" cy="3425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nelamento Simulad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4360" y="1143000"/>
            <a:ext cx="89629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 o tempo (diminuição da temperatura), este algoritmo passa a funcionar como Subida da Encos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é ótimo e completo se o mapeamento de resfriamento tiver muitas entradas com variações sua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to é, se o mapeamento diminui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suficientemente devagar no tempo, o algoritmo vai encontrar um máximo global óti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B1EE-148C-458D-B229-30917DB782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Críticas à Busca Heurístic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olução de problem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usando técnica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 heurístic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ficuldades em definir e usar 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unção de avali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consideram conhecimento genérico do mundo (ou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“senso comum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de avaliação:  compromisso (conflito) en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po gasto na seleção de um nó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dução do espaço de bu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har o melhor nó a ser expandido a cada passo pode ser tão difícil quanto o problema da busca em g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6C64-32E6-4DF1-A438-0B3561E51D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4360" y="509040"/>
            <a:ext cx="87836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Heurísticas para jogo 8 númer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8" name="fig04_07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6502680" cy="2882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4876920"/>
            <a:ext cx="8783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eurísticas poss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no. de elementos fora do lugar 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soma das distâncias de cada número à posição final 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2+3+3+2+4+2+0+2=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2C68-79A6-44C3-B1DC-F3777AB88E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2640" y="7560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(2) Usando informação estatístic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4360" y="914040"/>
            <a:ext cx="8962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heurísticas podem ser “melhoradas” com informação  estatístic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tar a busca com um conjunto de treinamento (e.g., 100 configurações diferentes do jogo), e computar os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, em 90% dos casos, quand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 = 14, a distância real da solução é 18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, quando o algoritmo encontrar 14 para o resultado da função, vai substituir esse valor por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ormação estatística expande menos nós, porém elimin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ibilida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10% dos casos do problema acima, a função de avaliação poderá superestimar o custo da solução, não sendo de grande auxílio para o algoritmo encontrar a solução mais bar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2478-55AE-42A0-8A2B-412397B29E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Escolhendo Funções Heurístic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4360" y="11426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sempre melhor usar uma função heurística com valores mais altos, contanto  que ela sej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elhor qu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omin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espaço de est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domin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exemplo ant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o existam muitas funções heurísticas para o mesmo problema, e nenhuma delas domine as outras, usa-se um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eurística compost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x (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(n), 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(n),…,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n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im definida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omin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ada fun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ividual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8F70-6CDB-4610-BAFD-10063B6C8C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Qualidade da função heurístic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4360" y="1066320"/>
            <a:ext cx="8962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4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 função heurístic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da através do fator de expansão efetiv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b*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é o fator de expansão de uma árvore uniforme com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nós e  nível de profundidade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 = 1 + b* + (b*)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+ ... + (b*)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, on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= total de nós expandidos para uma instância de problem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 = profundidade da solução;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de-se empiricamente a qualidade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 partir do conjunto de valores experimentai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boa função heurística terá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*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ito próximo de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 o custo de execução da função heurística for maior do que expandir nós, então el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ve ser usad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boa função heurística deve ser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fici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conôm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3E79-AD8E-4E16-B778-29670FD47A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4360" y="509040"/>
            <a:ext cx="87836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Experimento com 100 problem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5790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boa função heurística terá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muito próximo 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fig04_08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10180440" cy="36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259D-FC34-411C-BEA0-59A280BE4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2640" y="196920"/>
            <a:ext cx="87584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"/>
              </a:rPr>
              <a:t>Algoritmos de Melhorias Iterativas (AMI)</a:t>
            </a:r>
            <a:br>
              <a:rPr sz="2800"/>
            </a:br>
            <a:r>
              <a:rPr b="1" i="1" lang="pt-BR" sz="2800" spc="-1" strike="noStrike">
                <a:solidFill>
                  <a:srgbClr val="3333cc"/>
                </a:solidFill>
                <a:latin typeface="Arial"/>
              </a:rPr>
              <a:t>Iterative Improvement Algorithms 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idéia é começar com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(configuração completa, solução aceitável), e melhorá-lo iterativamen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agem da T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estados estão representados sobre uma superfície (gráfic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ltura de qualquer ponto na superfície corresponde à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unção de avali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o estado naquele po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se “move” pela superfície em busca de pontos mais altos  (objetivo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onto mais alto (máximo global) corresponde à solução ó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ó onde a função de avaliação atinge seu valor máxim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: problemas de otimiza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exemplo, linha de montagem, rot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E24B-EEB4-44D8-8CA0-58735C907A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2640" y="39528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Exemplo de Espaço de Estados 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2" name="fig04_13" descr=""/>
          <p:cNvPicPr/>
          <p:nvPr/>
        </p:nvPicPr>
        <p:blipFill>
          <a:blip r:embed="rId1"/>
          <a:stretch/>
        </p:blipFill>
        <p:spPr>
          <a:xfrm>
            <a:off x="2209680" y="1711440"/>
            <a:ext cx="6172200" cy="46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513B-49B5-408A-8443-1998B68120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21:28:29Z</dcterms:created>
  <dc:creator>Departamento de Informática</dc:creator>
  <dc:description/>
  <dc:language>en-US</dc:language>
  <cp:lastModifiedBy>fab</cp:lastModifiedBy>
  <cp:lastPrinted>1999-09-06T18:41:24Z</cp:lastPrinted>
  <dcterms:modified xsi:type="dcterms:W3CDTF">2002-01-28T16:35:28Z</dcterms:modified>
  <cp:revision>442</cp:revision>
  <dc:subject/>
  <dc:title>Representação do Conhecimento</dc:title>
</cp:coreProperties>
</file>