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F1D-FE3E-4D55-9442-5843A242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11E-837C-4FEC-A8F8-EC057196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BFE-DEBC-4D20-B240-C637EFDC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65D-48DF-4795-A982-4F58BFE0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57FF-A050-41C6-9030-927EDA65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2732-F14D-495F-BF35-498E4B31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471D-D438-4428-89EA-C6ECED35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973D-681F-483D-A009-C61DF20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9857-EF45-4957-A665-F90D92F7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EDEF-6025-4E5D-AF92-04A9E068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6BBC-050F-43D2-996C-B213DE6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FF1-3303-42AE-913B-EA6F95B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8B4B-16A6-4FDF-8A65-E1AB22A6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99E9-046D-4BBC-9FA7-CEA75A6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7720-D5CC-471B-BF72-60A7C7F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8605-D0F7-4869-B158-CE708C96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A35A-8F22-4729-89A3-3BF844F4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899-1FF6-482B-BD64-FD69291E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B47-E66F-41FF-B264-50793D3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0F5-C579-4FCA-AF59-3DF559F8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335-AB6C-4D43-82AF-DC9C583E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461-840C-48A2-8936-42F01557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D5F-E0E3-4332-B71C-45AE6CB7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E7E-A2B3-495B-BFB4-6D44E4D3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37720" y="843120"/>
            <a:ext cx="16754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19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spcBef>
                <a:spcPts val="19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3" marL="1600200" indent="-228600">
              <a:spcBef>
                <a:spcPts val="19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4" marL="2057400" indent="-228600">
              <a:spcBef>
                <a:spcPts val="195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5" marL="2057400" indent="-228600">
              <a:spcBef>
                <a:spcPts val="195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6" marL="2057400" indent="-228600">
              <a:spcBef>
                <a:spcPts val="195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4A81-F208-461E-A619-CDB5D1EAE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0B59-D8D3-4BAA-9A50-21879CA89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08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808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808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808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Negociação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9880" y="34290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80"/>
                </a:solidFill>
                <a:latin typeface="Arial"/>
              </a:rPr>
              <a:t>Gustavo de Paula</a:t>
            </a: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80"/>
                </a:solidFill>
                <a:latin typeface="Arial"/>
              </a:rPr>
              <a:t>Geber Ramalho</a:t>
            </a: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ipos de Leilão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Leilão Vickrey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Vendedor coloca item para vender com preço inicial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mpradores fazem propostas seladas para o mediador do leilã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ediador abre as proposta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aior proposta vence e paga o preço da segunda maior proposta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8080"/>
                </a:solidFill>
                <a:latin typeface="Arial"/>
              </a:rPr>
              <a:t>Obs: há uma tendência a se propor o valor reservado (maior chance de ganhar sem ter de pagar exatamente tal valor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4F5-D5FC-4EDB-9024-F96462BFA8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ipos de Leilão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Leilão Alemão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Vendedor coloca item para vender com preço inicial máxim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mpradores não fazem proposta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Vendedor reduz o proço em cada rodada até que um dos compradores aceite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Se mais de um comprador aceitar, o leilão pode continuaro vendedor aumenta o preço para ver se algum aceita, até que reste apenas um comprador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034-EBF0-47EE-A922-99962F51A3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426960"/>
            <a:ext cx="7618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Negociação Multi-lateral (N-M)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80880" y="2895120"/>
            <a:ext cx="8382240" cy="15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Processo de leilão no qual cada comprador pode participar simultaneamente em mais de um leilão. Isto faz com que a negociação seja de N compradores para M vendedores</a:t>
            </a:r>
            <a:endParaRPr b="1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133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Problemas de modelagem de uma negociação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Problemas de modelagem de uma negociação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Avaliando os modelos de negociação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Identificamos 4 problemas comuns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2895480"/>
            <a:ext cx="8686800" cy="2438640"/>
            <a:chOff x="228600" y="2895480"/>
            <a:chExt cx="8686800" cy="2438640"/>
          </a:xfrm>
        </p:grpSpPr>
        <p:sp>
          <p:nvSpPr>
            <p:cNvPr id="252" name=""/>
            <p:cNvSpPr/>
            <p:nvPr/>
          </p:nvSpPr>
          <p:spPr>
            <a:xfrm>
              <a:off x="228600" y="2895480"/>
              <a:ext cx="8686800" cy="2438640"/>
            </a:xfrm>
            <a:prstGeom prst="flowChartPredefinedProcess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72320" y="3021120"/>
              <a:ext cx="4761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Como modelar as proposta? 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75560" y="3527280"/>
            <a:ext cx="474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Como avaliar uma proposta?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41280" y="4033800"/>
            <a:ext cx="671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Quais são as possíveis ações do agente?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91280" y="4540320"/>
            <a:ext cx="575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Como o agente decide o que fazer?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D05-6CEE-4B6B-8B7E-ED998DA475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685800" y="1219320"/>
            <a:ext cx="8134920" cy="1592280"/>
            <a:chOff x="685800" y="1219320"/>
            <a:chExt cx="8134920" cy="15922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3623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5560" y="1828800"/>
              <a:ext cx="3035160" cy="7038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Modelo Estruturado do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Produto/Propostas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1663560"/>
              <a:ext cx="2666880" cy="546120"/>
            </a:xfrm>
            <a:custGeom>
              <a:avLst/>
              <a:gdLst/>
              <a:ahLst/>
              <a:rect l="l" t="t" r="r" b="b"/>
              <a:pathLst>
                <a:path w="1680" h="344">
                  <a:moveTo>
                    <a:pt x="0" y="296"/>
                  </a:moveTo>
                  <a:cubicBezTo>
                    <a:pt x="244" y="148"/>
                    <a:pt x="488" y="0"/>
                    <a:pt x="768" y="8"/>
                  </a:cubicBezTo>
                  <a:cubicBezTo>
                    <a:pt x="1048" y="16"/>
                    <a:pt x="1364" y="180"/>
                    <a:pt x="1680" y="344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2720" y="1233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Modelage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09480" y="3048120"/>
            <a:ext cx="83059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Objetivo: definir a representação estruturada do bem em negociação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Qual o número de atributos que descrevem uma propostas?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1 atributo; mais de 1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Qual a natureza destes atributos?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características do produto (cor, tamanho, etc.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característica da proposta em si (preço, tempo de entrega, etc.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70000"/>
              </a:lnSpc>
              <a:buClr>
                <a:srgbClr val="ff9966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omo modelar as propostas?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508-7582-40E2-A583-85FFD65185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33520" y="2362320"/>
            <a:ext cx="8305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8080"/>
                </a:solidFill>
                <a:latin typeface="Arial"/>
              </a:rPr>
              <a:t>Objetivo: dar capacidade ao agente de comparar duas proposta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8080"/>
                </a:solidFill>
                <a:latin typeface="Arial"/>
              </a:rPr>
              <a:t>Caso a proposta tenha mais de um atributo, eles tem a mesma importância?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80"/>
                </a:solidFill>
                <a:latin typeface="Arial"/>
              </a:rPr>
              <a:t>pesos para cada atributo; pesos para cada tipo de atribu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8080"/>
                </a:solidFill>
                <a:latin typeface="Arial"/>
              </a:rPr>
              <a:t>Qual o conjunto de classificação de proposta?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80"/>
                </a:solidFill>
                <a:latin typeface="Arial"/>
              </a:rPr>
              <a:t>conjunto numérico [0; 1]; conjunto discreto (ruim, bom, muito bom)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8080"/>
                </a:solidFill>
                <a:latin typeface="Arial"/>
              </a:rPr>
              <a:t>Como mapear uma proposta neste conjunto?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80"/>
                </a:solidFill>
                <a:latin typeface="Arial"/>
              </a:rPr>
              <a:t>teoria da utilidade; lógica fuzzy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46880" y="838080"/>
            <a:ext cx="8576280" cy="1244880"/>
            <a:chOff x="146880" y="838080"/>
            <a:chExt cx="8576280" cy="1244880"/>
          </a:xfrm>
        </p:grpSpPr>
        <p:sp>
          <p:nvSpPr>
            <p:cNvPr id="266" name=""/>
            <p:cNvSpPr/>
            <p:nvPr/>
          </p:nvSpPr>
          <p:spPr>
            <a:xfrm>
              <a:off x="146880" y="1379160"/>
              <a:ext cx="3035160" cy="7038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Modelo Estruturado do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Produto/Propostas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00400" y="1268280"/>
              <a:ext cx="2666880" cy="546120"/>
            </a:xfrm>
            <a:custGeom>
              <a:avLst/>
              <a:gdLst/>
              <a:ahLst/>
              <a:rect l="l" t="t" r="r" b="b"/>
              <a:pathLst>
                <a:path w="1680" h="344">
                  <a:moveTo>
                    <a:pt x="0" y="296"/>
                  </a:moveTo>
                  <a:cubicBezTo>
                    <a:pt x="244" y="148"/>
                    <a:pt x="488" y="0"/>
                    <a:pt x="768" y="8"/>
                  </a:cubicBezTo>
                  <a:cubicBezTo>
                    <a:pt x="1048" y="16"/>
                    <a:pt x="1364" y="180"/>
                    <a:pt x="1680" y="344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80720" y="8380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Avaliação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560" y="1357200"/>
              <a:ext cx="2838600" cy="7038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lassificação de uma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Proposta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70000"/>
              </a:lnSpc>
              <a:buClr>
                <a:srgbClr val="ff9966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omo avaliar uma propostas?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5EA-D971-48C7-9D9A-F8CF20D167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70000"/>
              </a:lnSpc>
              <a:buClr>
                <a:srgbClr val="ff9966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Quais são as possíveis ações do agente?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2514600"/>
            <a:ext cx="8305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Objetivo: determinar o grau de autonomia do agente negociador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As ações básicas de um agente negociador são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aceitar um proposta; rejeitar/gerar contraproposta; sai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Além destas o agente poderia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sugerir um produto alternativ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sugerir um produto correla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udar quantidade do bem em negociaçã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enviar ultima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23800" y="1371600"/>
            <a:ext cx="7705800" cy="802080"/>
            <a:chOff x="523800" y="1371600"/>
            <a:chExt cx="7705800" cy="802080"/>
          </a:xfrm>
        </p:grpSpPr>
        <p:sp>
          <p:nvSpPr>
            <p:cNvPr id="274" name=""/>
            <p:cNvSpPr/>
            <p:nvPr/>
          </p:nvSpPr>
          <p:spPr>
            <a:xfrm>
              <a:off x="523800" y="1469880"/>
              <a:ext cx="2581200" cy="7038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Modelo do Bem em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Negociação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31000" y="1599840"/>
              <a:ext cx="2298600" cy="39888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Ações do Agent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1371600"/>
              <a:ext cx="2743200" cy="456840"/>
            </a:xfrm>
            <a:custGeom>
              <a:avLst/>
              <a:gdLst/>
              <a:ahLst/>
              <a:rect l="l" t="t" r="r" b="b"/>
              <a:pathLst>
                <a:path w="1728" h="288">
                  <a:moveTo>
                    <a:pt x="0" y="288"/>
                  </a:moveTo>
                  <a:cubicBezTo>
                    <a:pt x="288" y="144"/>
                    <a:pt x="576" y="0"/>
                    <a:pt x="864" y="0"/>
                  </a:cubicBezTo>
                  <a:cubicBezTo>
                    <a:pt x="1152" y="0"/>
                    <a:pt x="1440" y="144"/>
                    <a:pt x="1728" y="288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17B-A690-4BB2-A210-245FBD3E53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70000"/>
              </a:lnSpc>
              <a:buClr>
                <a:srgbClr val="ff9966"/>
              </a:buClr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omo o agente decide o que fazer?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2362320"/>
            <a:ext cx="8305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Objetivo: definir as regras de comportamento do agent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Se </a:t>
            </a: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condicao1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Então </a:t>
            </a: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ação1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Se </a:t>
            </a: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condicao2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Então </a:t>
            </a: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ação2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Quais são as informações que o agente utiliza para tomar sua decisão?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propostas do oponente; propostas feitas por ele; últimas negociações que ele realizou (mesmo oponente ou produto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Como estas informações são mapeadas em ações?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que condições implicam em açõ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87040" y="1143000"/>
            <a:ext cx="7342560" cy="780120"/>
            <a:chOff x="887040" y="1143000"/>
            <a:chExt cx="7342560" cy="780120"/>
          </a:xfrm>
        </p:grpSpPr>
        <p:sp>
          <p:nvSpPr>
            <p:cNvPr id="280" name=""/>
            <p:cNvSpPr/>
            <p:nvPr/>
          </p:nvSpPr>
          <p:spPr>
            <a:xfrm>
              <a:off x="887040" y="1371600"/>
              <a:ext cx="2218320" cy="39888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Ações do agent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31000" y="1219320"/>
              <a:ext cx="2298600" cy="7038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Tomada de Decisã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24080" y="1143000"/>
              <a:ext cx="2743200" cy="457200"/>
            </a:xfrm>
            <a:custGeom>
              <a:avLst/>
              <a:gdLst/>
              <a:ahLst/>
              <a:rect l="l" t="t" r="r" b="b"/>
              <a:pathLst>
                <a:path w="1728" h="288">
                  <a:moveTo>
                    <a:pt x="0" y="288"/>
                  </a:moveTo>
                  <a:cubicBezTo>
                    <a:pt x="288" y="144"/>
                    <a:pt x="576" y="0"/>
                    <a:pt x="864" y="0"/>
                  </a:cubicBezTo>
                  <a:cubicBezTo>
                    <a:pt x="1152" y="0"/>
                    <a:pt x="1440" y="144"/>
                    <a:pt x="1728" y="288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61E-E417-4269-81D0-2ACF009743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426960"/>
            <a:ext cx="8304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Modelos de Negociação Bilateral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137160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“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É um processo de tomada de decisão conjunta. É comunicação, direta ou implícita, entre indivíduos que estão tentando chegar a um acordo para benefício mútuo. O significado original da palavra é simplesmente fazer negócios, mas negociação é também a atividade central na diplomacia, na política, na religião, no direito, e na família. A negociação engloba conversações de controle de armas, a interpretação de textos religiosos e disputas de guarda de crianças. Todos negociam.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1" i="1" lang="pt-BR" sz="2600" spc="-1" strike="noStrike">
                <a:solidFill>
                  <a:srgbClr val="009999"/>
                </a:solidFill>
                <a:latin typeface="Arial"/>
                <a:ea typeface="Times New Roman"/>
              </a:rPr>
              <a:t>H. Raiffa</a:t>
            </a:r>
            <a:r>
              <a:rPr b="1" i="1" lang="pt-PT" sz="2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0" y="304920"/>
            <a:ext cx="6399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O que é Negociação?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Estado da arte em negociação bilateral: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duas abordagens principai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Heurística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ermite incluir maior complexidade do mundo real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ão garante uma solução ótima, mas uma solução possível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Teoria dos jogos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odelos simplificado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garante sempre a solução ótima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318-23DF-478A-B14C-48444B640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Framework comum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Modelo das propostas: noção de atributo de acordo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atributos que caracterizam uma proposta e podem ser negociado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ex.: preço, tempo de entrega, etc.</a:t>
            </a:r>
            <a:endParaRPr b="0" lang="en-US" sz="22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ada atributo possui o seu intervalo de acord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ex.: preço </a:t>
            </a:r>
            <a:r>
              <a:rPr b="0" lang="en-US" sz="2200" spc="-1" strike="noStrike">
                <a:solidFill>
                  <a:srgbClr val="00808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[100 reais; 300 reais], </a:t>
            </a:r>
            <a:endParaRPr b="0" lang="en-US" sz="22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tempo de entrega </a:t>
            </a:r>
            <a:r>
              <a:rPr b="0" lang="en-US" sz="2200" spc="-1" strike="noStrike">
                <a:solidFill>
                  <a:srgbClr val="00808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[1 dia; 3 dias]</a:t>
            </a:r>
            <a:endParaRPr b="0" lang="en-US" sz="2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A28-345E-4870-8783-0F3B5270B7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Framework comum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Avaliação da propostas: função de utilidade para múltiplos atributos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2525760"/>
            <a:ext cx="1828800" cy="2009160"/>
            <a:chOff x="3657600" y="2525760"/>
            <a:chExt cx="1828800" cy="2009160"/>
          </a:xfrm>
        </p:grpSpPr>
        <p:sp>
          <p:nvSpPr>
            <p:cNvPr id="291" name=""/>
            <p:cNvSpPr/>
            <p:nvPr/>
          </p:nvSpPr>
          <p:spPr>
            <a:xfrm>
              <a:off x="4876920" y="3200400"/>
              <a:ext cx="60948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>
              <a:stCxn id="293" idx="3"/>
              <a:endCxn id="291" idx="1"/>
            </p:cNvCxnSpPr>
            <p:nvPr/>
          </p:nvCxnSpPr>
          <p:spPr>
            <a:xfrm>
              <a:off x="3672000" y="2666520"/>
              <a:ext cx="1294560" cy="60876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5" idx="3"/>
              <a:endCxn id="291" idx="2"/>
            </p:cNvCxnSpPr>
            <p:nvPr/>
          </p:nvCxnSpPr>
          <p:spPr>
            <a:xfrm>
              <a:off x="3671640" y="3504960"/>
              <a:ext cx="1191240" cy="108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7" idx="3"/>
              <a:endCxn id="291" idx="3"/>
            </p:cNvCxnSpPr>
            <p:nvPr/>
          </p:nvCxnSpPr>
          <p:spPr>
            <a:xfrm flipV="1">
              <a:off x="3672000" y="3734640"/>
              <a:ext cx="1294560" cy="68508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298" name=""/>
            <p:cNvSpPr/>
            <p:nvPr/>
          </p:nvSpPr>
          <p:spPr>
            <a:xfrm>
              <a:off x="4327560" y="2525760"/>
              <a:ext cx="83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336699"/>
                  </a:solidFill>
                  <a:latin typeface="Arial"/>
                </a:rPr>
                <a:t>preço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57600" y="303228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1800" spc="-1" strike="noStrike" baseline="-25000">
                  <a:solidFill>
                    <a:srgbClr val="336699"/>
                  </a:solidFill>
                  <a:latin typeface="Arial"/>
                </a:rPr>
                <a:t>imposto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14800" y="41292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1800" spc="-1" strike="noStrike" baseline="-25000">
                  <a:solidFill>
                    <a:srgbClr val="336699"/>
                  </a:solidFill>
                  <a:latin typeface="Arial"/>
                </a:rPr>
                <a:t>temp.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486400" y="3352680"/>
            <a:ext cx="2666880" cy="368280"/>
            <a:chOff x="5486400" y="3352680"/>
            <a:chExt cx="2666880" cy="368280"/>
          </a:xfrm>
        </p:grpSpPr>
        <p:sp>
          <p:nvSpPr>
            <p:cNvPr id="302" name=""/>
            <p:cNvSpPr/>
            <p:nvPr/>
          </p:nvSpPr>
          <p:spPr>
            <a:xfrm>
              <a:off x="5486400" y="3505320"/>
              <a:ext cx="11430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9400" y="3352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Aval [0; 1]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1200" y="2452680"/>
            <a:ext cx="1546200" cy="2195640"/>
            <a:chOff x="511200" y="2452680"/>
            <a:chExt cx="1546200" cy="2195640"/>
          </a:xfrm>
        </p:grpSpPr>
        <p:sp>
          <p:nvSpPr>
            <p:cNvPr id="305" name=""/>
            <p:cNvSpPr/>
            <p:nvPr/>
          </p:nvSpPr>
          <p:spPr>
            <a:xfrm>
              <a:off x="914400" y="2514600"/>
              <a:ext cx="1066680" cy="213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2452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preço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3352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imposto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42051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temp.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-371880" y="3391200"/>
              <a:ext cx="2135160" cy="36828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Proposta 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752480" y="2438280"/>
            <a:ext cx="3124440" cy="2959200"/>
            <a:chOff x="1752480" y="2438280"/>
            <a:chExt cx="3124440" cy="2959200"/>
          </a:xfrm>
        </p:grpSpPr>
        <p:sp>
          <p:nvSpPr>
            <p:cNvPr id="293" name=""/>
            <p:cNvSpPr/>
            <p:nvPr/>
          </p:nvSpPr>
          <p:spPr>
            <a:xfrm>
              <a:off x="2895480" y="2438280"/>
              <a:ext cx="7621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en-US" sz="2000" spc="-1" strike="noStrike" baseline="-25000">
                  <a:solidFill>
                    <a:srgbClr val="336699"/>
                  </a:solidFill>
                  <a:latin typeface="Arial"/>
                </a:rPr>
                <a:t>preç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5480" y="3276720"/>
              <a:ext cx="7621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en-US" sz="2000" spc="-1" strike="noStrike" baseline="-25000">
                  <a:solidFill>
                    <a:srgbClr val="336699"/>
                  </a:solidFill>
                  <a:latin typeface="Arial"/>
                </a:rPr>
                <a:t>impost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95480" y="4191120"/>
              <a:ext cx="7621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en-US" sz="2000" spc="-1" strike="noStrike" baseline="-25000">
                  <a:solidFill>
                    <a:srgbClr val="336699"/>
                  </a:solidFill>
                  <a:latin typeface="Arial"/>
                </a:rPr>
                <a:t>temp.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3124080" y="4495320"/>
              <a:ext cx="304920" cy="7621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52480" y="502920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Funções de aval. de atrib.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81080" y="2666880"/>
              <a:ext cx="9144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1080" y="3505320"/>
              <a:ext cx="9144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81080" y="4419720"/>
              <a:ext cx="9144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17680" y="2438280"/>
            <a:ext cx="7635600" cy="4421880"/>
            <a:chOff x="517680" y="2438280"/>
            <a:chExt cx="7635600" cy="4421880"/>
          </a:xfrm>
        </p:grpSpPr>
        <p:sp>
          <p:nvSpPr>
            <p:cNvPr id="317" name=""/>
            <p:cNvSpPr/>
            <p:nvPr/>
          </p:nvSpPr>
          <p:spPr>
            <a:xfrm flipV="1">
              <a:off x="3048120" y="4647600"/>
              <a:ext cx="2209680" cy="152388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62" stAng="10800000" swAng="5400000"/>
                  <a:lnTo>
                    <a:pt x="18822" y="3698"/>
                  </a:lnTo>
                  <a:lnTo>
                    <a:pt x="18822" y="0"/>
                  </a:lnTo>
                  <a:lnTo>
                    <a:pt x="21600" y="6079"/>
                  </a:lnTo>
                  <a:lnTo>
                    <a:pt x="18822" y="12158"/>
                  </a:lnTo>
                  <a:lnTo>
                    <a:pt x="18822" y="8460"/>
                  </a:lnTo>
                  <a:lnTo>
                    <a:pt x="12427" y="8460"/>
                  </a:lnTo>
                  <a:arcTo wR="7665" hR="3700" stAng="16200000" swAng="-5400000"/>
                  <a:lnTo>
                    <a:pt x="4762" y="216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29400" y="3352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Aval [0; 1]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17680" y="2438280"/>
              <a:ext cx="6111720" cy="2959200"/>
              <a:chOff x="517680" y="2438280"/>
              <a:chExt cx="6111720" cy="2959200"/>
            </a:xfrm>
          </p:grpSpPr>
          <p:sp>
            <p:nvSpPr>
              <p:cNvPr id="320" name=""/>
              <p:cNvSpPr/>
              <p:nvPr/>
            </p:nvSpPr>
            <p:spPr>
              <a:xfrm>
                <a:off x="4876920" y="32004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69696"/>
                    </a:solidFill>
                    <a:latin typeface="Symbol"/>
                    <a:ea typeface="Symbol"/>
                  </a:rPr>
                  <a:t>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cxnSp>
            <p:nvCxnSpPr>
              <p:cNvPr id="321" name=""/>
              <p:cNvCxnSpPr>
                <a:stCxn id="322" idx="3"/>
                <a:endCxn id="320" idx="1"/>
              </p:cNvCxnSpPr>
              <p:nvPr/>
            </p:nvCxnSpPr>
            <p:spPr>
              <a:xfrm>
                <a:off x="3672000" y="2666520"/>
                <a:ext cx="1294560" cy="608760"/>
              </a:xfrm>
              <a:prstGeom prst="straightConnector1">
                <a:avLst/>
              </a:prstGeom>
              <a:ln w="19080">
                <a:solidFill>
                  <a:srgbClr val="969696"/>
                </a:solidFill>
                <a:miter/>
                <a:tailEnd len="med" type="triangle" w="med"/>
              </a:ln>
            </p:spPr>
          </p:cxnSp>
          <p:cxnSp>
            <p:nvCxnSpPr>
              <p:cNvPr id="323" name=""/>
              <p:cNvCxnSpPr>
                <a:stCxn id="324" idx="3"/>
                <a:endCxn id="320" idx="2"/>
              </p:cNvCxnSpPr>
              <p:nvPr/>
            </p:nvCxnSpPr>
            <p:spPr>
              <a:xfrm>
                <a:off x="3671640" y="3504960"/>
                <a:ext cx="1191240" cy="1080"/>
              </a:xfrm>
              <a:prstGeom prst="straightConnector1">
                <a:avLst/>
              </a:prstGeom>
              <a:ln w="19080">
                <a:solidFill>
                  <a:srgbClr val="969696"/>
                </a:solidFill>
                <a:miter/>
                <a:tailEnd len="med" type="triangle" w="med"/>
              </a:ln>
            </p:spPr>
          </p:cxnSp>
          <p:cxnSp>
            <p:nvCxnSpPr>
              <p:cNvPr id="325" name=""/>
              <p:cNvCxnSpPr>
                <a:stCxn id="326" idx="3"/>
                <a:endCxn id="320" idx="3"/>
              </p:cNvCxnSpPr>
              <p:nvPr/>
            </p:nvCxnSpPr>
            <p:spPr>
              <a:xfrm flipV="1">
                <a:off x="3672000" y="3734640"/>
                <a:ext cx="1294560" cy="685080"/>
              </a:xfrm>
              <a:prstGeom prst="straightConnector1">
                <a:avLst/>
              </a:prstGeom>
              <a:ln w="19080">
                <a:solidFill>
                  <a:srgbClr val="969696"/>
                </a:solidFill>
                <a:miter/>
                <a:tailEnd len="med" type="triangle" w="med"/>
              </a:ln>
            </p:spPr>
          </p:cxnSp>
          <p:sp>
            <p:nvSpPr>
              <p:cNvPr id="327" name=""/>
              <p:cNvSpPr/>
              <p:nvPr/>
            </p:nvSpPr>
            <p:spPr>
              <a:xfrm>
                <a:off x="4327560" y="2525760"/>
                <a:ext cx="83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69696"/>
                    </a:solidFill>
                    <a:latin typeface="Arial"/>
                  </a:rPr>
                  <a:t>w</a:t>
                </a:r>
                <a:r>
                  <a:rPr b="1" lang="en-US" sz="1800" spc="-1" strike="noStrike" baseline="-25000">
                    <a:solidFill>
                      <a:srgbClr val="969696"/>
                    </a:solidFill>
                    <a:latin typeface="Arial"/>
                  </a:rPr>
                  <a:t>preço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657600" y="3032280"/>
                <a:ext cx="1219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969696"/>
                    </a:solidFill>
                    <a:latin typeface="Arial"/>
                  </a:rPr>
                  <a:t>w</a:t>
                </a:r>
                <a:r>
                  <a:rPr b="1" lang="pt-BR" sz="1800" spc="-1" strike="noStrike" baseline="-25000">
                    <a:solidFill>
                      <a:srgbClr val="969696"/>
                    </a:solidFill>
                    <a:latin typeface="Arial"/>
                  </a:rPr>
                  <a:t>imposto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14800" y="4129200"/>
                <a:ext cx="914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969696"/>
                    </a:solidFill>
                    <a:latin typeface="Arial"/>
                  </a:rPr>
                  <a:t>w</a:t>
                </a:r>
                <a:r>
                  <a:rPr b="1" lang="pt-BR" sz="1800" spc="-1" strike="noStrike" baseline="-25000">
                    <a:solidFill>
                      <a:srgbClr val="969696"/>
                    </a:solidFill>
                    <a:latin typeface="Arial"/>
                  </a:rPr>
                  <a:t>temp.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86400" y="3505320"/>
                <a:ext cx="114300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14400" y="2514600"/>
                <a:ext cx="1066680" cy="2133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14400" y="24526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69696"/>
                    </a:solidFill>
                    <a:latin typeface="Arial"/>
                  </a:rPr>
                  <a:t>preço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14400" y="335268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69696"/>
                    </a:solidFill>
                    <a:latin typeface="Arial"/>
                  </a:rPr>
                  <a:t>imposto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14400" y="420516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69696"/>
                    </a:solidFill>
                    <a:latin typeface="Arial"/>
                  </a:rPr>
                  <a:t>temp.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-365400" y="3396240"/>
                <a:ext cx="2135160" cy="368280"/>
              </a:xfrm>
              <a:prstGeom prst="rect">
                <a:avLst/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69696"/>
                    </a:solidFill>
                    <a:latin typeface="Arial"/>
                  </a:rPr>
                  <a:t>Proposta P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1752480" y="2438280"/>
                <a:ext cx="3124440" cy="2959200"/>
                <a:chOff x="1752480" y="2438280"/>
                <a:chExt cx="3124440" cy="29592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895480" y="2438280"/>
                  <a:ext cx="762120" cy="4572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969696"/>
                      </a:solidFill>
                      <a:latin typeface="Symbol"/>
                      <a:ea typeface="Symbol"/>
                    </a:rPr>
                    <a:t></a:t>
                  </a:r>
                  <a:r>
                    <a:rPr b="1" lang="en-US" sz="2000" spc="-1" strike="noStrike" baseline="-25000">
                      <a:solidFill>
                        <a:srgbClr val="969696"/>
                      </a:solidFill>
                      <a:latin typeface="Arial"/>
                    </a:rPr>
                    <a:t>preço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895480" y="3276720"/>
                  <a:ext cx="762120" cy="4572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969696"/>
                      </a:solidFill>
                      <a:latin typeface="Symbol"/>
                      <a:ea typeface="Symbol"/>
                    </a:rPr>
                    <a:t></a:t>
                  </a:r>
                  <a:r>
                    <a:rPr b="1" lang="en-US" sz="2000" spc="-1" strike="noStrike" baseline="-25000">
                      <a:solidFill>
                        <a:srgbClr val="969696"/>
                      </a:solidFill>
                      <a:latin typeface="Arial"/>
                    </a:rPr>
                    <a:t>imposto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895480" y="4191120"/>
                  <a:ext cx="762120" cy="4572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969696"/>
                      </a:solidFill>
                      <a:latin typeface="Symbol"/>
                      <a:ea typeface="Symbol"/>
                    </a:rPr>
                    <a:t></a:t>
                  </a:r>
                  <a:r>
                    <a:rPr b="1" lang="en-US" sz="2000" spc="-1" strike="noStrike" baseline="-25000">
                      <a:solidFill>
                        <a:srgbClr val="969696"/>
                      </a:solidFill>
                      <a:latin typeface="Arial"/>
                    </a:rPr>
                    <a:t>temp.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16200000">
                  <a:off x="3124080" y="4495320"/>
                  <a:ext cx="304920" cy="762120"/>
                </a:xfrm>
                <a:custGeom>
                  <a:avLst/>
                  <a:gdLst>
                    <a:gd name="textAreaLeft" fmla="*/ 194760 w 304920"/>
                    <a:gd name="textAreaRight" fmla="*/ 305280 w 304920"/>
                    <a:gd name="textAreaTop" fmla="*/ 19800 h 762120"/>
                    <a:gd name="textAreaBottom" fmla="*/ 74232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52480" y="5029200"/>
                  <a:ext cx="3124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969696"/>
                      </a:solidFill>
                      <a:latin typeface="Arial"/>
                    </a:rPr>
                    <a:t>Funções de aval. de atrib.</a:t>
                  </a:r>
                  <a:endParaRPr b="0" lang="en-US" sz="18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81080" y="2666880"/>
                  <a:ext cx="914400" cy="0"/>
                </a:xfrm>
                <a:prstGeom prst="line">
                  <a:avLst/>
                </a:prstGeom>
                <a:ln w="19080">
                  <a:solidFill>
                    <a:srgbClr val="96969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981080" y="3505320"/>
                  <a:ext cx="914400" cy="0"/>
                </a:xfrm>
                <a:prstGeom prst="line">
                  <a:avLst/>
                </a:prstGeom>
                <a:ln w="19080">
                  <a:solidFill>
                    <a:srgbClr val="96969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981080" y="4419720"/>
                  <a:ext cx="914400" cy="0"/>
                </a:xfrm>
                <a:prstGeom prst="line">
                  <a:avLst/>
                </a:prstGeom>
                <a:ln w="19080">
                  <a:solidFill>
                    <a:srgbClr val="96969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5405400" y="4468680"/>
              <a:ext cx="2284560" cy="2391480"/>
              <a:chOff x="5405400" y="4468680"/>
              <a:chExt cx="2284560" cy="2391480"/>
            </a:xfrm>
          </p:grpSpPr>
          <p:sp>
            <p:nvSpPr>
              <p:cNvPr id="343" name=""/>
              <p:cNvSpPr/>
              <p:nvPr/>
            </p:nvSpPr>
            <p:spPr>
              <a:xfrm flipV="1">
                <a:off x="5720040" y="4468680"/>
                <a:ext cx="0" cy="198108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08880" y="6450120"/>
                <a:ext cx="198108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634000" y="6461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15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05600" y="64501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405400" y="6205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05400" y="4697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309080" y="4849920"/>
                <a:ext cx="0" cy="159984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08880" y="4849920"/>
                <a:ext cx="160020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5937480" y="4849920"/>
                <a:ext cx="1371600" cy="1599840"/>
              </a:xfrm>
              <a:prstGeom prst="line">
                <a:avLst/>
              </a:prstGeom>
              <a:ln w="381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793-6C7B-4699-B29D-6E95345360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Framework comum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Tomada de decisão: geração e teste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781680" y="1752480"/>
            <a:ext cx="1766880" cy="2395080"/>
            <a:chOff x="6781680" y="1752480"/>
            <a:chExt cx="1766880" cy="2395080"/>
          </a:xfrm>
        </p:grpSpPr>
        <p:sp>
          <p:nvSpPr>
            <p:cNvPr id="355" name=""/>
            <p:cNvSpPr/>
            <p:nvPr/>
          </p:nvSpPr>
          <p:spPr>
            <a:xfrm>
              <a:off x="7176960" y="1814400"/>
              <a:ext cx="1143000" cy="2300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76960" y="17524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preço: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15 reai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6960" y="35049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temp.: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2 dia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5813280" y="2785320"/>
              <a:ext cx="2305080" cy="36828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Proposta gerad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54640" y="24825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imposto: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8 reai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4960" y="1752480"/>
            <a:ext cx="1765440" cy="2395080"/>
            <a:chOff x="534960" y="1752480"/>
            <a:chExt cx="1765440" cy="2395080"/>
          </a:xfrm>
        </p:grpSpPr>
        <p:sp>
          <p:nvSpPr>
            <p:cNvPr id="361" name=""/>
            <p:cNvSpPr/>
            <p:nvPr/>
          </p:nvSpPr>
          <p:spPr>
            <a:xfrm>
              <a:off x="928800" y="1814400"/>
              <a:ext cx="1143000" cy="2300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28800" y="17524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preço: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20 reai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28800" y="35049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temp.: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2 dia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-433080" y="2783880"/>
              <a:ext cx="2305080" cy="36828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Proposta recebid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06480" y="24825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imposto: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10 reai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133720" y="2362320"/>
            <a:ext cx="4571640" cy="2151720"/>
            <a:chOff x="2133720" y="2362320"/>
            <a:chExt cx="4571640" cy="2151720"/>
          </a:xfrm>
        </p:grpSpPr>
        <p:sp>
          <p:nvSpPr>
            <p:cNvPr id="367" name=""/>
            <p:cNvSpPr/>
            <p:nvPr/>
          </p:nvSpPr>
          <p:spPr>
            <a:xfrm>
              <a:off x="2133720" y="237816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5562000" y="237816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1640" y="2362320"/>
              <a:ext cx="17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paraçã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5400000">
              <a:off x="4076640" y="300960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55440" y="3505320"/>
              <a:ext cx="341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erificar se consegu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gerar uma contraproposta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melh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568-CF44-4F1E-9D97-8FF30600D8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Geração de contraproposta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8080"/>
                </a:solidFill>
                <a:latin typeface="Arial"/>
              </a:rPr>
              <a:t>Táticas dependentes de Tempo</a:t>
            </a: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80"/>
                </a:solidFill>
                <a:latin typeface="Arial"/>
              </a:rPr>
              <a:t>Ideais para negociações com limites de tempo para conseguir um acordo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80"/>
                </a:solidFill>
                <a:latin typeface="Arial"/>
              </a:rPr>
              <a:t>Ex.: polinomial, exponencia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8080"/>
                </a:solidFill>
                <a:latin typeface="Arial"/>
              </a:rPr>
              <a:t>Táticas dependentes de comportamento</a:t>
            </a: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80"/>
                </a:solidFill>
                <a:latin typeface="Arial"/>
              </a:rPr>
              <a:t>Ideal para negociação sem um limite rígido para conseguir um acordo. 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80"/>
                </a:solidFill>
                <a:latin typeface="Arial"/>
              </a:rPr>
              <a:t>O Agente pode imitar o comportamento do oponente e conseguir “sempre” um melhor acordo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80"/>
                </a:solidFill>
                <a:latin typeface="Arial"/>
              </a:rPr>
              <a:t>Ex.: Tit-for-tat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8080"/>
                </a:solidFill>
                <a:latin typeface="Arial"/>
              </a:rPr>
              <a:t>Táticas dependentes de recurso</a:t>
            </a:r>
            <a:endParaRPr b="1" lang="en-US" sz="22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Ideal para ambientes com recursos limitados. 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Ex. pequeno número de vendedor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572000"/>
            <a:ext cx="8534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6E0-A02D-433F-8B7F-585E46DA95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Modelos de negociação bilateral baseados em heurística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1400040"/>
            <a:ext cx="8658360" cy="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2543040"/>
            <a:ext cx="8658360" cy="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3914640"/>
            <a:ext cx="8658360" cy="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4981680"/>
            <a:ext cx="8658360" cy="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362320" y="837720"/>
            <a:ext cx="0" cy="591516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95680" y="837720"/>
            <a:ext cx="0" cy="591516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42520" y="914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Kasbah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360" y="91440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6699"/>
                </a:solidFill>
                <a:latin typeface="Arial"/>
              </a:rPr>
              <a:t>Faranti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200" y="167652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presentaçã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a Propost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283536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valiação d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opost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640" y="397836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ossívei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çõ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5640" y="5045040"/>
            <a:ext cx="152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omada d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cisã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781680" y="942840"/>
            <a:ext cx="0" cy="576288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9800" y="942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5972040"/>
            <a:ext cx="8658360" cy="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200" y="59562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ntrapropost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38200" y="1600200"/>
            <a:ext cx="2236320" cy="5047200"/>
            <a:chOff x="2338200" y="1600200"/>
            <a:chExt cx="2236320" cy="5047200"/>
          </a:xfrm>
        </p:grpSpPr>
        <p:grpSp>
          <p:nvGrpSpPr>
            <p:cNvPr id="393" name=""/>
            <p:cNvGrpSpPr/>
            <p:nvPr/>
          </p:nvGrpSpPr>
          <p:grpSpPr>
            <a:xfrm>
              <a:off x="2338200" y="1600200"/>
              <a:ext cx="2236320" cy="4361400"/>
              <a:chOff x="2338200" y="1600200"/>
              <a:chExt cx="2236320" cy="4361400"/>
            </a:xfrm>
          </p:grpSpPr>
          <p:sp>
            <p:nvSpPr>
              <p:cNvPr id="394" name=""/>
              <p:cNvSpPr/>
              <p:nvPr/>
            </p:nvSpPr>
            <p:spPr>
              <a:xfrm>
                <a:off x="2341080" y="1600200"/>
                <a:ext cx="1709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único atributo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(preço)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38200" y="2666880"/>
                <a:ext cx="21085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preço representa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a avaliação d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proposta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39280" y="3914640"/>
                <a:ext cx="18813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aceitar, sair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rejeitar/gerar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contraproposta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39280" y="4952880"/>
                <a:ext cx="2235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comparação 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entre propostas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recebida e gerada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2360880" y="5943600"/>
              <a:ext cx="200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dependentes d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temp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569480" y="1400040"/>
            <a:ext cx="2302200" cy="5552280"/>
            <a:chOff x="4569480" y="1400040"/>
            <a:chExt cx="2302200" cy="5552280"/>
          </a:xfrm>
        </p:grpSpPr>
        <p:grpSp>
          <p:nvGrpSpPr>
            <p:cNvPr id="400" name=""/>
            <p:cNvGrpSpPr/>
            <p:nvPr/>
          </p:nvGrpSpPr>
          <p:grpSpPr>
            <a:xfrm>
              <a:off x="4570200" y="1400040"/>
              <a:ext cx="2233080" cy="4040640"/>
              <a:chOff x="4570200" y="1400040"/>
              <a:chExt cx="2233080" cy="4040640"/>
            </a:xfrm>
          </p:grpSpPr>
          <p:sp>
            <p:nvSpPr>
              <p:cNvPr id="401" name=""/>
              <p:cNvSpPr/>
              <p:nvPr/>
            </p:nvSpPr>
            <p:spPr>
              <a:xfrm>
                <a:off x="4571280" y="1400040"/>
                <a:ext cx="2232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múltiplos atributos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70200" y="2666880"/>
                <a:ext cx="1951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combinação 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ponderada dos 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atributos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71640" y="3914640"/>
                <a:ext cx="168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9999"/>
                    </a:solidFill>
                    <a:latin typeface="Arial"/>
                  </a:rPr>
                  <a:t>Idem Kasbah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571640" y="5041800"/>
                <a:ext cx="168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9999"/>
                    </a:solidFill>
                    <a:latin typeface="Arial"/>
                  </a:rPr>
                  <a:t>Idem Kasbah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4569480" y="5943600"/>
              <a:ext cx="230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dependentes d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tempo/comportam.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recurs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44320" y="1400040"/>
            <a:ext cx="2406600" cy="5536440"/>
            <a:chOff x="6844320" y="1400040"/>
            <a:chExt cx="2406600" cy="5536440"/>
          </a:xfrm>
        </p:grpSpPr>
        <p:grpSp>
          <p:nvGrpSpPr>
            <p:cNvPr id="407" name=""/>
            <p:cNvGrpSpPr/>
            <p:nvPr/>
          </p:nvGrpSpPr>
          <p:grpSpPr>
            <a:xfrm>
              <a:off x="6853680" y="1400040"/>
              <a:ext cx="2397240" cy="4666320"/>
              <a:chOff x="6853680" y="1400040"/>
              <a:chExt cx="2397240" cy="4666320"/>
            </a:xfrm>
          </p:grpSpPr>
          <p:sp>
            <p:nvSpPr>
              <p:cNvPr id="408" name=""/>
              <p:cNvSpPr/>
              <p:nvPr/>
            </p:nvSpPr>
            <p:spPr>
              <a:xfrm>
                <a:off x="6853680" y="1400040"/>
                <a:ext cx="2285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múltiplos atributos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Arial"/>
                  </a:rPr>
                  <a:t>(produto + acordo)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57640" y="266688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9999"/>
                    </a:solidFill>
                    <a:latin typeface="Arial"/>
                  </a:rPr>
                  <a:t>Idem Faratin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5840" y="3914640"/>
                <a:ext cx="23950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9999"/>
                    </a:solidFill>
                    <a:latin typeface="Arial"/>
                  </a:rPr>
                  <a:t>Idem Kasbah +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9999"/>
                    </a:solidFill>
                    <a:latin typeface="Arial"/>
                  </a:rPr>
                  <a:t>ultimato + sugestão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9999"/>
                    </a:solidFill>
                    <a:latin typeface="Arial"/>
                  </a:rPr>
                  <a:t>produto alternativo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56200" y="5057640"/>
                <a:ext cx="23007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9999"/>
                    </a:solidFill>
                    <a:latin typeface="Arial"/>
                  </a:rPr>
                  <a:t>Idem Faratin, mas 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9999"/>
                    </a:solidFill>
                    <a:latin typeface="Arial"/>
                  </a:rPr>
                  <a:t>muda em ultimato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6844320" y="5927760"/>
              <a:ext cx="230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dependentes d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tempo/comportam.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recurs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2D9-A01D-4F55-B9D4-F71F2C8AFF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Balanço do estado da arte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8080"/>
                </a:solidFill>
                <a:latin typeface="Arial"/>
              </a:rPr>
              <a:t>Modelo de propostas limitado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"/>
              </a:rPr>
              <a:t>atributos de uma única natureza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8080"/>
                </a:solidFill>
                <a:latin typeface="Arial"/>
              </a:rPr>
              <a:t>Agentes com ações limitadas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"/>
              </a:rPr>
              <a:t>não incluem ações mais complexas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8080"/>
                </a:solidFill>
                <a:latin typeface="Arial"/>
              </a:rPr>
              <a:t>Tomada de decisão baseada apenas nas propostas recebida/gerada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8080"/>
                </a:solidFill>
                <a:latin typeface="Arial"/>
              </a:rPr>
              <a:t>Modelo RAP </a:t>
            </a:r>
            <a:r>
              <a:rPr b="1" i="1" lang="pt-BR" sz="2600" spc="-1" strike="noStrike">
                <a:solidFill>
                  <a:srgbClr val="008080"/>
                </a:solidFill>
                <a:latin typeface="Arial"/>
              </a:rPr>
              <a:t>(Rational Agent and Protocols)</a:t>
            </a:r>
            <a:r>
              <a:rPr b="1" lang="pt-BR" sz="2600" spc="-1" strike="noStrike">
                <a:solidFill>
                  <a:srgbClr val="008080"/>
                </a:solidFill>
                <a:latin typeface="Arial"/>
              </a:rPr>
              <a:t> é o mais completo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"/>
              </a:rPr>
              <a:t>corrige problemas de Faratin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"/>
              </a:rPr>
              <a:t>faz extensões resolvendo algumas das limitaçõ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31E-2EEC-4929-8963-C87E9DC249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Modelo de propostas do RAP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85800" y="2209680"/>
            <a:ext cx="7848720" cy="3276720"/>
            <a:chOff x="685800" y="2209680"/>
            <a:chExt cx="7848720" cy="3276720"/>
          </a:xfrm>
        </p:grpSpPr>
        <p:grpSp>
          <p:nvGrpSpPr>
            <p:cNvPr id="417" name=""/>
            <p:cNvGrpSpPr/>
            <p:nvPr/>
          </p:nvGrpSpPr>
          <p:grpSpPr>
            <a:xfrm>
              <a:off x="685800" y="2209680"/>
              <a:ext cx="7848720" cy="3276720"/>
              <a:chOff x="685800" y="2209680"/>
              <a:chExt cx="7848720" cy="3276720"/>
            </a:xfrm>
          </p:grpSpPr>
          <p:sp>
            <p:nvSpPr>
              <p:cNvPr id="418" name=""/>
              <p:cNvSpPr/>
              <p:nvPr/>
            </p:nvSpPr>
            <p:spPr>
              <a:xfrm>
                <a:off x="685800" y="2209680"/>
                <a:ext cx="7848720" cy="3276720"/>
              </a:xfrm>
              <a:prstGeom prst="rect">
                <a:avLst/>
              </a:prstGeom>
              <a:noFill/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5800" y="2667960"/>
                <a:ext cx="784872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964680" y="224496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ropost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914400" y="2895480"/>
            <a:ext cx="3581280" cy="2438640"/>
            <a:chOff x="914400" y="2895480"/>
            <a:chExt cx="3581280" cy="2438640"/>
          </a:xfrm>
        </p:grpSpPr>
        <p:sp>
          <p:nvSpPr>
            <p:cNvPr id="422" name=""/>
            <p:cNvSpPr/>
            <p:nvPr/>
          </p:nvSpPr>
          <p:spPr>
            <a:xfrm>
              <a:off x="1471680" y="2994120"/>
              <a:ext cx="241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Arial"/>
                </a:rPr>
                <a:t>Atributos de Acord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914400" y="2895480"/>
              <a:ext cx="3581280" cy="2438640"/>
              <a:chOff x="914400" y="2895480"/>
              <a:chExt cx="3581280" cy="2438640"/>
            </a:xfrm>
          </p:grpSpPr>
          <p:sp>
            <p:nvSpPr>
              <p:cNvPr id="424" name=""/>
              <p:cNvSpPr/>
              <p:nvPr/>
            </p:nvSpPr>
            <p:spPr>
              <a:xfrm>
                <a:off x="914400" y="2895480"/>
                <a:ext cx="3581280" cy="2438640"/>
              </a:xfrm>
              <a:prstGeom prst="rect">
                <a:avLst/>
              </a:prstGeom>
              <a:noFill/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14400" y="3382920"/>
                <a:ext cx="3581280" cy="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1378080" y="3654360"/>
              <a:ext cx="711000" cy="337320"/>
            </a:xfrm>
            <a:prstGeom prst="rect">
              <a:avLst/>
            </a:prstGeom>
            <a:noFill/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Preço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46560" y="4089240"/>
              <a:ext cx="1860120" cy="337320"/>
            </a:xfrm>
            <a:prstGeom prst="rect">
              <a:avLst/>
            </a:prstGeom>
            <a:noFill/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Tempo de Entreg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31440" y="4699080"/>
              <a:ext cx="1680480" cy="337320"/>
            </a:xfrm>
            <a:prstGeom prst="rect">
              <a:avLst/>
            </a:prstGeom>
            <a:noFill/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Taxa de Entreg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724280" y="2895480"/>
            <a:ext cx="3581280" cy="2438640"/>
            <a:chOff x="4724280" y="2895480"/>
            <a:chExt cx="3581280" cy="2438640"/>
          </a:xfrm>
        </p:grpSpPr>
        <p:sp>
          <p:nvSpPr>
            <p:cNvPr id="430" name=""/>
            <p:cNvSpPr/>
            <p:nvPr/>
          </p:nvSpPr>
          <p:spPr>
            <a:xfrm>
              <a:off x="5332680" y="2994120"/>
              <a:ext cx="25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111"/>
                  </a:solidFill>
                  <a:latin typeface="Arial"/>
                </a:rPr>
                <a:t>Atributos de Produt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724280" y="2895480"/>
              <a:ext cx="3581280" cy="2438640"/>
              <a:chOff x="4724280" y="2895480"/>
              <a:chExt cx="3581280" cy="2438640"/>
            </a:xfrm>
          </p:grpSpPr>
          <p:sp>
            <p:nvSpPr>
              <p:cNvPr id="432" name=""/>
              <p:cNvSpPr/>
              <p:nvPr/>
            </p:nvSpPr>
            <p:spPr>
              <a:xfrm>
                <a:off x="4724280" y="2895480"/>
                <a:ext cx="3581280" cy="2438640"/>
              </a:xfrm>
              <a:prstGeom prst="rect">
                <a:avLst/>
              </a:prstGeom>
              <a:noFill/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24280" y="3382920"/>
                <a:ext cx="3581280" cy="0"/>
              </a:xfrm>
              <a:prstGeom prst="line">
                <a:avLst/>
              </a:prstGeom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5037480" y="3505320"/>
              <a:ext cx="1375560" cy="337320"/>
            </a:xfrm>
            <a:prstGeom prst="rect">
              <a:avLst/>
            </a:prstGeom>
            <a:noFill/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111"/>
                  </a:solidFill>
                  <a:latin typeface="Arial"/>
                </a:rPr>
                <a:t>Tam. Monito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41680" y="4419720"/>
              <a:ext cx="1320840" cy="337320"/>
            </a:xfrm>
            <a:prstGeom prst="rect">
              <a:avLst/>
            </a:prstGeom>
            <a:noFill/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111"/>
                  </a:solidFill>
                  <a:latin typeface="Arial"/>
                </a:rPr>
                <a:t>Processado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39880" y="3992400"/>
              <a:ext cx="1262880" cy="337320"/>
            </a:xfrm>
            <a:prstGeom prst="rect">
              <a:avLst/>
            </a:prstGeom>
            <a:noFill/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111"/>
                  </a:solidFill>
                  <a:latin typeface="Arial"/>
                </a:rPr>
                <a:t>Fax-mode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81560" y="4873680"/>
              <a:ext cx="1012680" cy="337320"/>
            </a:xfrm>
            <a:prstGeom prst="rect">
              <a:avLst/>
            </a:prstGeom>
            <a:noFill/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111"/>
                  </a:solidFill>
                  <a:latin typeface="Arial"/>
                </a:rPr>
                <a:t>CD-RO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33520" y="914400"/>
            <a:ext cx="8153280" cy="1066680"/>
            <a:chOff x="533520" y="914400"/>
            <a:chExt cx="8153280" cy="1066680"/>
          </a:xfrm>
        </p:grpSpPr>
        <p:sp>
          <p:nvSpPr>
            <p:cNvPr id="439" name=""/>
            <p:cNvSpPr/>
            <p:nvPr/>
          </p:nvSpPr>
          <p:spPr>
            <a:xfrm>
              <a:off x="533520" y="914400"/>
              <a:ext cx="8153280" cy="1066680"/>
            </a:xfrm>
            <a:prstGeom prst="flowChartPredefinedProcess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19560" y="1044360"/>
              <a:ext cx="446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Atributos de duas naturezas: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acordo e produto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502640" y="57754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eço </a:t>
            </a:r>
            <a:r>
              <a:rPr b="1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[100; 300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88400" y="5775480"/>
            <a:ext cx="43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ocessador </a:t>
            </a:r>
            <a:r>
              <a:rPr b="1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{300Mhz.; 400Mhz.}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89E-8EC3-4A0E-86AE-28A6C0B91E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Avaliação das propostas no RAP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838080"/>
            <a:ext cx="7848720" cy="228600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297080"/>
            <a:ext cx="78487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4680" y="873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pos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71680" y="154620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Atributos de Acord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4400" y="1447920"/>
            <a:ext cx="3581280" cy="1523880"/>
          </a:xfrm>
          <a:prstGeom prst="rect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1935000"/>
            <a:ext cx="358128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73160" y="2473200"/>
            <a:ext cx="711000" cy="33732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Preç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12880" y="2016000"/>
            <a:ext cx="1860120" cy="33732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Tempo de Entreg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74440" y="2473200"/>
            <a:ext cx="1680480" cy="33732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Taxa de Entreg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2680" y="15462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Atributos de Produ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447920"/>
            <a:ext cx="3581640" cy="1523880"/>
          </a:xfrm>
          <a:prstGeom prst="rect">
            <a:avLst/>
          </a:prstGeom>
          <a:noFill/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1935000"/>
            <a:ext cx="3581640" cy="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64320" y="2460600"/>
            <a:ext cx="1375560" cy="3373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am. Monito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11560" y="2016000"/>
            <a:ext cx="1320840" cy="3373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Processado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82840" y="2495520"/>
            <a:ext cx="1262880" cy="3373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ax-modem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990720" y="2362320"/>
            <a:ext cx="3124080" cy="2514600"/>
            <a:chOff x="990720" y="2362320"/>
            <a:chExt cx="3124080" cy="2514600"/>
          </a:xfrm>
        </p:grpSpPr>
        <p:sp>
          <p:nvSpPr>
            <p:cNvPr id="460" name=""/>
            <p:cNvSpPr/>
            <p:nvPr/>
          </p:nvSpPr>
          <p:spPr>
            <a:xfrm>
              <a:off x="2057400" y="42670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66680" y="4114800"/>
              <a:ext cx="83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336699"/>
                  </a:solidFill>
                  <a:latin typeface="Arial"/>
                </a:rPr>
                <a:t>preço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95480" y="403848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1800" spc="-1" strike="noStrike" baseline="-25000">
                  <a:solidFill>
                    <a:srgbClr val="336699"/>
                  </a:solidFill>
                  <a:latin typeface="Arial"/>
                </a:rPr>
                <a:t>tax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76520" y="36720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1800" spc="-1" strike="noStrike" baseline="-25000">
                  <a:solidFill>
                    <a:srgbClr val="336699"/>
                  </a:solidFill>
                  <a:latin typeface="Arial"/>
                </a:rPr>
                <a:t>temp.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90720" y="3276720"/>
              <a:ext cx="7617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336699"/>
                  </a:solidFill>
                  <a:latin typeface="Arial"/>
                </a:rPr>
                <a:t>preç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24080" y="3276720"/>
              <a:ext cx="7621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pt-BR" sz="2000" spc="-1" strike="noStrike">
                  <a:solidFill>
                    <a:srgbClr val="336699"/>
                  </a:solidFill>
                  <a:latin typeface="Arial"/>
                </a:rPr>
                <a:t>a</a:t>
              </a:r>
              <a:r>
                <a:rPr b="1" lang="pt-BR" sz="2000" spc="-1" strike="noStrike" baseline="-25000">
                  <a:solidFill>
                    <a:srgbClr val="336699"/>
                  </a:solidFill>
                  <a:latin typeface="Arial"/>
                </a:rPr>
                <a:t>tax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3276720"/>
              <a:ext cx="7621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pt-BR" sz="2000" spc="-1" strike="noStrike">
                  <a:solidFill>
                    <a:srgbClr val="336699"/>
                  </a:solidFill>
                  <a:latin typeface="Arial"/>
                </a:rPr>
                <a:t>a</a:t>
              </a:r>
              <a:r>
                <a:rPr b="1" lang="pt-BR" sz="2000" spc="-1" strike="noStrike" baseline="-25000">
                  <a:solidFill>
                    <a:srgbClr val="336699"/>
                  </a:solidFill>
                  <a:latin typeface="Arial"/>
                </a:rPr>
                <a:t>temp.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4" idx="2"/>
              <a:endCxn id="460" idx="1"/>
            </p:cNvCxnSpPr>
            <p:nvPr/>
          </p:nvCxnSpPr>
          <p:spPr>
            <a:xfrm>
              <a:off x="1371600" y="3747960"/>
              <a:ext cx="775440" cy="59472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468" name=""/>
            <p:cNvCxnSpPr>
              <a:stCxn id="466" idx="2"/>
              <a:endCxn id="460" idx="0"/>
            </p:cNvCxnSpPr>
            <p:nvPr/>
          </p:nvCxnSpPr>
          <p:spPr>
            <a:xfrm>
              <a:off x="2361960" y="3747600"/>
              <a:ext cx="1080" cy="50580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5" idx="2"/>
              <a:endCxn id="460" idx="7"/>
            </p:cNvCxnSpPr>
            <p:nvPr/>
          </p:nvCxnSpPr>
          <p:spPr>
            <a:xfrm flipH="1">
              <a:off x="2577600" y="3747960"/>
              <a:ext cx="928080" cy="59472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470" name=""/>
            <p:cNvSpPr/>
            <p:nvPr/>
          </p:nvSpPr>
          <p:spPr>
            <a:xfrm>
              <a:off x="1371600" y="2819520"/>
              <a:ext cx="0" cy="4572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62320" y="2362320"/>
              <a:ext cx="0" cy="914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27280" y="2819520"/>
              <a:ext cx="0" cy="4572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181480" y="2362320"/>
            <a:ext cx="3124440" cy="2514600"/>
            <a:chOff x="5181480" y="2362320"/>
            <a:chExt cx="3124440" cy="2514600"/>
          </a:xfrm>
        </p:grpSpPr>
        <p:sp>
          <p:nvSpPr>
            <p:cNvPr id="474" name=""/>
            <p:cNvSpPr/>
            <p:nvPr/>
          </p:nvSpPr>
          <p:spPr>
            <a:xfrm>
              <a:off x="6248520" y="42670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57800" y="4114800"/>
              <a:ext cx="83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1800" spc="-1" strike="noStrike" baseline="-25000">
                  <a:solidFill>
                    <a:srgbClr val="336699"/>
                  </a:solidFill>
                  <a:latin typeface="Arial"/>
                </a:rPr>
                <a:t>ta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403848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1800" spc="-1" strike="noStrike" baseline="-25000">
                  <a:solidFill>
                    <a:srgbClr val="336699"/>
                  </a:solidFill>
                  <a:latin typeface="Arial"/>
                </a:rPr>
                <a:t>fax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280" y="36720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1800" spc="-1" strike="noStrike" baseline="-25000">
                  <a:solidFill>
                    <a:srgbClr val="336699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81480" y="3276720"/>
              <a:ext cx="7621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pt-BR" sz="2000" spc="-1" strike="noStrike">
                  <a:solidFill>
                    <a:srgbClr val="336699"/>
                  </a:solidFill>
                  <a:latin typeface="Arial"/>
                </a:rPr>
                <a:t>p</a:t>
              </a:r>
              <a:r>
                <a:rPr b="1" lang="pt-BR" sz="2000" spc="-1" strike="noStrike" baseline="-25000">
                  <a:solidFill>
                    <a:srgbClr val="336699"/>
                  </a:solidFill>
                  <a:latin typeface="Arial"/>
                </a:rPr>
                <a:t>tam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15200" y="3276720"/>
              <a:ext cx="7621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pt-BR" sz="2000" spc="-1" strike="noStrike">
                  <a:solidFill>
                    <a:srgbClr val="336699"/>
                  </a:solidFill>
                  <a:latin typeface="Arial"/>
                </a:rPr>
                <a:t>p</a:t>
              </a:r>
              <a:r>
                <a:rPr b="1" lang="pt-BR" sz="2000" spc="-1" strike="noStrike" baseline="-25000">
                  <a:solidFill>
                    <a:srgbClr val="336699"/>
                  </a:solidFill>
                  <a:latin typeface="Arial"/>
                </a:rPr>
                <a:t>fa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72200" y="3276720"/>
              <a:ext cx="7621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</a:t>
              </a:r>
              <a:r>
                <a:rPr b="1" lang="pt-BR" sz="2000" spc="-1" strike="noStrike">
                  <a:solidFill>
                    <a:srgbClr val="336699"/>
                  </a:solidFill>
                  <a:latin typeface="Arial"/>
                </a:rPr>
                <a:t>p</a:t>
              </a:r>
              <a:r>
                <a:rPr b="1" lang="pt-BR" sz="2000" spc="-1" strike="noStrike" baseline="-25000">
                  <a:solidFill>
                    <a:srgbClr val="336699"/>
                  </a:solidFill>
                  <a:latin typeface="Arial"/>
                </a:rPr>
                <a:t>proc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cxnSp>
          <p:nvCxnSpPr>
            <p:cNvPr id="481" name=""/>
            <p:cNvCxnSpPr>
              <a:stCxn id="478" idx="2"/>
              <a:endCxn id="474" idx="1"/>
            </p:cNvCxnSpPr>
            <p:nvPr/>
          </p:nvCxnSpPr>
          <p:spPr>
            <a:xfrm>
              <a:off x="5562720" y="3747960"/>
              <a:ext cx="775440" cy="59472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482" name=""/>
            <p:cNvCxnSpPr>
              <a:stCxn id="480" idx="2"/>
              <a:endCxn id="474" idx="0"/>
            </p:cNvCxnSpPr>
            <p:nvPr/>
          </p:nvCxnSpPr>
          <p:spPr>
            <a:xfrm>
              <a:off x="6552720" y="3747600"/>
              <a:ext cx="1080" cy="50580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79" idx="2"/>
              <a:endCxn id="474" idx="7"/>
            </p:cNvCxnSpPr>
            <p:nvPr/>
          </p:nvCxnSpPr>
          <p:spPr>
            <a:xfrm flipH="1">
              <a:off x="6768360" y="3747960"/>
              <a:ext cx="927720" cy="59472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562720" y="2819520"/>
              <a:ext cx="0" cy="4572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18400" y="2819520"/>
              <a:ext cx="0" cy="4572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53080" y="2362320"/>
              <a:ext cx="0" cy="914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577600" y="4802040"/>
            <a:ext cx="3759840" cy="760680"/>
            <a:chOff x="2577600" y="4802040"/>
            <a:chExt cx="3759840" cy="760680"/>
          </a:xfrm>
        </p:grpSpPr>
        <p:sp>
          <p:nvSpPr>
            <p:cNvPr id="488" name=""/>
            <p:cNvSpPr/>
            <p:nvPr/>
          </p:nvSpPr>
          <p:spPr>
            <a:xfrm>
              <a:off x="4267080" y="4952880"/>
              <a:ext cx="609840" cy="60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cxnSp>
          <p:nvCxnSpPr>
            <p:cNvPr id="489" name=""/>
            <p:cNvCxnSpPr>
              <a:stCxn id="460" idx="5"/>
              <a:endCxn id="488" idx="2"/>
            </p:cNvCxnSpPr>
            <p:nvPr/>
          </p:nvCxnSpPr>
          <p:spPr>
            <a:xfrm>
              <a:off x="2577600" y="4802040"/>
              <a:ext cx="1675800" cy="45648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490" name=""/>
            <p:cNvCxnSpPr>
              <a:stCxn id="474" idx="3"/>
              <a:endCxn id="488" idx="6"/>
            </p:cNvCxnSpPr>
            <p:nvPr/>
          </p:nvCxnSpPr>
          <p:spPr>
            <a:xfrm flipH="1">
              <a:off x="4890600" y="4802040"/>
              <a:ext cx="1447200" cy="456480"/>
            </a:xfrm>
            <a:prstGeom prst="straightConnector1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491" name=""/>
            <p:cNvSpPr/>
            <p:nvPr/>
          </p:nvSpPr>
          <p:spPr>
            <a:xfrm>
              <a:off x="2966760" y="5040360"/>
              <a:ext cx="54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2000" spc="-1" strike="noStrike" baseline="-25000">
                  <a:solidFill>
                    <a:srgbClr val="336699"/>
                  </a:solidFill>
                  <a:latin typeface="Arial"/>
                </a:rPr>
                <a:t>a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1160" y="5029200"/>
              <a:ext cx="550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6699"/>
                  </a:solidFill>
                  <a:latin typeface="Arial"/>
                </a:rPr>
                <a:t>w</a:t>
              </a:r>
              <a:r>
                <a:rPr b="1" lang="pt-BR" sz="2000" spc="-1" strike="noStrike" baseline="-25000">
                  <a:solidFill>
                    <a:srgbClr val="336699"/>
                  </a:solidFill>
                  <a:latin typeface="Arial"/>
                </a:rPr>
                <a:t>a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3845160" y="5562720"/>
            <a:ext cx="1468440" cy="1095840"/>
            <a:chOff x="3845160" y="5562720"/>
            <a:chExt cx="1468440" cy="1095840"/>
          </a:xfrm>
        </p:grpSpPr>
        <p:sp>
          <p:nvSpPr>
            <p:cNvPr id="494" name=""/>
            <p:cNvSpPr/>
            <p:nvPr/>
          </p:nvSpPr>
          <p:spPr>
            <a:xfrm>
              <a:off x="4583160" y="5562720"/>
              <a:ext cx="0" cy="6858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45160" y="625968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Aval [0 ; 1]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7FE-FE41-48B2-B970-26C1CECF70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Possíveis ações no RAP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Mesmas de Faratin adicionando...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33520" y="1752480"/>
            <a:ext cx="8153280" cy="2210040"/>
            <a:chOff x="533520" y="1752480"/>
            <a:chExt cx="8153280" cy="2210040"/>
          </a:xfrm>
        </p:grpSpPr>
        <p:sp>
          <p:nvSpPr>
            <p:cNvPr id="499" name=""/>
            <p:cNvSpPr/>
            <p:nvPr/>
          </p:nvSpPr>
          <p:spPr>
            <a:xfrm>
              <a:off x="533520" y="1752480"/>
              <a:ext cx="8153280" cy="2210040"/>
            </a:xfrm>
            <a:prstGeom prst="flowChartPredefinedProcess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23880" y="1752480"/>
              <a:ext cx="61722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6699"/>
                  </a:solidFill>
                  <a:latin typeface="Arial"/>
                </a:rPr>
                <a:t>Sugestão de Produto Alternativo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720720" indent="-277200">
                <a:lnSpc>
                  <a:spcPct val="100000"/>
                </a:lnSpc>
                <a:spcBef>
                  <a:spcPts val="601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agente pode sugerir algum produto similar ao que está sendo negociado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720720" indent="-277200">
                <a:lnSpc>
                  <a:spcPct val="100000"/>
                </a:lnSpc>
                <a:spcBef>
                  <a:spcPts val="601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derruba a barreira entre a escolha do produto e a negociação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3520" y="4114800"/>
            <a:ext cx="8153280" cy="2209680"/>
            <a:chOff x="533520" y="4114800"/>
            <a:chExt cx="8153280" cy="2209680"/>
          </a:xfrm>
        </p:grpSpPr>
        <p:sp>
          <p:nvSpPr>
            <p:cNvPr id="502" name=""/>
            <p:cNvSpPr/>
            <p:nvPr/>
          </p:nvSpPr>
          <p:spPr>
            <a:xfrm>
              <a:off x="533520" y="4114800"/>
              <a:ext cx="8153280" cy="2209680"/>
            </a:xfrm>
            <a:prstGeom prst="flowChartPredefinedProcess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23880" y="4114800"/>
              <a:ext cx="6172200" cy="20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6699"/>
                  </a:solidFill>
                  <a:latin typeface="Arial"/>
                </a:rPr>
                <a:t>Enviar Ultimato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720720" indent="-277200">
                <a:lnSpc>
                  <a:spcPct val="100000"/>
                </a:lnSpc>
                <a:spcBef>
                  <a:spcPts val="601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agente sempre envia um aviso antes de sair da negociação</a:t>
              </a: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720720" indent="-277200">
                <a:lnSpc>
                  <a:spcPct val="100000"/>
                </a:lnSpc>
                <a:spcBef>
                  <a:spcPts val="601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evita que o agente seja pego de “surpresa” com a saída do oponent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078-3262-4030-8D8C-CD46E71D69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-30492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 Narrow"/>
              </a:rPr>
              <a:t>Tipos de Negociação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6002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Arial"/>
              </a:rPr>
              <a:t>Determinado pelo número de participantes na negociação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6680" y="3276720"/>
            <a:ext cx="7162920" cy="1752480"/>
            <a:chOff x="1066680" y="3276720"/>
            <a:chExt cx="7162920" cy="1752480"/>
          </a:xfrm>
        </p:grpSpPr>
        <p:sp>
          <p:nvSpPr>
            <p:cNvPr id="92" name=""/>
            <p:cNvSpPr/>
            <p:nvPr/>
          </p:nvSpPr>
          <p:spPr>
            <a:xfrm>
              <a:off x="1066680" y="3276720"/>
              <a:ext cx="7162920" cy="1752480"/>
            </a:xfrm>
            <a:prstGeom prst="flowChartPredefinedProcess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3402000"/>
              <a:ext cx="1595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Arial"/>
                </a:rPr>
                <a:t>Bi-lateral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13720" y="390852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Multi-lateral (1-N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1560" y="4414680"/>
            <a:ext cx="297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Multi-lateral (N-M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omada de decisão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Baseada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vetor de propostas do oponente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vetor de propostas no agente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rodada atual de negociaçã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última ação executada pelo oponente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352680"/>
            <a:ext cx="762120" cy="1676520"/>
          </a:xfrm>
          <a:prstGeom prst="downArrow">
            <a:avLst>
              <a:gd name="adj1" fmla="val 50000"/>
              <a:gd name="adj2" fmla="val 54995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18000" y="502920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 .....  Entã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610080" y="4038480"/>
            <a:ext cx="5383440" cy="2194200"/>
            <a:chOff x="3610080" y="4038480"/>
            <a:chExt cx="5383440" cy="2194200"/>
          </a:xfrm>
        </p:grpSpPr>
        <p:sp>
          <p:nvSpPr>
            <p:cNvPr id="509" name=""/>
            <p:cNvSpPr/>
            <p:nvPr/>
          </p:nvSpPr>
          <p:spPr>
            <a:xfrm>
              <a:off x="5589360" y="4038480"/>
              <a:ext cx="3404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Enviar Ultimat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Enviar Produto Alternativ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Enviar Contra Propost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Enviar Aceitaçã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8680" y="5622840"/>
              <a:ext cx="16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Em ultimat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9400" y="4479840"/>
              <a:ext cx="112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Normal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38880" y="5394240"/>
              <a:ext cx="228600" cy="8384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90440" y="5454720"/>
              <a:ext cx="223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Enviar Aceitaçã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air 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38880" y="4114800"/>
              <a:ext cx="228600" cy="1143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10080" y="4572000"/>
              <a:ext cx="228600" cy="1371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3DF-CFDD-4821-B7A2-AE79AF2D3E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omada de decisão normal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5800" y="762120"/>
            <a:ext cx="4662000" cy="2107080"/>
            <a:chOff x="685800" y="762120"/>
            <a:chExt cx="4662000" cy="2107080"/>
          </a:xfrm>
        </p:grpSpPr>
        <p:grpSp>
          <p:nvGrpSpPr>
            <p:cNvPr id="518" name=""/>
            <p:cNvGrpSpPr/>
            <p:nvPr/>
          </p:nvGrpSpPr>
          <p:grpSpPr>
            <a:xfrm>
              <a:off x="950760" y="1327320"/>
              <a:ext cx="4397040" cy="1541880"/>
              <a:chOff x="950760" y="1327320"/>
              <a:chExt cx="4397040" cy="1541880"/>
            </a:xfrm>
          </p:grpSpPr>
          <p:sp>
            <p:nvSpPr>
              <p:cNvPr id="519" name=""/>
              <p:cNvSpPr/>
              <p:nvPr/>
            </p:nvSpPr>
            <p:spPr>
              <a:xfrm>
                <a:off x="1578240" y="1327320"/>
                <a:ext cx="3769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Se .....  Então </a:t>
                </a:r>
                <a:r>
                  <a:rPr b="1" lang="en-US" sz="2200" spc="-1" strike="noStrike">
                    <a:solidFill>
                      <a:srgbClr val="336699"/>
                    </a:solidFill>
                    <a:latin typeface="Arial"/>
                  </a:rPr>
                  <a:t>Envia Ultimato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208240" y="1708200"/>
                <a:ext cx="0" cy="4572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50760" y="2165400"/>
                <a:ext cx="2570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Tempo máximo de 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negociação expirou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685800" y="762120"/>
              <a:ext cx="3368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66"/>
                </a:buClr>
                <a:buFont typeface="Monotype Sorts" charset="2"/>
                <a:buChar char="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80"/>
                  </a:solidFill>
                  <a:latin typeface="Arial"/>
                </a:rPr>
                <a:t>Enviar Ultimato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85800" y="3429000"/>
            <a:ext cx="6366240" cy="2008800"/>
            <a:chOff x="685800" y="3429000"/>
            <a:chExt cx="6366240" cy="2008800"/>
          </a:xfrm>
        </p:grpSpPr>
        <p:grpSp>
          <p:nvGrpSpPr>
            <p:cNvPr id="524" name=""/>
            <p:cNvGrpSpPr/>
            <p:nvPr/>
          </p:nvGrpSpPr>
          <p:grpSpPr>
            <a:xfrm>
              <a:off x="947520" y="3895560"/>
              <a:ext cx="6104520" cy="1542240"/>
              <a:chOff x="947520" y="3895560"/>
              <a:chExt cx="6104520" cy="1542240"/>
            </a:xfrm>
          </p:grpSpPr>
          <p:sp>
            <p:nvSpPr>
              <p:cNvPr id="525" name=""/>
              <p:cNvSpPr/>
              <p:nvPr/>
            </p:nvSpPr>
            <p:spPr>
              <a:xfrm>
                <a:off x="1793520" y="3895560"/>
                <a:ext cx="5258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Se .....  Então </a:t>
                </a:r>
                <a:r>
                  <a:rPr b="1" lang="en-US" sz="2200" spc="-1" strike="noStrike">
                    <a:solidFill>
                      <a:srgbClr val="336699"/>
                    </a:solidFill>
                    <a:latin typeface="Arial"/>
                  </a:rPr>
                  <a:t>Envia Produto Alternativo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21000" y="4276800"/>
                <a:ext cx="0" cy="4572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47520" y="4734000"/>
                <a:ext cx="340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Oponente não está 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cedendo satisfatoriament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685800" y="3429000"/>
              <a:ext cx="5715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66"/>
                </a:buClr>
                <a:buFont typeface="Monotype Sorts" charset="2"/>
                <a:buChar char="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80"/>
                  </a:solidFill>
                  <a:latin typeface="Arial"/>
                </a:rPr>
                <a:t>Enviar Produto Alternativo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DF6-726C-485B-91C2-93A0E7A4F1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omada de decisão normal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85800" y="3505320"/>
            <a:ext cx="5946480" cy="2008800"/>
            <a:chOff x="685800" y="3505320"/>
            <a:chExt cx="5946480" cy="2008800"/>
          </a:xfrm>
        </p:grpSpPr>
        <p:sp>
          <p:nvSpPr>
            <p:cNvPr id="531" name=""/>
            <p:cNvSpPr/>
            <p:nvPr/>
          </p:nvSpPr>
          <p:spPr>
            <a:xfrm>
              <a:off x="1792800" y="3971880"/>
              <a:ext cx="483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e .....  Então </a:t>
              </a:r>
              <a:r>
                <a:rPr b="1" lang="en-US" sz="2200" spc="-1" strike="noStrike">
                  <a:solidFill>
                    <a:srgbClr val="336699"/>
                  </a:solidFill>
                  <a:latin typeface="Arial"/>
                </a:rPr>
                <a:t>Envia Contra Proposta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21000" y="4353120"/>
              <a:ext cx="0" cy="45720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8240" y="4810320"/>
              <a:ext cx="360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aso nenhuma outra opção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eja possíve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" y="3505320"/>
              <a:ext cx="5715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66"/>
                </a:buClr>
                <a:buFont typeface="Monotype Sorts" charset="2"/>
                <a:buChar char="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80"/>
                  </a:solidFill>
                  <a:latin typeface="Arial"/>
                </a:rPr>
                <a:t>Enviar Contra Proposta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78080" y="685800"/>
            <a:ext cx="5072760" cy="2107080"/>
            <a:chOff x="478080" y="685800"/>
            <a:chExt cx="5072760" cy="2107080"/>
          </a:xfrm>
        </p:grpSpPr>
        <p:sp>
          <p:nvSpPr>
            <p:cNvPr id="536" name=""/>
            <p:cNvSpPr/>
            <p:nvPr/>
          </p:nvSpPr>
          <p:spPr>
            <a:xfrm>
              <a:off x="1578600" y="1251000"/>
              <a:ext cx="397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e .....  Então </a:t>
              </a:r>
              <a:r>
                <a:rPr b="1" lang="en-US" sz="2200" spc="-1" strike="noStrike">
                  <a:solidFill>
                    <a:srgbClr val="336699"/>
                  </a:solidFill>
                  <a:latin typeface="Arial"/>
                </a:rPr>
                <a:t>Envia Aceitação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08240" y="1631880"/>
              <a:ext cx="0" cy="45720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8080" y="2089080"/>
              <a:ext cx="353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Proposta recebida é melh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que contraproposta gerad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5800" y="685800"/>
              <a:ext cx="457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66"/>
                </a:buClr>
                <a:buFont typeface="Monotype Sorts" charset="2"/>
                <a:buChar char="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80"/>
                  </a:solidFill>
                  <a:latin typeface="Arial"/>
                </a:rPr>
                <a:t>Enviar Aceitação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F18-0E7C-4BA3-A270-0DACB0D486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omada de decisão em ultimato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5800" y="3505320"/>
            <a:ext cx="5715000" cy="2008800"/>
            <a:chOff x="685800" y="3505320"/>
            <a:chExt cx="5715000" cy="2008800"/>
          </a:xfrm>
        </p:grpSpPr>
        <p:sp>
          <p:nvSpPr>
            <p:cNvPr id="542" name=""/>
            <p:cNvSpPr/>
            <p:nvPr/>
          </p:nvSpPr>
          <p:spPr>
            <a:xfrm>
              <a:off x="1789200" y="3971880"/>
              <a:ext cx="235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e .....  Então </a:t>
              </a:r>
              <a:r>
                <a:rPr b="1" lang="en-US" sz="2200" spc="-1" strike="noStrike">
                  <a:solidFill>
                    <a:srgbClr val="336699"/>
                  </a:solidFill>
                  <a:latin typeface="Arial"/>
                </a:rPr>
                <a:t>Sair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21000" y="4353120"/>
              <a:ext cx="0" cy="45720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8640" y="4810320"/>
              <a:ext cx="333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Proposta recebida fora d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intervalo de acord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5800" y="3505320"/>
              <a:ext cx="5715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66"/>
                </a:buClr>
                <a:buFont typeface="Monotype Sorts" charset="2"/>
                <a:buChar char="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80"/>
                  </a:solidFill>
                  <a:latin typeface="Arial"/>
                </a:rPr>
                <a:t>Sair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22280" y="685800"/>
            <a:ext cx="5128560" cy="2107080"/>
            <a:chOff x="422280" y="685800"/>
            <a:chExt cx="5128560" cy="2107080"/>
          </a:xfrm>
        </p:grpSpPr>
        <p:sp>
          <p:nvSpPr>
            <p:cNvPr id="547" name=""/>
            <p:cNvSpPr/>
            <p:nvPr/>
          </p:nvSpPr>
          <p:spPr>
            <a:xfrm>
              <a:off x="1578600" y="1251000"/>
              <a:ext cx="397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e .....  Então </a:t>
              </a:r>
              <a:r>
                <a:rPr b="1" lang="en-US" sz="2200" spc="-1" strike="noStrike">
                  <a:solidFill>
                    <a:srgbClr val="336699"/>
                  </a:solidFill>
                  <a:latin typeface="Arial"/>
                </a:rPr>
                <a:t>Envia Aceitação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08240" y="1631880"/>
              <a:ext cx="0" cy="45720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2280" y="2089080"/>
              <a:ext cx="364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Proposta recebida dentro d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intervalo de acord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5800" y="685800"/>
              <a:ext cx="457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66"/>
                </a:buClr>
                <a:buFont typeface="Monotype Sorts" charset="2"/>
                <a:buChar char="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80"/>
                  </a:solidFill>
                  <a:latin typeface="Arial"/>
                </a:rPr>
                <a:t>Enviar Aceitação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F0E-CDCF-4189-8B18-04748B2169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3048120"/>
            <a:ext cx="6399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Fim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2160" y="2943360"/>
            <a:ext cx="895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Processo de tomada de decisão conjunta (entre dois neg.)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É comunicação, direta ou implícita, entre indivíduos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que estão tentando chegar a um acordo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para benefício mútuo” (H. Peyton Young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Negociação bilateral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2920" y="2673360"/>
            <a:ext cx="35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ocê tem o novo CD do U2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60360" y="2612880"/>
            <a:ext cx="31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m e ele custa 20 reais!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1840" y="320040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ocê poderia fazer por 15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57120" y="3200400"/>
            <a:ext cx="36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ão, mas posso fazer por 17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990720"/>
            <a:ext cx="4124160" cy="3504960"/>
            <a:chOff x="228600" y="990720"/>
            <a:chExt cx="4124160" cy="3504960"/>
          </a:xfrm>
        </p:grpSpPr>
        <p:grpSp>
          <p:nvGrpSpPr>
            <p:cNvPr id="103" name=""/>
            <p:cNvGrpSpPr/>
            <p:nvPr/>
          </p:nvGrpSpPr>
          <p:grpSpPr>
            <a:xfrm>
              <a:off x="233280" y="1295280"/>
              <a:ext cx="1388880" cy="1363320"/>
              <a:chOff x="233280" y="1295280"/>
              <a:chExt cx="1388880" cy="13633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00040" y="1295280"/>
                <a:ext cx="1122120" cy="993240"/>
                <a:chOff x="500040" y="1295280"/>
                <a:chExt cx="1122120" cy="99324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500040" y="1295280"/>
                  <a:ext cx="1099800" cy="993240"/>
                  <a:chOff x="500040" y="1295280"/>
                  <a:chExt cx="1099800" cy="9932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1380960" y="1777680"/>
                    <a:ext cx="218880" cy="10440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00040" y="1295280"/>
                    <a:ext cx="986040" cy="99324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1215360" y="1496520"/>
                  <a:ext cx="218880" cy="208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376280" y="1547640"/>
                  <a:ext cx="54720" cy="1044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flipV="1">
                  <a:off x="1074240" y="1812960"/>
                  <a:ext cx="547560" cy="312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443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44377"/>
                    </a:path>
                  </a:pathLst>
                </a:custGeom>
                <a:noFill/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233280" y="2290320"/>
                <a:ext cx="132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Arial"/>
                  </a:rPr>
                  <a:t>Comprador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8600" y="990720"/>
              <a:ext cx="4124160" cy="3504960"/>
            </a:xfrm>
            <a:custGeom>
              <a:avLst/>
              <a:gdLst>
                <a:gd name="textAreaLeft" fmla="*/ 0 w 4124160"/>
                <a:gd name="textAreaRight" fmla="*/ 2892600 w 4124160"/>
                <a:gd name="textAreaTop" fmla="*/ 145800 h 3504960"/>
                <a:gd name="textAreaBottom" fmla="*/ 335916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91240" y="990720"/>
            <a:ext cx="4298040" cy="3504960"/>
            <a:chOff x="4791240" y="990720"/>
            <a:chExt cx="4298040" cy="3504960"/>
          </a:xfrm>
        </p:grpSpPr>
        <p:grpSp>
          <p:nvGrpSpPr>
            <p:cNvPr id="114" name=""/>
            <p:cNvGrpSpPr/>
            <p:nvPr/>
          </p:nvGrpSpPr>
          <p:grpSpPr>
            <a:xfrm>
              <a:off x="7294680" y="1249200"/>
              <a:ext cx="1794600" cy="1359720"/>
              <a:chOff x="7294680" y="1249200"/>
              <a:chExt cx="1794600" cy="135972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7319160" y="1746360"/>
                <a:ext cx="236520" cy="10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294680" y="1249200"/>
                <a:ext cx="1794600" cy="1359720"/>
                <a:chOff x="7294680" y="1249200"/>
                <a:chExt cx="1794600" cy="135972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7443000" y="1249200"/>
                  <a:ext cx="1066320" cy="10238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7294680" y="1456920"/>
                  <a:ext cx="591480" cy="649080"/>
                  <a:chOff x="7294680" y="1456920"/>
                  <a:chExt cx="591480" cy="64908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>
                    <a:off x="7498080" y="1456920"/>
                    <a:ext cx="236880" cy="215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7501680" y="1509480"/>
                    <a:ext cx="59040" cy="10764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>
                    <a:off x="7294680" y="1782720"/>
                    <a:ext cx="59148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3443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344377"/>
                      </a:path>
                    </a:pathLst>
                  </a:custGeom>
                  <a:noFill/>
                  <a:ln w="93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>
                  <a:off x="7921080" y="2240640"/>
                  <a:ext cx="116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00"/>
                      </a:solidFill>
                      <a:latin typeface="Arial"/>
                    </a:rPr>
                    <a:t>Vendedor</a:t>
                  </a:r>
                  <a:endParaRPr b="0" lang="en-US" sz="18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 flipH="1">
              <a:off x="4791240" y="990720"/>
              <a:ext cx="4124160" cy="3504960"/>
            </a:xfrm>
            <a:custGeom>
              <a:avLst/>
              <a:gdLst>
                <a:gd name="textAreaLeft" fmla="*/ 360 w 4124160"/>
                <a:gd name="textAreaRight" fmla="*/ 2892960 w 4124160"/>
                <a:gd name="textAreaTop" fmla="*/ 145800 h 3504960"/>
                <a:gd name="textAreaBottom" fmla="*/ 335916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352760" y="2608200"/>
            <a:ext cx="438480" cy="287280"/>
          </a:xfrm>
          <a:prstGeom prst="leftRightArrow">
            <a:avLst>
              <a:gd name="adj1" fmla="val 50000"/>
              <a:gd name="adj2" fmla="val 30385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8862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echado!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onceitos envolvidos em uma negociação bilateral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D50-4EC5-47E0-AFB2-030C7726BF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2920" y="2673360"/>
            <a:ext cx="35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Você tem o novo CD do U2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0360" y="2612880"/>
            <a:ext cx="31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m e ele custa 20 reais!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2200" y="3200400"/>
            <a:ext cx="333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69696"/>
                </a:solidFill>
                <a:latin typeface="Arial"/>
              </a:rPr>
              <a:t>Você poderia fazer por 15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6969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7120" y="3200400"/>
            <a:ext cx="36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ão, mas posso fazer por 17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00040" y="1295280"/>
            <a:ext cx="1122120" cy="993960"/>
            <a:chOff x="500040" y="1295280"/>
            <a:chExt cx="1122120" cy="993960"/>
          </a:xfrm>
        </p:grpSpPr>
        <p:grpSp>
          <p:nvGrpSpPr>
            <p:cNvPr id="132" name=""/>
            <p:cNvGrpSpPr/>
            <p:nvPr/>
          </p:nvGrpSpPr>
          <p:grpSpPr>
            <a:xfrm>
              <a:off x="500040" y="1295280"/>
              <a:ext cx="1099800" cy="993960"/>
              <a:chOff x="500040" y="1295280"/>
              <a:chExt cx="1099800" cy="993960"/>
            </a:xfrm>
          </p:grpSpPr>
          <p:sp>
            <p:nvSpPr>
              <p:cNvPr id="133" name=""/>
              <p:cNvSpPr/>
              <p:nvPr/>
            </p:nvSpPr>
            <p:spPr>
              <a:xfrm>
                <a:off x="1380960" y="1778040"/>
                <a:ext cx="218880" cy="1044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0040" y="1295280"/>
                <a:ext cx="986040" cy="993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215360" y="1496880"/>
              <a:ext cx="218880" cy="208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6280" y="1548000"/>
              <a:ext cx="54720" cy="10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1074240" y="1813680"/>
              <a:ext cx="54756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4377"/>
                </a:path>
              </a:pathLst>
            </a:custGeom>
            <a:solidFill>
              <a:srgbClr val="969696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33280" y="2290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90720"/>
            <a:ext cx="4124160" cy="3504960"/>
          </a:xfrm>
          <a:custGeom>
            <a:avLst/>
            <a:gdLst>
              <a:gd name="textAreaLeft" fmla="*/ 0 w 4124160"/>
              <a:gd name="textAreaRight" fmla="*/ 2892600 w 4124160"/>
              <a:gd name="textAreaTop" fmla="*/ 145800 h 3504960"/>
              <a:gd name="textAreaBottom" fmla="*/ 335916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296120" y="1249200"/>
            <a:ext cx="1212480" cy="1024200"/>
            <a:chOff x="7296120" y="1249200"/>
            <a:chExt cx="1212480" cy="1024200"/>
          </a:xfrm>
        </p:grpSpPr>
        <p:sp>
          <p:nvSpPr>
            <p:cNvPr id="141" name=""/>
            <p:cNvSpPr/>
            <p:nvPr/>
          </p:nvSpPr>
          <p:spPr>
            <a:xfrm flipH="1">
              <a:off x="7319160" y="1746360"/>
              <a:ext cx="236520" cy="108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443000" y="1249200"/>
              <a:ext cx="1065240" cy="102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296120" y="1457280"/>
              <a:ext cx="591480" cy="648360"/>
              <a:chOff x="7296120" y="1457280"/>
              <a:chExt cx="591480" cy="64836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7499520" y="1457280"/>
                <a:ext cx="236880" cy="21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503120" y="1509840"/>
                <a:ext cx="59040" cy="107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7296120" y="1783080"/>
                <a:ext cx="591480" cy="32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443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44377"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7921800" y="22417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Vendedo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791240" y="990720"/>
            <a:ext cx="4124160" cy="3504960"/>
          </a:xfrm>
          <a:custGeom>
            <a:avLst/>
            <a:gdLst>
              <a:gd name="textAreaLeft" fmla="*/ 360 w 4124160"/>
              <a:gd name="textAreaRight" fmla="*/ 2892960 w 4124160"/>
              <a:gd name="textAreaTop" fmla="*/ 145800 h 3504960"/>
              <a:gd name="textAreaBottom" fmla="*/ 335916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2760" y="2608200"/>
            <a:ext cx="438480" cy="287280"/>
          </a:xfrm>
          <a:prstGeom prst="leftRightArrow">
            <a:avLst>
              <a:gd name="adj1" fmla="val 50000"/>
              <a:gd name="adj2" fmla="val 30385"/>
            </a:avLst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8862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echado!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onceitos envolvidos em uma negociação bilateral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6840" y="3048120"/>
            <a:ext cx="2972160" cy="2608560"/>
            <a:chOff x="456840" y="3048120"/>
            <a:chExt cx="2972160" cy="2608560"/>
          </a:xfrm>
        </p:grpSpPr>
        <p:sp>
          <p:nvSpPr>
            <p:cNvPr id="153" name=""/>
            <p:cNvSpPr/>
            <p:nvPr/>
          </p:nvSpPr>
          <p:spPr>
            <a:xfrm>
              <a:off x="456840" y="5257800"/>
              <a:ext cx="266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Bem em Negociaçã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6880" y="3048120"/>
              <a:ext cx="762120" cy="2209680"/>
            </a:xfrm>
            <a:custGeom>
              <a:avLst/>
              <a:gdLst/>
              <a:ahLst/>
              <a:rect l="l" t="t" r="r" b="b"/>
              <a:pathLst>
                <a:path w="480" h="1488">
                  <a:moveTo>
                    <a:pt x="288" y="0"/>
                  </a:moveTo>
                  <a:cubicBezTo>
                    <a:pt x="384" y="308"/>
                    <a:pt x="480" y="616"/>
                    <a:pt x="432" y="864"/>
                  </a:cubicBezTo>
                  <a:cubicBezTo>
                    <a:pt x="384" y="1112"/>
                    <a:pt x="192" y="1300"/>
                    <a:pt x="0" y="1488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654200" y="1828800"/>
            <a:ext cx="5715000" cy="3218400"/>
            <a:chOff x="1654200" y="1828800"/>
            <a:chExt cx="5715000" cy="3218400"/>
          </a:xfrm>
        </p:grpSpPr>
        <p:sp>
          <p:nvSpPr>
            <p:cNvPr id="156" name=""/>
            <p:cNvSpPr/>
            <p:nvPr/>
          </p:nvSpPr>
          <p:spPr>
            <a:xfrm>
              <a:off x="3766320" y="464832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Jogadore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54200" y="1828800"/>
              <a:ext cx="2819520" cy="2666880"/>
            </a:xfrm>
            <a:custGeom>
              <a:avLst/>
              <a:gdLst/>
              <a:ahLst/>
              <a:rect l="l" t="t" r="r" b="b"/>
              <a:pathLst>
                <a:path w="1776" h="1680">
                  <a:moveTo>
                    <a:pt x="0" y="0"/>
                  </a:moveTo>
                  <a:cubicBezTo>
                    <a:pt x="476" y="100"/>
                    <a:pt x="952" y="200"/>
                    <a:pt x="1248" y="480"/>
                  </a:cubicBezTo>
                  <a:cubicBezTo>
                    <a:pt x="1544" y="760"/>
                    <a:pt x="1660" y="1220"/>
                    <a:pt x="1776" y="168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549680" y="1828800"/>
              <a:ext cx="2819520" cy="2666880"/>
            </a:xfrm>
            <a:custGeom>
              <a:avLst/>
              <a:gdLst/>
              <a:ahLst/>
              <a:rect l="l" t="t" r="r" b="b"/>
              <a:pathLst>
                <a:path w="1776" h="1680">
                  <a:moveTo>
                    <a:pt x="0" y="0"/>
                  </a:moveTo>
                  <a:cubicBezTo>
                    <a:pt x="476" y="100"/>
                    <a:pt x="952" y="200"/>
                    <a:pt x="1248" y="480"/>
                  </a:cubicBezTo>
                  <a:cubicBezTo>
                    <a:pt x="1544" y="760"/>
                    <a:pt x="1660" y="1220"/>
                    <a:pt x="1776" y="168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039560" y="4952880"/>
            <a:ext cx="945720" cy="1084680"/>
            <a:chOff x="4039560" y="4952880"/>
            <a:chExt cx="945720" cy="1084680"/>
          </a:xfrm>
        </p:grpSpPr>
        <p:sp>
          <p:nvSpPr>
            <p:cNvPr id="160" name=""/>
            <p:cNvSpPr/>
            <p:nvPr/>
          </p:nvSpPr>
          <p:spPr>
            <a:xfrm>
              <a:off x="4039560" y="563868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Açõe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5680" y="495288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05520" y="5029200"/>
            <a:ext cx="2656440" cy="837720"/>
            <a:chOff x="5105520" y="5029200"/>
            <a:chExt cx="2656440" cy="837720"/>
          </a:xfrm>
        </p:grpSpPr>
        <p:sp>
          <p:nvSpPr>
            <p:cNvPr id="163" name=""/>
            <p:cNvSpPr/>
            <p:nvPr/>
          </p:nvSpPr>
          <p:spPr>
            <a:xfrm>
              <a:off x="6477840" y="50292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Propost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105520" y="5181120"/>
              <a:ext cx="137160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4640" y="5486400"/>
            <a:ext cx="2981880" cy="1236960"/>
            <a:chOff x="5714640" y="5486400"/>
            <a:chExt cx="2981880" cy="1236960"/>
          </a:xfrm>
        </p:grpSpPr>
        <p:sp>
          <p:nvSpPr>
            <p:cNvPr id="166" name=""/>
            <p:cNvSpPr/>
            <p:nvPr/>
          </p:nvSpPr>
          <p:spPr>
            <a:xfrm>
              <a:off x="5714640" y="6324480"/>
              <a:ext cx="29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Rodada de Negociaçã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548640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257-FF0E-4F7B-A74C-B4B270EA9C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onceitos envolvidos em uma negociação bilateral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657720" y="5045040"/>
            <a:ext cx="794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Um par de agentes negociadores que expõe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esejos contraditórios e então movem-se para um acordo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através de um processo de fazer concessões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ou de buscar novas alternativas” (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H. Raiffa</a:t>
            </a: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62640" y="4098960"/>
            <a:ext cx="1981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848240" y="2436840"/>
            <a:ext cx="5837040" cy="703800"/>
            <a:chOff x="1848240" y="2436840"/>
            <a:chExt cx="5837040" cy="703800"/>
          </a:xfrm>
        </p:grpSpPr>
        <p:grpSp>
          <p:nvGrpSpPr>
            <p:cNvPr id="172" name=""/>
            <p:cNvGrpSpPr/>
            <p:nvPr/>
          </p:nvGrpSpPr>
          <p:grpSpPr>
            <a:xfrm>
              <a:off x="4895640" y="2436840"/>
              <a:ext cx="2789640" cy="430200"/>
              <a:chOff x="4895640" y="2436840"/>
              <a:chExt cx="2789640" cy="430200"/>
            </a:xfrm>
          </p:grpSpPr>
          <p:sp>
            <p:nvSpPr>
              <p:cNvPr id="173" name=""/>
              <p:cNvSpPr/>
              <p:nvPr/>
            </p:nvSpPr>
            <p:spPr>
              <a:xfrm flipH="1">
                <a:off x="4895640" y="2867040"/>
                <a:ext cx="205740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82880" y="2436840"/>
                <a:ext cx="210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Fluxo Vendedor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848240" y="2624040"/>
              <a:ext cx="2819160" cy="516600"/>
              <a:chOff x="1848240" y="2624040"/>
              <a:chExt cx="2819160" cy="516600"/>
            </a:xfrm>
          </p:grpSpPr>
          <p:sp>
            <p:nvSpPr>
              <p:cNvPr id="176" name=""/>
              <p:cNvSpPr/>
              <p:nvPr/>
            </p:nvSpPr>
            <p:spPr>
              <a:xfrm>
                <a:off x="2076480" y="2624040"/>
                <a:ext cx="25909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48240" y="2741760"/>
                <a:ext cx="230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Fluxo Comprador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580560" y="730080"/>
            <a:ext cx="2570400" cy="2563560"/>
            <a:chOff x="3580560" y="730080"/>
            <a:chExt cx="2570400" cy="2563560"/>
          </a:xfrm>
        </p:grpSpPr>
        <p:grpSp>
          <p:nvGrpSpPr>
            <p:cNvPr id="179" name=""/>
            <p:cNvGrpSpPr/>
            <p:nvPr/>
          </p:nvGrpSpPr>
          <p:grpSpPr>
            <a:xfrm>
              <a:off x="3580560" y="730080"/>
              <a:ext cx="2570400" cy="693360"/>
              <a:chOff x="3580560" y="730080"/>
              <a:chExt cx="2570400" cy="6933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133880" y="1220400"/>
                <a:ext cx="1160280" cy="203040"/>
                <a:chOff x="4133880" y="1220400"/>
                <a:chExt cx="1160280" cy="2030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133880" y="1315080"/>
                  <a:ext cx="1142640" cy="0"/>
                </a:xfrm>
                <a:prstGeom prst="line">
                  <a:avLst/>
                </a:prstGeom>
                <a:ln w="572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33880" y="1239480"/>
                  <a:ext cx="0" cy="183960"/>
                </a:xfrm>
                <a:prstGeom prst="line">
                  <a:avLst/>
                </a:prstGeom>
                <a:ln w="572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294160" y="1220400"/>
                  <a:ext cx="0" cy="183960"/>
                </a:xfrm>
                <a:prstGeom prst="line">
                  <a:avLst/>
                </a:prstGeom>
                <a:ln w="572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580560" y="730080"/>
                <a:ext cx="25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Intervalo de Acordo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127400" y="1342800"/>
              <a:ext cx="0" cy="1950840"/>
            </a:xfrm>
            <a:prstGeom prst="line">
              <a:avLst/>
            </a:prstGeom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276880" y="1404720"/>
              <a:ext cx="17280" cy="1888920"/>
            </a:xfrm>
            <a:prstGeom prst="line">
              <a:avLst/>
            </a:prstGeom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771560" y="4114800"/>
            <a:ext cx="5867280" cy="124920"/>
            <a:chOff x="1771560" y="4114800"/>
            <a:chExt cx="5867280" cy="124920"/>
          </a:xfrm>
        </p:grpSpPr>
        <p:sp>
          <p:nvSpPr>
            <p:cNvPr id="188" name=""/>
            <p:cNvSpPr/>
            <p:nvPr/>
          </p:nvSpPr>
          <p:spPr>
            <a:xfrm>
              <a:off x="1771560" y="4165200"/>
              <a:ext cx="58492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71560" y="4114800"/>
              <a:ext cx="0" cy="1224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38840" y="4117320"/>
              <a:ext cx="0" cy="1224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51560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83240" y="4327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44240" y="1708200"/>
            <a:ext cx="4380480" cy="2406600"/>
            <a:chOff x="1344240" y="1708200"/>
            <a:chExt cx="4380480" cy="2406600"/>
          </a:xfrm>
        </p:grpSpPr>
        <p:sp>
          <p:nvSpPr>
            <p:cNvPr id="194" name=""/>
            <p:cNvSpPr/>
            <p:nvPr/>
          </p:nvSpPr>
          <p:spPr>
            <a:xfrm>
              <a:off x="1771560" y="2441520"/>
              <a:ext cx="3505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44240" y="1982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0680" y="1936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63040" y="17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Comprad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71560" y="2436840"/>
              <a:ext cx="0" cy="167796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2720" y="2943360"/>
            <a:ext cx="4550040" cy="1222200"/>
            <a:chOff x="3582720" y="2943360"/>
            <a:chExt cx="4550040" cy="1222200"/>
          </a:xfrm>
        </p:grpSpPr>
        <p:grpSp>
          <p:nvGrpSpPr>
            <p:cNvPr id="200" name=""/>
            <p:cNvGrpSpPr/>
            <p:nvPr/>
          </p:nvGrpSpPr>
          <p:grpSpPr>
            <a:xfrm>
              <a:off x="3582720" y="2943360"/>
              <a:ext cx="4550040" cy="856080"/>
              <a:chOff x="3582720" y="2943360"/>
              <a:chExt cx="4550040" cy="856080"/>
            </a:xfrm>
          </p:grpSpPr>
          <p:sp>
            <p:nvSpPr>
              <p:cNvPr id="201" name=""/>
              <p:cNvSpPr/>
              <p:nvPr/>
            </p:nvSpPr>
            <p:spPr>
              <a:xfrm>
                <a:off x="4133880" y="2989440"/>
                <a:ext cx="350532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68720" y="29433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82720" y="32320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17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54520" y="3400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Vendedor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639200" y="2989440"/>
              <a:ext cx="0" cy="11761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344240" y="730080"/>
            <a:ext cx="6788520" cy="4012200"/>
            <a:chOff x="1344240" y="730080"/>
            <a:chExt cx="6788520" cy="4012200"/>
          </a:xfrm>
        </p:grpSpPr>
        <p:sp>
          <p:nvSpPr>
            <p:cNvPr id="207" name=""/>
            <p:cNvSpPr/>
            <p:nvPr/>
          </p:nvSpPr>
          <p:spPr>
            <a:xfrm>
              <a:off x="5127480" y="1752480"/>
              <a:ext cx="762120" cy="685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3048120"/>
              <a:ext cx="762120" cy="685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895640" y="2867040"/>
              <a:ext cx="2057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2880" y="2436840"/>
              <a:ext cx="210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Fluxo Vended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76480" y="2624040"/>
              <a:ext cx="2590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48240" y="2741760"/>
              <a:ext cx="23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Fluxo Comprad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133880" y="1220760"/>
              <a:ext cx="1160280" cy="203040"/>
              <a:chOff x="4133880" y="1220760"/>
              <a:chExt cx="1160280" cy="203040"/>
            </a:xfrm>
          </p:grpSpPr>
          <p:sp>
            <p:nvSpPr>
              <p:cNvPr id="214" name=""/>
              <p:cNvSpPr/>
              <p:nvPr/>
            </p:nvSpPr>
            <p:spPr>
              <a:xfrm>
                <a:off x="4133880" y="1315440"/>
                <a:ext cx="1142640" cy="0"/>
              </a:xfrm>
              <a:prstGeom prst="line">
                <a:avLst/>
              </a:prstGeom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33880" y="1239840"/>
                <a:ext cx="0" cy="183960"/>
              </a:xfrm>
              <a:prstGeom prst="line">
                <a:avLst/>
              </a:prstGeom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94160" y="1220760"/>
                <a:ext cx="0" cy="183960"/>
              </a:xfrm>
              <a:prstGeom prst="line">
                <a:avLst/>
              </a:prstGeom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580560" y="73008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Intervalo de Acordo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27400" y="1343160"/>
              <a:ext cx="0" cy="1950840"/>
            </a:xfrm>
            <a:prstGeom prst="line">
              <a:avLst/>
            </a:prstGeom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276880" y="1405080"/>
              <a:ext cx="17280" cy="1888920"/>
            </a:xfrm>
            <a:prstGeom prst="line">
              <a:avLst/>
            </a:prstGeom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71560" y="4165560"/>
              <a:ext cx="5850000" cy="0"/>
            </a:xfrm>
            <a:prstGeom prst="line">
              <a:avLst/>
            </a:prstGeom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71560" y="4114800"/>
              <a:ext cx="0" cy="122400"/>
            </a:xfrm>
            <a:prstGeom prst="line">
              <a:avLst/>
            </a:prstGeom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39200" y="4118040"/>
              <a:ext cx="0" cy="122040"/>
            </a:xfrm>
            <a:prstGeom prst="line">
              <a:avLst/>
            </a:prstGeom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15600" y="4267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83240" y="4327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71560" y="2441520"/>
              <a:ext cx="35053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44240" y="1982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61040" y="191304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699"/>
                  </a:solidFill>
                  <a:latin typeface="Arial"/>
                </a:rPr>
                <a:t>18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3040" y="17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Comprad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71560" y="2436840"/>
              <a:ext cx="0" cy="1677960"/>
            </a:xfrm>
            <a:prstGeom prst="line">
              <a:avLst/>
            </a:prstGeom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33880" y="2989440"/>
              <a:ext cx="35053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872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83080" y="320832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699"/>
                  </a:solidFill>
                  <a:latin typeface="Arial"/>
                </a:rPr>
                <a:t>17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54520" y="3400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Vended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39200" y="2989440"/>
              <a:ext cx="0" cy="1201680"/>
            </a:xfrm>
            <a:prstGeom prst="line">
              <a:avLst/>
            </a:prstGeom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8800" y="3571920"/>
              <a:ext cx="114300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441760" y="2449440"/>
              <a:ext cx="75960" cy="19051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91760" y="43434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alores Reservado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19B-78C6-42FD-B866-E27DAC8DFF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426960"/>
            <a:ext cx="7618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Negociação Multi-lateral (1-N)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80880" y="2895120"/>
            <a:ext cx="8382240" cy="15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Uma negociação 1 para N é classicamente vista como um processo de leilão. Um leilão é um modelo no qual um agente fornecedor apresenta um bem a negociar, e vários clientes fazem propostas para conseguir o bem.</a:t>
            </a:r>
            <a:r>
              <a:rPr b="1" lang="pt-PT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ipos de Leilão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Leilão Inglês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Vendedor coloca item para vender com preço inicial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mpradores fazem proposta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aior proposta vence e paga o valor da proposta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99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Leilão Primeiro Preço Selado</a:t>
            </a:r>
            <a:endParaRPr b="1" lang="en-US" sz="26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Vendedor coloca item para vender com preço inicial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mpradores fazem propostas seladas para o mediador do leilã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ediador abre as proposta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aior proposta vence e paga o preço da proposta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16D-796B-4EF1-87A9-0CD11D93B7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7:12:33Z</dcterms:created>
  <dc:creator>cesar</dc:creator>
  <dc:description/>
  <dc:language>en-US</dc:language>
  <cp:lastModifiedBy>Geber</cp:lastModifiedBy>
  <dcterms:modified xsi:type="dcterms:W3CDTF">2001-05-21T16:51:53Z</dcterms:modified>
  <cp:revision>81</cp:revision>
  <dc:subject/>
  <dc:title>Slide sem título </dc:title>
</cp:coreProperties>
</file>