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4092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4092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4092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4092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86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00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4092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8600" y="44092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00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8600" y="44092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65840" y="44092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02720" y="4409280"/>
            <a:ext cx="279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4092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409280"/>
            <a:ext cx="8686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660066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660066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66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8080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omic Sans MS"/>
              <a:buChar char="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336699"/>
              </a:buClr>
              <a:buSzPct val="50000"/>
              <a:buFont typeface="Monotype Sort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mic Sans MS"/>
              </a:rPr>
              <a:t>Fifth Outline Level</a:t>
            </a:r>
            <a:endParaRPr b="0" lang="en-US" sz="1400" spc="-1" strike="noStrike">
              <a:solidFill>
                <a:srgbClr val="660066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660066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mic Sans MS"/>
              </a:rPr>
              <a:t>Sixth Outline Level</a:t>
            </a:r>
            <a:endParaRPr b="0" lang="en-US" sz="1400" spc="-1" strike="noStrike">
              <a:solidFill>
                <a:srgbClr val="660066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660066"/>
              </a:buClr>
              <a:buSzPct val="5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mic Sans MS"/>
              </a:rPr>
              <a:t>Seventh Outline Level</a:t>
            </a:r>
            <a:endParaRPr b="0" lang="en-US" sz="1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Processamento de Linguagem Natural:</a:t>
            </a:r>
            <a:br>
              <a:rPr sz="3200"/>
            </a:b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Visão Geral e Aplicações na Internet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Comic Sans MS"/>
              </a:rPr>
              <a:t>Jacques Robin</a:t>
            </a:r>
            <a:endParaRPr b="0" lang="en-US" sz="2400" spc="-1" strike="noStrike">
              <a:solidFill>
                <a:srgbClr val="00808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80"/>
                </a:solidFill>
                <a:latin typeface="Comic Sans MS"/>
              </a:rPr>
              <a:t>CIn-UFPE</a:t>
            </a:r>
            <a:endParaRPr b="0" lang="en-US" sz="2400" spc="-1" strike="noStrike">
              <a:solidFill>
                <a:srgbClr val="008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Tipos de aplicações da TA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DISSEMINAÇÃO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Objetivo: texto de alta qualidade para muitos leitore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radução de uma para várias linguagen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Usuário produz texto fonte (domínio controlado, vocabulário, estilo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onto forte: Alta qualidad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onto fraco: representação dos itens mais detalhada, menor abrangênci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230040" y="343044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3040" y="266868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3040" y="343044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3040" y="419256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39880" y="2972880"/>
            <a:ext cx="455400" cy="760680"/>
          </a:xfrm>
          <a:prstGeom prst="line">
            <a:avLst/>
          </a:prstGeom>
          <a:ln w="255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880" y="3733920"/>
            <a:ext cx="455400" cy="0"/>
          </a:xfrm>
          <a:prstGeom prst="line">
            <a:avLst/>
          </a:prstGeom>
          <a:ln w="255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9880" y="3735360"/>
            <a:ext cx="455400" cy="760320"/>
          </a:xfrm>
          <a:prstGeom prst="line">
            <a:avLst/>
          </a:prstGeom>
          <a:ln w="255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Tipos de aplicações da TA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57040" y="16761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ASSIMILAÇÃO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Objetivo: leitura individua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radução de muitas linguagens para um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Usuários lêem textos de outros (não controlam o domínio, vocabulário e estilo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onto forte: mais automação possível, maior abrangênci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onto fraco: baixa qualidad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30040" y="343044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040" y="259236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" y="426888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7960" y="3430440"/>
            <a:ext cx="606600" cy="530280"/>
          </a:xfrm>
          <a:prstGeom prst="rect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39880" y="3887280"/>
            <a:ext cx="608040" cy="608040"/>
          </a:xfrm>
          <a:prstGeom prst="line">
            <a:avLst/>
          </a:prstGeom>
          <a:ln w="255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9880" y="3733920"/>
            <a:ext cx="684000" cy="0"/>
          </a:xfrm>
          <a:prstGeom prst="line">
            <a:avLst/>
          </a:prstGeom>
          <a:ln w="255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9880" y="2820960"/>
            <a:ext cx="608040" cy="760320"/>
          </a:xfrm>
          <a:prstGeom prst="line">
            <a:avLst/>
          </a:prstGeom>
          <a:ln w="255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Recuperação de Informação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Identificar documentos relevantes para uma necessidade de informação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Sem PLN: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alavras-chave e conectores lógic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usência de sintaxe e semântic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baixa precisão e evocação (cobertura, recall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recisão =   # relev recup / # total recup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vocação = # relev recup / # total relev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Com PLN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OS-tagger, analisador morfológico, tesaurus, parser, modelo probabilístico da língu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elhor aproximação do </a:t>
            </a:r>
            <a:r>
              <a:rPr b="1" i="1" lang="pt-BR" sz="2000" spc="-1" strike="noStrike">
                <a:solidFill>
                  <a:srgbClr val="660066"/>
                </a:solidFill>
                <a:latin typeface="Comic Sans MS"/>
              </a:rPr>
              <a:t>conceito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procurad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elhor precisão e evocaçã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Classificação de Texto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Classes e indicações estruturais e/ou semânticas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x: call for paper, FAQ, bibliografia, artigo de jornal, loja virtual, etc.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Bem-sucedido em até 90% dos casos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Usado em conjunto com técnicas de Recuperação da Informação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ex.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O termo “cru” refere-se a óleo 100% das vezes no </a:t>
            </a: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Wall Street Journa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Extração de dados do texto: exemplo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1904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exto: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Pillsbury surged 3.75 to 62 in Big Board composite trading of 3.1 million shares after Britain’s grand metropolitan raised its hostile tender offer by $3 a share to $63. The company promptly rejected the sweetened bid, which came after the two sides couldn’t agree on friendly terms over the weekend.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emplate extraído: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orpTakeoverCore(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ype:  hostile,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arget: “Pillsbury”.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uitor: “Grand Metropolitan”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harePrice: 63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tockExchange: nys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volume: 3.1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ffectOnStock: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   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up(from:3.75, to: 62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Geração de resumos textuais de estatísticas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0066"/>
                </a:solidFill>
                <a:latin typeface="Comic Sans MS"/>
              </a:rPr>
              <a:t>Intuitivo: familiar para usuário comum (ex, executivo)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0066"/>
                </a:solidFill>
                <a:latin typeface="Comic Sans MS"/>
              </a:rPr>
              <a:t>Conciso: expressa apenas as estatísticas interessantes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0066"/>
                </a:solidFill>
                <a:latin typeface="Comic Sans MS"/>
              </a:rPr>
              <a:t>Flexível: sem limite de dimensionalidade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0066"/>
                </a:solidFill>
                <a:latin typeface="Comic Sans MS"/>
              </a:rPr>
              <a:t>Expressivo: pode expressar causalidade e julgamentos subjetivos junto com os fatos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660066"/>
                </a:solidFill>
                <a:latin typeface="Comic Sans MS"/>
              </a:rPr>
              <a:t>A word is worth a 1,000 graphics!  :)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057320" y="5486400"/>
            <a:ext cx="1216080" cy="933480"/>
          </a:xfrm>
          <a:prstGeom prst="flowChartMagneticDisk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BD Relacional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0520" y="2362320"/>
            <a:ext cx="1828800" cy="15238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660066"/>
                </a:solidFill>
                <a:latin typeface="Arial"/>
              </a:rPr>
              <a:t>de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Arial"/>
              </a:rPr>
              <a:t>Conhecimento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05520"/>
            <a:ext cx="1757520" cy="12952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Data Warehouse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Dimensional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1160" y="2666880"/>
            <a:ext cx="1546200" cy="1067040"/>
          </a:xfrm>
          <a:prstGeom prst="rect">
            <a:avLst/>
          </a:prstGeom>
          <a:solidFill>
            <a:srgbClr val="33ccff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Aprendizagem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Mineração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de Dados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12000" y="4343400"/>
            <a:ext cx="1547640" cy="1066680"/>
          </a:xfrm>
          <a:prstGeom prst="rect">
            <a:avLst/>
          </a:prstGeom>
          <a:solidFill>
            <a:srgbClr val="33ccff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Geração de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Linguagem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Natural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819520"/>
            <a:ext cx="1523880" cy="485640"/>
          </a:xfrm>
          <a:prstGeom prst="rightArrow">
            <a:avLst>
              <a:gd name="adj1" fmla="val 50000"/>
              <a:gd name="adj2" fmla="val 78447"/>
            </a:avLst>
          </a:prstGeom>
          <a:solidFill>
            <a:srgbClr val="ffccff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5762520"/>
            <a:ext cx="1752480" cy="486000"/>
          </a:xfrm>
          <a:prstGeom prst="rightArrow">
            <a:avLst>
              <a:gd name="adj1" fmla="val 50000"/>
              <a:gd name="adj2" fmla="val 90148"/>
            </a:avLst>
          </a:prstGeom>
          <a:solidFill>
            <a:srgbClr val="00808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1440" y="3429000"/>
            <a:ext cx="447840" cy="2209680"/>
          </a:xfrm>
          <a:prstGeom prst="downArrow">
            <a:avLst>
              <a:gd name="adj1" fmla="val 50000"/>
              <a:gd name="adj2" fmla="val 123352"/>
            </a:avLst>
          </a:prstGeom>
          <a:solidFill>
            <a:srgbClr val="ffccff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3120" y="3733920"/>
            <a:ext cx="449280" cy="1523880"/>
          </a:xfrm>
          <a:prstGeom prst="upArrow">
            <a:avLst>
              <a:gd name="adj1" fmla="val 50000"/>
              <a:gd name="adj2" fmla="val 84796"/>
            </a:avLst>
          </a:prstGeom>
          <a:solidFill>
            <a:srgbClr val="00808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384600">
            <a:off x="3078000" y="2512440"/>
            <a:ext cx="447480" cy="3540240"/>
          </a:xfrm>
          <a:prstGeom prst="downArrow">
            <a:avLst>
              <a:gd name="adj1" fmla="val 50000"/>
              <a:gd name="adj2" fmla="val 197788"/>
            </a:avLst>
          </a:prstGeom>
          <a:solidFill>
            <a:srgbClr val="00808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2895480"/>
            <a:ext cx="1523880" cy="486000"/>
          </a:xfrm>
          <a:prstGeom prst="rightArrow">
            <a:avLst>
              <a:gd name="adj1" fmla="val 50000"/>
              <a:gd name="adj2" fmla="val 78389"/>
            </a:avLst>
          </a:prstGeom>
          <a:solidFill>
            <a:srgbClr val="00808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1360" y="3886200"/>
            <a:ext cx="447480" cy="457200"/>
          </a:xfrm>
          <a:prstGeom prst="downArrow">
            <a:avLst>
              <a:gd name="adj1" fmla="val 50000"/>
              <a:gd name="adj2" fmla="val 25543"/>
            </a:avLst>
          </a:prstGeom>
          <a:solidFill>
            <a:srgbClr val="00808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1360" y="5410080"/>
            <a:ext cx="449280" cy="609840"/>
          </a:xfrm>
          <a:prstGeom prst="downArrow">
            <a:avLst>
              <a:gd name="adj1" fmla="val 50000"/>
              <a:gd name="adj2" fmla="val 33934"/>
            </a:avLst>
          </a:prstGeom>
          <a:solidFill>
            <a:srgbClr val="00808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733920"/>
            <a:ext cx="2666880" cy="1066680"/>
          </a:xfrm>
          <a:prstGeom prst="rect">
            <a:avLst/>
          </a:prstGeom>
          <a:solidFill>
            <a:srgbClr val="33ccff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Extração de Informação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Interpretação de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Linguagem Natural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666880"/>
            <a:ext cx="2111400" cy="7621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Arquivos de Log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Páginas Web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6019920"/>
            <a:ext cx="2111400" cy="380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66"/>
                </a:solidFill>
                <a:latin typeface="Comic Sans MS"/>
              </a:rPr>
              <a:t>Resumo na Web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4240" y="5105520"/>
            <a:ext cx="7878600" cy="13716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81160" y="51811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No ano passado, as variações de vendas mais incomuns foram: 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lvl="2" marL="1127160" indent="-221400">
              <a:spcBef>
                <a:spcPts val="400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Soda Diet com decrescimento de 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Comic Sans MS"/>
                <a:hlinkClick r:id="rId2" action="ppaction://hlinksldjump"/>
              </a:rPr>
              <a:t>40%</a:t>
            </a: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 na região nordeste de julho a agosto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lvl="2" marL="1127160" indent="-221400">
              <a:spcBef>
                <a:spcPts val="400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Cerveja Bavaria com crescimento de 42% nacional de setembro a outubro;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  <a:p>
            <a:pPr lvl="2" marL="1127160" indent="-221400">
              <a:spcBef>
                <a:spcPts val="400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...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Resumos textuais de descoberta de conhecimento em BD: exemplo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1440"/>
            <a:ext cx="66294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Avg.Sales%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Product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Jul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Aug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Sep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Oct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Nov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Dec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Birch-B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12/s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3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42/s4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10/s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Chery-S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5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9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5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5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Cola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1/i3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8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7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Cream-S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8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3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1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10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Diet-B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0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6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Diet-C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7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7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2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8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Diet-S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4/i4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9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5/i4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3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0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Grape-S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3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9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8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Jolt-c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6/s2/i3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0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0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Kiwi-S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3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1/i3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0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1/i3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Old-B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7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0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3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3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Orange-S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1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6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4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9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Saspria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5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-10/i2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2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-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1400" spc="-1" strike="noStrike" u="sng">
                <a:solidFill>
                  <a:srgbClr val="660066"/>
                </a:solidFill>
                <a:uFillTx/>
                <a:latin typeface="Comic Sans MS"/>
              </a:rPr>
              <a:t>5/i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Exemplo didático de PLN: comunicação entre agentes exploradores do mundo do wumpus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2280" y="1905120"/>
            <a:ext cx="4305600" cy="4762440"/>
            <a:chOff x="152280" y="1905120"/>
            <a:chExt cx="4305600" cy="47624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52280" y="1905120"/>
              <a:ext cx="430560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927360" y="46479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cc33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" y="5181480"/>
              <a:ext cx="838080" cy="83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4040" y="571500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cc33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:</a:t>
            </a: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Cheiro um fedor em [1,2].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 voce?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B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“I am in [2,1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There is a breeze but no stench.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So it is in right in front of  you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Shoot it!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Comunicação no mundo do wumpus: </a:t>
            </a:r>
            <a:br>
              <a:rPr sz="3200"/>
            </a:b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conteúdo implícito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:</a:t>
            </a: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Cheiro um fedor em [1,2].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 voce?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B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“I am in [2,1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There is a breeze but no stench.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So he is in right in front of  you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Shoot it!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Estou em [1,2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Cheiro um fedor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ntao o wumpus esta em [1,3] ou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[2,2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Onde voce esta?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O que voce percebe?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B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I am in [2,1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I feel a breeze.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But I do not smell any stench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Therefore the wumpus is not in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[2,2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It is thus in [1,3], right in front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of  you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Shoot it!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Comunicação no mundo do wumpus: </a:t>
            </a:r>
            <a:br>
              <a:rPr sz="3200"/>
            </a:b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paráfrases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Estou em [1,2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Cheiro um fedor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ntao o wumpus esta em [1,3] ou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[2,2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Onde voce esta?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O que voce percebe?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B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I am in [2,1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I feel a breeze.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But I do not smell any stench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Therefore the wumpus is not in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[2,2]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It is thus in [1,3], right in front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of  you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Shoot it!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Aqui em [1,2], esta fedendo, porem ha um wunpus ou na minha frente ou na minha direita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Por favor me informe da sua posicao e das suas percepcoes.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B: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"My only perception here in [2,1] is  a breeze.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    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Therefore there is a pit in [2,2] and the bastard is right in front of you, kill it right now!."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Processamento de Linguagem Natural (PLN)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Dados estruturados x texto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intaxe e semântica: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08440" indent="-2214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limitadíssima x ilimitada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08440" indent="-2214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fornecida (implicitamente) x a ser recuperada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resente e futuro: dados semi-estruturados (Web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Linguagem natural x linguagem artificial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ontos comuns: composição de símbolos com sentidos associad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diferenças: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08440" indent="-2214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tamanho (gramática, </a:t>
            </a: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símbolos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sentidos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08440" indent="-2214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irregularidade (excepções, composicionalidade parcial)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08440" indent="-2214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ambigüidade e paráfrase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08440" indent="-2214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conteúdo implícito (contextos discursivo, enciclopédico, interpessoal)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Arquitetura de sistemas de PL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685800"/>
          <a:ext cx="853416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85800"/>
                    <a:ext cx="8534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Tokenization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Tokenization + Morfologia: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identificação dos elementos do vocabulário de símbol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decompor documento em unidades atômicas que permitem um processamento sintático e semântico </a:t>
            </a: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composicional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Tokenization: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decomposição d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documento em parágrafo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parágrafo em oraçõe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orações em palavra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ais complexo que parece: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x, “Sex 22/12, festa e-commerce no Dr. Froid -- patrocínios Bom Preço e I.B.M. do Brasil.”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0066"/>
                </a:solidFill>
                <a:latin typeface="Comic Sans MS"/>
              </a:rPr>
              <a:t>Línguas asiáticas</a:t>
            </a:r>
            <a:r>
              <a:rPr b="0" i="1" lang="pt-BR" sz="16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Documentos formatados e hipertexto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Documentos formatados e hipertexto: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extos da maioria das aplicações prática atuai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omplica tokenização (e não interesse lingüístas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as formatação embute precioso significado implícito!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Formatação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Decomposição em capítulos e seçõe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ítulos, encabeçada, rodapés, nota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ublinhados e variações de fonte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Listas de marcadores e/ou númer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ncabeçada com informação semi-estruturada (</a:t>
            </a: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ex,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e-mails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Hipertexto: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Linearidade do texto substituído pela estrutura de grafo do hiperdocumento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Frames, páginas, link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Exemplo de tokenização não trivial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Subject: Returned mail: User unknown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   </a:t>
            </a: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Date: Wed, 2 Dec 1998 16:26:07 -0300 (EST)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   </a:t>
            </a: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From:  &lt;MAILER-DAEMON@di.ufpe.br&gt;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     </a:t>
            </a: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To:  &lt;jr@di.ufpe.br&gt;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The original message was received at Wed, 2 Dec 1998 16:26:06 -0300 (EST)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from localhost [127.0.0.1]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----- The following addresses had permanent fatal errors ----- &lt;depto.cursos.posgrad.taci2&gt;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   </a:t>
            </a: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----- Transcript of session follows -----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... while talking to recife.di.ufpe.br.: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&gt;&gt;&gt; RCPT To:&lt;depto.cursos.posgrad.taci2@di.ufpe.br&gt;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&lt;&lt;&lt; 550 &lt;depto.cursos.posgrad.taci2@di.ufpe.br&gt;... User unknown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550 &lt;depto.cursos.posgrad.taci2&gt;... User unknown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Reporting-MTA: dns; camaragibe.di.ufpe.br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Received-From-MTA: dns; localhost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Arrival-Date: Wed, 2 Dec 1998 16:26:06 -0300 (EST)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Final-Recipient: rfc822; depto.cursos.posgrad.taci2@di.ufpe.br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Action: failed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Status: 5.1.1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Remote-MTA: dns; recife.di.ufpe.br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Diagnostic-Code: smtp; 550 &lt;depto.cursos.posgrad.taci2@di.ufpe.br&gt;... User unknown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Last-Attempt-Date: Wed, 2 Dec 1998 16:26:07 -0300 (EST)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Subject:  Re: Recuperacao adiada para proxima 5a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Date: Wed, 02 Dec 1998 16:26:05 -0300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From: Jacques Robin &lt;jr@di.ufpe.br&gt;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Organization: DI-UFPE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To: rgv@di.ufpe.br, glr@di.ufpe.br, reviegas@zaz.com.br,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      </a:t>
            </a: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jcsn@di.ufpe.br, mgs@di.ufpe.br, rmsl@di.ufpe.br,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      </a:t>
            </a: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rlacerda@hotlink.com.br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CC:  depto.cursos.posgrad.taci2@di.ufpe.br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6699"/>
                </a:solidFill>
                <a:latin typeface="Comic Sans MS"/>
              </a:rPr>
              <a:t>References: 1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8080"/>
                </a:solidFill>
                <a:latin typeface="Comic Sans MS"/>
              </a:rPr>
              <a:t>Reginaldo Valadares wrote: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8080"/>
                </a:solidFill>
                <a:latin typeface="Comic Sans MS"/>
              </a:rPr>
              <a:t>&gt;         </a:t>
            </a: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Jacques, a proxima terca feira (8 de dezembro) e feriado...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8080"/>
                </a:solidFill>
                <a:latin typeface="Comic Sans MS"/>
              </a:rPr>
              <a:t>&gt; Reginaldo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OK, entao o resto do calendario sera de fato o seguinte: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- 6a depois de amanha 10:00, 2a aula de PLN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- 3a 8/12  feriado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- 5a 10/12 8:00 aula de recuperacao, 3a de PLN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- 6a 11/12 10:00 2a sessao de acompanhamento dos projetos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- 3a 15/12 10:00 4a e ultima aula de PLN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pt-BR" sz="1200" spc="-1" strike="noStrike">
                <a:solidFill>
                  <a:srgbClr val="660066"/>
                </a:solidFill>
                <a:latin typeface="Comic Sans MS"/>
              </a:rPr>
              <a:t>Jacques</a:t>
            </a:r>
            <a:endParaRPr b="0" lang="en-US" sz="12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Morfologia: lexemas e morfemas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Formação dos símbolos a partir de sub-símbolos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Lexemes e morfemes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alavras não são as unidades lingüísticas mínimas das oraçõe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alavra = lexema + morfema(s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x: redesenharam =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morfema “re”  (repetição da mesma ação)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lexema “desenhar” (ação de criação plástica ou arquitetural)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morfema “aram” (ação coletiva não habitual não envolvendo interlocutores )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Como unidade semântica, lexemas podem ser frasais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ex, “bater as botas”, “negócio da China”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Morfologia: flexão e derivação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Flexão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alavra = lexema + morfema sintátic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nálise morfológica baseada em dicionário fornece: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97280" indent="-21924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categoria sintática das palavras (Parts-Of-Speech Tagging)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097280" indent="-21924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algumas propriedades do uso sintático da palavra da frase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097280" indent="-21924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Conjugação, concordância, caso,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097280" indent="-21924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ex, “Eles deram” x “Ele deu” x “Lhe deram”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Derivação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Palavra = lexema + morfema sintático para mudança de categoria sintática com mesma semântic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97280" indent="-21924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x, descobri</a:t>
            </a:r>
            <a:r>
              <a:rPr b="1" i="1" lang="pt-BR" sz="1800" spc="-1" strike="noStrike" u="sng">
                <a:solidFill>
                  <a:srgbClr val="660066"/>
                </a:solidFill>
                <a:uFillTx/>
                <a:latin typeface="Comic Sans MS"/>
              </a:rPr>
              <a:t>ram</a:t>
            </a: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 x descobri</a:t>
            </a:r>
            <a:r>
              <a:rPr b="1" i="1" lang="pt-BR" sz="1800" spc="-1" strike="noStrike" u="sng">
                <a:solidFill>
                  <a:srgbClr val="660066"/>
                </a:solidFill>
                <a:uFillTx/>
                <a:latin typeface="Comic Sans MS"/>
              </a:rPr>
              <a:t>mento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ou palavra = lexema + morfema(s) semânticos 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aglutinado(s),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97280" indent="-21924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x,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redesfazer = re+des+fazer?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ou palavra = vários lexemas aglutinado(s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97280" indent="-21924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x,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otorino-laringologista = oto+rino+laringo+logista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Sintaxe de superficie: palavras de categorias abertas e fechadas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Especifica combinação de símbolos em orações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Categorias sintáticas dos lexemas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Lexemas classificadas em função das sua distribuição nas orações gramaticai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ategorias abertas: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substantivos, verbos, adjetivos, alguns advérbio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milhares de membros e constantemente estendidas por neologismo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membros com papel essencialmente 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semântico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ategorias fechada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artigos, pronomes, preposições, conectivas, verbos auxiliares, alguns advérbios, cardinais, ordinais, etc.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dezenas de membro e quase nunca estendido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membros com papel essencialmente 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sintático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Sintaxe de superficie: </a:t>
            </a:r>
            <a:br>
              <a:rPr sz="3200"/>
            </a:b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constituintes sintáticos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Constituintes sintáticos (ou sintagmas):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orações não são constituídas diretamente de lexemas,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as de 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sintagmas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que são pelas suas vez constituídas de sub-sintagmas (ou sub-constituintes) etc. até os lexema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intagmas também tem categorias sintáticas baseadas nas suas distribuições em orações gramaticai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m termos de teoria das linguagens: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categorias sintáticas dos sintagmas = símbolos não terminai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lexemas = símbolos terminai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Sintaxe de superficie: </a:t>
            </a:r>
            <a:br>
              <a:rPr sz="3200"/>
            </a:b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tarefas de um parser 1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Caso não precedido por um analisador morfológico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rotular cada palavra com sua categoria sintática (pos-tagging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ex: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Cheiro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@V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um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@Art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fedor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@N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em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@Prep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[1,1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]@Spec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Delimitar constituintes sintáticos (bracketing)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ex: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[] [Cheiro] [um fedor] [em [1,1]]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Rotular cada constituinte com: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ua 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categoria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sintátic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85760" indent="-217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x: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Gap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Cheiro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VG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um fedor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NP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em [1,1]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PP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ua 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função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sintática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85760" indent="-217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x: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Subj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Cheiro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MainV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um fedor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DirObj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em 1,1]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Adjunct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uas 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propriedades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sintática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85760" indent="-217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660066"/>
                </a:solidFill>
                <a:latin typeface="Comic Sans MS"/>
              </a:rPr>
              <a:t>ex,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[Cheiro um fedor em [1,1]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[present, active, declarative, ...]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[um fedor]</a:t>
            </a: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@[indef, sing, masc, count, ...]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Sintaxe de superficie: </a:t>
            </a:r>
            <a:br>
              <a:rPr sz="3200"/>
            </a:b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tarefas de um parser 2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Identificar dependências estruturais entre os constituintes sintáticos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565440" y="2670120"/>
            <a:ext cx="1800" cy="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4280" bIns="-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894040" y="3122640"/>
            <a:ext cx="3871440" cy="3125880"/>
            <a:chOff x="2894040" y="3122640"/>
            <a:chExt cx="3871440" cy="3125880"/>
          </a:xfrm>
        </p:grpSpPr>
        <p:sp>
          <p:nvSpPr>
            <p:cNvPr id="193" name=""/>
            <p:cNvSpPr/>
            <p:nvPr/>
          </p:nvSpPr>
          <p:spPr>
            <a:xfrm>
              <a:off x="3832560" y="3122640"/>
              <a:ext cx="1124640" cy="45828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0066"/>
                  </a:solidFill>
                  <a:latin typeface="Comic Sans MS"/>
                </a:rPr>
                <a:t>Cheiro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16440" y="4417920"/>
              <a:ext cx="957240" cy="45828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0066"/>
                  </a:solidFill>
                  <a:latin typeface="Comic Sans MS"/>
                </a:rPr>
                <a:t>fedor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89600" y="5713560"/>
              <a:ext cx="655560" cy="45828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0066"/>
                  </a:solidFill>
                  <a:latin typeface="Comic Sans MS"/>
                </a:rPr>
                <a:t>um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4040" y="4417920"/>
              <a:ext cx="541440" cy="45828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4160" y="4417920"/>
              <a:ext cx="638640" cy="45828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0066"/>
                  </a:solidFill>
                  <a:latin typeface="Comic Sans MS"/>
                </a:rPr>
                <a:t>em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8120" y="5713560"/>
              <a:ext cx="812520" cy="45828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0066"/>
                  </a:solidFill>
                  <a:latin typeface="Comic Sans MS"/>
                </a:rPr>
                <a:t>[1,1]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37320" y="3695760"/>
              <a:ext cx="66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8080"/>
                  </a:solidFill>
                  <a:latin typeface="Comic Sans MS"/>
                </a:rPr>
                <a:t>arg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85240" y="3695760"/>
              <a:ext cx="66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8080"/>
                  </a:solidFill>
                  <a:latin typeface="Comic Sans MS"/>
                </a:rPr>
                <a:t>arg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50640" y="369576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8080"/>
                  </a:solidFill>
                  <a:latin typeface="Comic Sans MS"/>
                </a:rPr>
                <a:t>mod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5960" y="3583080"/>
              <a:ext cx="0" cy="83664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95960" y="4878360"/>
              <a:ext cx="897840" cy="836640"/>
              <a:chOff x="4395960" y="4878360"/>
              <a:chExt cx="897840" cy="836640"/>
            </a:xfrm>
          </p:grpSpPr>
          <p:sp>
            <p:nvSpPr>
              <p:cNvPr id="204" name=""/>
              <p:cNvSpPr/>
              <p:nvPr/>
            </p:nvSpPr>
            <p:spPr>
              <a:xfrm>
                <a:off x="4455360" y="5029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8080"/>
                    </a:solidFill>
                    <a:latin typeface="Comic Sans MS"/>
                  </a:rPr>
                  <a:t>mod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95960" y="4878360"/>
                <a:ext cx="0" cy="83664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H="1">
              <a:off x="3125880" y="3579840"/>
              <a:ext cx="1217520" cy="83664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4419720"/>
              <a:ext cx="1371600" cy="182880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95480" y="3124080"/>
              <a:ext cx="2362320" cy="312444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867280" y="4878360"/>
              <a:ext cx="898200" cy="836640"/>
              <a:chOff x="5867280" y="4878360"/>
              <a:chExt cx="898200" cy="836640"/>
            </a:xfrm>
          </p:grpSpPr>
          <p:sp>
            <p:nvSpPr>
              <p:cNvPr id="210" name=""/>
              <p:cNvSpPr/>
              <p:nvPr/>
            </p:nvSpPr>
            <p:spPr>
              <a:xfrm>
                <a:off x="5927040" y="5029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8080"/>
                    </a:solidFill>
                    <a:latin typeface="Comic Sans MS"/>
                  </a:rPr>
                  <a:t>mod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67280" y="4878360"/>
                <a:ext cx="0" cy="83664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486400" y="4419720"/>
              <a:ext cx="1219320" cy="1828800"/>
            </a:xfrm>
            <a:prstGeom prst="rect">
              <a:avLst/>
            </a:pr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59240" y="3430440"/>
              <a:ext cx="912960" cy="989280"/>
            </a:xfrm>
            <a:prstGeom prst="line">
              <a:avLst/>
            </a:prstGeom>
            <a:ln w="2556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Relevância atual do PLN: WWW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Há 15 anos atrás...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aioria dos dados on-line ordenadamente armazenados em Bancos de Dad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Hoje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aioria os dados on-line  armazenados em forma de texto        (</a:t>
            </a: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ex,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Internet, Intranets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omo ter acesso a esses dados?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PLN !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multidisciplinar: informática e lingüístic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bordagens: </a:t>
            </a:r>
            <a:r>
              <a:rPr b="1" lang="pt-BR" sz="2000" spc="-1" strike="noStrike">
                <a:solidFill>
                  <a:srgbClr val="660066"/>
                </a:solidFill>
                <a:latin typeface="Comic Sans MS"/>
              </a:rPr>
              <a:t>simbólica, probabilística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, conexionista, evolucionist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écnicas de IA: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2" marL="1085760" indent="-217080">
              <a:spcBef>
                <a:spcPts val="451"/>
              </a:spcBef>
              <a:buClr>
                <a:srgbClr val="336699"/>
              </a:buClr>
              <a:buSzPct val="60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0066"/>
                </a:solidFill>
                <a:latin typeface="Comic Sans MS"/>
              </a:rPr>
              <a:t>representação do conhecimento</a:t>
            </a: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, busca, aprendizagem, planejamento 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40760" y="1295280"/>
            <a:ext cx="8850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Comic Sans MS"/>
              </a:rPr>
              <a:t>A diminuição de 40% das vendas de soda diet de julho a agosto na região nordeste foi realmente atípica porque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Comic Sans MS"/>
              </a:rPr>
              <a:t>para as outras regiões, a variação média das vendas desse produto no mesmo período foi um </a:t>
            </a:r>
            <a:r>
              <a:rPr b="1" i="1" lang="pt-PT" sz="2400" spc="-1" strike="noStrike">
                <a:solidFill>
                  <a:srgbClr val="660066"/>
                </a:solidFill>
                <a:latin typeface="Comic Sans MS"/>
              </a:rPr>
              <a:t>aumento</a:t>
            </a:r>
            <a:r>
              <a:rPr b="0" lang="pt-PT" sz="2400" spc="-1" strike="noStrike">
                <a:solidFill>
                  <a:srgbClr val="660066"/>
                </a:solidFill>
                <a:latin typeface="Comic Sans MS"/>
              </a:rPr>
              <a:t> de 9%;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Comic Sans MS"/>
              </a:rPr>
              <a:t>para o ano todo, as vendas desse produto nessa mesma região decresceram de apenas 7%;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660066"/>
                </a:solidFill>
                <a:latin typeface="Comic Sans MS"/>
              </a:rPr>
              <a:t>as vendas globais, de todos os produtos, nessa região e no mesmo periódo, decresceram de apenas 2%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5345280" y="5715000"/>
            <a:ext cx="563400" cy="433440"/>
          </a:xfrm>
          <a:custGeom>
            <a:avLst/>
            <a:gdLst>
              <a:gd name="textAreaLeft" fmla="*/ 28080 w 563400"/>
              <a:gd name="textAreaRight" fmla="*/ 535320 w 5634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071" h="21600">
                <a:moveTo>
                  <a:pt x="0" y="0"/>
                </a:moveTo>
                <a:lnTo>
                  <a:pt x="28071" y="0"/>
                </a:lnTo>
                <a:lnTo>
                  <a:pt x="28071" y="21600"/>
                </a:lnTo>
                <a:lnTo>
                  <a:pt x="0" y="21600"/>
                </a:lnTo>
                <a:close/>
              </a:path>
              <a:path fill="lightenLess" w="28071" h="21600">
                <a:moveTo>
                  <a:pt x="0" y="0"/>
                </a:moveTo>
                <a:lnTo>
                  <a:pt x="28071" y="0"/>
                </a:lnTo>
                <a:lnTo>
                  <a:pt x="26671" y="1400"/>
                </a:lnTo>
                <a:lnTo>
                  <a:pt x="1400" y="1400"/>
                </a:lnTo>
                <a:close/>
              </a:path>
              <a:path fill="darken" w="28071" h="21600">
                <a:moveTo>
                  <a:pt x="28071" y="0"/>
                </a:moveTo>
                <a:lnTo>
                  <a:pt x="28071" y="21600"/>
                </a:lnTo>
                <a:lnTo>
                  <a:pt x="26671" y="20200"/>
                </a:lnTo>
                <a:lnTo>
                  <a:pt x="26671" y="1400"/>
                </a:lnTo>
                <a:close/>
              </a:path>
              <a:path fill="darkenLess" w="28071" h="21600">
                <a:moveTo>
                  <a:pt x="2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1" y="20200"/>
                </a:lnTo>
                <a:close/>
              </a:path>
              <a:path fill="lighten" w="2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1" h="21600">
                <a:moveTo>
                  <a:pt x="7029" y="10800"/>
                </a:moveTo>
                <a:lnTo>
                  <a:pt x="21042" y="3794"/>
                </a:lnTo>
                <a:lnTo>
                  <a:pt x="21042" y="17806"/>
                </a:lnTo>
                <a:close/>
              </a:path>
            </a:pathLst>
          </a:custGeom>
          <a:solidFill>
            <a:srgbClr val="d89000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28200" y="5791320"/>
            <a:ext cx="72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Volta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langeng-arch1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langeng-arch2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1532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PLN: diversidade das aplicações práticas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Recuperação de informaçã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busca, filtragem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lassificação de text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xtração de dad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struturação de hipertext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conversão de texto para hipertexto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geração e manutenção de páginas de link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Geração de resum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dados tabulados, quantitativo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texto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Tradução (semi-)automática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uxílio à autoria de documentos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verificação orto-gramatical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padronização estilística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relatórios, páginas na Web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Sistemas de diálog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ajuda on-line 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tutores inteligentes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interfaces linguagem (semi-) natural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0066"/>
                </a:solidFill>
                <a:latin typeface="Comic Sans MS"/>
              </a:rPr>
              <a:t>agentes de entretenimento</a:t>
            </a:r>
            <a:endParaRPr b="0" lang="en-US" sz="18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Avaliação empírica de teorias e recursos lingüísticos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PLN: características das aplicações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Em geral, aplicações bem sucedidas focalizam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um 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domínio de discurs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um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estilo de document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660066"/>
                </a:solidFill>
                <a:latin typeface="Comic Sans MS"/>
              </a:rPr>
              <a:t>uma</a:t>
            </a: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 tarefa de PLN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Disponibilidade de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onhecimento lingüístico (gramáticas, léxicos) e enciclopédico (ontologias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onhecimento probabilístic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corpora de textos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Compromisso profundidade x abrangência X automação do processamento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Sistemas de PLN: dimensões de avaliação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6680" y="2286000"/>
            <a:ext cx="7088040" cy="4111200"/>
            <a:chOff x="1066680" y="2286000"/>
            <a:chExt cx="7088040" cy="4111200"/>
          </a:xfrm>
        </p:grpSpPr>
        <p:sp>
          <p:nvSpPr>
            <p:cNvPr id="92" name=""/>
            <p:cNvSpPr/>
            <p:nvPr/>
          </p:nvSpPr>
          <p:spPr>
            <a:xfrm>
              <a:off x="4109760" y="2509560"/>
              <a:ext cx="4044960" cy="3435120"/>
            </a:xfrm>
            <a:prstGeom prst="cube">
              <a:avLst>
                <a:gd name="adj" fmla="val 33740"/>
              </a:avLst>
            </a:prstGeom>
            <a:solidFill>
              <a:srgbClr val="ffffcc"/>
            </a:solidFill>
            <a:ln w="507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1520" y="2509560"/>
              <a:ext cx="1236600" cy="601200"/>
            </a:xfrm>
            <a:custGeom>
              <a:avLst/>
              <a:gdLst/>
              <a:ahLst/>
              <a:rect l="l" t="t" r="r" b="b"/>
              <a:pathLst>
                <a:path w="779" h="379">
                  <a:moveTo>
                    <a:pt x="0" y="0"/>
                  </a:moveTo>
                  <a:lnTo>
                    <a:pt x="8" y="29"/>
                  </a:lnTo>
                  <a:lnTo>
                    <a:pt x="8" y="47"/>
                  </a:lnTo>
                  <a:lnTo>
                    <a:pt x="8" y="61"/>
                  </a:lnTo>
                  <a:lnTo>
                    <a:pt x="16" y="69"/>
                  </a:lnTo>
                  <a:lnTo>
                    <a:pt x="16" y="79"/>
                  </a:lnTo>
                  <a:lnTo>
                    <a:pt x="23" y="90"/>
                  </a:lnTo>
                  <a:lnTo>
                    <a:pt x="31" y="108"/>
                  </a:lnTo>
                  <a:lnTo>
                    <a:pt x="39" y="137"/>
                  </a:lnTo>
                  <a:lnTo>
                    <a:pt x="46" y="155"/>
                  </a:lnTo>
                  <a:lnTo>
                    <a:pt x="62" y="169"/>
                  </a:lnTo>
                  <a:lnTo>
                    <a:pt x="93" y="195"/>
                  </a:lnTo>
                  <a:lnTo>
                    <a:pt x="147" y="249"/>
                  </a:lnTo>
                  <a:lnTo>
                    <a:pt x="200" y="299"/>
                  </a:lnTo>
                  <a:lnTo>
                    <a:pt x="224" y="317"/>
                  </a:lnTo>
                  <a:lnTo>
                    <a:pt x="239" y="328"/>
                  </a:lnTo>
                  <a:lnTo>
                    <a:pt x="270" y="342"/>
                  </a:lnTo>
                  <a:lnTo>
                    <a:pt x="293" y="353"/>
                  </a:lnTo>
                  <a:lnTo>
                    <a:pt x="316" y="356"/>
                  </a:lnTo>
                  <a:lnTo>
                    <a:pt x="339" y="367"/>
                  </a:lnTo>
                  <a:lnTo>
                    <a:pt x="355" y="374"/>
                  </a:lnTo>
                  <a:lnTo>
                    <a:pt x="370" y="378"/>
                  </a:lnTo>
                  <a:lnTo>
                    <a:pt x="370" y="378"/>
                  </a:lnTo>
                  <a:lnTo>
                    <a:pt x="416" y="374"/>
                  </a:lnTo>
                  <a:lnTo>
                    <a:pt x="439" y="374"/>
                  </a:lnTo>
                  <a:lnTo>
                    <a:pt x="455" y="367"/>
                  </a:lnTo>
                  <a:lnTo>
                    <a:pt x="462" y="360"/>
                  </a:lnTo>
                  <a:lnTo>
                    <a:pt x="470" y="349"/>
                  </a:lnTo>
                  <a:lnTo>
                    <a:pt x="470" y="338"/>
                  </a:lnTo>
                  <a:lnTo>
                    <a:pt x="478" y="331"/>
                  </a:lnTo>
                  <a:lnTo>
                    <a:pt x="501" y="324"/>
                  </a:lnTo>
                  <a:lnTo>
                    <a:pt x="524" y="317"/>
                  </a:lnTo>
                  <a:lnTo>
                    <a:pt x="539" y="313"/>
                  </a:lnTo>
                  <a:lnTo>
                    <a:pt x="547" y="310"/>
                  </a:lnTo>
                  <a:lnTo>
                    <a:pt x="555" y="299"/>
                  </a:lnTo>
                  <a:lnTo>
                    <a:pt x="563" y="292"/>
                  </a:lnTo>
                  <a:lnTo>
                    <a:pt x="570" y="284"/>
                  </a:lnTo>
                  <a:lnTo>
                    <a:pt x="570" y="281"/>
                  </a:lnTo>
                  <a:lnTo>
                    <a:pt x="570" y="284"/>
                  </a:lnTo>
                  <a:lnTo>
                    <a:pt x="563" y="288"/>
                  </a:lnTo>
                  <a:lnTo>
                    <a:pt x="563" y="284"/>
                  </a:lnTo>
                  <a:lnTo>
                    <a:pt x="563" y="274"/>
                  </a:lnTo>
                  <a:lnTo>
                    <a:pt x="570" y="266"/>
                  </a:lnTo>
                  <a:lnTo>
                    <a:pt x="578" y="252"/>
                  </a:lnTo>
                  <a:lnTo>
                    <a:pt x="601" y="234"/>
                  </a:lnTo>
                  <a:lnTo>
                    <a:pt x="624" y="213"/>
                  </a:lnTo>
                  <a:lnTo>
                    <a:pt x="655" y="195"/>
                  </a:lnTo>
                  <a:lnTo>
                    <a:pt x="663" y="187"/>
                  </a:lnTo>
                  <a:lnTo>
                    <a:pt x="670" y="184"/>
                  </a:lnTo>
                  <a:lnTo>
                    <a:pt x="709" y="141"/>
                  </a:lnTo>
                  <a:lnTo>
                    <a:pt x="747" y="105"/>
                  </a:lnTo>
                  <a:lnTo>
                    <a:pt x="747" y="101"/>
                  </a:lnTo>
                  <a:lnTo>
                    <a:pt x="755" y="94"/>
                  </a:lnTo>
                  <a:lnTo>
                    <a:pt x="763" y="72"/>
                  </a:lnTo>
                  <a:lnTo>
                    <a:pt x="778" y="51"/>
                  </a:lnTo>
                  <a:lnTo>
                    <a:pt x="778" y="36"/>
                  </a:lnTo>
                  <a:lnTo>
                    <a:pt x="778" y="29"/>
                  </a:lnTo>
                  <a:lnTo>
                    <a:pt x="763" y="22"/>
                  </a:lnTo>
                  <a:lnTo>
                    <a:pt x="747" y="15"/>
                  </a:lnTo>
                  <a:lnTo>
                    <a:pt x="563" y="18"/>
                  </a:lnTo>
                  <a:lnTo>
                    <a:pt x="378" y="22"/>
                  </a:lnTo>
                  <a:lnTo>
                    <a:pt x="185" y="18"/>
                  </a:lnTo>
                  <a:lnTo>
                    <a:pt x="93" y="1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65760" y="2576160"/>
              <a:ext cx="581040" cy="815760"/>
            </a:xfrm>
            <a:custGeom>
              <a:avLst/>
              <a:gdLst/>
              <a:ahLst/>
              <a:rect l="l" t="t" r="r" b="b"/>
              <a:pathLst>
                <a:path w="366" h="514">
                  <a:moveTo>
                    <a:pt x="24" y="396"/>
                  </a:moveTo>
                  <a:lnTo>
                    <a:pt x="31" y="416"/>
                  </a:lnTo>
                  <a:lnTo>
                    <a:pt x="39" y="431"/>
                  </a:lnTo>
                  <a:lnTo>
                    <a:pt x="70" y="447"/>
                  </a:lnTo>
                  <a:lnTo>
                    <a:pt x="101" y="459"/>
                  </a:lnTo>
                  <a:lnTo>
                    <a:pt x="140" y="470"/>
                  </a:lnTo>
                  <a:lnTo>
                    <a:pt x="171" y="478"/>
                  </a:lnTo>
                  <a:lnTo>
                    <a:pt x="187" y="486"/>
                  </a:lnTo>
                  <a:lnTo>
                    <a:pt x="202" y="494"/>
                  </a:lnTo>
                  <a:lnTo>
                    <a:pt x="218" y="498"/>
                  </a:lnTo>
                  <a:lnTo>
                    <a:pt x="225" y="502"/>
                  </a:lnTo>
                  <a:lnTo>
                    <a:pt x="241" y="502"/>
                  </a:lnTo>
                  <a:lnTo>
                    <a:pt x="264" y="506"/>
                  </a:lnTo>
                  <a:lnTo>
                    <a:pt x="303" y="513"/>
                  </a:lnTo>
                  <a:lnTo>
                    <a:pt x="319" y="513"/>
                  </a:lnTo>
                  <a:lnTo>
                    <a:pt x="334" y="510"/>
                  </a:lnTo>
                  <a:lnTo>
                    <a:pt x="350" y="506"/>
                  </a:lnTo>
                  <a:lnTo>
                    <a:pt x="357" y="490"/>
                  </a:lnTo>
                  <a:lnTo>
                    <a:pt x="357" y="478"/>
                  </a:lnTo>
                  <a:lnTo>
                    <a:pt x="365" y="459"/>
                  </a:lnTo>
                  <a:lnTo>
                    <a:pt x="365" y="435"/>
                  </a:lnTo>
                  <a:lnTo>
                    <a:pt x="365" y="408"/>
                  </a:lnTo>
                  <a:lnTo>
                    <a:pt x="357" y="341"/>
                  </a:lnTo>
                  <a:lnTo>
                    <a:pt x="357" y="271"/>
                  </a:lnTo>
                  <a:lnTo>
                    <a:pt x="350" y="196"/>
                  </a:lnTo>
                  <a:lnTo>
                    <a:pt x="342" y="122"/>
                  </a:lnTo>
                  <a:lnTo>
                    <a:pt x="342" y="55"/>
                  </a:lnTo>
                  <a:lnTo>
                    <a:pt x="334" y="28"/>
                  </a:lnTo>
                  <a:lnTo>
                    <a:pt x="334" y="0"/>
                  </a:lnTo>
                  <a:lnTo>
                    <a:pt x="303" y="20"/>
                  </a:lnTo>
                  <a:lnTo>
                    <a:pt x="288" y="39"/>
                  </a:lnTo>
                  <a:lnTo>
                    <a:pt x="272" y="67"/>
                  </a:lnTo>
                  <a:lnTo>
                    <a:pt x="249" y="98"/>
                  </a:lnTo>
                  <a:lnTo>
                    <a:pt x="241" y="110"/>
                  </a:lnTo>
                  <a:lnTo>
                    <a:pt x="233" y="114"/>
                  </a:lnTo>
                  <a:lnTo>
                    <a:pt x="225" y="122"/>
                  </a:lnTo>
                  <a:lnTo>
                    <a:pt x="218" y="129"/>
                  </a:lnTo>
                  <a:lnTo>
                    <a:pt x="210" y="137"/>
                  </a:lnTo>
                  <a:lnTo>
                    <a:pt x="202" y="145"/>
                  </a:lnTo>
                  <a:lnTo>
                    <a:pt x="125" y="212"/>
                  </a:lnTo>
                  <a:lnTo>
                    <a:pt x="78" y="247"/>
                  </a:lnTo>
                  <a:lnTo>
                    <a:pt x="39" y="286"/>
                  </a:lnTo>
                  <a:lnTo>
                    <a:pt x="24" y="310"/>
                  </a:lnTo>
                  <a:lnTo>
                    <a:pt x="8" y="325"/>
                  </a:lnTo>
                  <a:lnTo>
                    <a:pt x="0" y="337"/>
                  </a:lnTo>
                  <a:lnTo>
                    <a:pt x="0" y="349"/>
                  </a:lnTo>
                  <a:lnTo>
                    <a:pt x="8" y="369"/>
                  </a:lnTo>
                  <a:lnTo>
                    <a:pt x="16" y="380"/>
                  </a:lnTo>
                  <a:lnTo>
                    <a:pt x="24" y="396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314840" y="2513880"/>
              <a:ext cx="836640" cy="83628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040" y="2512800"/>
              <a:ext cx="1522440" cy="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6000" y="2514240"/>
              <a:ext cx="0" cy="22842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257080" y="4798800"/>
              <a:ext cx="2894040" cy="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114080" y="4800240"/>
              <a:ext cx="1141560" cy="1141200"/>
            </a:xfrm>
            <a:prstGeom prst="line">
              <a:avLst/>
            </a:prstGeom>
            <a:ln w="507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440" y="6019560"/>
              <a:ext cx="530280" cy="377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7960" y="4495680"/>
              <a:ext cx="530280" cy="37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28640" y="5181480"/>
              <a:ext cx="530280" cy="377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97360" y="3960720"/>
              <a:ext cx="2671560" cy="1831320"/>
            </a:xfrm>
            <a:custGeom>
              <a:avLst/>
              <a:gdLst/>
              <a:ahLst/>
              <a:rect l="l" t="t" r="r" b="b"/>
              <a:pathLst>
                <a:path w="1683" h="1154">
                  <a:moveTo>
                    <a:pt x="0" y="1153"/>
                  </a:moveTo>
                  <a:lnTo>
                    <a:pt x="304" y="1153"/>
                  </a:lnTo>
                  <a:lnTo>
                    <a:pt x="459" y="1140"/>
                  </a:lnTo>
                  <a:lnTo>
                    <a:pt x="601" y="1128"/>
                  </a:lnTo>
                  <a:lnTo>
                    <a:pt x="742" y="1103"/>
                  </a:lnTo>
                  <a:lnTo>
                    <a:pt x="869" y="1071"/>
                  </a:lnTo>
                  <a:lnTo>
                    <a:pt x="996" y="1021"/>
                  </a:lnTo>
                  <a:lnTo>
                    <a:pt x="1102" y="958"/>
                  </a:lnTo>
                  <a:lnTo>
                    <a:pt x="1152" y="920"/>
                  </a:lnTo>
                  <a:lnTo>
                    <a:pt x="1201" y="870"/>
                  </a:lnTo>
                  <a:lnTo>
                    <a:pt x="1251" y="813"/>
                  </a:lnTo>
                  <a:lnTo>
                    <a:pt x="1300" y="750"/>
                  </a:lnTo>
                  <a:lnTo>
                    <a:pt x="1385" y="611"/>
                  </a:lnTo>
                  <a:lnTo>
                    <a:pt x="1463" y="466"/>
                  </a:lnTo>
                  <a:lnTo>
                    <a:pt x="1527" y="322"/>
                  </a:lnTo>
                  <a:lnTo>
                    <a:pt x="1590" y="189"/>
                  </a:lnTo>
                  <a:lnTo>
                    <a:pt x="1618" y="133"/>
                  </a:lnTo>
                  <a:lnTo>
                    <a:pt x="1640" y="82"/>
                  </a:lnTo>
                  <a:lnTo>
                    <a:pt x="1661" y="38"/>
                  </a:lnTo>
                  <a:lnTo>
                    <a:pt x="1682" y="0"/>
                  </a:lnTo>
                </a:path>
              </a:pathLst>
            </a:custGeom>
            <a:noFill/>
            <a:ln cap="rnd" w="50760">
              <a:solidFill>
                <a:srgbClr val="660066"/>
              </a:solidFill>
              <a:custDash>
                <a:ds d="100000" sp="1000"/>
              </a:custDash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12880" y="3195360"/>
              <a:ext cx="2675160" cy="2520720"/>
            </a:xfrm>
            <a:custGeom>
              <a:avLst/>
              <a:gdLst/>
              <a:ahLst/>
              <a:rect l="l" t="t" r="r" b="b"/>
              <a:pathLst>
                <a:path w="1685" h="1588">
                  <a:moveTo>
                    <a:pt x="0" y="1587"/>
                  </a:moveTo>
                  <a:lnTo>
                    <a:pt x="307" y="1388"/>
                  </a:lnTo>
                  <a:lnTo>
                    <a:pt x="601" y="1189"/>
                  </a:lnTo>
                  <a:lnTo>
                    <a:pt x="742" y="1089"/>
                  </a:lnTo>
                  <a:lnTo>
                    <a:pt x="869" y="996"/>
                  </a:lnTo>
                  <a:lnTo>
                    <a:pt x="989" y="896"/>
                  </a:lnTo>
                  <a:lnTo>
                    <a:pt x="1103" y="797"/>
                  </a:lnTo>
                  <a:lnTo>
                    <a:pt x="1203" y="691"/>
                  </a:lnTo>
                  <a:lnTo>
                    <a:pt x="1296" y="579"/>
                  </a:lnTo>
                  <a:lnTo>
                    <a:pt x="1383" y="461"/>
                  </a:lnTo>
                  <a:lnTo>
                    <a:pt x="1463" y="349"/>
                  </a:lnTo>
                  <a:lnTo>
                    <a:pt x="1530" y="237"/>
                  </a:lnTo>
                  <a:lnTo>
                    <a:pt x="1590" y="143"/>
                  </a:lnTo>
                  <a:lnTo>
                    <a:pt x="1644" y="63"/>
                  </a:lnTo>
                  <a:lnTo>
                    <a:pt x="1664" y="25"/>
                  </a:lnTo>
                  <a:lnTo>
                    <a:pt x="1684" y="0"/>
                  </a:lnTo>
                </a:path>
              </a:pathLst>
            </a:custGeom>
            <a:noFill/>
            <a:ln cap="rnd" w="50760">
              <a:solidFill>
                <a:srgbClr val="660066"/>
              </a:solidFill>
              <a:custDash>
                <a:ds d="100000" sp="1000"/>
              </a:custDash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4680" y="2896920"/>
              <a:ext cx="2292120" cy="2437920"/>
            </a:xfrm>
            <a:custGeom>
              <a:avLst/>
              <a:gdLst/>
              <a:ahLst/>
              <a:rect l="l" t="t" r="r" b="b"/>
              <a:pathLst>
                <a:path w="1444" h="1536">
                  <a:moveTo>
                    <a:pt x="0" y="1535"/>
                  </a:moveTo>
                  <a:lnTo>
                    <a:pt x="120" y="1173"/>
                  </a:lnTo>
                  <a:lnTo>
                    <a:pt x="183" y="992"/>
                  </a:lnTo>
                  <a:lnTo>
                    <a:pt x="246" y="829"/>
                  </a:lnTo>
                  <a:lnTo>
                    <a:pt x="309" y="671"/>
                  </a:lnTo>
                  <a:lnTo>
                    <a:pt x="385" y="525"/>
                  </a:lnTo>
                  <a:lnTo>
                    <a:pt x="460" y="397"/>
                  </a:lnTo>
                  <a:lnTo>
                    <a:pt x="549" y="291"/>
                  </a:lnTo>
                  <a:lnTo>
                    <a:pt x="599" y="245"/>
                  </a:lnTo>
                  <a:lnTo>
                    <a:pt x="649" y="210"/>
                  </a:lnTo>
                  <a:lnTo>
                    <a:pt x="769" y="145"/>
                  </a:lnTo>
                  <a:lnTo>
                    <a:pt x="895" y="99"/>
                  </a:lnTo>
                  <a:lnTo>
                    <a:pt x="1027" y="70"/>
                  </a:lnTo>
                  <a:lnTo>
                    <a:pt x="1160" y="46"/>
                  </a:lnTo>
                  <a:lnTo>
                    <a:pt x="1273" y="29"/>
                  </a:lnTo>
                  <a:lnTo>
                    <a:pt x="1323" y="23"/>
                  </a:lnTo>
                  <a:lnTo>
                    <a:pt x="1374" y="17"/>
                  </a:lnTo>
                  <a:lnTo>
                    <a:pt x="1412" y="5"/>
                  </a:lnTo>
                  <a:lnTo>
                    <a:pt x="1443" y="0"/>
                  </a:lnTo>
                </a:path>
              </a:pathLst>
            </a:custGeom>
            <a:noFill/>
            <a:ln cap="rnd" w="50760">
              <a:solidFill>
                <a:srgbClr val="660066"/>
              </a:solidFill>
              <a:custDash>
                <a:ds d="100000" sp="1000"/>
              </a:custDash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2286000"/>
              <a:ext cx="2587680" cy="1977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Times New Roman"/>
                </a:rPr>
                <a:t>1 - Generalidade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         </a:t>
              </a: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(tamanho do domínio,</a:t>
              </a:r>
              <a:endParaRPr b="0" lang="en-US" sz="1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                          </a:t>
              </a: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abrangência)</a:t>
              </a:r>
              <a:endParaRPr b="0" lang="en-US" sz="1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Times New Roman"/>
                </a:rPr>
                <a:t>2 - Automação 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         </a:t>
              </a: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(auxílio humano)</a:t>
              </a:r>
              <a:endParaRPr b="0" lang="en-US" sz="1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Times New Roman"/>
                </a:rPr>
                <a:t>3 - Aptidão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         </a:t>
              </a:r>
              <a:r>
                <a:rPr b="1" lang="pt-BR" sz="1400" spc="-1" strike="noStrike">
                  <a:solidFill>
                    <a:srgbClr val="660066"/>
                  </a:solidFill>
                  <a:latin typeface="Times New Roman"/>
                </a:rPr>
                <a:t>(qualidade + fidelidade)</a:t>
              </a:r>
              <a:endParaRPr b="0" lang="en-US" sz="1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Comic Sans MS"/>
              </a:rPr>
              <a:t>Tradução Automática (TA)</a:t>
            </a:r>
            <a:endParaRPr b="0" lang="en-US" sz="32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Sistemas de TA têm alto custo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Um sistema razoável tem 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Léxico com 20.000 a 100.000 palavras e 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Gramática com 100 a 10.000 regra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Tradução de qualidade requer entendimento detalhado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do universo de discurso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dos objetivos comunicativos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Línguas diferentes lexicalizam conceitos diferentes:</a:t>
            </a:r>
            <a:endParaRPr b="0" lang="en-US" sz="2400" spc="-1" strike="noStrike">
              <a:solidFill>
                <a:srgbClr val="66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0066"/>
                </a:solidFill>
                <a:latin typeface="Comic Sans MS"/>
              </a:rPr>
              <a:t>ex: “you” pode ser traduzido para o francês como “tu” (informal) ou “vous” (formal)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7:58Z</dcterms:created>
  <dc:creator>Departamento de Informática</dc:creator>
  <dc:description/>
  <dc:language>en-US</dc:language>
  <cp:lastModifiedBy>Departamento de Informática</cp:lastModifiedBy>
  <dcterms:modified xsi:type="dcterms:W3CDTF">2000-04-11T11:01:54Z</dcterms:modified>
  <cp:revision>4</cp:revision>
  <dc:subject/>
  <dc:title>Processamento de Linguagem Natural: Visão Geral e Aplicações na Internet</dc:title>
</cp:coreProperties>
</file>