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407-CBFA-40D6-B930-E089F5CC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173-0DEA-4C96-B516-4003D9F2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C53-36F3-4867-A1E6-DBF3FCB7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3E4-75A6-4C5A-894B-B456A864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A5EA-1DAC-4B34-A320-D6507E95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5E75-602F-40E2-92E5-1E5D27A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1AB7-9885-4654-8277-B6246A8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41D3-058D-4B7F-9DDA-B80447B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292D-37FD-4C82-B8F0-0BA5A3CF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E37-B2E8-4758-8DD4-B17F812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9DF8-BBF9-411B-8B5B-607FAEE9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AE2-F673-4466-A9E6-5C209A85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A55D-6B17-4FCD-B338-49A8F8A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18B4-BA9C-495C-9C2E-7408F47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C9E3-53E0-4139-821B-70CF8CE3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E7CC-E471-49CA-9F1B-9C2A5009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0311-18F6-4719-AC81-E472E5C0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F45-563A-44B5-B0A4-393BDDF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7A3-10BB-4BFF-B929-5CFBEE8B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23B-D96B-4CF0-9063-CBF5657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4FF-ECD7-437B-9AE7-477FAD88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225-45D7-43A6-9E83-5BCC290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04B-FD68-41D0-8B32-62AAE7C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114-64EE-4BAF-88F7-518A593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F236-9063-4E08-8BEC-BA29406F8393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F3D9-74C6-4F7D-8C48-1E0D0C501BDD}" type="slidenum"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Celso Santa Ros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Marcelo Far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Saulo Medeir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ectando conhecimento a conhec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istoricamente: foco em docu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ocumentos isolados não resolvem o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ocumentos precisam ser associados a outros docum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hipertex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ectando pessoas a pesso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divíduos compartilham o que sab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páginas pessoais (web), grupos de discuss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positório de expe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gentes intelig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localização automática de exper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ectando conhecimento a pesso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ecnologia </a:t>
            </a: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pu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i="1" lang="pt-BR" sz="1800" spc="-1" strike="noStrike">
                <a:solidFill>
                  <a:srgbClr val="003366"/>
                </a:solidFill>
                <a:latin typeface="Arial"/>
              </a:rPr>
              <a:t>screensa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as o quê é Gerenciamento de conheciment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É o gerenciamento formal de conhecimento para facilitar a criação, o acesso e o reuso de conhecimento, geralmente através do uso de recursos tecnológicos avançado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istemas de 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onibilizam conhecimentos de fontes acessíveis à organização para as pesso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erramentas comu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World Wide Web (Intern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otus No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écnicas de I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agentes, bases de conhecimento, ontologi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istemas de 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incipais compon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Bases de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ados numéricos e qualitativ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páginas </a:t>
            </a:r>
            <a:r>
              <a:rPr b="0" i="1" lang="pt-BR" sz="1800" spc="-1" strike="noStrike">
                <a:solidFill>
                  <a:srgbClr val="003366"/>
                </a:solidFill>
                <a:latin typeface="Arial"/>
              </a:rPr>
              <a:t>web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consultáve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ntolog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ategorização do conhec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ut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Grupos de discuss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foco em atividades específ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uma ferramenta (software) em particul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melhanças entre sistemas de IA e 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prego de bases de conhec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os SGC as bases de conhecimento são utilizadas tanto por máquinas quanto por human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prego de ontologi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 facilitar a comunicação entre múltiplos usuários e a ligação entre diferentes bases de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Bases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ão responsáveis por armazenar o conhec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ferem entre 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o conteú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hecimento represent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a complexidade de desenvolv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fonte única ou múltiplas fo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fontes internas e extern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Bases de conhecimento de </a:t>
            </a:r>
            <a:r>
              <a:rPr b="1" i="1" lang="pt-BR" sz="3600" spc="-1" strike="noStrike">
                <a:solidFill>
                  <a:srgbClr val="003366"/>
                </a:solidFill>
                <a:latin typeface="Arial"/>
              </a:rPr>
              <a:t>best-pract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rmazenam conhecimento sobre a melhor forma de se fazer algo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co no proces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formação abstrata, sintetizada ou integrada com outras informaç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is difíceis de implement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formações obtidas através de múltiplas fontes, tanto internas quanto exter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formações precisam ser catalogadas (</a:t>
            </a: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ranqueadas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), abstraídas, sintetizadas e revisa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ão especificações explícitas de concei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crevem a taxinomia das tarefas definem o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m vocabulário com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ão utilizadas par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efinir o escopo de grupos de discuss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m mecanismos de busca (conjunto de filtro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facilitar a reusabilidade de artefatos armazenados no SG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aracterísticas desejáveis em 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usto-benefí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custo-benefício da geração de uma nova antologia deve justificar a não utilização, derivação ou colaboração de ontologias já exist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ácil decomposi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onentes de conhecimento relativamente independ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focar as buscas em grupos de discussã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or quê usar 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 immense and ever-increasing wealth of knowledge is scattered about the world today; knowledge that would probably suffice to solve all the mighty difficulties of our age, but it is dispersed and unorganized. We need a sort of mental clearing house for the mind: a depot where knowledge and ideas are received, sorted, summarized, digested, clarified and compar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- attributed to H.G Wells, 194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aracterísticas desejáveis em 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ácil de ente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recionada aos usuá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quanto mais fácil de entender, menos treinamento será preciso para utiliza la e menos erros serão cometid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aracterísticas desejáveis em 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tensí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danças no conhecimento ocorrem freqüente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ntologias precisam se adaptar aos novos conce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nuteníve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ntologias e bases de dados sofrem modificaç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conhecimento deve estar armazenado num formato de fácil manuten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banco de d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aracterísticas desejáveis em 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odular e interfaceá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stemas de gerenciamento de conhecimento possuem diversas bases de conhecimento e grupos de discussão, cada qual com sua antolog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ntologias precisam comunicar/cooperar entre s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busca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aracterísticas desejáveis em 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rtemente ligada a informação anali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termo escolhido para representar a ontologia deve ter o mesmo significado dentro e fora da organ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não escolher o termo gato para representar cachorr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incipalmente  se a base de conhecimento possui informações de fontes exter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aracterísticas desejáveis em ontolog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aseada em teoria/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duz conflitos e redundâncias, facilitando a categor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niversalmente compreendida ou traduzí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Ferramentas para desenvolvimento de bases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istemas de bases de d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erramentas de bus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odelos baseados em teoria/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erramentas de visualiz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Knowledge-Management Systems: Converting and Conn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aniel E. O’Leary, University of Southern Califor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EEE Intelligent Systems - 1094-7167/98 - pág. 3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sing AI in Knowledge Management: Knowledge Bases and Ont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aniel E. O’Leary, University of Southern Califor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EEE Intelligent Systems - 1094-7167/98 - pág. 3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or quê usar 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rganizações utilizam gerenciamento de conhecimento por várias razões, entre el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essão de mercado/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Globalização do merc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essão competi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ispersão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rda de funcionários exper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or quê usar 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vanços tecnológ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ovas tecnologias e ferramentas facilitam o gerenciamento de conhe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dução de informação valoro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hecimento individual é compartilhado com a organiza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so do conhecimento na definição de estratégias de merc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ferencial competitivo entre organizaç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bordagem clás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centrar o conhecimento em um único lugar, acessível aos funcionários para auxiliar na tomada de decis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nhecimento individual compartilhado com a organizaçã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vertendo conhecimento individual para o grupo ou organiza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hecimento compartilh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hecimento coletado de forma a poder ser gerado, armazenado e reusad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tudos de ca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vertendo dados em conhec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ção de ferramenta de </a:t>
            </a:r>
            <a:r>
              <a:rPr b="0" i="1" lang="pt-BR" sz="2400" spc="-1" strike="noStrike">
                <a:solidFill>
                  <a:srgbClr val="003366"/>
                </a:solidFill>
                <a:latin typeface="Arial"/>
              </a:rPr>
              <a:t>knowledge-discov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técnicas de IA e estatís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utiliza fontes de da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i="1" lang="pt-BR" sz="1800" spc="-1" strike="noStrike">
                <a:solidFill>
                  <a:srgbClr val="003366"/>
                </a:solidFill>
                <a:latin typeface="Arial"/>
              </a:rPr>
              <a:t>data warehou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vertendo textos em conhec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sponibiliza informação textual como artigos de jornais e rev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 ferramentas para realizar buscas e navegar pelas informaçõ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Gerenciamento de conhec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ectando pessoas ao conhec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so de ferramentas para tornar o conhecimento acessível às pesso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mecanismos de bus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gentes intelig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perfil do usuá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5:47:05Z</dcterms:created>
  <dc:creator>.</dc:creator>
  <dc:description/>
  <dc:language>en-US</dc:language>
  <cp:lastModifiedBy>mfal</cp:lastModifiedBy>
  <dcterms:modified xsi:type="dcterms:W3CDTF">2000-02-11T15:14:45Z</dcterms:modified>
  <cp:revision>8</cp:revision>
  <dc:subject/>
  <dc:title>Knowledge Management</dc:title>
</cp:coreProperties>
</file>