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05BE-DD8A-4C03-BCFB-8263140D5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FA3C-898C-4EEA-80B6-1FC4053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6BEB-C0C5-4D85-8F82-83CE52C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9A6B-46A3-4CBB-8713-0BF1D77FA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9C19-FF54-44C8-8661-97B5E45E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2D25-78BB-47F1-A02A-63B9A40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6F24-F9F8-43EF-958F-8AC08BB3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E74A-58B2-40FC-88DF-BC2DA40F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4BEA-0757-4D8E-A236-D453EFD7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E305-C862-42F1-A243-1457B6D6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B05A-682B-49CE-A774-F1DCF66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31D1-C935-401A-BA66-485FE36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6CE11D-794A-4A5C-AA27-AD06CC5A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oberta de Conhecimento em Banco de Dados (K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ciano &lt;lab@cin.ufpe.br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car &lt;ogm@cin.ufpe.br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2A91-A341-430E-B547-FDC547F419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os do KD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er um conhecimento do domínio da aplic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ar um conjunto de dados al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ção dos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liação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argamento e enriquecimento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és de amostr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ção do ambiente de preparação da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olher qual a tarefa de data m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ar os padr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r os padrões encontr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AC8A-1528-4BC4-B09C-482506292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os do K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untitled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69644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EA96-5C14-4266-BF2E-862BF7D663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eleção e 2. pré-processamen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 seu conhecimento do domínio, analista humano deci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 as informações relevantes a-priori encontram-se nas seguintes tabel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s: nome, identificação, idade, sexo, estado civil, endereço, renda, proprietário da cas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tos: nome, identificação, preço, categoria, quantidade em estoque, quantidade encomend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ações: identificador de cliente, identificador de produto, data e hora, quant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iminar registros incompletos, inconsistent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BBD2-2806-4490-8340-F67756EF40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ransformação de dad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upando informações em uma única tabe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m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7848360" cy="435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A181-4C2E-43A9-BFEE-019C63BC5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. Data mining stricto sensu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 aprendizagem para agrupar os clientes em quatro conju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éia: dispor, em conjuntos, clientes que apresentem aspectos simila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: rede de Kohonen do tip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ector quantizat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 são organizados em uma planilha, onde o número do grupo (1, 2, 3, ou 4) é utilizado como chave primári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lanilha calcula estatísticas de cada grupo, comparando-as com toda população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DBB2-307B-4B86-9787-F3A516E22E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untitled2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3590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Apresentação dos resultad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9132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sta human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nda precisa do seu conhecimento do domín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interpretar esses resultados em conhecimento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2B17-2F02-43C7-A11B-DC80EC2E72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s de Data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eados em aprendizado de máquina, reconhecimento de padrão e estatís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gres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delo de depend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tecção de desv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D7AA-45C1-478A-8B5A-8FF735F908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érios para Aplic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áti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Não existir uma alternativa melhor para análise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isposição da organização em usar a tecnolo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isponibilidade legal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conhecimento a priori do domínio da apl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disponibilidade de dados suficientes com nível de ruído aceit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6EC4-9194-4B30-85EB-77C3D2D623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r pepitas de ruí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cobrem apenas uma pequena quantidade de d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tencial para descrever relações interessantes e anteriormente despercebi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ém, são facilmente descartadas em filtragens por limiar de grau de cobertur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distingui-las de ruí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éia do algoritm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r pequenas generalizações das regras em estudo e comparar a cobertura obtid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83C6-986D-4F73-BD6A-C66941D5B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apel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ração entre o ser-humano e os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gociar com o dono d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utar interativamente com os dados para ver o que eles revel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dar constantemente com “sujeir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brar os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1131-963E-4834-A997-575AA4B7B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Motiva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- Defini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- Passos do K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- Mét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- Aplica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9AD1-EA56-43FD-901F-0EA2D6C9B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efas Feitas Por um Usuá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belece obje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lta a base para extrair dados relev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lisa os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ight sobre os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stra os resultados obti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EF16-8073-441A-ADBB-3AE793B689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apel do 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1295280" cy="139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391520" y="1676520"/>
            <a:ext cx="45216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4572000"/>
            <a:ext cx="2971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90512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7400" y="342900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029200"/>
            <a:ext cx="1752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5812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438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5486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49528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429000"/>
            <a:ext cx="1904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342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4120" y="2971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16002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8320" y="3886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4038480"/>
            <a:ext cx="13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e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7880" y="281952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ores p/ u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m sucedida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3080" y="3505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FA94-6779-4F9D-B5C1-2FA5CC8213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 KDD pode ser aplic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arefa é propícia ao estudo de novos experimento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há nenhuma outra boa alternativa de análise de dado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nibilidade de dados suficient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 nível aceitável de ruíd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 problemas de ordem juríd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alistas disponíveis pa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liação do grau de interesse das descobertas obti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ção de atribut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ção de conhecimento a priori em ger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1648-3A66-44D4-98DF-FA87494615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yyad et al. (1996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ces in knowledge discovery and data m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AAI Press/MIT Pres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eração de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di.ufpe.br/~compint/datamining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3C8A-2B7C-478D-80CA-D112D70186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zação dos meios produtivos permitiu a geração de grandes volumes de d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ções eletrôn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os equipamentos científicos e industriais para observação e contro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positivos de armazenamento em mas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os de análise de dados tradicionais são inviáveis para acompanhar esta evoluçã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o iterativo de criação, teste e refinamento de hipótes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A202-5D0D-4875-B077-2C5B8E308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igantismo do problema de análise de dados para tomada de decis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D da Wal-Mart:  20 milhões de transações por 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ta Warehouse da Mobil: 100 T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D da NASA: recebe de satélites 50 GB por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erramentas de automatização das tarefas repetitivas e sistemática de análise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erramentas de auxílio para as tarefas cognitivas da anál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ção das ferramentas em sistemas apoiando o processo completo de descoberta de conhecimento para tomada de deci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C3C5-D057-4E6B-A721-E2279F77D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diminuição de 40% das vendas de soda diet de julho a agosto na região nordeste foi realmente atípica por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ara as outras regiões, a variação média das vendas desse produto no mesmo período foi um aumento de 9%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para o ano todo, as vendas desse produto nessa mesma região decresceram de apenas 7%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</a:rPr>
              <a:t>as vendas globais, de todos os produtos, nessa região e no mesmo período, decresceram de apenas 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2623-D192-4C2F-8C4D-E50D7CD4E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ç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ramentas e técnicas para análise automática e inteligente de base de d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 exploratório, iterativo e interativ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olvendo em cada passo um especialista huma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rturar os dados até eles confessarem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E839-CFF2-4EC6-B090-6C2134111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KDD: problema plur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ndizado de máqui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ação de conhecimento e inferênc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ção automática de resumos textu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tís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álise exploratória de da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ção gráf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ização de da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3C24-71B0-4387-BB4E-464491811F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KDD: problema pluri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ncos de d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ção, consolidação e remodelagem de dados para processamento analítico (data warehous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ns de consulta pa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cubos de dados (OL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ões de mineração (OL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aç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Is entre ferramentas, disponibilização na Web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D dedutivos, ativos, temporais, OOs, de restri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1F22-FE62-4E64-A899-674899C3E1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KDD X Data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ração de dados: passo do processo de KDD que produz um conjunto de padrões sob um custo computacional aceitáve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DD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 algoritmos de data mining para extrair padrões classificados como “conheciment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 também tarefas como escolha do algoritmo adequado, processamento e amostragem de dados e interpretação de resulta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84D3-6C08-4953-A575-9A6CDAFD4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13:47:37Z</dcterms:created>
  <dc:creator>:</dc:creator>
  <dc:description/>
  <dc:language>en-US</dc:language>
  <cp:lastModifiedBy>geber</cp:lastModifiedBy>
  <dcterms:modified xsi:type="dcterms:W3CDTF">2000-06-21T14:16:59Z</dcterms:modified>
  <cp:revision>16</cp:revision>
  <dc:subject/>
  <dc:title>Descoberta de Conhecimento em Base de Dados (KDD)</dc:title>
</cp:coreProperties>
</file>