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817B-F7A3-4110-B541-0133D31A4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E3A1-DA53-41C9-A7BB-3B00D910B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C899-5547-48F3-8CEA-515EFFEF9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F230-270B-4D4D-B9EC-EFBF1DF39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3A67-52BB-48B3-85DF-457449B585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6E52-B78F-45A0-B60C-C117B18A8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EE15-CCB0-44F4-BDF6-F1E4DFC4D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C314-8F53-41D3-9143-01AC69340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00DD-F1FE-4F77-9F9E-7BD1EF23D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D2F3-83A7-43B2-BB66-0E20C79C3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B698-F1DA-444C-8A29-81081DB3D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F309-37EE-4328-AB96-A487934F4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53d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cc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cc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b53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366B-74AB-442B-BFDD-F111A40D02C9}" type="slidenum">
              <a:rPr b="0" lang="en-US" sz="1400" spc="-1" strike="noStrike">
                <a:solidFill>
                  <a:srgbClr val="ffb53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Extração de Informaçõe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Verdana"/>
              </a:rPr>
              <a:t>Carlos Alberi dos Santos Mel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Verdana"/>
              </a:rPr>
              <a:t>Ivan Gesteira Costa Filh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3200400"/>
            <a:ext cx="7467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E43E-2A4C-4E80-A3D6-81B245ACF4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Texto Semi-estruturado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362320"/>
            <a:ext cx="624852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VDO/TRC/ALG - Casa Pau Amarelo c/ 3 qts, 2sls, copa, coz, 3wcs, muro alto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Terreno medindo 936m2, area construída 248.69m2. R$50 mil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Fones: 436.1648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95280"/>
            <a:ext cx="800100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877D-49C8-4DFE-BB25-C97CD85748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XML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Tags SGML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Semântica no texto.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Arquivo DTD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800100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52124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Será XML amplamente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Verdana"/>
              </a:rPr>
              <a:t>usado na WEB?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94B8-24BA-4CAB-915E-7722214232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XML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905120"/>
            <a:ext cx="586728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!doctype CodigoTelefonico SYSTEM ”http:/www.di.ufpe.br/ias/codtel.dtt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pais&gt;Congo&lt;/pais&gt;&lt;codigo&gt;242&lt;/codigo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pais&gt;Egypt&lt;/pais&gt;&lt;codigo&gt;20&lt;/codigo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pais&gt;Brazil&lt;/pais&gt;&lt;codigo&gt;55&lt;/codigo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4800600"/>
            <a:ext cx="586728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!element CodigoTelefonico (Pais, Codigo)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!element Pais (#PCDATA)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!element Codigo (#PCDATA)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560" y="2225520"/>
            <a:ext cx="21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ocumen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XML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560" y="4892760"/>
            <a:ext cx="21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ocumen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TT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AF96-6810-49FD-8932-53B65A0EC8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Técnicas de IE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243828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00"/>
                </a:solidFill>
                <a:latin typeface="Times New Roman"/>
              </a:rPr>
              <a:t>Wrapp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25080" y="249696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PL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5909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88620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xtos não-estruturad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écnicas simplificadas de PL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380988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Times New Roman"/>
              </a:rPr>
              <a:t>Textos estruturad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Times New Roman"/>
              </a:rPr>
              <a:t>Aplicações Web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Times New Roman"/>
              </a:rPr>
              <a:t>Ex. html, wml, xml, .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B11B-86FC-4B1F-8817-811E0E4A37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PLN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95280" y="2610000"/>
            <a:ext cx="2098080" cy="1123920"/>
            <a:chOff x="1295280" y="2610000"/>
            <a:chExt cx="2098080" cy="1123920"/>
          </a:xfrm>
        </p:grpSpPr>
        <p:sp>
          <p:nvSpPr>
            <p:cNvPr id="119" name=""/>
            <p:cNvSpPr/>
            <p:nvPr/>
          </p:nvSpPr>
          <p:spPr>
            <a:xfrm>
              <a:off x="1523880" y="281952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15320" y="2944800"/>
              <a:ext cx="177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nálise Léxica 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/Morfológica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/>
            <p:nvPr/>
          </p:nvCxnSpPr>
          <p:spPr>
            <a:xfrm flipH="1" rot="16200000">
              <a:off x="1027080" y="2877840"/>
              <a:ext cx="746640" cy="210240"/>
            </a:xfrm>
            <a:prstGeom prst="bentConnector2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392640" y="2819520"/>
            <a:ext cx="2174400" cy="914400"/>
            <a:chOff x="3392640" y="2819520"/>
            <a:chExt cx="2174400" cy="914400"/>
          </a:xfrm>
        </p:grpSpPr>
        <p:sp>
          <p:nvSpPr>
            <p:cNvPr id="123" name=""/>
            <p:cNvSpPr/>
            <p:nvPr/>
          </p:nvSpPr>
          <p:spPr>
            <a:xfrm>
              <a:off x="3733920" y="281952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6520" y="2955960"/>
              <a:ext cx="191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nálise Sintática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/Semântica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0" idx="3"/>
              <a:endCxn id="124" idx="1"/>
            </p:cNvCxnSpPr>
            <p:nvPr/>
          </p:nvCxnSpPr>
          <p:spPr>
            <a:xfrm>
              <a:off x="3392640" y="3295800"/>
              <a:ext cx="265680" cy="1152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3581280" y="3753000"/>
            <a:ext cx="2212200" cy="1276200"/>
            <a:chOff x="3581280" y="3753000"/>
            <a:chExt cx="2212200" cy="1276200"/>
          </a:xfrm>
        </p:grpSpPr>
        <p:sp>
          <p:nvSpPr>
            <p:cNvPr id="127" name=""/>
            <p:cNvSpPr/>
            <p:nvPr/>
          </p:nvSpPr>
          <p:spPr>
            <a:xfrm>
              <a:off x="3581280" y="4114800"/>
              <a:ext cx="221004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31680" y="4267080"/>
              <a:ext cx="216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Construção de 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Regras de Extração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2"/>
              <a:endCxn id="127" idx="0"/>
            </p:cNvCxnSpPr>
            <p:nvPr/>
          </p:nvCxnSpPr>
          <p:spPr>
            <a:xfrm>
              <a:off x="4648320" y="3753000"/>
              <a:ext cx="38880" cy="34344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7124760" y="4571640"/>
            <a:ext cx="1792800" cy="1829160"/>
            <a:chOff x="7124760" y="4571640"/>
            <a:chExt cx="1792800" cy="1829160"/>
          </a:xfrm>
        </p:grpSpPr>
        <p:sp>
          <p:nvSpPr>
            <p:cNvPr id="131" name=""/>
            <p:cNvSpPr/>
            <p:nvPr/>
          </p:nvSpPr>
          <p:spPr>
            <a:xfrm>
              <a:off x="7124760" y="5486400"/>
              <a:ext cx="175248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08280" y="5562720"/>
              <a:ext cx="170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66"/>
                  </a:solidFill>
                  <a:latin typeface="Times New Roman"/>
                </a:rPr>
                <a:t>Preenchimento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66"/>
                  </a:solidFill>
                  <a:latin typeface="Times New Roman"/>
                </a:rPr>
                <a:t>de Templates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4" idx="3"/>
              <a:endCxn id="131" idx="0"/>
            </p:cNvCxnSpPr>
            <p:nvPr/>
          </p:nvCxnSpPr>
          <p:spPr>
            <a:xfrm>
              <a:off x="7943400" y="4571640"/>
              <a:ext cx="57960" cy="896040"/>
            </a:xfrm>
            <a:prstGeom prst="bentConnector2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</p:grpSp>
      <p:grpSp>
        <p:nvGrpSpPr>
          <p:cNvPr id="135" name=""/>
          <p:cNvGrpSpPr/>
          <p:nvPr/>
        </p:nvGrpSpPr>
        <p:grpSpPr>
          <a:xfrm>
            <a:off x="5790960" y="4114800"/>
            <a:ext cx="2133720" cy="914400"/>
            <a:chOff x="5790960" y="4114800"/>
            <a:chExt cx="2133720" cy="914400"/>
          </a:xfrm>
        </p:grpSpPr>
        <p:sp>
          <p:nvSpPr>
            <p:cNvPr id="134" name=""/>
            <p:cNvSpPr/>
            <p:nvPr/>
          </p:nvSpPr>
          <p:spPr>
            <a:xfrm>
              <a:off x="6095880" y="4114800"/>
              <a:ext cx="182880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120" y="4267080"/>
              <a:ext cx="1262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nálise de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Discurso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28" idx="3"/>
              <a:endCxn id="134" idx="1"/>
            </p:cNvCxnSpPr>
            <p:nvPr/>
          </p:nvCxnSpPr>
          <p:spPr>
            <a:xfrm flipV="1">
              <a:off x="5790960" y="4571640"/>
              <a:ext cx="286200" cy="4680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880" y="1600200"/>
            <a:ext cx="1752840" cy="914400"/>
            <a:chOff x="380880" y="1600200"/>
            <a:chExt cx="1752840" cy="914400"/>
          </a:xfrm>
        </p:grpSpPr>
        <p:sp>
          <p:nvSpPr>
            <p:cNvPr id="140" name=""/>
            <p:cNvSpPr/>
            <p:nvPr/>
          </p:nvSpPr>
          <p:spPr>
            <a:xfrm>
              <a:off x="380880" y="1600200"/>
              <a:ext cx="175284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9400" y="1878120"/>
              <a:ext cx="148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66"/>
                  </a:solidFill>
                  <a:latin typeface="Times New Roman"/>
                </a:rPr>
                <a:t>Tokenização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49EB-1310-4262-8087-F44CBC8596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PLN - Tokenização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600200"/>
            <a:ext cx="17528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400" y="187812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Tokeniz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5320" y="29448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Léxica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Morfológ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4" idx="2"/>
            <a:endCxn id="146" idx="1"/>
          </p:cNvCxnSpPr>
          <p:nvPr/>
        </p:nvCxnSpPr>
        <p:spPr>
          <a:xfrm flipH="1" rot="16200000">
            <a:off x="1008720" y="2781360"/>
            <a:ext cx="743760" cy="248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373392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6520" y="2955960"/>
            <a:ext cx="19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Sintá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Semân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4114800"/>
            <a:ext cx="22100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1680" y="426708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strução de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gras de Extr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411480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120" y="4267080"/>
            <a:ext cx="126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d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iscurs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24760" y="54864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8280" y="5562720"/>
            <a:ext cx="17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Preenchiment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de Templa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7" idx="3"/>
            <a:endCxn id="150" idx="1"/>
          </p:cNvCxnSpPr>
          <p:nvPr/>
        </p:nvCxnSpPr>
        <p:spPr>
          <a:xfrm>
            <a:off x="3392640" y="3295800"/>
            <a:ext cx="265680" cy="1152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1" idx="0"/>
          </p:cNvCxnSpPr>
          <p:nvPr/>
        </p:nvCxnSpPr>
        <p:spPr>
          <a:xfrm>
            <a:off x="4648320" y="3753000"/>
            <a:ext cx="38880" cy="3434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3" idx="3"/>
            <a:endCxn id="155" idx="0"/>
          </p:cNvCxnSpPr>
          <p:nvPr/>
        </p:nvCxnSpPr>
        <p:spPr>
          <a:xfrm>
            <a:off x="7943400" y="4571640"/>
            <a:ext cx="57960" cy="896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3"/>
            <a:endCxn id="153" idx="1"/>
          </p:cNvCxnSpPr>
          <p:nvPr/>
        </p:nvCxnSpPr>
        <p:spPr>
          <a:xfrm flipV="1">
            <a:off x="5790960" y="4571640"/>
            <a:ext cx="286200" cy="4680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grpSp>
        <p:nvGrpSpPr>
          <p:cNvPr id="161" name=""/>
          <p:cNvGrpSpPr/>
          <p:nvPr/>
        </p:nvGrpSpPr>
        <p:grpSpPr>
          <a:xfrm>
            <a:off x="2133720" y="1828800"/>
            <a:ext cx="6172200" cy="3292200"/>
            <a:chOff x="2133720" y="1828800"/>
            <a:chExt cx="6172200" cy="3292200"/>
          </a:xfrm>
        </p:grpSpPr>
        <p:sp>
          <p:nvSpPr>
            <p:cNvPr id="162" name=""/>
            <p:cNvSpPr/>
            <p:nvPr/>
          </p:nvSpPr>
          <p:spPr>
            <a:xfrm>
              <a:off x="2133720" y="3200400"/>
              <a:ext cx="6172200" cy="192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8600" bIns="228600" anchor="t">
              <a:spAutoFit/>
            </a:bodyPr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Segmentação das Palavras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Divisão em segmentos (estruturas)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Pre-processamento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ignorar partes do texto 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6880" y="1828800"/>
              <a:ext cx="2819520" cy="97632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noFill/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002E-8C21-4D2A-8B4A-4295BA20B9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PLN - Análise Léxica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00200"/>
            <a:ext cx="17528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400" y="187812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Tokeniz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15320" y="29448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Léxica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Morfológ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2"/>
            <a:endCxn id="169" idx="1"/>
          </p:cNvCxnSpPr>
          <p:nvPr/>
        </p:nvCxnSpPr>
        <p:spPr>
          <a:xfrm flipH="1" rot="16200000">
            <a:off x="1008720" y="2781360"/>
            <a:ext cx="743760" cy="248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373392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6520" y="2955960"/>
            <a:ext cx="19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Sintá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Semân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114800"/>
            <a:ext cx="22100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31680" y="426708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strução de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gras de Extr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11480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4267080"/>
            <a:ext cx="126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d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iscurs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24760" y="54864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08280" y="5562720"/>
            <a:ext cx="17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Preenchiment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de Templa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0" idx="3"/>
            <a:endCxn id="173" idx="1"/>
          </p:cNvCxnSpPr>
          <p:nvPr/>
        </p:nvCxnSpPr>
        <p:spPr>
          <a:xfrm>
            <a:off x="3392640" y="3295800"/>
            <a:ext cx="265680" cy="1152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2" idx="2"/>
            <a:endCxn id="174" idx="0"/>
          </p:cNvCxnSpPr>
          <p:nvPr/>
        </p:nvCxnSpPr>
        <p:spPr>
          <a:xfrm>
            <a:off x="4648320" y="3753000"/>
            <a:ext cx="38880" cy="3434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3"/>
            <a:endCxn id="178" idx="0"/>
          </p:cNvCxnSpPr>
          <p:nvPr/>
        </p:nvCxnSpPr>
        <p:spPr>
          <a:xfrm>
            <a:off x="7943400" y="4571640"/>
            <a:ext cx="57960" cy="896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5" idx="3"/>
            <a:endCxn id="176" idx="1"/>
          </p:cNvCxnSpPr>
          <p:nvPr/>
        </p:nvCxnSpPr>
        <p:spPr>
          <a:xfrm flipV="1">
            <a:off x="5790960" y="4571640"/>
            <a:ext cx="286200" cy="4680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grpSp>
        <p:nvGrpSpPr>
          <p:cNvPr id="184" name=""/>
          <p:cNvGrpSpPr/>
          <p:nvPr/>
        </p:nvGrpSpPr>
        <p:grpSpPr>
          <a:xfrm>
            <a:off x="457200" y="3352680"/>
            <a:ext cx="7086600" cy="3048480"/>
            <a:chOff x="457200" y="3352680"/>
            <a:chExt cx="7086600" cy="3048480"/>
          </a:xfrm>
        </p:grpSpPr>
        <p:sp>
          <p:nvSpPr>
            <p:cNvPr id="185" name=""/>
            <p:cNvSpPr/>
            <p:nvPr/>
          </p:nvSpPr>
          <p:spPr>
            <a:xfrm>
              <a:off x="1371600" y="4114800"/>
              <a:ext cx="6172200" cy="228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8600" bIns="228600" anchor="t">
              <a:spAutoFit/>
            </a:bodyPr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Classificação Morfológica (artigo, verbo, substantivo).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Reconhecimento de nomes próprios, empresas, datas, ...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Etiquetagem automática 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3352680"/>
              <a:ext cx="733320" cy="167184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92320 h 1671840"/>
                <a:gd name="textAreaBottom" fmla="*/ 1212120 h 16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7925-94A9-4745-9C5F-01EEE61C1F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53d"/>
                </a:solidFill>
                <a:latin typeface="Verdana"/>
              </a:rPr>
              <a:t>PLN - </a:t>
            </a: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Análise</a:t>
            </a:r>
            <a:r>
              <a:rPr b="0" lang="en-US" sz="3600" spc="-1" strike="noStrike">
                <a:solidFill>
                  <a:srgbClr val="ffb53d"/>
                </a:solidFill>
                <a:latin typeface="Verdana"/>
              </a:rPr>
              <a:t> Sintática</a:t>
            </a:r>
            <a:endParaRPr b="0" lang="en-US" sz="36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600200"/>
            <a:ext cx="17528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400" y="187812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Tokeniz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5320" y="29448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Léxica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Morfológ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0" idx="2"/>
            <a:endCxn id="192" idx="1"/>
          </p:cNvCxnSpPr>
          <p:nvPr/>
        </p:nvCxnSpPr>
        <p:spPr>
          <a:xfrm flipH="1" rot="16200000">
            <a:off x="1008720" y="2781360"/>
            <a:ext cx="743760" cy="248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373392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6520" y="2955960"/>
            <a:ext cx="19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Sintá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Semân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4114800"/>
            <a:ext cx="22100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31680" y="426708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strução de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gras de Extr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11480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120" y="4267080"/>
            <a:ext cx="126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d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iscurs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24760" y="54864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08280" y="5562720"/>
            <a:ext cx="17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Preenchiment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de Templa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3" idx="3"/>
            <a:endCxn id="196" idx="1"/>
          </p:cNvCxnSpPr>
          <p:nvPr/>
        </p:nvCxnSpPr>
        <p:spPr>
          <a:xfrm>
            <a:off x="3392640" y="3295800"/>
            <a:ext cx="265680" cy="1152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5" idx="2"/>
            <a:endCxn id="197" idx="0"/>
          </p:cNvCxnSpPr>
          <p:nvPr/>
        </p:nvCxnSpPr>
        <p:spPr>
          <a:xfrm>
            <a:off x="4648320" y="3753000"/>
            <a:ext cx="38880" cy="3434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3"/>
            <a:endCxn id="201" idx="0"/>
          </p:cNvCxnSpPr>
          <p:nvPr/>
        </p:nvCxnSpPr>
        <p:spPr>
          <a:xfrm>
            <a:off x="7943400" y="4571640"/>
            <a:ext cx="57960" cy="896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9" idx="1"/>
          </p:cNvCxnSpPr>
          <p:nvPr/>
        </p:nvCxnSpPr>
        <p:spPr>
          <a:xfrm flipV="1">
            <a:off x="5790960" y="4571640"/>
            <a:ext cx="286200" cy="4680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grpSp>
        <p:nvGrpSpPr>
          <p:cNvPr id="207" name=""/>
          <p:cNvGrpSpPr/>
          <p:nvPr/>
        </p:nvGrpSpPr>
        <p:grpSpPr>
          <a:xfrm>
            <a:off x="2666880" y="2895480"/>
            <a:ext cx="6172200" cy="3063600"/>
            <a:chOff x="2666880" y="2895480"/>
            <a:chExt cx="6172200" cy="3063600"/>
          </a:xfrm>
        </p:grpSpPr>
        <p:sp>
          <p:nvSpPr>
            <p:cNvPr id="208" name=""/>
            <p:cNvSpPr/>
            <p:nvPr/>
          </p:nvSpPr>
          <p:spPr>
            <a:xfrm>
              <a:off x="2666880" y="4038480"/>
              <a:ext cx="6172200" cy="192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8600" bIns="228600" anchor="t">
              <a:spAutoFit/>
            </a:bodyPr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onstrução arvore sintática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Grupos Nominais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Grupos Verbais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nálise sintática parcial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67280" y="2895480"/>
              <a:ext cx="2057400" cy="733680"/>
            </a:xfrm>
            <a:custGeom>
              <a:avLst/>
              <a:gdLst>
                <a:gd name="textAreaLeft" fmla="*/ 360000 w 2057400"/>
                <a:gd name="textAreaRight" fmla="*/ 1491840 w 205740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5647-1354-4591-8DC7-624701D59F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PLN - Construção de Padrõe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00200"/>
            <a:ext cx="17528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9400" y="187812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Tokeniz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5320" y="29448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Léxica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Morfológ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4" idx="2"/>
            <a:endCxn id="216" idx="1"/>
          </p:cNvCxnSpPr>
          <p:nvPr/>
        </p:nvCxnSpPr>
        <p:spPr>
          <a:xfrm flipH="1" rot="16200000">
            <a:off x="1008720" y="2781360"/>
            <a:ext cx="743760" cy="248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373392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6520" y="2955960"/>
            <a:ext cx="19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Sintá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Semân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114800"/>
            <a:ext cx="22100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31680" y="426708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strução de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gras de Extr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411480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120" y="4267080"/>
            <a:ext cx="126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d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iscurs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24760" y="54864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08280" y="5562720"/>
            <a:ext cx="17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Preenchiment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de Templa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17" idx="3"/>
            <a:endCxn id="220" idx="1"/>
          </p:cNvCxnSpPr>
          <p:nvPr/>
        </p:nvCxnSpPr>
        <p:spPr>
          <a:xfrm>
            <a:off x="3392640" y="3295800"/>
            <a:ext cx="265680" cy="1152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1" idx="0"/>
          </p:cNvCxnSpPr>
          <p:nvPr/>
        </p:nvCxnSpPr>
        <p:spPr>
          <a:xfrm>
            <a:off x="4648320" y="3753000"/>
            <a:ext cx="38880" cy="3434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3" idx="3"/>
            <a:endCxn id="225" idx="0"/>
          </p:cNvCxnSpPr>
          <p:nvPr/>
        </p:nvCxnSpPr>
        <p:spPr>
          <a:xfrm>
            <a:off x="7943400" y="4571640"/>
            <a:ext cx="57960" cy="896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2" idx="3"/>
            <a:endCxn id="223" idx="1"/>
          </p:cNvCxnSpPr>
          <p:nvPr/>
        </p:nvCxnSpPr>
        <p:spPr>
          <a:xfrm flipV="1">
            <a:off x="5790960" y="4571640"/>
            <a:ext cx="286200" cy="4680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grpSp>
        <p:nvGrpSpPr>
          <p:cNvPr id="231" name=""/>
          <p:cNvGrpSpPr/>
          <p:nvPr/>
        </p:nvGrpSpPr>
        <p:grpSpPr>
          <a:xfrm>
            <a:off x="1523880" y="1219320"/>
            <a:ext cx="6172200" cy="3657600"/>
            <a:chOff x="1523880" y="1219320"/>
            <a:chExt cx="6172200" cy="3657600"/>
          </a:xfrm>
        </p:grpSpPr>
        <p:sp>
          <p:nvSpPr>
            <p:cNvPr id="232" name=""/>
            <p:cNvSpPr/>
            <p:nvPr/>
          </p:nvSpPr>
          <p:spPr>
            <a:xfrm>
              <a:off x="1523880" y="1219320"/>
              <a:ext cx="6172200" cy="2286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8600" bIns="228600" anchor="t">
              <a:spAutoFit/>
            </a:bodyPr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Dicionário de padrões de Extração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Específico ao Domínio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Automática X Manual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eficiência, portabilidade, treinamento,     alterações ad hoc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056680" y="4038480"/>
              <a:ext cx="1143000" cy="838440"/>
            </a:xfrm>
            <a:custGeom>
              <a:avLst/>
              <a:gdLst>
                <a:gd name="textAreaLeft" fmla="*/ 380520 w 1143000"/>
                <a:gd name="textAreaRight" fmla="*/ 978840 w 1143000"/>
                <a:gd name="textAreaTop" fmla="*/ 482760 h 838440"/>
                <a:gd name="textAreaBottom" fmla="*/ 7182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74E9-A8A2-424C-9CB9-F253338B5B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PLN - Construção de Padrõe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1905120"/>
            <a:ext cx="601992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parlamento foi bombardeado pela Guerrilha.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uerrilha bombardeou o parlament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3352680"/>
            <a:ext cx="6248520" cy="265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LVO - foi bombardeado pela - GRUP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rupo-nominal(ALV,cabeca(alvo-fisico)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rupo-nominal(GRP,cabeca(GRP)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rupo- verbal(VG,tipo(passivo),cabeca(bombardeado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jeito(ALV,VG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bjeto(GRP,VG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&gt; 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ntoBonbardeamento(alvo(AVL),agente(GRUPO))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1920" y="2225520"/>
            <a:ext cx="17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Exemplo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440" y="4282920"/>
            <a:ext cx="14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Regras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53E5-FE17-49E7-BB46-7987F858D0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205740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  </a:t>
            </a: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Crescente números de </a:t>
            </a:r>
            <a:r>
              <a:rPr b="0" i="1" lang="pt-BR" sz="2800" spc="-1" strike="noStrike">
                <a:solidFill>
                  <a:srgbClr val="ffb53d"/>
                </a:solidFill>
                <a:latin typeface="Verdana"/>
              </a:rPr>
              <a:t>textos</a:t>
            </a: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 digitalizados: intranets, bibliotecas digitais, CD-Rom, ..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95480" y="1676520"/>
            <a:ext cx="3200400" cy="3962160"/>
            <a:chOff x="2895480" y="1676520"/>
            <a:chExt cx="3200400" cy="3962160"/>
          </a:xfrm>
        </p:grpSpPr>
        <p:pic>
          <p:nvPicPr>
            <p:cNvPr id="45" name="busi042d" descr=""/>
            <p:cNvPicPr/>
            <p:nvPr/>
          </p:nvPicPr>
          <p:blipFill>
            <a:blip r:embed="rId1"/>
            <a:stretch/>
          </p:blipFill>
          <p:spPr>
            <a:xfrm>
              <a:off x="2895480" y="1676520"/>
              <a:ext cx="3200400" cy="3962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46" name=""/>
            <p:cNvSpPr/>
            <p:nvPr/>
          </p:nvSpPr>
          <p:spPr>
            <a:xfrm>
              <a:off x="3657960" y="2666880"/>
              <a:ext cx="1604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99ff"/>
                  </a:solidFill>
                  <a:latin typeface="Arial"/>
                </a:rPr>
                <a:t>WEB</a:t>
              </a:r>
              <a:endParaRPr b="0" lang="en-US" sz="48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1125-D3D9-433F-9972-A6AB5E80E5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PLN - Análise de Discurso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600200"/>
            <a:ext cx="17528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9400" y="187812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Tokeniz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388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5320" y="29448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Léxica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Morfológ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3" idx="2"/>
            <a:endCxn id="245" idx="1"/>
          </p:cNvCxnSpPr>
          <p:nvPr/>
        </p:nvCxnSpPr>
        <p:spPr>
          <a:xfrm flipH="1" rot="16200000">
            <a:off x="1008720" y="2781360"/>
            <a:ext cx="743760" cy="248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73392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6520" y="2955960"/>
            <a:ext cx="19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Sintá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Semân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4114800"/>
            <a:ext cx="22100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1680" y="426708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strução de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gras de Extr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411480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120" y="4267080"/>
            <a:ext cx="126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d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iscurs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24760" y="54864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08280" y="5562720"/>
            <a:ext cx="17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Preenchiment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de Templa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6" idx="3"/>
            <a:endCxn id="249" idx="1"/>
          </p:cNvCxnSpPr>
          <p:nvPr/>
        </p:nvCxnSpPr>
        <p:spPr>
          <a:xfrm>
            <a:off x="3392640" y="3295800"/>
            <a:ext cx="265680" cy="1152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8" idx="2"/>
            <a:endCxn id="250" idx="0"/>
          </p:cNvCxnSpPr>
          <p:nvPr/>
        </p:nvCxnSpPr>
        <p:spPr>
          <a:xfrm>
            <a:off x="4648320" y="3753000"/>
            <a:ext cx="38880" cy="3434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2" idx="3"/>
            <a:endCxn id="254" idx="0"/>
          </p:cNvCxnSpPr>
          <p:nvPr/>
        </p:nvCxnSpPr>
        <p:spPr>
          <a:xfrm>
            <a:off x="7943400" y="4571640"/>
            <a:ext cx="57960" cy="896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1" idx="3"/>
            <a:endCxn id="252" idx="1"/>
          </p:cNvCxnSpPr>
          <p:nvPr/>
        </p:nvCxnSpPr>
        <p:spPr>
          <a:xfrm flipV="1">
            <a:off x="5790960" y="4571640"/>
            <a:ext cx="286200" cy="4680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grpSp>
        <p:nvGrpSpPr>
          <p:cNvPr id="260" name=""/>
          <p:cNvGrpSpPr/>
          <p:nvPr/>
        </p:nvGrpSpPr>
        <p:grpSpPr>
          <a:xfrm>
            <a:off x="1447920" y="1676520"/>
            <a:ext cx="6172200" cy="3124080"/>
            <a:chOff x="1447920" y="1676520"/>
            <a:chExt cx="6172200" cy="3124080"/>
          </a:xfrm>
        </p:grpSpPr>
        <p:sp>
          <p:nvSpPr>
            <p:cNvPr id="261" name=""/>
            <p:cNvSpPr/>
            <p:nvPr/>
          </p:nvSpPr>
          <p:spPr>
            <a:xfrm>
              <a:off x="1447920" y="1676520"/>
              <a:ext cx="6172200" cy="192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8600" bIns="228600" anchor="t">
              <a:spAutoFit/>
            </a:bodyPr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Relações entre sentenças do texto.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Correferência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Ligações entre palavras.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114800" y="3962520"/>
              <a:ext cx="1828800" cy="838080"/>
            </a:xfrm>
            <a:custGeom>
              <a:avLst/>
              <a:gdLst>
                <a:gd name="textAreaLeft" fmla="*/ 609480 w 1828800"/>
                <a:gd name="textAreaRight" fmla="*/ 1566360 w 1828800"/>
                <a:gd name="textAreaTop" fmla="*/ 482760 h 838080"/>
                <a:gd name="textAreaBottom" fmla="*/ 7178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24B5-8BC2-4271-A669-9D100F22B7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PLN - Preenchimento dos Template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600200"/>
            <a:ext cx="17528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9400" y="187812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Tokeniz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5320" y="294480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Léxica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Morfológ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8" idx="1"/>
          </p:cNvCxnSpPr>
          <p:nvPr/>
        </p:nvCxnSpPr>
        <p:spPr>
          <a:xfrm flipH="1" rot="16200000">
            <a:off x="1008720" y="2781360"/>
            <a:ext cx="743760" cy="248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3733920" y="281952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6520" y="2955960"/>
            <a:ext cx="19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Sintá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/Semântic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4114800"/>
            <a:ext cx="22100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31680" y="426708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strução de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gras de Extraçã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4114800"/>
            <a:ext cx="18288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120" y="4267080"/>
            <a:ext cx="126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álise de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iscurs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24760" y="54864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08280" y="5562720"/>
            <a:ext cx="170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Preenchimento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Times New Roman"/>
              </a:rPr>
              <a:t>de Templat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9" idx="3"/>
            <a:endCxn id="272" idx="1"/>
          </p:cNvCxnSpPr>
          <p:nvPr/>
        </p:nvCxnSpPr>
        <p:spPr>
          <a:xfrm>
            <a:off x="3392640" y="3295800"/>
            <a:ext cx="265680" cy="1152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2"/>
            <a:endCxn id="273" idx="0"/>
          </p:cNvCxnSpPr>
          <p:nvPr/>
        </p:nvCxnSpPr>
        <p:spPr>
          <a:xfrm>
            <a:off x="4648320" y="3753000"/>
            <a:ext cx="38880" cy="34344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5" idx="3"/>
            <a:endCxn id="277" idx="0"/>
          </p:cNvCxnSpPr>
          <p:nvPr/>
        </p:nvCxnSpPr>
        <p:spPr>
          <a:xfrm>
            <a:off x="7943400" y="4571640"/>
            <a:ext cx="57960" cy="8960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4" idx="3"/>
            <a:endCxn id="275" idx="1"/>
          </p:cNvCxnSpPr>
          <p:nvPr/>
        </p:nvCxnSpPr>
        <p:spPr>
          <a:xfrm flipV="1">
            <a:off x="5790960" y="4571640"/>
            <a:ext cx="286200" cy="4680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grpSp>
        <p:nvGrpSpPr>
          <p:cNvPr id="283" name=""/>
          <p:cNvGrpSpPr/>
          <p:nvPr/>
        </p:nvGrpSpPr>
        <p:grpSpPr>
          <a:xfrm>
            <a:off x="2057400" y="3505320"/>
            <a:ext cx="6172200" cy="2666880"/>
            <a:chOff x="2057400" y="3505320"/>
            <a:chExt cx="6172200" cy="2666880"/>
          </a:xfrm>
        </p:grpSpPr>
        <p:sp>
          <p:nvSpPr>
            <p:cNvPr id="284" name=""/>
            <p:cNvSpPr/>
            <p:nvPr/>
          </p:nvSpPr>
          <p:spPr>
            <a:xfrm>
              <a:off x="2057400" y="3505320"/>
              <a:ext cx="6172200" cy="1554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8600" bIns="228600" anchor="t">
              <a:spAutoFit/>
            </a:bodyPr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Preenches os dados em templates especificados pela aplicação.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66"/>
                  </a:solidFill>
                  <a:latin typeface="Times New Roman"/>
                </a:rPr>
                <a:t>Objetos ou tabelas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724280" y="5334120"/>
              <a:ext cx="1828800" cy="838080"/>
            </a:xfrm>
            <a:custGeom>
              <a:avLst/>
              <a:gdLst>
                <a:gd name="textAreaLeft" fmla="*/ 609480 w 1828800"/>
                <a:gd name="textAreaRight" fmla="*/ 1566360 w 1828800"/>
                <a:gd name="textAreaTop" fmla="*/ 482760 h 838080"/>
                <a:gd name="textAreaBottom" fmla="*/ 7178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ff"/>
            </a:solidFill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D513-2279-4B68-96A5-DEE9030486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Avaliação do Sistema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Corpus Etiquetad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Cobertura X Precisã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F-Measure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Taxa Mínima de 90%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673640" y="3902040"/>
            <a:ext cx="49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Measure = (2 * Cobertura * Precisão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(Cobertura + Precisão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1160" y="4343400"/>
            <a:ext cx="28954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DE6E-F9BB-4370-94C4-08950B822C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Problemas - PLN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Adequação de Teoria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Custo de Etiquetagem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Técnicas automática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Custo de Produçã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Seis especialistas mês 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9F60-988A-4B0E-B7E2-24C99934E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PLN X Homem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Tipster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38 paginas de regra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Artigos de 10 pagina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284720"/>
            <a:ext cx="5791320" cy="1813680"/>
            <a:chOff x="1295280" y="4284720"/>
            <a:chExt cx="5791320" cy="1813680"/>
          </a:xfrm>
        </p:grpSpPr>
        <p:grpSp>
          <p:nvGrpSpPr>
            <p:cNvPr id="299" name=""/>
            <p:cNvGrpSpPr/>
            <p:nvPr/>
          </p:nvGrpSpPr>
          <p:grpSpPr>
            <a:xfrm>
              <a:off x="1295280" y="4284720"/>
              <a:ext cx="5791320" cy="1813680"/>
              <a:chOff x="1295280" y="4284720"/>
              <a:chExt cx="5791320" cy="1813680"/>
            </a:xfrm>
          </p:grpSpPr>
          <p:sp>
            <p:nvSpPr>
              <p:cNvPr id="300" name=""/>
              <p:cNvSpPr/>
              <p:nvPr/>
            </p:nvSpPr>
            <p:spPr>
              <a:xfrm>
                <a:off x="1523520" y="4284720"/>
                <a:ext cx="178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9900"/>
                    </a:solidFill>
                    <a:latin typeface="Verdana"/>
                  </a:rPr>
                  <a:t>Homem</a:t>
                </a: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42800" y="4305240"/>
                <a:ext cx="174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9900"/>
                    </a:solidFill>
                    <a:latin typeface="Verdana"/>
                  </a:rPr>
                  <a:t>Máquina</a:t>
                </a: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29320" y="43340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9900"/>
                    </a:solidFill>
                    <a:latin typeface="Verdana"/>
                  </a:rPr>
                  <a:t>X</a:t>
                </a:r>
                <a:endParaRPr b="0" lang="en-US" sz="28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95280" y="50292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Verdana"/>
                  </a:rPr>
                  <a:t>60% a 80%</a:t>
                </a: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72000" y="50292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Verdana"/>
                  </a:rPr>
                  <a:t>50%</a:t>
                </a: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95280" y="5638680"/>
                <a:ext cx="2514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0" y="56386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Verdana"/>
                  </a:rPr>
                  <a:t>30 minutos</a:t>
                </a: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812960" y="563868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20 horas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5E11-C2BC-4593-9184-D3F380C7E2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Wrapper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Ferramenta usada para extrair dados de textos estruturados ou com algum tipo de estrutura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Usada para permitir acesso integrado a base de dados heterogênea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Não usa conhecimento lingüístic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Identifica padrões no document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D242-2445-460F-ACAA-923DD3C5AD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Tarefas &amp; Construção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3 Tarefa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Recuperar/ler documento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Extrair informaçõe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Estruturar os dados (ex. BD)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Construçã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Depende do problema a ser resolvido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Abordagem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Manual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Semi-automática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automática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BC0F-0780-43F0-9BC4-7AC67D8EA9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Construção Manual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Regras escritas manualmente em uma linguagem de programaçã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0686-1912-4B6A-9CC7-91CE4CF1E1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Construção Manual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Pró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53d"/>
                </a:solidFill>
                <a:latin typeface="Verdana"/>
              </a:rPr>
              <a:t>Maior precisão 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53d"/>
                </a:solidFill>
                <a:latin typeface="Verdana"/>
              </a:rPr>
              <a:t>Técnica simple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Contra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53d"/>
                </a:solidFill>
                <a:latin typeface="Verdana"/>
              </a:rPr>
              <a:t>Tempo e esforço de desenvolvimento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53d"/>
                </a:solidFill>
                <a:latin typeface="Verdana"/>
              </a:rPr>
              <a:t>Habilidade para definição das regra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53d"/>
                </a:solidFill>
                <a:latin typeface="Verdana"/>
              </a:rPr>
              <a:t>Mudança no código caso a estrutura dos documentos seja alterada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EF36-9A13-4195-B5D7-9316C8FFEB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COIN (Context Interchange)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Utiliza </a:t>
            </a:r>
            <a:r>
              <a:rPr b="0" i="1" lang="pt-BR" sz="2800" spc="-1" strike="noStrike">
                <a:solidFill>
                  <a:srgbClr val="ffb53d"/>
                </a:solidFill>
                <a:latin typeface="Verdana"/>
              </a:rPr>
              <a:t>wrappers</a:t>
            </a: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 para permitir acesso integrado a fontes de dados heterogênea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A intenção é construir wrappers com interfaces genérica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Proporcionar facilidade de reuso de códig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C287-8D92-41C5-9DA6-D99B33EF0A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0574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Trata o problema de extração de dados a partir de uma coleção de documentos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Apenas informações relevante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Extração de Informaçõe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447920"/>
            <a:ext cx="8610480" cy="75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3F99-D47F-47A5-BC27-6B849BC0BD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Arquitetura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2438280"/>
            <a:ext cx="3124080" cy="457200"/>
          </a:xfrm>
          <a:prstGeom prst="flowChartProcess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Interpretador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3352680"/>
            <a:ext cx="3124080" cy="457200"/>
          </a:xfrm>
          <a:prstGeom prst="flowChartProcess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Projetista/Otimizador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4267080"/>
            <a:ext cx="3124080" cy="457200"/>
          </a:xfrm>
          <a:prstGeom prst="flowChartProcess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Interpretador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181480" y="3108240"/>
            <a:ext cx="3352680" cy="1752480"/>
            <a:chOff x="5181480" y="3108240"/>
            <a:chExt cx="3352680" cy="1752480"/>
          </a:xfrm>
        </p:grpSpPr>
        <p:sp>
          <p:nvSpPr>
            <p:cNvPr id="329" name=""/>
            <p:cNvSpPr/>
            <p:nvPr/>
          </p:nvSpPr>
          <p:spPr>
            <a:xfrm>
              <a:off x="5181480" y="3108240"/>
              <a:ext cx="3352680" cy="838080"/>
            </a:xfrm>
            <a:prstGeom prst="flowChartProcess">
              <a:avLst/>
            </a:prstGeom>
            <a:solidFill>
              <a:srgbClr val="000066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Verdana"/>
                </a:rPr>
                <a:t>Executor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1480" y="3946320"/>
              <a:ext cx="3352680" cy="457200"/>
            </a:xfrm>
            <a:prstGeom prst="flowChartProcess">
              <a:avLst/>
            </a:prstGeom>
            <a:solidFill>
              <a:srgbClr val="000066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Verdana"/>
                </a:rPr>
                <a:t>Casamento de padrões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403520"/>
              <a:ext cx="3352680" cy="457200"/>
            </a:xfrm>
            <a:prstGeom prst="flowChartProcess">
              <a:avLst/>
            </a:prstGeom>
            <a:solidFill>
              <a:srgbClr val="000066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Verdana"/>
                </a:rPr>
                <a:t>Acesso à rede</a:t>
              </a:r>
              <a:endParaRPr b="0" lang="en-US" sz="20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371600" y="5257800"/>
            <a:ext cx="2286000" cy="762120"/>
          </a:xfrm>
          <a:prstGeom prst="flowChartDocument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Especificaçõ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43600" y="5546880"/>
            <a:ext cx="685800" cy="761760"/>
          </a:xfrm>
          <a:prstGeom prst="flowChartDocument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5470560"/>
            <a:ext cx="685800" cy="762120"/>
          </a:xfrm>
          <a:prstGeom prst="flowChartDocument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48006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38862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209680" y="297108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5013360"/>
            <a:ext cx="53316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15200" y="493704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6232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Documentos Web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333684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1600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onsult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2" idx="2"/>
            <a:endCxn id="325" idx="0"/>
          </p:cNvCxnSpPr>
          <p:nvPr/>
        </p:nvCxnSpPr>
        <p:spPr>
          <a:xfrm flipV="1" rot="10800000">
            <a:off x="2552040" y="1996560"/>
            <a:ext cx="1080" cy="442080"/>
          </a:xfrm>
          <a:prstGeom prst="curvedConnector2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5105520" y="1905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Resultado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endCxn id="344" idx="2"/>
          </p:cNvCxnSpPr>
          <p:nvPr/>
        </p:nvCxnSpPr>
        <p:spPr>
          <a:xfrm flipV="1" rot="16200000">
            <a:off x="6252840" y="2486880"/>
            <a:ext cx="791280" cy="419760"/>
          </a:xfrm>
          <a:prstGeom prst="curvedConnector5">
            <a:avLst>
              <a:gd name="adj1" fmla="val 49977"/>
              <a:gd name="adj2" fmla="val 49957"/>
              <a:gd name="adj3" fmla="val 49977"/>
            </a:avLst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EBD2-55CC-44F5-ADE3-121D007DC0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ProdExt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Extração de dados sobre produção técnica.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Ex. Autor, Título, Local, Data, ...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Textos semi-estruturado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Arquitetura Híbrida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582E-A88F-44FA-9A7B-A7C70ECB03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ProdExt - PLN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Análise Léxica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53d"/>
                </a:solidFill>
                <a:latin typeface="Verdana"/>
              </a:rPr>
              <a:t>Identificação de nomes de lugares, datas, veículos, nomes próprios (desejável)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Dicionário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53d"/>
                </a:solidFill>
                <a:latin typeface="Verdana"/>
              </a:rPr>
              <a:t>Veiculo de publicação, editora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844A-B6F7-46D4-B18A-74F7FE947A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ProdExt - Wrapper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Regras com pes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Autor, Título, Veiculo de Produção, ...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Ex. Regra para Títul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3886200"/>
            <a:ext cx="746748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Se cadeia tem sinal de hifem ou dois pontos: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ENTÃO  incrementa a chance de ser Título( 0.25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e incrementa a chance de ser Veículo( 0.2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e incrementa a chance de ser Local( 0.1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e incrementa a chance de ser Editora( 0.015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D590-223A-479C-BB50-4EE3B4476F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Construção semi-automática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Uso de uma ferramenta no desenvolviment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Especificado de maneira interativa e com uso de exemplo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O usuário delimita trechos que interessam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D222-EF04-47D1-B2A1-65C9FB9AD2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b53d"/>
                </a:solidFill>
                <a:latin typeface="Verdana"/>
              </a:rPr>
              <a:t>Construção semi-automática</a:t>
            </a:r>
            <a:endParaRPr b="0" lang="en-US" sz="3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Com base nos trechos selecionados, a ferramenta define um padrão sintátic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O resultado é um conjunto de dados estruturados de acordo com o modelo criado pela ferramenta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4A6A-2B39-4B16-A380-7E56DAE0CD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b53d"/>
                </a:solidFill>
                <a:latin typeface="Verdana"/>
              </a:rPr>
              <a:t>Construção semi-automática</a:t>
            </a:r>
            <a:endParaRPr b="0" lang="en-US" sz="3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Prós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Torna mais rápido e fácil o desenvolvimento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Contras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Caso a estrutura do documento seja modificado o wrapper tem que ser refeito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8271-55ED-4DF4-BA01-138C362E29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NoDoSe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Ferramenta para estruturar e extrair dados de forma semi-automática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Tanto o processo de estruturação quanto o de extração ocorre interativamente 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909E-5410-48EC-A2BE-91A52B502E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O processo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Especificar como os dados devem ser modelados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A estrutura é  constituída de um conjunto de nó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Cada nó é descrito por uma lista de atributos onde cada atributo tem a forma: &lt;nome, valor&gt;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Decompor o documento em regiões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As regiões são mapeadas em nó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Definir o formato de saída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Relatórios, BD etc. 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21CF-8F3C-4AF8-9308-A7EDDC98AF1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Construção Automática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Utiliza indução para encontrar padrões a partir de um conjunto de exemplo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O processo de aprendizagem pode gerar várias hipóteses para um mesmo dad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A solução é ajustar o algoritmo de aprendizagem para obedecer alguns critério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4F43-CFBB-493E-9AB4-80A5968F9C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IR x IE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IR (Information Retrieval)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recuperação de páginas (documentos)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ex. nosso projeto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IE (Information Extraction)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recuperar dados dentro de documento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deadlines, locais e assuntos em páginas de “call for papers”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37160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5647-84D5-4F36-8B28-50F5D3D2AB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Construção Automática 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Três aspectos a considerar em relação ao processo de aprendizagem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Aprendizagem o corre de maneira incremental ou o </a:t>
            </a:r>
            <a:r>
              <a:rPr b="0" i="1" lang="pt-BR" sz="2400" spc="-1" strike="noStrike">
                <a:solidFill>
                  <a:srgbClr val="ffb53d"/>
                </a:solidFill>
                <a:latin typeface="Verdana"/>
              </a:rPr>
              <a:t>corpus</a:t>
            </a: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 é definido antecipadamente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Em que linguagem(ou formalismo) será descrito o corpus e as hipóteses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O algoritmo terá abordagem </a:t>
            </a:r>
            <a:r>
              <a:rPr b="0" i="1" lang="pt-BR" sz="2400" spc="-1" strike="noStrike">
                <a:solidFill>
                  <a:srgbClr val="ffb53d"/>
                </a:solidFill>
                <a:latin typeface="Verdana"/>
              </a:rPr>
              <a:t>top-down</a:t>
            </a: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 ou </a:t>
            </a:r>
            <a:r>
              <a:rPr b="0" i="1" lang="pt-BR" sz="2400" spc="-1" strike="noStrike">
                <a:solidFill>
                  <a:srgbClr val="ffb53d"/>
                </a:solidFill>
                <a:latin typeface="Verdana"/>
              </a:rPr>
              <a:t>bottom-up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28A3-84DF-47D7-BC95-13EA6D2F3D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Construção Automática 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Prós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Não requer nenhum esforço humano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Contras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As regras dependem do dos exemplos de treinamento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Caso a estrutura dos documentos seja alterada torna-se necessário selecionar um novo </a:t>
            </a:r>
            <a:r>
              <a:rPr b="0" i="1" lang="pt-BR" sz="2400" spc="-1" strike="noStrike">
                <a:solidFill>
                  <a:srgbClr val="ffb53d"/>
                </a:solidFill>
                <a:latin typeface="Verdana"/>
              </a:rPr>
              <a:t>corpus</a:t>
            </a: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 e repetir o processo de aprendizagem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84B8-6D45-446F-BF2B-2EDE27B9AC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ShopBot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Agente de compras para comércio eletrônic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Realiza consultas em lojas on-line e extrai e resume informações de interesse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Duas fases de atuação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Aprendizado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b5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Analisa páginas utilizando técnicas de aprendizagem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Comparação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b53d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Encontra o melhor preço de um produto específico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9C04-F13E-4B2C-9D2C-65DB9E7E77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Análise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Procura-se padrões no código do documento HTML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Cria uma seqüência de registros separadas por tags visualmente perceptíveis como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&lt;HR&gt;, &lt;P&gt;, &lt;BR&gt;, &lt;LI&gt;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Gera uma assinatura para cada registro através da remoção de tags HTML.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F665-3BE5-494D-BE3E-7BFD599D465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Análise 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Página de entrada:</a:t>
            </a: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2895480"/>
            <a:ext cx="6248160" cy="2562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title&gt;CD’s&lt;/title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B&gt;Preços&lt;/B&gt;&lt;P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B&gt;Pixies&lt;/B&gt; &lt;I&gt;23,00&lt;/I&gt;&lt;br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B&gt;The Cure&lt;/B&gt; &lt;I&gt;22,00&lt;/I&gt;&lt;br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B&gt;Suede&lt;/B&gt; &lt;I&gt;22,00&lt;/I&gt;&lt;br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body&gt;  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 /html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317C-9FC4-40F0-AED3-A79F0747C2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Análise 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Assinatura:</a:t>
            </a:r>
            <a:r>
              <a:rPr b="0" lang="en-US" sz="2800" spc="-1" strike="noStrike">
                <a:solidFill>
                  <a:srgbClr val="ffb53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838080" y="2590920"/>
            <a:ext cx="754380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html&gt; &lt;title&gt;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text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title&gt; &lt;body&gt; &lt;B&gt;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text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B&gt;&lt;P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B&gt;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text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B&gt; &lt;I&gt;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text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I&gt;&lt;br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B&gt;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text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B&gt; &lt;I&gt;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text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I&gt;&lt;br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B&gt;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text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B&gt; &lt;I&gt;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text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I&gt;&lt;br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/body&gt; &lt;/html&gt;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44197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A primeira e a última linha representam, cada uma, apenas 1/5 das assinaturas, enquanto as outras, idênticas, representam 3/5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O shopBot descarta então, a primeira e a última linha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8A52-C59E-4121-8D0D-169EEF9C42E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Avaliação de Wrapper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O modo de avaliação não é padrão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Podem ser usados: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Tempo de processamento em relação ao volumes de dados;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Taxa de erros;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Custo e eficácia no processo de aprendizagem;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F-measure, etc.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119C-3587-4079-87AA-EA63DCA48D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b53d"/>
                </a:solidFill>
                <a:latin typeface="Verdana"/>
              </a:rPr>
              <a:t>Bibliográfia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Rodrigues Nunes C.C. ProdExt: Um Wrapper para Extração de Produção Técnica e Científica de Páginas Eletrônicas. Dissertação de Mestrado, UFPE, 2000.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Cowie J., Lehnert W.. Information extraction. Comunications of the ACM, 39(1):80-91, January 1996.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Maruyama H., Tamura K., Uramoto N. XML and Java.Addison-Wesle, 1998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8277-EA22-4BBB-B22C-216FBD829A0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Contexto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80880" y="1905120"/>
            <a:ext cx="1752840" cy="1143000"/>
            <a:chOff x="380880" y="1905120"/>
            <a:chExt cx="1752840" cy="1143000"/>
          </a:xfrm>
        </p:grpSpPr>
        <p:sp>
          <p:nvSpPr>
            <p:cNvPr id="56" name=""/>
            <p:cNvSpPr/>
            <p:nvPr/>
          </p:nvSpPr>
          <p:spPr>
            <a:xfrm>
              <a:off x="380880" y="1905120"/>
              <a:ext cx="1752840" cy="1143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1240" y="220968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ocumentos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571800" y="4686120"/>
            <a:ext cx="2191320" cy="1714680"/>
            <a:chOff x="6571800" y="4686120"/>
            <a:chExt cx="2191320" cy="1714680"/>
          </a:xfrm>
        </p:grpSpPr>
        <p:grpSp>
          <p:nvGrpSpPr>
            <p:cNvPr id="59" name=""/>
            <p:cNvGrpSpPr/>
            <p:nvPr/>
          </p:nvGrpSpPr>
          <p:grpSpPr>
            <a:xfrm>
              <a:off x="6571800" y="4686120"/>
              <a:ext cx="2191320" cy="1714680"/>
              <a:chOff x="6571800" y="4686120"/>
              <a:chExt cx="2191320" cy="1714680"/>
            </a:xfrm>
          </p:grpSpPr>
          <p:sp>
            <p:nvSpPr>
              <p:cNvPr id="60" name=""/>
              <p:cNvSpPr/>
              <p:nvPr/>
            </p:nvSpPr>
            <p:spPr>
              <a:xfrm>
                <a:off x="6934320" y="5257800"/>
                <a:ext cx="1828800" cy="1143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cxnSp>
            <p:nvCxnSpPr>
              <p:cNvPr id="61" name=""/>
              <p:cNvCxnSpPr>
                <a:stCxn id="62" idx="3"/>
                <a:endCxn id="60" idx="1"/>
              </p:cNvCxnSpPr>
              <p:nvPr/>
            </p:nvCxnSpPr>
            <p:spPr>
              <a:xfrm>
                <a:off x="6571800" y="4686120"/>
                <a:ext cx="343800" cy="1143720"/>
              </a:xfrm>
              <a:prstGeom prst="bentConnector3">
                <a:avLst>
                  <a:gd name="adj1" fmla="val 50000"/>
                </a:avLst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</p:cxnSp>
        </p:grpSp>
        <p:sp>
          <p:nvSpPr>
            <p:cNvPr id="63" name=""/>
            <p:cNvSpPr/>
            <p:nvPr/>
          </p:nvSpPr>
          <p:spPr>
            <a:xfrm>
              <a:off x="6934320" y="5562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dos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152800" y="2476440"/>
            <a:ext cx="2190600" cy="1638360"/>
            <a:chOff x="2152800" y="2476440"/>
            <a:chExt cx="2190600" cy="1638360"/>
          </a:xfrm>
        </p:grpSpPr>
        <p:sp>
          <p:nvSpPr>
            <p:cNvPr id="65" name=""/>
            <p:cNvSpPr/>
            <p:nvPr/>
          </p:nvSpPr>
          <p:spPr>
            <a:xfrm>
              <a:off x="2514600" y="2971800"/>
              <a:ext cx="1828800" cy="1143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3160" y="327672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icação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6" idx="3"/>
              <a:endCxn id="65" idx="1"/>
            </p:cNvCxnSpPr>
            <p:nvPr/>
          </p:nvCxnSpPr>
          <p:spPr>
            <a:xfrm>
              <a:off x="2152800" y="2476440"/>
              <a:ext cx="343440" cy="1067760"/>
            </a:xfrm>
            <a:prstGeom prst="bentConnector3">
              <a:avLst>
                <a:gd name="adj1" fmla="val 49947"/>
              </a:avLst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362480" y="3543120"/>
            <a:ext cx="2190600" cy="1714680"/>
            <a:chOff x="4362480" y="3543120"/>
            <a:chExt cx="2190600" cy="1714680"/>
          </a:xfrm>
        </p:grpSpPr>
        <p:sp>
          <p:nvSpPr>
            <p:cNvPr id="62" name=""/>
            <p:cNvSpPr/>
            <p:nvPr/>
          </p:nvSpPr>
          <p:spPr>
            <a:xfrm>
              <a:off x="4724280" y="4114800"/>
              <a:ext cx="1828800" cy="1143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99880" y="4267080"/>
              <a:ext cx="163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Extração de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formação</a:t>
              </a: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3"/>
              <a:endCxn id="62" idx="1"/>
            </p:cNvCxnSpPr>
            <p:nvPr/>
          </p:nvCxnSpPr>
          <p:spPr>
            <a:xfrm>
              <a:off x="4362480" y="3543120"/>
              <a:ext cx="343440" cy="1143720"/>
            </a:xfrm>
            <a:prstGeom prst="bentConnector3">
              <a:avLst>
                <a:gd name="adj1" fmla="val 49947"/>
              </a:avLst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326F-5776-43F2-8571-4AB068EAE6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Histórico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Linguistic String Project (60)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FRUMP - newswire (79)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DARPA - Grupos de Pesquisa (80)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MUC - Message Understanding Conference (80)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295280"/>
            <a:ext cx="800100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51D0-8173-4DE8-85B2-80469F9AC5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Tipos de Texto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Estruturado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Ex. tabelas, listas, XML, ...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Não estruturado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Ex. Fichas médicas, artigos, reportagens, ...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b53d"/>
                </a:solidFill>
                <a:latin typeface="Verdana"/>
              </a:rPr>
              <a:t>Semi-estruturados</a:t>
            </a: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Ex. Referencias bibliográficas, anuncios, ...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95280"/>
            <a:ext cx="800100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AD86-31E2-4318-B839-F980C19AE7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Texto Estruturado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828800"/>
            <a:ext cx="7467480" cy="2288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html&gt;&lt;title&gt;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Some Country Code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/title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body&gt;&lt;b&gt;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Some Country Cod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/b&gt;&lt;p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b&gt;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Cong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/b&gt;&lt;i&gt;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24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/i&gt;&lt;BR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b&gt;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Egyp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/b&gt;&lt;i&gt;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/i&gt;&lt;BR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b&gt;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Brazi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/b&gt;&lt;i&gt;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55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/i&gt;&lt;BR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/body&gt;&lt;/html&gt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295280"/>
            <a:ext cx="800100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648320"/>
            <a:ext cx="3276360" cy="155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Some Country Code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ongo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000066"/>
                </a:solidFill>
                <a:latin typeface="Times New Roman"/>
              </a:rPr>
              <a:t>24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Egyp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Brazil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000066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FC86-3379-424E-8C24-B6EAE4B3B9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53d"/>
                </a:solidFill>
                <a:latin typeface="Verdana"/>
              </a:rPr>
              <a:t>Texto Não Estruturados</a:t>
            </a:r>
            <a:endParaRPr b="0" lang="en-US" sz="4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b5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b53d"/>
                </a:solidFill>
                <a:latin typeface="Verdana"/>
              </a:rPr>
              <a:t>Evento</a:t>
            </a:r>
            <a:endParaRPr b="0" lang="en-US" sz="24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Pessoa Entrando: C. Vicent Protho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Pessoa Saindo: John W. Smith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b5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b53d"/>
                </a:solidFill>
                <a:latin typeface="Verdana"/>
              </a:rPr>
              <a:t>Cargo: Presidente</a:t>
            </a: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53d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752480"/>
            <a:ext cx="678168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Times New Roman"/>
              </a:rPr>
              <a:t>C. Vicent Protho, diretor executivo do deste fabricante de chips, foi nomeado ao posto adicional de presidente , sucedendo John W. Smith, que renunciou o cargo em vista de outros interesse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295280"/>
            <a:ext cx="800100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95280"/>
            <a:ext cx="8610480" cy="763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E46A-1438-42CB-88BA-E0365B385D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6T17:17:04Z</dcterms:created>
  <dc:creator>Diario de Pernambuco S/A</dc:creator>
  <dc:description/>
  <dc:language>en-US</dc:language>
  <cp:lastModifiedBy>igcf</cp:lastModifiedBy>
  <dcterms:modified xsi:type="dcterms:W3CDTF">2000-05-11T18:55:31Z</dcterms:modified>
  <cp:revision>54</cp:revision>
  <dc:subject/>
  <dc:title>wrapp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NT\Profiles\igcf\Persona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