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A237-FEAA-4C13-9464-DC9FAB52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BC3D-AEB7-41FD-A08A-36018344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F1C1-6D56-4ACC-8D05-3CE73221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728D-C39C-470D-85F9-8486B106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BEC5-87D3-49F7-AA3F-0B8F237E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D0F1-9FF8-4F41-91B9-32DBB2D3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1B8E-BEC9-448C-99E1-1837A2CC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C072-291A-4710-85EF-2D428E3C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5B19-BEB1-4386-8EFE-76318C53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5A27-358B-4B5C-81CB-58D0FE92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99C6-A47D-47E1-8435-A45D2E04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C252-44E1-4A46-9712-C07439CD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C200-2EBF-4F11-9CD3-A7E7633B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C48A-C5D0-438F-9433-7795AF81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E783-4F49-4774-B97B-34050025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9805-E8A4-4A29-88BD-DFAF92F6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A203-B833-44FF-8F8A-80C42638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3CE3-E3B9-4D74-A9FD-4CAB0976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CFCA-27EA-44A0-B94D-97DD40E2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2B3C-B26B-4136-8215-4982D6FA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D506-1843-4510-BA77-36153F30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B422-187F-49BF-9A33-A878105D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C544-CAF4-4CEC-B2B5-AC77E33B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0C05-7E54-4F07-8903-C882AFDD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21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2100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21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21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3B35-1A17-4AD5-8852-997A460F2F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04920" y="131436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C4B0-676C-4D5E-B7B5-4B9CD50D27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-commer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lávio Couto(frco@di.ufpe.br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Thiago Santos(tlvls@di.ufpe.br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B3B8-7728-4F4E-AD77-0F94841984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o ganhar confiança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ção do tempo e competênci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032d7460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5983200" cy="414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4378-5918-4CB7-AA1F-4CD2C2C138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o ganhar confiança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034f4410" descr=""/>
          <p:cNvPicPr/>
          <p:nvPr/>
        </p:nvPicPr>
        <p:blipFill>
          <a:blip r:embed="rId1"/>
          <a:stretch/>
        </p:blipFill>
        <p:spPr>
          <a:xfrm>
            <a:off x="2792520" y="2133720"/>
            <a:ext cx="6351480" cy="407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4920" y="2209680"/>
            <a:ext cx="26668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íveis de confiança gradativ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ínseco: O usuário confia sem question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ínseco: O usuário não sabe se pode conf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894D-2252-4E80-966B-73CF290C80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racterísticas importan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Seis características que transmitem confiança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presentação: Design até os produ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arca: Reconhecimento e credibilid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ntrega: Rápida e preci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Navegação: Simplicidade e objetivid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Tecnologia atualizada: Confiabilidade e longevid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Logos das firmas de segurança/garantia: Certificados fornecido por instituições já conhecidas e respeitadas dos usuár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1B71-7EC2-40B0-A6FE-D85EB502EF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gurança em Transaçõ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 segurança e a confidencialidade nas transações comerciais, por exemplo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ET (Visa e Mastercar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4541-3AEE-49B2-8E09-20B85BCBE1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ssl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476760" cy="50590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SSL Netscap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1F64-DE9D-4C1D-AB9D-83CB5021B8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luções de comércio eletrô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Hewlett Packard - HP Domain Commer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Verifone - VPO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Microsoft - Site Server Commerce Edi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Soluções Gratuitas - Minivend e Perlshop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BM - WebSpher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4A41-8BAA-4419-8719-07C941FE69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(R)evolução do e-commer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Hoj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amento do ped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manhã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ppings eletrôn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entes fazendo lançes em leilõ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1981080"/>
            <a:ext cx="38098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SUÁRIO = BUSCA DE INFORMAÇÕES, TOMADA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CISÃO &amp; COMP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UTOMATIZADO = BUSCA DE INFORMAÇÕES, TOMADA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CISÃO &amp; COMP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28954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1EDB-3A97-4866-8227-703A5761AF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AMEC - agent-mediated electronic commer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Serviços inteligentes de pré-vend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nde compr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 que compr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quanto pag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Serviços inteligentes de pós-vend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odutos correla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companhamento (help-des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25CB-BA64-47CE-868A-738AE7B9B2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gentes no Comércio Eletrôn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sados para automatizar todos os estágios de um processo de compra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3200400"/>
            <a:ext cx="4711680" cy="3271680"/>
          </a:xfrm>
          <a:prstGeom prst="rect">
            <a:avLst/>
          </a:prstGeom>
          <a:solidFill>
            <a:srgbClr val="d8a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2440" y="34383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25720" y="342432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NDE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34640" y="6091200"/>
            <a:ext cx="222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 E OUTROS AG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22600" y="3500280"/>
            <a:ext cx="126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E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20760" y="357660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solidFill>
            <a:srgbClr val="20bb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40480" y="357660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solidFill>
            <a:srgbClr val="20bb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06760" y="357660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solidFill>
            <a:srgbClr val="20bb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82880" y="4186080"/>
            <a:ext cx="1447920" cy="1752840"/>
          </a:xfrm>
          <a:prstGeom prst="rect">
            <a:avLst/>
          </a:prstGeom>
          <a:solidFill>
            <a:srgbClr val="1060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82880" y="4338720"/>
            <a:ext cx="1424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cess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 compr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itérios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ferência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45200" y="4186080"/>
            <a:ext cx="1523880" cy="1752840"/>
          </a:xfrm>
          <a:prstGeom prst="rect">
            <a:avLst/>
          </a:prstGeom>
          <a:solidFill>
            <a:srgbClr val="1060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49520" y="4338720"/>
            <a:ext cx="1611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gras de ofe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 preços, 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s produto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06760" y="4338720"/>
            <a:ext cx="762120" cy="152280"/>
          </a:xfrm>
          <a:prstGeom prst="leftRightArrow">
            <a:avLst>
              <a:gd name="adj1" fmla="val 50000"/>
              <a:gd name="adj2" fmla="val 99631"/>
            </a:avLst>
          </a:prstGeom>
          <a:solidFill>
            <a:srgbClr val="20bb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36600" y="3500280"/>
            <a:ext cx="126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E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0582-534E-4513-A992-F1EA640612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tivos do Negóc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798"/>
              </a:lnSpc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mentar a eficiênci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798"/>
              </a:lnSpc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mentar as venda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798"/>
              </a:lnSpc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rcado mai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798"/>
              </a:lnSpc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tender perfis dos consumidor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8AF-CA5B-489F-92EE-3EA1F68B12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cei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 capacidade de realizar transações envolvendo a troca de bens ou serviços entre duas ou mais partes utilizando ferramentas eletrônicas e novas tecnologia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asicamente três etap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é-ven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Ven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ós-Ven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2AE4-68E8-4BD5-8FF4-72F859DF5C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tivos do Consumid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798"/>
              </a:lnSpc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viço Personalizad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798"/>
              </a:lnSpc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mento na variedade de produto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798"/>
              </a:lnSpc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lhores Preço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798"/>
              </a:lnSpc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nter-se informado das novidad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798"/>
              </a:lnSpc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contrar consumidores similar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ts val="2798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27AA-B60A-4F7F-97A8-C831CB8828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uyer Behavior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istem várias teorias descritivas e modelos para capturar comportamentos de compra;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NICOSIA MODEL, HOWARD SHETH MODEL, ENGEL BLACKWELL MODEL BETTMAN INFORMATION-PROCESSING MODEL, ANDREASEN MOD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dos este modelos compartilham uma lista de 6 estágios básico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6891-73AD-435B-A453-691D58D849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resentam uma aproximação e uma simplificação do comportamento  de compra(complexo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igração entre os estágios pode ser não-linear e iterativ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uyer Behavior Mode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(Estágios Básicos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DF43-CF8E-4C67-9F7E-C42D3FEF42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uyer Behavior Mode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(Estágios Básicos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ed identif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duct broker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rchant broker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goti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urchase and deliv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duct service and evalu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2133720"/>
            <a:ext cx="304560" cy="2209680"/>
          </a:xfrm>
          <a:custGeom>
            <a:avLst/>
            <a:gdLst>
              <a:gd name="textAreaLeft" fmla="*/ 0 w 304560"/>
              <a:gd name="textAreaRight" fmla="*/ 109800 w 30456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15000" y="2743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dos por Ag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B930-0AEA-4019-A0BE-ED56BF01A4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gentes como Mediado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onalizados, rodam continuamente e possuem autonomi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cuperação e Filtragem de informaçã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valiação Personalizad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ações baseadas no temp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9380-4D3B-4F44-9FB0-588AD58605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ed Identif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gentes de Notificaçã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084560" y="2590920"/>
            <a:ext cx="3862440" cy="2446200"/>
          </a:xfrm>
          <a:prstGeom prst="rect">
            <a:avLst/>
          </a:prstGeom>
          <a:solidFill>
            <a:srgbClr val="d8a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8800" y="2913120"/>
            <a:ext cx="973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85040" y="3191040"/>
            <a:ext cx="1244520" cy="1463400"/>
          </a:xfrm>
          <a:prstGeom prst="rect">
            <a:avLst/>
          </a:prstGeom>
          <a:solidFill>
            <a:srgbClr val="1060b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19240" y="3171960"/>
            <a:ext cx="1231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catálog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it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86640" y="3665520"/>
            <a:ext cx="30168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38640" y="3208320"/>
            <a:ext cx="1581120" cy="1363680"/>
          </a:xfrm>
          <a:prstGeom prst="rect">
            <a:avLst/>
          </a:prstGeom>
          <a:solidFill>
            <a:srgbClr val="1060b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82920" y="3171960"/>
            <a:ext cx="1446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erfil consu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3400" y="3341520"/>
            <a:ext cx="134316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Grish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ience 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ok x &lt;  $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52080" y="3774960"/>
            <a:ext cx="5547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3581280"/>
            <a:ext cx="2302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enciamento de perf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666880" y="3425400"/>
            <a:ext cx="1454400" cy="384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29200" y="3371760"/>
            <a:ext cx="5367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21080" y="2935440"/>
            <a:ext cx="8175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52480" y="2773440"/>
            <a:ext cx="168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21360" y="27432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440" y="2743200"/>
            <a:ext cx="18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GÓ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44320" y="3581280"/>
            <a:ext cx="5475240" cy="1243080"/>
            <a:chOff x="544320" y="3581280"/>
            <a:chExt cx="5475240" cy="1243080"/>
          </a:xfrm>
        </p:grpSpPr>
        <p:sp>
          <p:nvSpPr>
            <p:cNvPr id="173" name=""/>
            <p:cNvSpPr/>
            <p:nvPr/>
          </p:nvSpPr>
          <p:spPr>
            <a:xfrm flipH="1">
              <a:off x="3047760" y="3581280"/>
              <a:ext cx="2971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4320" y="4456080"/>
              <a:ext cx="30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samento perfil </a:t>
              </a:r>
              <a:r>
                <a:rPr b="0" lang="en-US" sz="18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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atálo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981080" y="4876920"/>
            <a:ext cx="457200" cy="533160"/>
          </a:xfrm>
          <a:prstGeom prst="downArrow">
            <a:avLst>
              <a:gd name="adj1" fmla="val 50000"/>
              <a:gd name="adj2" fmla="val 29154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23040" y="5410080"/>
            <a:ext cx="2462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icações por e-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BB79-45D3-41BE-84D3-262FC174FED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ed Identification(cont.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gentes de notificaçã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emplo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azon: novos livros disponíve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duto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Audio, TextPad, Microsoft, Ora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B610-ADC2-4C38-8F93-5E2F275B5A5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duct Broker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4156200" y="2579760"/>
            <a:ext cx="3778200" cy="2390760"/>
          </a:xfrm>
          <a:prstGeom prst="rect">
            <a:avLst/>
          </a:prstGeom>
          <a:solidFill>
            <a:srgbClr val="d8a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83080" y="2895480"/>
            <a:ext cx="95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02320" y="3166920"/>
            <a:ext cx="1219320" cy="1430640"/>
          </a:xfrm>
          <a:prstGeom prst="rect">
            <a:avLst/>
          </a:prstGeom>
          <a:solidFill>
            <a:srgbClr val="1060b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37960" y="3146400"/>
            <a:ext cx="9496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catá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de it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00680" y="3630600"/>
            <a:ext cx="29556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29000" y="3108240"/>
            <a:ext cx="1747800" cy="1619280"/>
          </a:xfrm>
          <a:prstGeom prst="rect">
            <a:avLst/>
          </a:prstGeom>
          <a:solidFill>
            <a:srgbClr val="1060b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07040" y="3146400"/>
            <a:ext cx="180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37640" y="3606840"/>
            <a:ext cx="1737360" cy="10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p, age, 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chase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ressed p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licit p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ressed constra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88720" y="3692520"/>
            <a:ext cx="5547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6160" y="3505320"/>
            <a:ext cx="2302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enciamento de perf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971800" y="3370320"/>
            <a:ext cx="133524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3321000"/>
            <a:ext cx="4302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59240" y="3067200"/>
            <a:ext cx="153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erfil do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13320" y="2916360"/>
            <a:ext cx="693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78680" y="27432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87600" y="274320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8200" y="27432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Ó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65000" y="3581280"/>
            <a:ext cx="5499000" cy="2066040"/>
            <a:chOff x="765000" y="3581280"/>
            <a:chExt cx="5499000" cy="2066040"/>
          </a:xfrm>
        </p:grpSpPr>
        <p:sp>
          <p:nvSpPr>
            <p:cNvPr id="198" name=""/>
            <p:cNvSpPr/>
            <p:nvPr/>
          </p:nvSpPr>
          <p:spPr>
            <a:xfrm flipH="1">
              <a:off x="3292200" y="3581280"/>
              <a:ext cx="2971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5000" y="4456080"/>
              <a:ext cx="229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ço de alto-nível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alizad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suporte a decisões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comendações, ...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066680" y="17524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es de recomend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F84-4AAE-4A58-ADBA-CAFB8AC2B85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gentes de Recomend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écnicas Utilizada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ada em reg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eração de dados do clien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drões relacionados a características de produ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drões entre consumid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ros baseados em restriçõ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duto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efly, PersonaLogic, Tete-a-Tete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094C-F0A7-4567-AFDF-A234339D3D4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rchant Broker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gentes de Comp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83080" y="2895480"/>
            <a:ext cx="13986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56200" y="2579760"/>
            <a:ext cx="2092320" cy="2390760"/>
          </a:xfrm>
          <a:prstGeom prst="rect">
            <a:avLst/>
          </a:prstGeom>
          <a:solidFill>
            <a:srgbClr val="d8a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15240" y="3166920"/>
            <a:ext cx="1218960" cy="1430640"/>
          </a:xfrm>
          <a:prstGeom prst="rect">
            <a:avLst/>
          </a:prstGeom>
          <a:solidFill>
            <a:srgbClr val="1060b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51240" y="314640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00680" y="3630600"/>
            <a:ext cx="29556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29000" y="3108240"/>
            <a:ext cx="1747800" cy="1619280"/>
          </a:xfrm>
          <a:prstGeom prst="rect">
            <a:avLst/>
          </a:prstGeom>
          <a:solidFill>
            <a:srgbClr val="1060b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07040" y="3146400"/>
            <a:ext cx="180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82720" y="3646440"/>
            <a:ext cx="138996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ressed n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a produc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raints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dition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01280" y="3581280"/>
            <a:ext cx="5547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e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59240" y="3067200"/>
            <a:ext cx="153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erfil do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13320" y="2916360"/>
            <a:ext cx="693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78680" y="27432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87600" y="274320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90760" y="27432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Ó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410080" y="2514240"/>
            <a:ext cx="137160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9080" y="22860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10080" y="2971800"/>
            <a:ext cx="1371600" cy="1828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9080" y="46483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69720" y="3352320"/>
            <a:ext cx="3821400" cy="2172960"/>
            <a:chOff x="369720" y="3352320"/>
            <a:chExt cx="3821400" cy="2172960"/>
          </a:xfrm>
        </p:grpSpPr>
        <p:sp>
          <p:nvSpPr>
            <p:cNvPr id="224" name=""/>
            <p:cNvSpPr/>
            <p:nvPr/>
          </p:nvSpPr>
          <p:spPr>
            <a:xfrm flipV="1">
              <a:off x="2057400" y="3352320"/>
              <a:ext cx="21337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9720" y="4608360"/>
              <a:ext cx="3679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trai informação de múltipl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tes sobre produtos que o usuá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e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4419720" y="5715000"/>
            <a:ext cx="4343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i informações de múltiplos sites sobre produtos que o usuário des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867280" y="4647960"/>
            <a:ext cx="60984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7258-9571-4065-A0DD-F18AE161B2E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tiv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end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 varej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on-lin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6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$600 Milhõ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7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U$2 Bilhõ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$800 Milhões entre o Dia de Ação de Graças e o Na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$17 Bilhõ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endas on-lin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em atacad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7: U$8 Bilhõ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2: U$327 Bilhõ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6172200"/>
            <a:ext cx="518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Fonte: Forrester Research &amp; Yankee Group 199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54C1-AF12-4F87-A7CD-78B5FC8D3C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rchant Broker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gentes de Comparaçã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emplo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rgainFi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n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duto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entsoft, Isra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ng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46FD-D93A-4DB5-A60D-D89D270C303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gentes de Compar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mitaçõ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al a reputação desses vendedores? Oferecem garantias, contratos de serviço? O produto está normalmente disponível? Qual o tempo médio de entrega? Quanto vai custar a mai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m bom agente de vendas deveria responder a essas questões para ajudar o consumidor a tomar uma decisão de compra mais consciente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uturo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bile Agents Technolog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ntes de Comparação ficarão mais flexíveis e mais fáceis de implement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9C47-AF25-4817-A332-C0394B2DE97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goci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gentes de Negociação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916560" y="2209680"/>
            <a:ext cx="8118720" cy="3200400"/>
            <a:chOff x="916560" y="2209680"/>
            <a:chExt cx="8118720" cy="3200400"/>
          </a:xfrm>
        </p:grpSpPr>
        <p:sp>
          <p:nvSpPr>
            <p:cNvPr id="235" name=""/>
            <p:cNvSpPr/>
            <p:nvPr/>
          </p:nvSpPr>
          <p:spPr>
            <a:xfrm>
              <a:off x="4907160" y="2209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17800" y="2658960"/>
              <a:ext cx="4321440" cy="2751120"/>
            </a:xfrm>
            <a:prstGeom prst="rect">
              <a:avLst/>
            </a:prstGeom>
            <a:solidFill>
              <a:srgbClr val="d8a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16560" y="2859120"/>
              <a:ext cx="17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SUMI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60720" y="2846160"/>
              <a:ext cx="14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ENDE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27760" y="501336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79640" y="2911320"/>
              <a:ext cx="1269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ENTE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EN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120" y="2974680"/>
              <a:ext cx="698760" cy="128880"/>
            </a:xfrm>
            <a:prstGeom prst="leftRightArrow">
              <a:avLst>
                <a:gd name="adj1" fmla="val 50000"/>
                <a:gd name="adj2" fmla="val 107934"/>
              </a:avLst>
            </a:prstGeom>
            <a:solidFill>
              <a:srgbClr val="20bb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50000" y="2974680"/>
              <a:ext cx="698760" cy="128880"/>
            </a:xfrm>
            <a:prstGeom prst="leftRightArrow">
              <a:avLst>
                <a:gd name="adj1" fmla="val 50000"/>
                <a:gd name="adj2" fmla="val 107934"/>
              </a:avLst>
            </a:prstGeom>
            <a:solidFill>
              <a:srgbClr val="20bb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92680" y="2974680"/>
              <a:ext cx="698760" cy="128880"/>
            </a:xfrm>
            <a:prstGeom prst="leftRightArrow">
              <a:avLst>
                <a:gd name="adj1" fmla="val 50000"/>
                <a:gd name="adj2" fmla="val 107934"/>
              </a:avLst>
            </a:prstGeom>
            <a:solidFill>
              <a:srgbClr val="20bb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395880" y="3487680"/>
              <a:ext cx="1326960" cy="1473120"/>
            </a:xfrm>
            <a:prstGeom prst="rect">
              <a:avLst/>
            </a:prstGeom>
            <a:solidFill>
              <a:srgbClr val="1060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93360" y="3643200"/>
              <a:ext cx="12733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cess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 compra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ritérios 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eferências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t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61280" y="3487680"/>
              <a:ext cx="1398600" cy="1473120"/>
            </a:xfrm>
            <a:prstGeom prst="rect">
              <a:avLst/>
            </a:prstGeom>
            <a:solidFill>
              <a:srgbClr val="1060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6960" y="3643200"/>
              <a:ext cx="1442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egras de ofer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 preços, inf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os produtos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t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92680" y="3616200"/>
              <a:ext cx="698760" cy="127080"/>
            </a:xfrm>
            <a:prstGeom prst="leftRightArrow">
              <a:avLst>
                <a:gd name="adj1" fmla="val 50000"/>
                <a:gd name="adj2" fmla="val 109462"/>
              </a:avLst>
            </a:prstGeom>
            <a:solidFill>
              <a:srgbClr val="20bb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84080" y="2911320"/>
              <a:ext cx="1269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ENTE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85200" y="3505320"/>
            <a:ext cx="5177520" cy="2014200"/>
            <a:chOff x="385200" y="3505320"/>
            <a:chExt cx="5177520" cy="2014200"/>
          </a:xfrm>
        </p:grpSpPr>
        <p:sp>
          <p:nvSpPr>
            <p:cNvPr id="251" name=""/>
            <p:cNvSpPr/>
            <p:nvPr/>
          </p:nvSpPr>
          <p:spPr>
            <a:xfrm flipV="1">
              <a:off x="1752480" y="3886200"/>
              <a:ext cx="30481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24280" y="3505320"/>
              <a:ext cx="83844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5200" y="4876920"/>
              <a:ext cx="197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gociação so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trans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192840" y="5791320"/>
            <a:ext cx="3639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ociação sobre a trans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876920" y="3903480"/>
            <a:ext cx="166680" cy="1811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AD50-5FE6-4C2F-8A9C-E8A3B44C7CF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goci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ços e/ou outros termos da transação são definidos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ilõ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radores devem estar localizados geograficamente próximo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stões relacionadas ao tempo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8B3A-B2A9-4D29-8DAF-D481ED6514D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uyer Behavior Model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urchase and Deliv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stágio que sinaliza o fim do estágio de negociação. Em muitos casos, o dinheiro disponível e as opções de entrega(distribuição) podem influenciar os estágios: Product brokering e Merchant brok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duct Service and Evalu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te estágio de pós-venda envolve serviços de produto, serviços de cliente e uma avaliação da satisfação de toda experiência de compra e de decisã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FD4B-48BF-4378-8DB2-5AB7E619379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bazar(www.ibazar.com.br)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ilão Vir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ente de Notific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dedor determina preço inicial do objeto e o incremento míni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e um diálogo entre o vendedor e os 5 últimos licitadores(pessoa que deram lan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ão negocia forma de paga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0D55-F9F4-4898-8699-050B1F3C3F5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esvantagens do E-commer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luções Parciai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querimentos Rígido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esso Limitad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gurança Insuficient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E5D9-D873-4EA3-B3AD-424C630B593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clusõ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ços mais baixos (em 87% dos casos, segundo a E&amp;Y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ior eficiênci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as ficam menos important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hecer o consumidor significa ter o consumid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7322-353B-4D34-871D-F611733E55C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ênci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-Commerce Study on MIT. URL: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ttp://ecommerce.media.mit.edu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2]   Ibazar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ttp://www.ibazar.com.br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3]  P. Maes, R. Guttman and A. Moukas. "Agents that Buy and Sell: Transforming Commerce as we Know It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munications of the AC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March 1999 Issue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4]   Bgateway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ttp://www.bgateway.com.br/palestra/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5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Ne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ttp://www.e-net.com.br/html/compras/e-commerce.html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239C-4895-435A-A27F-E83FFA79CDC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tiv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úmero de Usuários Conectados a Interne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 &amp; Canada     64M  (22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rica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1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ia/Pacific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urope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20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ddle East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.5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th America     1.25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ldwide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81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548640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7 Reuters &amp; NUA Internet Surve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B300-B5F1-4DF6-BB0E-E94788B5A4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m será atingido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Grande parte das relações comerciai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Consumidores comuns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: Que terão novas formas interagir com o comércio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Lojas e cadeias de distribuidores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: Deverão se adaptar às novas necessidades dos cliente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vedores de acesso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: Dando suporte computacional às loja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Instituições Financeiras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(Bancos, Financeiras, etc.): Tratando corretamente os novos tipos de transaçõe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Órgãos do Governo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: Novo sistema de tribut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50F4-99B0-4DED-9804-DE8CB06184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ntos de vist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mpresa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ção de custos com recursos físico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eguir maior agilidade e cobertura a baixo custo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mpanhamento do comportamento do cliente, melhorando estratégias de market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ente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odidad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onibilida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02BB-AE37-46AD-81B9-A5175485D0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portam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ual a atitude dos usuários na Internet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ejam encontrar informações sobre produtos, serviços e entretenimento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cessitam de informações detalhada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zem levantamento de preços mais facilment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ão apreensivos nas comp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3E6E-392E-4385-AF12-17D650FE31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r que comprar usando a Internet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tendimento altamente personalizado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tenção de um produto de maneira rápida e direta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pecialização e a regionalização de comércio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ços podem ser reduzidos devido a diminuição de custos envolvidos em transporte, armazenamento e distribuição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m a pressão da vend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2C43-C4C5-4B2E-88E1-CAF0B8023C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033f4a20" descr=""/>
          <p:cNvPicPr/>
          <p:nvPr/>
        </p:nvPicPr>
        <p:blipFill>
          <a:blip r:embed="rId1"/>
          <a:stretch/>
        </p:blipFill>
        <p:spPr>
          <a:xfrm>
            <a:off x="2286000" y="4495680"/>
            <a:ext cx="6351480" cy="20574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fianç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lavra chave de qualquer relação sócio-econômica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sse contexto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cliente para a lo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 loja nos sistemas computacion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CCE8-FCA1-4C08-B3BE-944F8B2234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1T20:36:57Z</dcterms:created>
  <dc:creator>radix</dc:creator>
  <dc:description/>
  <dc:language>en-US</dc:language>
  <cp:lastModifiedBy>frco</cp:lastModifiedBy>
  <dcterms:modified xsi:type="dcterms:W3CDTF">2000-05-23T17:02:06Z</dcterms:modified>
  <cp:revision>51</cp:revision>
  <dc:subject/>
  <dc:title>E-commerce</dc:title>
</cp:coreProperties>
</file>