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F76-AC1D-4B34-8013-A3FFE2ED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A7E-EF0D-4AA8-8A89-10AE45C2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9DC-D35A-42DD-9281-706115AB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606-8A5F-484F-9FD8-5E03754B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5A1-D295-427E-A7AF-48778BF5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1B9-3B92-4C86-9F40-B0BF277B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59B-340F-4D95-B0BE-028C29ED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0F6-2990-437E-8D17-47337BCB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BCD-24F1-4578-9425-79087C40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6F5-7EA9-4F08-8782-72DEDDB6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DE3-132F-4F15-B1D7-5BF21CBA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5D8-DB2E-406F-8774-7E9CE804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48BC-2BFA-48AB-A059-6AB98D277C24}" type="slidenum">
              <a:rPr b="0" lang="en-US" sz="14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cc99"/>
                </a:solidFill>
                <a:latin typeface="Tahoma"/>
              </a:rPr>
              <a:t>Data Warehouse / OLAP</a:t>
            </a:r>
            <a:endParaRPr b="0" lang="en-US" sz="44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028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b2b2"/>
                </a:solidFill>
                <a:latin typeface="Tahoma"/>
              </a:rPr>
              <a:t>Pedro Jorge, pjrs@cin.ufpe.br</a:t>
            </a:r>
            <a:endParaRPr b="0" lang="en-US" sz="2400" spc="-1" strike="noStrike">
              <a:solidFill>
                <a:srgbClr val="b2b2b2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b2b2"/>
                </a:solidFill>
                <a:latin typeface="Tahoma"/>
              </a:rPr>
              <a:t>Taciana Melcop, tmlm@cin.ufpe.br</a:t>
            </a:r>
            <a:endParaRPr b="0" lang="en-US" sz="2400" spc="-1" strike="noStrike">
              <a:solidFill>
                <a:srgbClr val="b2b2b2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739152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Data Warehousing &amp; </a:t>
            </a:r>
            <a:r>
              <a:rPr b="0" lang="pt-BR" sz="3200" spc="-1" strike="noStrike">
                <a:solidFill>
                  <a:srgbClr val="00cc99"/>
                </a:solidFill>
                <a:latin typeface="Tahoma"/>
              </a:rPr>
              <a:t>ROI (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Como evitar imprevistos e tentar garantir o ROI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Definir os objetivos estratégicos específicos do negócio que o DW supostamente devem atingir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Especificar quais serão as medidas adotadas para calcular o ROI em relação aos objetivos definidos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2670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2004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5029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Data Warehousing &amp; </a:t>
            </a:r>
            <a:r>
              <a:rPr b="0" lang="pt-BR" sz="3200" spc="-1" strike="noStrike">
                <a:solidFill>
                  <a:srgbClr val="00cc99"/>
                </a:solidFill>
                <a:latin typeface="Tahoma"/>
              </a:rPr>
              <a:t>ROI (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37160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Garantir que os usuários chave do DW estão comprometidos com o sucesso do projeto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Implantar o projeto na velocidade que a organização suporta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A organização deve ter pleno conhecimento dos conceitos e ferramentas que envolvem um D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6668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6576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Data Ware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57200" y="2743200"/>
            <a:ext cx="1371600" cy="1752480"/>
            <a:chOff x="457200" y="2743200"/>
            <a:chExt cx="1371600" cy="1752480"/>
          </a:xfrm>
        </p:grpSpPr>
        <p:sp>
          <p:nvSpPr>
            <p:cNvPr id="105" name=""/>
            <p:cNvSpPr/>
            <p:nvPr/>
          </p:nvSpPr>
          <p:spPr>
            <a:xfrm>
              <a:off x="457200" y="4038480"/>
              <a:ext cx="13716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2971800"/>
              <a:ext cx="1371600" cy="1295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2743200"/>
              <a:ext cx="13716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315200" y="1676520"/>
            <a:ext cx="762120" cy="838080"/>
            <a:chOff x="7315200" y="1676520"/>
            <a:chExt cx="762120" cy="838080"/>
          </a:xfrm>
        </p:grpSpPr>
        <p:sp>
          <p:nvSpPr>
            <p:cNvPr id="109" name=""/>
            <p:cNvSpPr/>
            <p:nvPr/>
          </p:nvSpPr>
          <p:spPr>
            <a:xfrm>
              <a:off x="7315200" y="2296080"/>
              <a:ext cx="762120" cy="218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15200" y="1785600"/>
              <a:ext cx="762120" cy="619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5200" y="1676520"/>
              <a:ext cx="762120" cy="218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315200" y="2819520"/>
            <a:ext cx="762120" cy="838080"/>
            <a:chOff x="7315200" y="2819520"/>
            <a:chExt cx="762120" cy="838080"/>
          </a:xfrm>
        </p:grpSpPr>
        <p:sp>
          <p:nvSpPr>
            <p:cNvPr id="113" name=""/>
            <p:cNvSpPr/>
            <p:nvPr/>
          </p:nvSpPr>
          <p:spPr>
            <a:xfrm>
              <a:off x="7315200" y="3439080"/>
              <a:ext cx="762120" cy="218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2928600"/>
              <a:ext cx="762120" cy="619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15200" y="2819520"/>
              <a:ext cx="762120" cy="218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315200" y="4038480"/>
            <a:ext cx="762120" cy="838080"/>
            <a:chOff x="7315200" y="4038480"/>
            <a:chExt cx="762120" cy="838080"/>
          </a:xfrm>
        </p:grpSpPr>
        <p:sp>
          <p:nvSpPr>
            <p:cNvPr id="117" name=""/>
            <p:cNvSpPr/>
            <p:nvPr/>
          </p:nvSpPr>
          <p:spPr>
            <a:xfrm>
              <a:off x="7315200" y="4658040"/>
              <a:ext cx="762120" cy="218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4147560"/>
              <a:ext cx="762120" cy="619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15200" y="4038480"/>
              <a:ext cx="762120" cy="218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315200" y="5334120"/>
            <a:ext cx="762120" cy="838080"/>
            <a:chOff x="7315200" y="5334120"/>
            <a:chExt cx="762120" cy="838080"/>
          </a:xfrm>
        </p:grpSpPr>
        <p:sp>
          <p:nvSpPr>
            <p:cNvPr id="121" name=""/>
            <p:cNvSpPr/>
            <p:nvPr/>
          </p:nvSpPr>
          <p:spPr>
            <a:xfrm>
              <a:off x="7315200" y="5953680"/>
              <a:ext cx="762120" cy="218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15200" y="5443200"/>
              <a:ext cx="762120" cy="619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5200" y="5334120"/>
              <a:ext cx="762120" cy="218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648320" y="1295280"/>
            <a:ext cx="0" cy="4953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572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ata Ware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12952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ados Inform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12193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ados Oper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61960" y="2209680"/>
            <a:ext cx="472428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361960" y="3276720"/>
            <a:ext cx="47242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438280" y="4190760"/>
            <a:ext cx="46483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2438280" y="4571640"/>
            <a:ext cx="464832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2200">
            <a:off x="3733560" y="2209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consist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200">
            <a:off x="380952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padro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1575400">
            <a:off x="3657600" y="35049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integ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7600">
            <a:off x="3732120" y="419076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agrup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Data Ware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371600"/>
            <a:ext cx="8153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Os dados criados nos locais de armazenamento são transferidos para o Data Warehouse...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As inconsistências são tratadas</a:t>
            </a: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Subconjunto das diversas fontes de dados da organização</a:t>
            </a: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Incorporação de dados externos às aplicações da organização</a:t>
            </a: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Capacidade de armazenamento de grandes quantidades de informaçõe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4495680"/>
            <a:ext cx="7696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cc99"/>
                </a:solidFill>
                <a:latin typeface="Tahoma"/>
              </a:rPr>
              <a:t>Integração baseada em </a:t>
            </a:r>
            <a:r>
              <a:rPr b="1" lang="pt-BR" sz="2800" spc="-1" strike="noStrike">
                <a:solidFill>
                  <a:srgbClr val="00cc99"/>
                </a:solidFill>
                <a:latin typeface="Tahoma"/>
              </a:rPr>
              <a:t>Assu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Data Ware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37160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Ligação com o tempo (período)</a:t>
            </a: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Ex:</a:t>
            </a: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00cc99"/>
                </a:solidFill>
                <a:latin typeface="Tahoma"/>
              </a:rPr>
              <a:t>Vendas por semestre</a:t>
            </a:r>
            <a:br>
              <a:rPr sz="2200"/>
            </a:br>
            <a:r>
              <a:rPr b="0" lang="pt-BR" sz="22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00cc99"/>
                </a:solidFill>
                <a:latin typeface="Tahoma"/>
              </a:rPr>
              <a:t>Produção mensal</a:t>
            </a:r>
            <a:br>
              <a:rPr sz="2200"/>
            </a:br>
            <a:r>
              <a:rPr b="0" lang="pt-BR" sz="22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00cc99"/>
                </a:solidFill>
                <a:latin typeface="Tahoma"/>
              </a:rPr>
              <a:t>Lucro anual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Não volátil - carga e consulta aos dados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Estrutura do Data Ware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78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Dados recentes</a:t>
            </a:r>
            <a:br>
              <a:rPr sz="2200"/>
            </a:br>
            <a:r>
              <a:rPr b="0" lang="pt-BR" sz="2000" spc="-1" strike="noStrike">
                <a:solidFill>
                  <a:srgbClr val="b2b2b2"/>
                </a:solidFill>
                <a:latin typeface="Tahoma"/>
              </a:rPr>
              <a:t>Ocupam muito espaço, freqüência alta de acesso no contexto do Data Warehouse.</a:t>
            </a: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Dados antigos</a:t>
            </a:r>
            <a:br>
              <a:rPr sz="2200"/>
            </a:br>
            <a:r>
              <a:rPr b="0" lang="pt-BR" sz="2000" spc="-1" strike="noStrike">
                <a:solidFill>
                  <a:srgbClr val="b2b2b2"/>
                </a:solidFill>
                <a:latin typeface="Tahoma"/>
              </a:rPr>
              <a:t>Raramente acessados, normalmente backups.</a:t>
            </a:r>
            <a:br>
              <a:rPr sz="20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Dados pouco sumarizados</a:t>
            </a:r>
            <a:br>
              <a:rPr sz="2200"/>
            </a:br>
            <a:r>
              <a:rPr b="0" lang="pt-BR" sz="2000" spc="-1" strike="noStrike">
                <a:solidFill>
                  <a:srgbClr val="b2b2b2"/>
                </a:solidFill>
                <a:latin typeface="Tahoma"/>
              </a:rPr>
              <a:t>Agrupamento dos dados correntes num baixo nível de detalhe.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Dados altamente sumarizados</a:t>
            </a:r>
            <a:br>
              <a:rPr sz="2200"/>
            </a:br>
            <a:r>
              <a:rPr b="0" lang="pt-BR" sz="2000" spc="-1" strike="noStrike">
                <a:solidFill>
                  <a:srgbClr val="b2b2b2"/>
                </a:solidFill>
                <a:latin typeface="Tahoma"/>
              </a:rPr>
              <a:t>Agrupamento sem detalhes, mais utilizados.</a:t>
            </a:r>
            <a:br>
              <a:rPr sz="2200"/>
            </a:b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OLAP - On Line Analitica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37160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Técnica de conceitualização do modelo de negócio, como um conjunto de medidas descritas pelas características do negócio.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Grande utilidade para peneirar, sumarizar e agrupar dados para análi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09480" y="4267080"/>
            <a:ext cx="7699320" cy="2060640"/>
            <a:chOff x="609480" y="4267080"/>
            <a:chExt cx="7699320" cy="2060640"/>
          </a:xfrm>
        </p:grpSpPr>
        <p:grpSp>
          <p:nvGrpSpPr>
            <p:cNvPr id="150" name=""/>
            <p:cNvGrpSpPr/>
            <p:nvPr/>
          </p:nvGrpSpPr>
          <p:grpSpPr>
            <a:xfrm>
              <a:off x="609480" y="4267080"/>
              <a:ext cx="2066760" cy="2060640"/>
              <a:chOff x="609480" y="4267080"/>
              <a:chExt cx="2066760" cy="2060640"/>
            </a:xfrm>
          </p:grpSpPr>
          <p:sp>
            <p:nvSpPr>
              <p:cNvPr id="151" name=""/>
              <p:cNvSpPr/>
              <p:nvPr/>
            </p:nvSpPr>
            <p:spPr>
              <a:xfrm>
                <a:off x="609480" y="4267080"/>
                <a:ext cx="685800" cy="6858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95280" y="4267080"/>
                <a:ext cx="685800" cy="685800"/>
              </a:xfrm>
              <a:prstGeom prst="rect">
                <a:avLst/>
              </a:prstGeom>
              <a:solidFill>
                <a:srgbClr val="ff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90440" y="4267080"/>
                <a:ext cx="685800" cy="6858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9480" y="4956120"/>
                <a:ext cx="685800" cy="685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95280" y="4956120"/>
                <a:ext cx="68580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90440" y="4956120"/>
                <a:ext cx="685800" cy="6858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9480" y="5641920"/>
                <a:ext cx="685800" cy="685800"/>
              </a:xfrm>
              <a:prstGeom prst="rect">
                <a:avLst/>
              </a:prstGeom>
              <a:solidFill>
                <a:srgbClr val="ff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95280" y="5641920"/>
                <a:ext cx="685800" cy="6858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990440" y="5641920"/>
                <a:ext cx="685800" cy="6858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9480" y="4651200"/>
                <a:ext cx="30456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14040" y="4651200"/>
                <a:ext cx="381240" cy="30492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95280" y="5108400"/>
                <a:ext cx="304560" cy="304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99840" y="5108400"/>
                <a:ext cx="381240" cy="304920"/>
              </a:xfrm>
              <a:prstGeom prst="rect">
                <a:avLst/>
              </a:prstGeom>
              <a:solidFill>
                <a:srgbClr val="ff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9480" y="5870520"/>
                <a:ext cx="30456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14040" y="5870520"/>
                <a:ext cx="381240" cy="3049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981080" y="4651200"/>
                <a:ext cx="304560" cy="3049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85640" y="4651200"/>
                <a:ext cx="381240" cy="304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81080" y="5946840"/>
                <a:ext cx="6858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99840" y="6022800"/>
                <a:ext cx="381240" cy="304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429000" y="4267080"/>
              <a:ext cx="2060640" cy="2057400"/>
              <a:chOff x="3429000" y="4267080"/>
              <a:chExt cx="2060640" cy="2057400"/>
            </a:xfrm>
          </p:grpSpPr>
          <p:sp>
            <p:nvSpPr>
              <p:cNvPr id="171" name=""/>
              <p:cNvSpPr/>
              <p:nvPr/>
            </p:nvSpPr>
            <p:spPr>
              <a:xfrm>
                <a:off x="4114800" y="5638680"/>
                <a:ext cx="685800" cy="685800"/>
              </a:xfrm>
              <a:prstGeom prst="rect">
                <a:avLst/>
              </a:prstGeom>
              <a:solidFill>
                <a:srgbClr val="ff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32240" y="4267080"/>
                <a:ext cx="6858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03840" y="4267080"/>
                <a:ext cx="685800" cy="6858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118040" y="4267080"/>
                <a:ext cx="68580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432240" y="4952880"/>
                <a:ext cx="685800" cy="6858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03840" y="4952880"/>
                <a:ext cx="685800" cy="6858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18040" y="4952880"/>
                <a:ext cx="685800" cy="6858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429000" y="5638680"/>
                <a:ext cx="685800" cy="685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00600" y="5638680"/>
                <a:ext cx="685800" cy="6858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248520" y="4267080"/>
              <a:ext cx="2060280" cy="2057400"/>
              <a:chOff x="6248520" y="4267080"/>
              <a:chExt cx="2060280" cy="2057400"/>
            </a:xfrm>
          </p:grpSpPr>
          <p:sp>
            <p:nvSpPr>
              <p:cNvPr id="181" name=""/>
              <p:cNvSpPr/>
              <p:nvPr/>
            </p:nvSpPr>
            <p:spPr>
              <a:xfrm>
                <a:off x="6934320" y="5638680"/>
                <a:ext cx="685800" cy="685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51400" y="4267080"/>
                <a:ext cx="6858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23000" y="4267080"/>
                <a:ext cx="685800" cy="6858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937200" y="4267080"/>
                <a:ext cx="685800" cy="685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251400" y="4952880"/>
                <a:ext cx="685800" cy="685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623000" y="4952880"/>
                <a:ext cx="685800" cy="685800"/>
              </a:xfrm>
              <a:prstGeom prst="rect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37200" y="4952880"/>
                <a:ext cx="685800" cy="68580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248520" y="5638680"/>
                <a:ext cx="685800" cy="6858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620120" y="5638680"/>
                <a:ext cx="685800" cy="685800"/>
              </a:xfrm>
              <a:prstGeom prst="rect">
                <a:avLst/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43200" y="5486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ahoma"/>
                </a:rPr>
                <a:t>D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9520" y="518148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627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ahoma"/>
                </a:rPr>
                <a:t>OL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38680" y="518148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OLAP - On Line Analitica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828800"/>
            <a:ext cx="8001000" cy="1752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LAP para Data Warehousing é baseada em fatos, dimensões e hierarquias.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É projetado por dados numéricos, como valores, somas, pesos e ocorrê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43434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OLAP tem sido considerado um sinônimo de visões multidimensionais de dados de negócio. Estas visões multidimensionais são suportadas por uma tecnologia multidimensional de bando de d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OLAP - On Line Analitica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7524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b2b2"/>
                </a:solidFill>
                <a:latin typeface="Tahoma"/>
              </a:rPr>
              <a:t>O primeiro passo para a construção de um modelo multidimensional é separar um escopo para implement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3505320"/>
            <a:ext cx="7543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Relatórios de vendas semanai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Resultados financeiras mensai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Produção acumulada anual por seto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Variação de consumo de determinado produto trimestra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OLAP - On Line Analitica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219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b2b2"/>
                </a:solidFill>
                <a:latin typeface="Tahoma"/>
              </a:rPr>
              <a:t>Respondendo as questões descritas abaixo o processo conduz a uma solução mais gerenciável e ref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2286000"/>
            <a:ext cx="7924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Qual o processo de negócio está sendo modelado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Quais são as medidas, ou </a:t>
            </a:r>
            <a:r>
              <a:rPr b="0" lang="pt-BR" sz="2200" spc="-1" strike="noStrike">
                <a:solidFill>
                  <a:srgbClr val="00cc99"/>
                </a:solidFill>
                <a:latin typeface="Tahoma"/>
              </a:rPr>
              <a:t>fatos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Qual o nível de </a:t>
            </a:r>
            <a:r>
              <a:rPr b="0" lang="pt-BR" sz="2200" spc="-1" strike="noStrike">
                <a:solidFill>
                  <a:srgbClr val="00cc99"/>
                </a:solidFill>
                <a:latin typeface="Tahoma"/>
              </a:rPr>
              <a:t>granularidade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 a que a análise ativa conduz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O que as medidas têm em comum </a:t>
            </a:r>
            <a:r>
              <a:rPr b="0" lang="pt-BR" sz="2200" spc="-1" strike="noStrike">
                <a:solidFill>
                  <a:srgbClr val="00cc99"/>
                </a:solidFill>
                <a:latin typeface="Tahoma"/>
              </a:rPr>
              <a:t>(dimensão) 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Quais são os atributos das dimensões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Sobre os atributos, são estáveis ou variáveis com o tempo?  e as suas cardinalidade têm limite ou não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olume grande de informações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alta de credibilidade dos dados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dutividade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ficuldade de ir dos dados à informação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stribuição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mplementação descentr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1430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Tahoma"/>
              </a:rPr>
              <a:t>As empresas tem um apetite voraz e insaciável por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OLAP - On Line Analitica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2193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b2b2b2"/>
                </a:solidFill>
                <a:latin typeface="Tahoma"/>
              </a:rPr>
              <a:t>Active Analisys - </a:t>
            </a:r>
            <a:r>
              <a:rPr b="0" lang="pt-BR" sz="2400" spc="-1" strike="noStrike">
                <a:solidFill>
                  <a:srgbClr val="b2b2b2"/>
                </a:solidFill>
                <a:latin typeface="Tahoma"/>
              </a:rPr>
              <a:t>Habilidade de manipular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81080"/>
            <a:ext cx="7543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Manipulação mecâni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- </a:t>
            </a:r>
            <a:r>
              <a:rPr b="0" i="1" lang="pt-BR" sz="2200" spc="-1" strike="noStrike">
                <a:solidFill>
                  <a:srgbClr val="b2b2b2"/>
                </a:solidFill>
                <a:latin typeface="Tahoma"/>
              </a:rPr>
              <a:t>pivoting / drilling down / graph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Manipulação baseada em agen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- relatórios de alerta / relatórios de exce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Outras atividades baseadas em ag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Manipulação do tipo fluxo (</a:t>
            </a:r>
            <a:r>
              <a:rPr b="0" i="1" lang="pt-BR" sz="2200" spc="-1" strike="noStrike">
                <a:solidFill>
                  <a:srgbClr val="ffffff"/>
                </a:solidFill>
                <a:latin typeface="Tahoma"/>
              </a:rPr>
              <a:t>workflow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- publicação / distribuição de docu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OLAP - On Line Analitica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219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b2b2"/>
                </a:solidFill>
                <a:latin typeface="Tahoma"/>
              </a:rPr>
              <a:t>Passo a passo na construção de um O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981080"/>
            <a:ext cx="75438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Concentrar-se em um processo específico e evitar incluir todos os dados de um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Boa prática: solicitar que o cliente construa uma frase sintetizando o que ele necessita dentro do processo em análi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x. 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Vendas, em reais e unidades, de todos os produtos, 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em cada loja, por semana, por empresa, para os últimos três 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anos, comparado com as remessas e as metas de ven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cc99"/>
                </a:solidFill>
                <a:latin typeface="Tahoma"/>
              </a:rPr>
              <a:t>A partir da frase podemos montar o processo a ser modelado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OLAP - On Line Analitica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1219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b2b2"/>
                </a:solidFill>
                <a:latin typeface="Tahoma"/>
              </a:rPr>
              <a:t>Passo a passo na construção de um O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741320"/>
            <a:ext cx="75438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processo de negócio (venda através das dat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fatos (vendas em reais, vendas em unidades, remessas em unidades, metas em unidad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dimensões (clientes, produto, temp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granularidade (vendas, remessas, comp. Meta, agregado por semana ou loj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Os atributos são trabalhados através das facilidades oferecidas pelas dimensõ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6765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chnology Tutorial: Modeling A Data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b2b2"/>
                </a:solidFill>
                <a:latin typeface="Tahoma"/>
              </a:rPr>
              <a:t>http://informationweek.com/564/64oldat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M Review - vários art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b2b2"/>
                </a:solidFill>
                <a:latin typeface="Tahoma"/>
              </a:rPr>
              <a:t>http://www.dmreview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ata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b2b2"/>
                </a:solidFill>
                <a:latin typeface="Tahoma"/>
              </a:rPr>
              <a:t>http://datamation.earthweb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b2b2"/>
                </a:solidFill>
                <a:latin typeface="Tahoma"/>
              </a:rPr>
              <a:t>http://www.infolink.com.br/~mpolito/mining/mining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b2b2b2"/>
                </a:solidFill>
                <a:latin typeface="Tahoma"/>
              </a:rPr>
              <a:t>H.L. Mencken (1880-1956) , escritor e critico americano, foi perguntado por um repórter, após o terremoto em San Francisco em 1906, quanto ele pagaria por 10.000 palavras. Sua resposta: Quais palavras e em qual ordem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048120"/>
            <a:ext cx="8305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Volume se torna irrelevante se os dados não estiverem organizados de forma a adicionar valor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Adicionar valor a uma organização significa transformar os dados em informações para decis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Data Ware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2473200"/>
            <a:ext cx="1905120" cy="1522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40680" y="4121280"/>
            <a:ext cx="148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2b2b2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2b2b2"/>
                </a:solidFill>
                <a:latin typeface="Arial"/>
              </a:rPr>
              <a:t>Ware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77120" y="1916280"/>
            <a:ext cx="838080" cy="71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325200" y="2714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Ve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848720" y="2895480"/>
            <a:ext cx="761760" cy="646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0480" y="370512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Financ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447920" y="2133720"/>
            <a:ext cx="761760" cy="645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6680" y="294336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P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219320" y="38336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477216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Engenh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828800"/>
            <a:ext cx="2210040" cy="380988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4952880" y="5257800"/>
            <a:ext cx="762120" cy="646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24280" y="606744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400800" y="4038480"/>
            <a:ext cx="762120" cy="646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71840" y="484812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352680"/>
            <a:ext cx="457200" cy="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05520" y="4114800"/>
            <a:ext cx="304560" cy="99072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3429000"/>
            <a:ext cx="1219320" cy="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136600">
            <a:off x="5838480" y="2112480"/>
            <a:ext cx="3468600" cy="177012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5486040" y="3809880"/>
            <a:ext cx="762120" cy="45720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Data Ware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60020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Apoio a decisão facilitado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Melhora a produtividade dos tomadores de decisão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Informação Centralizada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Visão Consistente das informações da Organização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Retorno financeiro quando bem aplicad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Data Ware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Separação dos dados operacionais de dados informacionais: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Dado operacional</a:t>
            </a: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valores atuais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organizados por aplicação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dinâmico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alta freqüência de acesso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atualizáveis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concorrência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Dado informacional </a:t>
            </a: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conhecimento contido num dado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sumarizados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organizados por assunto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estático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média freqüência de acesso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apenas consult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Data Warehousing &amp; </a:t>
            </a:r>
            <a:r>
              <a:rPr b="0" lang="pt-BR" sz="3200" spc="-1" strike="noStrike">
                <a:solidFill>
                  <a:srgbClr val="00cc99"/>
                </a:solidFill>
                <a:latin typeface="Tahoma"/>
              </a:rPr>
              <a:t>ROI (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Projeto normalmente muito caro envolvendo...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Analise e compra de softwares de transformação de </a:t>
            </a: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dados</a:t>
            </a:r>
            <a:br>
              <a:rPr sz="2200"/>
            </a:b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- Softwares de OLAP</a:t>
            </a:r>
            <a:br>
              <a:rPr sz="2200"/>
            </a:b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- Interoperabilidade</a:t>
            </a:r>
            <a:br>
              <a:rPr sz="2200"/>
            </a:b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- Hardware / Middleware</a:t>
            </a:r>
            <a:br>
              <a:rPr sz="2200"/>
            </a:b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- Consultoria para padronização e implantação dos sistemas</a:t>
            </a:r>
            <a:br>
              <a:rPr sz="2200"/>
            </a:b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- Treinamentos sobre as ferramentas utilizadas e os concei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Data Warehousing &amp; </a:t>
            </a:r>
            <a:r>
              <a:rPr b="0" lang="pt-BR" sz="3200" spc="-1" strike="noStrike">
                <a:solidFill>
                  <a:srgbClr val="00cc99"/>
                </a:solidFill>
                <a:latin typeface="Tahoma"/>
              </a:rPr>
              <a:t>ROI (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600200"/>
            <a:ext cx="7696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Projeto que requer interação entre os diversos departamentos da organização principalmente nos níveis hierárquicos mais altos...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Dificuldade em atingir o consenso nas decisões de proj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ahoma"/>
              </a:rPr>
              <a:t>Data Warehousing &amp; </a:t>
            </a:r>
            <a:r>
              <a:rPr b="0" lang="pt-BR" sz="3200" spc="-1" strike="noStrike">
                <a:solidFill>
                  <a:srgbClr val="00cc99"/>
                </a:solidFill>
                <a:latin typeface="Tahoma"/>
              </a:rPr>
              <a:t>ROI (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990720"/>
            <a:ext cx="8381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1337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ATENÇÃO</a:t>
            </a:r>
            <a:br>
              <a:rPr sz="2200"/>
            </a:br>
            <a:br>
              <a:rPr sz="2200"/>
            </a:br>
            <a:r>
              <a:rPr b="0" lang="pt-BR" sz="2200" spc="-1" strike="noStrike">
                <a:solidFill>
                  <a:srgbClr val="b2b2b2"/>
                </a:solidFill>
                <a:latin typeface="Tahoma"/>
              </a:rPr>
              <a:t>Se o retorno do Investimento não for atingido, o responsável pelo projeto, normalmente o profissional de TI, vai para a forca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21:52:32Z</dcterms:created>
  <dc:creator>pjrs</dc:creator>
  <dc:description/>
  <dc:language>en-US</dc:language>
  <cp:lastModifiedBy>geber</cp:lastModifiedBy>
  <dcterms:modified xsi:type="dcterms:W3CDTF">2000-06-21T14:26:39Z</dcterms:modified>
  <cp:revision>43</cp:revision>
  <dc:subject/>
  <dc:title>Data Warehouse / OLAP</dc:title>
</cp:coreProperties>
</file>