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449-1C8F-4108-A410-A9F75452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60640" y="3837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6A8-CA69-413A-88E6-F63A0A06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3320" y="1687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60640" y="3837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43320" y="3837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F147-EE9E-4C48-91D3-006CA365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88640" y="1687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16280" y="1687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60640" y="3837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88640" y="3837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16280" y="3837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EB6F-3D10-4355-AD62-D649008F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06A3-12D1-44E7-8048-1D1C2774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6064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D55E-8304-4282-AA6D-1D9970FD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3390-2817-42E6-9263-EDFB0E50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3320" y="1687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A81C-DF93-411D-8DEA-0CC01C1B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D724-6D9B-4E6D-8B8F-520C5359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43000" y="321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1F6D-4D04-4837-8535-6CC2DF3F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3320" y="1687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60640" y="3837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045A-2CB6-4162-97A3-3972A789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6064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D0C8-6E97-405D-9370-57615788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3320" y="1687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43320" y="3837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655E-CE4D-4DC8-9AA1-7997CE44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3320" y="1687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60640" y="3837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6B33-B819-4DEC-B8CE-21B08BE1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60640" y="3837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5D0A-3226-4A32-82D3-F44D8411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43320" y="1687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60640" y="3837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43320" y="3837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71C5-8CD5-497A-BAA7-0D85AE0C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88640" y="1687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16280" y="1687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60640" y="3837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88640" y="3837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16280" y="3837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95A6-C1B9-41FC-AA41-9DD488FE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318F-738B-4841-8AF1-8AE80F0E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43320" y="1687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205-422D-4C9F-9EA7-8ABAC6FC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1316-018A-46F7-BC6E-200B6BD3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321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197D-EF2C-4595-B36A-B035C8AB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43320" y="1687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60640" y="3837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B143-7AC6-4DAF-B5C2-1B603967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3320" y="1687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43320" y="3837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EF5F-AEF4-43C9-825D-864E5D1C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43320" y="1687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60640" y="3837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CDA-232F-4A39-BCCC-9F12DE8D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6064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CCCA-44FC-4E2E-95C2-95D2D08F5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46D4-D551-450F-ADB8-0AB32FCDF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Agentes Móve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14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quipe: Clóvis &lt;cafm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erbet &lt;hsc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1B4D-6C57-4522-8BE8-71B83B5572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RPC vs Agentes Móve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litativa e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viços flexí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ativa maneira de repensar o processo d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ordenação mais fá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733E-A0D0-47D3-A854-C333A18EAA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O Modelo de Agentes</a:t>
            </a:r>
            <a:br>
              <a:rPr sz="3600"/>
            </a:b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(Principais Conceitos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ugar (Contex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o ambiente lógico de execução de agentes, que disponibiliza um conjunto de serviços (recursos). Tem atributos como identidade e autorid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03_places" descr=""/>
          <p:cNvPicPr/>
          <p:nvPr/>
        </p:nvPicPr>
        <p:blipFill>
          <a:blip r:embed="rId1"/>
          <a:stretch/>
        </p:blipFill>
        <p:spPr>
          <a:xfrm>
            <a:off x="1295280" y="3581280"/>
            <a:ext cx="7391520" cy="265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655B-9678-4524-B43A-A3814CA4E1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O Modelo de Agentes</a:t>
            </a:r>
            <a:br>
              <a:rPr sz="3600"/>
            </a:b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(Principais Conceitos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iste de (Código + Estado), tem atributos como identidade, localização, autoridade e permissões, podendo ser estacionário ou mó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04_agents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8305920" cy="265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A619-7812-4393-8094-C2BD307C7C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O Modelo de Agentes</a:t>
            </a:r>
            <a:br>
              <a:rPr sz="3600"/>
            </a:b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(Principais Conceitos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loc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a transferência de um agente de um lugar para outro, que só ocorre se o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gente está autorizado a visitar o destino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05_travel" descr=""/>
          <p:cNvPicPr/>
          <p:nvPr/>
        </p:nvPicPr>
        <p:blipFill>
          <a:blip r:embed="rId1"/>
          <a:stretch/>
        </p:blipFill>
        <p:spPr>
          <a:xfrm>
            <a:off x="914400" y="3357720"/>
            <a:ext cx="822960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4FD-9283-496E-A016-155D8F1307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O Modelo de Agentes</a:t>
            </a:r>
            <a:br>
              <a:rPr sz="3600"/>
            </a:b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(Principais Conceitos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con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a interação direta entre dois ou mais agentes, geralmente posicionados em um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esmo lu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06_meetings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777240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6167-63C1-4619-A771-D50303A33B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O Modelo de Agentes</a:t>
            </a:r>
            <a:br>
              <a:rPr sz="3600"/>
            </a:b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(Principais Conceitos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tor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a identidade da pessoa ou empresa que o agente ou o lugar representa.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utoridade e identific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ervem como base para a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utenticação e autoriz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08_authorities" descr=""/>
          <p:cNvPicPr/>
          <p:nvPr/>
        </p:nvPicPr>
        <p:blipFill>
          <a:blip r:embed="rId1"/>
          <a:stretch/>
        </p:blipFill>
        <p:spPr>
          <a:xfrm>
            <a:off x="987480" y="3651120"/>
            <a:ext cx="8153280" cy="261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8F22-CDD5-4281-A332-1EB8E37F8D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O Modelo de Agentes</a:t>
            </a:r>
            <a:br>
              <a:rPr sz="3600"/>
            </a:b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(Principais Conceitos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miss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rminam quais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pera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odem ser executadas por agentes e lugares, como também, a quantidade máxima de recursos que podem ser us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09_permits" descr=""/>
          <p:cNvPicPr/>
          <p:nvPr/>
        </p:nvPicPr>
        <p:blipFill>
          <a:blip r:embed="rId1"/>
          <a:stretch/>
        </p:blipFill>
        <p:spPr>
          <a:xfrm>
            <a:off x="1353960" y="3664080"/>
            <a:ext cx="7772400" cy="257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1623-8915-4A77-9A5E-32D4833D00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Visão Gera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Exemplo do Primeiro Encon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10-put_things_together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6858000" cy="30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1AF9-5445-46A4-8CF8-6FDBAA51CC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Ações Sobre Agent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seguintes ações podem ocorrer ao longo da </a:t>
            </a: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vid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um ag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eate: o agente </a:t>
            </a: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nasc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seu estado é inicial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one: um clone de um agente é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ri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m o mesmo estado do orig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patch: um agente é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remeti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outra máqu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tract: um agente é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hamado de volt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o seu lugar de orig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6488-2112-429A-BE44-A85DCA4F87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Ações Sobre Agent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inu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activate: a execução do agente é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ngela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seu estado é armaze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tivate: a execução do agente é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inicia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u retom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pose: o agente é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estruí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os seus recursos liber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1A48-EBC2-4756-98CF-65396018B2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Agentes Móveis</a:t>
            </a: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ce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PC  vs  Agentes Mó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delo de A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ções sobre A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ncipais Componentes dos A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prego dos Agentes Mó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ra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BC1C-8CB4-47D1-B8F2-5BA3C758B5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Principais Componentes dos Agentes Móve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nguagem para Programação dos A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te aos desenvolvedores dos agentes definir o algoritmo que o agente executa e a informação que ele carrega através do seu deslocamento pela rede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11_language" descr=""/>
          <p:cNvPicPr/>
          <p:nvPr/>
        </p:nvPicPr>
        <p:blipFill>
          <a:blip r:embed="rId1"/>
          <a:stretch/>
        </p:blipFill>
        <p:spPr>
          <a:xfrm>
            <a:off x="3505320" y="3886200"/>
            <a:ext cx="228600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CED8-D6A4-46B3-B50C-0FC3DD90A4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Principais Componentes (continuação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stema do A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o software que provê a máquina virtual para a linguagem de programação dos agentes, e que gerencia a execução dos agentes e lug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12_engine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426744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D87E-B3D8-4D19-9E2E-F14A7D3254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Principais Componentes (continuação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tocolo de Transporte de A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rmina como os agentes são codificados e transferidos entre servi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13_protocolls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80060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D5C-6C21-4A0F-91EF-29514CF796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Emprego dos Agentes Móve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cutar tarefas complexas ou tediosas (ex. busca de informação na red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r pessoas ou organizações, incorporando as suas autor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cutar autonomamente durante um longo período de tempo (dias-me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r ativados de um computador móvel e retornar ao mesmo na próxima conex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FF01-85D7-4F92-85D6-8C5B505EE0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Emprego dos Agentes Móveis</a:t>
            </a:r>
            <a:br>
              <a:rPr sz="36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(Continuação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r usados em redes com conexões instáveis ou com pequena largura de ban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eragir com outros agentes de outros usuá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cessar recursos e dados em máquinas remo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nitorar o estado de um sistema ou de uma base de d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D40D-0F64-468F-A1B5-A98BBA188B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Exempl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nitor Financ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conjunto de agentes monitora as principais bolsas de valores no mundo para ativar transações nas bolsas de valores loc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143000" y="2971800"/>
          <a:ext cx="693432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971800"/>
                    <a:ext cx="69343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8D83-C794-4C6D-AF3B-11BEB5A4E1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Seguranç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ncipais problemas em agentes móve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rotegendo hosts de agentes malicio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rotegendo agentes de hosts malicio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rotegendo agentes de outros a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rotegendo um grupo de máquinas de a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27D4-FBAE-4D12-99FA-D38AE1006DE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Protegendo agentes de hosts maliciosos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ção do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 Móvel para Viagens (AM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HC quer viajar de Recife para Belém no próximo Domingo. Então ele envia um AMV para visitar os servidores de algumas companhias aére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nário da Busca de Infor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MV deve encontrar o melhor preço e retorna-lo para o FH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50BB-9883-4F5E-AB73-334E32B6051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Possíveis Ameaça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aque por Espion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mite de Preço configurado por FH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ferta dos Competi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aque por Manipul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 de Dados do A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ipulando dados e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F91-29DF-4377-A00E-6B5401E43E4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O Problema Fundamental da Proteção de Agentes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tecção de Ata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licação da lei é difícil, lenta e ca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bra da privacidade não pode ser tole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venção de Ata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venção é melhor do que Detec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F866-D872-4A8F-94D4-B9FE6090CB7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Exemplo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 - Sh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agente tem a tarefa de procurar um determinado produto em várias lojas virtuais, segundo critérios pré-estabelecidos, eventualmente negociar e comprar ou encomendar o produto escolhi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09680" y="4000680"/>
          <a:ext cx="533412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4000680"/>
                    <a:ext cx="533412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8960-83E1-4CD1-86D4-A97F5E1D1C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Prevenindo Ataqu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ados e Programas podem ser lidos, mudados e manipulados indevida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istem várias técnicas para proteger os Agentes Móve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ptogra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dos e Programas podem ser criptografados evitando assim, que sejam manipulados indevi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9736-B1CA-45D9-A40D-86D7E68B875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Plataforma para agentes móve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rnece aos a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bilidade sem afetar sua 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operabilidade(comunica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gu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térios para escol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ngu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toc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ta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gu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03A2-D1DF-49D1-A216-A0F242ABC99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Tecnologia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aseados em Java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let Softw. Development Kit (IB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ordia (Mitsubish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yber Agents (FTP Softwar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net System Environment (OS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matra (UMC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dyssey (General Mag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oy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1987-5B98-49E3-8C0A-F17D4B28084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Tecnologia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aseados em outras linguagens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 Tcl (Dartmout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lescript (General Mag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il (Fujitsu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earlake (Guidewar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 (Univ. Genev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liq (DEC SR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coma (Tromsø &amp; Cornell Univ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ave ( Univ. Surre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ssHopper - Cor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7540-3416-440C-AF70-05805B70ABB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Agent TC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nguagem -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cl (interpreta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cripts de alto n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andos bás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egin, submit, jump, send, receive, meet, accept e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acterísticas Prin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nguagem flexível e que suporta extens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icada para aplicações pequenas e mé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a indicada para aplicações que exigem classificação de grandes volumes de dados numé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90E5-E9FB-49A9-9BF0-3E164920A47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Agent TCL 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gine 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atus, migrations, communication e nonvolatile 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tocolo 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74E-62DC-4760-98AD-A920FA5C862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30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Agent TCL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quitetura 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541760" y="2514600"/>
            <a:ext cx="4343400" cy="3047760"/>
            <a:chOff x="4541760" y="2514600"/>
            <a:chExt cx="4343400" cy="3047760"/>
          </a:xfrm>
        </p:grpSpPr>
        <p:sp>
          <p:nvSpPr>
            <p:cNvPr id="229" name=""/>
            <p:cNvSpPr/>
            <p:nvPr/>
          </p:nvSpPr>
          <p:spPr>
            <a:xfrm>
              <a:off x="4541760" y="2514600"/>
              <a:ext cx="4343400" cy="7617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Age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41760" y="3276360"/>
              <a:ext cx="1447920" cy="762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T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89680" y="3276360"/>
              <a:ext cx="1447920" cy="762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37600" y="3276360"/>
              <a:ext cx="1447560" cy="762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1760" y="4038480"/>
              <a:ext cx="4343400" cy="762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Server or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41760" y="4800600"/>
              <a:ext cx="1447920" cy="7617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TCP/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89680" y="4800600"/>
              <a:ext cx="1447920" cy="7617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4800600"/>
              <a:ext cx="1447560" cy="7617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SMT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 flipH="1" flipV="1">
            <a:off x="3093840" y="2971800"/>
            <a:ext cx="289548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170160" y="4038480"/>
            <a:ext cx="281952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3093840" y="3124080"/>
            <a:ext cx="144756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246480" y="40384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89080" y="2895480"/>
            <a:ext cx="2514600" cy="228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51200" y="2971800"/>
            <a:ext cx="8380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Inter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51200" y="4495680"/>
            <a:ext cx="8380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65400" y="3733920"/>
            <a:ext cx="76176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89280" y="3733920"/>
            <a:ext cx="91440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pu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32080" y="3733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12960" y="3581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788920" y="44956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874880" y="35809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CB2A-8E1E-4BEC-82D1-FA75EABB633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Questõ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iste agente móvel não intelige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que seriam então chamados de agen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is as vantagens de juntar mobilidade e autonom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E946-F9C3-4327-B663-2BC0BED38F4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Referência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. Harrison, et al: Mobile Agents: Are they a good idea ?, IBM Research Report, 199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J. White: Mobile Agents White Paper, General Magic,1996.                 (www.genmagic.com/agents/whitepaper/whitepaper.htm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. Endler: Novos Paradigmas de Interação usando Agentes Móveis, SBRC, 1996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. Sander: Security! or “ How to Avoid to Breath Life in Frankensteins Monster”, ICSI-Berkeley, 1997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. Sander:On the Cryptographic Protection of Mobile Code, ICSI-Berkeley, 1997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3A3E-D5D9-4879-BDCF-DDF6BE6CEA8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3366"/>
                </a:solidFill>
                <a:latin typeface="Times New Roman"/>
              </a:rPr>
              <a:t>FIM !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CDC5-63D8-4BBC-826E-5620C2E3712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Exemplo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 - Primeiro Encon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gente tem a tarefa de escolher um restaurante, reservar uma mesa para dois, procurar um espetáculo (próximo ao restaurante), comprar ingressos e encomendar um buquê de flores para o dia segui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52480" y="3809880"/>
          <a:ext cx="556272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809880"/>
                    <a:ext cx="55627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FC5-92C2-491B-878A-5DCD254666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Concei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ão programas que podem migrar entre computadores de uma rede durante a sua execução, carregando consigo o seu estado de execuçã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600200" y="3276720"/>
            <a:ext cx="6629400" cy="3276000"/>
            <a:chOff x="1600200" y="3276720"/>
            <a:chExt cx="6629400" cy="3276000"/>
          </a:xfrm>
        </p:grpSpPr>
        <p:sp>
          <p:nvSpPr>
            <p:cNvPr id="143" name=""/>
            <p:cNvSpPr/>
            <p:nvPr/>
          </p:nvSpPr>
          <p:spPr>
            <a:xfrm>
              <a:off x="1600200" y="4190760"/>
              <a:ext cx="198108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Amb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de execu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do ag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600200" y="5867280"/>
              <a:ext cx="6629040" cy="685440"/>
              <a:chOff x="1600200" y="5867280"/>
              <a:chExt cx="6629040" cy="685440"/>
            </a:xfrm>
          </p:grpSpPr>
          <p:sp>
            <p:nvSpPr>
              <p:cNvPr id="145" name=""/>
              <p:cNvSpPr/>
              <p:nvPr/>
            </p:nvSpPr>
            <p:spPr>
              <a:xfrm>
                <a:off x="1600200" y="5867280"/>
                <a:ext cx="6629040" cy="685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456720" y="5972040"/>
                <a:ext cx="3367440" cy="3988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Infra-estrutura de comunicaçã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1600200" y="3352680"/>
              <a:ext cx="1981080" cy="837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Aplic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Cl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0200" y="5029200"/>
              <a:ext cx="1981080" cy="837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Subsistema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mensag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48160" y="4114800"/>
              <a:ext cx="1981440" cy="9140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Amb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de execu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do ag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160" y="5029200"/>
              <a:ext cx="1981440" cy="837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Subsistema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mensag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8160" y="3276720"/>
              <a:ext cx="198144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Aplic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servi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36CA-398A-4075-9103-120ACE9A3E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RPC vs Agentes Móve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hamada a Procedimentos Remotos (RP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municação é feita computador à computador, onde um cliente chama procedimentos em um servi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01_currentapproach" descr=""/>
          <p:cNvPicPr/>
          <p:nvPr/>
        </p:nvPicPr>
        <p:blipFill>
          <a:blip r:embed="rId1"/>
          <a:stretch/>
        </p:blipFill>
        <p:spPr>
          <a:xfrm>
            <a:off x="2057400" y="4114800"/>
            <a:ext cx="5791320" cy="213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3126-AC16-4563-89A9-0C0B28DC29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RPC vs Agentes Móve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gentes Mó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rogramação remot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RP), na qual um programa além de poder fazer chamadas de procedimentos em outro computador, também pode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xecutar seus procedimentos sobre outro computador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02_newapproach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7315200" cy="235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ECB8-0A12-4FE3-82AE-F2DE721666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RPC vs Agentes Móve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RP tem uma importante vantagem sobre o RP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titativa e T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litativa e Estraté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erson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1F33-FEB5-478B-AC35-D3B104EED8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RPC vs Agentes Móve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60640" y="1687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titativa e T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rsos locais limi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dução do custo de 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utação Assíncr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quitetura distribuída (flexí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607-3127-4068-8F80-A7FEA2812E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2T17:54:16Z</dcterms:created>
  <dc:creator>gabc</dc:creator>
  <dc:description/>
  <dc:language>en-US</dc:language>
  <cp:lastModifiedBy>cafm</cp:lastModifiedBy>
  <dcterms:modified xsi:type="dcterms:W3CDTF">2000-05-11T20:25:42Z</dcterms:modified>
  <cp:revision>113</cp:revision>
  <dc:subject/>
  <dc:title>Agentes Móveis</dc:title>
</cp:coreProperties>
</file>