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png" ContentType="image/png"/>
  <Override PartName="/ppt/media/image4.png" ContentType="image/png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DB33-0C63-4836-AE69-D3AECF902C4E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ffice multi-agente: como os clips poderiam conversar entre si para pararem de oferecer ajuda para escrever uma car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amento: isso tem impacto na arquitetura dos agente? Na implementacao dessa arquitetur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finir processo de aprendizagem: conjunto de atividades (planejamento, inferencia, decisao) para atingir um objetivo de aprendizagem. O que eu preciso pra melhorar meu chute? – perguntar a outros que chutam, inferir o que é um chute bom em várias situações, decidir qual o jeito de chutar na ocasião atual, guardar o resultado do meu chute ago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to e, ha uma variedade de opcoes: os agentes podem estar aprendendo sozinhos, podem estar aprendendo em conjunto, podem ter o mesmo objetivo, podem ter objetivos diferent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rendizado descentralizado pode exigir que cada agente se envolva em uma atividade de aprendizagem diferente dos de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tremos: 1 agente faz todo o processo de aprendizagem sequencialmente vs. Varios agentes dividem as tarefas de aprendizagem, e elas são feitas paralelamente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Interação: extremos – interação de apenas curtas observações, de baixa frequencia, e de forma nao estrutu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VS. Interação de muitas e longas trocas de informações, que ocorrem muito, e existe uma hierarquia por trá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Envolvimento: um agente não é importante porque sua atividade de aprendizado pode ser feita por outro...  Ou soh ele a faz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um agente pode fazer varias atividades de aprendizagem.. Ou é um especialista (só faz criticar, outro só propõe novas idéi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bjetivo – quero me melhorar (chutar melhor), ou melhorar a equipe (melhorar o posicionamento do ataque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plementare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flitant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cluindo: Impactos nos requisitos das habilidades dos agentes. Um ambiente SMA que modela um ambiente real pode ser pensado em termos dessas características e a partir daí se concluir quão difícil é sua implement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 SMA é fod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terseção da parte de Geber com a parte de Pa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 primeiro caso, o aprendizado é um meio e a comunicação é o fim. No segundo caso, o contrário acont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todo modo, comunicar quase sempre implica em aprender, pois envolve aquisição de conhe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 primeiro caso, o aprendizado é um meio e a comunicação é o fim. No segundo caso, o contrário acont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todo modo, comunicar quase sempre implica em aprender, pois envolve aquisição de conhe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o terminar esse slide, voltar ao anterior para mostrar o conceito de informacao compartilhada, a ser comparado com “entendimento compartilhad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ado que Exemplo: sera’ que todo nordestino é brasileiro me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,Bold"/>
                <a:ea typeface="Times New Roman"/>
              </a:rPr>
              <a:t>Agente é um sistema computacional que opera em um ambiente no qual é capaz de realizar autonomamente ações, para atingir seus objetiv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9FA-8D17-49EE-9DCE-BB4C5703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142-46B8-4581-A4D7-8A1AADE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E4C-ABE0-4927-B331-A36A4714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121-29E7-4CA5-851D-1E1DB106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F2F-69D3-4E41-85B1-83C1C016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887-4FCD-4671-980F-0E2E55B3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A07-885E-4FD6-AA4E-FB36CDC8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110-BB58-4F09-AE91-F91E4E34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301-B6B6-4EF8-9BB8-51E25ECB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052-A7AE-47D4-9FC1-9966916E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377-E128-4075-9F6F-EFEA890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37E-6D12-46DE-AB2F-B76D64BD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760" y="5638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E802-C59F-4F5D-A9D8-FDD3E2516D57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20120" y="5880240"/>
          <a:ext cx="1447560" cy="97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5880240"/>
                    <a:ext cx="14475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0" y="990720"/>
            <a:ext cx="9296280" cy="759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666880" y="3886200"/>
            <a:ext cx="4267440" cy="2666880"/>
            <a:chOff x="2666880" y="3886200"/>
            <a:chExt cx="4267440" cy="2666880"/>
          </a:xfrm>
        </p:grpSpPr>
        <p:graphicFrame>
          <p:nvGraphicFramePr>
            <p:cNvPr id="52" name=""/>
            <p:cNvGraphicFramePr/>
            <p:nvPr/>
          </p:nvGraphicFramePr>
          <p:xfrm>
            <a:off x="2819520" y="4572000"/>
            <a:ext cx="3362040" cy="193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9520" y="4572000"/>
                      <a:ext cx="3362040" cy="19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2666880" y="3886200"/>
              <a:ext cx="838440" cy="533520"/>
            </a:xfrm>
            <a:prstGeom prst="wedgeEllipseCallout">
              <a:avLst>
                <a:gd name="adj1" fmla="val 28407"/>
                <a:gd name="adj2" fmla="val 8660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91320" y="3962520"/>
              <a:ext cx="1143000" cy="533160"/>
            </a:xfrm>
            <a:prstGeom prst="cloudCallout">
              <a:avLst>
                <a:gd name="adj1" fmla="val -45416"/>
                <a:gd name="adj2" fmla="val 87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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29200" y="6019920"/>
              <a:ext cx="838080" cy="533160"/>
            </a:xfrm>
            <a:prstGeom prst="wedgeEllipseCallout">
              <a:avLst>
                <a:gd name="adj1" fmla="val -100189"/>
                <a:gd name="adj2" fmla="val -5059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Verdana"/>
                </a:rPr>
                <a:t>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523880" y="2514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Aprendizado Multiag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38280"/>
            <a:ext cx="9296280" cy="76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52680"/>
            <a:ext cx="9296280" cy="76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285840"/>
          <a:ext cx="424800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85840"/>
                    <a:ext cx="42480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320" y="1752480"/>
            <a:ext cx="4781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380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257800" y="838080"/>
          <a:ext cx="3267000" cy="134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838080"/>
                    <a:ext cx="326700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57800" y="762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3120" y="762120"/>
            <a:ext cx="396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5288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ndr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410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Gust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7240" y="556272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Dan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0520" y="5440320"/>
            <a:ext cx="7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ur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0160" y="627840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ndr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45200" y="6400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ma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11160" y="4343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ern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38680" y="44956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And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7631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0" y="6553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28800" y="6552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7631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169200" y="166680"/>
            <a:ext cx="51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Alguns Concei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752480"/>
            <a:ext cx="228600" cy="152640"/>
          </a:xfrm>
          <a:prstGeom prst="rightArrow">
            <a:avLst>
              <a:gd name="adj1" fmla="val 100000"/>
              <a:gd name="adj2" fmla="val 5304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97280" y="1538280"/>
            <a:ext cx="39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Inteligência em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23493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98560" y="220968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or quê pensar a inteligência/racionalidade como propriedade de um único indivídu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0798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98560" y="294012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ão existe inteligência em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276720"/>
            <a:ext cx="40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Um time de futebo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1360" y="3384720"/>
            <a:ext cx="7956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60680" y="3549600"/>
            <a:ext cx="40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Um formigueir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1360" y="3657600"/>
            <a:ext cx="7956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60680" y="3809880"/>
            <a:ext cx="40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Uma empresa (correios, ...)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1360" y="3917880"/>
            <a:ext cx="7956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0680" y="4083120"/>
            <a:ext cx="40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Na sociedad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11360" y="4191120"/>
            <a:ext cx="7956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47116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8560" y="457200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 conceito de inteligência em SMA é m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is abrangente, portant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257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-169200" y="166680"/>
            <a:ext cx="51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Alguns Concei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6640" y="1690560"/>
            <a:ext cx="830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Aprendizado em um SMA não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apenas uma ampliação do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aprendizado em sistemas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“single agent”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64176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3427560"/>
            <a:ext cx="830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Aprendizado em um SMA não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soma dos aprendizados isolados de cada agen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-11160" y="166680"/>
            <a:ext cx="22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Rot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25920" y="16905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590920" cy="1598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031760" y="230040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Alguns Conc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51460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36640" y="294012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aracterísticas do aprendizado em 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1543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685800" cy="547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38080" y="3962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incipais correntes de pesquisa em aprendizado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1450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0166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41360" y="48769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ordenação de a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53830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41360" y="524340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sobre e a partir de outr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57024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41360" y="55627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598788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62024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-502920" y="26820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Impact"/>
              </a:rPr>
              <a:t>Características do Aprendizado em S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66068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6640" y="1446120"/>
            <a:ext cx="79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Generalizando, existem duas categorias de aprendizado em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01840" y="2576520"/>
            <a:ext cx="7596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436840"/>
            <a:ext cx="63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centralizad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(ou isolado): o processo é totalmente executado por um agente, sem interação com demais a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6432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17680" y="3503520"/>
            <a:ext cx="63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descentralizad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(ou interativo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ários agentes estão engajados em um mesmo processo de aprendizagem. Pode haver ou não troca de inform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508968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6640" y="4875120"/>
            <a:ext cx="792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m um SMA, um agente pode estar envolvido em vários processos centralizados/descentral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-502920" y="26820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Impact"/>
              </a:rPr>
              <a:t>Características do Aprendizado em S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66068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447920"/>
            <a:ext cx="57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Grau de descentraliz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1477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17680" y="199548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Distribu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5290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7680" y="237636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aralel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-502920" y="26820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Impact"/>
              </a:rPr>
              <a:t>Características do Aprendizado em S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166068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6640" y="1446120"/>
            <a:ext cx="22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Int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21477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17680" y="1995480"/>
            <a:ext cx="77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ível da interação: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observaçã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troca de 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049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17680" y="2452680"/>
            <a:ext cx="68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ersistência da interação: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curt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longo pr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30160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17680" y="2863800"/>
            <a:ext cx="68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reqüência da interação: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alt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34732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17680" y="3321000"/>
            <a:ext cx="68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adrão da interação: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não-estruturad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hierárqu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419112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17680" y="4038480"/>
            <a:ext cx="68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ariação: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fix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mut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87692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6640" y="4662360"/>
            <a:ext cx="31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54244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17680" y="5272200"/>
            <a:ext cx="39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levância do envolv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58053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17680" y="5653080"/>
            <a:ext cx="67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osição estabelecida durante o envolv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-502920" y="268200"/>
            <a:ext cx="96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Impact"/>
              </a:rPr>
              <a:t>Características do Aprendizado em S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66068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6640" y="1446120"/>
            <a:ext cx="22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1477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049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17680" y="2452680"/>
            <a:ext cx="68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patibilidade dos objetivos: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complementare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ou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conflitante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17680" y="1995480"/>
            <a:ext cx="70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Tipo de aperfeiçoamento: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individual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ou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global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371952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6640" y="3505320"/>
            <a:ext cx="80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lusão acerca das características do aprendizado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648320"/>
            <a:ext cx="5333760" cy="121896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 possibilidad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mbinações é enor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-11160" y="166680"/>
            <a:ext cx="22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Rot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25920" y="16905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590920" cy="15984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031760" y="230040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Alguns Conc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51460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36640" y="294012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Características do aprendizado em 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31543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685800" cy="5479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5257800" y="3186000"/>
            <a:ext cx="685800" cy="547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38080" y="3962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incipais correntes de pesquisa em aprendizado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41450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50166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41360" y="48769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ordenação de a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53830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41360" y="524340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sobre e a partir de outr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57024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41360" y="55627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6640" y="598788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62024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-401040" y="166680"/>
            <a:ext cx="95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Principais Correntes de Pesqui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166068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6640" y="1446120"/>
            <a:ext cx="77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Não existe uma metodologia de ensino bem-definida para aprendizado em 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18600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6640" y="2971800"/>
            <a:ext cx="77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istem tendências, focos em diferentes áreas, aplicaçõe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429912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6640" y="4114800"/>
            <a:ext cx="80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s correntes de pesquisa apresentadas a segu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2452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41360" y="5105520"/>
            <a:ext cx="68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ão abordagens concretas de aprendizado em 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55641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41360" y="5424480"/>
            <a:ext cx="68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lustram bem a aplicação de alguns conceitos da disciplina (RL, CBR, etc.) em aprendizado multia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-566640" y="268200"/>
            <a:ext cx="102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Aprendizado e Coordenação de A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64772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6640" y="144792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roblemas de Coorden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13516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17680" y="1982880"/>
            <a:ext cx="69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bordagens tradicionais tratam a coordenação em tempo de projeto (off-line), especificando regras de comportamento, protocolos de negociação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303372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17680" y="2881440"/>
            <a:ext cx="69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s SMA’s são utilizados em ambientes abertos e dinâmicos, com agentes que têm objetivos e habilidades variá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394812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17680" y="379584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ogo, torna-se necessário que os agentes se adaptem a novas demandas 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834080"/>
            <a:ext cx="217440" cy="153720"/>
          </a:xfrm>
          <a:prstGeom prst="rightArrow">
            <a:avLst>
              <a:gd name="adj1" fmla="val 100000"/>
              <a:gd name="adj2" fmla="val 5009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6640" y="465300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olu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532116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17680" y="516888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gentes devem aprender como coordenar suas atividades dinamic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7620120" y="5880240"/>
          <a:ext cx="144756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5880240"/>
                    <a:ext cx="14475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990720"/>
            <a:ext cx="9296280" cy="759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54360" y="166680"/>
            <a:ext cx="258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Objetiv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514600"/>
            <a:ext cx="739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mover uma discussão sobre as necessidades, limitações, vantagens e conseqüências da utilização de mecanismos de aprendizado 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istemas multi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-566640" y="268200"/>
            <a:ext cx="102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Aprendizado e Coordenação de A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63512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6640" y="142704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rrentes de Estu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32000" y="2122560"/>
            <a:ext cx="75960" cy="7596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17680" y="196992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prendizado Isolado: um agente não considera outros agentes em seu processo de aprend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32000" y="4361040"/>
            <a:ext cx="75960" cy="7596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17680" y="4214880"/>
            <a:ext cx="73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mbas abordagens usam aprendizado por reforço (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03280" y="2997360"/>
            <a:ext cx="69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prendizado Interativo: agentes cooperam no aprendizado, coordenando suas atividades conjun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3141720"/>
            <a:ext cx="75960" cy="76320"/>
          </a:xfrm>
          <a:custGeom>
            <a:avLst/>
            <a:gdLst>
              <a:gd name="textAreaLeft" fmla="*/ 360 w 75960"/>
              <a:gd name="textAreaRight" fmla="*/ 75600 w 75960"/>
              <a:gd name="textAreaTop" fmla="*/ 360 h 76320"/>
              <a:gd name="textAreaBottom" fmla="*/ 75960 h 76320"/>
            </a:gdLst>
            <a:ahLst/>
            <a:rect l="textAreaLeft" t="textAreaTop" r="textAreaRight" b="textAreaBottom"/>
            <a:pathLst>
              <a:path w="21600" h="21702">
                <a:moveTo>
                  <a:pt x="450" y="0"/>
                </a:moveTo>
                <a:arcTo wR="450" hR="450" stAng="16200000" swAng="-5400000"/>
                <a:lnTo>
                  <a:pt x="0" y="21252"/>
                </a:lnTo>
                <a:arcTo wR="450" hR="450" stAng="10800000" swAng="-5400000"/>
                <a:lnTo>
                  <a:pt x="21150" y="21702"/>
                </a:lnTo>
                <a:arcTo wR="450" hR="450" stAng="5400000" swAng="-5400000"/>
                <a:lnTo>
                  <a:pt x="21600" y="450"/>
                </a:lnTo>
                <a:arcTo wR="450" hR="45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-422280" y="26820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Aprendizado Isolado Concorr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1569960"/>
            <a:ext cx="217440" cy="154080"/>
          </a:xfrm>
          <a:prstGeom prst="rightArrow">
            <a:avLst>
              <a:gd name="adj1" fmla="val 100000"/>
              <a:gd name="adj2" fmla="val 49980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6640" y="135576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05740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17680" y="1905120"/>
            <a:ext cx="740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gentes não se comunicam no processo de aprendizado: parte do princípo de que a comunicação consome tempo, recursos, é suscetível a falha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6280" y="314964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22360" y="2997360"/>
            <a:ext cx="69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aracterísticas relevantes do amb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82800" y="339552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ível de acoplamento dos agentes: intensidade e freqü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33480" y="3503520"/>
            <a:ext cx="79560" cy="120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87480" y="397188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orma de relacionamento: cooperação, indiferença, ou compet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38160" y="4079880"/>
            <a:ext cx="79560" cy="120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7480" y="458316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empo para obter </a:t>
            </a: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feedback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d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38160" y="4691160"/>
            <a:ext cx="79560" cy="120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501336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Quantidade de comportamentos ót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38160" y="5108400"/>
            <a:ext cx="79560" cy="1209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95440" y="558972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emplo: corrida de Fórmul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00040" y="5729400"/>
            <a:ext cx="76320" cy="7596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35280" y="6093000"/>
            <a:ext cx="79200" cy="120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8000" y="5972040"/>
            <a:ext cx="6477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08000" y="5950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ordenar para não colidir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651640" y="5516640"/>
            <a:ext cx="1827000" cy="8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-422280" y="26820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Aprendizado Isolado Concorr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569960"/>
            <a:ext cx="217440" cy="154080"/>
          </a:xfrm>
          <a:prstGeom prst="rightArrow">
            <a:avLst>
              <a:gd name="adj1" fmla="val 100000"/>
              <a:gd name="adj2" fmla="val 49980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6640" y="138924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esult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3933720"/>
            <a:ext cx="75960" cy="76320"/>
          </a:xfrm>
          <a:custGeom>
            <a:avLst/>
            <a:gdLst>
              <a:gd name="textAreaLeft" fmla="*/ 360 w 75960"/>
              <a:gd name="textAreaRight" fmla="*/ 75600 w 75960"/>
              <a:gd name="textAreaTop" fmla="*/ 360 h 76320"/>
              <a:gd name="textAreaBottom" fmla="*/ 75960 h 76320"/>
            </a:gdLst>
            <a:ahLst/>
            <a:rect l="textAreaLeft" t="textAreaTop" r="textAreaRight" b="textAreaBottom"/>
            <a:pathLst>
              <a:path w="21600" h="21702">
                <a:moveTo>
                  <a:pt x="450" y="0"/>
                </a:moveTo>
                <a:arcTo wR="450" hR="450" stAng="16200000" swAng="-5400000"/>
                <a:lnTo>
                  <a:pt x="0" y="21252"/>
                </a:lnTo>
                <a:arcTo wR="450" hR="450" stAng="10800000" swAng="-5400000"/>
                <a:lnTo>
                  <a:pt x="21150" y="21702"/>
                </a:lnTo>
                <a:arcTo wR="450" hR="450" stAng="5400000" swAng="-5400000"/>
                <a:lnTo>
                  <a:pt x="21600" y="450"/>
                </a:lnTo>
                <a:arcTo wR="450" hR="45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3280" y="3795840"/>
            <a:ext cx="69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gentes podem alcançar especialização, e não aprenderem o mesmo compor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32000" y="2133720"/>
            <a:ext cx="75960" cy="7596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22360" y="1989000"/>
            <a:ext cx="69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imitações em ambientes fortemente acoplados, com feedback demorado e poucas combinações ót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87480" y="2948040"/>
            <a:ext cx="674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gentes precisam do reforço, mas o ambiente não dá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38160" y="3068640"/>
            <a:ext cx="79560" cy="120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87480" y="328464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olução: intercalar o aprendizado dos a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38160" y="3357720"/>
            <a:ext cx="79560" cy="120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32000" y="4673520"/>
            <a:ext cx="75960" cy="76320"/>
          </a:xfrm>
          <a:custGeom>
            <a:avLst/>
            <a:gdLst>
              <a:gd name="textAreaLeft" fmla="*/ 360 w 75960"/>
              <a:gd name="textAreaRight" fmla="*/ 75600 w 75960"/>
              <a:gd name="textAreaTop" fmla="*/ 360 h 76320"/>
              <a:gd name="textAreaBottom" fmla="*/ 75960 h 76320"/>
            </a:gdLst>
            <a:ahLst/>
            <a:rect l="textAreaLeft" t="textAreaTop" r="textAreaRight" b="textAreaBottom"/>
            <a:pathLst>
              <a:path w="21600" h="21702">
                <a:moveTo>
                  <a:pt x="450" y="0"/>
                </a:moveTo>
                <a:arcTo wR="450" hR="450" stAng="16200000" swAng="-5400000"/>
                <a:lnTo>
                  <a:pt x="0" y="21252"/>
                </a:lnTo>
                <a:arcTo wR="450" hR="450" stAng="10800000" swAng="-5400000"/>
                <a:lnTo>
                  <a:pt x="21150" y="21702"/>
                </a:lnTo>
                <a:arcTo wR="450" hR="450" stAng="5400000" swAng="-5400000"/>
                <a:lnTo>
                  <a:pt x="21600" y="450"/>
                </a:lnTo>
                <a:arcTo wR="450" hR="45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17680" y="451656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clusão: fácil de implementar, e leva a bon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-270000" y="26820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Aprendizado Intera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569960"/>
            <a:ext cx="217440" cy="154080"/>
          </a:xfrm>
          <a:prstGeom prst="rightArrow">
            <a:avLst>
              <a:gd name="adj1" fmla="val 100000"/>
              <a:gd name="adj2" fmla="val 49980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6640" y="138924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212868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7680" y="198288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aprendizagem dos agentes envolve comunicação explíc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280512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17680" y="266220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gentes agem para otimizar um objetivo global: aplicável apenas em ambientes coope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6280" y="3521160"/>
            <a:ext cx="76320" cy="7596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22360" y="3373560"/>
            <a:ext cx="69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ois algorit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87480" y="3813120"/>
            <a:ext cx="674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ction Estimation Algorithm (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3908520"/>
            <a:ext cx="79200" cy="120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87480" y="424512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ction Group Estimation Algorithm (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28800" y="4340160"/>
            <a:ext cx="79200" cy="120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-408600" y="268200"/>
            <a:ext cx="70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Aprendizado Interativo - 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1619280"/>
            <a:ext cx="217440" cy="154080"/>
          </a:xfrm>
          <a:prstGeom prst="rightArrow">
            <a:avLst>
              <a:gd name="adj1" fmla="val 100000"/>
              <a:gd name="adj2" fmla="val 49980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6640" y="141300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ction Estimation Algorithm (AC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00040" y="220176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95440" y="206676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ara um dado estado, cada agente divulga, em broadcast, suas melhores ações/refor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00040" y="2924280"/>
            <a:ext cx="76320" cy="7596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76360" y="2781360"/>
            <a:ext cx="69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s agentes escolhem a melhor ação não-conflitante com o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contexto de atividade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activity context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) existente e a insere no conj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03280" y="393372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76360" y="378936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pete-se esses passos até que todos os agentes tenham informado suas melhore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03280" y="465300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76360" y="450864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 contexto de atividades é então exec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03280" y="515772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76360" y="501336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emplo: Ja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35280" y="5516640"/>
            <a:ext cx="79200" cy="120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8000" y="5373720"/>
            <a:ext cx="45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Um agente para cada tarefa: entrad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ato principal, e sobrem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443640" y="5138640"/>
            <a:ext cx="1152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-433080" y="268200"/>
            <a:ext cx="70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Aprendizado Interativo - 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569960"/>
            <a:ext cx="217440" cy="154080"/>
          </a:xfrm>
          <a:prstGeom prst="rightArrow">
            <a:avLst>
              <a:gd name="adj1" fmla="val 100000"/>
              <a:gd name="adj2" fmla="val 49980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6640" y="1355760"/>
            <a:ext cx="79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ction Group Estimation Algorithm (AG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00040" y="205740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95440" y="190512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ara um dado estado, cada agente divulga, em broadcast, suas melhores ações/refor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0040" y="284796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76360" y="2716200"/>
            <a:ext cx="69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s agentes criam todos os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contextos de atividade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activity context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) não-conflitantes possíveis com as ações existentes e as novas ações do a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3280" y="3870360"/>
            <a:ext cx="76320" cy="7632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76360" y="373680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pete-se esses passos até que todos os agentes tenham informado suas melhore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03280" y="4807080"/>
            <a:ext cx="76320" cy="7596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76360" y="465948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colhe-se o melhor contexto de a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76360" y="530856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clusão: apresenta melhor resultado do que o ACE, mas a um custo computacional ma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03280" y="5454720"/>
            <a:ext cx="76320" cy="7596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-11160" y="166680"/>
            <a:ext cx="22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Rot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25920" y="16905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590920" cy="15984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031760" y="230040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Alguns Conc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251460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836640" y="294012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Características do aprendizado em 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31543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685800" cy="5479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5257800" y="3186000"/>
            <a:ext cx="685800" cy="5479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838080" y="3962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incipais correntes de pesquisa em aprendizado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41450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50166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41360" y="48769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ff"/>
                </a:solidFill>
                <a:latin typeface="Verdana"/>
              </a:rPr>
              <a:t>Aprendizado e coordenação de a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53830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41360" y="524340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sobre e a partir de outr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95280" y="57024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41360" y="55627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6640" y="598788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62024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6858000" y="4816440"/>
            <a:ext cx="4572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-603000" y="317520"/>
            <a:ext cx="103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Aprendizado sobre e a partir de outros ag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6640" y="1355760"/>
            <a:ext cx="792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o contrário da coordenação, agora o aprendizado objetiva uma melhoria individual da performance do a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311004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6640" y="2895480"/>
            <a:ext cx="792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plica como o aprendizado conduzido por um agente pode ser influenciado por outros a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465120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6640" y="4437000"/>
            <a:ext cx="79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divinhar o comportamento do outros ag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5424480"/>
            <a:ext cx="2666880" cy="368280"/>
            <a:chOff x="1371600" y="5424480"/>
            <a:chExt cx="2666880" cy="368280"/>
          </a:xfrm>
        </p:grpSpPr>
        <p:sp>
          <p:nvSpPr>
            <p:cNvPr id="457" name=""/>
            <p:cNvSpPr/>
            <p:nvPr/>
          </p:nvSpPr>
          <p:spPr>
            <a:xfrm>
              <a:off x="1371600" y="5562720"/>
              <a:ext cx="7632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17680" y="5424480"/>
              <a:ext cx="262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Preferência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371600" y="59436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17680" y="580536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stratégi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71600" y="63244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17680" y="618660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ntençõ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6640" y="1355760"/>
            <a:ext cx="79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resentaremos três abordag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603000" y="317520"/>
            <a:ext cx="103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Aprendizado sobre e a partir de outros ag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447920" y="2666880"/>
            <a:ext cx="6781680" cy="459720"/>
            <a:chOff x="1447920" y="2666880"/>
            <a:chExt cx="6781680" cy="459720"/>
          </a:xfrm>
        </p:grpSpPr>
        <p:sp>
          <p:nvSpPr>
            <p:cNvPr id="467" name=""/>
            <p:cNvSpPr/>
            <p:nvPr/>
          </p:nvSpPr>
          <p:spPr>
            <a:xfrm>
              <a:off x="1447920" y="2895480"/>
              <a:ext cx="7632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70320" y="2666880"/>
              <a:ext cx="66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Verdana"/>
                </a:rPr>
                <a:t>Aprender papéis organizaciona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47920" y="3124080"/>
            <a:ext cx="6735600" cy="459720"/>
            <a:chOff x="1447920" y="3124080"/>
            <a:chExt cx="6735600" cy="459720"/>
          </a:xfrm>
        </p:grpSpPr>
        <p:sp>
          <p:nvSpPr>
            <p:cNvPr id="470" name=""/>
            <p:cNvSpPr/>
            <p:nvPr/>
          </p:nvSpPr>
          <p:spPr>
            <a:xfrm>
              <a:off x="1447920" y="3352680"/>
              <a:ext cx="7632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4240" y="3124080"/>
              <a:ext cx="66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Verdana"/>
                </a:rPr>
                <a:t>Aprender em ambientes de merc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447920" y="3581280"/>
            <a:ext cx="6735600" cy="459720"/>
            <a:chOff x="1447920" y="3581280"/>
            <a:chExt cx="6735600" cy="459720"/>
          </a:xfrm>
        </p:grpSpPr>
        <p:sp>
          <p:nvSpPr>
            <p:cNvPr id="473" name=""/>
            <p:cNvSpPr/>
            <p:nvPr/>
          </p:nvSpPr>
          <p:spPr>
            <a:xfrm>
              <a:off x="1447920" y="3809880"/>
              <a:ext cx="7632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24240" y="3581280"/>
              <a:ext cx="66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Verdana"/>
                </a:rPr>
                <a:t>Aprender a explorar um opon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15920" y="501480"/>
            <a:ext cx="849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Impact"/>
              </a:rPr>
              <a:t>Abordagem 1:   </a:t>
            </a: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Aprender papéis organizacion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09480" y="1371600"/>
            <a:ext cx="8153640" cy="1373760"/>
            <a:chOff x="609480" y="1371600"/>
            <a:chExt cx="8153640" cy="1373760"/>
          </a:xfrm>
        </p:grpSpPr>
        <p:sp>
          <p:nvSpPr>
            <p:cNvPr id="477" name=""/>
            <p:cNvSpPr/>
            <p:nvPr/>
          </p:nvSpPr>
          <p:spPr>
            <a:xfrm>
              <a:off x="609480" y="1569960"/>
              <a:ext cx="217440" cy="152640"/>
            </a:xfrm>
            <a:prstGeom prst="rightArrow">
              <a:avLst>
                <a:gd name="adj1" fmla="val 100000"/>
                <a:gd name="adj2" fmla="val 5045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6640" y="1371600"/>
              <a:ext cx="7926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Verdana"/>
                </a:rPr>
                <a:t>Capacitar cada membro do grupo a identificar seu papel na organização de uma forma adaptáv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09480" y="2895480"/>
            <a:ext cx="8153640" cy="520560"/>
            <a:chOff x="609480" y="2895480"/>
            <a:chExt cx="8153640" cy="520560"/>
          </a:xfrm>
        </p:grpSpPr>
        <p:sp>
          <p:nvSpPr>
            <p:cNvPr id="480" name=""/>
            <p:cNvSpPr/>
            <p:nvPr/>
          </p:nvSpPr>
          <p:spPr>
            <a:xfrm>
              <a:off x="609480" y="3093840"/>
              <a:ext cx="217440" cy="152640"/>
            </a:xfrm>
            <a:prstGeom prst="rightArrow">
              <a:avLst>
                <a:gd name="adj1" fmla="val 100000"/>
                <a:gd name="adj2" fmla="val 5045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6640" y="2895480"/>
              <a:ext cx="792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Verdana"/>
                </a:rPr>
                <a:t>Exemplo: </a:t>
              </a:r>
              <a:r>
                <a:rPr b="1" lang="pt-BR" sz="2800" spc="-1" strike="noStrike">
                  <a:solidFill>
                    <a:srgbClr val="000000"/>
                  </a:solidFill>
                  <a:latin typeface="Verdana"/>
                </a:rPr>
                <a:t>Se “dando bem”</a:t>
              </a:r>
              <a:r>
                <a:rPr b="1" lang="pt-PT" sz="2800" spc="-1" strike="noStrike">
                  <a:solidFill>
                    <a:srgbClr val="000000"/>
                  </a:solidFill>
                  <a:latin typeface="Verdana"/>
                </a:rPr>
                <a:t> na noite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2" name=""/>
          <p:cNvGraphicFramePr/>
          <p:nvPr/>
        </p:nvGraphicFramePr>
        <p:xfrm>
          <a:off x="1828800" y="3581280"/>
          <a:ext cx="1190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581280"/>
                    <a:ext cx="1190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429000" y="3505320"/>
          <a:ext cx="13143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505320"/>
                    <a:ext cx="1314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105520" y="3657600"/>
          <a:ext cx="106668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657600"/>
                    <a:ext cx="10666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1143000" y="5197320"/>
            <a:ext cx="6735600" cy="1191240"/>
            <a:chOff x="1143000" y="5197320"/>
            <a:chExt cx="6735600" cy="1191240"/>
          </a:xfrm>
        </p:grpSpPr>
        <p:sp>
          <p:nvSpPr>
            <p:cNvPr id="489" name=""/>
            <p:cNvSpPr/>
            <p:nvPr/>
          </p:nvSpPr>
          <p:spPr>
            <a:xfrm>
              <a:off x="1143000" y="5425920"/>
              <a:ext cx="7632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19320" y="5197320"/>
              <a:ext cx="665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Verdana"/>
                </a:rPr>
                <a:t>Observando os outros agentes, qual papel escolher? Exigente, moderado ou desesperad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1160" y="166680"/>
            <a:ext cx="22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Rot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25920" y="16905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590920" cy="1598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29600" y="230040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lguns conc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51460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6640" y="294012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aracterísticas do Aprendizado em 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1543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3962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incipais correntes de pesquisa em aprendizado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1450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0166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41360" y="48769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ordenação de a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53830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41360" y="524340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sobre e a partir de outr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7024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41360" y="55627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6640" y="598788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62024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15920" y="289080"/>
            <a:ext cx="9028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Abordagem 2:</a:t>
            </a: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prendendo em ambient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09480" y="1371600"/>
            <a:ext cx="8153640" cy="947160"/>
            <a:chOff x="609480" y="1371600"/>
            <a:chExt cx="8153640" cy="947160"/>
          </a:xfrm>
        </p:grpSpPr>
        <p:sp>
          <p:nvSpPr>
            <p:cNvPr id="493" name=""/>
            <p:cNvSpPr/>
            <p:nvPr/>
          </p:nvSpPr>
          <p:spPr>
            <a:xfrm>
              <a:off x="609480" y="1569960"/>
              <a:ext cx="217440" cy="152640"/>
            </a:xfrm>
            <a:prstGeom prst="rightArrow">
              <a:avLst>
                <a:gd name="adj1" fmla="val 100000"/>
                <a:gd name="adj2" fmla="val 5045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6640" y="1371600"/>
              <a:ext cx="792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Verdana"/>
                </a:rPr>
                <a:t>Agentes compram e vendem informações em um mercad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20640" y="2589120"/>
            <a:ext cx="8294400" cy="520560"/>
            <a:chOff x="620640" y="2589120"/>
            <a:chExt cx="8294400" cy="520560"/>
          </a:xfrm>
        </p:grpSpPr>
        <p:sp>
          <p:nvSpPr>
            <p:cNvPr id="496" name=""/>
            <p:cNvSpPr/>
            <p:nvPr/>
          </p:nvSpPr>
          <p:spPr>
            <a:xfrm>
              <a:off x="620640" y="2803320"/>
              <a:ext cx="221400" cy="152280"/>
            </a:xfrm>
            <a:prstGeom prst="rightArrow">
              <a:avLst>
                <a:gd name="adj1" fmla="val 100000"/>
                <a:gd name="adj2" fmla="val 5149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0600" y="2589120"/>
              <a:ext cx="80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Verdana"/>
                </a:rPr>
                <a:t>O ambiente é dinâmico por naturez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20640" y="3352680"/>
            <a:ext cx="8523000" cy="947160"/>
            <a:chOff x="620640" y="3352680"/>
            <a:chExt cx="8523000" cy="947160"/>
          </a:xfrm>
        </p:grpSpPr>
        <p:sp>
          <p:nvSpPr>
            <p:cNvPr id="499" name=""/>
            <p:cNvSpPr/>
            <p:nvPr/>
          </p:nvSpPr>
          <p:spPr>
            <a:xfrm>
              <a:off x="620640" y="3566880"/>
              <a:ext cx="227520" cy="152280"/>
            </a:xfrm>
            <a:prstGeom prst="rightArrow">
              <a:avLst>
                <a:gd name="adj1" fmla="val 100000"/>
                <a:gd name="adj2" fmla="val 5291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6720" y="3352680"/>
              <a:ext cx="8296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Verdana"/>
                </a:rPr>
                <a:t>A qualidade da informação vendida por diferentes agentes pode não ser a mes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20640" y="4876920"/>
            <a:ext cx="8142480" cy="947160"/>
            <a:chOff x="620640" y="4876920"/>
            <a:chExt cx="8142480" cy="947160"/>
          </a:xfrm>
        </p:grpSpPr>
        <p:sp>
          <p:nvSpPr>
            <p:cNvPr id="502" name=""/>
            <p:cNvSpPr/>
            <p:nvPr/>
          </p:nvSpPr>
          <p:spPr>
            <a:xfrm>
              <a:off x="620640" y="5031000"/>
              <a:ext cx="217440" cy="152280"/>
            </a:xfrm>
            <a:prstGeom prst="rightArrow">
              <a:avLst>
                <a:gd name="adj1" fmla="val 100000"/>
                <a:gd name="adj2" fmla="val 50571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6640" y="4876920"/>
              <a:ext cx="792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Verdana"/>
                </a:rPr>
                <a:t>Só é possível verificar a qualidade da informação após comprá-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15920" y="268200"/>
            <a:ext cx="902808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Abordagem 3:</a:t>
            </a: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Verdana"/>
              </a:rPr>
              <a:t>Aprendendo a aproveitar-se do opon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09480" y="1371600"/>
            <a:ext cx="8153640" cy="505440"/>
            <a:chOff x="609480" y="1371600"/>
            <a:chExt cx="8153640" cy="505440"/>
          </a:xfrm>
        </p:grpSpPr>
        <p:sp>
          <p:nvSpPr>
            <p:cNvPr id="506" name=""/>
            <p:cNvSpPr/>
            <p:nvPr/>
          </p:nvSpPr>
          <p:spPr>
            <a:xfrm>
              <a:off x="609480" y="1569960"/>
              <a:ext cx="217440" cy="152640"/>
            </a:xfrm>
            <a:prstGeom prst="rightArrow">
              <a:avLst>
                <a:gd name="adj1" fmla="val 100000"/>
                <a:gd name="adj2" fmla="val 5045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6640" y="1371600"/>
              <a:ext cx="7926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700" spc="-1" strike="noStrike">
                  <a:solidFill>
                    <a:srgbClr val="000000"/>
                  </a:solidFill>
                  <a:latin typeface="Verdana"/>
                </a:rPr>
                <a:t>Abordado em </a:t>
              </a:r>
              <a:r>
                <a:rPr b="1" i="1" lang="pt-PT" sz="2700" spc="-1" strike="noStrike">
                  <a:solidFill>
                    <a:srgbClr val="000000"/>
                  </a:solidFill>
                  <a:latin typeface="Verdana"/>
                </a:rPr>
                <a:t>two player zero-sum games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20640" y="2879640"/>
            <a:ext cx="228600" cy="152640"/>
          </a:xfrm>
          <a:prstGeom prst="rightArrow">
            <a:avLst>
              <a:gd name="adj1" fmla="val 100000"/>
              <a:gd name="adj2" fmla="val 5304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41320" y="2665440"/>
            <a:ext cx="830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00"/>
                </a:solidFill>
                <a:latin typeface="Verdana"/>
              </a:rPr>
              <a:t>Procura aprender a estratégia do oponente observado o seu comportamen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20640" y="4235400"/>
            <a:ext cx="8523000" cy="947160"/>
            <a:chOff x="620640" y="4235400"/>
            <a:chExt cx="8523000" cy="947160"/>
          </a:xfrm>
        </p:grpSpPr>
        <p:sp>
          <p:nvSpPr>
            <p:cNvPr id="511" name=""/>
            <p:cNvSpPr/>
            <p:nvPr/>
          </p:nvSpPr>
          <p:spPr>
            <a:xfrm>
              <a:off x="620640" y="4449600"/>
              <a:ext cx="227520" cy="152280"/>
            </a:xfrm>
            <a:prstGeom prst="rightArrow">
              <a:avLst>
                <a:gd name="adj1" fmla="val 100000"/>
                <a:gd name="adj2" fmla="val 5291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6720" y="4235400"/>
              <a:ext cx="8296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Verdana"/>
                </a:rPr>
                <a:t>A partir daí, adota uma estratégia mais intelig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620640" y="5410080"/>
            <a:ext cx="8523000" cy="520560"/>
            <a:chOff x="620640" y="5410080"/>
            <a:chExt cx="8523000" cy="520560"/>
          </a:xfrm>
        </p:grpSpPr>
        <p:sp>
          <p:nvSpPr>
            <p:cNvPr id="514" name=""/>
            <p:cNvSpPr/>
            <p:nvPr/>
          </p:nvSpPr>
          <p:spPr>
            <a:xfrm>
              <a:off x="620640" y="5624280"/>
              <a:ext cx="227520" cy="152280"/>
            </a:xfrm>
            <a:prstGeom prst="rightArrow">
              <a:avLst>
                <a:gd name="adj1" fmla="val 100000"/>
                <a:gd name="adj2" fmla="val 5291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6720" y="5410080"/>
              <a:ext cx="82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Verdana"/>
                </a:rPr>
                <a:t>Exemplo: Truco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11160" y="166680"/>
            <a:ext cx="22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Rot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25920" y="16905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590920" cy="15984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31760" y="230040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Alguns Conc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251460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36640" y="294012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Características do aprendizado em 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1543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685800" cy="5479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5257800" y="3186000"/>
            <a:ext cx="685800" cy="547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838080" y="3962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incipais correntes de pesquisa em aprendizado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41450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95280" y="50166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41360" y="48769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ff"/>
                </a:solidFill>
                <a:latin typeface="Verdana"/>
              </a:rPr>
              <a:t>Aprendizado e coordenação de a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95280" y="53830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41360" y="524340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ff"/>
                </a:solidFill>
                <a:latin typeface="Verdana"/>
              </a:rPr>
              <a:t>Aprendizado sobre e a partir de outr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57024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41360" y="55627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6640" y="598788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62024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6858000" y="4816440"/>
            <a:ext cx="457200" cy="3650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6"/>
          <a:stretch/>
        </p:blipFill>
        <p:spPr>
          <a:xfrm>
            <a:off x="7543800" y="5181480"/>
            <a:ext cx="4572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-424080" y="166680"/>
            <a:ext cx="835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Aprendizado e Comunica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6640" y="135576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prender a se comunic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71600" y="20574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17680" y="190512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esse caso, o processo de aprendizagem objetiva a diminuição da carga de comunicação entre 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311004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6640" y="289548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municação como aprendiz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359712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17680" y="3444840"/>
            <a:ext cx="69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esse caso, a comunicação é vista como um método de troca de informações que permite aos agentes refinarem suas tarefas de aprend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465120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36640" y="443700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s duas abordagens aci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71600" y="51228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417680" y="497052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Devem deixar claro o que, quando, como e com quem se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573264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7680" y="558000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ecessitam da definição de uma ontologia comum (consenso no significado dos símbol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-610560" y="268200"/>
            <a:ext cx="97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Abordagem 1: Aprender a se Comuni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6640" y="1355760"/>
            <a:ext cx="79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jetivo: evitar desperdício de recursos causado pela 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257652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6640" y="236232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: Contract-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71600" y="315432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17680" y="300204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Geralmente implementado com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roadcast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atura a rede para sistemas grand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38862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373392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implesmente mudar a solicitação de tarefas de broadcast para ponto-a-ponto não re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878120" y="4419720"/>
            <a:ext cx="647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aminhos de comunicação diretos precisariam ser conhecidos previamente pelo projet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4527720"/>
            <a:ext cx="7920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78120" y="495288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Ambientes dinâmicos seriam complexos demais para proje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28800" y="5060880"/>
            <a:ext cx="7920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78120" y="54864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Habilidades podem estar sendo desperdiçada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28800" y="5594400"/>
            <a:ext cx="7920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480" y="617220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6640" y="595800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mo solucionar is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-610560" y="268200"/>
            <a:ext cx="97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Abordagem 1: Aprender a se Comuni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6640" y="135576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oposta de solução: </a:t>
            </a: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Addresse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95280" y="25146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41360" y="2362320"/>
            <a:ext cx="74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entes adquirem e refinam conhecimento sobre as habilidades de resolução de tarefas de outr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95280" y="327672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41360" y="3124080"/>
            <a:ext cx="74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 esse conhecimento, tarefas são alocadas diretamente e dinamicamente, sem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5280" y="41148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341360" y="3962520"/>
            <a:ext cx="74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mplementação interessante: CBR (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case-based reasoning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cada agente tem uma base de casos, contendo, para cada cas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78120" y="495288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A especificação do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28800" y="5060880"/>
            <a:ext cx="7920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78120" y="530208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Que agentes já solucionaram o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410080"/>
            <a:ext cx="7920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78120" y="568332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O quanto boa ou ruim foi a sol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5791320"/>
            <a:ext cx="79200" cy="1206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-622800" y="317520"/>
            <a:ext cx="104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Abordagem 2: Comunicação como Aprendiz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6640" y="1355760"/>
            <a:ext cx="79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jetivo: prover suporte ao aprendizado através de 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251460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6640" y="230040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uas possibili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95280" y="30621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41360" y="2909880"/>
            <a:ext cx="74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baseado em comunicação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baixo-n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34131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41360" y="3260880"/>
            <a:ext cx="74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baseado em comunicação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alto-n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28600" y="3672000"/>
            <a:ext cx="8915400" cy="3033720"/>
            <a:chOff x="228600" y="3672000"/>
            <a:chExt cx="8915400" cy="3033720"/>
          </a:xfrm>
        </p:grpSpPr>
        <p:sp>
          <p:nvSpPr>
            <p:cNvPr id="596" name=""/>
            <p:cNvSpPr/>
            <p:nvPr/>
          </p:nvSpPr>
          <p:spPr>
            <a:xfrm>
              <a:off x="609480" y="3886200"/>
              <a:ext cx="217440" cy="152280"/>
            </a:xfrm>
            <a:prstGeom prst="rightArrow">
              <a:avLst>
                <a:gd name="adj1" fmla="val 100000"/>
                <a:gd name="adj2" fmla="val 50571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6640" y="3672000"/>
              <a:ext cx="830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Verdana"/>
                </a:rPr>
                <a:t>Apenas para não nos desorientarmo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8600" y="4419720"/>
              <a:ext cx="5562720" cy="38088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Principais correntes em aprendizado em S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28800" y="5943600"/>
              <a:ext cx="4876920" cy="38088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Comunicação como aprendiz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562720"/>
              <a:ext cx="5639040" cy="38088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Aprendizado e Comun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6324480"/>
              <a:ext cx="4876920" cy="381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Aprender a se comunic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67480" y="5943600"/>
              <a:ext cx="1600200" cy="38088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Baixo-ní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67480" y="6324480"/>
              <a:ext cx="1600200" cy="38124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Verdana"/>
                </a:rPr>
                <a:t>Alto-ní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08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880" y="5791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5280" y="6019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5280" y="6172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95280" y="6553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10280" y="6172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10280" y="6172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0280" y="6553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81680" y="6172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38080" y="5181480"/>
              <a:ext cx="5639040" cy="381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Verdana"/>
                </a:rPr>
                <a:t>Aprendizado sobre e a partir de outros ag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8080" y="4800600"/>
              <a:ext cx="5639040" cy="380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Verdana"/>
                </a:rPr>
                <a:t>Aprendizado e coordenação de ativida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8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0880" y="5029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0120" y="5105520"/>
            <a:ext cx="1447200" cy="1143000"/>
            <a:chOff x="7620120" y="5105520"/>
            <a:chExt cx="1447200" cy="1143000"/>
          </a:xfrm>
        </p:grpSpPr>
        <p:sp>
          <p:nvSpPr>
            <p:cNvPr id="618" name=""/>
            <p:cNvSpPr/>
            <p:nvPr/>
          </p:nvSpPr>
          <p:spPr>
            <a:xfrm>
              <a:off x="7696080" y="5410080"/>
              <a:ext cx="137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3300"/>
                  </a:solidFill>
                  <a:latin typeface="Verdana"/>
                </a:rPr>
                <a:t>Estam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7620120" y="5105520"/>
              <a:ext cx="1218960" cy="1143000"/>
              <a:chOff x="7620120" y="5105520"/>
              <a:chExt cx="1218960" cy="1143000"/>
            </a:xfrm>
          </p:grpSpPr>
          <p:sp>
            <p:nvSpPr>
              <p:cNvPr id="620" name=""/>
              <p:cNvSpPr/>
              <p:nvPr/>
            </p:nvSpPr>
            <p:spPr>
              <a:xfrm>
                <a:off x="7888320" y="5638680"/>
                <a:ext cx="68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3300"/>
                    </a:solidFill>
                    <a:latin typeface="Verdana"/>
                  </a:rPr>
                  <a:t>aqui!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620120" y="5105520"/>
                <a:ext cx="1218960" cy="114300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-622800" y="317520"/>
            <a:ext cx="104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Abordagem 2: Comunicação como Aprendiz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6640" y="1355760"/>
            <a:ext cx="81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Aprendizado baseado em comunicação de baixo-nível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371600" y="25146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17680" y="2362320"/>
            <a:ext cx="74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nterações simples, do tipo pergunta e respo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32907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17680" y="3138480"/>
            <a:ext cx="74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ulta 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informação compartil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71600" y="29098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17680" y="2757600"/>
            <a:ext cx="74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aliza troca de informações que estão falt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80880" y="3200400"/>
            <a:ext cx="2743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6688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0880" y="5029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880" y="4572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4114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838080" y="3809880"/>
          <a:ext cx="527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527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83808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2198520" y="4724280"/>
          <a:ext cx="4683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8520" y="4724280"/>
                    <a:ext cx="4683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220968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266920" y="3886200"/>
          <a:ext cx="39996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6920" y="3886200"/>
                    <a:ext cx="399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1809720" y="3048120"/>
          <a:ext cx="3999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9720" y="3048120"/>
                    <a:ext cx="3999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914400" y="4800600"/>
          <a:ext cx="39996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800600"/>
                    <a:ext cx="399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3429000" y="2895480"/>
            <a:ext cx="745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75080" y="2743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açadores caçam presas em um tabul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29000" y="3367080"/>
            <a:ext cx="745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75080" y="32148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açadores tem visão limi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4311720"/>
            <a:ext cx="745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4159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açadores trocam informações do tip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onde estou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o que vej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o que aprendi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36640" y="1355760"/>
            <a:ext cx="815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de a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prendizado baseado em comunicação de baixo-nível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Let’s Hunt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429000" y="3854520"/>
            <a:ext cx="745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75080" y="3701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ada caçador pode ter uma Q-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5105520"/>
            <a:ext cx="745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75080" y="4952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ssa cooperação é interessante: os sensores e efetuadores dos caçadores são unidos (centraliza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-622800" y="317520"/>
            <a:ext cx="104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Abordagem 2: Comunicação como Aprendiz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-622800" y="317520"/>
            <a:ext cx="104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Abordagem 2: Comunicação como Aprendiz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36640" y="1355760"/>
            <a:ext cx="81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Aprendizado baseado em comunicação de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lto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-nível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251460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417680" y="236232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nterações complexas, como negociação ou explicação mútua sobre o objetivo da combinação das 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351936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417680" y="336708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ulta 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entendimento compartilha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 não apenas em informação compartil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71600" y="31384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17680" y="2986200"/>
            <a:ext cx="74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emelhante à comunicação humana (complexa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60480" y="166680"/>
            <a:ext cx="31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Motiva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11960" y="169056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or que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SMA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5020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8560" y="2362320"/>
            <a:ext cx="559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uitos problemas do mundo real são melhor modelados/resolvidos através da utilização de um conjunto de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65616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12400" y="3441600"/>
            <a:ext cx="43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or que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aprendizagem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25304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11336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or natureza, a aquisição de 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é difícil: envolve dificuldades de desenvolvimento, manutenção, adaptação e tratamento de incerte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848720" y="1371600"/>
            <a:ext cx="106668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622800" y="317520"/>
            <a:ext cx="104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Abordagem 2: Comunicação como Aprendiz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6640" y="1355760"/>
            <a:ext cx="830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de a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prendizado baseado em comunicação de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lto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-nível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59240" y="2787480"/>
            <a:ext cx="74520" cy="103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05320" y="266544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m um quadro negro, agentes propõem, contra-propõem, aceitam e negam hipót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09480" y="2590920"/>
            <a:ext cx="2438640" cy="3352680"/>
            <a:chOff x="609480" y="2590920"/>
            <a:chExt cx="2438640" cy="3352680"/>
          </a:xfrm>
        </p:grpSpPr>
        <p:sp>
          <p:nvSpPr>
            <p:cNvPr id="679" name=""/>
            <p:cNvSpPr/>
            <p:nvPr/>
          </p:nvSpPr>
          <p:spPr>
            <a:xfrm>
              <a:off x="609480" y="2590920"/>
              <a:ext cx="2438640" cy="33526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5800" y="2666880"/>
              <a:ext cx="2286000" cy="3200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5800" y="274320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Verdana"/>
                </a:rPr>
                <a:t>A1: proponho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31240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Verdana"/>
                </a:rPr>
                <a:t>A2: concordo com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85800" y="3460680"/>
              <a:ext cx="2209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Verdana"/>
                </a:rPr>
                <a:t>A3: por que não usamos Y no lugar de X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5800" y="423540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Verdana"/>
                </a:rPr>
                <a:t>A1: concordo com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" y="45403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Verdana"/>
                </a:rPr>
                <a:t>A2: concordo com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5800" y="48769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Verdana"/>
                </a:rPr>
                <a:t>A1: ASSERT(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85800" y="51814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Verdana"/>
                </a:rPr>
                <a:t>A2: ASSERT(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33760" y="5486400"/>
              <a:ext cx="137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Verdana"/>
                </a:rPr>
                <a:t>A3: ASSERT(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459240" y="3730680"/>
            <a:ext cx="74520" cy="102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05320" y="360828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ma hipótese proposta por um agente é uma generalizações do conhecimento desse a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59240" y="4722840"/>
            <a:ext cx="74520" cy="103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05320" y="46004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x.: Um agent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sabe que todo pernambucano é brasileiro e que todo paraibano é brasileiro </a:t>
            </a:r>
            <a:r>
              <a:rPr b="1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propõe que todo nordestino seja brasil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-11160" y="166680"/>
            <a:ext cx="22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Rot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25920" y="16905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590920" cy="15984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031760" y="230040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Alguns Conc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9480" y="251460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836640" y="294012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Características do aprendizado em 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31543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685800" cy="5479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4"/>
          <a:stretch/>
        </p:blipFill>
        <p:spPr>
          <a:xfrm>
            <a:off x="5257800" y="3186000"/>
            <a:ext cx="685800" cy="54792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838080" y="3962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Principais correntes de pesquisa em aprendizado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9480" y="41450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95280" y="50166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41360" y="48769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ff"/>
                </a:solidFill>
                <a:latin typeface="Verdana"/>
              </a:rPr>
              <a:t>Aprendizado e coordenação de a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53830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41360" y="524340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ff"/>
                </a:solidFill>
                <a:latin typeface="Verdana"/>
              </a:rPr>
              <a:t>Aprendizado sobre e a partir de outr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95280" y="57024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41360" y="55627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ff"/>
                </a:solidFill>
                <a:latin typeface="Verdana"/>
              </a:rPr>
              <a:t>Aprendizado 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6640" y="598788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480" y="62024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6858000" y="4816440"/>
            <a:ext cx="457200" cy="36504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7543800" y="5181480"/>
            <a:ext cx="457200" cy="3654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5105520" y="5562720"/>
            <a:ext cx="457200" cy="36504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8"/>
          <a:stretch/>
        </p:blipFill>
        <p:spPr>
          <a:xfrm>
            <a:off x="4648320" y="4435560"/>
            <a:ext cx="4572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-33480" y="166680"/>
            <a:ext cx="343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Conclusõ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9480" y="156996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6640" y="1355760"/>
            <a:ext cx="830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prendizado multiagente é um tema vasto, em que muitas e diferentes abordagens ex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3260880"/>
            <a:ext cx="217440" cy="152280"/>
          </a:xfrm>
          <a:prstGeom prst="rightArrow">
            <a:avLst>
              <a:gd name="adj1" fmla="val 100000"/>
              <a:gd name="adj2" fmla="val 5057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6640" y="3046320"/>
            <a:ext cx="830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 tema herda as complexidades inerentes de SMA: comunicação, coordenação, negociação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4937040"/>
            <a:ext cx="217440" cy="152640"/>
          </a:xfrm>
          <a:prstGeom prst="rightArrow">
            <a:avLst>
              <a:gd name="adj1" fmla="val 100000"/>
              <a:gd name="adj2" fmla="val 50452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36640" y="4722840"/>
            <a:ext cx="830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 projeto mais complexo da aprendizagem pode ser compensado pela qualidade d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-30240" y="166680"/>
            <a:ext cx="35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Referênc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9480" y="14479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gueiredo, K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prendizado e Coorden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e Sistemas Multi-Agente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, PUC-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unho d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2680" y="1585800"/>
            <a:ext cx="228600" cy="152640"/>
          </a:xfrm>
          <a:prstGeom prst="rightArrow">
            <a:avLst>
              <a:gd name="adj1" fmla="val 100000"/>
              <a:gd name="adj2" fmla="val 5304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8040" y="26510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partamento de Ciências e Ingeniería de la Computación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prendizaje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, Universidade Nacional Del Sur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0880" y="278928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3870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ntañón, S., Plaza, E.,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Exchange Strategies in Multiagent Learning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European Conference on Machine Learning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2680" y="400860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7162920" y="1488960"/>
            <a:ext cx="1676160" cy="9493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608040" y="50896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n S., Weiss G., </a:t>
            </a:r>
            <a:r>
              <a:rPr b="1" i="1" lang="pt-PT" sz="2000" spc="-1" strike="noStrike">
                <a:solidFill>
                  <a:srgbClr val="000000"/>
                </a:solidFill>
                <a:latin typeface="Verdana"/>
              </a:rPr>
              <a:t>Multiagent systems: A modern approach to Distributed Artificial Intelligence.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, Cap. 06,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MIT Press, 1999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5227560"/>
            <a:ext cx="228600" cy="152640"/>
          </a:xfrm>
          <a:prstGeom prst="rightArrow">
            <a:avLst>
              <a:gd name="adj1" fmla="val 100000"/>
              <a:gd name="adj2" fmla="val 53041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-30240" y="166680"/>
            <a:ext cx="35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Impact"/>
              </a:rPr>
              <a:t>Referênc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9480" y="14479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one, P., Veloso, M.,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Multiagent Systems: A Survey from a Machine Learning Perspectiv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Carnegie Mellon University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2680" y="1585800"/>
            <a:ext cx="228600" cy="154080"/>
          </a:xfrm>
          <a:prstGeom prst="rightArrow">
            <a:avLst>
              <a:gd name="adj1" fmla="val 100000"/>
              <a:gd name="adj2" fmla="val 52546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60480" y="166680"/>
            <a:ext cx="31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Motiva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6640" y="1690560"/>
            <a:ext cx="73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ortanto... por que não constr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 “melhor dos mundos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276720" y="2895480"/>
            <a:ext cx="2542680" cy="2868480"/>
            <a:chOff x="3276720" y="2895480"/>
            <a:chExt cx="2542680" cy="28684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3381120" y="3581280"/>
              <a:ext cx="2193840" cy="2182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9" name=""/>
            <p:cNvGraphicFramePr/>
            <p:nvPr/>
          </p:nvGraphicFramePr>
          <p:xfrm>
            <a:off x="4600440" y="3047760"/>
            <a:ext cx="1218960" cy="119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00440" y="3047760"/>
                      <a:ext cx="1218960" cy="119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4133880" y="2895480"/>
            <a:ext cx="618480" cy="857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33880" y="2895480"/>
                      <a:ext cx="61848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3276720" y="3211560"/>
            <a:ext cx="1171440" cy="1180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76720" y="3211560"/>
                      <a:ext cx="117144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0" y="2590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9400" y="5816520"/>
            <a:ext cx="27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Result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Aprendizado Multi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11160" y="166680"/>
            <a:ext cx="22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Rot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5920" y="16905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ff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590920" cy="1598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29600" y="230040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lguns conc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51460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685800" cy="547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6640" y="294012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aracterísticas do Aprendizado em 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1543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962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incipais correntes de pesquisa em aprendizado S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1450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50166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41360" y="48769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ordenação de a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5383080"/>
            <a:ext cx="7632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41360" y="524340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sobre e a partir de outr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02400"/>
            <a:ext cx="7632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41360" y="5562720"/>
            <a:ext cx="63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rendizado 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640" y="598788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62024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169200" y="166680"/>
            <a:ext cx="51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Alguns Concei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4760" y="169056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Interação agente/amb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424480" y="2430360"/>
          <a:ext cx="181440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4480" y="2430360"/>
                    <a:ext cx="18144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452680" y="258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76560" y="2735280"/>
            <a:ext cx="1524240" cy="533520"/>
          </a:xfrm>
          <a:prstGeom prst="rightArrow">
            <a:avLst>
              <a:gd name="adj1" fmla="val 50000"/>
              <a:gd name="adj2" fmla="val 71424"/>
            </a:avLst>
          </a:prstGeom>
          <a:gradFill rotWithShape="0">
            <a:gsLst>
              <a:gs pos="0">
                <a:srgbClr val="006666"/>
              </a:gs>
              <a:gs pos="5000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Percep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00600" y="3268800"/>
            <a:ext cx="1523880" cy="457200"/>
          </a:xfrm>
          <a:prstGeom prst="leftArrow">
            <a:avLst>
              <a:gd name="adj1" fmla="val 50000"/>
              <a:gd name="adj2" fmla="val 83327"/>
            </a:avLst>
          </a:prstGeom>
          <a:gradFill rotWithShape="0">
            <a:gsLst>
              <a:gs pos="0">
                <a:srgbClr val="009999"/>
              </a:gs>
              <a:gs pos="50000">
                <a:srgbClr val="ffffcc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33920" y="2043000"/>
            <a:ext cx="457200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11932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271600"/>
            <a:ext cx="1295640" cy="129564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69200" y="166680"/>
            <a:ext cx="51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Alguns Concei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50984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54600" y="1295280"/>
            <a:ext cx="54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gente que aprende (off-lin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4253040"/>
            <a:ext cx="1295640" cy="12952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4329000"/>
            <a:ext cx="1524240" cy="533520"/>
          </a:xfrm>
          <a:prstGeom prst="rightArrow">
            <a:avLst>
              <a:gd name="adj1" fmla="val 50000"/>
              <a:gd name="adj2" fmla="val 71424"/>
            </a:avLst>
          </a:prstGeom>
          <a:gradFill rotWithShape="0">
            <a:gsLst>
              <a:gs pos="0">
                <a:srgbClr val="006666"/>
              </a:gs>
              <a:gs pos="5000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Percep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014800"/>
            <a:ext cx="1523880" cy="457200"/>
          </a:xfrm>
          <a:prstGeom prst="leftArrow">
            <a:avLst>
              <a:gd name="adj1" fmla="val 50000"/>
              <a:gd name="adj2" fmla="val 83327"/>
            </a:avLst>
          </a:prstGeom>
          <a:gradFill rotWithShape="0">
            <a:gsLst>
              <a:gs pos="0">
                <a:srgbClr val="009999"/>
              </a:gs>
              <a:gs pos="50000">
                <a:srgbClr val="ffffcc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4329000"/>
            <a:ext cx="1600200" cy="5335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Sen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5014800"/>
            <a:ext cx="1600200" cy="5335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Efetu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46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Módul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Exec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643200"/>
            <a:ext cx="1905120" cy="60984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Conhec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2347920"/>
            <a:ext cx="1905120" cy="9144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lgoritm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prend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42424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Exemp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333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43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4481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960" y="5091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743200"/>
            <a:ext cx="3429000" cy="533520"/>
          </a:xfrm>
          <a:prstGeom prst="rightArrow">
            <a:avLst>
              <a:gd name="adj1" fmla="val 50000"/>
              <a:gd name="adj2" fmla="val 160678"/>
            </a:avLst>
          </a:prstGeom>
          <a:gradFill rotWithShape="0">
            <a:gsLst>
              <a:gs pos="0">
                <a:srgbClr val="006666"/>
              </a:gs>
              <a:gs pos="5000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22760" y="583560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019920" y="2057400"/>
            <a:ext cx="1981080" cy="3505320"/>
            <a:chOff x="6019920" y="2057400"/>
            <a:chExt cx="1981080" cy="3505320"/>
          </a:xfrm>
        </p:grpSpPr>
        <p:sp>
          <p:nvSpPr>
            <p:cNvPr id="176" name=""/>
            <p:cNvSpPr/>
            <p:nvPr/>
          </p:nvSpPr>
          <p:spPr>
            <a:xfrm>
              <a:off x="6095880" y="2057400"/>
              <a:ext cx="1905120" cy="1447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920" y="3657600"/>
              <a:ext cx="1981080" cy="762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19920" y="4572000"/>
              <a:ext cx="1904760" cy="990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638680" y="3048120"/>
            <a:ext cx="2743200" cy="167616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Inteligênci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00400" y="2362320"/>
            <a:ext cx="42670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169200" y="166680"/>
            <a:ext cx="51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Impact"/>
              </a:rPr>
              <a:t>Alguns Concei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905120"/>
            <a:ext cx="228600" cy="152280"/>
          </a:xfrm>
          <a:prstGeom prst="rightArrow">
            <a:avLst>
              <a:gd name="adj1" fmla="val 100000"/>
              <a:gd name="adj2" fmla="val 53167"/>
            </a:avLst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51360" y="1690560"/>
            <a:ext cx="54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gente que aprende (on-lin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514600"/>
            <a:ext cx="1295280" cy="38098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5909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gradFill rotWithShape="0">
            <a:gsLst>
              <a:gs pos="0">
                <a:srgbClr val="006666"/>
              </a:gs>
              <a:gs pos="5000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Percep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2590920"/>
            <a:ext cx="1600200" cy="53316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Sen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2590920"/>
            <a:ext cx="1752480" cy="53316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Crí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657600"/>
            <a:ext cx="1752480" cy="9144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Módul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257800"/>
            <a:ext cx="1752480" cy="9144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Gerador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657600"/>
            <a:ext cx="1600200" cy="9144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Módul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Exec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5257800"/>
            <a:ext cx="1600200" cy="5335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Efetu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105160" y="411444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5334120"/>
            <a:ext cx="1600200" cy="457200"/>
          </a:xfrm>
          <a:prstGeom prst="leftArrow">
            <a:avLst>
              <a:gd name="adj1" fmla="val 50000"/>
              <a:gd name="adj2" fmla="val 87500"/>
            </a:avLst>
          </a:prstGeom>
          <a:gradFill rotWithShape="0">
            <a:gsLst>
              <a:gs pos="0">
                <a:srgbClr val="009999"/>
              </a:gs>
              <a:gs pos="50000">
                <a:srgbClr val="ffffcc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3200400"/>
            <a:ext cx="1600200" cy="685800"/>
          </a:xfrm>
          <a:prstGeom prst="wedgeRoundRectCallout">
            <a:avLst>
              <a:gd name="adj1" fmla="val -71129"/>
              <a:gd name="adj2" fmla="val 7523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000000"/>
                </a:solidFill>
                <a:latin typeface="Verdana"/>
              </a:rPr>
              <a:t>Melhora o comportamento futuro do a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3352680"/>
            <a:ext cx="1600200" cy="762120"/>
          </a:xfrm>
          <a:prstGeom prst="wedgeRoundRectCallout">
            <a:avLst>
              <a:gd name="adj1" fmla="val 56347"/>
              <a:gd name="adj2" fmla="val 5020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000000"/>
                </a:solidFill>
                <a:latin typeface="Verdana"/>
              </a:rPr>
              <a:t>Seleciona as ações externas a serem executadas pelo a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4952880"/>
            <a:ext cx="1752840" cy="762120"/>
          </a:xfrm>
          <a:prstGeom prst="wedgeRoundRectCallout">
            <a:avLst>
              <a:gd name="adj1" fmla="val -62046"/>
              <a:gd name="adj2" fmla="val 4583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000000"/>
                </a:solidFill>
                <a:latin typeface="Verdana"/>
              </a:rPr>
              <a:t>Sugere ações para promover experiências novas e informa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3429000"/>
            <a:ext cx="3809880" cy="3048120"/>
            <a:chOff x="3505320" y="3429000"/>
            <a:chExt cx="3809880" cy="3048120"/>
          </a:xfrm>
        </p:grpSpPr>
        <p:sp>
          <p:nvSpPr>
            <p:cNvPr id="204" name=""/>
            <p:cNvSpPr/>
            <p:nvPr/>
          </p:nvSpPr>
          <p:spPr>
            <a:xfrm>
              <a:off x="5410080" y="3429000"/>
              <a:ext cx="1905120" cy="1447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505320"/>
              <a:ext cx="1523880" cy="13716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10080" y="5029200"/>
              <a:ext cx="1905120" cy="1447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191120" y="3733920"/>
            <a:ext cx="2743200" cy="167616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Inteligênci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89240" y="632448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18:51:06Z</dcterms:created>
  <dc:creator>awbf</dc:creator>
  <dc:description/>
  <dc:language>en-US</dc:language>
  <cp:lastModifiedBy>glr</cp:lastModifiedBy>
  <dcterms:modified xsi:type="dcterms:W3CDTF">2003-11-27T13:56:01Z</dcterms:modified>
  <cp:revision>35</cp:revision>
  <dc:subject/>
  <dc:title>Apresentação do PowerPoint</dc:title>
</cp:coreProperties>
</file>