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F11-8F66-4D59-BA40-7361E48C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857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194-7EDB-4F2C-9F1F-9F3BCC4D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857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857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C86-89D7-4796-852A-0D2AF0FC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628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628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857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857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857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1CF-57D1-409A-945D-7EE859CA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BD5F-17C5-402C-84BA-031FC4C4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55BF-71C0-4613-86CE-34D098BC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BA54-41AB-4C2E-A816-A1867786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FD1F-AC53-4F9C-8916-9D348A1F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FF0E-1359-4AB9-B5FD-19FC146D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9280" y="115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64D3-DB22-4F05-BE37-BF28074F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857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5976-1C13-4C4F-9AFD-60932D1D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292-96A6-4EC5-871A-9ABDE32B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857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5D90-021C-4925-AF9C-DD6D4BE0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857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AEAD-2005-4944-A01D-967F03E9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857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466A-561C-42CF-9BB5-5C6343E2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857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857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E71B-0038-4196-A3E8-B2F20B08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628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628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857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857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857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7FAB-7D94-4CDE-B402-7CC58DE0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614-55E0-4BED-8A0A-042E804A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0A4-0794-43AA-8621-3AFDFA4E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19D-6E5C-4E5E-B0F5-121DE5A3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280" y="115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F50-91FC-45D8-98FC-39901A24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857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7C56-0CC4-4DA6-9EA8-E516C485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857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A1E-3E20-48F8-8915-9BB51B63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857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CD4-FCB6-4EB3-A02E-A89CEA9F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751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751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112F-6462-4859-9E74-4A3D2F4E23A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017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0CB1-5E29-4D71-ADE5-E52478F74AD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2060640"/>
            <a:ext cx="8353440" cy="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64000" y="1844640"/>
            <a:ext cx="27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0" y="2421000"/>
            <a:ext cx="0" cy="115416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09720" algn="ctr">
              <a:spcBef>
                <a:spcPts val="575"/>
              </a:spcBef>
              <a:buClr>
                <a:srgbClr val="00cc00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0644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695600" algn="ctr">
              <a:spcBef>
                <a:spcPts val="6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54288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ahoma"/>
              </a:rPr>
              <a:t>Análise de Terreno</a:t>
            </a:r>
            <a:endParaRPr b="1" lang="en-US" sz="44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2637000"/>
            <a:ext cx="2735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ante Gama Tor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Francisco Caheté Sil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149800" y="2637000"/>
            <a:ext cx="2735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onardo Sobral Cu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blo Azevedo Sampa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cc00"/>
                </a:solidFill>
                <a:latin typeface="Tahoma"/>
              </a:rPr>
              <a:t>Pathfinding (cont.)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7605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Dave Pottinger: “AOE2 gasta 60-70% do tempo de simulação fazendo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athfinding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7400" y="2709720"/>
            <a:ext cx="48196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cc00"/>
                </a:solidFill>
                <a:latin typeface="Tahoma"/>
              </a:rPr>
              <a:t>Pathfinding (cont.)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Diferentes algoritmos para diferentes granularidad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onectividade de áre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aminhos curtos em áreas densas (A*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Mapas de Influência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628280"/>
            <a:ext cx="7750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Attractor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retractor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aplicados no map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baseados em heurísticas do jog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185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Mapas de Influência (cont.)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Abordagem força brut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Ineficien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Possível sobrecarga da heurístic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tratores neutralizando atrator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Limitar o número de influênci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Áreas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bstração dos humano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idade, Floresta, Exército, et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ase de conhecimento baseada em localidad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Áre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státic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inâmic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Áreas Estáticas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tinentes: ilhas e oceano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ontes: pontos com melhor linha de visão e melhor alcance dos ataqu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Zona costeira: pontos de desembarqu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éis costeiros: limitam a aproximação dos navi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Áreas Dinâmicas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Áreas que mudam de forma durante o jogo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0560" indent="-42300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lores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0560" indent="-42300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idad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0560" indent="-42300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banhos e Exércit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mputadores que reagem a estas áreas criam uma grande “ilusão de inteligência”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cc00"/>
                </a:solidFill>
                <a:latin typeface="Tahoma"/>
              </a:rPr>
              <a:t>Convex Hull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7893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gião que engloba toda uma áre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28720" y="2371680"/>
          <a:ext cx="5580000" cy="35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8720" y="2371680"/>
                    <a:ext cx="5580000" cy="35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cc00"/>
                </a:solidFill>
                <a:latin typeface="Tahoma"/>
              </a:rPr>
              <a:t>Por que Convex Hull?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ecessitam de muito pouca memóri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uncionam be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odem ser tratados com regras matemátic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cc00"/>
                </a:solidFill>
                <a:latin typeface="Tahoma"/>
              </a:rPr>
              <a:t>The Giant in The MatchBox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Tahoma"/>
              </a:rPr>
              <a:t>Convex Hulls </a:t>
            </a: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não retratam exatamente áreas convex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Perder precisã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Retratam, com pouca memória, a real forma da áre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Array na dimensão de x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ada posição deste array contém um vetor de segmentos na dimensão 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Definição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apacidade da IA de obter informações do terreno utilizando-as no planejamento: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çõ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cisõ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municaçã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cc00"/>
                </a:solidFill>
                <a:latin typeface="Tahoma"/>
              </a:rPr>
              <a:t>Choke Points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ão passagens estreitas que provêm acesso a outras regiõ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11280" y="2997360"/>
          <a:ext cx="4321440" cy="28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997360"/>
                    <a:ext cx="4321440" cy="28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cc00"/>
                </a:solidFill>
                <a:latin typeface="Tahoma"/>
              </a:rPr>
              <a:t>Choke Points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Como descobrir um bom local para uma emboscada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Tahoma"/>
              </a:rPr>
              <a:t>Choke Points </a:t>
            </a: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são bons lugares para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Serem vigiados, colocar torr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onstrução de muralh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CPU não precisa realizar um grande esforço planejando ataqu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São pré-processado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cc00"/>
                </a:solidFill>
                <a:latin typeface="Tahoma"/>
              </a:rPr>
              <a:t>Como Achar Choke Points?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Algoritmo </a:t>
            </a:r>
            <a:r>
              <a:rPr b="0" i="1" lang="pt-BR" sz="3000" spc="-1" strike="noStrike">
                <a:solidFill>
                  <a:srgbClr val="000000"/>
                </a:solidFill>
                <a:latin typeface="Tahoma"/>
              </a:rPr>
              <a:t>flood-fil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Expande-se as áre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Quando duas ou mais áreas se tocam, um </a:t>
            </a:r>
            <a:r>
              <a:rPr b="0" i="1" lang="pt-BR" sz="3000" spc="-1" strike="noStrike">
                <a:solidFill>
                  <a:srgbClr val="000000"/>
                </a:solidFill>
                <a:latin typeface="Tahoma"/>
              </a:rPr>
              <a:t>Choke Point </a:t>
            </a: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formad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Motor de Análise de Terreno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omponente da AI Eng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onsideraçõ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Terreno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tile-based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Simulação e gráfico compartilham terren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Flying units justificam algoritmos 3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524"/>
              </a:spcBef>
              <a:buClr>
                <a:srgbClr val="00cc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Duas camada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BANG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Motor de análise de terreno criado pela Ensemble Studi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524"/>
              </a:spcBef>
              <a:buClr>
                <a:srgbClr val="00cc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Usado em AOM ?!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187200"/>
            <a:ext cx="7634160" cy="5726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16200000">
            <a:off x="-1679040" y="2819880"/>
            <a:ext cx="51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R WARS GALACTIC BATTLEGR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00"/>
                </a:solidFill>
                <a:latin typeface="Tahoma"/>
              </a:rPr>
              <a:t>Análise de Terreno para Jogos 3D</a:t>
            </a:r>
            <a:endParaRPr b="1" lang="en-US" sz="34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Tahoma"/>
              </a:rPr>
              <a:t>Waypoints</a:t>
            </a: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: pontos que representam o terreno acessível do jog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Discretiza o map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duz espaço de busc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Guarda informações úteis para a IA: iluminação, proteção, acessibilidade, et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Exemplo: escolher bons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sniping poin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00"/>
                </a:solidFill>
                <a:latin typeface="Tahoma"/>
              </a:rPr>
              <a:t>Análise de Terreno para Jogos 3D</a:t>
            </a:r>
            <a:endParaRPr b="1" lang="en-US" sz="3400" spc="-1" strike="noStrike">
              <a:solidFill>
                <a:srgbClr val="00cc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46080" y="2448000"/>
            <a:ext cx="72406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Estudo de Caso: AOE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Pathfind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apas de Influênci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Decomposição de Áre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435640" y="2274840"/>
            <a:ext cx="2119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Estudo de Caso: AOE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Usou muito </a:t>
            </a:r>
            <a:r>
              <a:rPr b="0" i="1" lang="pt-BR" sz="3000" spc="-1" strike="noStrike">
                <a:solidFill>
                  <a:srgbClr val="000000"/>
                </a:solidFill>
                <a:latin typeface="Tahoma"/>
              </a:rPr>
              <a:t>pathfind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Uma implementação para todos os níveis de granularida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Evitar rotas impossíve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Estudo de Caso: AOE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Em níveis difíceis, o </a:t>
            </a:r>
            <a:r>
              <a:rPr b="0" i="1" lang="pt-BR" sz="3000" spc="-1" strike="noStrike">
                <a:solidFill>
                  <a:srgbClr val="000000"/>
                </a:solidFill>
                <a:latin typeface="Tahoma"/>
              </a:rPr>
              <a:t>pathfinding</a:t>
            </a: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 é combinado com mapas de influênci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Casas atraídas por outras casas, mas não sofrem influências de outras construçõ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Motivação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tividade fundamental em vários tipos de jogo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çã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stratégi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P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P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back to screenshots"/>
          <p:cNvPicPr/>
          <p:nvPr/>
        </p:nvPicPr>
        <p:blipFill>
          <a:blip r:embed="rId1"/>
          <a:stretch/>
        </p:blipFill>
        <p:spPr>
          <a:xfrm>
            <a:off x="1116000" y="189000"/>
            <a:ext cx="7777080" cy="5825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rot="16200000">
            <a:off x="-410400" y="139212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GE   OF   EMP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cc00"/>
                </a:solidFill>
                <a:latin typeface="Tahoma"/>
              </a:rPr>
              <a:t>Estudo de Caso: AOE2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usou as funcionalidades de análise de terreno do AO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icionou funcionalidad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rreno 3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796000" y="2421000"/>
            <a:ext cx="18907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cc00"/>
                </a:solidFill>
                <a:latin typeface="Tahoma"/>
              </a:rPr>
              <a:t>Estudo de Caso: AOE2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Três tipos de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athfinding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para diferentes situaçã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Mip-Mapp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524"/>
              </a:spcBef>
              <a:buClr>
                <a:srgbClr val="00cc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Bons para longas distância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Poligon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524"/>
              </a:spcBef>
              <a:buClr>
                <a:srgbClr val="00cc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Gera convex hul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524"/>
              </a:spcBef>
              <a:buClr>
                <a:srgbClr val="00cc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Mover unidades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Short/Medium di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524"/>
              </a:spcBef>
              <a:buClr>
                <a:srgbClr val="00cc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Tile-bas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elhorou qualidade e a velocida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cc00"/>
                </a:solidFill>
                <a:latin typeface="Tahoma"/>
              </a:rPr>
              <a:t>Estudo de Caso: AOE2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Posicionamento de muralh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Usa </a:t>
            </a:r>
            <a:r>
              <a:rPr b="0" i="1" lang="pt-BR" sz="3000" spc="-1" strike="noStrike">
                <a:solidFill>
                  <a:srgbClr val="000000"/>
                </a:solidFill>
                <a:latin typeface="Tahoma"/>
              </a:rPr>
              <a:t>mip-mapped pathfinding </a:t>
            </a: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para gerar </a:t>
            </a:r>
            <a:r>
              <a:rPr b="0" i="1" lang="pt-BR" sz="3000" spc="-1" strike="noStrike">
                <a:solidFill>
                  <a:srgbClr val="000000"/>
                </a:solidFill>
                <a:latin typeface="Tahoma"/>
              </a:rPr>
              <a:t>wall endpoin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Escolhe </a:t>
            </a:r>
            <a:r>
              <a:rPr b="0" i="1" lang="pt-BR" sz="3000" spc="-1" strike="noStrike">
                <a:solidFill>
                  <a:srgbClr val="000000"/>
                </a:solidFill>
                <a:latin typeface="Tahoma"/>
              </a:rPr>
              <a:t>endpoints</a:t>
            </a: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 a uma certa distância do centro da cidad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rot="16200000">
            <a:off x="-1625760" y="2854800"/>
            <a:ext cx="49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GE  OF  EMPIRES II  –  AGE  OF  K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7777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Referências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Pottinger, D.C., “Terrain Analysis in Realtime Estrategy Games” in Proceedings of Computer Game Developer Conference, 2000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van der Sterren, W., “Terrain Reasoning for 3D Action Games” in Proceedings of Computer Game Developer Conference, 2001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Higgins, D.F., “Terrain Analysis in a RTS – The Hidden Giant” AI Game Programming Wisdom, Charles River Media Inc., 2003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Análise de Terreno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Coleta e provê informações sobre o mapa/terreno para os diversos sistemas do jog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Busca abstrair informações do map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Determinação de características importantes do terren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acilita o trabalho do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level desig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obstáculos, caminhos, construções, relevo, vegetaçã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Análise de Terreno (cont.)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hecimento baseado em localidad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te morreu pela terceira vez tentando desviar de um míssil em um tún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Aplicações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terminar influência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terminar caminh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or onde possivelmente será atacad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 que está mais/menos vulnerá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de atac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Aplicações (cont.)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compor áre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erar map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de construir prédios, cidades, paredes, etc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mo posicionar unidades para defesa ou ataqu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00"/>
                </a:solidFill>
                <a:latin typeface="Tahoma"/>
              </a:rPr>
              <a:t>Quem Usa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IA do Computer Playe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aior cliente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Pathfind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Boa Ferramenta para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athfinder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de alto ní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Geração de Map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Balanceamento do tamanho das áre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cc00"/>
                </a:solidFill>
                <a:latin typeface="Tahoma"/>
              </a:rPr>
              <a:t>Pathfinding</a:t>
            </a:r>
            <a:endParaRPr b="1" lang="en-US" sz="3800" spc="-1" strike="noStrike">
              <a:solidFill>
                <a:srgbClr val="00cc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7966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Abordagem simples e diret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00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Método “canPath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61930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23:26:57Z</dcterms:created>
  <dc:creator>pas</dc:creator>
  <dc:description/>
  <dc:language>en-US</dc:language>
  <cp:lastModifiedBy>glr</cp:lastModifiedBy>
  <dcterms:modified xsi:type="dcterms:W3CDTF">2004-02-02T04:46:28Z</dcterms:modified>
  <cp:revision>39</cp:revision>
  <dc:subject/>
  <dc:title>Análise de Terreno para Jogos</dc:title>
</cp:coreProperties>
</file>