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Garam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 u="sng">
                <a:solidFill>
                  <a:srgbClr val="000000"/>
                </a:solidFill>
                <a:uFillTx/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 u="sng">
                <a:solidFill>
                  <a:srgbClr val="000000"/>
                </a:solidFill>
                <a:uFillTx/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 u="sng">
                <a:solidFill>
                  <a:srgbClr val="000000"/>
                </a:solidFill>
                <a:uFillTx/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9A3D-503C-4ED8-BC54-9CD2E3AE9A46}" type="slidenum">
              <a:rPr b="0" lang="pt-BR" sz="1200" spc="-1" strike="noStrike" u="sng">
                <a:solidFill>
                  <a:srgbClr val="000000"/>
                </a:solidFill>
                <a:uFillTx/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terações: independentes, satisfatórias e precen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atisfatória: existe uma sequencia que não invalida a precondicao de um ou de ou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cendencia: precondicao de um é a poscondicao do ou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ficiencia: os agentes não devem desperdicar recursos, enquanto tentam um aco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bilidade: os agentes não devem ser incentivados a se desviar da estrategia acord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mplicidade: o mecanismo deve impor uma baixa demanda computacional e de b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tribuição: não deve ser necessário um agente central para tomar deci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metria:o mecanismo não deve ter preconceito contra nenhum ag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este tipo de sistema, investiga-se o comportamento de um conjunto de agentes autônomos, possivelmente pré-existentes, que interagem objetivando a resolução de um problema que está além das capacidades de um único indivídu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st-planning: se um plano não progride como esperado, o conjunto de planos falhar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ejamento de contigencia: o agente formula planos alternativos, estes planos podem ser fundidos  coordenados ou cada agente pode monitorara a execucao do seu plano, caso haja problemas, para todos  e planeja-coordena-executa(caro). Agente replaneja detalhes sozinho(abstra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is sociais:proibicao de uma determinada acao em um determinado contexto. O problema é achar a sequencia de ações que levam a um estado indesejável do mundo e proibí-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letividade: o que comunicar- nem tanto, nem tao pou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veniência: tempo suficiente para percebr o estrago e fazer os repa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-intrusao: não alterar o jeito de trabalh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 awareness requirements- tipos de mudancas de pl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tcher-motor de infer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FF5-0B27-4153-97F8-73B45EC6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45F-7AA8-47ED-9F85-88B7597A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EC8-7000-41E5-99AC-10461D1D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B09-67B3-4DF0-B118-9820C92F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E407-642B-4E0B-9EDC-0D381152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08FE-8667-4553-9165-1F46C08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D645-3893-4E74-95AC-B6966A7E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820B-F5C0-47C2-B5CD-0509A185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EC3E-F68F-4F0F-B019-B135FD7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511F-5C7D-4177-9C78-93F63E4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A981-AD2F-4524-B962-684ACC5E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D39-D7F8-4A4C-B0CB-8151953A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BAA1-6D27-4696-B656-E559A814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FB5-7E6F-47CC-83C6-D1BADA8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E98-AFF1-41CB-98F3-D5E802C5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7681-2472-49E3-AFB3-FBFA4B78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2436-472F-4D3D-B180-976673E0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34F-8237-4EB9-B9DA-9B86C38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504-29F9-40D9-9D52-27111E1E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2F5-01B5-4B7F-87FE-362D63D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FDA-EE6B-400F-A553-44211503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839-9D6C-42ED-82EA-C79E4E3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D03-C6D7-4A46-80B1-3074BFC4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ECF-7CD8-488C-BF1D-940539A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2630-059D-4E23-B5E0-B6E5E88619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D8D-FF9C-4C2C-9DEA-35008DF451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.sri.com/~coda/" TargetMode="External"/><Relationship Id="rId3" Type="http://schemas.openxmlformats.org/officeDocument/2006/relationships/hyperlink" Target="http://www.ai.sri.com/~coda/" TargetMode="External"/><Relationship Id="rId4" Type="http://schemas.openxmlformats.org/officeDocument/2006/relationships/hyperlink" Target="http://www.ai.sri.com/~coda/" TargetMode="External"/><Relationship Id="rId5" Type="http://schemas.openxmlformats.org/officeDocument/2006/relationships/hyperlink" Target="http://www.ai.sri.com/~coda/" TargetMode="External"/><Relationship Id="rId6" Type="http://schemas.openxmlformats.org/officeDocument/2006/relationships/hyperlink" Target="http://www.ai.sri.com/~coda/" TargetMode="External"/><Relationship Id="rId7" Type="http://schemas.openxmlformats.org/officeDocument/2006/relationships/hyperlink" Target="http://www.ai.sri.com/project/mpa" TargetMode="External"/><Relationship Id="rId8" Type="http://schemas.openxmlformats.org/officeDocument/2006/relationships/hyperlink" Target="http://www.ai.sri.com/project/mpa" TargetMode="External"/><Relationship Id="rId9" Type="http://schemas.openxmlformats.org/officeDocument/2006/relationships/hyperlink" Target="http://www.ai.sri.com/project/mpa" TargetMode="External"/><Relationship Id="rId10" Type="http://schemas.openxmlformats.org/officeDocument/2006/relationships/hyperlink" Target="http://www.ai.sri.com/project/mpa" TargetMode="External"/><Relationship Id="rId11" Type="http://schemas.openxmlformats.org/officeDocument/2006/relationships/hyperlink" Target="http://www.ai.sri.com/project/mpa" TargetMode="External"/><Relationship Id="rId12" Type="http://schemas.openxmlformats.org/officeDocument/2006/relationships/hyperlink" Target="http://www.ai.sri.com/project/mpa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b9efee"/>
                </a:solidFill>
                <a:latin typeface="Garamond"/>
              </a:rPr>
              <a:t>Planejamento em Sistemas MultiAgent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867280" y="4365720"/>
            <a:ext cx="288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Professores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Geber Ramalh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Patrícia Tedesc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Alunas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Adeline Sil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Manuela Xavi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Talita Mene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Compartilhamento no problema do To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573200"/>
            <a:ext cx="3889440" cy="1868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67080" y="167652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Decomposiçã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se preocupa em sempre mover o maior disco para o seu desti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657600"/>
            <a:ext cx="8534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2)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Alocaçã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escolha randômica dos agent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3)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Execuçã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As tarefas são recursivamente decompostas até que o estado inicial e final sejam o mesm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4)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Síntese dos Resultados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Quando um agente resolve um problema, ele passa a solução para o de cima, que irá utilizá-la para encontrar sua própria solu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Compartilhamento em Sistemas Heterogêne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plica-se quando atribuições de subproblemas para agentes não são si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gentes podem ter diferentes capacidade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subproblemas precisam de diferentes capacida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s decisões precisam ser baseadas em informações mais dinâ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tract Net Protoc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 quando os agentes não estiverem disponíveis para executar sub-tarefa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Compartilhamento em Sistemas Heterogêne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daptações do Contract 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ntratação publica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Tentar nova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Revisão de anúnc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Decomposições alternativ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mpartilhamento de Resulta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Uma mesma tarefa pode ter resultados diferentes se executada por agentes difer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olucionadores de problemas podem aumentar o desempenho do grupo se combinarem as seguintes característic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nfianç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mpletu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recis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nveniê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mpartilhamento de Resulta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plicaçõ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os agentes precisam conhecer o que fazer com os resultados compartilh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 comunicação de um grande volume de resultados pode ser custoso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écnicas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operação funcionalmente preci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Repositórios compartilhados e busca negocia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Estruturação organiz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Planejamento Multiagente (MAP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stende o planejamento clássico para domínios onde vários agentes podem planejar e agir junt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uas aplicações inclu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mbientes multi-robô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gentes cooperativos na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Logíst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roduç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Tarefas milita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Planejamento distribuíd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xistem três classes de planejamento distribuí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lanejamento centralizado de planos distribu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lanejamento distribuído de planos centraliz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lanejamento distribuído de planos distribu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centralizado de planos distribuí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Context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Um problema a ser resolvido e vários agentes disponíve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Agente coordenad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Objetiv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ncontrar, dentro de todos os planos possíveis, aquele que pode ser decomposto e distribuído mais eficiente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Planejamento centralizado de planos distribuí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ado a descrição do objetivo, um conjunto de operadores e um estado inicial, o coordenador dev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Gerar um plano parcialmente orden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Decompor este plano em sub-plan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Restrições de ordenação devem ficar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e nã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Garamond"/>
              </a:rPr>
              <a:t>entre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os sub-pla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Inserir sincronizaç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tribuir sub-planos a ag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Planejamento centralizado de planos distribuí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lgumas consideraçõ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Nem sempre o plano que pode ser mais decomposto e mais distribuído é o melh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 infra-estrutura de comunicação tem grande impacto na decisão de como os planos são decompostos e distribuí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Tópic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ntrodu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DP x S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olução Distribuída de Proble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lanejamento Multiage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ojetos Existe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clusõ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Referênc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distribuído de planos centraliza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tex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Tarefa muito complexa que requer o auxílio de especialistas em cada sub-taref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tilizar a </a:t>
            </a:r>
            <a:r>
              <a:rPr b="0" i="1" lang="pt-BR" sz="2800" spc="-1" strike="noStrike">
                <a:solidFill>
                  <a:srgbClr val="ffffff"/>
                </a:solidFill>
                <a:latin typeface="Garamond"/>
              </a:rPr>
              <a:t>expertise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de cada agente para formular sub-planos especializ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distribuído de planos centraliza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lanejamento pode ser feito de forma síncrona ou assíncro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íncron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 ordenação é feita durante o processo de planej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ssíncro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Somente durante o compartilhamento de resultados os conflitos com relação à ordem são resolvi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Exempl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Manufatur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especialistas em geometria, encaixe, pintura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Logístic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especialistas  em planejamento de caminho, carregamento de veículos e despac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unicação fim-a-fi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especialistas no roteamento de mensag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distribuído de planos distribuí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Não existe um plano global da tarefa em nenhum ponto do sistema, apenas planos parciais de relevância lo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mpatibilidade global entre esses planos parciais deve ser manti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vitar conflitos durante a execuçã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fomentar ajuda mútu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Troca de mensagens e/ou temporização são usados para resolver interações negativas entre os ag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Técnicas para planejamento distribuído de planos distribuí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Fusão de plan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nstrução iterativa de plan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egociação de planejadores distribuí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Fusão de Plan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ada agente, individualmente, formula planos, que podem ser executados separadamente sem confli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m agente coleta os planos individuais e analisa os planos para descobrir que seqüências de ações podem levar a confli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nsiste de três estág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Análise de inter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Análise de seguranç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Resolução de inter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nstrução iterativa de plan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oblema das abordagem anterior: às vezes, decisões locais dependem das ações de outros age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spaço de planos x Plano Ún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ada agente, ao invés de propor um único passo, propõe um conjunto de alternativas e, a cada iteração, escolhe-se a que melhor se ajusta para o bem de to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Busca por Combinação de plan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adas proposições iniciais sobre o mun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gentes formam estado sucessores propondo mudanças causadas por uma a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É escolhido o melhor estado sucessor e esta escolha é expandida (heurística A*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O processo é repetido até que nenhum agente queira propor mais mudanç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Negociação de planejadores distribuí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incipais ferrame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 linguagem utilizada pelos participa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O protocolo seguido durante a negociaç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O processo de decisão usado para determinar suas posições, concessões e crité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Atributos Ideais do Mecanismo de Negociaçã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ficiê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stabil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implic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bu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Simet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Introduç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Garamond"/>
              </a:rPr>
              <a:t>Sistemas de Solução Distribuída de Problem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Os agentes envolvidos são projetados para serem Cooperativ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Garamond"/>
              </a:rPr>
              <a:t>Sistemas Abert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Os agentes não são necessariamente cooperativo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Agentes podem  ingressar e sair do sistema de maneira dinâm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Dentro desta segunda classificação, estão inseridos os </a:t>
            </a:r>
            <a:r>
              <a:rPr b="1" i="1" lang="pt-BR" sz="2400" spc="-1" strike="noStrike">
                <a:solidFill>
                  <a:srgbClr val="ffffff"/>
                </a:solidFill>
                <a:latin typeface="Garamond"/>
              </a:rPr>
              <a:t>Sistemas Multiagent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Conjunto de agentes autônom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Possivelmente pré-existen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Solução de um problema que está além da capacidade de um único indivídu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700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Distribuído Contínu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lanejamento e execução intercal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Um agente deve planejar continuamente quan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spectos do mundo podem mudar dinamica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spectos do mundo são revelados incrementalm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ressão do tempo faz com que a execução comece antes do plano ter sido totalmente ger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Os objetivos podem evoluir com o tem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 distribuído e execuçã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ordenação pós-planej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Planejamento de contingê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ordenação pré-planej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Leis de sociabilid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ordenação de planos em tempo de execução sem comunicaç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Coordenação de planos baseada em observ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lanejamento, coordenação e execução intercal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PGP: Planos Globais Parcia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Planejamento, coordenação e execução intercalad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Decomposição de taref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Formulação de planos loca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Abstração de planos loca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Identificação de objetivos globais parciai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Ação em planos globais parcia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Modificação em andament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aramond"/>
              </a:rPr>
              <a:t>Re-alocação de taref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Exemplos de projetos existen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ordination of Distributed Activ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CO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Disseminação de informações entre os agentes planejadores do sistema (coordena planejadores human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Interação de usuários humanos durante todo o processo de planej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Três considerações dirigem a coordenaçã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Seletivid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Conveniência (</a:t>
            </a:r>
            <a:r>
              <a:rPr b="0" i="1" lang="pt-BR" sz="2400" spc="-1" strike="noStrike">
                <a:solidFill>
                  <a:srgbClr val="ffffff"/>
                </a:solidFill>
                <a:latin typeface="Garamond"/>
              </a:rPr>
              <a:t>Timeliness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Não-intrus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32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Exemplos de projetos existen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ultiagent Planning Architectu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P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rquitetura para problemas sofisticados de planejam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Provê protocolos para o compartilhamento do conhecimento e capacidades entre os agent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Tem sido usada para desenvolver vários sistemas de solução de problemas de larga escala para o domínio do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ir Campaign Planning (AC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MA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Agentes planejadores genéricos (PAs) provêem serviços específic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apazes de reportar progressos incrementais provendo planos completos ou parcia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Meta PAs coordenam as atividades destes agentes com conhecimento especializado em estratégias 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Divisão de taref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Resolução de confli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Fusão de planos(previs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nclus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Há várias técnicas e ferramentas para Planejamento Distribuído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afio é caracterizar ferramentas e aplicaçõ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Outro problema é administrar o vazio na especificação do termo “planejamento distribuíd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Referênci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oldridge, M. J.: An Introduction to MultiAgent Systems. John Wiley and Sons, 200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s, G.: Multiagent Systems – A Modern Approach to Distributed Artificial Intelli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ultiagent Planning Archite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DA: 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http://www.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ai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sri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6"/>
              </a:rPr>
              <a:t>.com/~coda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MAP: 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7"/>
              </a:rPr>
              <a:t>http://www.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8"/>
              </a:rPr>
              <a:t>ai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9"/>
              </a:rPr>
              <a:t>.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10"/>
              </a:rPr>
              <a:t>sri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11"/>
              </a:rPr>
              <a:t>.com/project/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12"/>
              </a:rPr>
              <a:t>mp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rber, J.: Multi-Agent Systems – An Introduction to Distributed Artificial Intelli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dhana, E.: Overview of Distributed Collaborative Planning: Concepts and Ap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Relação entre SDP e S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900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SDP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ênfase na solução de um ou mais problemas, com o esforço de múltiplos agentes com interesse em propriedades extrínsecas co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Competênc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Robuste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Uso eficiente de recurs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SMA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Ênfase na existência de múltiplos agentes com interesse em propriedades intrínsecas co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Revelação da verda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Manipulaçã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Coerê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Solução Distribuída de Problem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nfatiza o trabalho conjunto de agentes para melhor resolver problemas que precisam de um esforço cole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esume a existência de problemas que precisam ser resolvidos e expectativas sobre o que constitui soluçõ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9efee"/>
                </a:solidFill>
                <a:latin typeface="Garamond"/>
              </a:rPr>
              <a:t>Solução Distribuída de Problem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Na solução distribuída de problem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erência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(querer trabalhar em grupo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ompetência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(saber como trabalhar bem em grupo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lgumas vezes, o problema que os agentes estão resolvendo é construir um pl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lanejamento distribuído é fortemente mesclado com Solução Distribuída de Problem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Compartilhamento de taref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Idé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uando um agente tiver muitas tarefas para fazer, ele deve solicitar ajud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incipais pass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Decomposiçã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da taref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Alocação 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da taref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Realização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da taref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Síntese 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do resul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Exemplo 1: Figuras Escondid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roblem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Encontrar figuras escondidas em uma determinada á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arefa simples de busc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Como você pode trabalhar como parte de um time para resolvê-la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</a:rPr>
              <a:t>Exemplo 1: Discussã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Decomposição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dividir a área ou as figuras para a bus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Alocação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distribuir as sub-tarefas entre os age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Execução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cada agente deve procurar as figuras atribuídas a ele, ou fazer uma busca na área destinada a e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Síntese: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ada agente apresenta as figuras encontra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5T16:52:23Z</dcterms:created>
  <dc:creator>Talita</dc:creator>
  <dc:description/>
  <dc:language>en-US</dc:language>
  <cp:lastModifiedBy>adss</cp:lastModifiedBy>
  <dcterms:modified xsi:type="dcterms:W3CDTF">2003-07-24T11:41:42Z</dcterms:modified>
  <cp:revision>82</cp:revision>
  <dc:subject/>
  <dc:title>Planejamento em Sistemas MultiAgentes</dc:title>
</cp:coreProperties>
</file>