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680-C59F-4D53-BFD2-7662A29C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9196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61D-3FCC-4B93-9BF5-3A9F98A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B10-86D4-45BD-A8FA-6BAD31C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449-EE0F-48EA-B3D7-E25053FE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CF6-6D28-461B-A3E5-4C8346DE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D40E-BEA1-43CA-B2A5-DF6BB7D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A289-34FC-432F-A547-9CCCA72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2F1-A107-4C73-8D07-C387222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ED6-5CE6-45DE-A833-85005FC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71CD-4093-4950-A94E-F2FCEA2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22E-2566-4202-BB59-C32AE84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341-F158-4608-B52A-2D1C25B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F8D-B598-4DDE-A4F1-8251B4E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9DBE-191A-4015-AEAD-6F7BFE1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9196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2F5-7B5F-475E-9FB6-9457DDC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E48-96F3-474D-916E-457F2407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891960"/>
            <a:ext cx="27968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120A-BCDE-4747-81D9-78034372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1EB-0456-4233-8EC7-8DC730A6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FFB-A7A6-4F04-B96A-D207C6C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E4D-480B-4338-851E-1A761FB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674-280A-4ADA-AF12-5C24E60F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FA6-C3BB-4F09-8352-2E80296C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9196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DE8-0E3E-4835-9558-BD316C8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91960"/>
            <a:ext cx="8686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BD5-730D-4A58-80D5-832351A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4B3-22BD-453E-B8C1-2DC83C298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DCFA-B357-4ACE-A254-A8268E704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waikato.ac.nz/ml/weka" TargetMode="External"/><Relationship Id="rId2" Type="http://schemas.openxmlformats.org/officeDocument/2006/relationships/hyperlink" Target="http://www.cs.waikato.ac.nz/ml/wek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n.ufpe.br/~mln/weka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waikato.ac.nz/ml/weka" TargetMode="External"/><Relationship Id="rId2" Type="http://schemas.openxmlformats.org/officeDocument/2006/relationships/hyperlink" Target="http://www.cs.waikato.ac.nz/ml/weka" TargetMode="External"/><Relationship Id="rId3" Type="http://schemas.openxmlformats.org/officeDocument/2006/relationships/hyperlink" Target="http://www.cs.waikato.ac.nz/ml/weka" TargetMode="External"/><Relationship Id="rId4" Type="http://schemas.openxmlformats.org/officeDocument/2006/relationships/hyperlink" Target="http://www.cs.waikato.ac.nz/ml/weka" TargetMode="External"/><Relationship Id="rId5" Type="http://schemas.openxmlformats.org/officeDocument/2006/relationships/hyperlink" Target="http://www.cs.waikato.ac.nz/ml/weka" TargetMode="External"/><Relationship Id="rId6" Type="http://schemas.openxmlformats.org/officeDocument/2006/relationships/hyperlink" Target="http://www.cs.waikato.ac.nz/ml/weka" TargetMode="External"/><Relationship Id="rId7" Type="http://schemas.openxmlformats.org/officeDocument/2006/relationships/hyperlink" Target="http://www.cs.waikato.ac.nz/ml/weka" TargetMode="External"/><Relationship Id="rId8" Type="http://schemas.openxmlformats.org/officeDocument/2006/relationships/hyperlink" Target="http://www.cs.waikato.ac.nz/ml/weka" TargetMode="External"/><Relationship Id="rId9" Type="http://schemas.openxmlformats.org/officeDocument/2006/relationships/hyperlink" Target="http://www.cs.waikato.ac.nz/ml/weka" TargetMode="Externa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Weka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50496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Mariana Lara Ne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mln@cin.ufpe.br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n/UF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640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relation citation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pp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d.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k.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springe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morgan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adaptive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reinforcement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phd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cognitive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ed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 (50 atrib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 publicacao {yes,no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0,6,0,0,0,0,0,0,7,0,0,...,0,1,19,0,0,0,0,0,0,0,1,0,0,0,0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3,2,0,0,0,0,0,0,0,0,0,...,0,0,3,0,0,0,0,0,0,0,0,0,0,0,0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 (1000 docum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76320"/>
            <a:ext cx="8534160" cy="67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J48 pruned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outlook = su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   humidity &lt;= 75: yes (2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   humidity &gt; 75: no (3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outlook = overcast: yes (4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outlook = rai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   windy = TRUE: no (2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   windy = FALSE: yes (3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Number of Leaves  :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ize of the tree :     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urier New"/>
              </a:rPr>
              <a:t>=== Error on training data 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Correctly Classified Instances          14              100     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correctly Classified Instances         0                0     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Mean absolute error            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Root mean squared error        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Total Number of Instances              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urier New"/>
              </a:rPr>
              <a:t>=== Confusion Matrix 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a b   &lt;-- classified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9 0 | a = 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0 5 | b =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7467480" y="61722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1800" y="1143000"/>
            <a:ext cx="2286000" cy="11430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886200"/>
            <a:ext cx="838440" cy="6094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5715000"/>
            <a:ext cx="838080" cy="609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838440" cy="6094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2057400"/>
            <a:ext cx="990720" cy="1447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28600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057400"/>
            <a:ext cx="1447920" cy="1447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3505320"/>
            <a:ext cx="1676520" cy="11430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440" y="2666880"/>
            <a:ext cx="110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505320"/>
            <a:ext cx="1676160" cy="11430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wi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6400" y="2666880"/>
            <a:ext cx="148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ver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4720" y="2666880"/>
            <a:ext cx="97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720" y="4648320"/>
            <a:ext cx="76176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648320"/>
            <a:ext cx="83808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5791320"/>
            <a:ext cx="838080" cy="6094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791320"/>
            <a:ext cx="838440" cy="6094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e574e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791320" y="4724280"/>
            <a:ext cx="76176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724280"/>
            <a:ext cx="8380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6680" y="4952880"/>
            <a:ext cx="87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&lt;=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5400" y="5029200"/>
            <a:ext cx="70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&gt;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57000" y="5029200"/>
            <a:ext cx="95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4480" y="5029200"/>
            <a:ext cx="1069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229600" y="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Introdução ao Wek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WEKA (Waikato Environment for Knowledge Analys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niversity of Waikato (Nova Zelând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ito em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ponível 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c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waikato.ac.nz/ml/we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Algoritmos Implementa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ssificado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visão de Categor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rvores de Decisão (C4.5, ID3), Indução de Regras (PART), Naive Bayes, KNN (k Nearest Neighbors)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visão numér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KNN (k Nearest Neighbors), Regressão Linear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endizagem de Regras Associativas, Clus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Versões do Wek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são 3-0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weka.j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I we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utoriais (pdf e t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são 3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face grá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Iniciando o Wek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ownload do arquivo (j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ocar 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weka.ja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no CLASSPA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ET CLASSPATH=%CLASSPATH%; {path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r o arquivo de entra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weather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.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3" action="ppaction://hlinksldjump"/>
              </a:rPr>
              <a:t>ar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4" action="ppaction://hlinksldjump"/>
              </a:rPr>
              <a:t>CitationFi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 arquivos: 1 de treinamento e 1 de te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Executando o Wek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Árvores de Decisão (C4.8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java weka.classifiers.j48.J48 -t {arquivo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âmet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t, -T : conjunto de treinamento e te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i : valores de precisão, cobertura e F-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8153280" y="31240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IMA (restaurant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cin.ufpe.br/~mln/weka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Referênc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te do We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cs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.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waikato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.ac.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nz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/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ml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/we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chell, T. M. Machine Learning. McGraw-Hill. 199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ten, I. H. &amp; Frank, E. Data Mining: Practical Machine Learning Tools and Techniques with Java Implementations. Morgan Kaufmann. 2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0" y="228600"/>
            <a:ext cx="6629400" cy="640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rela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wea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outlook {sunny, overcast, rainy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temperature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humidity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windy {TRUE, FALS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attribu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play {yes, no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unny,85,85,FALSE,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unny,80,90,TRUE,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vercast,83,86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ainy,70,96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ainy,68,80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ainy,65,70,TRUE,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vercast,64,65,TRU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unny,72,95,FALSE,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unny,69,70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ainy,75,80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unny,75,70,TRU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vercast,72,90,TRU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vercast,81,75,FALSE,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ainy,71,91,TRUE,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2600" y="609480"/>
            <a:ext cx="199368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207" y="-4423"/>
                </a:moveTo>
                <a:lnTo>
                  <a:pt x="22425" y="2422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ome do conjunt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000" y="2144880"/>
            <a:ext cx="1981080" cy="131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386" y="-7042"/>
                </a:moveTo>
                <a:lnTo>
                  <a:pt x="22431" y="1865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ributos dos exemplos (categoria inclu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000" y="4021200"/>
            <a:ext cx="200196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509" y="-14935"/>
                </a:moveTo>
                <a:lnTo>
                  <a:pt x="22422" y="1277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ores dos atributos (categoria inclusive) de todos os ex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6:15:44Z</dcterms:created>
  <dc:creator>Mariana Neves</dc:creator>
  <dc:description/>
  <dc:language>en-US</dc:language>
  <cp:lastModifiedBy>Geber</cp:lastModifiedBy>
  <dcterms:modified xsi:type="dcterms:W3CDTF">2001-04-09T14:21:59Z</dcterms:modified>
  <cp:revision>46</cp:revision>
  <dc:subject/>
  <dc:title>Weka </dc:title>
</cp:coreProperties>
</file>