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DAF-7DAF-4DB9-855B-3CB84EA7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282-17DC-49EC-8941-D90F54A4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ECB-90DA-4638-9923-6AFD123E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B31-DEE9-44A0-9951-4087FBDB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BACC-F35E-4DB6-B3D6-65C25CBD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9913-1292-40E9-83B9-6DB9F8D9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729D-2BE2-4E19-B68A-74E04D04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DC30-FAD5-469C-A93E-DC11ED82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628C-6D56-4A6B-818B-092BF51D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51460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DBDA-A57E-4C6E-9578-4D019753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4D8B-EF18-4BAA-8FBD-02F94B9F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25C-FBD9-4545-85AF-D917CDC9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688F-8A87-48CF-980C-96943981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BDEA-0091-46A1-BA58-4C8CA07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C06B-6105-4798-A885-2FE610C5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3B1A-DB1B-4D3C-97BA-E57F6C92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3B8B-6C1F-4670-86C2-15807710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F60-75A9-4FA2-91B2-6F13BA00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569-7581-4432-9840-AB575BC7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AB8-37A4-429B-B93A-E7061AE9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51460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461-39A3-4663-950F-67283AFD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B64-C3F0-4C05-8F69-4A91DE5E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483-C73D-4A11-B314-84254C54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F36-6C7B-438B-BF1E-0AD38911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AD7A-AE52-4C8C-AE86-C2F8977E5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ailedCanPath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752480" cy="1046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0" y="1600200"/>
            <a:ext cx="914400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0" y="0"/>
            <a:ext cx="76320" cy="160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676520"/>
            <a:ext cx="152280" cy="5181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676520"/>
            <a:ext cx="152640" cy="5181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04920" y="1676520"/>
            <a:ext cx="152280" cy="5181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57200" y="1676520"/>
            <a:ext cx="152280" cy="5181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idandPolyPathing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7364160" cy="436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D567-D8B2-4D29-86E6-3903D16CA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71600"/>
            <a:ext cx="152280" cy="54864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523880"/>
            <a:ext cx="152640" cy="53341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676520"/>
            <a:ext cx="152280" cy="5181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828800"/>
            <a:ext cx="152280" cy="5029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4571640" y="-3048120"/>
            <a:ext cx="152280" cy="8991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4800240" y="-2362320"/>
            <a:ext cx="152280" cy="8534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647600" y="-2819160"/>
            <a:ext cx="152640" cy="88390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724280" y="-2590560"/>
            <a:ext cx="152280" cy="8686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3b" descr=""/>
          <p:cNvPicPr/>
          <p:nvPr/>
        </p:nvPicPr>
        <p:blipFill>
          <a:blip r:embed="rId3"/>
          <a:srcRect l="2937" t="50028" r="79433" b="28402"/>
          <a:stretch/>
        </p:blipFill>
        <p:spPr>
          <a:xfrm>
            <a:off x="3124080" y="3049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3b" descr=""/>
          <p:cNvPicPr/>
          <p:nvPr/>
        </p:nvPicPr>
        <p:blipFill>
          <a:blip r:embed="rId4"/>
          <a:srcRect l="2937" t="50028" r="79433" b="28402"/>
          <a:stretch/>
        </p:blipFill>
        <p:spPr>
          <a:xfrm>
            <a:off x="4038480" y="3049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63" name="3b" descr=""/>
          <p:cNvPicPr/>
          <p:nvPr/>
        </p:nvPicPr>
        <p:blipFill>
          <a:blip r:embed="rId5"/>
          <a:srcRect l="2937" t="50028" r="79433" b="28402"/>
          <a:stretch/>
        </p:blipFill>
        <p:spPr>
          <a:xfrm>
            <a:off x="4952880" y="3049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3b" descr=""/>
          <p:cNvPicPr/>
          <p:nvPr/>
        </p:nvPicPr>
        <p:blipFill>
          <a:blip r:embed="rId6"/>
          <a:srcRect l="2937" t="50028" r="79433" b="28402"/>
          <a:stretch/>
        </p:blipFill>
        <p:spPr>
          <a:xfrm>
            <a:off x="5867280" y="3049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3b" descr=""/>
          <p:cNvPicPr/>
          <p:nvPr/>
        </p:nvPicPr>
        <p:blipFill>
          <a:blip r:embed="rId7"/>
          <a:srcRect l="2937" t="50028" r="79433" b="28402"/>
          <a:stretch/>
        </p:blipFill>
        <p:spPr>
          <a:xfrm>
            <a:off x="6781680" y="3049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3b" descr=""/>
          <p:cNvPicPr/>
          <p:nvPr/>
        </p:nvPicPr>
        <p:blipFill>
          <a:blip r:embed="rId8"/>
          <a:srcRect l="2937" t="50028" r="79433" b="28402"/>
          <a:stretch/>
        </p:blipFill>
        <p:spPr>
          <a:xfrm>
            <a:off x="7696080" y="30492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Exploração de Espaços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Melhor Caminho, 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Navegação 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e Análise de Terren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2895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Grup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Alessandro Lun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Eric Perazzo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Mozart Araújo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blemas do 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mitações de memória e de tempo de processa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pas grandes requerem armazenamento de milhares de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nipulação dos estados pode ser c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lidade da função heur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olvendo o problema da memó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licar algoritmos que lidam com memória rest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am sea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imita o número de estados que estão em memória. Se alcançar o limite e forem gerados outros estados, despreze o pior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existe garantia de se encontrar um caminho ótimo, pois o nó que eventualmente apontaria para ele pode ter sido eliminado da lista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a maioria dos casos, é encontrado um caminho razo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olvendo o problema da memó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A* (Iterative-deepening A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 armazena os estados, pois a busca é recur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mazena a cada chamada recursiva o custo do início ao estado atual g(n) e interrompe a busca quando f(n) = g(n) + h(n) for maior que um certo li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e limite é inicialmente h(estado inicial) e a cada iteração é atualizado para o menor valor f(N) que excedeu o limite da iteração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otima em espaço e em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olvendo o problema da memó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nformando o espaço da bus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rnar o problema mais fá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ilosofia de “quebrar” um problema em subproblemas, cujas soluções são mais si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ebrar um mapa em regiões contíguas cujas interseções são conhec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colhe-se tiles nas bordas (fronteiras) das regiões para conectá-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ranformando o espaço da b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 fazer a bus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lcula a rota fazendo uma busca entre as regiões adjac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 cada par de estados de fronteira encontrado, ache o menor caminho entre 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europa2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876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ranformando o espaço da b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ndo o espaço da b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transformação do espaço de busca é uma técnica de análise de terren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rá que existem outras técnicas interessa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0000"/>
                </a:solidFill>
                <a:latin typeface="Times New Roman"/>
              </a:rPr>
              <a:t>Análise de terren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bstrai informações sobre o mapa em blocos de dados que são computacionalmente “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digeríve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a que análise de terreno é necessá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amento de IA em diversos 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Jog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ação randômica de m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Jogabilidade aperfeiçoada vi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trigger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lhorados, melhor simulaçã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stemas de controle de tráf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timização de r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lanejamento de movimentos em terrenos irregulares para um veículo articu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ile-Based Ma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A 2D Height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ma única célula em 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le-Based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rbitrary Poly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m sistema de terreno não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Á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m subconjunto contínuo do terreno que compartilha propriedades simi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exão de á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ligação entre duas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th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 mover uma entidade de um local para outr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idade: pessoa, veículo, unidade de comb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elhor caminho de acordo com critér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mpo, distância, segurança, velocidade, consumo de recurso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vegação de robôs em um espaço contínuo, dinâmico, multidimen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écnicas: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ath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ito de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gar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pet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esar das desvantagens, o resultado é sempre prec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o de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nPa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m A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SuccessfulCanPath" descr=""/>
          <p:cNvPicPr/>
          <p:nvPr/>
        </p:nvPicPr>
        <p:blipFill>
          <a:blip r:embed="rId1"/>
          <a:stretch/>
        </p:blipFill>
        <p:spPr>
          <a:xfrm>
            <a:off x="1523880" y="2448000"/>
            <a:ext cx="7620120" cy="4410000"/>
          </a:xfrm>
          <a:prstGeom prst="rect">
            <a:avLst/>
          </a:prstGeom>
          <a:ln w="0">
            <a:noFill/>
          </a:ln>
        </p:spPr>
      </p:pic>
      <p:pic>
        <p:nvPicPr>
          <p:cNvPr id="156" name="FailedCanPath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572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écnicas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fluence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2D que representam a seção do ter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icion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ttractors e detractors,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pois itera para achar a posição de melhor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ça br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 ser abstraído de forma simples para 3D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Influence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brecarga de heur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écnicas: Á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vide o mapa em regiões para simplificar a habilidade de trabalhar com m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vê ao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P AI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uma forma fácil de falar sobre m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se de conhecimento baseado em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ácil de encapsular e iterar sobre uma linguagem de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utras Defini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Tile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onvex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Nonconvex Are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rea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Estudo de cas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álise de terreno em AG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athf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Único algoritmo d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athfinding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uper-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uitos usuários o fazem geral dem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ug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sincronização nunca desaparec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omposição do terreno em á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álise de terreno em AGE 1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(continuaçã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Influence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mada ú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célula por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yte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r cél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icializado com valor diferente d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fluências dinâmicas (baseado no u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ado para localização de constru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2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errain Analys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emplo d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thf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idandPolyPathing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126640" cy="4811760"/>
          </a:xfrm>
          <a:prstGeom prst="rect">
            <a:avLst/>
          </a:prstGeom>
          <a:ln w="0">
            <a:noFill/>
          </a:ln>
        </p:spPr>
      </p:pic>
      <p:pic>
        <p:nvPicPr>
          <p:cNvPr id="169" name="SimplePolyObstructions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3578040" cy="2571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umas dicas sobre Análise de Terr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precisa ser exato para o CP 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bstrair a representação de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use tiles como medida de distâ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puder fazer sem usar reconhecimento de padrão, então o fa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vegação e Planejamento de Mov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goritmos descritos anteriormente assumem que você tem uma descrição exata de um ambiente discr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alguns casos, 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nenhum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escrição do espaço está disponí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 bá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bstáculos – problema típ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ratégia possível: ignore até se deparar com 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While não chegar no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scolha uma direção para mover para o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e essa direção estiver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ova para 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aso contr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scolha outra direção de acordo com a estratégia que evita o obstá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vegação e Planejamento de Mov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mos identificar cinco classes mais gerais de algorit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composição em célul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eletiza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lanejamento com erro limita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vegação baseada em mar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goritmos On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omposição em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éia do Algoritmo: Quebrar o espaço contínuo em um número finito de cél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vidir a região em regiões simples em conexas chamadas de célul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erminar que células são adjacentes umas as outras e construir um grafo de adjacê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erminar em que células as configurações de início e fim estão, e procurar um caminho entre el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do a seqüência de células achada  no passo anterior, achar um caminho dentro de cada célula de um ponto da fronteira da célula anterior para um ponto de fronteira  encontrando a próxima cél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omposição em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1" descr=""/>
          <p:cNvPicPr/>
          <p:nvPr/>
        </p:nvPicPr>
        <p:blipFill>
          <a:blip r:embed="rId1"/>
          <a:srcRect l="0" t="0" r="4900" b="0"/>
          <a:stretch/>
        </p:blipFill>
        <p:spPr>
          <a:xfrm>
            <a:off x="762120" y="2286000"/>
            <a:ext cx="73911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omposição em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guns espaços são gastos, não transformados em cél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um algoritmo perfeito as tiras teriam que ter um espaço inteiramente livre ou um caminho achado dentro delas de tal modo que se um corp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travessasse uma fronteira ele teria colid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casos muito específicos isto pode não acont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omposição em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1" descr=""/>
          <p:cNvPicPr/>
          <p:nvPr/>
        </p:nvPicPr>
        <p:blipFill>
          <a:blip r:embed="rId1"/>
          <a:srcRect l="0" t="0" r="4900" b="0"/>
          <a:stretch/>
        </p:blipFill>
        <p:spPr>
          <a:xfrm>
            <a:off x="762120" y="2286000"/>
            <a:ext cx="7391160" cy="3746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352680" y="3352680"/>
            <a:ext cx="838440" cy="83844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omposição em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olu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colher uma resolução da decompos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sto pode ser feito 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adaptativam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pelo Algorit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élulas menores para partes mais apertadas do espaço liv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ode pode haver uma “safety clearance” abaixo da qual é aconselhável não mov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 mais liberal e declarar células parcialmente livres como liv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composição exata das células, mesmo que isto implique em formas complexa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omposição em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composição em Cilind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ilindros são células com as partes do topo e de baixo cu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ilindros são células simples, pois tem apenas o topo e a parte de baixo curvadas as laterais são retas. Isso traz uma simplificação na divisão do espaço, e impede que o espaço seja dividido em células muito peque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espaço bidimensional os cilindros são obtidos através dos chamados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ontos de control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que são pontos onde a curva de limite é ver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omposição em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975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quelet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éia do Algoritmo:Reduzir o espaço de configuração em um conjunto unidimensional, ou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esque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s simples que o método de decomposição em células, pois prové um espaço “mínimo” de descri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ser completo para planejamento de movimento, métodos de esqueletização devem satisfazer duas proprie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é um esqueleto de um espaço livre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então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deve ter um pedaço conectado com cada região conexa de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a qualquer pont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em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deve ser “fácil” computar um caminho de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ao esque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queletização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(grafo de visibilida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rafo de Visibilidade para um espaço de configuração poligonal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consiste de arestas ligando todos os pares de vértices que vêem uns aos ou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caminha mais curto entre dois pontos com obstáculos poligonais esta inteiramente incluído no grafo de visibilidade exceto pelos primeiro e ultimo seg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tratégias de obstacle avoi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mento em uma direção randô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do se depara com um obstáculo, se afasta dele para um local escolhido rando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a com obstáculos grandes ou cônca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52560" y="3962520"/>
            <a:ext cx="7238880" cy="2895480"/>
            <a:chOff x="952560" y="3962520"/>
            <a:chExt cx="7238880" cy="2895480"/>
          </a:xfrm>
        </p:grpSpPr>
        <p:pic>
          <p:nvPicPr>
            <p:cNvPr id="113" name="1a" descr=""/>
            <p:cNvPicPr/>
            <p:nvPr/>
          </p:nvPicPr>
          <p:blipFill>
            <a:blip r:embed="rId1"/>
            <a:srcRect l="8818" t="30920" r="29454" b="7342"/>
            <a:stretch/>
          </p:blipFill>
          <p:spPr>
            <a:xfrm>
              <a:off x="952560" y="4267080"/>
              <a:ext cx="3200400" cy="240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1b" descr=""/>
            <p:cNvPicPr/>
            <p:nvPr/>
          </p:nvPicPr>
          <p:blipFill>
            <a:blip r:embed="rId2"/>
            <a:srcRect l="8881" t="19577" r="33808" b="5886"/>
            <a:stretch/>
          </p:blipFill>
          <p:spPr>
            <a:xfrm>
              <a:off x="5219640" y="3962520"/>
              <a:ext cx="2971800" cy="289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queletização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(grafo de visibilida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3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823080" cy="34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queletização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(Diagrama de Vorono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cada ponto no espaço livre, compute sua distância para o obstáculo mais próxim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loque esta distância como uma altura siando da pág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diagrama de Voronoi consiste neste pontos altos e afi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queletização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(Diagrama de Vorono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4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91524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queletização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(Roadma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esqueleto que consiste de dois tipos de curvas: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silhouette curve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freeways) e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link curve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bridg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4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4400640" cy="2698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352680" y="4572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4"/>
            <a:endCxn id="204" idx="0"/>
          </p:cNvCxnSpPr>
          <p:nvPr/>
        </p:nvCxnSpPr>
        <p:spPr>
          <a:xfrm>
            <a:off x="3390480" y="42667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4" idx="4"/>
            <a:endCxn id="205" idx="0"/>
          </p:cNvCxnSpPr>
          <p:nvPr/>
        </p:nvCxnSpPr>
        <p:spPr>
          <a:xfrm>
            <a:off x="3390480" y="4647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19720" y="4876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5105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1" idx="4"/>
            <a:endCxn id="209" idx="0"/>
          </p:cNvCxnSpPr>
          <p:nvPr/>
        </p:nvCxnSpPr>
        <p:spPr>
          <a:xfrm>
            <a:off x="4457520" y="41907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9" idx="4"/>
            <a:endCxn id="210" idx="0"/>
          </p:cNvCxnSpPr>
          <p:nvPr/>
        </p:nvCxnSpPr>
        <p:spPr>
          <a:xfrm>
            <a:off x="4457520" y="4952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5105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6" idx="4"/>
            <a:endCxn id="214" idx="0"/>
          </p:cNvCxnSpPr>
          <p:nvPr/>
        </p:nvCxnSpPr>
        <p:spPr>
          <a:xfrm>
            <a:off x="5143320" y="4190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4" idx="4"/>
            <a:endCxn id="215" idx="0"/>
          </p:cNvCxnSpPr>
          <p:nvPr/>
        </p:nvCxnSpPr>
        <p:spPr>
          <a:xfrm>
            <a:off x="5143320" y="44956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61722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4876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1" idx="4"/>
            <a:endCxn id="219" idx="0"/>
          </p:cNvCxnSpPr>
          <p:nvPr/>
        </p:nvCxnSpPr>
        <p:spPr>
          <a:xfrm>
            <a:off x="6210000" y="4038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19" idx="4"/>
            <a:endCxn id="220" idx="0"/>
          </p:cNvCxnSpPr>
          <p:nvPr/>
        </p:nvCxnSpPr>
        <p:spPr>
          <a:xfrm>
            <a:off x="6210000" y="42670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4191120" y="5410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6019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5181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4"/>
            <a:endCxn id="224" idx="0"/>
          </p:cNvCxnSpPr>
          <p:nvPr/>
        </p:nvCxnSpPr>
        <p:spPr>
          <a:xfrm>
            <a:off x="42289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224" idx="4"/>
            <a:endCxn id="225" idx="0"/>
          </p:cNvCxnSpPr>
          <p:nvPr/>
        </p:nvCxnSpPr>
        <p:spPr>
          <a:xfrm>
            <a:off x="4228920" y="54864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5334120" y="5943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6172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4"/>
            <a:endCxn id="229" idx="0"/>
          </p:cNvCxnSpPr>
          <p:nvPr/>
        </p:nvCxnSpPr>
        <p:spPr>
          <a:xfrm>
            <a:off x="5371920" y="5105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229" idx="4"/>
            <a:endCxn id="230" idx="0"/>
          </p:cNvCxnSpPr>
          <p:nvPr/>
        </p:nvCxnSpPr>
        <p:spPr>
          <a:xfrm>
            <a:off x="537192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Fine-motion planning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(FM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éia do Algoritmo:Planejar movimentos pequenos e precisos para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montage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as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calas de distâncias apropriadas para FMP, o ambiente não é precisamente conhecido. Além disso, o robô é incapaz de medir ou controlar sua posição precisamente. Lidar com estas incertezas é a principal finalidade do F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quanto o algoritmo online assume nada a respeito do ambiente, conhecimento parcial é disponível para o file-motion pla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maioria do trabalho é feita offline, gerando uma estratégia que funcionará em todas as situações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ine-motion planning(FM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fine-motion plan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consiste de uma serie de movimentos ponderados ou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guarded mo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da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guarded motio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nsist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comando de mo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dição de termino deste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andos de movimento são tipicamente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compliant motio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que permitem que o objeto de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ie se o movimento for causar coli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ine-motion planning(FM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6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552840" cy="179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7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3657600" cy="18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8" descr=""/>
          <p:cNvPicPr/>
          <p:nvPr/>
        </p:nvPicPr>
        <p:blipFill>
          <a:blip r:embed="rId3"/>
          <a:stretch/>
        </p:blipFill>
        <p:spPr>
          <a:xfrm>
            <a:off x="5105520" y="4572000"/>
            <a:ext cx="3809880" cy="185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4267080" y="54100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Navegação baseada em marcos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andmark-based nav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exemplo anterior os assumimos que os sensores fornecem a mesma precisão ao longo do ambiente, agora isto não é ver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controles de direção são imperfe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éia do algoritm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tilizar um modelo de marcos (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landmark mode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. Onde cada marco é modelado como um ponto com um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ampo de influênci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ercando-o de forma cir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tilizar o mesmo modelo da cone de incerteza do modelo anterior. Podemos fazer uma backprojetion do objetivo até a região de iní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Navegação baseada em marcos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andmark-based nav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9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46760" cy="460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s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: O Ambiente é praticamente desconhe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éia do Algoritmo: Evitar o estagio de planejamento offline, todas as decisões são feitas em run time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goritmos Online precisam ser simples, por que precisam fazer escolhas em tempo real. Por esta razão eles não podem lembrar muito a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speito d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tratégias de obstacle avoi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racing around the obst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locar a mão na parede e sair andand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ndo par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do estiver na direção que você queria ir quando colocou a mão na pa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486080" y="4419720"/>
            <a:ext cx="6172200" cy="2438280"/>
            <a:chOff x="1486080" y="4419720"/>
            <a:chExt cx="6172200" cy="2438280"/>
          </a:xfrm>
        </p:grpSpPr>
        <p:pic>
          <p:nvPicPr>
            <p:cNvPr id="118" name="2a" descr=""/>
            <p:cNvPicPr/>
            <p:nvPr/>
          </p:nvPicPr>
          <p:blipFill>
            <a:blip r:embed="rId1"/>
            <a:srcRect l="8846" t="26483" r="38245" b="10753"/>
            <a:stretch/>
          </p:blipFill>
          <p:spPr>
            <a:xfrm>
              <a:off x="1486080" y="4419720"/>
              <a:ext cx="27432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2b" descr=""/>
            <p:cNvPicPr/>
            <p:nvPr/>
          </p:nvPicPr>
          <p:blipFill>
            <a:blip r:embed="rId2"/>
            <a:srcRect l="11790" t="30404" r="30898" b="12709"/>
            <a:stretch/>
          </p:blipFill>
          <p:spPr>
            <a:xfrm>
              <a:off x="4686480" y="4572000"/>
              <a:ext cx="2971800" cy="2209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s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Qual seria um bom algoritmo para este ca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10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419720" cy="34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ussel &amp; Norvig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Capítulos 03, 04 e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ryan Stout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mart Moves: Intelligent Path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ttp://www.gamasutra.com/features/programming/080197/pathfinding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goritmos de busca em Delp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tp://ftp.gdmag.com/pub/src/oct96.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vid C. Pottinger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PT" sz="2400" spc="-1" strike="noStrike">
                <a:solidFill>
                  <a:srgbClr val="000000"/>
                </a:solidFill>
                <a:latin typeface="Times New Roman"/>
              </a:rPr>
              <a:t>Ensemble Studios Terrain Analysis in Realtime Strategy 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http://www.ensemblestudios.com/news/devnews/terrain1.s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tratégias de obstacle avoi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obust tra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ndo bloqueado, calcule a equação da reta de sua posição até o objetivo. Faça o tracing até cruzar essa linha de no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unciona quando existir caminho, mas é c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79360" y="4516560"/>
            <a:ext cx="6783120" cy="2341440"/>
            <a:chOff x="1179360" y="4516560"/>
            <a:chExt cx="6783120" cy="2341440"/>
          </a:xfrm>
        </p:grpSpPr>
        <p:pic>
          <p:nvPicPr>
            <p:cNvPr id="123" name="3a" descr=""/>
            <p:cNvPicPr/>
            <p:nvPr/>
          </p:nvPicPr>
          <p:blipFill>
            <a:blip r:embed="rId1"/>
            <a:srcRect l="11790" t="26483" r="33836" b="13237"/>
            <a:stretch/>
          </p:blipFill>
          <p:spPr>
            <a:xfrm>
              <a:off x="1179360" y="4516560"/>
              <a:ext cx="2819160" cy="23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3b" descr=""/>
            <p:cNvPicPr/>
            <p:nvPr/>
          </p:nvPicPr>
          <p:blipFill>
            <a:blip r:embed="rId2"/>
            <a:srcRect l="2937" t="32369" r="29426" b="18595"/>
            <a:stretch/>
          </p:blipFill>
          <p:spPr>
            <a:xfrm>
              <a:off x="4455720" y="4648320"/>
              <a:ext cx="3506760" cy="19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tuações em que a única abordagem inteligente é planejar toda a rota antes de tomar o primeiro pas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as regiões tiverem peso? Como achar o caminho mais bara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oria dos Grafos e I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s de B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do um estado inicial e um final, como aplicar operadores a cada estado intermediário para alcançar o estado fin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o nosso cas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ado composto pela localização da entidade em um tile particular do mu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peradores correspondem a movimento entre tiles adjac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lgoritmos de Bu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guns algorit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usca em larg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usca em profund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goritmo de Dijkstra (custo unifor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est-first search (heurís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* (Dijkstra + best-fir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3:10:54Z</dcterms:created>
  <dc:creator>Mozart</dc:creator>
  <dc:description/>
  <dc:language>en-US</dc:language>
  <cp:lastModifiedBy> </cp:lastModifiedBy>
  <dcterms:modified xsi:type="dcterms:W3CDTF">2001-05-18T19:04:22Z</dcterms:modified>
  <cp:revision>43</cp:revision>
  <dc:subject/>
  <dc:title>Navegação e Planejamento de Movimento</dc:title>
</cp:coreProperties>
</file>