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5AC-C1E3-4904-8C24-9CB657CC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CE7-9DFD-47CD-85E1-00912707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ADD-2116-4A56-A04F-000E44EB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BC8-62D6-4E61-90BD-4D3D9007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263A-5E42-476F-82B4-DE8483CE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EEE-2B84-4CF4-A91B-79123DF7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C65-9FD4-408E-B71B-91C89609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B54E-5542-4074-9BA5-2BD26BBD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D6D8-73C2-4557-B083-10022F8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45F2-E07B-4F51-B1E7-495443B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6C1A-1EE1-4786-A44C-9678D1A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C73-CF98-4DFA-BC28-D1C2114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A194-1AAF-46C1-B4BD-E36F75E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CA9-6D39-41E8-B84D-4347714E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B630-FB13-4AE3-830E-C96B220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77C-A7A0-4448-AB34-71385B98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C391-6F05-443D-8892-13119667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4D0-514C-4F33-858A-265ED444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120-67EA-4476-9E83-1C51F79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DDD-4109-490E-BF52-AB2FD3E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04B-BD65-4BA7-887F-A4629784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571-E5F7-446D-8E15-AFE924DF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883-4061-4771-9131-8E155F1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4C5-398C-475A-B830-5EC310BC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4C8B-0178-413B-B515-65557CB55C43}" type="slidenum">
              <a:rPr b="0" lang="en-US" sz="1400" spc="-1" strike="noStrike">
                <a:solidFill>
                  <a:srgbClr val="99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BF95-11DE-49C1-9A81-F4F74F0D5B0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egorização de Docum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38858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ahoma"/>
              </a:rPr>
              <a:t>Mariana Lara Ne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(mln@cin.ufpe.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ahoma"/>
              </a:rPr>
              <a:t>CIn/UF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181480" y="2057400"/>
            <a:ext cx="373392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egorização de Docum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209680"/>
            <a:ext cx="609480" cy="99072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3680" y="24303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66688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286000"/>
            <a:ext cx="3200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presentaçã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320040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ção da Dim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ção de Ter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5562720"/>
            <a:ext cx="3200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presentaçã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5029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5943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6386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5943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3733920"/>
            <a:ext cx="2362320" cy="1066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80060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267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048120"/>
            <a:ext cx="15238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5638680"/>
            <a:ext cx="21337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tegor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ção da Dimens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6480" y="1981080"/>
            <a:ext cx="7877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minuir o risco de super-especialização (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verfitting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os de Reduç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(um conjunto de termos para todas as categori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 Local (um conjunto de termos para cada categor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eção dos Term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qüência de Palav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king de freqüência de ocorrência dos ter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opia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infor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28800" y="3733920"/>
                <a:ext cx="3733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16200" y="4876920"/>
                <a:ext cx="479268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620040" y="388620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(incerteza in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12640" y="510552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(incerteza 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828800" y="6095880"/>
                <a:ext cx="22860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4784400" y="61722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(qtd. de incerteza remov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eção dos Term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eficiente de Correla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828800" y="2438280"/>
                <a:ext cx="6858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1371600" y="57913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0600" y="3657600"/>
            <a:ext cx="55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+ = documentos relevantes que conté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0600" y="41148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- = documentos relevantes que não conté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0600" y="502920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n- = documentos não relevantes que não conté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0960" y="457200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n+ = documentos não relevantes que conté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429000" y="5867280"/>
                <a:ext cx="1600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266480" y="1980720"/>
            <a:ext cx="7496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rdagem Simból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Árvores de Deci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ção de Reg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rdagem Numér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endizagem Bayes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es Neurais Artifici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endizagem Baseada em Instâ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ção Automática de Classificad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ração das Abordag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203560"/>
          <a:ext cx="879624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3560"/>
                    <a:ext cx="87962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ração das Abordag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2208240"/>
          <a:ext cx="8796240" cy="40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8240"/>
                    <a:ext cx="879624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57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Categorização de Documen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astiani, F. A Tutorial on Automated Text Categorization. Analia Amandi and Alejandro Zunino (eds.), Proceedings of ASAI-99, 1st Argentinian Symposium on Artificial Intelligence, Buenos Aires, AR, pp. 7-35. 199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linier, I. A Framework for Comparing Text Categorization Approaches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AAI Spring Symposium on Machine Learning and Information Acces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Stanford University, March 1996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Sistemas Baseados em Conhecimen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yes, P. J. &amp; Weinstein, S. P. Construe-TIS: A System for Content-Based Indexing of a Database of News Stories. Second Annual Conference on Innovative Applications of Artificial Intelligence, pp. 48-64. 199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Neves, M. L. CitationFinder: Um Sistema de Meta-busca e Classificação de Páginas de Publicações na Web.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ese de Mestrado, Centro de Informática, UFPE, Fevereiro de 200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http://www.cin.ufpe.br/~ml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648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Aprendizagem de Máquin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Aprendizagem Bayesiana (Naive Baye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cCallum, A. K.; Nigam, K.; Rennie, J. &amp; Seymore, K. Automating the Construction of Internet Portals with Machine Learning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formation Retrieval Journ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volume 3, pages 127-163. 200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Redes Neura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ener, E.; Pedersen, J. O. &amp; Weigend, A. S. A Neural Network Approach to Topic Spotting. In Proceedings of the 4th Symposium on Document Analysis and Information Retrieval (SDAIR 95), pages 317-332, Las Vegas, NV, USA, April 24-26. 199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Aprendizagem Baseada em Instânc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sand, B; Linoff, G. &amp; Waltz, D. Classifying News Stories  using Memory Based Reasoning. Proceedings of SIGIR-92, 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CM International Conference on Research and Development in Information Retrieval, pp. 59-65, Denmark. 199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Aprendizagem de Máquina (cont.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66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Árvores de Decisã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wis, D. D. &amp; Ringuette, M. A Comparison of Two Learning Algorithms for Text Categorization. In Third Annual Symposium on Document Analysis and Information Retrieval, pp. 81-93. 199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Indução de Regr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té, C.; Damerau, F. &amp; Weiss, S. Automated Learning of Decision Rules for Text Categorization. ACM Transactions on Information Systems, Vol. 12, No. 3, July 1994, pages 233-151. 199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cc"/>
                </a:solidFill>
                <a:latin typeface="Tahoma"/>
              </a:rPr>
              <a:t>Seleção de Ter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g, H. T.; Goh, W. B. &amp; Low, K. L. Feature Selection, Perceptron learning and a Usability Case Study for Text Categorization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oceedings of SIGIR-97, 20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ACM International Conference on Research and Development in Information Retriev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pp. 67-73, Philadelphia, PA, USA. 199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ron, M. E. Automatic Indexing: An Experimental Inquiry. Journal of ACM, 8: 404-417. 196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egorização de Docu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ção Manual do Classifica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ção Automática do Classifica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ação das Abordag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ribuição de uma ou mais classes pré-definidas aos docu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 os docu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r a sua busca autom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828800"/>
            <a:ext cx="6019920" cy="4648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8195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2767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3434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66688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42900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9625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3623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35268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29718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7339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4197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362320"/>
            <a:ext cx="30456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133720"/>
            <a:ext cx="3048120" cy="243828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657600"/>
            <a:ext cx="2666880" cy="2514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200400"/>
            <a:ext cx="3124080" cy="2666880"/>
          </a:xfrm>
          <a:prstGeom prst="ellipse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25780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8769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4197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4864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502920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95288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44197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48640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457200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54864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4876920"/>
            <a:ext cx="30456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411480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54100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876920"/>
            <a:ext cx="30456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46483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8098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3526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048120"/>
            <a:ext cx="30456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0292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9625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45720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2004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8098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7432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2096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2819520"/>
            <a:ext cx="30492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52578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25146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609588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594360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1219320"/>
            <a:ext cx="304560" cy="304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3320" y="11350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89920" y="6189840"/>
            <a:ext cx="16412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765" y="-6710"/>
                </a:moveTo>
                <a:lnTo>
                  <a:pt x="-1003" y="5082"/>
                </a:lnTo>
              </a:path>
              <a:path w="21600" h="21600">
                <a:moveTo>
                  <a:pt x="-1003" y="0"/>
                </a:moveTo>
                <a:lnTo>
                  <a:pt x="-1003" y="21600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as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18400" y="2147760"/>
            <a:ext cx="16416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78" y="67166"/>
                </a:moveTo>
                <a:lnTo>
                  <a:pt x="-1003" y="5082"/>
                </a:lnTo>
              </a:path>
              <a:path w="21600" h="21600">
                <a:moveTo>
                  <a:pt x="-1003" y="0"/>
                </a:moveTo>
                <a:lnTo>
                  <a:pt x="-1003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Clas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6219720"/>
            <a:ext cx="15163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690" y="-16918"/>
                </a:moveTo>
                <a:lnTo>
                  <a:pt x="22686" y="5082"/>
                </a:lnTo>
              </a:path>
              <a:path w="21600" h="21600">
                <a:moveTo>
                  <a:pt x="22686" y="0"/>
                </a:moveTo>
                <a:lnTo>
                  <a:pt x="22686" y="21600"/>
                </a:ln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Clas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tegorização de Docum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6480" y="1981080"/>
            <a:ext cx="7877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cação Manu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itura dos documentos por um especiali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ção Manu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baseados em conhec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de regras escritas manua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ção Automát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mos de aprendiza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ção do Classific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to de treina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quisição do conhecimento ou treinamento do algorit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uste d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to de tes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erente do conjunto de trein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iação do desempenho d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ção Manual do Classific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 baseado em Conhec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de conhec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áquina de Inferência (ex.: JE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4266720"/>
            <a:ext cx="7619400" cy="1783080"/>
            <a:chOff x="762120" y="4266720"/>
            <a:chExt cx="7619400" cy="1783080"/>
          </a:xfrm>
        </p:grpSpPr>
        <p:sp>
          <p:nvSpPr>
            <p:cNvPr id="159" name=""/>
            <p:cNvSpPr/>
            <p:nvPr/>
          </p:nvSpPr>
          <p:spPr>
            <a:xfrm>
              <a:off x="7037280" y="4564080"/>
              <a:ext cx="134424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lid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04800" y="5010120"/>
              <a:ext cx="44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7120" y="5010120"/>
              <a:ext cx="44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89440" y="5010120"/>
              <a:ext cx="44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2120" y="5456160"/>
              <a:ext cx="16426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ível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4564080"/>
              <a:ext cx="164268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quisi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54080" y="5456160"/>
              <a:ext cx="164268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ível Lóg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54080" y="4564080"/>
              <a:ext cx="164268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mul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 Base de Conhec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44960" y="5456160"/>
              <a:ext cx="1836360" cy="5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ível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44960" y="4564080"/>
              <a:ext cx="164412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 Base de Conhec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9480" y="4267080"/>
              <a:ext cx="612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634160" y="4266720"/>
              <a:ext cx="0" cy="29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09480" y="4266720"/>
              <a:ext cx="0" cy="29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de Conhec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ras de Prod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mplo: Regras para o reconhecimento de um bloco de citação em uma página de publicação (CitationFind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ção Manual do Classific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51055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houver uma cadeia de Au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houver uma cadeia de Intervalo de Pág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houver uma cadeia de Trabalho Impr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houver uma cadeia d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o texto é uma citação (chance 1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ção Automática de Classificad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dos automaticamente através da apresentação dos exemplos ao algoritmo de treina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00200" y="4038480"/>
            <a:ext cx="7238880" cy="1905120"/>
            <a:chOff x="1600200" y="4038480"/>
            <a:chExt cx="7238880" cy="1905120"/>
          </a:xfrm>
        </p:grpSpPr>
        <p:sp>
          <p:nvSpPr>
            <p:cNvPr id="178" name=""/>
            <p:cNvSpPr/>
            <p:nvPr/>
          </p:nvSpPr>
          <p:spPr>
            <a:xfrm>
              <a:off x="4457520" y="5545080"/>
              <a:ext cx="43052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juste dos resultados pelo desenvolve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15000" y="4038480"/>
              <a:ext cx="1460520" cy="79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assific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00200" y="4267080"/>
              <a:ext cx="18478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dos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in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19400" y="4190760"/>
              <a:ext cx="160668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ific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2400" y="4190760"/>
              <a:ext cx="160668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43160" y="45957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26080" y="4595760"/>
              <a:ext cx="160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8880" y="5229000"/>
              <a:ext cx="525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58880" y="4911480"/>
              <a:ext cx="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16680" y="4752720"/>
              <a:ext cx="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03680" y="5545080"/>
              <a:ext cx="3505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03680" y="47527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09000" y="47527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8:16:20Z</dcterms:created>
  <dc:creator>Mariana Neves</dc:creator>
  <dc:description/>
  <dc:language>en-US</dc:language>
  <cp:lastModifiedBy>mln</cp:lastModifiedBy>
  <dcterms:modified xsi:type="dcterms:W3CDTF">2001-04-02T16:47:21Z</dcterms:modified>
  <cp:revision>54</cp:revision>
  <dc:subject/>
  <dc:title>Categorização de Documentos</dc:title>
</cp:coreProperties>
</file>