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6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60D-AFCD-4EB2-9877-300E6416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701F-9CDC-4990-9026-7FCF49A3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969-8E56-4C06-977A-BB1B1B80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BC6B-AA11-4EBB-9BC5-2FBCB95B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ECD8-B596-44D0-81A0-08A55262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385D-EAC3-4125-BA87-22CC2025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D26C-223A-433E-811C-63C3E05F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1EA9-3758-4B0B-9DD5-6106EE3F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B899-4F2B-419B-8495-D2314F36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689A-1F06-41A3-9F02-3920FC96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EE40-45D3-463F-954D-C16835D9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AB0-EE94-475B-8C01-374EFE96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CF6B-C403-4713-AD33-124193B0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CD67-F98F-4AF8-B414-5DD7E48E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E3D2-D146-4397-AA10-34901510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CFBC-35CB-40D3-BD2E-4F55B3C5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158B-5777-4F34-B2F3-87957CFC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C67-9573-498C-B84F-AD6591F6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5D0-CCBF-4E3A-9370-CADA23FF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923-7099-448E-86A4-96E730A0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039-C97E-44E3-B3F4-6A414300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591-9A53-4A2F-8FE2-3B14BDE0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044-A118-45DF-98A9-50DF71D5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396-2B39-4F38-9644-349D8C4D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856560"/>
            <a:ext cx="9144000" cy="144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1353-FC75-469F-87EC-34F6C5AB6404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E3C2-7542-42F5-8FA7-B44B5FA425B5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Filtragem de Informaçã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00"/>
                </a:solidFill>
                <a:latin typeface="Times New Roman"/>
              </a:rPr>
              <a:t>Byron L. D. Bezerra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00"/>
                </a:solidFill>
                <a:latin typeface="Times New Roman"/>
              </a:rPr>
              <a:t>Ivan Romero Teixeira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00"/>
                </a:solidFill>
                <a:latin typeface="Times New Roman"/>
              </a:rPr>
              <a:t>Sérgio Queiroz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3CD0-46B0-445E-8B2C-ABC66C1C0E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BR: ( 1-N 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666880" y="1752480"/>
            <a:ext cx="3429000" cy="4267440"/>
            <a:chOff x="2666880" y="1752480"/>
            <a:chExt cx="3429000" cy="4267440"/>
          </a:xfrm>
        </p:grpSpPr>
        <p:sp>
          <p:nvSpPr>
            <p:cNvPr id="234" name=""/>
            <p:cNvSpPr/>
            <p:nvPr/>
          </p:nvSpPr>
          <p:spPr>
            <a:xfrm>
              <a:off x="2666880" y="1752480"/>
              <a:ext cx="3429000" cy="4267440"/>
            </a:xfrm>
            <a:prstGeom prst="can">
              <a:avLst>
                <a:gd name="adj" fmla="val 13023"/>
              </a:avLst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235" name="lulu" descr=""/>
            <p:cNvPicPr/>
            <p:nvPr/>
          </p:nvPicPr>
          <p:blipFill>
            <a:blip r:embed="rId1"/>
            <a:stretch/>
          </p:blipFill>
          <p:spPr>
            <a:xfrm>
              <a:off x="2895480" y="2666880"/>
              <a:ext cx="122868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djavan" descr=""/>
            <p:cNvPicPr/>
            <p:nvPr/>
          </p:nvPicPr>
          <p:blipFill>
            <a:blip r:embed="rId2"/>
            <a:stretch/>
          </p:blipFill>
          <p:spPr>
            <a:xfrm>
              <a:off x="4572000" y="4267080"/>
              <a:ext cx="123840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fagner" descr=""/>
            <p:cNvPicPr/>
            <p:nvPr/>
          </p:nvPicPr>
          <p:blipFill>
            <a:blip r:embed="rId3"/>
            <a:stretch/>
          </p:blipFill>
          <p:spPr>
            <a:xfrm>
              <a:off x="4572000" y="2666880"/>
              <a:ext cx="123840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ge" descr=""/>
            <p:cNvPicPr/>
            <p:nvPr/>
          </p:nvPicPr>
          <p:blipFill>
            <a:blip r:embed="rId4"/>
            <a:stretch/>
          </p:blipFill>
          <p:spPr>
            <a:xfrm>
              <a:off x="2895480" y="4267080"/>
              <a:ext cx="1238400" cy="123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9" name="ge3" descr=""/>
          <p:cNvPicPr/>
          <p:nvPr/>
        </p:nvPicPr>
        <p:blipFill>
          <a:blip r:embed="rId5"/>
          <a:stretch/>
        </p:blipFill>
        <p:spPr>
          <a:xfrm>
            <a:off x="228600" y="2209680"/>
            <a:ext cx="1650960" cy="1650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 rot="5400000">
            <a:off x="837720" y="3962520"/>
            <a:ext cx="1600200" cy="1600200"/>
          </a:xfrm>
          <a:custGeom>
            <a:avLst/>
            <a:gdLst>
              <a:gd name="textAreaLeft" fmla="*/ 433440 w 1600200"/>
              <a:gd name="textAreaRight" fmla="*/ 1249560 w 1600200"/>
              <a:gd name="textAreaTop" fmla="*/ 1042920 h 1600200"/>
              <a:gd name="textAreaBottom" fmla="*/ 1249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8812"/>
                </a:moveTo>
                <a:lnTo>
                  <a:pt x="14076" y="18812"/>
                </a:lnTo>
                <a:lnTo>
                  <a:pt x="14076" y="5850"/>
                </a:lnTo>
                <a:lnTo>
                  <a:pt x="9340" y="5850"/>
                </a:lnTo>
                <a:lnTo>
                  <a:pt x="15470" y="0"/>
                </a:lnTo>
                <a:lnTo>
                  <a:pt x="21600" y="5850"/>
                </a:lnTo>
                <a:lnTo>
                  <a:pt x="16864" y="585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bae6c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1800" y="5257800"/>
            <a:ext cx="22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Quais itens sã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mais parecidos 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2057400"/>
            <a:ext cx="1523880" cy="3657600"/>
          </a:xfrm>
          <a:prstGeom prst="rect">
            <a:avLst/>
          </a:prstGeom>
          <a:solidFill>
            <a:srgbClr val="f3fcb2"/>
          </a:solidFill>
          <a:ln w="1260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Times New Roman"/>
              </a:rPr>
              <a:t>Atributos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- títul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- gêner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- categoria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- an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- artista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A9E-3668-4415-BD08-D869326DC8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CBR: ( M-N default 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05280" y="1828800"/>
            <a:ext cx="2742840" cy="2666880"/>
            <a:chOff x="305280" y="1828800"/>
            <a:chExt cx="2742840" cy="2666880"/>
          </a:xfrm>
        </p:grpSpPr>
        <p:sp>
          <p:nvSpPr>
            <p:cNvPr id="245" name=""/>
            <p:cNvSpPr/>
            <p:nvPr/>
          </p:nvSpPr>
          <p:spPr>
            <a:xfrm>
              <a:off x="381240" y="2209680"/>
              <a:ext cx="2666880" cy="2286000"/>
            </a:xfrm>
            <a:prstGeom prst="ellipse">
              <a:avLst/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90720" y="2895480"/>
              <a:ext cx="304920" cy="381240"/>
            </a:xfrm>
            <a:prstGeom prst="rect">
              <a:avLst/>
            </a:prstGeom>
            <a:solidFill>
              <a:srgbClr val="f3fcb2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71960" y="2895480"/>
              <a:ext cx="304560" cy="381240"/>
            </a:xfrm>
            <a:prstGeom prst="rect">
              <a:avLst/>
            </a:prstGeom>
            <a:solidFill>
              <a:srgbClr val="f3fcb2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52840" y="2895480"/>
              <a:ext cx="304920" cy="381240"/>
            </a:xfrm>
            <a:prstGeom prst="rect">
              <a:avLst/>
            </a:prstGeom>
            <a:solidFill>
              <a:srgbClr val="f3fcb2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33720" y="2895480"/>
              <a:ext cx="304920" cy="381240"/>
            </a:xfrm>
            <a:prstGeom prst="rect">
              <a:avLst/>
            </a:prstGeom>
            <a:solidFill>
              <a:srgbClr val="f3fcb2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90720" y="2438280"/>
              <a:ext cx="304920" cy="381240"/>
            </a:xfrm>
            <a:prstGeom prst="rect">
              <a:avLst/>
            </a:prstGeom>
            <a:solidFill>
              <a:srgbClr val="afc6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++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71960" y="2438280"/>
              <a:ext cx="304560" cy="381240"/>
            </a:xfrm>
            <a:prstGeom prst="rect">
              <a:avLst/>
            </a:prstGeom>
            <a:solidFill>
              <a:srgbClr val="afc6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++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52840" y="2438280"/>
              <a:ext cx="304920" cy="381240"/>
            </a:xfrm>
            <a:prstGeom prst="rect">
              <a:avLst/>
            </a:prstGeom>
            <a:solidFill>
              <a:srgbClr val="afc6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++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33720" y="2438280"/>
              <a:ext cx="304920" cy="381240"/>
            </a:xfrm>
            <a:prstGeom prst="rect">
              <a:avLst/>
            </a:prstGeom>
            <a:solidFill>
              <a:srgbClr val="afc6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++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90720" y="38098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- 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71960" y="3809880"/>
              <a:ext cx="30456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- 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52840" y="38098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- 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33720" y="38098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- 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90720" y="33526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71960" y="3352680"/>
              <a:ext cx="30456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2840" y="33526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33720" y="33526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5280" y="182880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Perfil do Usuário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19920" y="1676520"/>
            <a:ext cx="2514600" cy="3200400"/>
            <a:chOff x="6019920" y="1676520"/>
            <a:chExt cx="2514600" cy="3200400"/>
          </a:xfrm>
        </p:grpSpPr>
        <p:sp>
          <p:nvSpPr>
            <p:cNvPr id="264" name=""/>
            <p:cNvSpPr/>
            <p:nvPr/>
          </p:nvSpPr>
          <p:spPr>
            <a:xfrm>
              <a:off x="6019920" y="1676520"/>
              <a:ext cx="2514600" cy="3200400"/>
            </a:xfrm>
            <a:prstGeom prst="can">
              <a:avLst>
                <a:gd name="adj" fmla="val 25000"/>
              </a:avLst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24480" y="26668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05720" y="26668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6600" y="26668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67480" y="26668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48720" y="26668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24480" y="31240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05720" y="31240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86600" y="31240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7480" y="31240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48720" y="31240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24480" y="35812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05720" y="35812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86600" y="35812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67480" y="35812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48720" y="35812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40384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05720" y="40384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86600" y="40384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67480" y="40384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848720" y="40384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505320" y="3124080"/>
            <a:ext cx="2057400" cy="533520"/>
          </a:xfrm>
          <a:custGeom>
            <a:avLst/>
            <a:gdLst>
              <a:gd name="textAreaLeft" fmla="*/ 321480 w 2057400"/>
              <a:gd name="textAreaRight" fmla="*/ 1800360 w 2057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bae6c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65040" y="4994280"/>
            <a:ext cx="8626680" cy="1657800"/>
            <a:chOff x="365040" y="4994280"/>
            <a:chExt cx="8626680" cy="1657800"/>
          </a:xfrm>
        </p:grpSpPr>
        <p:sp>
          <p:nvSpPr>
            <p:cNvPr id="287" name=""/>
            <p:cNvSpPr/>
            <p:nvPr/>
          </p:nvSpPr>
          <p:spPr>
            <a:xfrm>
              <a:off x="365040" y="4994280"/>
              <a:ext cx="862668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00"/>
                  </a:solidFill>
                  <a:latin typeface="Times New Roman"/>
                </a:rPr>
                <a:t>1) Comparar a similaridade de cada item       com todos os itens do perfil do usuário: sim(      , a</a:t>
              </a:r>
              <a:r>
                <a:rPr b="0" lang="pt-BR" sz="2400" spc="-1" strike="noStrike" baseline="-25000">
                  <a:solidFill>
                    <a:srgbClr val="003300"/>
                  </a:solidFill>
                  <a:latin typeface="Times New Roman"/>
                </a:rPr>
                <a:t>i</a:t>
              </a:r>
              <a:r>
                <a:rPr b="0" lang="pt-BR" sz="2400" spc="-1" strike="noStrike">
                  <a:solidFill>
                    <a:srgbClr val="003300"/>
                  </a:solidFill>
                  <a:latin typeface="Times New Roman"/>
                </a:rPr>
                <a:t>), onde a</a:t>
              </a:r>
              <a:r>
                <a:rPr b="0" lang="pt-BR" sz="2400" spc="-1" strike="noStrike" baseline="-25000">
                  <a:solidFill>
                    <a:srgbClr val="003300"/>
                  </a:solidFill>
                  <a:latin typeface="Times New Roman"/>
                </a:rPr>
                <a:t>i</a:t>
              </a:r>
              <a:r>
                <a:rPr b="0" lang="pt-BR" sz="2400" spc="-1" strike="noStrike">
                  <a:solidFill>
                    <a:srgbClr val="003300"/>
                  </a:solidFill>
                  <a:latin typeface="Times New Roman"/>
                </a:rPr>
                <a:t> </a:t>
              </a:r>
              <a:r>
                <a:rPr b="0" lang="pt-BR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</a:t>
              </a:r>
              <a:r>
                <a:rPr b="0" lang="pt-BR" sz="2400" spc="-1" strike="noStrike">
                  <a:solidFill>
                    <a:srgbClr val="003300"/>
                  </a:solidFill>
                  <a:latin typeface="Times New Roman"/>
                </a:rPr>
                <a:t> Perfil do Usuário.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00"/>
                  </a:solidFill>
                  <a:latin typeface="Times New Roman"/>
                </a:rPr>
                <a:t>2) Para saber a similaridade de        com o Perfil do usuário, podemos pegar o max, o min, a média, etc, de sim(      , a</a:t>
              </a:r>
              <a:r>
                <a:rPr b="0" lang="pt-BR" sz="2400" spc="-1" strike="noStrike" baseline="-25000">
                  <a:solidFill>
                    <a:srgbClr val="003300"/>
                  </a:solidFill>
                  <a:latin typeface="Times New Roman"/>
                </a:rPr>
                <a:t>i</a:t>
              </a:r>
              <a:r>
                <a:rPr b="0" lang="pt-BR" sz="2400" spc="-1" strike="noStrike">
                  <a:solidFill>
                    <a:srgbClr val="003300"/>
                  </a:solidFill>
                  <a:latin typeface="Times New Roman"/>
                </a:rPr>
                <a:t>).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86400" y="5029200"/>
              <a:ext cx="304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76720" y="54100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43400" y="5791320"/>
              <a:ext cx="304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05720" y="6172200"/>
              <a:ext cx="30456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8B7-EDC5-4F68-9AF6-BBADAAF0FA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BR: ( M-N com Protótipo 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60" y="1828800"/>
            <a:ext cx="2742840" cy="2666880"/>
            <a:chOff x="360" y="1828800"/>
            <a:chExt cx="2742840" cy="2666880"/>
          </a:xfrm>
        </p:grpSpPr>
        <p:sp>
          <p:nvSpPr>
            <p:cNvPr id="294" name=""/>
            <p:cNvSpPr/>
            <p:nvPr/>
          </p:nvSpPr>
          <p:spPr>
            <a:xfrm>
              <a:off x="76320" y="2209680"/>
              <a:ext cx="2666880" cy="2286000"/>
            </a:xfrm>
            <a:prstGeom prst="ellipse">
              <a:avLst/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5800" y="2895480"/>
              <a:ext cx="304920" cy="381240"/>
            </a:xfrm>
            <a:prstGeom prst="rect">
              <a:avLst/>
            </a:prstGeom>
            <a:solidFill>
              <a:srgbClr val="f3fcb2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67040" y="2895480"/>
              <a:ext cx="304560" cy="381240"/>
            </a:xfrm>
            <a:prstGeom prst="rect">
              <a:avLst/>
            </a:prstGeom>
            <a:solidFill>
              <a:srgbClr val="f3fcb2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47920" y="2895480"/>
              <a:ext cx="304920" cy="381240"/>
            </a:xfrm>
            <a:prstGeom prst="rect">
              <a:avLst/>
            </a:prstGeom>
            <a:solidFill>
              <a:srgbClr val="f3fcb2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28800" y="2895480"/>
              <a:ext cx="304920" cy="381240"/>
            </a:xfrm>
            <a:prstGeom prst="rect">
              <a:avLst/>
            </a:prstGeom>
            <a:solidFill>
              <a:srgbClr val="f3fcb2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5800" y="2438280"/>
              <a:ext cx="304920" cy="381240"/>
            </a:xfrm>
            <a:prstGeom prst="rect">
              <a:avLst/>
            </a:prstGeom>
            <a:solidFill>
              <a:srgbClr val="afc6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++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67040" y="2438280"/>
              <a:ext cx="304560" cy="381240"/>
            </a:xfrm>
            <a:prstGeom prst="rect">
              <a:avLst/>
            </a:prstGeom>
            <a:solidFill>
              <a:srgbClr val="afc6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++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7920" y="2438280"/>
              <a:ext cx="304920" cy="381240"/>
            </a:xfrm>
            <a:prstGeom prst="rect">
              <a:avLst/>
            </a:prstGeom>
            <a:solidFill>
              <a:srgbClr val="afc6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++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28800" y="2438280"/>
              <a:ext cx="304920" cy="381240"/>
            </a:xfrm>
            <a:prstGeom prst="rect">
              <a:avLst/>
            </a:prstGeom>
            <a:solidFill>
              <a:srgbClr val="afc6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++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38098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- 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67040" y="3809880"/>
              <a:ext cx="30456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- 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47920" y="38098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- 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8800" y="38098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- 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800" y="33526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67040" y="3352680"/>
              <a:ext cx="30456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47920" y="33526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8800" y="33526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0" y="182880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Perfil do Usuário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553080" y="1676520"/>
            <a:ext cx="2514600" cy="3200400"/>
            <a:chOff x="6553080" y="1676520"/>
            <a:chExt cx="2514600" cy="3200400"/>
          </a:xfrm>
        </p:grpSpPr>
        <p:sp>
          <p:nvSpPr>
            <p:cNvPr id="313" name=""/>
            <p:cNvSpPr/>
            <p:nvPr/>
          </p:nvSpPr>
          <p:spPr>
            <a:xfrm>
              <a:off x="6553080" y="1676520"/>
              <a:ext cx="2514600" cy="3200400"/>
            </a:xfrm>
            <a:prstGeom prst="can">
              <a:avLst>
                <a:gd name="adj" fmla="val 25000"/>
              </a:avLst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7640" y="26668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38880" y="26668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19760" y="26668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000640" y="26668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81880" y="26668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57640" y="31240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38880" y="31240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19760" y="31240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0640" y="31240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381880" y="31240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57640" y="35812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38880" y="35812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19760" y="35812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00640" y="35812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81880" y="35812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57640" y="40384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38880" y="40384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19760" y="40384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00640" y="4038480"/>
              <a:ext cx="3049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1880" y="4038480"/>
              <a:ext cx="3045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819520" y="312408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41480 h 457200"/>
              <a:gd name="textAreaBottom" fmla="*/ 31572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6686"/>
                </a:moveTo>
                <a:lnTo>
                  <a:pt x="14513" y="6686"/>
                </a:lnTo>
                <a:lnTo>
                  <a:pt x="14513" y="0"/>
                </a:lnTo>
                <a:lnTo>
                  <a:pt x="21600" y="10800"/>
                </a:lnTo>
                <a:lnTo>
                  <a:pt x="14513" y="21600"/>
                </a:lnTo>
                <a:lnTo>
                  <a:pt x="14513" y="14914"/>
                </a:lnTo>
                <a:lnTo>
                  <a:pt x="3375" y="14914"/>
                </a:lnTo>
                <a:close/>
              </a:path>
              <a:path w="21600" h="21600">
                <a:moveTo>
                  <a:pt x="0" y="6686"/>
                </a:moveTo>
                <a:lnTo>
                  <a:pt x="675" y="6686"/>
                </a:lnTo>
                <a:lnTo>
                  <a:pt x="675" y="14914"/>
                </a:lnTo>
                <a:lnTo>
                  <a:pt x="0" y="14914"/>
                </a:lnTo>
                <a:close/>
              </a:path>
              <a:path w="21600" h="21600">
                <a:moveTo>
                  <a:pt x="1350" y="6686"/>
                </a:moveTo>
                <a:lnTo>
                  <a:pt x="2700" y="6686"/>
                </a:lnTo>
                <a:lnTo>
                  <a:pt x="2700" y="14914"/>
                </a:lnTo>
                <a:lnTo>
                  <a:pt x="1350" y="14914"/>
                </a:lnTo>
                <a:close/>
              </a:path>
            </a:pathLst>
          </a:custGeom>
          <a:solidFill>
            <a:srgbClr val="8bae6c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3124080"/>
            <a:ext cx="1219320" cy="457200"/>
          </a:xfrm>
          <a:prstGeom prst="rect">
            <a:avLst/>
          </a:prstGeom>
          <a:solidFill>
            <a:srgbClr val="8bae6c"/>
          </a:solidFill>
          <a:ln w="12600">
            <a:solidFill>
              <a:srgbClr val="003300"/>
            </a:solidFill>
            <a:miter/>
          </a:ln>
          <a:effectLst>
            <a:outerShdw dist="153753" dir="2700000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Protótipo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312408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41480 h 457200"/>
              <a:gd name="textAreaBottom" fmla="*/ 31572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6686"/>
                </a:moveTo>
                <a:lnTo>
                  <a:pt x="14513" y="6686"/>
                </a:lnTo>
                <a:lnTo>
                  <a:pt x="14513" y="0"/>
                </a:lnTo>
                <a:lnTo>
                  <a:pt x="21600" y="10800"/>
                </a:lnTo>
                <a:lnTo>
                  <a:pt x="14513" y="21600"/>
                </a:lnTo>
                <a:lnTo>
                  <a:pt x="14513" y="14914"/>
                </a:lnTo>
                <a:lnTo>
                  <a:pt x="3375" y="14914"/>
                </a:lnTo>
                <a:close/>
              </a:path>
              <a:path w="21600" h="21600">
                <a:moveTo>
                  <a:pt x="0" y="6686"/>
                </a:moveTo>
                <a:lnTo>
                  <a:pt x="675" y="6686"/>
                </a:lnTo>
                <a:lnTo>
                  <a:pt x="675" y="14914"/>
                </a:lnTo>
                <a:lnTo>
                  <a:pt x="0" y="14914"/>
                </a:lnTo>
                <a:close/>
              </a:path>
              <a:path w="21600" h="21600">
                <a:moveTo>
                  <a:pt x="1350" y="6686"/>
                </a:moveTo>
                <a:lnTo>
                  <a:pt x="2700" y="6686"/>
                </a:lnTo>
                <a:lnTo>
                  <a:pt x="2700" y="14914"/>
                </a:lnTo>
                <a:lnTo>
                  <a:pt x="1350" y="14914"/>
                </a:lnTo>
                <a:close/>
              </a:path>
            </a:pathLst>
          </a:custGeom>
          <a:solidFill>
            <a:srgbClr val="8bae6c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33520" y="5257800"/>
            <a:ext cx="8915400" cy="837720"/>
            <a:chOff x="533520" y="5257800"/>
            <a:chExt cx="8915400" cy="837720"/>
          </a:xfrm>
        </p:grpSpPr>
        <p:sp>
          <p:nvSpPr>
            <p:cNvPr id="338" name=""/>
            <p:cNvSpPr/>
            <p:nvPr/>
          </p:nvSpPr>
          <p:spPr>
            <a:xfrm>
              <a:off x="533520" y="525780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00"/>
                  </a:solidFill>
                  <a:latin typeface="Times New Roman"/>
                </a:rPr>
                <a:t>1) Gera-se o protótipo do Perfil do Usuário (aula de Chico).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00"/>
                  </a:solidFill>
                  <a:latin typeface="Times New Roman"/>
                </a:rPr>
                <a:t>2) Calcula-se a sim(                     ,        ) para cada      existente.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24440" y="5638680"/>
              <a:ext cx="1218960" cy="456840"/>
            </a:xfrm>
            <a:prstGeom prst="rect">
              <a:avLst/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  <a:effectLst>
              <a:outerShdw dist="153753" dir="2700000" blurRad="0" rotWithShape="0">
                <a:srgbClr val="366b1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Protótipo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76920" y="5638680"/>
              <a:ext cx="304920" cy="38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82040" y="5638680"/>
              <a:ext cx="304560" cy="38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AD7-407B-43EB-82C3-9F9EEE6AFA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BR: Vantagen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Desvantage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ácil de implementa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Aprendizagem increment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não existe classificado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uaviza necessidade de aquisição de conheciment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Permite exceçõ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Mais lent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usto computacional da ordem de M * 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D22-9CF5-470D-B80F-546EA4152C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Filtragem cognitiva - Problema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Representação computacional dos itens analisado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Como extrair automaticamente atributos relevantes de música, fotos, filmes etc.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Os itens recomendados são sempre parecidos com os já visto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Como descobrir coisas novas e interessantes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Impossível distinguir itens baseados em qualidade, estilo, ponto de vista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46" name="binoculo" descr=""/>
          <p:cNvPicPr/>
          <p:nvPr/>
        </p:nvPicPr>
        <p:blipFill>
          <a:blip r:embed="rId1"/>
          <a:srcRect l="0" t="289" r="89585" b="89819"/>
          <a:stretch/>
        </p:blipFill>
        <p:spPr>
          <a:xfrm>
            <a:off x="7772400" y="4138560"/>
            <a:ext cx="1143000" cy="81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4EC-916C-4254-B4E5-8E6A650C6A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Filtragem social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Baseia-se no relacionamento entre as pessoas e suas opiniõ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Exemplo: Filtro social de emai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Se o emissor da mensagem for all@cin.ufpe.br, envie a mensagem para o lixo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Collaborative Filte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Itens são recomendados a um </a:t>
            </a:r>
            <a:br>
              <a:rPr sz="2800"/>
            </a:b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usuário de acordo com suas </a:t>
            </a:r>
            <a:br>
              <a:rPr sz="2800"/>
            </a:b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avaliações por usuários de </a:t>
            </a:r>
            <a:br>
              <a:rPr sz="2800"/>
            </a:b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preferências similares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49" name="collabfilt" descr=""/>
          <p:cNvPicPr/>
          <p:nvPr/>
        </p:nvPicPr>
        <p:blipFill>
          <a:blip r:embed="rId1"/>
          <a:srcRect l="0" t="0" r="66669" b="59260"/>
          <a:stretch/>
        </p:blipFill>
        <p:spPr>
          <a:xfrm>
            <a:off x="6019920" y="403848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9D6-09E3-4D34-ABA6-9538542E33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CF: Subtarefa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6251" t="25926" r="4167" b="15741"/>
          <a:stretch/>
        </p:blipFill>
        <p:spPr>
          <a:xfrm>
            <a:off x="304920" y="1600200"/>
            <a:ext cx="8534160" cy="41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2DC-764B-406F-BF12-8E422A7A80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Representação dos dado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Matricial (representação original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Matriz m x n, sendo as m linhas representando produtos e n colunas representando usuário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Esparsidade: o número de produtos normalmente é muito maior que a quantidade avaliada pelo usuário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Escalabilidade: custo proporcional ao número de usuários e produto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Sinônimos: nomes de produtos diferentes podem referir-se a objetos similare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Representação com redução de dimensionalidad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Utilizar técnicas como Principal Component Analysis, Latent semantic indexing (LSI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058-B357-481C-9D3D-BAA8F58E81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Identificação de vizinho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Medida de proximidad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Correlação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Pears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519920" indent="-217080"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Baseia-se em várias suposições quanto ao modelo probabilístico dos dados (erros independentes com distribuição de probabilidade de média 0 e variância constante etc.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Spearma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519920" indent="-217080"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Não faz suposições quanto ao modelo de dados. Pode ser usado quando a escala de avaliação é discreta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Cossen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Não se mostrou tão apropriado quanto correlação em CF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Regras de associaçã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Redes neurai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0F7-3D1F-4AF0-9BD3-1EB0A61CD8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Geração de recomendaçã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Média ponderada das notas, usando as correlações como pesos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Métodos que baseados em regras de associação ou redes neurais utilizam formas específicas para gerar recomendação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106-3946-4DDD-9498-03A2F855AA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rot="18478800">
            <a:off x="2247840" y="3238200"/>
            <a:ext cx="4495680" cy="1676520"/>
          </a:xfrm>
          <a:custGeom>
            <a:avLst/>
            <a:gdLst>
              <a:gd name="textAreaLeft" fmla="*/ 0 w 4495680"/>
              <a:gd name="textAreaRight" fmla="*/ 4496040 w 4495680"/>
              <a:gd name="textAreaTop" fmla="*/ 217080 h 1676520"/>
              <a:gd name="textAreaBottom" fmla="*/ 14594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8bae6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Rotei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Motivaçã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Filtragem de Informaçõ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Filtragem Econômica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Filtragem Cognitiva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ID3, CBR ..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Filtragem Socia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Collaborative Filtering (CF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2590920"/>
            <a:ext cx="4343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Collaborative filter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Subtarefa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CF com Correlaçã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CF com Redes Neurai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CF com Regras de Associaçã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Vantagens e Desvantage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Abordagens híbrida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Estudo de caso: PTV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A3A-DF93-4AB7-8746-430F9A9953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Caso de estudo: GroupLe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Sistema de collaborative filtering para newsgroup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Clientes GroupLen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Prevêem notas para artigos, baseando-se em colaborative filter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rcRect l="11225" t="28456" r="14595" b="32766"/>
          <a:stretch/>
        </p:blipFill>
        <p:spPr>
          <a:xfrm>
            <a:off x="2133720" y="4572000"/>
            <a:ext cx="670536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DE0-91DE-45DB-8EFC-DB24443D56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GroupLens (cont.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Clientes GroupLens (cont.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Permitem que os usuários dêem notas aos artigos que lera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rcRect l="13750" t="22728" r="17124" b="25759"/>
          <a:stretch/>
        </p:blipFill>
        <p:spPr>
          <a:xfrm>
            <a:off x="1905120" y="3352680"/>
            <a:ext cx="5638680" cy="335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029-CB31-4F28-BA6E-9C1EE57504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GroupLens (cont.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Utiliza um protocolo para propagar as notas dos usuários entre todos os servidores GroupLen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rcRect l="17965" t="16667" r="16280" b="19697"/>
          <a:stretch/>
        </p:blipFill>
        <p:spPr>
          <a:xfrm>
            <a:off x="3124080" y="2638440"/>
            <a:ext cx="4953240" cy="39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759-AA49-4C85-A73B-A3515A95F3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GroupLens (cont.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Prevendo nota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Usuários que concordaram no passado, tendem a concordar novament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O problema é modelado numa matriz, onde as colunas são as pessoas, as linhas são os artigos e as células contêm as notas dadas pelas pessoas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C24-D2BA-4B5C-B9BD-B144830DDA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GroupLens (cont.)</a:t>
            </a:r>
            <a:br>
              <a:rPr sz="4400"/>
            </a:b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Problema como uma matriz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12065" t="21721" r="12910" b="25759"/>
          <a:stretch/>
        </p:blipFill>
        <p:spPr>
          <a:xfrm>
            <a:off x="1066680" y="1828800"/>
            <a:ext cx="678204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E8B-03E6-4C99-8D38-8624F1AA24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GroupLens (cont.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Prevendo notas (cont.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Técnic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Computar os coeficientes de correlação entre os usuários baseando-se nas suas notas para artigos anteriore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Fazer uma média ponderada entre as notas que o artigo em consideração recebeu dos outros usuários, utilizando-se o coeficiente de correlação como peso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2B5-F02E-4EA2-B119-97315ACD33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-15228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3300"/>
                </a:solidFill>
                <a:latin typeface="Times New Roman"/>
              </a:rPr>
              <a:t>GroupLens (cont.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rcRect l="12065" t="21721" r="12910" b="25759"/>
          <a:stretch/>
        </p:blipFill>
        <p:spPr>
          <a:xfrm>
            <a:off x="152280" y="762120"/>
            <a:ext cx="5029200" cy="293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66b1b"/>
            </a:outerShdw>
          </a:effectLst>
        </p:spPr>
      </p:pic>
      <p:sp>
        <p:nvSpPr>
          <p:cNvPr id="376" name=""/>
          <p:cNvSpPr/>
          <p:nvPr/>
        </p:nvSpPr>
        <p:spPr>
          <a:xfrm>
            <a:off x="437040" y="3774960"/>
            <a:ext cx="49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Outras correlações:  Meg (+1); Nan (0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447920" y="2209680"/>
            <a:ext cx="1218960" cy="1524240"/>
            <a:chOff x="1447920" y="2209680"/>
            <a:chExt cx="1218960" cy="1524240"/>
          </a:xfrm>
        </p:grpSpPr>
        <p:sp>
          <p:nvSpPr>
            <p:cNvPr id="378" name=""/>
            <p:cNvSpPr/>
            <p:nvPr/>
          </p:nvSpPr>
          <p:spPr>
            <a:xfrm>
              <a:off x="2209680" y="3352680"/>
              <a:ext cx="457200" cy="381240"/>
            </a:xfrm>
            <a:prstGeom prst="ellips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47920" y="2209680"/>
              <a:ext cx="838080" cy="1219320"/>
            </a:xfrm>
            <a:prstGeom prst="wedgeRoundRectCallout">
              <a:avLst>
                <a:gd name="adj1" fmla="val 42425"/>
                <a:gd name="adj2" fmla="val 60287"/>
                <a:gd name="adj3" fmla="val 16667"/>
              </a:avLst>
            </a:prstGeom>
            <a:solidFill>
              <a:srgbClr val="8bae6c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Como prever essa nota?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486400" y="914400"/>
            <a:ext cx="3505320" cy="3200040"/>
            <a:chOff x="5486400" y="914400"/>
            <a:chExt cx="3505320" cy="3200040"/>
          </a:xfrm>
        </p:grpSpPr>
        <p:pic>
          <p:nvPicPr>
            <p:cNvPr id="381" name="" descr=""/>
            <p:cNvPicPr/>
            <p:nvPr/>
          </p:nvPicPr>
          <p:blipFill>
            <a:blip r:embed="rId2"/>
            <a:srcRect l="31456" t="29801" r="17965" b="26766"/>
            <a:stretch/>
          </p:blipFill>
          <p:spPr>
            <a:xfrm>
              <a:off x="5486400" y="914400"/>
              <a:ext cx="3505320" cy="2513160"/>
            </a:xfrm>
            <a:prstGeom prst="rect">
              <a:avLst/>
            </a:prstGeom>
            <a:ln w="0">
              <a:noFill/>
            </a:ln>
            <a:effectLst>
              <a:outerShdw dist="107932" dir="13500000" blurRad="0" rotWithShape="0">
                <a:srgbClr val="366b1b"/>
              </a:outerShdw>
            </a:effectLst>
          </p:spPr>
        </p:pic>
        <p:sp>
          <p:nvSpPr>
            <p:cNvPr id="382" name=""/>
            <p:cNvSpPr/>
            <p:nvPr/>
          </p:nvSpPr>
          <p:spPr>
            <a:xfrm rot="10800000">
              <a:off x="5943600" y="3504960"/>
              <a:ext cx="2819520" cy="609480"/>
            </a:xfrm>
            <a:prstGeom prst="wedgeRoundRectCallout">
              <a:avLst>
                <a:gd name="adj1" fmla="val 57712"/>
                <a:gd name="adj2" fmla="val 53643"/>
                <a:gd name="adj3" fmla="val 16667"/>
              </a:avLst>
            </a:prstGeom>
            <a:solidFill>
              <a:srgbClr val="8bae6c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00"/>
                  </a:solidFill>
                  <a:latin typeface="Times New Roman"/>
                </a:rPr>
                <a:t>Calculando o coeficiente de correlação entre Ken e Le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52280" y="4495680"/>
            <a:ext cx="8839440" cy="2362320"/>
            <a:chOff x="152280" y="4495680"/>
            <a:chExt cx="8839440" cy="2362320"/>
          </a:xfrm>
        </p:grpSpPr>
        <p:pic>
          <p:nvPicPr>
            <p:cNvPr id="384" name="" descr=""/>
            <p:cNvPicPr/>
            <p:nvPr/>
          </p:nvPicPr>
          <p:blipFill>
            <a:blip r:embed="rId3"/>
            <a:srcRect l="15439" t="37882" r="15439" b="31820"/>
            <a:stretch/>
          </p:blipFill>
          <p:spPr>
            <a:xfrm>
              <a:off x="152280" y="4572000"/>
              <a:ext cx="6248520" cy="2286000"/>
            </a:xfrm>
            <a:prstGeom prst="rect">
              <a:avLst/>
            </a:prstGeom>
            <a:ln w="0">
              <a:noFill/>
            </a:ln>
            <a:effectLst>
              <a:outerShdw dist="107932" dir="13500000" blurRad="0" rotWithShape="0">
                <a:srgbClr val="366b1b"/>
              </a:outerShdw>
            </a:effectLst>
          </p:spPr>
        </p:pic>
        <p:sp>
          <p:nvSpPr>
            <p:cNvPr id="385" name=""/>
            <p:cNvSpPr/>
            <p:nvPr/>
          </p:nvSpPr>
          <p:spPr>
            <a:xfrm>
              <a:off x="6705720" y="4495680"/>
              <a:ext cx="2286000" cy="1752840"/>
            </a:xfrm>
            <a:prstGeom prst="wedgeRoundRectCallout">
              <a:avLst>
                <a:gd name="adj1" fmla="val -61388"/>
                <a:gd name="adj2" fmla="val 52717"/>
                <a:gd name="adj3" fmla="val 16667"/>
              </a:avLst>
            </a:prstGeom>
            <a:solidFill>
              <a:srgbClr val="8bae6c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00"/>
                  </a:solidFill>
                  <a:latin typeface="Times New Roman"/>
                </a:rPr>
                <a:t>Nota prevista. Coerente, pois Ken normalmente concorda com Meg e discorda de Le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9F2-CCCA-4873-AC8E-70AF74D194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Problemas comuns nos métodos de correlaçã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Correlação entre dois perfis é computada baseando-se apenas em itens que ambos avaliaram. A quantidade de itens avaliados em comum pode ser pequena. (Fatores de correção artificiais podem ser introduzidos para aliviar o problema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Os métodos restringem o modelo de similaridade entre os usuários. Avaliações de um usuário poderiam ser bons preditores de outro usuário, mesmo quando eles não estão correlacionado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Ex.: As avaliações positivas do usuário “A” são preditores perfeitos para avaliações negativas de “B”, mas as avaliações negativas de “A” não implicam uma avaliação positiva de “B”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Não detecção de transitividade de similarida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Ex.: A e B são altamente correlacionados. O mesmo ocorre com B e C. No entanto, se A e C não tiverem items avaliados em comum, não haverá similaridade entre e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CF com Redes Neurai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ACC-D024-492C-97E7-2EE5439CFB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Transformação do problema de CF em um problema de classificaçã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Permite que métodos bem estudados de machine learning sejam usados para abordar o problema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Os problemas identificados nos métodos de correlação não estão presentes em alguns dos métodos de machine learning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F - Classificaçã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04B-9D77-481C-BC77-76A3D14633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F como um problema de classificaçã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Os dados iniciais estão presentes em uma matriz esparsa onde as linhas correspondem a usuários e as colunas a itens. As células da matriz contêm as nota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O problema pode ser visto como completar valores na matriz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mo estamos interessados em aprender modelos personalizados, um classificador será associado a cada usuário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CF - Classificação (cont.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D1E-0065-4F70-9E71-509CBE8C80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verload" descr=""/>
          <p:cNvPicPr/>
          <p:nvPr/>
        </p:nvPicPr>
        <p:blipFill>
          <a:blip r:embed="rId1"/>
          <a:srcRect l="1388" t="0" r="63890" b="39817"/>
          <a:stretch/>
        </p:blipFill>
        <p:spPr>
          <a:xfrm>
            <a:off x="457200" y="1600200"/>
            <a:ext cx="3809880" cy="4952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Grande volume de informações...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Impossível encontrar informações importantes em tempo hábi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omo encontrar o que interessa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Esforço própri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ort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Recomendação de amig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BC9-7A99-4423-BBF0-A81395B114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80880" y="35812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Treinar um algoritmo de aprendizagem com a informação das notas anteriores de U4, isto é, as relativas a I1, I2 e I3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Os exemplos de treinamento podem ser representados como “feature vectors”, com os usuários correspondendo às “features”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No caso os exemplos seriam: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I1 = (4, ?, 3) </a:t>
            </a:r>
            <a:r>
              <a:rPr b="0" lang="pt-BR" sz="18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 Classe 4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I2 = (?, 1, 4) </a:t>
            </a:r>
            <a:r>
              <a:rPr b="0" lang="pt-BR" sz="18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 Classe 2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I3 = (3, ? 2) </a:t>
            </a:r>
            <a:r>
              <a:rPr b="0" lang="pt-BR" sz="18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 Classe 1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26388" t="48152" r="19445" b="26854"/>
          <a:stretch/>
        </p:blipFill>
        <p:spPr>
          <a:xfrm>
            <a:off x="1981080" y="1600200"/>
            <a:ext cx="5943600" cy="2057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848720" y="2362320"/>
            <a:ext cx="1295280" cy="914400"/>
          </a:xfrm>
          <a:prstGeom prst="wedgeRectCallout">
            <a:avLst>
              <a:gd name="adj1" fmla="val -72796"/>
              <a:gd name="adj2" fmla="val 63888"/>
            </a:avLst>
          </a:prstGeom>
          <a:solidFill>
            <a:srgbClr val="8bae6c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prevendo a nota de U4 para I5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331-CCFB-4DB4-A5A4-77145596C82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alores faltando podem limitar o algoritmo a ser utilizad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olução: fazer uma transformação simples da matriz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26388" t="48152" r="19445" b="26854"/>
          <a:stretch/>
        </p:blipFill>
        <p:spPr>
          <a:xfrm>
            <a:off x="228600" y="2362320"/>
            <a:ext cx="5105520" cy="17683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rcRect l="25000" t="30555" r="18057" b="32410"/>
          <a:stretch/>
        </p:blipFill>
        <p:spPr>
          <a:xfrm>
            <a:off x="4267080" y="4343400"/>
            <a:ext cx="4876920" cy="23796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 rot="5400000">
            <a:off x="5410080" y="3276360"/>
            <a:ext cx="1143000" cy="9907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bae6c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2280" y="4343400"/>
            <a:ext cx="4114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Para uma ainda maior simplificação, foram consideradas apenas duas class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Times New Roman"/>
              </a:rPr>
              <a:t>like: valores 1, 2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683280" indent="-262800">
              <a:spcBef>
                <a:spcPts val="4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Times New Roman"/>
              </a:rPr>
              <a:t>dislike: valores 3, 4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Times New Roman"/>
              </a:rPr>
              <a:t>Agora pode-se aplicar praticamente qualquer algoritmo de machine learning!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9FB-BC3D-4D7E-8A75-0025EBD8BF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52280" y="52578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blema: O número de dimensões é muito grande! (Proporcional ao número de usuários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141200" y="1600200"/>
            <a:ext cx="6850800" cy="3595680"/>
            <a:chOff x="1141200" y="1600200"/>
            <a:chExt cx="6850800" cy="3595680"/>
          </a:xfrm>
        </p:grpSpPr>
        <p:sp>
          <p:nvSpPr>
            <p:cNvPr id="405" name=""/>
            <p:cNvSpPr/>
            <p:nvPr/>
          </p:nvSpPr>
          <p:spPr>
            <a:xfrm>
              <a:off x="2048040" y="1690560"/>
              <a:ext cx="457200" cy="457200"/>
            </a:xfrm>
            <a:prstGeom prst="ellipse">
              <a:avLst/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48040" y="2300040"/>
              <a:ext cx="457200" cy="457200"/>
            </a:xfrm>
            <a:prstGeom prst="ellipse">
              <a:avLst/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48040" y="2909880"/>
              <a:ext cx="457200" cy="457200"/>
            </a:xfrm>
            <a:prstGeom prst="ellipse">
              <a:avLst/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48040" y="3519360"/>
              <a:ext cx="457200" cy="457200"/>
            </a:xfrm>
            <a:prstGeom prst="ellipse">
              <a:avLst/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48040" y="4128840"/>
              <a:ext cx="457200" cy="457200"/>
            </a:xfrm>
            <a:prstGeom prst="ellipse">
              <a:avLst/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48040" y="4738680"/>
              <a:ext cx="457200" cy="457200"/>
            </a:xfrm>
            <a:prstGeom prst="ellipse">
              <a:avLst/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24200" y="2757240"/>
              <a:ext cx="457200" cy="457200"/>
            </a:xfrm>
            <a:prstGeom prst="ellipse">
              <a:avLst/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24200" y="3824280"/>
              <a:ext cx="457200" cy="457200"/>
            </a:xfrm>
            <a:prstGeom prst="ellipse">
              <a:avLst/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48440" y="3214440"/>
              <a:ext cx="457200" cy="457200"/>
            </a:xfrm>
            <a:prstGeom prst="ellipse">
              <a:avLst/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cxnSp>
          <p:nvCxnSpPr>
            <p:cNvPr id="414" name=""/>
            <p:cNvCxnSpPr>
              <a:stCxn id="405" idx="2"/>
            </p:cNvCxnSpPr>
            <p:nvPr/>
          </p:nvCxnSpPr>
          <p:spPr>
            <a:xfrm flipH="1">
              <a:off x="1285200" y="1918800"/>
              <a:ext cx="762840" cy="108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15" name=""/>
            <p:cNvCxnSpPr>
              <a:stCxn id="406" idx="2"/>
            </p:cNvCxnSpPr>
            <p:nvPr/>
          </p:nvCxnSpPr>
          <p:spPr>
            <a:xfrm flipH="1">
              <a:off x="1285200" y="2528280"/>
              <a:ext cx="762840" cy="108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16" name=""/>
            <p:cNvCxnSpPr>
              <a:stCxn id="407" idx="2"/>
            </p:cNvCxnSpPr>
            <p:nvPr/>
          </p:nvCxnSpPr>
          <p:spPr>
            <a:xfrm flipH="1">
              <a:off x="1285200" y="3138120"/>
              <a:ext cx="762840" cy="108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17" name=""/>
            <p:cNvCxnSpPr>
              <a:stCxn id="408" idx="2"/>
            </p:cNvCxnSpPr>
            <p:nvPr/>
          </p:nvCxnSpPr>
          <p:spPr>
            <a:xfrm flipH="1">
              <a:off x="1285200" y="3747600"/>
              <a:ext cx="762840" cy="108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18" name=""/>
            <p:cNvCxnSpPr>
              <a:stCxn id="409" idx="2"/>
            </p:cNvCxnSpPr>
            <p:nvPr/>
          </p:nvCxnSpPr>
          <p:spPr>
            <a:xfrm flipH="1">
              <a:off x="1285200" y="4357080"/>
              <a:ext cx="762840" cy="108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19" name=""/>
            <p:cNvCxnSpPr>
              <a:stCxn id="410" idx="2"/>
            </p:cNvCxnSpPr>
            <p:nvPr/>
          </p:nvCxnSpPr>
          <p:spPr>
            <a:xfrm flipH="1">
              <a:off x="1285200" y="4966920"/>
              <a:ext cx="762840" cy="108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sp>
          <p:nvSpPr>
            <p:cNvPr id="420" name=""/>
            <p:cNvSpPr/>
            <p:nvPr/>
          </p:nvSpPr>
          <p:spPr>
            <a:xfrm>
              <a:off x="1277640" y="1600200"/>
              <a:ext cx="691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3300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lik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41200" y="2224080"/>
              <a:ext cx="928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3300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dislik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85920" y="2757240"/>
              <a:ext cx="70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33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lik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41200" y="3443040"/>
              <a:ext cx="928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33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dislik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93480" y="4052880"/>
              <a:ext cx="691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3300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lik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41200" y="4662360"/>
              <a:ext cx="928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3300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dislik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cxnSp>
          <p:nvCxnSpPr>
            <p:cNvPr id="426" name=""/>
            <p:cNvCxnSpPr>
              <a:stCxn id="405" idx="6"/>
              <a:endCxn id="411" idx="1"/>
            </p:cNvCxnSpPr>
            <p:nvPr/>
          </p:nvCxnSpPr>
          <p:spPr>
            <a:xfrm>
              <a:off x="2505240" y="1919160"/>
              <a:ext cx="1286640" cy="90576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27" name=""/>
            <p:cNvCxnSpPr>
              <a:stCxn id="406" idx="6"/>
              <a:endCxn id="411" idx="2"/>
            </p:cNvCxnSpPr>
            <p:nvPr/>
          </p:nvCxnSpPr>
          <p:spPr>
            <a:xfrm>
              <a:off x="2505240" y="2528640"/>
              <a:ext cx="1219680" cy="45792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28" name=""/>
            <p:cNvCxnSpPr>
              <a:stCxn id="407" idx="6"/>
              <a:endCxn id="411" idx="2"/>
            </p:cNvCxnSpPr>
            <p:nvPr/>
          </p:nvCxnSpPr>
          <p:spPr>
            <a:xfrm flipV="1">
              <a:off x="2505240" y="2985480"/>
              <a:ext cx="1219680" cy="15336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29" name=""/>
            <p:cNvCxnSpPr>
              <a:stCxn id="408" idx="6"/>
              <a:endCxn id="411" idx="2"/>
            </p:cNvCxnSpPr>
            <p:nvPr/>
          </p:nvCxnSpPr>
          <p:spPr>
            <a:xfrm flipV="1">
              <a:off x="2505240" y="2985120"/>
              <a:ext cx="1219680" cy="76284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30" name=""/>
            <p:cNvCxnSpPr>
              <a:stCxn id="409" idx="6"/>
              <a:endCxn id="411" idx="3"/>
            </p:cNvCxnSpPr>
            <p:nvPr/>
          </p:nvCxnSpPr>
          <p:spPr>
            <a:xfrm flipV="1">
              <a:off x="2505240" y="3147480"/>
              <a:ext cx="1286640" cy="121032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31" name=""/>
            <p:cNvCxnSpPr>
              <a:stCxn id="410" idx="6"/>
              <a:endCxn id="411" idx="3"/>
            </p:cNvCxnSpPr>
            <p:nvPr/>
          </p:nvCxnSpPr>
          <p:spPr>
            <a:xfrm flipV="1">
              <a:off x="2505240" y="3147480"/>
              <a:ext cx="1286640" cy="182016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32" name=""/>
            <p:cNvCxnSpPr>
              <a:stCxn id="405" idx="6"/>
              <a:endCxn id="412" idx="1"/>
            </p:cNvCxnSpPr>
            <p:nvPr/>
          </p:nvCxnSpPr>
          <p:spPr>
            <a:xfrm>
              <a:off x="2505240" y="1918800"/>
              <a:ext cx="1286640" cy="197244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33" name=""/>
            <p:cNvCxnSpPr>
              <a:stCxn id="406" idx="6"/>
              <a:endCxn id="412" idx="2"/>
            </p:cNvCxnSpPr>
            <p:nvPr/>
          </p:nvCxnSpPr>
          <p:spPr>
            <a:xfrm>
              <a:off x="2505240" y="2528640"/>
              <a:ext cx="1219680" cy="152496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34" name=""/>
            <p:cNvCxnSpPr>
              <a:stCxn id="407" idx="6"/>
              <a:endCxn id="412" idx="2"/>
            </p:cNvCxnSpPr>
            <p:nvPr/>
          </p:nvCxnSpPr>
          <p:spPr>
            <a:xfrm>
              <a:off x="2505240" y="3138480"/>
              <a:ext cx="1219680" cy="91512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35" name=""/>
            <p:cNvCxnSpPr>
              <a:stCxn id="408" idx="6"/>
              <a:endCxn id="412" idx="2"/>
            </p:cNvCxnSpPr>
            <p:nvPr/>
          </p:nvCxnSpPr>
          <p:spPr>
            <a:xfrm>
              <a:off x="2505240" y="3747600"/>
              <a:ext cx="1219680" cy="30564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36" name=""/>
            <p:cNvCxnSpPr>
              <a:stCxn id="409" idx="6"/>
              <a:endCxn id="412" idx="3"/>
            </p:cNvCxnSpPr>
            <p:nvPr/>
          </p:nvCxnSpPr>
          <p:spPr>
            <a:xfrm flipV="1">
              <a:off x="2505240" y="4213800"/>
              <a:ext cx="1286640" cy="14364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37" name=""/>
            <p:cNvCxnSpPr>
              <a:stCxn id="410" idx="6"/>
              <a:endCxn id="412" idx="3"/>
            </p:cNvCxnSpPr>
            <p:nvPr/>
          </p:nvCxnSpPr>
          <p:spPr>
            <a:xfrm flipV="1">
              <a:off x="2505240" y="4213800"/>
              <a:ext cx="1286640" cy="75348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38" name=""/>
            <p:cNvCxnSpPr>
              <a:stCxn id="411" idx="6"/>
              <a:endCxn id="413" idx="2"/>
            </p:cNvCxnSpPr>
            <p:nvPr/>
          </p:nvCxnSpPr>
          <p:spPr>
            <a:xfrm>
              <a:off x="4181400" y="2985840"/>
              <a:ext cx="1067760" cy="45792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39" name=""/>
            <p:cNvCxnSpPr>
              <a:stCxn id="412" idx="6"/>
              <a:endCxn id="413" idx="2"/>
            </p:cNvCxnSpPr>
            <p:nvPr/>
          </p:nvCxnSpPr>
          <p:spPr>
            <a:xfrm flipV="1">
              <a:off x="4181400" y="3442680"/>
              <a:ext cx="1067760" cy="61056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cxnSp>
          <p:nvCxnSpPr>
            <p:cNvPr id="440" name=""/>
            <p:cNvCxnSpPr>
              <a:stCxn id="413" idx="6"/>
            </p:cNvCxnSpPr>
            <p:nvPr/>
          </p:nvCxnSpPr>
          <p:spPr>
            <a:xfrm>
              <a:off x="5705640" y="3442680"/>
              <a:ext cx="2286720" cy="1080"/>
            </a:xfrm>
            <a:prstGeom prst="straightConnector1">
              <a:avLst/>
            </a:prstGeom>
            <a:ln w="12600">
              <a:solidFill>
                <a:srgbClr val="003300"/>
              </a:solidFill>
              <a:miter/>
            </a:ln>
          </p:spPr>
        </p:cxnSp>
        <p:sp>
          <p:nvSpPr>
            <p:cNvPr id="441" name=""/>
            <p:cNvSpPr/>
            <p:nvPr/>
          </p:nvSpPr>
          <p:spPr>
            <a:xfrm>
              <a:off x="5798160" y="3062160"/>
              <a:ext cx="2186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3300"/>
                  </a:solidFill>
                  <a:latin typeface="Times New Roman"/>
                </a:rPr>
                <a:t>1 - U</a:t>
              </a:r>
              <a:r>
                <a:rPr b="0" lang="pt-BR" sz="1600" spc="-1" strike="noStrike" baseline="-25000">
                  <a:solidFill>
                    <a:srgbClr val="003300"/>
                  </a:solidFill>
                  <a:latin typeface="Times New Roman"/>
                </a:rPr>
                <a:t>4</a:t>
              </a:r>
              <a:r>
                <a:rPr b="0" lang="pt-BR" sz="1600" spc="-1" strike="noStrike">
                  <a:solidFill>
                    <a:srgbClr val="003300"/>
                  </a:solidFill>
                  <a:latin typeface="Times New Roman"/>
                </a:rPr>
                <a:t> like; 0 - U</a:t>
              </a:r>
              <a:r>
                <a:rPr b="0" lang="pt-BR" sz="1600" spc="-1" strike="noStrike" baseline="-25000">
                  <a:solidFill>
                    <a:srgbClr val="003300"/>
                  </a:solidFill>
                  <a:latin typeface="Times New Roman"/>
                </a:rPr>
                <a:t>4</a:t>
              </a:r>
              <a:r>
                <a:rPr b="0" lang="pt-BR" sz="1600" spc="-1" strike="noStrike">
                  <a:solidFill>
                    <a:srgbClr val="003300"/>
                  </a:solidFill>
                  <a:latin typeface="Times New Roman"/>
                </a:rPr>
                <a:t> dislik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32000" y="4395600"/>
              <a:ext cx="2131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Classificador para U</a:t>
              </a:r>
              <a:r>
                <a:rPr b="0" lang="en-US" sz="1800" spc="-1" strike="noStrike" baseline="-25000">
                  <a:solidFill>
                    <a:srgbClr val="0033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A9B-30FD-4D33-98FC-ADFA4E04FD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Solução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Usar um método de redução de dimensões e utilizar redes neurais no espaço reduzid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Foi mostrado que Singular Value Decomposition (SVD) é adequado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Passo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Treinament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Converter os dados de treinamento (a matriz de notas) na matriz booleana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Reduzir a dimensão dos dados de treinamento para k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Treinar a rede neural usando os vetores transformado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254-183E-4B98-B18A-54FCF2F466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Passos (cont.)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Sugestã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Converter as notas do item em um vetor booleano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Transformar o vetor para o espaço k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Colocar o vetor como entrada na rede neural para computar a previsão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459-A71E-4DF7-ACB7-81DB327430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F com mineração de Regras de Associaçã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Regras de Associaçã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São regras proposicionais que identificam associações entre atributos em um conjunto de transaçõe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Usada em mineração de dados para análise de ‘carrinhos de compras’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Valor de uma regr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Suporte: porcentagem das transações que contêm a premissa da regra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Confidência: do total de transações que contêm a premissa da regra qual a porcentagem que contêm a conclusão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87880" y="3581280"/>
            <a:ext cx="449712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(a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= v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(a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= v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THE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(a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= v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FEE-0AF5-4844-B298-BF058C8A2B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Mineração de Regra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Passos da mineraçã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Organizar os dados no formato transaciona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Definir suporte e confidência mínima das regra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Formar conjuntos de atributos (</a:t>
            </a:r>
            <a:r>
              <a:rPr b="0" i="1" lang="pt-BR" sz="2000" spc="-1" strike="noStrike">
                <a:solidFill>
                  <a:srgbClr val="003300"/>
                </a:solidFill>
                <a:latin typeface="Times New Roman"/>
              </a:rPr>
              <a:t>ItemSet</a:t>
            </a: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) que satisfaçam o suporte mínimo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Gerar regras, a partir dos </a:t>
            </a:r>
            <a:r>
              <a:rPr b="0" i="1" lang="pt-BR" sz="2000" spc="-1" strike="noStrike">
                <a:solidFill>
                  <a:srgbClr val="003300"/>
                </a:solidFill>
                <a:latin typeface="Times New Roman"/>
              </a:rPr>
              <a:t>ItemSet</a:t>
            </a: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, que satisfaçam a confidência mínima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304920" y="4054320"/>
            <a:ext cx="8610120" cy="1965600"/>
            <a:chOff x="304920" y="4054320"/>
            <a:chExt cx="8610120" cy="1965600"/>
          </a:xfrm>
        </p:grpSpPr>
        <p:sp>
          <p:nvSpPr>
            <p:cNvPr id="453" name=""/>
            <p:cNvSpPr/>
            <p:nvPr/>
          </p:nvSpPr>
          <p:spPr>
            <a:xfrm>
              <a:off x="304920" y="4054320"/>
              <a:ext cx="8610120" cy="1965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7720" y="4186800"/>
              <a:ext cx="8278920" cy="1708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1:tomate,alface,carne,arroz,alho,macarrão,refrigerante,aspirina,queijo,frauda,pasta de dente,pilha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2:maçã,cerveja,carne,chocolate,margarina,arroz,macarrão,açúcar,presunto,perfume,alho, sabonet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3:sabonete,pilha,suco,macarrão,carne,água sanitária, queijo,presunto,arroz,açúcar,refrigerant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4:chocolate,alho,sal,cerveja,refrigerante,iogurte,margarina, manteiga, carne,sabonete,pent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5:maçã, alho,carne,arroz,manteiga,pilha,iogurte,lápis,frauda,refrigerante,alface,sabonete,escova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6:carne,tangerina,queijo,presunto,arroz,alho,pilha,alface,chocolate,macarrão,papel,panela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838080" y="6172200"/>
            <a:ext cx="72392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arne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rroz 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=&gt;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alho (Suporte = 30% , Confidencia = 90%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92D-8FE3-4D2C-9BD5-8F452101448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Adaptação dos algoritmo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lgoritmo de mineraçã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APRIORI, DIS, CBA-R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geram qualquer conjunto de atributos na conclusão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Regras em Filtragem Colaborati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devem classificar o usuário alv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onclusão da regra fix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daptaçã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usar algoritmos de mineração de regras de associação para tarefa de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classificação associativa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restringir o tipo de regras que podem ser gerada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138-D148-415E-83FD-7D982514F3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Mineração de regras para CF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Mapear a matriz de avaliação no formato transacion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rcRect l="26388" t="48152" r="19445" b="26854"/>
          <a:stretch/>
        </p:blipFill>
        <p:spPr>
          <a:xfrm>
            <a:off x="228600" y="2209680"/>
            <a:ext cx="5105520" cy="17686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4724280" y="4343400"/>
            <a:ext cx="4343400" cy="92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: U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= gosta,U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= não gosta,U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= gosta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: U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= não gosta, U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= gosta,U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= não gosta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: U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= não gosta, U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= não gosta,U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= não gosta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486400" y="2666880"/>
            <a:ext cx="2057400" cy="1524240"/>
            <a:chOff x="5486400" y="2666880"/>
            <a:chExt cx="2057400" cy="1524240"/>
          </a:xfrm>
        </p:grpSpPr>
        <p:sp>
          <p:nvSpPr>
            <p:cNvPr id="463" name=""/>
            <p:cNvSpPr/>
            <p:nvPr/>
          </p:nvSpPr>
          <p:spPr>
            <a:xfrm rot="5400000">
              <a:off x="5410080" y="3124080"/>
              <a:ext cx="1143000" cy="9907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00800" y="2666880"/>
              <a:ext cx="1143000" cy="533520"/>
            </a:xfrm>
            <a:prstGeom prst="rect">
              <a:avLst/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&gt;3 Gosta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&lt;4 Não gosta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 rot="10797600">
            <a:off x="4571640" y="5410080"/>
            <a:ext cx="1143000" cy="9907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bae6c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" y="5837400"/>
            <a:ext cx="3886200" cy="74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IF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U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= gosta </a:t>
            </a: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THEN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U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= gosta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(suporte = 100% confidência = 100%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-228600" y="4038480"/>
            <a:ext cx="4800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Definir transações para U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As regras geradas para U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serão usadas para gerar recomendações apenas para este usuário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A96-8446-4042-81C7-2C02517DDB3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Usando as regras para recomenda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Passo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As regras do usuário são testadas para os iten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ada item que uma regra dispara recebe o valor da regra disparada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onfidência x suport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O escore dos itens será o somatório dos valores das regras que dispararam para aquele item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ugestã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os itens com maiores escor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700-B331-4AB2-AA1F-64FD95FF26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Information filter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Compreend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Encontrar informações importantes (filtering in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Eliminar informações irrelevantes (filtering out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Técnicas de filtragem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Econômic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Cogniti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Soci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469-8211-49A7-A2D6-003A62B4B6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F com mineração de Regras de Associaçã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Vantagen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Eficiente nas recomendaçõe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apacidade de associar o perfil de múltiplos usuários para identificar as características de um usuário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Desvantagen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Mineração de regras de associação é uma tarefa demorada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ara usuários diferenciados ou com poucas avaliações é difícil gerar regras suficiente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8E1-380A-4B0C-9EA7-FA963E4C357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Collaborative Filter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Independência do item a ser filtrad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Os atributos dos itens não precisam ser determinado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Podem ser recomendados itens que têm conteúdo bem diferente aos já conhecidos pelos usuário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Baseado no julgamento de humano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Não possuem dificuldade quanto a sinônimos, polisemia e contexto para avaliação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Julgamento em outras dimensões: qualidade, reputação, renom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F408-E539-489D-8B68-459DEBC6996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Collaborative Filter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Problema na recomendação de itens novo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Usuário incomum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Número de usuários insuficient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Número insuficiente de itens avaliados pelo usuári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rcRect l="1002" t="18143" r="89201" b="67705"/>
          <a:stretch/>
        </p:blipFill>
        <p:spPr>
          <a:xfrm>
            <a:off x="4267080" y="2438280"/>
            <a:ext cx="83844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37C-79D4-4E63-B156-19874E1A481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Usando o que cada um tem de melho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552760" y="2057400"/>
            <a:ext cx="4038120" cy="4038480"/>
            <a:chOff x="2552760" y="2057400"/>
            <a:chExt cx="4038120" cy="4038480"/>
          </a:xfrm>
        </p:grpSpPr>
        <p:sp>
          <p:nvSpPr>
            <p:cNvPr id="479" name=""/>
            <p:cNvSpPr/>
            <p:nvPr/>
          </p:nvSpPr>
          <p:spPr>
            <a:xfrm rot="5400000">
              <a:off x="2533680" y="2076120"/>
              <a:ext cx="4038480" cy="40003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6200000">
              <a:off x="2571480" y="2076480"/>
              <a:ext cx="4038480" cy="40003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ffc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 rot="16107000">
              <a:off x="2109240" y="3833640"/>
              <a:ext cx="2800440" cy="618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8683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llaborative Filter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 rot="5430600">
              <a:off x="4052160" y="3909960"/>
              <a:ext cx="2952720" cy="313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375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ntent-based Filter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Itens com atributos não trivia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Recomendação de itens interessantes sem conteúdo diretamente relacionado ao histórico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Julgamento em muitas dimensõ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294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Sem problemas de latência para itens novo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Bons resultados mesmo para usuários incomu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Times New Roman"/>
              </a:rPr>
              <a:t>Precisão independente do número de usuário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1E5-6488-4398-8A42-ED839554760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studo de Caso: PTV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Problema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TV com programação cada vez maior e mais diversificada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Os mais diversos assuntos e gostos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Soluçã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Guias de TV digitai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Sky: 60 canais e 140 telas de programação por dia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Guias de TV personalizados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87" name="splash" descr=""/>
          <p:cNvPicPr/>
          <p:nvPr/>
        </p:nvPicPr>
        <p:blipFill>
          <a:blip r:embed="rId1"/>
          <a:stretch/>
        </p:blipFill>
        <p:spPr>
          <a:xfrm>
            <a:off x="5791320" y="54864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88" name="PT" descr=""/>
          <p:cNvPicPr/>
          <p:nvPr/>
        </p:nvPicPr>
        <p:blipFill>
          <a:blip r:embed="rId2"/>
          <a:stretch/>
        </p:blipFill>
        <p:spPr>
          <a:xfrm>
            <a:off x="0" y="533520"/>
            <a:ext cx="119052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595-F088-42FC-B314-D38842CF4BC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Arquitetura PTV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ptv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02732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E74-08D5-4648-A359-995DC4C0EC9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Feedback do usuári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Guias recebidos por e-mail ou celular (WAP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3880" y="3276720"/>
            <a:ext cx="5943600" cy="733320"/>
            <a:chOff x="1523880" y="3276720"/>
            <a:chExt cx="5943600" cy="733320"/>
          </a:xfrm>
        </p:grpSpPr>
        <p:pic>
          <p:nvPicPr>
            <p:cNvPr id="494" name="" descr=""/>
            <p:cNvPicPr/>
            <p:nvPr/>
          </p:nvPicPr>
          <p:blipFill>
            <a:blip r:embed="rId1"/>
            <a:stretch/>
          </p:blipFill>
          <p:spPr>
            <a:xfrm>
              <a:off x="1523880" y="3276720"/>
              <a:ext cx="488628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6368760" y="3367080"/>
              <a:ext cx="1098720" cy="457200"/>
            </a:xfrm>
            <a:prstGeom prst="wedgeRoundRectCallout">
              <a:avLst>
                <a:gd name="adj1" fmla="val -69097"/>
                <a:gd name="adj2" fmla="val -45694"/>
                <a:gd name="adj3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00"/>
                  </a:solidFill>
                  <a:latin typeface="Times New Roman"/>
                </a:rPr>
                <a:t>Para dar a nota no programa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2514600" y="4495680"/>
            <a:ext cx="1550880" cy="198144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4267080" y="4495680"/>
            <a:ext cx="15512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F47D-EB5E-406D-B668-2F8370FF729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Representação do perfil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Profile schema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sumário da preferência de programação de um usuário baseado nos programas avaliados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3352680"/>
            <a:ext cx="2667240" cy="318096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00"/>
                </a:solidFill>
                <a:latin typeface="Times New Roman"/>
              </a:rPr>
              <a:t>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Genre: Medica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            </a:t>
            </a: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Dram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Country: US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Language: English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Cast: Anthon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          </a:t>
            </a: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Edward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00600" y="3352680"/>
            <a:ext cx="2666880" cy="318096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00"/>
                </a:solidFill>
                <a:latin typeface="Times New Roman"/>
              </a:rPr>
              <a:t>Iva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Genre: Comedi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            </a:t>
            </a: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Dram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Country: US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Language: Portuguê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Cast: Jim Carr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         </a:t>
            </a: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Megg Rya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9F2-F04A-4D99-A9B8-1DBF2EDC91F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imilaridad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Filtro baseado em conteúdo (CBR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PrgSim(Schema(u),p)=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Filtro colaborativ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PrfSim(u,u’) =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PrgRank(p,u) =       PrfSim(u,u’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648320" y="2438280"/>
                <a:ext cx="33526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Schem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267080" y="4267080"/>
                <a:ext cx="297180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t xml:space="preserve">∪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u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u</m:t>
                                    </m:r>
                                  </m:sup>
                                </m:sSubSup>
                                <m:r>
                                  <m:t xml:space="preserve">'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t xml:space="preserve">∪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19720" y="5943600"/>
                <a:ext cx="677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u</m:t>
                        </m:r>
                        <m:r>
                          <m:t xml:space="preserve">∈</m:t>
                        </m:r>
                        <m:r>
                          <m:t xml:space="preserve">U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3E8-A65F-4FB7-A9BA-A6F748B872C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Referência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2280" y="1848960"/>
            <a:ext cx="8763120" cy="46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Billsus, D. and Pazzani, M. J.  Learning collaborative information filters. In </a:t>
            </a:r>
            <a:r>
              <a:rPr b="0" i="1" lang="en-GB" sz="1400" spc="-1" strike="noStrike">
                <a:solidFill>
                  <a:srgbClr val="003300"/>
                </a:solidFill>
                <a:latin typeface="Times New Roman"/>
              </a:rPr>
              <a:t>Proceedings of the 1998 Workshop on Recommender Systems</a:t>
            </a: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. AAAI Press, August 1998.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Herlocker, J., Konstan, J., Borchers, A., Riedl, J..  An Algorithmic Framework for Performing Collaborative Filtering. In </a:t>
            </a:r>
            <a:r>
              <a:rPr b="0" i="1" lang="en-GB" sz="1400" spc="-1" strike="noStrike">
                <a:solidFill>
                  <a:srgbClr val="003300"/>
                </a:solidFill>
                <a:latin typeface="Times New Roman"/>
              </a:rPr>
              <a:t>Proceedings of the 1999 Conference on Research and Development in Information Retrieval</a:t>
            </a: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. Aug. 1999.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Lin, W.-Y., Alvarez, S.A., Ruiz, C.,  Collaborative Recommendation via Adaptive Asociation Rule Mining, </a:t>
            </a:r>
            <a:r>
              <a:rPr b="0" i="1" lang="en-GB" sz="1400" spc="-1" strike="noStrike">
                <a:solidFill>
                  <a:srgbClr val="003300"/>
                </a:solidFill>
                <a:latin typeface="Times New Roman"/>
              </a:rPr>
              <a:t>KDD-2000 Workshop on Web Mining for E-Commerce</a:t>
            </a: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, Boston, MA, Aug. 2000.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Resnick, P., Iacovou, N., Suchak, M., Bergstrom, P., and Riedl, J. GroupLens: An open architecture for collaborative filtering of netnews. In </a:t>
            </a:r>
            <a:r>
              <a:rPr b="0" i="1" lang="en-GB" sz="1400" spc="-1" strike="noStrike">
                <a:solidFill>
                  <a:srgbClr val="003300"/>
                </a:solidFill>
                <a:latin typeface="Times New Roman"/>
              </a:rPr>
              <a:t>Proceedings of the ACM Conference on Computer-Supported Cooperative Work</a:t>
            </a: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 (Chapel Hill, NC) 1994.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Sarwar, B. M., Karypis, G., Konstan, J. A., and Riedl, J.  Analysis of Recommender Algorithms for E-Commerce. </a:t>
            </a:r>
            <a:r>
              <a:rPr b="0" i="1" lang="en-GB" sz="1400" spc="-1" strike="noStrike">
                <a:solidFill>
                  <a:srgbClr val="003300"/>
                </a:solidFill>
                <a:latin typeface="Times New Roman"/>
              </a:rPr>
              <a:t>ACM E-Commerce 2000 Conference. </a:t>
            </a: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Oct. 17-20, 2000.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Shardanand, U. and Maes, P. Social information filtering: Algorithms for automating ‘word of mouth’. In </a:t>
            </a:r>
            <a:r>
              <a:rPr b="0" i="1" lang="en-GB" sz="1400" spc="-1" strike="noStrike">
                <a:solidFill>
                  <a:srgbClr val="003300"/>
                </a:solidFill>
                <a:latin typeface="Times New Roman"/>
              </a:rPr>
              <a:t>Proceedings of the Conference on Human Factors in Computing Systems</a:t>
            </a: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 (CHI95). ACM Press, New York, N.Y., (1995): 210-217.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Smyth, B., and Cotter, P. A personalized television listings service. </a:t>
            </a:r>
            <a:r>
              <a:rPr b="0" i="1" lang="en-GB" sz="1400" spc="-1" strike="noStrike">
                <a:solidFill>
                  <a:srgbClr val="003300"/>
                </a:solidFill>
                <a:latin typeface="Times New Roman"/>
              </a:rPr>
              <a:t>Commun. ACM 43</a:t>
            </a: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, 8 (Aug. 2000) 107-111.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Smyth, B., and Cotter, P. Surfing the digital wave: Generating personalised TV listings using collaborative, case-based recommendation. In </a:t>
            </a:r>
            <a:r>
              <a:rPr b="0" i="1" lang="en-GB" sz="1400" spc="-1" strike="noStrike">
                <a:solidFill>
                  <a:srgbClr val="003300"/>
                </a:solidFill>
                <a:latin typeface="Times New Roman"/>
              </a:rPr>
              <a:t>Proceedings of the International Conference on Case-Based Reasoning</a:t>
            </a: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 (Munich, 1999).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E72D-4A99-4B5F-82D6-743E1DB1D61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Filtragem econômica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Baseada na relação custo/benefício de produção e consumo de um item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Exemplo: Filtro econômico para e-mai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Uma mensagem postada para muitos destinatários tem um baixo custo de produção por endereço, então deve receber baixa prioridad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Por outro lado, uma mensagem enviada exclusivamente para o endereço de um usuário tem alto custo de produção, então deve receber maior prioridad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E80-F08F-4DE2-A53C-8A35CBCF64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Filtragem cognitiva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Baseada no conteúdo (content based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Recomenda itens para o usuário baseado na correlação entre o conteúdo dos itens e as preferências do usuário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Exemplo: relacionar a presença de palavras-chave num artigo com o perfil do usuário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O perfil do usuário pode ser atualizado automaticamente de acordo com o feedback relativo aos itens selecionados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F94-C52A-4A38-9A9F-3B0F36E6BB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d54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7170-53A6-4A8B-9EE5-A7C56CE21F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3080" y="15228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Técnicas Baseadas no Conteúd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06720" y="762120"/>
            <a:ext cx="3379680" cy="457200"/>
            <a:chOff x="2106720" y="762120"/>
            <a:chExt cx="3379680" cy="457200"/>
          </a:xfrm>
        </p:grpSpPr>
        <p:sp>
          <p:nvSpPr>
            <p:cNvPr id="112" name=""/>
            <p:cNvSpPr/>
            <p:nvPr/>
          </p:nvSpPr>
          <p:spPr>
            <a:xfrm>
              <a:off x="2106720" y="838080"/>
              <a:ext cx="162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bjetos (dados)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9907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2520" y="83808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9880" y="9907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91120" y="83808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38480" y="7621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9907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9720" y="106668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7621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9907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11430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57800" y="7621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800" y="9144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05520" y="83808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5520" y="990720"/>
              <a:ext cx="759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0080" y="9907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4120" y="106668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0080" y="7621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9907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294360" y="1218960"/>
            <a:ext cx="5475960" cy="1600560"/>
            <a:chOff x="3294360" y="1218960"/>
            <a:chExt cx="5475960" cy="1600560"/>
          </a:xfrm>
        </p:grpSpPr>
        <p:grpSp>
          <p:nvGrpSpPr>
            <p:cNvPr id="132" name=""/>
            <p:cNvGrpSpPr/>
            <p:nvPr/>
          </p:nvGrpSpPr>
          <p:grpSpPr>
            <a:xfrm>
              <a:off x="3294360" y="1218960"/>
              <a:ext cx="5475960" cy="1600560"/>
              <a:chOff x="3294360" y="1218960"/>
              <a:chExt cx="5475960" cy="1600560"/>
            </a:xfrm>
          </p:grpSpPr>
          <p:sp>
            <p:nvSpPr>
              <p:cNvPr id="133" name=""/>
              <p:cNvSpPr/>
              <p:nvPr/>
            </p:nvSpPr>
            <p:spPr>
              <a:xfrm rot="16200000">
                <a:off x="4546800" y="495000"/>
                <a:ext cx="152280" cy="160020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94360" y="1390680"/>
                <a:ext cx="270144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clustering</a:t>
                </a:r>
                <a:r>
                  <a:rPr b="0" lang="pt-BR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Arial"/>
                  </a:rPr>
                  <a:t>(ap. não-supervisionada)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1440" y="243828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75120" y="22860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22840" y="243828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203720" y="22860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051440" y="220968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84600" y="24382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32320" y="25146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84600" y="22096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37240" y="243828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440" y="259092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270400" y="22096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70400" y="2362320"/>
                <a:ext cx="76320" cy="75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118120" y="22860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118120" y="24382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23040" y="243828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46720" y="25146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23040" y="220968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70400" y="24382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746520" y="2133720"/>
                <a:ext cx="609480" cy="53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65840" y="213372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356000" y="2133720"/>
                <a:ext cx="533520" cy="6094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38080" y="1447920"/>
                <a:ext cx="2532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3fcb2"/>
                    </a:solidFill>
                    <a:latin typeface="Arial"/>
                  </a:rPr>
                  <a:t>Redes neurais, agrupamento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3fcb2"/>
                    </a:solidFill>
                    <a:latin typeface="Arial"/>
                  </a:rPr>
                  <a:t>conceitual, estatítica, ...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3729240" y="2147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5200" y="213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592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7520" y="2895480"/>
            <a:ext cx="5644080" cy="2104920"/>
            <a:chOff x="47520" y="2895480"/>
            <a:chExt cx="5644080" cy="2104920"/>
          </a:xfrm>
        </p:grpSpPr>
        <p:sp>
          <p:nvSpPr>
            <p:cNvPr id="161" name=""/>
            <p:cNvSpPr/>
            <p:nvPr/>
          </p:nvSpPr>
          <p:spPr>
            <a:xfrm rot="16200000">
              <a:off x="4546440" y="2171520"/>
              <a:ext cx="152640" cy="1600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6400" y="3733920"/>
              <a:ext cx="24958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dução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- geração de 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m classificado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4" idx="2"/>
              <a:endCxn id="162" idx="0"/>
            </p:cNvCxnSpPr>
            <p:nvPr/>
          </p:nvCxnSpPr>
          <p:spPr>
            <a:xfrm rot="5400000">
              <a:off x="3183120" y="2272320"/>
              <a:ext cx="243720" cy="2680560"/>
            </a:xfrm>
            <a:prstGeom prst="bentConnector3">
              <a:avLst>
                <a:gd name="adj1" fmla="val 49556"/>
              </a:avLst>
            </a:prstGeom>
            <a:ln w="28440">
              <a:solidFill>
                <a:srgbClr val="808000"/>
              </a:solidFill>
              <a:miter/>
              <a:tailEnd len="sm" type="triangle" w="sm"/>
            </a:ln>
          </p:spPr>
        </p:cxnSp>
        <p:sp>
          <p:nvSpPr>
            <p:cNvPr id="164" name=""/>
            <p:cNvSpPr/>
            <p:nvPr/>
          </p:nvSpPr>
          <p:spPr>
            <a:xfrm>
              <a:off x="3598200" y="3124080"/>
              <a:ext cx="20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ap. supervisionada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520" y="4419720"/>
              <a:ext cx="424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Classificador (árvore de decisão, conjunto de</a:t>
              </a:r>
              <a:br>
                <a:rPr sz="1600"/>
              </a:b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regras, redes neurais c/ pesos ajustados,...)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8120" y="380700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3fcb2"/>
                  </a:solidFill>
                  <a:latin typeface="Arial"/>
                </a:rPr>
                <a:t>ID3, Version space, redes neurais, naive bayes...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645080" y="3490560"/>
            <a:ext cx="2730600" cy="855000"/>
            <a:chOff x="4645080" y="3490560"/>
            <a:chExt cx="2730600" cy="855000"/>
          </a:xfrm>
        </p:grpSpPr>
        <p:sp>
          <p:nvSpPr>
            <p:cNvPr id="168" name=""/>
            <p:cNvSpPr/>
            <p:nvPr/>
          </p:nvSpPr>
          <p:spPr>
            <a:xfrm>
              <a:off x="5495760" y="3733920"/>
              <a:ext cx="1879920" cy="368280"/>
            </a:xfrm>
            <a:prstGeom prst="rect">
              <a:avLst/>
            </a:prstGeom>
            <a:solidFill>
              <a:srgbClr val="3d5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eguiçosa (IBL)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64" idx="2"/>
              <a:endCxn id="168" idx="0"/>
            </p:cNvCxnSpPr>
            <p:nvPr/>
          </p:nvCxnSpPr>
          <p:spPr>
            <a:xfrm flipH="1" rot="16200000">
              <a:off x="5418720" y="2716560"/>
              <a:ext cx="243720" cy="1791360"/>
            </a:xfrm>
            <a:prstGeom prst="bentConnector3">
              <a:avLst>
                <a:gd name="adj1" fmla="val 49556"/>
              </a:avLst>
            </a:prstGeom>
            <a:ln w="28440">
              <a:solidFill>
                <a:srgbClr val="808000"/>
              </a:solidFill>
              <a:miter/>
              <a:tailEnd len="sm" type="triangle" w="sm"/>
            </a:ln>
          </p:spPr>
        </p:cxnSp>
        <p:sp>
          <p:nvSpPr>
            <p:cNvPr id="170" name=""/>
            <p:cNvSpPr/>
            <p:nvPr/>
          </p:nvSpPr>
          <p:spPr>
            <a:xfrm>
              <a:off x="5943240" y="40384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3fcb2"/>
                  </a:solidFill>
                  <a:latin typeface="Arial"/>
                </a:rPr>
                <a:t>Knn, CBR,</a:t>
              </a:r>
              <a:r>
                <a:rPr b="0" lang="pt-BR" sz="1400" spc="-1" strike="noStrike">
                  <a:solidFill>
                    <a:srgbClr val="8bae6c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281560" y="2514600"/>
            <a:ext cx="3707640" cy="2592360"/>
            <a:chOff x="5281560" y="2514600"/>
            <a:chExt cx="3707640" cy="2592360"/>
          </a:xfrm>
        </p:grpSpPr>
        <p:grpSp>
          <p:nvGrpSpPr>
            <p:cNvPr id="172" name=""/>
            <p:cNvGrpSpPr/>
            <p:nvPr/>
          </p:nvGrpSpPr>
          <p:grpSpPr>
            <a:xfrm>
              <a:off x="5791320" y="2514600"/>
              <a:ext cx="1352160" cy="2209320"/>
              <a:chOff x="5791320" y="2514600"/>
              <a:chExt cx="1352160" cy="2209320"/>
            </a:xfrm>
          </p:grpSpPr>
          <p:sp>
            <p:nvSpPr>
              <p:cNvPr id="173" name=""/>
              <p:cNvSpPr/>
              <p:nvPr/>
            </p:nvSpPr>
            <p:spPr>
              <a:xfrm>
                <a:off x="5791320" y="2514600"/>
                <a:ext cx="1352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143480" y="2514600"/>
                <a:ext cx="0" cy="220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524560" y="48769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81560" y="455616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ovo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29480" y="4952880"/>
              <a:ext cx="533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72000" y="4738680"/>
              <a:ext cx="1118160" cy="368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goritmo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24720" y="4952880"/>
              <a:ext cx="533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58600" y="4495680"/>
              <a:ext cx="75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lass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84080" y="472428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,2 ou 3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61800">
              <a:off x="6930000" y="2736000"/>
              <a:ext cx="10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K em 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xtensão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14200" y="5052600"/>
            <a:ext cx="4069800" cy="1380600"/>
            <a:chOff x="214200" y="5052600"/>
            <a:chExt cx="4069800" cy="1380600"/>
          </a:xfrm>
        </p:grpSpPr>
        <p:grpSp>
          <p:nvGrpSpPr>
            <p:cNvPr id="184" name=""/>
            <p:cNvGrpSpPr/>
            <p:nvPr/>
          </p:nvGrpSpPr>
          <p:grpSpPr>
            <a:xfrm>
              <a:off x="214200" y="5052600"/>
              <a:ext cx="4069800" cy="1079640"/>
              <a:chOff x="214200" y="5052600"/>
              <a:chExt cx="4069800" cy="1079640"/>
            </a:xfrm>
          </p:grpSpPr>
          <p:sp>
            <p:nvSpPr>
              <p:cNvPr id="185" name=""/>
              <p:cNvSpPr/>
              <p:nvPr/>
            </p:nvSpPr>
            <p:spPr>
              <a:xfrm rot="16160400">
                <a:off x="1917720" y="4149360"/>
                <a:ext cx="152280" cy="198108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51480 h 1981080"/>
                  <a:gd name="textAreaBottom" fmla="*/ 1929600 h 19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298160" y="5292720"/>
                <a:ext cx="146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dentificação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57200" y="58258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14200" y="5505480"/>
                <a:ext cx="62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ovo</a:t>
                </a:r>
                <a:endParaRPr b="0" lang="en-US" sz="1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62120" y="5902200"/>
                <a:ext cx="533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05000" y="5688000"/>
                <a:ext cx="143496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lassificador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43200" y="5902200"/>
                <a:ext cx="5335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53040" y="5445000"/>
                <a:ext cx="75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lasse</a:t>
                </a:r>
                <a:endParaRPr b="0" lang="en-US" sz="1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78880" y="5763960"/>
                <a:ext cx="100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,2 ou 3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297080" y="6095880"/>
              <a:ext cx="147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K em intenção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ID3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52640" y="1600200"/>
            <a:ext cx="2742840" cy="2666880"/>
            <a:chOff x="152640" y="1600200"/>
            <a:chExt cx="2742840" cy="2666880"/>
          </a:xfrm>
        </p:grpSpPr>
        <p:sp>
          <p:nvSpPr>
            <p:cNvPr id="197" name=""/>
            <p:cNvSpPr/>
            <p:nvPr/>
          </p:nvSpPr>
          <p:spPr>
            <a:xfrm>
              <a:off x="228600" y="1981080"/>
              <a:ext cx="2666880" cy="2286000"/>
            </a:xfrm>
            <a:prstGeom prst="ellipse">
              <a:avLst/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8080" y="2666880"/>
              <a:ext cx="304920" cy="381240"/>
            </a:xfrm>
            <a:prstGeom prst="rect">
              <a:avLst/>
            </a:prstGeom>
            <a:solidFill>
              <a:srgbClr val="f3fcb2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19320" y="2666880"/>
              <a:ext cx="304560" cy="381240"/>
            </a:xfrm>
            <a:prstGeom prst="rect">
              <a:avLst/>
            </a:prstGeom>
            <a:solidFill>
              <a:srgbClr val="f3fcb2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00200" y="2666880"/>
              <a:ext cx="304920" cy="381240"/>
            </a:xfrm>
            <a:prstGeom prst="rect">
              <a:avLst/>
            </a:prstGeom>
            <a:solidFill>
              <a:srgbClr val="f3fcb2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81080" y="2666880"/>
              <a:ext cx="304920" cy="381240"/>
            </a:xfrm>
            <a:prstGeom prst="rect">
              <a:avLst/>
            </a:prstGeom>
            <a:solidFill>
              <a:srgbClr val="f3fcb2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2209680"/>
              <a:ext cx="304920" cy="381240"/>
            </a:xfrm>
            <a:prstGeom prst="rect">
              <a:avLst/>
            </a:prstGeom>
            <a:solidFill>
              <a:srgbClr val="afc6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++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19320" y="2209680"/>
              <a:ext cx="304560" cy="381240"/>
            </a:xfrm>
            <a:prstGeom prst="rect">
              <a:avLst/>
            </a:prstGeom>
            <a:solidFill>
              <a:srgbClr val="afc6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++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00200" y="2209680"/>
              <a:ext cx="304920" cy="381240"/>
            </a:xfrm>
            <a:prstGeom prst="rect">
              <a:avLst/>
            </a:prstGeom>
            <a:solidFill>
              <a:srgbClr val="afc6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++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81080" y="2209680"/>
              <a:ext cx="304920" cy="381240"/>
            </a:xfrm>
            <a:prstGeom prst="rect">
              <a:avLst/>
            </a:prstGeom>
            <a:solidFill>
              <a:srgbClr val="afc6ff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++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8080" y="35812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- 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19320" y="3581280"/>
              <a:ext cx="30456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- 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00200" y="35812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- 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1080" y="35812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- 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080" y="31240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19320" y="3124080"/>
              <a:ext cx="30456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00200" y="31240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1080" y="3124080"/>
              <a:ext cx="304920" cy="3812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640" y="160020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Perfil do Usuário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1"/>
          <a:srcRect l="34027" t="31483" r="45140" b="48152"/>
          <a:stretch/>
        </p:blipFill>
        <p:spPr>
          <a:xfrm>
            <a:off x="6324480" y="2286000"/>
            <a:ext cx="22860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3124080" y="2035080"/>
            <a:ext cx="3048120" cy="861480"/>
            <a:chOff x="3124080" y="2035080"/>
            <a:chExt cx="3048120" cy="861480"/>
          </a:xfrm>
        </p:grpSpPr>
        <p:sp>
          <p:nvSpPr>
            <p:cNvPr id="217" name=""/>
            <p:cNvSpPr/>
            <p:nvPr/>
          </p:nvSpPr>
          <p:spPr>
            <a:xfrm>
              <a:off x="3124080" y="2209680"/>
              <a:ext cx="3048120" cy="457200"/>
            </a:xfrm>
            <a:prstGeom prst="rightArrow">
              <a:avLst>
                <a:gd name="adj1" fmla="val 50000"/>
                <a:gd name="adj2" fmla="val 166673"/>
              </a:avLst>
            </a:pr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34640" y="2035080"/>
              <a:ext cx="1389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Gera Árvore 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de Decisão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705360" y="4191120"/>
            <a:ext cx="1524240" cy="1084680"/>
            <a:chOff x="6705360" y="4191120"/>
            <a:chExt cx="1524240" cy="1084680"/>
          </a:xfrm>
        </p:grpSpPr>
        <p:sp>
          <p:nvSpPr>
            <p:cNvPr id="220" name=""/>
            <p:cNvSpPr/>
            <p:nvPr/>
          </p:nvSpPr>
          <p:spPr>
            <a:xfrm flipH="1">
              <a:off x="6705000" y="4191120"/>
              <a:ext cx="1523880" cy="609480"/>
            </a:xfrm>
            <a:custGeom>
              <a:avLst/>
              <a:gdLst>
                <a:gd name="textAreaLeft" fmla="*/ 266400 w 1523880"/>
                <a:gd name="textAreaRight" fmla="*/ 1104840 w 15238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1680" y="4876920"/>
              <a:ext cx="104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Item ???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24680" y="4876920"/>
              <a:ext cx="304920" cy="380880"/>
            </a:xfrm>
            <a:prstGeom prst="rect">
              <a:avLst/>
            </a:prstGeom>
            <a:solidFill>
              <a:srgbClr val="8dba76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2"/>
          <a:srcRect l="11806" t="39817" r="79863" b="49075"/>
          <a:stretch/>
        </p:blipFill>
        <p:spPr>
          <a:xfrm>
            <a:off x="4191120" y="525780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4647960" y="3580920"/>
            <a:ext cx="1796760" cy="1600200"/>
            <a:chOff x="4647960" y="3580920"/>
            <a:chExt cx="1796760" cy="1600200"/>
          </a:xfrm>
        </p:grpSpPr>
        <p:sp>
          <p:nvSpPr>
            <p:cNvPr id="225" name=""/>
            <p:cNvSpPr/>
            <p:nvPr/>
          </p:nvSpPr>
          <p:spPr>
            <a:xfrm>
              <a:off x="5180400" y="4038480"/>
              <a:ext cx="126432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Item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Recomendado!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4647600" y="3580560"/>
              <a:ext cx="1523880" cy="1600200"/>
            </a:xfrm>
            <a:custGeom>
              <a:avLst/>
              <a:gdLst>
                <a:gd name="textAreaLeft" fmla="*/ 516600 w 1523880"/>
                <a:gd name="textAreaRight" fmla="*/ 1225080 w 1523880"/>
                <a:gd name="textAreaTop" fmla="*/ 1005120 h 1600200"/>
                <a:gd name="textAreaBottom" fmla="*/ 12866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800"/>
                  </a:moveTo>
                  <a:lnTo>
                    <a:pt x="13570" y="17800"/>
                  </a:lnTo>
                  <a:lnTo>
                    <a:pt x="13570" y="7328"/>
                  </a:lnTo>
                  <a:lnTo>
                    <a:pt x="9340" y="7328"/>
                  </a:lnTo>
                  <a:lnTo>
                    <a:pt x="15470" y="0"/>
                  </a:lnTo>
                  <a:lnTo>
                    <a:pt x="21600" y="7328"/>
                  </a:lnTo>
                  <a:lnTo>
                    <a:pt x="17370" y="7328"/>
                  </a:lnTo>
                  <a:lnTo>
                    <a:pt x="1737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666880" y="3504960"/>
            <a:ext cx="1828800" cy="1600200"/>
            <a:chOff x="2666880" y="3504960"/>
            <a:chExt cx="1828800" cy="1600200"/>
          </a:xfrm>
        </p:grpSpPr>
        <p:sp>
          <p:nvSpPr>
            <p:cNvPr id="228" name=""/>
            <p:cNvSpPr/>
            <p:nvPr/>
          </p:nvSpPr>
          <p:spPr>
            <a:xfrm>
              <a:off x="3199680" y="4419720"/>
              <a:ext cx="89712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Item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imes New Roman"/>
                </a:rPr>
                <a:t>Avaliado!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2781000" y="3390480"/>
              <a:ext cx="1600200" cy="1828800"/>
            </a:xfrm>
            <a:custGeom>
              <a:avLst/>
              <a:gdLst>
                <a:gd name="textAreaLeft" fmla="*/ 540360 w 1600200"/>
                <a:gd name="textAreaRight" fmla="*/ 1290600 w 1600200"/>
                <a:gd name="textAreaTop" fmla="*/ 1144800 h 1828800"/>
                <a:gd name="textAreaBottom" fmla="*/ 147492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698"/>
                  </a:moveTo>
                  <a:lnTo>
                    <a:pt x="13519" y="17698"/>
                  </a:lnTo>
                  <a:lnTo>
                    <a:pt x="13519" y="7293"/>
                  </a:lnTo>
                  <a:lnTo>
                    <a:pt x="9340" y="7293"/>
                  </a:lnTo>
                  <a:lnTo>
                    <a:pt x="15470" y="0"/>
                  </a:lnTo>
                  <a:lnTo>
                    <a:pt x="21600" y="7293"/>
                  </a:lnTo>
                  <a:lnTo>
                    <a:pt x="17421" y="7293"/>
                  </a:lnTo>
                  <a:lnTo>
                    <a:pt x="1742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bae6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D78-CCF7-46DB-A0D4-440B0732B7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ID3 - Vantagen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Desvantage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Classificação rápida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Uma vez gerada a árvore, o item pode ser classificado percorrendo-se a árvor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Fácil de implementa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Admite exceçõ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Pouca expressividad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atributos numéricos, multi-valorados, múltiplos objeto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como ordenar itens a serem recomendados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00"/>
                </a:solidFill>
                <a:latin typeface="Times New Roman"/>
              </a:rPr>
              <a:t>Aprendizagem não increment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00"/>
                </a:solidFill>
                <a:latin typeface="Times New Roman"/>
              </a:rPr>
              <a:t>necessidade de atualização do classificado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CE5-275E-4906-BD17-89ACD68884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6:29:19Z</dcterms:created>
  <dc:creator>srmq</dc:creator>
  <dc:description/>
  <dc:language>en-US</dc:language>
  <cp:lastModifiedBy>Geber</cp:lastModifiedBy>
  <cp:lastPrinted>2001-04-04T18:30:38Z</cp:lastPrinted>
  <dcterms:modified xsi:type="dcterms:W3CDTF">2001-04-10T17:03:59Z</dcterms:modified>
  <cp:revision>77</cp:revision>
  <dc:subject/>
  <dc:title>Collaborative Filtering</dc:title>
</cp:coreProperties>
</file>