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_rels/notesSlide5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7071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6706800" cy="99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2"/>
          </p:nvPr>
        </p:nvSpPr>
        <p:spPr>
          <a:xfrm>
            <a:off x="380052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Img"/>
          </p:nvPr>
        </p:nvSpPr>
        <p:spPr>
          <a:xfrm>
            <a:off x="860040" y="750600"/>
            <a:ext cx="4986360" cy="374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6600"/>
                </a:solidFill>
                <a:latin typeface="Arial"/>
              </a:rPr>
              <a:t>Click to move the slide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body"/>
          </p:nvPr>
        </p:nvSpPr>
        <p:spPr>
          <a:xfrm>
            <a:off x="893520" y="4741560"/>
            <a:ext cx="4917960" cy="449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3"/>
          </p:nvPr>
        </p:nvSpPr>
        <p:spPr>
          <a:xfrm>
            <a:off x="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 type="sldNum" idx="4"/>
          </p:nvPr>
        </p:nvSpPr>
        <p:spPr>
          <a:xfrm>
            <a:off x="380052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9782-E9CA-49E9-975E-BB87B7D0F5A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 txBox="1"/>
          <p:nvPr/>
        </p:nvSpPr>
        <p:spPr>
          <a:xfrm>
            <a:off x="380052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966D-33AC-4088-A1B5-96817C76099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380052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911160" y="795240"/>
            <a:ext cx="4883040" cy="366264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893520" y="4729320"/>
            <a:ext cx="49179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868320" y="75564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893520" y="4741560"/>
            <a:ext cx="4917960" cy="449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É necessário uma linguagem que possa expressar precondições que definam medidas e um algoritmo planejador que trate eficientem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Uma forma é representar as instâncias no estado inicial: como por exemplo todas as moedas e notas. Através de decomposição seria possível enumerar as formas de se ter 1 dolar. Seria preciso cuidado com a restrições de desigualdade, ou seja, 2 dolares não poderiam ser representados como HAVE(d1) </a:t>
            </a:r>
            <a:r>
              <a:rPr b="0" lang="pt-BR" sz="1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(HAVE(d1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ssa forma está londe do ideal, pq em um exemplo onde o problema pedisse uma quantia de 1000000 e o planejador pudesse computar apenas 1000, esse tentaria através do backtrack, achar outro plano q alcançasse a soma desejada. O planejador iria gerar todas as combinações de moedas e notas que somariam 1000. Seria apenas uma perda de tempo. Isso pq a representação foi feita na identidade e não na quantida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80052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0362-B50D-47DB-B7E3-A867D0D307D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80052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911160" y="795240"/>
            <a:ext cx="4883040" cy="36626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893520" y="4729320"/>
            <a:ext cx="49179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860400" y="750960"/>
            <a:ext cx="4986360" cy="374004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893520" y="4741560"/>
            <a:ext cx="4917960" cy="449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pesar dos POP’s terem se mostrado mais eficientes q/ os resolvedores de problema, os POP’s só podem lidar c/ problemas  q/ são representados pela linguagem STRIPS, o q/ significa q/ eles só podem ser usados em pequenos problemas. Como disse no início os PP  são usados em domínios reais, q/ por sua vez são complexos. Por estes motivos, é natural q/ haja uma necessidade de extensão tanto da linguagem, c/ uma migração p/ outra q/ possa cobrir os buracos deixados pela STRIP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80052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178B-7419-44C6-B305-8FDFBD092FC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80052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911160" y="795240"/>
            <a:ext cx="4883040" cy="36626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893520" y="4729320"/>
            <a:ext cx="49179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 txBox="1"/>
          <p:nvPr/>
        </p:nvSpPr>
        <p:spPr>
          <a:xfrm>
            <a:off x="380052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EE6C-639E-467E-B8CA-35C5DB1FF84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380052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911160" y="795240"/>
            <a:ext cx="4883040" cy="366264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893520" y="4729320"/>
            <a:ext cx="49179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 txBox="1"/>
          <p:nvPr/>
        </p:nvSpPr>
        <p:spPr>
          <a:xfrm>
            <a:off x="380052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B7C1-CFCB-4976-A409-5F343399883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380052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911160" y="795240"/>
            <a:ext cx="4883040" cy="366264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893520" y="4729320"/>
            <a:ext cx="49179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 txBox="1"/>
          <p:nvPr/>
        </p:nvSpPr>
        <p:spPr>
          <a:xfrm>
            <a:off x="380052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2410-1F70-45A1-B168-0D0C88EE8EB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380052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911160" y="795240"/>
            <a:ext cx="4883040" cy="366264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893520" y="4729320"/>
            <a:ext cx="49179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 txBox="1"/>
          <p:nvPr/>
        </p:nvSpPr>
        <p:spPr>
          <a:xfrm>
            <a:off x="380052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245E-258E-4A9D-9134-899230E7EEC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380052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911160" y="795240"/>
            <a:ext cx="4883040" cy="366264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893520" y="4729320"/>
            <a:ext cx="49179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 txBox="1"/>
          <p:nvPr/>
        </p:nvSpPr>
        <p:spPr>
          <a:xfrm>
            <a:off x="380052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41CB-36FB-467E-8A3E-5DA22ACC2EC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380052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911160" y="795240"/>
            <a:ext cx="4883040" cy="366264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893520" y="4729320"/>
            <a:ext cx="49179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80052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0C5B-6789-4EF4-82B8-512E03EC3A6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80052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911160" y="795240"/>
            <a:ext cx="4883040" cy="36626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893520" y="4729320"/>
            <a:ext cx="49179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 txBox="1"/>
          <p:nvPr/>
        </p:nvSpPr>
        <p:spPr>
          <a:xfrm>
            <a:off x="380052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B659D-7D2F-40D1-8FF2-9BB0986FAB5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380052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911160" y="795240"/>
            <a:ext cx="4883040" cy="366264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893520" y="4729320"/>
            <a:ext cx="49179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80052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CF04-30B5-4FA4-A27E-71363EEB7D5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80052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860400" y="750960"/>
            <a:ext cx="4984920" cy="37386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893520" y="4741560"/>
            <a:ext cx="49179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 txBox="1"/>
          <p:nvPr/>
        </p:nvSpPr>
        <p:spPr>
          <a:xfrm>
            <a:off x="380052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DF99-7F3B-48A1-8E9B-C2659DEF20E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380052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860400" y="750960"/>
            <a:ext cx="4984920" cy="37386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893520" y="4741560"/>
            <a:ext cx="49179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 txBox="1"/>
          <p:nvPr/>
        </p:nvSpPr>
        <p:spPr>
          <a:xfrm>
            <a:off x="380052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9C98-3708-43BC-973C-6C550336E8E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380052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860400" y="750960"/>
            <a:ext cx="4984920" cy="37386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893520" y="4741560"/>
            <a:ext cx="49179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 txBox="1"/>
          <p:nvPr/>
        </p:nvSpPr>
        <p:spPr>
          <a:xfrm>
            <a:off x="380052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85B5-50E3-4E2E-B351-58F59B77485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380052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860400" y="750960"/>
            <a:ext cx="4984920" cy="37386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893520" y="4741560"/>
            <a:ext cx="49179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 txBox="1"/>
          <p:nvPr/>
        </p:nvSpPr>
        <p:spPr>
          <a:xfrm>
            <a:off x="380052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7198-02EB-48EF-B858-D75A0A91964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380052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860400" y="750960"/>
            <a:ext cx="4984920" cy="37386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893520" y="4741560"/>
            <a:ext cx="49179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80052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9D57-06AC-48CF-9197-AE9CC4A5304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80052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860400" y="750960"/>
            <a:ext cx="4984920" cy="37386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893520" y="4741560"/>
            <a:ext cx="49179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 txBox="1"/>
          <p:nvPr/>
        </p:nvSpPr>
        <p:spPr>
          <a:xfrm>
            <a:off x="380052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937A-D1BA-437F-8E1C-B1A461445DE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380052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860400" y="750960"/>
            <a:ext cx="4984920" cy="37386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893520" y="4741560"/>
            <a:ext cx="49179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 txBox="1"/>
          <p:nvPr/>
        </p:nvSpPr>
        <p:spPr>
          <a:xfrm>
            <a:off x="380052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1CFC-2A9D-4216-99BA-EC3453F183B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380052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860400" y="750960"/>
            <a:ext cx="4984920" cy="37386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893520" y="4741560"/>
            <a:ext cx="49179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 txBox="1"/>
          <p:nvPr/>
        </p:nvSpPr>
        <p:spPr>
          <a:xfrm>
            <a:off x="380052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FC82-CC9C-4535-85FE-F4E4332366D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 txBox="1"/>
          <p:nvPr/>
        </p:nvSpPr>
        <p:spPr>
          <a:xfrm>
            <a:off x="380052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860400" y="750960"/>
            <a:ext cx="4984920" cy="37386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893520" y="4741560"/>
            <a:ext cx="49179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 txBox="1"/>
          <p:nvPr/>
        </p:nvSpPr>
        <p:spPr>
          <a:xfrm>
            <a:off x="380052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640C-E6C4-46AD-8C6D-9935FB75248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 txBox="1"/>
          <p:nvPr/>
        </p:nvSpPr>
        <p:spPr>
          <a:xfrm>
            <a:off x="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80052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860400" y="750960"/>
            <a:ext cx="4984920" cy="37386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893520" y="4741560"/>
            <a:ext cx="49179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 txBox="1"/>
          <p:nvPr/>
        </p:nvSpPr>
        <p:spPr>
          <a:xfrm>
            <a:off x="380052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7A00-1052-49D6-9E97-C5D590888B0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 txBox="1"/>
          <p:nvPr/>
        </p:nvSpPr>
        <p:spPr>
          <a:xfrm>
            <a:off x="380052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860400" y="750960"/>
            <a:ext cx="4984920" cy="37386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893520" y="4741560"/>
            <a:ext cx="49179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 txBox="1"/>
          <p:nvPr/>
        </p:nvSpPr>
        <p:spPr>
          <a:xfrm>
            <a:off x="380052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B38F-89C0-4A38-9BFA-9E39C6B0A76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380052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860400" y="750960"/>
            <a:ext cx="4984920" cy="37386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893520" y="4741560"/>
            <a:ext cx="49179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 txBox="1"/>
          <p:nvPr/>
        </p:nvSpPr>
        <p:spPr>
          <a:xfrm>
            <a:off x="380052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FE5F-B648-4988-9B1E-F289DBCAFB9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380052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860400" y="750960"/>
            <a:ext cx="4984920" cy="37386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893520" y="4741560"/>
            <a:ext cx="49179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 txBox="1"/>
          <p:nvPr/>
        </p:nvSpPr>
        <p:spPr>
          <a:xfrm>
            <a:off x="380052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37D6-9A10-4B4F-891B-0D51C82AB7F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380052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860400" y="750960"/>
            <a:ext cx="4984920" cy="37386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893520" y="4741560"/>
            <a:ext cx="49179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 txBox="1"/>
          <p:nvPr/>
        </p:nvSpPr>
        <p:spPr>
          <a:xfrm>
            <a:off x="380052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2F15-0A13-4EE4-B7DE-A29F3DDD646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 txBox="1"/>
          <p:nvPr/>
        </p:nvSpPr>
        <p:spPr>
          <a:xfrm>
            <a:off x="380052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860400" y="750960"/>
            <a:ext cx="4984920" cy="37386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893520" y="4741560"/>
            <a:ext cx="49179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"/>
          <p:cNvSpPr txBox="1"/>
          <p:nvPr/>
        </p:nvSpPr>
        <p:spPr>
          <a:xfrm>
            <a:off x="380052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44F4-0351-4993-B55C-600960DA205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 txBox="1"/>
          <p:nvPr/>
        </p:nvSpPr>
        <p:spPr>
          <a:xfrm>
            <a:off x="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380052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860400" y="750960"/>
            <a:ext cx="4984920" cy="37386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893520" y="4741560"/>
            <a:ext cx="49179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 txBox="1"/>
          <p:nvPr/>
        </p:nvSpPr>
        <p:spPr>
          <a:xfrm>
            <a:off x="380052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5FFE-FB0B-47EB-8508-81A9BE89DB4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052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860400" y="750960"/>
            <a:ext cx="4984920" cy="37386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893520" y="4741560"/>
            <a:ext cx="49179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"/>
          <p:cNvSpPr txBox="1"/>
          <p:nvPr/>
        </p:nvSpPr>
        <p:spPr>
          <a:xfrm>
            <a:off x="380052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10B8-B2BB-4EF2-873B-A16ED2ACAEC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 txBox="1"/>
          <p:nvPr/>
        </p:nvSpPr>
        <p:spPr>
          <a:xfrm>
            <a:off x="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 txBox="1"/>
          <p:nvPr/>
        </p:nvSpPr>
        <p:spPr>
          <a:xfrm>
            <a:off x="380052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860400" y="750960"/>
            <a:ext cx="4984920" cy="37386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893520" y="4741560"/>
            <a:ext cx="49179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"/>
          <p:cNvSpPr txBox="1"/>
          <p:nvPr/>
        </p:nvSpPr>
        <p:spPr>
          <a:xfrm>
            <a:off x="380052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6F35-1314-498F-881F-3F23078B2B7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 txBox="1"/>
          <p:nvPr/>
        </p:nvSpPr>
        <p:spPr>
          <a:xfrm>
            <a:off x="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 txBox="1"/>
          <p:nvPr/>
        </p:nvSpPr>
        <p:spPr>
          <a:xfrm>
            <a:off x="380052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860400" y="750960"/>
            <a:ext cx="4984920" cy="37386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893520" y="4741560"/>
            <a:ext cx="49179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"/>
          <p:cNvSpPr txBox="1"/>
          <p:nvPr/>
        </p:nvSpPr>
        <p:spPr>
          <a:xfrm>
            <a:off x="380052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A273-FAC3-4871-AF81-6158CA98ECA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 txBox="1"/>
          <p:nvPr/>
        </p:nvSpPr>
        <p:spPr>
          <a:xfrm>
            <a:off x="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 txBox="1"/>
          <p:nvPr/>
        </p:nvSpPr>
        <p:spPr>
          <a:xfrm>
            <a:off x="380052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860400" y="750960"/>
            <a:ext cx="4984920" cy="37386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893520" y="4741560"/>
            <a:ext cx="49179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 txBox="1"/>
          <p:nvPr/>
        </p:nvSpPr>
        <p:spPr>
          <a:xfrm>
            <a:off x="380052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05B2-72BE-4808-B3F2-815CB676BB5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 txBox="1"/>
          <p:nvPr/>
        </p:nvSpPr>
        <p:spPr>
          <a:xfrm>
            <a:off x="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 txBox="1"/>
          <p:nvPr/>
        </p:nvSpPr>
        <p:spPr>
          <a:xfrm>
            <a:off x="380052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860400" y="750960"/>
            <a:ext cx="4984920" cy="37386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893520" y="4741560"/>
            <a:ext cx="49179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"/>
          <p:cNvSpPr txBox="1"/>
          <p:nvPr/>
        </p:nvSpPr>
        <p:spPr>
          <a:xfrm>
            <a:off x="380052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5679-7291-42CF-AA4F-D618E2A0FB8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 txBox="1"/>
          <p:nvPr/>
        </p:nvSpPr>
        <p:spPr>
          <a:xfrm>
            <a:off x="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 txBox="1"/>
          <p:nvPr/>
        </p:nvSpPr>
        <p:spPr>
          <a:xfrm>
            <a:off x="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380052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860400" y="750960"/>
            <a:ext cx="4984920" cy="37386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893520" y="4741560"/>
            <a:ext cx="49179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"/>
          <p:cNvSpPr txBox="1"/>
          <p:nvPr/>
        </p:nvSpPr>
        <p:spPr>
          <a:xfrm>
            <a:off x="380052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B223-68F1-480C-A68C-BC134315AA4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380052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860400" y="750960"/>
            <a:ext cx="4984920" cy="37386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893520" y="4741560"/>
            <a:ext cx="49179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 txBox="1"/>
          <p:nvPr/>
        </p:nvSpPr>
        <p:spPr>
          <a:xfrm>
            <a:off x="380052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B056-574C-4596-9E05-52AA5080212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380052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860400" y="750960"/>
            <a:ext cx="4984920" cy="37386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893520" y="4741560"/>
            <a:ext cx="49179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 txBox="1"/>
          <p:nvPr/>
        </p:nvSpPr>
        <p:spPr>
          <a:xfrm>
            <a:off x="380052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0820-DB2D-4C7E-B046-27D55E15A57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 txBox="1"/>
          <p:nvPr/>
        </p:nvSpPr>
        <p:spPr>
          <a:xfrm>
            <a:off x="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380052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860400" y="750960"/>
            <a:ext cx="4984920" cy="373860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893520" y="4741560"/>
            <a:ext cx="49179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"/>
          <p:cNvSpPr txBox="1"/>
          <p:nvPr/>
        </p:nvSpPr>
        <p:spPr>
          <a:xfrm>
            <a:off x="380052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AC34-E182-4143-BBCF-773E2946FD9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 txBox="1"/>
          <p:nvPr/>
        </p:nvSpPr>
        <p:spPr>
          <a:xfrm>
            <a:off x="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380052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860400" y="750960"/>
            <a:ext cx="4984920" cy="373860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893520" y="4741560"/>
            <a:ext cx="49179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"/>
          <p:cNvSpPr txBox="1"/>
          <p:nvPr/>
        </p:nvSpPr>
        <p:spPr>
          <a:xfrm>
            <a:off x="380052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6D01-FEC0-45E3-877F-9983D9446B9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 txBox="1"/>
          <p:nvPr/>
        </p:nvSpPr>
        <p:spPr>
          <a:xfrm>
            <a:off x="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380052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860400" y="750960"/>
            <a:ext cx="4984920" cy="373860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893520" y="4741560"/>
            <a:ext cx="49179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 txBox="1"/>
          <p:nvPr/>
        </p:nvSpPr>
        <p:spPr>
          <a:xfrm>
            <a:off x="380052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23D2-342A-4E6C-8D4C-B2942822377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 txBox="1"/>
          <p:nvPr/>
        </p:nvSpPr>
        <p:spPr>
          <a:xfrm>
            <a:off x="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 txBox="1"/>
          <p:nvPr/>
        </p:nvSpPr>
        <p:spPr>
          <a:xfrm>
            <a:off x="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052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860400" y="750960"/>
            <a:ext cx="4984920" cy="373860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893520" y="4741560"/>
            <a:ext cx="49179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"/>
          <p:cNvSpPr txBox="1"/>
          <p:nvPr/>
        </p:nvSpPr>
        <p:spPr>
          <a:xfrm>
            <a:off x="380052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F7F1-3320-4B5C-AC9B-07A4BC5D9E9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380052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860400" y="750960"/>
            <a:ext cx="4984920" cy="373860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893520" y="4741560"/>
            <a:ext cx="49179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"/>
          <p:cNvSpPr txBox="1"/>
          <p:nvPr/>
        </p:nvSpPr>
        <p:spPr>
          <a:xfrm>
            <a:off x="380052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B0F5-17B9-4FD1-B309-9F6F35FC5A8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 txBox="1"/>
          <p:nvPr/>
        </p:nvSpPr>
        <p:spPr>
          <a:xfrm>
            <a:off x="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 txBox="1"/>
          <p:nvPr/>
        </p:nvSpPr>
        <p:spPr>
          <a:xfrm>
            <a:off x="380052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860400" y="750960"/>
            <a:ext cx="4984920" cy="37386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893520" y="4741560"/>
            <a:ext cx="491796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"/>
          <p:cNvSpPr txBox="1"/>
          <p:nvPr/>
        </p:nvSpPr>
        <p:spPr>
          <a:xfrm>
            <a:off x="380052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09E9-A9CC-45BE-8F88-F88EE3D58F4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 txBox="1"/>
          <p:nvPr/>
        </p:nvSpPr>
        <p:spPr>
          <a:xfrm>
            <a:off x="0" y="9483840"/>
            <a:ext cx="29052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3800520" y="-360"/>
            <a:ext cx="29052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911160" y="795240"/>
            <a:ext cx="4883040" cy="366264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893520" y="4729320"/>
            <a:ext cx="49179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860400" y="750960"/>
            <a:ext cx="4986360" cy="374004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893520" y="4741560"/>
            <a:ext cx="4917960" cy="449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 sucesso de sistemas de IA aplicados ao mundo real requer integração dentro do ambiente q/ eles operam. É vital q/ o planejador seja capaz de acessar BD existentes c/ informações do projeto seja qual for o formato q/ eles tenham, e q/ a representação da E/S do planejador sejam expressivas e facilmente entendidas pelo usuário. A ling. STRIPS é insuficiente p/ este tipo de aplicação por não poder expressar 4 conceitos cha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lanos Hierárquico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: Lançamento de uma espaçonave. Uma forma de lidar c/ o aumento da complexidade é especificar planos em vários níveis de detal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dicionar a capacidade de representar planos hierárquicos ajuda na viabilidade computacional e entendimento do pl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ondições complexas: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TRIPS são essencialmente proposicionais,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ão existe na ling STRIPS quantificadores universais e sem eles não há c/  descrever q/ o operador lançar obriga q/ todos os objetos dentro da nave vão entrar em órbita. Condicionais e sem eles não há c/ expressar q/ se o sistema está OK então o operador lançar colocará a espaçonave em órbita, senão ele colocará ela no oce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Tempo: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Projetos têm deadlines , ações têm dur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Recursos: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limite de orçamento, limite no nº de trabalhadores q/ estão disponíveis,etc. Ações descritas devem incorporar consumo e geração de recur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860400" y="750960"/>
            <a:ext cx="4986360" cy="374004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893520" y="4741560"/>
            <a:ext cx="4917960" cy="449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idéia da decomposição hierárquica é q/ um op. Abstrato pode ser decomposto em um grupo de passos q/ formam  um plano q/ implementa o op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p. Primitivo - op. q/ pode ser executado diretamente pelo agente. STRIPS tem q/ permitir op não primitivos.  Introduzir decompose(o,p), onde o é o op e p o plano q/ implementa 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F0AE0-725F-444D-8D14-A3D481DEA4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72920" y="1142640"/>
            <a:ext cx="78087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772920" y="3889080"/>
            <a:ext cx="78087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9EB64-E28C-4893-BBC1-089CD60F76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72920" y="1142640"/>
            <a:ext cx="3810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74320" y="1142640"/>
            <a:ext cx="3810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72920" y="3889080"/>
            <a:ext cx="3810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774320" y="3889080"/>
            <a:ext cx="3810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890AD-150A-4291-8826-5BDCCF3314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72920" y="1142640"/>
            <a:ext cx="25142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413160" y="1142640"/>
            <a:ext cx="25142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53760" y="1142640"/>
            <a:ext cx="25142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72920" y="3889080"/>
            <a:ext cx="25142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413160" y="3889080"/>
            <a:ext cx="25142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53760" y="3889080"/>
            <a:ext cx="25142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C5EEE-1943-4E27-BBCA-EE1F6AB572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772920" y="1142640"/>
            <a:ext cx="78087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73A18-F288-4E32-9F3A-60E3AFCC6C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2920" y="1142640"/>
            <a:ext cx="78087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2DE11-9FA4-4493-9785-526308B826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72920" y="1142640"/>
            <a:ext cx="3810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74320" y="1142640"/>
            <a:ext cx="3810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478E5-FF3B-40D3-B7B4-82E732E8DE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3E55D-94C7-4D28-A290-5BDD645A50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703080" y="304920"/>
            <a:ext cx="7807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96B49-C37A-49F7-B4E8-2224F9D369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72920" y="1142640"/>
            <a:ext cx="3810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74320" y="1142640"/>
            <a:ext cx="3810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72920" y="3889080"/>
            <a:ext cx="3810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59653-3783-4542-8DF9-6B397E5824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72920" y="1142640"/>
            <a:ext cx="3810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74320" y="1142640"/>
            <a:ext cx="3810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774320" y="3889080"/>
            <a:ext cx="3810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00139-C934-451B-BA29-CF96C56840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72920" y="1142640"/>
            <a:ext cx="3810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74320" y="1142640"/>
            <a:ext cx="3810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72920" y="3889080"/>
            <a:ext cx="78087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0632E-AF25-4CB6-AAB7-58483CD676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72920" y="1142640"/>
            <a:ext cx="78087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2860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31880" indent="-228600">
              <a:spcBef>
                <a:spcPts val="21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21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21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21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7245360" y="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033090C-1BD2-418D-972B-878F7FB9C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6600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632880" cy="6552720"/>
            <a:chOff x="0" y="0"/>
            <a:chExt cx="632880" cy="6552720"/>
          </a:xfrm>
        </p:grpSpPr>
        <p:grpSp>
          <p:nvGrpSpPr>
            <p:cNvPr id="4" name=""/>
            <p:cNvGrpSpPr/>
            <p:nvPr/>
          </p:nvGrpSpPr>
          <p:grpSpPr>
            <a:xfrm>
              <a:off x="23400" y="0"/>
              <a:ext cx="595800" cy="6551280"/>
              <a:chOff x="23400" y="0"/>
              <a:chExt cx="595800" cy="6551280"/>
            </a:xfrm>
          </p:grpSpPr>
          <p:sp>
            <p:nvSpPr>
              <p:cNvPr id="5" name=""/>
              <p:cNvSpPr/>
              <p:nvPr/>
            </p:nvSpPr>
            <p:spPr>
              <a:xfrm>
                <a:off x="28800" y="0"/>
                <a:ext cx="588960" cy="6528600"/>
              </a:xfrm>
              <a:custGeom>
                <a:avLst/>
                <a:gdLst/>
                <a:ahLst/>
                <a:rect l="l" t="t" r="r" b="b"/>
                <a:pathLst>
                  <a:path w="402" h="4306">
                    <a:moveTo>
                      <a:pt x="401" y="0"/>
                    </a:moveTo>
                    <a:lnTo>
                      <a:pt x="401" y="4305"/>
                    </a:lnTo>
                    <a:lnTo>
                      <a:pt x="0" y="4305"/>
                    </a:lnTo>
                    <a:lnTo>
                      <a:pt x="0" y="0"/>
                    </a:lnTo>
                    <a:lnTo>
                      <a:pt x="401" y="0"/>
                    </a:lnTo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8800" y="1623600"/>
                <a:ext cx="588960" cy="428760"/>
              </a:xfrm>
              <a:custGeom>
                <a:avLst/>
                <a:gdLst/>
                <a:ahLst/>
                <a:rect l="l" t="t" r="r" b="b"/>
                <a:pathLst>
                  <a:path w="402" h="283">
                    <a:moveTo>
                      <a:pt x="401" y="0"/>
                    </a:moveTo>
                    <a:lnTo>
                      <a:pt x="401" y="1"/>
                    </a:lnTo>
                    <a:lnTo>
                      <a:pt x="401" y="10"/>
                    </a:lnTo>
                    <a:lnTo>
                      <a:pt x="401" y="23"/>
                    </a:lnTo>
                    <a:lnTo>
                      <a:pt x="401" y="41"/>
                    </a:lnTo>
                    <a:lnTo>
                      <a:pt x="401" y="61"/>
                    </a:lnTo>
                    <a:lnTo>
                      <a:pt x="401" y="85"/>
                    </a:lnTo>
                    <a:lnTo>
                      <a:pt x="401" y="134"/>
                    </a:lnTo>
                    <a:lnTo>
                      <a:pt x="401" y="182"/>
                    </a:lnTo>
                    <a:lnTo>
                      <a:pt x="401" y="207"/>
                    </a:lnTo>
                    <a:lnTo>
                      <a:pt x="401" y="227"/>
                    </a:lnTo>
                    <a:lnTo>
                      <a:pt x="401" y="244"/>
                    </a:lnTo>
                    <a:lnTo>
                      <a:pt x="401" y="258"/>
                    </a:lnTo>
                    <a:lnTo>
                      <a:pt x="401" y="266"/>
                    </a:lnTo>
                    <a:lnTo>
                      <a:pt x="401" y="269"/>
                    </a:lnTo>
                    <a:lnTo>
                      <a:pt x="375" y="264"/>
                    </a:lnTo>
                    <a:lnTo>
                      <a:pt x="351" y="262"/>
                    </a:lnTo>
                    <a:lnTo>
                      <a:pt x="329" y="258"/>
                    </a:lnTo>
                    <a:lnTo>
                      <a:pt x="306" y="258"/>
                    </a:lnTo>
                    <a:lnTo>
                      <a:pt x="286" y="255"/>
                    </a:lnTo>
                    <a:lnTo>
                      <a:pt x="266" y="255"/>
                    </a:lnTo>
                    <a:lnTo>
                      <a:pt x="248" y="255"/>
                    </a:lnTo>
                    <a:lnTo>
                      <a:pt x="230" y="255"/>
                    </a:lnTo>
                    <a:lnTo>
                      <a:pt x="214" y="255"/>
                    </a:lnTo>
                    <a:lnTo>
                      <a:pt x="198" y="258"/>
                    </a:lnTo>
                    <a:lnTo>
                      <a:pt x="183" y="258"/>
                    </a:lnTo>
                    <a:lnTo>
                      <a:pt x="169" y="260"/>
                    </a:lnTo>
                    <a:lnTo>
                      <a:pt x="156" y="262"/>
                    </a:lnTo>
                    <a:lnTo>
                      <a:pt x="144" y="264"/>
                    </a:lnTo>
                    <a:lnTo>
                      <a:pt x="132" y="266"/>
                    </a:lnTo>
                    <a:lnTo>
                      <a:pt x="121" y="269"/>
                    </a:lnTo>
                    <a:lnTo>
                      <a:pt x="101" y="273"/>
                    </a:lnTo>
                    <a:lnTo>
                      <a:pt x="83" y="275"/>
                    </a:lnTo>
                    <a:lnTo>
                      <a:pt x="66" y="280"/>
                    </a:lnTo>
                    <a:lnTo>
                      <a:pt x="52" y="282"/>
                    </a:lnTo>
                    <a:lnTo>
                      <a:pt x="37" y="282"/>
                    </a:lnTo>
                    <a:lnTo>
                      <a:pt x="25" y="280"/>
                    </a:lnTo>
                    <a:lnTo>
                      <a:pt x="12" y="275"/>
                    </a:lnTo>
                    <a:lnTo>
                      <a:pt x="0" y="269"/>
                    </a:lnTo>
                    <a:lnTo>
                      <a:pt x="0" y="0"/>
                    </a:lnTo>
                    <a:lnTo>
                      <a:pt x="401" y="0"/>
                    </a:lnTo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8800" y="1231200"/>
                <a:ext cx="588960" cy="434880"/>
              </a:xfrm>
              <a:custGeom>
                <a:avLst/>
                <a:gdLst/>
                <a:ahLst/>
                <a:rect l="l" t="t" r="r" b="b"/>
                <a:pathLst>
                  <a:path w="402" h="287">
                    <a:moveTo>
                      <a:pt x="401" y="0"/>
                    </a:moveTo>
                    <a:lnTo>
                      <a:pt x="401" y="271"/>
                    </a:lnTo>
                    <a:lnTo>
                      <a:pt x="394" y="275"/>
                    </a:lnTo>
                    <a:lnTo>
                      <a:pt x="387" y="278"/>
                    </a:lnTo>
                    <a:lnTo>
                      <a:pt x="378" y="280"/>
                    </a:lnTo>
                    <a:lnTo>
                      <a:pt x="370" y="284"/>
                    </a:lnTo>
                    <a:lnTo>
                      <a:pt x="360" y="284"/>
                    </a:lnTo>
                    <a:lnTo>
                      <a:pt x="349" y="286"/>
                    </a:lnTo>
                    <a:lnTo>
                      <a:pt x="328" y="286"/>
                    </a:lnTo>
                    <a:lnTo>
                      <a:pt x="303" y="286"/>
                    </a:lnTo>
                    <a:lnTo>
                      <a:pt x="277" y="284"/>
                    </a:lnTo>
                    <a:lnTo>
                      <a:pt x="250" y="280"/>
                    </a:lnTo>
                    <a:lnTo>
                      <a:pt x="221" y="277"/>
                    </a:lnTo>
                    <a:lnTo>
                      <a:pt x="163" y="269"/>
                    </a:lnTo>
                    <a:lnTo>
                      <a:pt x="134" y="268"/>
                    </a:lnTo>
                    <a:lnTo>
                      <a:pt x="105" y="264"/>
                    </a:lnTo>
                    <a:lnTo>
                      <a:pt x="77" y="264"/>
                    </a:lnTo>
                    <a:lnTo>
                      <a:pt x="50" y="264"/>
                    </a:lnTo>
                    <a:lnTo>
                      <a:pt x="24" y="268"/>
                    </a:lnTo>
                    <a:lnTo>
                      <a:pt x="0" y="271"/>
                    </a:lnTo>
                    <a:lnTo>
                      <a:pt x="0" y="0"/>
                    </a:lnTo>
                    <a:lnTo>
                      <a:pt x="401" y="0"/>
                    </a:lnTo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28800" y="153000"/>
                <a:ext cx="588960" cy="275760"/>
              </a:xfrm>
              <a:custGeom>
                <a:avLst/>
                <a:gdLst/>
                <a:ahLst/>
                <a:rect l="l" t="t" r="r" b="b"/>
                <a:pathLst>
                  <a:path w="402" h="182">
                    <a:moveTo>
                      <a:pt x="401" y="23"/>
                    </a:moveTo>
                    <a:lnTo>
                      <a:pt x="401" y="164"/>
                    </a:lnTo>
                    <a:lnTo>
                      <a:pt x="394" y="166"/>
                    </a:lnTo>
                    <a:lnTo>
                      <a:pt x="386" y="168"/>
                    </a:lnTo>
                    <a:lnTo>
                      <a:pt x="377" y="170"/>
                    </a:lnTo>
                    <a:lnTo>
                      <a:pt x="367" y="172"/>
                    </a:lnTo>
                    <a:lnTo>
                      <a:pt x="356" y="173"/>
                    </a:lnTo>
                    <a:lnTo>
                      <a:pt x="345" y="174"/>
                    </a:lnTo>
                    <a:lnTo>
                      <a:pt x="333" y="176"/>
                    </a:lnTo>
                    <a:lnTo>
                      <a:pt x="319" y="177"/>
                    </a:lnTo>
                    <a:lnTo>
                      <a:pt x="292" y="179"/>
                    </a:lnTo>
                    <a:lnTo>
                      <a:pt x="263" y="180"/>
                    </a:lnTo>
                    <a:lnTo>
                      <a:pt x="232" y="181"/>
                    </a:lnTo>
                    <a:lnTo>
                      <a:pt x="200" y="181"/>
                    </a:lnTo>
                    <a:lnTo>
                      <a:pt x="169" y="181"/>
                    </a:lnTo>
                    <a:lnTo>
                      <a:pt x="138" y="180"/>
                    </a:lnTo>
                    <a:lnTo>
                      <a:pt x="109" y="179"/>
                    </a:lnTo>
                    <a:lnTo>
                      <a:pt x="81" y="177"/>
                    </a:lnTo>
                    <a:lnTo>
                      <a:pt x="68" y="176"/>
                    </a:lnTo>
                    <a:lnTo>
                      <a:pt x="56" y="174"/>
                    </a:lnTo>
                    <a:lnTo>
                      <a:pt x="45" y="173"/>
                    </a:lnTo>
                    <a:lnTo>
                      <a:pt x="34" y="172"/>
                    </a:lnTo>
                    <a:lnTo>
                      <a:pt x="23" y="170"/>
                    </a:lnTo>
                    <a:lnTo>
                      <a:pt x="15" y="168"/>
                    </a:lnTo>
                    <a:lnTo>
                      <a:pt x="7" y="166"/>
                    </a:lnTo>
                    <a:lnTo>
                      <a:pt x="0" y="164"/>
                    </a:lnTo>
                    <a:lnTo>
                      <a:pt x="0" y="23"/>
                    </a:lnTo>
                    <a:lnTo>
                      <a:pt x="5" y="19"/>
                    </a:lnTo>
                    <a:lnTo>
                      <a:pt x="11" y="14"/>
                    </a:lnTo>
                    <a:lnTo>
                      <a:pt x="18" y="11"/>
                    </a:lnTo>
                    <a:lnTo>
                      <a:pt x="25" y="8"/>
                    </a:lnTo>
                    <a:lnTo>
                      <a:pt x="34" y="6"/>
                    </a:lnTo>
                    <a:lnTo>
                      <a:pt x="43" y="4"/>
                    </a:lnTo>
                    <a:lnTo>
                      <a:pt x="61" y="1"/>
                    </a:lnTo>
                    <a:lnTo>
                      <a:pt x="82" y="0"/>
                    </a:lnTo>
                    <a:lnTo>
                      <a:pt x="105" y="0"/>
                    </a:lnTo>
                    <a:lnTo>
                      <a:pt x="129" y="0"/>
                    </a:lnTo>
                    <a:lnTo>
                      <a:pt x="154" y="0"/>
                    </a:lnTo>
                    <a:lnTo>
                      <a:pt x="167" y="0"/>
                    </a:lnTo>
                    <a:lnTo>
                      <a:pt x="182" y="1"/>
                    </a:lnTo>
                    <a:lnTo>
                      <a:pt x="197" y="2"/>
                    </a:lnTo>
                    <a:lnTo>
                      <a:pt x="213" y="3"/>
                    </a:lnTo>
                    <a:lnTo>
                      <a:pt x="248" y="6"/>
                    </a:lnTo>
                    <a:lnTo>
                      <a:pt x="283" y="10"/>
                    </a:lnTo>
                    <a:lnTo>
                      <a:pt x="318" y="14"/>
                    </a:lnTo>
                    <a:lnTo>
                      <a:pt x="334" y="16"/>
                    </a:lnTo>
                    <a:lnTo>
                      <a:pt x="350" y="18"/>
                    </a:lnTo>
                    <a:lnTo>
                      <a:pt x="365" y="19"/>
                    </a:lnTo>
                    <a:lnTo>
                      <a:pt x="378" y="21"/>
                    </a:lnTo>
                    <a:lnTo>
                      <a:pt x="390" y="22"/>
                    </a:lnTo>
                    <a:lnTo>
                      <a:pt x="401" y="23"/>
                    </a:lnTo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28800" y="947520"/>
                <a:ext cx="588960" cy="321120"/>
              </a:xfrm>
              <a:custGeom>
                <a:avLst/>
                <a:gdLst/>
                <a:ahLst/>
                <a:rect l="l" t="t" r="r" b="b"/>
                <a:pathLst>
                  <a:path w="402" h="212">
                    <a:moveTo>
                      <a:pt x="401" y="0"/>
                    </a:moveTo>
                    <a:lnTo>
                      <a:pt x="401" y="188"/>
                    </a:lnTo>
                    <a:lnTo>
                      <a:pt x="394" y="190"/>
                    </a:lnTo>
                    <a:lnTo>
                      <a:pt x="386" y="193"/>
                    </a:lnTo>
                    <a:lnTo>
                      <a:pt x="377" y="196"/>
                    </a:lnTo>
                    <a:lnTo>
                      <a:pt x="367" y="198"/>
                    </a:lnTo>
                    <a:lnTo>
                      <a:pt x="356" y="200"/>
                    </a:lnTo>
                    <a:lnTo>
                      <a:pt x="345" y="203"/>
                    </a:lnTo>
                    <a:lnTo>
                      <a:pt x="333" y="204"/>
                    </a:lnTo>
                    <a:lnTo>
                      <a:pt x="319" y="205"/>
                    </a:lnTo>
                    <a:lnTo>
                      <a:pt x="292" y="208"/>
                    </a:lnTo>
                    <a:lnTo>
                      <a:pt x="263" y="209"/>
                    </a:lnTo>
                    <a:lnTo>
                      <a:pt x="232" y="211"/>
                    </a:lnTo>
                    <a:lnTo>
                      <a:pt x="200" y="211"/>
                    </a:lnTo>
                    <a:lnTo>
                      <a:pt x="169" y="211"/>
                    </a:lnTo>
                    <a:lnTo>
                      <a:pt x="138" y="209"/>
                    </a:lnTo>
                    <a:lnTo>
                      <a:pt x="109" y="208"/>
                    </a:lnTo>
                    <a:lnTo>
                      <a:pt x="81" y="205"/>
                    </a:lnTo>
                    <a:lnTo>
                      <a:pt x="68" y="204"/>
                    </a:lnTo>
                    <a:lnTo>
                      <a:pt x="56" y="203"/>
                    </a:lnTo>
                    <a:lnTo>
                      <a:pt x="45" y="200"/>
                    </a:lnTo>
                    <a:lnTo>
                      <a:pt x="34" y="198"/>
                    </a:lnTo>
                    <a:lnTo>
                      <a:pt x="23" y="196"/>
                    </a:lnTo>
                    <a:lnTo>
                      <a:pt x="15" y="193"/>
                    </a:lnTo>
                    <a:lnTo>
                      <a:pt x="7" y="190"/>
                    </a:lnTo>
                    <a:lnTo>
                      <a:pt x="0" y="188"/>
                    </a:lnTo>
                    <a:lnTo>
                      <a:pt x="0" y="0"/>
                    </a:lnTo>
                    <a:lnTo>
                      <a:pt x="22" y="2"/>
                    </a:lnTo>
                    <a:lnTo>
                      <a:pt x="44" y="4"/>
                    </a:lnTo>
                    <a:lnTo>
                      <a:pt x="64" y="6"/>
                    </a:lnTo>
                    <a:lnTo>
                      <a:pt x="84" y="8"/>
                    </a:lnTo>
                    <a:lnTo>
                      <a:pt x="103" y="9"/>
                    </a:lnTo>
                    <a:lnTo>
                      <a:pt x="121" y="10"/>
                    </a:lnTo>
                    <a:lnTo>
                      <a:pt x="138" y="10"/>
                    </a:lnTo>
                    <a:lnTo>
                      <a:pt x="155" y="12"/>
                    </a:lnTo>
                    <a:lnTo>
                      <a:pt x="171" y="12"/>
                    </a:lnTo>
                    <a:lnTo>
                      <a:pt x="185" y="12"/>
                    </a:lnTo>
                    <a:lnTo>
                      <a:pt x="200" y="12"/>
                    </a:lnTo>
                    <a:lnTo>
                      <a:pt x="213" y="12"/>
                    </a:lnTo>
                    <a:lnTo>
                      <a:pt x="238" y="12"/>
                    </a:lnTo>
                    <a:lnTo>
                      <a:pt x="261" y="10"/>
                    </a:lnTo>
                    <a:lnTo>
                      <a:pt x="283" y="9"/>
                    </a:lnTo>
                    <a:lnTo>
                      <a:pt x="302" y="8"/>
                    </a:lnTo>
                    <a:lnTo>
                      <a:pt x="320" y="5"/>
                    </a:lnTo>
                    <a:lnTo>
                      <a:pt x="337" y="4"/>
                    </a:lnTo>
                    <a:lnTo>
                      <a:pt x="353" y="2"/>
                    </a:lnTo>
                    <a:lnTo>
                      <a:pt x="370" y="1"/>
                    </a:lnTo>
                    <a:lnTo>
                      <a:pt x="40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28800" y="654840"/>
                <a:ext cx="588960" cy="413640"/>
              </a:xfrm>
              <a:custGeom>
                <a:avLst/>
                <a:gdLst/>
                <a:ahLst/>
                <a:rect l="l" t="t" r="r" b="b"/>
                <a:pathLst>
                  <a:path w="402" h="273">
                    <a:moveTo>
                      <a:pt x="401" y="0"/>
                    </a:moveTo>
                    <a:lnTo>
                      <a:pt x="401" y="1"/>
                    </a:lnTo>
                    <a:lnTo>
                      <a:pt x="401" y="3"/>
                    </a:lnTo>
                    <a:lnTo>
                      <a:pt x="401" y="6"/>
                    </a:lnTo>
                    <a:lnTo>
                      <a:pt x="401" y="11"/>
                    </a:lnTo>
                    <a:lnTo>
                      <a:pt x="401" y="18"/>
                    </a:lnTo>
                    <a:lnTo>
                      <a:pt x="401" y="24"/>
                    </a:lnTo>
                    <a:lnTo>
                      <a:pt x="401" y="42"/>
                    </a:lnTo>
                    <a:lnTo>
                      <a:pt x="401" y="62"/>
                    </a:lnTo>
                    <a:lnTo>
                      <a:pt x="401" y="86"/>
                    </a:lnTo>
                    <a:lnTo>
                      <a:pt x="401" y="111"/>
                    </a:lnTo>
                    <a:lnTo>
                      <a:pt x="401" y="136"/>
                    </a:lnTo>
                    <a:lnTo>
                      <a:pt x="401" y="161"/>
                    </a:lnTo>
                    <a:lnTo>
                      <a:pt x="401" y="186"/>
                    </a:lnTo>
                    <a:lnTo>
                      <a:pt x="401" y="209"/>
                    </a:lnTo>
                    <a:lnTo>
                      <a:pt x="401" y="229"/>
                    </a:lnTo>
                    <a:lnTo>
                      <a:pt x="401" y="247"/>
                    </a:lnTo>
                    <a:lnTo>
                      <a:pt x="401" y="254"/>
                    </a:lnTo>
                    <a:lnTo>
                      <a:pt x="401" y="261"/>
                    </a:lnTo>
                    <a:lnTo>
                      <a:pt x="401" y="265"/>
                    </a:lnTo>
                    <a:lnTo>
                      <a:pt x="401" y="269"/>
                    </a:lnTo>
                    <a:lnTo>
                      <a:pt x="401" y="271"/>
                    </a:lnTo>
                    <a:lnTo>
                      <a:pt x="401" y="272"/>
                    </a:lnTo>
                    <a:lnTo>
                      <a:pt x="390" y="266"/>
                    </a:lnTo>
                    <a:lnTo>
                      <a:pt x="379" y="262"/>
                    </a:lnTo>
                    <a:lnTo>
                      <a:pt x="360" y="254"/>
                    </a:lnTo>
                    <a:lnTo>
                      <a:pt x="343" y="248"/>
                    </a:lnTo>
                    <a:lnTo>
                      <a:pt x="326" y="245"/>
                    </a:lnTo>
                    <a:lnTo>
                      <a:pt x="308" y="243"/>
                    </a:lnTo>
                    <a:lnTo>
                      <a:pt x="290" y="241"/>
                    </a:lnTo>
                    <a:lnTo>
                      <a:pt x="280" y="241"/>
                    </a:lnTo>
                    <a:lnTo>
                      <a:pt x="270" y="241"/>
                    </a:lnTo>
                    <a:lnTo>
                      <a:pt x="258" y="241"/>
                    </a:lnTo>
                    <a:lnTo>
                      <a:pt x="246" y="241"/>
                    </a:lnTo>
                    <a:lnTo>
                      <a:pt x="234" y="241"/>
                    </a:lnTo>
                    <a:lnTo>
                      <a:pt x="219" y="242"/>
                    </a:lnTo>
                    <a:lnTo>
                      <a:pt x="203" y="244"/>
                    </a:lnTo>
                    <a:lnTo>
                      <a:pt x="188" y="245"/>
                    </a:lnTo>
                    <a:lnTo>
                      <a:pt x="155" y="251"/>
                    </a:lnTo>
                    <a:lnTo>
                      <a:pt x="121" y="256"/>
                    </a:lnTo>
                    <a:lnTo>
                      <a:pt x="87" y="262"/>
                    </a:lnTo>
                    <a:lnTo>
                      <a:pt x="71" y="265"/>
                    </a:lnTo>
                    <a:lnTo>
                      <a:pt x="55" y="267"/>
                    </a:lnTo>
                    <a:lnTo>
                      <a:pt x="39" y="269"/>
                    </a:lnTo>
                    <a:lnTo>
                      <a:pt x="25" y="271"/>
                    </a:lnTo>
                    <a:lnTo>
                      <a:pt x="12" y="272"/>
                    </a:lnTo>
                    <a:lnTo>
                      <a:pt x="0" y="272"/>
                    </a:lnTo>
                    <a:lnTo>
                      <a:pt x="0" y="0"/>
                    </a:lnTo>
                    <a:lnTo>
                      <a:pt x="401" y="0"/>
                    </a:lnTo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8800" y="384840"/>
                <a:ext cx="590400" cy="310680"/>
              </a:xfrm>
              <a:custGeom>
                <a:avLst/>
                <a:gdLst/>
                <a:ahLst/>
                <a:rect l="l" t="t" r="r" b="b"/>
                <a:pathLst>
                  <a:path w="403" h="205">
                    <a:moveTo>
                      <a:pt x="402" y="13"/>
                    </a:moveTo>
                    <a:lnTo>
                      <a:pt x="402" y="191"/>
                    </a:lnTo>
                    <a:lnTo>
                      <a:pt x="396" y="195"/>
                    </a:lnTo>
                    <a:lnTo>
                      <a:pt x="390" y="199"/>
                    </a:lnTo>
                    <a:lnTo>
                      <a:pt x="383" y="202"/>
                    </a:lnTo>
                    <a:lnTo>
                      <a:pt x="375" y="203"/>
                    </a:lnTo>
                    <a:lnTo>
                      <a:pt x="368" y="204"/>
                    </a:lnTo>
                    <a:lnTo>
                      <a:pt x="359" y="204"/>
                    </a:lnTo>
                    <a:lnTo>
                      <a:pt x="340" y="202"/>
                    </a:lnTo>
                    <a:lnTo>
                      <a:pt x="319" y="198"/>
                    </a:lnTo>
                    <a:lnTo>
                      <a:pt x="296" y="195"/>
                    </a:lnTo>
                    <a:lnTo>
                      <a:pt x="272" y="192"/>
                    </a:lnTo>
                    <a:lnTo>
                      <a:pt x="247" y="191"/>
                    </a:lnTo>
                    <a:lnTo>
                      <a:pt x="233" y="191"/>
                    </a:lnTo>
                    <a:lnTo>
                      <a:pt x="219" y="192"/>
                    </a:lnTo>
                    <a:lnTo>
                      <a:pt x="202" y="193"/>
                    </a:lnTo>
                    <a:lnTo>
                      <a:pt x="186" y="195"/>
                    </a:lnTo>
                    <a:lnTo>
                      <a:pt x="168" y="197"/>
                    </a:lnTo>
                    <a:lnTo>
                      <a:pt x="150" y="198"/>
                    </a:lnTo>
                    <a:lnTo>
                      <a:pt x="113" y="202"/>
                    </a:lnTo>
                    <a:lnTo>
                      <a:pt x="96" y="203"/>
                    </a:lnTo>
                    <a:lnTo>
                      <a:pt x="78" y="204"/>
                    </a:lnTo>
                    <a:lnTo>
                      <a:pt x="61" y="204"/>
                    </a:lnTo>
                    <a:lnTo>
                      <a:pt x="46" y="203"/>
                    </a:lnTo>
                    <a:lnTo>
                      <a:pt x="32" y="202"/>
                    </a:lnTo>
                    <a:lnTo>
                      <a:pt x="19" y="199"/>
                    </a:lnTo>
                    <a:lnTo>
                      <a:pt x="9" y="195"/>
                    </a:lnTo>
                    <a:lnTo>
                      <a:pt x="0" y="191"/>
                    </a:lnTo>
                    <a:lnTo>
                      <a:pt x="0" y="13"/>
                    </a:lnTo>
                    <a:lnTo>
                      <a:pt x="5" y="10"/>
                    </a:lnTo>
                    <a:lnTo>
                      <a:pt x="12" y="8"/>
                    </a:lnTo>
                    <a:lnTo>
                      <a:pt x="19" y="6"/>
                    </a:lnTo>
                    <a:lnTo>
                      <a:pt x="27" y="4"/>
                    </a:lnTo>
                    <a:lnTo>
                      <a:pt x="36" y="3"/>
                    </a:lnTo>
                    <a:lnTo>
                      <a:pt x="46" y="2"/>
                    </a:lnTo>
                    <a:lnTo>
                      <a:pt x="67" y="1"/>
                    </a:lnTo>
                    <a:lnTo>
                      <a:pt x="90" y="0"/>
                    </a:lnTo>
                    <a:lnTo>
                      <a:pt x="114" y="0"/>
                    </a:lnTo>
                    <a:lnTo>
                      <a:pt x="140" y="1"/>
                    </a:lnTo>
                    <a:lnTo>
                      <a:pt x="166" y="2"/>
                    </a:lnTo>
                    <a:lnTo>
                      <a:pt x="191" y="4"/>
                    </a:lnTo>
                    <a:lnTo>
                      <a:pt x="218" y="5"/>
                    </a:lnTo>
                    <a:lnTo>
                      <a:pt x="242" y="7"/>
                    </a:lnTo>
                    <a:lnTo>
                      <a:pt x="266" y="9"/>
                    </a:lnTo>
                    <a:lnTo>
                      <a:pt x="288" y="10"/>
                    </a:lnTo>
                    <a:lnTo>
                      <a:pt x="308" y="11"/>
                    </a:lnTo>
                    <a:lnTo>
                      <a:pt x="317" y="12"/>
                    </a:lnTo>
                    <a:lnTo>
                      <a:pt x="325" y="13"/>
                    </a:lnTo>
                    <a:lnTo>
                      <a:pt x="332" y="13"/>
                    </a:lnTo>
                    <a:lnTo>
                      <a:pt x="339" y="13"/>
                    </a:lnTo>
                    <a:lnTo>
                      <a:pt x="351" y="13"/>
                    </a:lnTo>
                    <a:lnTo>
                      <a:pt x="361" y="13"/>
                    </a:lnTo>
                    <a:lnTo>
                      <a:pt x="369" y="13"/>
                    </a:lnTo>
                    <a:lnTo>
                      <a:pt x="375" y="13"/>
                    </a:lnTo>
                    <a:lnTo>
                      <a:pt x="381" y="13"/>
                    </a:lnTo>
                    <a:lnTo>
                      <a:pt x="385" y="13"/>
                    </a:lnTo>
                    <a:lnTo>
                      <a:pt x="388" y="13"/>
                    </a:lnTo>
                    <a:lnTo>
                      <a:pt x="391" y="13"/>
                    </a:lnTo>
                    <a:lnTo>
                      <a:pt x="394" y="13"/>
                    </a:lnTo>
                    <a:lnTo>
                      <a:pt x="396" y="13"/>
                    </a:lnTo>
                    <a:lnTo>
                      <a:pt x="398" y="13"/>
                    </a:lnTo>
                    <a:lnTo>
                      <a:pt x="399" y="13"/>
                    </a:lnTo>
                    <a:lnTo>
                      <a:pt x="402" y="13"/>
                    </a:lnTo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23400" y="3761640"/>
                <a:ext cx="587520" cy="436320"/>
              </a:xfrm>
              <a:custGeom>
                <a:avLst/>
                <a:gdLst/>
                <a:ahLst/>
                <a:rect l="l" t="t" r="r" b="b"/>
                <a:pathLst>
                  <a:path w="401" h="288">
                    <a:moveTo>
                      <a:pt x="400" y="0"/>
                    </a:moveTo>
                    <a:lnTo>
                      <a:pt x="400" y="5"/>
                    </a:lnTo>
                    <a:lnTo>
                      <a:pt x="400" y="14"/>
                    </a:lnTo>
                    <a:lnTo>
                      <a:pt x="400" y="27"/>
                    </a:lnTo>
                    <a:lnTo>
                      <a:pt x="400" y="45"/>
                    </a:lnTo>
                    <a:lnTo>
                      <a:pt x="400" y="85"/>
                    </a:lnTo>
                    <a:lnTo>
                      <a:pt x="400" y="139"/>
                    </a:lnTo>
                    <a:lnTo>
                      <a:pt x="400" y="188"/>
                    </a:lnTo>
                    <a:lnTo>
                      <a:pt x="400" y="233"/>
                    </a:lnTo>
                    <a:lnTo>
                      <a:pt x="400" y="246"/>
                    </a:lnTo>
                    <a:lnTo>
                      <a:pt x="400" y="260"/>
                    </a:lnTo>
                    <a:lnTo>
                      <a:pt x="400" y="269"/>
                    </a:lnTo>
                    <a:lnTo>
                      <a:pt x="400" y="273"/>
                    </a:lnTo>
                    <a:lnTo>
                      <a:pt x="374" y="269"/>
                    </a:lnTo>
                    <a:lnTo>
                      <a:pt x="350" y="264"/>
                    </a:lnTo>
                    <a:lnTo>
                      <a:pt x="328" y="264"/>
                    </a:lnTo>
                    <a:lnTo>
                      <a:pt x="306" y="260"/>
                    </a:lnTo>
                    <a:lnTo>
                      <a:pt x="285" y="260"/>
                    </a:lnTo>
                    <a:lnTo>
                      <a:pt x="266" y="260"/>
                    </a:lnTo>
                    <a:lnTo>
                      <a:pt x="247" y="260"/>
                    </a:lnTo>
                    <a:lnTo>
                      <a:pt x="230" y="260"/>
                    </a:lnTo>
                    <a:lnTo>
                      <a:pt x="214" y="260"/>
                    </a:lnTo>
                    <a:lnTo>
                      <a:pt x="198" y="260"/>
                    </a:lnTo>
                    <a:lnTo>
                      <a:pt x="183" y="260"/>
                    </a:lnTo>
                    <a:lnTo>
                      <a:pt x="169" y="264"/>
                    </a:lnTo>
                    <a:lnTo>
                      <a:pt x="156" y="264"/>
                    </a:lnTo>
                    <a:lnTo>
                      <a:pt x="144" y="269"/>
                    </a:lnTo>
                    <a:lnTo>
                      <a:pt x="132" y="269"/>
                    </a:lnTo>
                    <a:lnTo>
                      <a:pt x="121" y="273"/>
                    </a:lnTo>
                    <a:lnTo>
                      <a:pt x="101" y="278"/>
                    </a:lnTo>
                    <a:lnTo>
                      <a:pt x="82" y="282"/>
                    </a:lnTo>
                    <a:lnTo>
                      <a:pt x="66" y="282"/>
                    </a:lnTo>
                    <a:lnTo>
                      <a:pt x="51" y="287"/>
                    </a:lnTo>
                    <a:lnTo>
                      <a:pt x="37" y="287"/>
                    </a:lnTo>
                    <a:lnTo>
                      <a:pt x="25" y="282"/>
                    </a:lnTo>
                    <a:lnTo>
                      <a:pt x="0" y="273"/>
                    </a:lnTo>
                    <a:lnTo>
                      <a:pt x="0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3400" y="3379320"/>
                <a:ext cx="587520" cy="439560"/>
              </a:xfrm>
              <a:custGeom>
                <a:avLst/>
                <a:gdLst/>
                <a:ahLst/>
                <a:rect l="l" t="t" r="r" b="b"/>
                <a:pathLst>
                  <a:path w="401" h="290">
                    <a:moveTo>
                      <a:pt x="400" y="0"/>
                    </a:moveTo>
                    <a:lnTo>
                      <a:pt x="400" y="272"/>
                    </a:lnTo>
                    <a:lnTo>
                      <a:pt x="393" y="276"/>
                    </a:lnTo>
                    <a:lnTo>
                      <a:pt x="386" y="280"/>
                    </a:lnTo>
                    <a:lnTo>
                      <a:pt x="378" y="280"/>
                    </a:lnTo>
                    <a:lnTo>
                      <a:pt x="368" y="284"/>
                    </a:lnTo>
                    <a:lnTo>
                      <a:pt x="359" y="284"/>
                    </a:lnTo>
                    <a:lnTo>
                      <a:pt x="349" y="284"/>
                    </a:lnTo>
                    <a:lnTo>
                      <a:pt x="326" y="289"/>
                    </a:lnTo>
                    <a:lnTo>
                      <a:pt x="302" y="284"/>
                    </a:lnTo>
                    <a:lnTo>
                      <a:pt x="276" y="284"/>
                    </a:lnTo>
                    <a:lnTo>
                      <a:pt x="249" y="280"/>
                    </a:lnTo>
                    <a:lnTo>
                      <a:pt x="221" y="276"/>
                    </a:lnTo>
                    <a:lnTo>
                      <a:pt x="162" y="268"/>
                    </a:lnTo>
                    <a:lnTo>
                      <a:pt x="133" y="268"/>
                    </a:lnTo>
                    <a:lnTo>
                      <a:pt x="105" y="264"/>
                    </a:lnTo>
                    <a:lnTo>
                      <a:pt x="76" y="264"/>
                    </a:lnTo>
                    <a:lnTo>
                      <a:pt x="49" y="264"/>
                    </a:lnTo>
                    <a:lnTo>
                      <a:pt x="24" y="268"/>
                    </a:lnTo>
                    <a:lnTo>
                      <a:pt x="0" y="272"/>
                    </a:lnTo>
                    <a:lnTo>
                      <a:pt x="0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3400" y="2298240"/>
                <a:ext cx="587520" cy="279000"/>
              </a:xfrm>
              <a:custGeom>
                <a:avLst/>
                <a:gdLst/>
                <a:ahLst/>
                <a:rect l="l" t="t" r="r" b="b"/>
                <a:pathLst>
                  <a:path w="401" h="184">
                    <a:moveTo>
                      <a:pt x="400" y="22"/>
                    </a:moveTo>
                    <a:lnTo>
                      <a:pt x="400" y="164"/>
                    </a:lnTo>
                    <a:lnTo>
                      <a:pt x="393" y="166"/>
                    </a:lnTo>
                    <a:lnTo>
                      <a:pt x="385" y="169"/>
                    </a:lnTo>
                    <a:lnTo>
                      <a:pt x="377" y="169"/>
                    </a:lnTo>
                    <a:lnTo>
                      <a:pt x="366" y="172"/>
                    </a:lnTo>
                    <a:lnTo>
                      <a:pt x="356" y="174"/>
                    </a:lnTo>
                    <a:lnTo>
                      <a:pt x="343" y="174"/>
                    </a:lnTo>
                    <a:lnTo>
                      <a:pt x="332" y="177"/>
                    </a:lnTo>
                    <a:lnTo>
                      <a:pt x="318" y="177"/>
                    </a:lnTo>
                    <a:lnTo>
                      <a:pt x="291" y="180"/>
                    </a:lnTo>
                    <a:lnTo>
                      <a:pt x="261" y="180"/>
                    </a:lnTo>
                    <a:lnTo>
                      <a:pt x="230" y="183"/>
                    </a:lnTo>
                    <a:lnTo>
                      <a:pt x="200" y="183"/>
                    </a:lnTo>
                    <a:lnTo>
                      <a:pt x="169" y="183"/>
                    </a:lnTo>
                    <a:lnTo>
                      <a:pt x="138" y="180"/>
                    </a:lnTo>
                    <a:lnTo>
                      <a:pt x="109" y="180"/>
                    </a:lnTo>
                    <a:lnTo>
                      <a:pt x="81" y="177"/>
                    </a:lnTo>
                    <a:lnTo>
                      <a:pt x="68" y="177"/>
                    </a:lnTo>
                    <a:lnTo>
                      <a:pt x="56" y="174"/>
                    </a:lnTo>
                    <a:lnTo>
                      <a:pt x="44" y="174"/>
                    </a:lnTo>
                    <a:lnTo>
                      <a:pt x="33" y="172"/>
                    </a:lnTo>
                    <a:lnTo>
                      <a:pt x="24" y="169"/>
                    </a:lnTo>
                    <a:lnTo>
                      <a:pt x="14" y="169"/>
                    </a:lnTo>
                    <a:lnTo>
                      <a:pt x="6" y="166"/>
                    </a:lnTo>
                    <a:lnTo>
                      <a:pt x="0" y="164"/>
                    </a:lnTo>
                    <a:lnTo>
                      <a:pt x="0" y="22"/>
                    </a:lnTo>
                    <a:lnTo>
                      <a:pt x="5" y="17"/>
                    </a:lnTo>
                    <a:lnTo>
                      <a:pt x="11" y="14"/>
                    </a:lnTo>
                    <a:lnTo>
                      <a:pt x="17" y="11"/>
                    </a:lnTo>
                    <a:lnTo>
                      <a:pt x="25" y="8"/>
                    </a:lnTo>
                    <a:lnTo>
                      <a:pt x="33" y="6"/>
                    </a:lnTo>
                    <a:lnTo>
                      <a:pt x="42" y="3"/>
                    </a:lnTo>
                    <a:lnTo>
                      <a:pt x="61" y="0"/>
                    </a:lnTo>
                    <a:lnTo>
                      <a:pt x="82" y="0"/>
                    </a:lnTo>
                    <a:lnTo>
                      <a:pt x="105" y="0"/>
                    </a:lnTo>
                    <a:lnTo>
                      <a:pt x="128" y="0"/>
                    </a:lnTo>
                    <a:lnTo>
                      <a:pt x="153" y="0"/>
                    </a:lnTo>
                    <a:lnTo>
                      <a:pt x="166" y="0"/>
                    </a:lnTo>
                    <a:lnTo>
                      <a:pt x="180" y="0"/>
                    </a:lnTo>
                    <a:lnTo>
                      <a:pt x="196" y="3"/>
                    </a:lnTo>
                    <a:lnTo>
                      <a:pt x="213" y="3"/>
                    </a:lnTo>
                    <a:lnTo>
                      <a:pt x="247" y="6"/>
                    </a:lnTo>
                    <a:lnTo>
                      <a:pt x="282" y="11"/>
                    </a:lnTo>
                    <a:lnTo>
                      <a:pt x="317" y="14"/>
                    </a:lnTo>
                    <a:lnTo>
                      <a:pt x="333" y="17"/>
                    </a:lnTo>
                    <a:lnTo>
                      <a:pt x="349" y="17"/>
                    </a:lnTo>
                    <a:lnTo>
                      <a:pt x="364" y="19"/>
                    </a:lnTo>
                    <a:lnTo>
                      <a:pt x="377" y="19"/>
                    </a:lnTo>
                    <a:lnTo>
                      <a:pt x="389" y="22"/>
                    </a:lnTo>
                    <a:lnTo>
                      <a:pt x="400" y="22"/>
                    </a:lnTo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23400" y="3091320"/>
                <a:ext cx="587520" cy="324360"/>
              </a:xfrm>
              <a:custGeom>
                <a:avLst/>
                <a:gdLst/>
                <a:ahLst/>
                <a:rect l="l" t="t" r="r" b="b"/>
                <a:pathLst>
                  <a:path w="401" h="214">
                    <a:moveTo>
                      <a:pt x="400" y="0"/>
                    </a:moveTo>
                    <a:lnTo>
                      <a:pt x="400" y="188"/>
                    </a:lnTo>
                    <a:lnTo>
                      <a:pt x="393" y="191"/>
                    </a:lnTo>
                    <a:lnTo>
                      <a:pt x="385" y="195"/>
                    </a:lnTo>
                    <a:lnTo>
                      <a:pt x="377" y="195"/>
                    </a:lnTo>
                    <a:lnTo>
                      <a:pt x="366" y="198"/>
                    </a:lnTo>
                    <a:lnTo>
                      <a:pt x="356" y="202"/>
                    </a:lnTo>
                    <a:lnTo>
                      <a:pt x="343" y="202"/>
                    </a:lnTo>
                    <a:lnTo>
                      <a:pt x="332" y="206"/>
                    </a:lnTo>
                    <a:lnTo>
                      <a:pt x="318" y="206"/>
                    </a:lnTo>
                    <a:lnTo>
                      <a:pt x="291" y="209"/>
                    </a:lnTo>
                    <a:lnTo>
                      <a:pt x="261" y="209"/>
                    </a:lnTo>
                    <a:lnTo>
                      <a:pt x="230" y="213"/>
                    </a:lnTo>
                    <a:lnTo>
                      <a:pt x="200" y="213"/>
                    </a:lnTo>
                    <a:lnTo>
                      <a:pt x="169" y="213"/>
                    </a:lnTo>
                    <a:lnTo>
                      <a:pt x="138" y="209"/>
                    </a:lnTo>
                    <a:lnTo>
                      <a:pt x="109" y="209"/>
                    </a:lnTo>
                    <a:lnTo>
                      <a:pt x="81" y="206"/>
                    </a:lnTo>
                    <a:lnTo>
                      <a:pt x="68" y="206"/>
                    </a:lnTo>
                    <a:lnTo>
                      <a:pt x="56" y="202"/>
                    </a:lnTo>
                    <a:lnTo>
                      <a:pt x="44" y="202"/>
                    </a:lnTo>
                    <a:lnTo>
                      <a:pt x="33" y="198"/>
                    </a:lnTo>
                    <a:lnTo>
                      <a:pt x="24" y="195"/>
                    </a:lnTo>
                    <a:lnTo>
                      <a:pt x="14" y="195"/>
                    </a:lnTo>
                    <a:lnTo>
                      <a:pt x="6" y="191"/>
                    </a:lnTo>
                    <a:lnTo>
                      <a:pt x="0" y="188"/>
                    </a:lnTo>
                    <a:lnTo>
                      <a:pt x="0" y="0"/>
                    </a:lnTo>
                    <a:lnTo>
                      <a:pt x="22" y="4"/>
                    </a:lnTo>
                    <a:lnTo>
                      <a:pt x="44" y="4"/>
                    </a:lnTo>
                    <a:lnTo>
                      <a:pt x="64" y="7"/>
                    </a:lnTo>
                    <a:lnTo>
                      <a:pt x="84" y="7"/>
                    </a:lnTo>
                    <a:lnTo>
                      <a:pt x="103" y="11"/>
                    </a:lnTo>
                    <a:lnTo>
                      <a:pt x="121" y="11"/>
                    </a:lnTo>
                    <a:lnTo>
                      <a:pt x="138" y="11"/>
                    </a:lnTo>
                    <a:lnTo>
                      <a:pt x="155" y="11"/>
                    </a:lnTo>
                    <a:lnTo>
                      <a:pt x="170" y="14"/>
                    </a:lnTo>
                    <a:lnTo>
                      <a:pt x="185" y="14"/>
                    </a:lnTo>
                    <a:lnTo>
                      <a:pt x="199" y="14"/>
                    </a:lnTo>
                    <a:lnTo>
                      <a:pt x="213" y="14"/>
                    </a:lnTo>
                    <a:lnTo>
                      <a:pt x="238" y="11"/>
                    </a:lnTo>
                    <a:lnTo>
                      <a:pt x="261" y="11"/>
                    </a:lnTo>
                    <a:lnTo>
                      <a:pt x="282" y="11"/>
                    </a:lnTo>
                    <a:lnTo>
                      <a:pt x="302" y="7"/>
                    </a:lnTo>
                    <a:lnTo>
                      <a:pt x="320" y="7"/>
                    </a:lnTo>
                    <a:lnTo>
                      <a:pt x="337" y="4"/>
                    </a:lnTo>
                    <a:lnTo>
                      <a:pt x="353" y="4"/>
                    </a:lnTo>
                    <a:lnTo>
                      <a:pt x="369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23400" y="2800440"/>
                <a:ext cx="587520" cy="412200"/>
              </a:xfrm>
              <a:custGeom>
                <a:avLst/>
                <a:gdLst/>
                <a:ahLst/>
                <a:rect l="l" t="t" r="r" b="b"/>
                <a:pathLst>
                  <a:path w="401" h="272">
                    <a:moveTo>
                      <a:pt x="400" y="0"/>
                    </a:moveTo>
                    <a:lnTo>
                      <a:pt x="400" y="4"/>
                    </a:lnTo>
                    <a:lnTo>
                      <a:pt x="400" y="11"/>
                    </a:lnTo>
                    <a:lnTo>
                      <a:pt x="400" y="24"/>
                    </a:lnTo>
                    <a:lnTo>
                      <a:pt x="400" y="44"/>
                    </a:lnTo>
                    <a:lnTo>
                      <a:pt x="400" y="85"/>
                    </a:lnTo>
                    <a:lnTo>
                      <a:pt x="400" y="136"/>
                    </a:lnTo>
                    <a:lnTo>
                      <a:pt x="400" y="186"/>
                    </a:lnTo>
                    <a:lnTo>
                      <a:pt x="400" y="230"/>
                    </a:lnTo>
                    <a:lnTo>
                      <a:pt x="400" y="247"/>
                    </a:lnTo>
                    <a:lnTo>
                      <a:pt x="400" y="261"/>
                    </a:lnTo>
                    <a:lnTo>
                      <a:pt x="400" y="268"/>
                    </a:lnTo>
                    <a:lnTo>
                      <a:pt x="400" y="271"/>
                    </a:lnTo>
                    <a:lnTo>
                      <a:pt x="388" y="264"/>
                    </a:lnTo>
                    <a:lnTo>
                      <a:pt x="379" y="261"/>
                    </a:lnTo>
                    <a:lnTo>
                      <a:pt x="359" y="251"/>
                    </a:lnTo>
                    <a:lnTo>
                      <a:pt x="341" y="244"/>
                    </a:lnTo>
                    <a:lnTo>
                      <a:pt x="325" y="241"/>
                    </a:lnTo>
                    <a:lnTo>
                      <a:pt x="307" y="241"/>
                    </a:lnTo>
                    <a:lnTo>
                      <a:pt x="290" y="237"/>
                    </a:lnTo>
                    <a:lnTo>
                      <a:pt x="279" y="237"/>
                    </a:lnTo>
                    <a:lnTo>
                      <a:pt x="270" y="237"/>
                    </a:lnTo>
                    <a:lnTo>
                      <a:pt x="258" y="237"/>
                    </a:lnTo>
                    <a:lnTo>
                      <a:pt x="246" y="237"/>
                    </a:lnTo>
                    <a:lnTo>
                      <a:pt x="233" y="237"/>
                    </a:lnTo>
                    <a:lnTo>
                      <a:pt x="219" y="237"/>
                    </a:lnTo>
                    <a:lnTo>
                      <a:pt x="204" y="241"/>
                    </a:lnTo>
                    <a:lnTo>
                      <a:pt x="188" y="244"/>
                    </a:lnTo>
                    <a:lnTo>
                      <a:pt x="155" y="247"/>
                    </a:lnTo>
                    <a:lnTo>
                      <a:pt x="121" y="254"/>
                    </a:lnTo>
                    <a:lnTo>
                      <a:pt x="87" y="261"/>
                    </a:lnTo>
                    <a:lnTo>
                      <a:pt x="70" y="264"/>
                    </a:lnTo>
                    <a:lnTo>
                      <a:pt x="54" y="264"/>
                    </a:lnTo>
                    <a:lnTo>
                      <a:pt x="40" y="268"/>
                    </a:lnTo>
                    <a:lnTo>
                      <a:pt x="25" y="271"/>
                    </a:lnTo>
                    <a:lnTo>
                      <a:pt x="12" y="271"/>
                    </a:lnTo>
                    <a:lnTo>
                      <a:pt x="0" y="271"/>
                    </a:lnTo>
                    <a:lnTo>
                      <a:pt x="0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23400" y="2530440"/>
                <a:ext cx="587520" cy="307440"/>
              </a:xfrm>
              <a:custGeom>
                <a:avLst/>
                <a:gdLst/>
                <a:ahLst/>
                <a:rect l="l" t="t" r="r" b="b"/>
                <a:pathLst>
                  <a:path w="401" h="203">
                    <a:moveTo>
                      <a:pt x="400" y="12"/>
                    </a:moveTo>
                    <a:lnTo>
                      <a:pt x="400" y="190"/>
                    </a:lnTo>
                    <a:lnTo>
                      <a:pt x="394" y="196"/>
                    </a:lnTo>
                    <a:lnTo>
                      <a:pt x="389" y="199"/>
                    </a:lnTo>
                    <a:lnTo>
                      <a:pt x="382" y="202"/>
                    </a:lnTo>
                    <a:lnTo>
                      <a:pt x="374" y="202"/>
                    </a:lnTo>
                    <a:lnTo>
                      <a:pt x="366" y="202"/>
                    </a:lnTo>
                    <a:lnTo>
                      <a:pt x="358" y="202"/>
                    </a:lnTo>
                    <a:lnTo>
                      <a:pt x="338" y="202"/>
                    </a:lnTo>
                    <a:lnTo>
                      <a:pt x="317" y="199"/>
                    </a:lnTo>
                    <a:lnTo>
                      <a:pt x="295" y="193"/>
                    </a:lnTo>
                    <a:lnTo>
                      <a:pt x="270" y="190"/>
                    </a:lnTo>
                    <a:lnTo>
                      <a:pt x="246" y="190"/>
                    </a:lnTo>
                    <a:lnTo>
                      <a:pt x="232" y="190"/>
                    </a:lnTo>
                    <a:lnTo>
                      <a:pt x="218" y="190"/>
                    </a:lnTo>
                    <a:lnTo>
                      <a:pt x="202" y="193"/>
                    </a:lnTo>
                    <a:lnTo>
                      <a:pt x="185" y="193"/>
                    </a:lnTo>
                    <a:lnTo>
                      <a:pt x="168" y="196"/>
                    </a:lnTo>
                    <a:lnTo>
                      <a:pt x="149" y="199"/>
                    </a:lnTo>
                    <a:lnTo>
                      <a:pt x="112" y="202"/>
                    </a:lnTo>
                    <a:lnTo>
                      <a:pt x="95" y="202"/>
                    </a:lnTo>
                    <a:lnTo>
                      <a:pt x="78" y="202"/>
                    </a:lnTo>
                    <a:lnTo>
                      <a:pt x="61" y="202"/>
                    </a:lnTo>
                    <a:lnTo>
                      <a:pt x="46" y="202"/>
                    </a:lnTo>
                    <a:lnTo>
                      <a:pt x="32" y="202"/>
                    </a:lnTo>
                    <a:lnTo>
                      <a:pt x="19" y="199"/>
                    </a:lnTo>
                    <a:lnTo>
                      <a:pt x="8" y="196"/>
                    </a:lnTo>
                    <a:lnTo>
                      <a:pt x="0" y="190"/>
                    </a:lnTo>
                    <a:lnTo>
                      <a:pt x="0" y="12"/>
                    </a:lnTo>
                    <a:lnTo>
                      <a:pt x="5" y="9"/>
                    </a:lnTo>
                    <a:lnTo>
                      <a:pt x="12" y="6"/>
                    </a:lnTo>
                    <a:lnTo>
                      <a:pt x="19" y="6"/>
                    </a:lnTo>
                    <a:lnTo>
                      <a:pt x="28" y="3"/>
                    </a:lnTo>
                    <a:lnTo>
                      <a:pt x="36" y="3"/>
                    </a:lnTo>
                    <a:lnTo>
                      <a:pt x="46" y="0"/>
                    </a:lnTo>
                    <a:lnTo>
                      <a:pt x="67" y="0"/>
                    </a:lnTo>
                    <a:lnTo>
                      <a:pt x="90" y="0"/>
                    </a:lnTo>
                    <a:lnTo>
                      <a:pt x="114" y="0"/>
                    </a:lnTo>
                    <a:lnTo>
                      <a:pt x="139" y="0"/>
                    </a:lnTo>
                    <a:lnTo>
                      <a:pt x="165" y="0"/>
                    </a:lnTo>
                    <a:lnTo>
                      <a:pt x="191" y="3"/>
                    </a:lnTo>
                    <a:lnTo>
                      <a:pt x="217" y="3"/>
                    </a:lnTo>
                    <a:lnTo>
                      <a:pt x="241" y="6"/>
                    </a:lnTo>
                    <a:lnTo>
                      <a:pt x="265" y="9"/>
                    </a:lnTo>
                    <a:lnTo>
                      <a:pt x="287" y="9"/>
                    </a:lnTo>
                    <a:lnTo>
                      <a:pt x="307" y="12"/>
                    </a:lnTo>
                    <a:lnTo>
                      <a:pt x="316" y="12"/>
                    </a:lnTo>
                    <a:lnTo>
                      <a:pt x="324" y="12"/>
                    </a:lnTo>
                    <a:lnTo>
                      <a:pt x="331" y="12"/>
                    </a:lnTo>
                    <a:lnTo>
                      <a:pt x="338" y="12"/>
                    </a:lnTo>
                    <a:lnTo>
                      <a:pt x="349" y="12"/>
                    </a:lnTo>
                    <a:lnTo>
                      <a:pt x="359" y="12"/>
                    </a:lnTo>
                    <a:lnTo>
                      <a:pt x="368" y="12"/>
                    </a:lnTo>
                    <a:lnTo>
                      <a:pt x="374" y="12"/>
                    </a:lnTo>
                    <a:lnTo>
                      <a:pt x="379" y="12"/>
                    </a:lnTo>
                    <a:lnTo>
                      <a:pt x="383" y="12"/>
                    </a:lnTo>
                    <a:lnTo>
                      <a:pt x="386" y="12"/>
                    </a:lnTo>
                    <a:lnTo>
                      <a:pt x="390" y="12"/>
                    </a:lnTo>
                    <a:lnTo>
                      <a:pt x="392" y="12"/>
                    </a:lnTo>
                    <a:lnTo>
                      <a:pt x="394" y="12"/>
                    </a:lnTo>
                    <a:lnTo>
                      <a:pt x="396" y="12"/>
                    </a:lnTo>
                    <a:lnTo>
                      <a:pt x="397" y="12"/>
                    </a:lnTo>
                    <a:lnTo>
                      <a:pt x="400" y="12"/>
                    </a:lnTo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8800" y="4754520"/>
                <a:ext cx="587520" cy="425880"/>
              </a:xfrm>
              <a:custGeom>
                <a:avLst/>
                <a:gdLst/>
                <a:ahLst/>
                <a:rect l="l" t="t" r="r" b="b"/>
                <a:pathLst>
                  <a:path w="401" h="281">
                    <a:moveTo>
                      <a:pt x="400" y="0"/>
                    </a:moveTo>
                    <a:lnTo>
                      <a:pt x="400" y="4"/>
                    </a:lnTo>
                    <a:lnTo>
                      <a:pt x="400" y="10"/>
                    </a:lnTo>
                    <a:lnTo>
                      <a:pt x="400" y="43"/>
                    </a:lnTo>
                    <a:lnTo>
                      <a:pt x="400" y="87"/>
                    </a:lnTo>
                    <a:lnTo>
                      <a:pt x="400" y="137"/>
                    </a:lnTo>
                    <a:lnTo>
                      <a:pt x="400" y="186"/>
                    </a:lnTo>
                    <a:lnTo>
                      <a:pt x="400" y="225"/>
                    </a:lnTo>
                    <a:lnTo>
                      <a:pt x="400" y="258"/>
                    </a:lnTo>
                    <a:lnTo>
                      <a:pt x="400" y="263"/>
                    </a:lnTo>
                    <a:lnTo>
                      <a:pt x="400" y="269"/>
                    </a:lnTo>
                    <a:lnTo>
                      <a:pt x="374" y="263"/>
                    </a:lnTo>
                    <a:lnTo>
                      <a:pt x="350" y="263"/>
                    </a:lnTo>
                    <a:lnTo>
                      <a:pt x="328" y="258"/>
                    </a:lnTo>
                    <a:lnTo>
                      <a:pt x="306" y="258"/>
                    </a:lnTo>
                    <a:lnTo>
                      <a:pt x="286" y="258"/>
                    </a:lnTo>
                    <a:lnTo>
                      <a:pt x="266" y="252"/>
                    </a:lnTo>
                    <a:lnTo>
                      <a:pt x="247" y="252"/>
                    </a:lnTo>
                    <a:lnTo>
                      <a:pt x="230" y="252"/>
                    </a:lnTo>
                    <a:lnTo>
                      <a:pt x="214" y="252"/>
                    </a:lnTo>
                    <a:lnTo>
                      <a:pt x="198" y="258"/>
                    </a:lnTo>
                    <a:lnTo>
                      <a:pt x="182" y="258"/>
                    </a:lnTo>
                    <a:lnTo>
                      <a:pt x="169" y="258"/>
                    </a:lnTo>
                    <a:lnTo>
                      <a:pt x="156" y="263"/>
                    </a:lnTo>
                    <a:lnTo>
                      <a:pt x="144" y="263"/>
                    </a:lnTo>
                    <a:lnTo>
                      <a:pt x="132" y="263"/>
                    </a:lnTo>
                    <a:lnTo>
                      <a:pt x="121" y="269"/>
                    </a:lnTo>
                    <a:lnTo>
                      <a:pt x="101" y="269"/>
                    </a:lnTo>
                    <a:lnTo>
                      <a:pt x="82" y="274"/>
                    </a:lnTo>
                    <a:lnTo>
                      <a:pt x="66" y="280"/>
                    </a:lnTo>
                    <a:lnTo>
                      <a:pt x="51" y="280"/>
                    </a:lnTo>
                    <a:lnTo>
                      <a:pt x="37" y="280"/>
                    </a:lnTo>
                    <a:lnTo>
                      <a:pt x="25" y="280"/>
                    </a:lnTo>
                    <a:lnTo>
                      <a:pt x="0" y="269"/>
                    </a:lnTo>
                    <a:lnTo>
                      <a:pt x="0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28800" y="4363200"/>
                <a:ext cx="587520" cy="433440"/>
              </a:xfrm>
              <a:custGeom>
                <a:avLst/>
                <a:gdLst/>
                <a:ahLst/>
                <a:rect l="l" t="t" r="r" b="b"/>
                <a:pathLst>
                  <a:path w="401" h="286">
                    <a:moveTo>
                      <a:pt x="400" y="0"/>
                    </a:moveTo>
                    <a:lnTo>
                      <a:pt x="400" y="270"/>
                    </a:lnTo>
                    <a:lnTo>
                      <a:pt x="393" y="275"/>
                    </a:lnTo>
                    <a:lnTo>
                      <a:pt x="386" y="275"/>
                    </a:lnTo>
                    <a:lnTo>
                      <a:pt x="377" y="280"/>
                    </a:lnTo>
                    <a:lnTo>
                      <a:pt x="369" y="280"/>
                    </a:lnTo>
                    <a:lnTo>
                      <a:pt x="359" y="285"/>
                    </a:lnTo>
                    <a:lnTo>
                      <a:pt x="349" y="285"/>
                    </a:lnTo>
                    <a:lnTo>
                      <a:pt x="327" y="285"/>
                    </a:lnTo>
                    <a:lnTo>
                      <a:pt x="302" y="285"/>
                    </a:lnTo>
                    <a:lnTo>
                      <a:pt x="277" y="280"/>
                    </a:lnTo>
                    <a:lnTo>
                      <a:pt x="249" y="280"/>
                    </a:lnTo>
                    <a:lnTo>
                      <a:pt x="221" y="275"/>
                    </a:lnTo>
                    <a:lnTo>
                      <a:pt x="163" y="270"/>
                    </a:lnTo>
                    <a:lnTo>
                      <a:pt x="134" y="265"/>
                    </a:lnTo>
                    <a:lnTo>
                      <a:pt x="105" y="265"/>
                    </a:lnTo>
                    <a:lnTo>
                      <a:pt x="76" y="265"/>
                    </a:lnTo>
                    <a:lnTo>
                      <a:pt x="50" y="265"/>
                    </a:lnTo>
                    <a:lnTo>
                      <a:pt x="24" y="265"/>
                    </a:lnTo>
                    <a:lnTo>
                      <a:pt x="0" y="270"/>
                    </a:lnTo>
                    <a:lnTo>
                      <a:pt x="0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23400" y="5424840"/>
                <a:ext cx="587520" cy="275760"/>
              </a:xfrm>
              <a:custGeom>
                <a:avLst/>
                <a:gdLst/>
                <a:ahLst/>
                <a:rect l="l" t="t" r="r" b="b"/>
                <a:pathLst>
                  <a:path w="401" h="182">
                    <a:moveTo>
                      <a:pt x="400" y="24"/>
                    </a:moveTo>
                    <a:lnTo>
                      <a:pt x="400" y="163"/>
                    </a:lnTo>
                    <a:lnTo>
                      <a:pt x="393" y="163"/>
                    </a:lnTo>
                    <a:lnTo>
                      <a:pt x="385" y="169"/>
                    </a:lnTo>
                    <a:lnTo>
                      <a:pt x="376" y="169"/>
                    </a:lnTo>
                    <a:lnTo>
                      <a:pt x="366" y="169"/>
                    </a:lnTo>
                    <a:lnTo>
                      <a:pt x="355" y="175"/>
                    </a:lnTo>
                    <a:lnTo>
                      <a:pt x="344" y="175"/>
                    </a:lnTo>
                    <a:lnTo>
                      <a:pt x="332" y="175"/>
                    </a:lnTo>
                    <a:lnTo>
                      <a:pt x="318" y="175"/>
                    </a:lnTo>
                    <a:lnTo>
                      <a:pt x="291" y="181"/>
                    </a:lnTo>
                    <a:lnTo>
                      <a:pt x="262" y="181"/>
                    </a:lnTo>
                    <a:lnTo>
                      <a:pt x="231" y="181"/>
                    </a:lnTo>
                    <a:lnTo>
                      <a:pt x="200" y="181"/>
                    </a:lnTo>
                    <a:lnTo>
                      <a:pt x="168" y="181"/>
                    </a:lnTo>
                    <a:lnTo>
                      <a:pt x="137" y="181"/>
                    </a:lnTo>
                    <a:lnTo>
                      <a:pt x="108" y="181"/>
                    </a:lnTo>
                    <a:lnTo>
                      <a:pt x="81" y="175"/>
                    </a:lnTo>
                    <a:lnTo>
                      <a:pt x="68" y="175"/>
                    </a:lnTo>
                    <a:lnTo>
                      <a:pt x="55" y="175"/>
                    </a:lnTo>
                    <a:lnTo>
                      <a:pt x="44" y="175"/>
                    </a:lnTo>
                    <a:lnTo>
                      <a:pt x="33" y="169"/>
                    </a:lnTo>
                    <a:lnTo>
                      <a:pt x="23" y="169"/>
                    </a:lnTo>
                    <a:lnTo>
                      <a:pt x="14" y="169"/>
                    </a:lnTo>
                    <a:lnTo>
                      <a:pt x="6" y="163"/>
                    </a:lnTo>
                    <a:lnTo>
                      <a:pt x="0" y="163"/>
                    </a:lnTo>
                    <a:lnTo>
                      <a:pt x="0" y="24"/>
                    </a:lnTo>
                    <a:lnTo>
                      <a:pt x="5" y="18"/>
                    </a:lnTo>
                    <a:lnTo>
                      <a:pt x="11" y="12"/>
                    </a:lnTo>
                    <a:lnTo>
                      <a:pt x="17" y="12"/>
                    </a:lnTo>
                    <a:lnTo>
                      <a:pt x="26" y="6"/>
                    </a:lnTo>
                    <a:lnTo>
                      <a:pt x="42" y="6"/>
                    </a:lnTo>
                    <a:lnTo>
                      <a:pt x="62" y="0"/>
                    </a:lnTo>
                    <a:lnTo>
                      <a:pt x="82" y="0"/>
                    </a:lnTo>
                    <a:lnTo>
                      <a:pt x="105" y="0"/>
                    </a:lnTo>
                    <a:lnTo>
                      <a:pt x="129" y="0"/>
                    </a:lnTo>
                    <a:lnTo>
                      <a:pt x="153" y="0"/>
                    </a:lnTo>
                    <a:lnTo>
                      <a:pt x="167" y="0"/>
                    </a:lnTo>
                    <a:lnTo>
                      <a:pt x="181" y="0"/>
                    </a:lnTo>
                    <a:lnTo>
                      <a:pt x="197" y="0"/>
                    </a:lnTo>
                    <a:lnTo>
                      <a:pt x="213" y="6"/>
                    </a:lnTo>
                    <a:lnTo>
                      <a:pt x="247" y="6"/>
                    </a:lnTo>
                    <a:lnTo>
                      <a:pt x="282" y="12"/>
                    </a:lnTo>
                    <a:lnTo>
                      <a:pt x="317" y="12"/>
                    </a:lnTo>
                    <a:lnTo>
                      <a:pt x="333" y="18"/>
                    </a:lnTo>
                    <a:lnTo>
                      <a:pt x="349" y="18"/>
                    </a:lnTo>
                    <a:lnTo>
                      <a:pt x="364" y="18"/>
                    </a:lnTo>
                    <a:lnTo>
                      <a:pt x="377" y="24"/>
                    </a:lnTo>
                    <a:lnTo>
                      <a:pt x="389" y="24"/>
                    </a:lnTo>
                    <a:lnTo>
                      <a:pt x="400" y="24"/>
                    </a:lnTo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3400" y="6214680"/>
                <a:ext cx="587520" cy="336600"/>
              </a:xfrm>
              <a:custGeom>
                <a:avLst/>
                <a:gdLst/>
                <a:ahLst/>
                <a:rect l="l" t="t" r="r" b="b"/>
                <a:pathLst>
                  <a:path w="401" h="222">
                    <a:moveTo>
                      <a:pt x="399" y="0"/>
                    </a:moveTo>
                    <a:lnTo>
                      <a:pt x="400" y="221"/>
                    </a:lnTo>
                    <a:lnTo>
                      <a:pt x="3" y="22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4" y="7"/>
                    </a:lnTo>
                    <a:lnTo>
                      <a:pt x="64" y="7"/>
                    </a:lnTo>
                    <a:lnTo>
                      <a:pt x="84" y="7"/>
                    </a:lnTo>
                    <a:lnTo>
                      <a:pt x="103" y="7"/>
                    </a:lnTo>
                    <a:lnTo>
                      <a:pt x="121" y="14"/>
                    </a:lnTo>
                    <a:lnTo>
                      <a:pt x="138" y="14"/>
                    </a:lnTo>
                    <a:lnTo>
                      <a:pt x="155" y="14"/>
                    </a:lnTo>
                    <a:lnTo>
                      <a:pt x="170" y="14"/>
                    </a:lnTo>
                    <a:lnTo>
                      <a:pt x="185" y="14"/>
                    </a:lnTo>
                    <a:lnTo>
                      <a:pt x="199" y="14"/>
                    </a:lnTo>
                    <a:lnTo>
                      <a:pt x="212" y="14"/>
                    </a:lnTo>
                    <a:lnTo>
                      <a:pt x="238" y="14"/>
                    </a:lnTo>
                    <a:lnTo>
                      <a:pt x="260" y="14"/>
                    </a:lnTo>
                    <a:lnTo>
                      <a:pt x="282" y="7"/>
                    </a:lnTo>
                    <a:lnTo>
                      <a:pt x="301" y="7"/>
                    </a:lnTo>
                    <a:lnTo>
                      <a:pt x="319" y="7"/>
                    </a:lnTo>
                    <a:lnTo>
                      <a:pt x="336" y="7"/>
                    </a:lnTo>
                    <a:lnTo>
                      <a:pt x="352" y="0"/>
                    </a:lnTo>
                    <a:lnTo>
                      <a:pt x="368" y="0"/>
                    </a:lnTo>
                    <a:lnTo>
                      <a:pt x="399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23400" y="5922000"/>
                <a:ext cx="587520" cy="416880"/>
              </a:xfrm>
              <a:custGeom>
                <a:avLst/>
                <a:gdLst/>
                <a:ahLst/>
                <a:rect l="l" t="t" r="r" b="b"/>
                <a:pathLst>
                  <a:path w="401" h="275">
                    <a:moveTo>
                      <a:pt x="400" y="0"/>
                    </a:moveTo>
                    <a:lnTo>
                      <a:pt x="400" y="13"/>
                    </a:lnTo>
                    <a:lnTo>
                      <a:pt x="400" y="40"/>
                    </a:lnTo>
                    <a:lnTo>
                      <a:pt x="400" y="87"/>
                    </a:lnTo>
                    <a:lnTo>
                      <a:pt x="400" y="140"/>
                    </a:lnTo>
                    <a:lnTo>
                      <a:pt x="400" y="187"/>
                    </a:lnTo>
                    <a:lnTo>
                      <a:pt x="400" y="234"/>
                    </a:lnTo>
                    <a:lnTo>
                      <a:pt x="400" y="261"/>
                    </a:lnTo>
                    <a:lnTo>
                      <a:pt x="400" y="274"/>
                    </a:lnTo>
                    <a:lnTo>
                      <a:pt x="388" y="267"/>
                    </a:lnTo>
                    <a:lnTo>
                      <a:pt x="379" y="261"/>
                    </a:lnTo>
                    <a:lnTo>
                      <a:pt x="359" y="254"/>
                    </a:lnTo>
                    <a:lnTo>
                      <a:pt x="341" y="247"/>
                    </a:lnTo>
                    <a:lnTo>
                      <a:pt x="325" y="247"/>
                    </a:lnTo>
                    <a:lnTo>
                      <a:pt x="307" y="241"/>
                    </a:lnTo>
                    <a:lnTo>
                      <a:pt x="289" y="241"/>
                    </a:lnTo>
                    <a:lnTo>
                      <a:pt x="280" y="241"/>
                    </a:lnTo>
                    <a:lnTo>
                      <a:pt x="269" y="241"/>
                    </a:lnTo>
                    <a:lnTo>
                      <a:pt x="257" y="241"/>
                    </a:lnTo>
                    <a:lnTo>
                      <a:pt x="246" y="241"/>
                    </a:lnTo>
                    <a:lnTo>
                      <a:pt x="232" y="241"/>
                    </a:lnTo>
                    <a:lnTo>
                      <a:pt x="218" y="241"/>
                    </a:lnTo>
                    <a:lnTo>
                      <a:pt x="204" y="241"/>
                    </a:lnTo>
                    <a:lnTo>
                      <a:pt x="187" y="247"/>
                    </a:lnTo>
                    <a:lnTo>
                      <a:pt x="155" y="254"/>
                    </a:lnTo>
                    <a:lnTo>
                      <a:pt x="121" y="261"/>
                    </a:lnTo>
                    <a:lnTo>
                      <a:pt x="87" y="261"/>
                    </a:lnTo>
                    <a:lnTo>
                      <a:pt x="70" y="267"/>
                    </a:lnTo>
                    <a:lnTo>
                      <a:pt x="54" y="267"/>
                    </a:lnTo>
                    <a:lnTo>
                      <a:pt x="39" y="274"/>
                    </a:lnTo>
                    <a:lnTo>
                      <a:pt x="25" y="274"/>
                    </a:lnTo>
                    <a:lnTo>
                      <a:pt x="12" y="274"/>
                    </a:lnTo>
                    <a:lnTo>
                      <a:pt x="0" y="274"/>
                    </a:lnTo>
                    <a:lnTo>
                      <a:pt x="0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23400" y="5655240"/>
                <a:ext cx="587520" cy="307440"/>
              </a:xfrm>
              <a:custGeom>
                <a:avLst/>
                <a:gdLst/>
                <a:ahLst/>
                <a:rect l="l" t="t" r="r" b="b"/>
                <a:pathLst>
                  <a:path w="401" h="203">
                    <a:moveTo>
                      <a:pt x="400" y="13"/>
                    </a:moveTo>
                    <a:lnTo>
                      <a:pt x="400" y="189"/>
                    </a:lnTo>
                    <a:lnTo>
                      <a:pt x="394" y="196"/>
                    </a:lnTo>
                    <a:lnTo>
                      <a:pt x="388" y="196"/>
                    </a:lnTo>
                    <a:lnTo>
                      <a:pt x="381" y="202"/>
                    </a:lnTo>
                    <a:lnTo>
                      <a:pt x="374" y="202"/>
                    </a:lnTo>
                    <a:lnTo>
                      <a:pt x="357" y="202"/>
                    </a:lnTo>
                    <a:lnTo>
                      <a:pt x="338" y="202"/>
                    </a:lnTo>
                    <a:lnTo>
                      <a:pt x="317" y="196"/>
                    </a:lnTo>
                    <a:lnTo>
                      <a:pt x="294" y="196"/>
                    </a:lnTo>
                    <a:lnTo>
                      <a:pt x="270" y="189"/>
                    </a:lnTo>
                    <a:lnTo>
                      <a:pt x="245" y="189"/>
                    </a:lnTo>
                    <a:lnTo>
                      <a:pt x="232" y="189"/>
                    </a:lnTo>
                    <a:lnTo>
                      <a:pt x="218" y="189"/>
                    </a:lnTo>
                    <a:lnTo>
                      <a:pt x="202" y="189"/>
                    </a:lnTo>
                    <a:lnTo>
                      <a:pt x="185" y="196"/>
                    </a:lnTo>
                    <a:lnTo>
                      <a:pt x="167" y="196"/>
                    </a:lnTo>
                    <a:lnTo>
                      <a:pt x="150" y="196"/>
                    </a:lnTo>
                    <a:lnTo>
                      <a:pt x="113" y="202"/>
                    </a:lnTo>
                    <a:lnTo>
                      <a:pt x="96" y="202"/>
                    </a:lnTo>
                    <a:lnTo>
                      <a:pt x="78" y="202"/>
                    </a:lnTo>
                    <a:lnTo>
                      <a:pt x="62" y="202"/>
                    </a:lnTo>
                    <a:lnTo>
                      <a:pt x="46" y="202"/>
                    </a:lnTo>
                    <a:lnTo>
                      <a:pt x="32" y="202"/>
                    </a:lnTo>
                    <a:lnTo>
                      <a:pt x="19" y="196"/>
                    </a:lnTo>
                    <a:lnTo>
                      <a:pt x="8" y="196"/>
                    </a:lnTo>
                    <a:lnTo>
                      <a:pt x="0" y="189"/>
                    </a:lnTo>
                    <a:lnTo>
                      <a:pt x="0" y="13"/>
                    </a:lnTo>
                    <a:lnTo>
                      <a:pt x="5" y="13"/>
                    </a:lnTo>
                    <a:lnTo>
                      <a:pt x="12" y="6"/>
                    </a:lnTo>
                    <a:lnTo>
                      <a:pt x="19" y="6"/>
                    </a:lnTo>
                    <a:lnTo>
                      <a:pt x="27" y="6"/>
                    </a:lnTo>
                    <a:lnTo>
                      <a:pt x="36" y="0"/>
                    </a:lnTo>
                    <a:lnTo>
                      <a:pt x="46" y="0"/>
                    </a:lnTo>
                    <a:lnTo>
                      <a:pt x="66" y="0"/>
                    </a:lnTo>
                    <a:lnTo>
                      <a:pt x="89" y="0"/>
                    </a:lnTo>
                    <a:lnTo>
                      <a:pt x="114" y="0"/>
                    </a:lnTo>
                    <a:lnTo>
                      <a:pt x="139" y="0"/>
                    </a:lnTo>
                    <a:lnTo>
                      <a:pt x="165" y="0"/>
                    </a:lnTo>
                    <a:lnTo>
                      <a:pt x="191" y="0"/>
                    </a:lnTo>
                    <a:lnTo>
                      <a:pt x="216" y="6"/>
                    </a:lnTo>
                    <a:lnTo>
                      <a:pt x="241" y="6"/>
                    </a:lnTo>
                    <a:lnTo>
                      <a:pt x="265" y="6"/>
                    </a:lnTo>
                    <a:lnTo>
                      <a:pt x="287" y="13"/>
                    </a:lnTo>
                    <a:lnTo>
                      <a:pt x="306" y="13"/>
                    </a:lnTo>
                    <a:lnTo>
                      <a:pt x="316" y="13"/>
                    </a:lnTo>
                    <a:lnTo>
                      <a:pt x="324" y="13"/>
                    </a:lnTo>
                    <a:lnTo>
                      <a:pt x="331" y="13"/>
                    </a:lnTo>
                    <a:lnTo>
                      <a:pt x="338" y="13"/>
                    </a:lnTo>
                    <a:lnTo>
                      <a:pt x="350" y="13"/>
                    </a:lnTo>
                    <a:lnTo>
                      <a:pt x="359" y="13"/>
                    </a:lnTo>
                    <a:lnTo>
                      <a:pt x="368" y="13"/>
                    </a:lnTo>
                    <a:lnTo>
                      <a:pt x="374" y="13"/>
                    </a:lnTo>
                    <a:lnTo>
                      <a:pt x="379" y="13"/>
                    </a:lnTo>
                    <a:lnTo>
                      <a:pt x="383" y="13"/>
                    </a:lnTo>
                    <a:lnTo>
                      <a:pt x="387" y="13"/>
                    </a:lnTo>
                    <a:lnTo>
                      <a:pt x="390" y="13"/>
                    </a:lnTo>
                    <a:lnTo>
                      <a:pt x="392" y="13"/>
                    </a:lnTo>
                    <a:lnTo>
                      <a:pt x="394" y="13"/>
                    </a:lnTo>
                    <a:lnTo>
                      <a:pt x="396" y="13"/>
                    </a:lnTo>
                    <a:lnTo>
                      <a:pt x="397" y="13"/>
                    </a:lnTo>
                    <a:lnTo>
                      <a:pt x="400" y="13"/>
                    </a:lnTo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" name=""/>
            <p:cNvSpPr/>
            <p:nvPr/>
          </p:nvSpPr>
          <p:spPr>
            <a:xfrm>
              <a:off x="0" y="2880"/>
              <a:ext cx="264960" cy="6549840"/>
            </a:xfrm>
            <a:custGeom>
              <a:avLst/>
              <a:gdLst/>
              <a:ahLst/>
              <a:rect l="l" t="t" r="r" b="b"/>
              <a:pathLst>
                <a:path w="181" h="4320">
                  <a:moveTo>
                    <a:pt x="135" y="0"/>
                  </a:moveTo>
                  <a:lnTo>
                    <a:pt x="141" y="54"/>
                  </a:lnTo>
                  <a:lnTo>
                    <a:pt x="146" y="117"/>
                  </a:lnTo>
                  <a:lnTo>
                    <a:pt x="151" y="172"/>
                  </a:lnTo>
                  <a:lnTo>
                    <a:pt x="155" y="227"/>
                  </a:lnTo>
                  <a:lnTo>
                    <a:pt x="159" y="282"/>
                  </a:lnTo>
                  <a:lnTo>
                    <a:pt x="163" y="331"/>
                  </a:lnTo>
                  <a:lnTo>
                    <a:pt x="170" y="435"/>
                  </a:lnTo>
                  <a:lnTo>
                    <a:pt x="173" y="538"/>
                  </a:lnTo>
                  <a:lnTo>
                    <a:pt x="177" y="642"/>
                  </a:lnTo>
                  <a:lnTo>
                    <a:pt x="179" y="739"/>
                  </a:lnTo>
                  <a:lnTo>
                    <a:pt x="180" y="836"/>
                  </a:lnTo>
                  <a:lnTo>
                    <a:pt x="179" y="932"/>
                  </a:lnTo>
                  <a:lnTo>
                    <a:pt x="178" y="1029"/>
                  </a:lnTo>
                  <a:lnTo>
                    <a:pt x="176" y="1126"/>
                  </a:lnTo>
                  <a:lnTo>
                    <a:pt x="173" y="1230"/>
                  </a:lnTo>
                  <a:lnTo>
                    <a:pt x="170" y="1326"/>
                  </a:lnTo>
                  <a:lnTo>
                    <a:pt x="166" y="1430"/>
                  </a:lnTo>
                  <a:lnTo>
                    <a:pt x="156" y="1651"/>
                  </a:lnTo>
                  <a:lnTo>
                    <a:pt x="146" y="1879"/>
                  </a:lnTo>
                  <a:lnTo>
                    <a:pt x="137" y="2135"/>
                  </a:lnTo>
                  <a:lnTo>
                    <a:pt x="132" y="2266"/>
                  </a:lnTo>
                  <a:lnTo>
                    <a:pt x="128" y="2411"/>
                  </a:lnTo>
                  <a:lnTo>
                    <a:pt x="124" y="2563"/>
                  </a:lnTo>
                  <a:lnTo>
                    <a:pt x="121" y="2715"/>
                  </a:lnTo>
                  <a:lnTo>
                    <a:pt x="118" y="2881"/>
                  </a:lnTo>
                  <a:lnTo>
                    <a:pt x="117" y="3054"/>
                  </a:lnTo>
                  <a:lnTo>
                    <a:pt x="115" y="3240"/>
                  </a:lnTo>
                  <a:lnTo>
                    <a:pt x="115" y="3434"/>
                  </a:lnTo>
                  <a:lnTo>
                    <a:pt x="117" y="3641"/>
                  </a:lnTo>
                  <a:lnTo>
                    <a:pt x="119" y="3856"/>
                  </a:lnTo>
                  <a:lnTo>
                    <a:pt x="123" y="4077"/>
                  </a:lnTo>
                  <a:lnTo>
                    <a:pt x="129" y="4319"/>
                  </a:lnTo>
                  <a:lnTo>
                    <a:pt x="2" y="4319"/>
                  </a:lnTo>
                  <a:lnTo>
                    <a:pt x="0" y="0"/>
                  </a:lnTo>
                  <a:lnTo>
                    <a:pt x="135" y="0"/>
                  </a:ln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452880" y="2880"/>
              <a:ext cx="180000" cy="6548040"/>
            </a:xfrm>
            <a:custGeom>
              <a:avLst/>
              <a:gdLst/>
              <a:ahLst/>
              <a:rect l="l" t="t" r="r" b="b"/>
              <a:pathLst>
                <a:path w="123" h="4319">
                  <a:moveTo>
                    <a:pt x="18" y="0"/>
                  </a:moveTo>
                  <a:lnTo>
                    <a:pt x="16" y="75"/>
                  </a:lnTo>
                  <a:lnTo>
                    <a:pt x="16" y="158"/>
                  </a:lnTo>
                  <a:lnTo>
                    <a:pt x="16" y="255"/>
                  </a:lnTo>
                  <a:lnTo>
                    <a:pt x="16" y="365"/>
                  </a:lnTo>
                  <a:lnTo>
                    <a:pt x="17" y="483"/>
                  </a:lnTo>
                  <a:lnTo>
                    <a:pt x="18" y="614"/>
                  </a:lnTo>
                  <a:lnTo>
                    <a:pt x="20" y="752"/>
                  </a:lnTo>
                  <a:lnTo>
                    <a:pt x="22" y="891"/>
                  </a:lnTo>
                  <a:lnTo>
                    <a:pt x="27" y="1202"/>
                  </a:lnTo>
                  <a:lnTo>
                    <a:pt x="31" y="1527"/>
                  </a:lnTo>
                  <a:lnTo>
                    <a:pt x="36" y="1865"/>
                  </a:lnTo>
                  <a:lnTo>
                    <a:pt x="41" y="2203"/>
                  </a:lnTo>
                  <a:lnTo>
                    <a:pt x="45" y="2549"/>
                  </a:lnTo>
                  <a:lnTo>
                    <a:pt x="46" y="2880"/>
                  </a:lnTo>
                  <a:lnTo>
                    <a:pt x="46" y="3198"/>
                  </a:lnTo>
                  <a:lnTo>
                    <a:pt x="45" y="3350"/>
                  </a:lnTo>
                  <a:lnTo>
                    <a:pt x="44" y="3495"/>
                  </a:lnTo>
                  <a:lnTo>
                    <a:pt x="41" y="3634"/>
                  </a:lnTo>
                  <a:lnTo>
                    <a:pt x="38" y="3758"/>
                  </a:lnTo>
                  <a:lnTo>
                    <a:pt x="34" y="3883"/>
                  </a:lnTo>
                  <a:lnTo>
                    <a:pt x="29" y="3993"/>
                  </a:lnTo>
                  <a:lnTo>
                    <a:pt x="24" y="4090"/>
                  </a:lnTo>
                  <a:lnTo>
                    <a:pt x="17" y="4180"/>
                  </a:lnTo>
                  <a:lnTo>
                    <a:pt x="9" y="4256"/>
                  </a:lnTo>
                  <a:lnTo>
                    <a:pt x="0" y="4318"/>
                  </a:lnTo>
                  <a:lnTo>
                    <a:pt x="122" y="4318"/>
                  </a:lnTo>
                  <a:lnTo>
                    <a:pt x="122" y="0"/>
                  </a:lnTo>
                  <a:lnTo>
                    <a:pt x="18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" name=""/>
          <p:cNvSpPr/>
          <p:nvPr/>
        </p:nvSpPr>
        <p:spPr>
          <a:xfrm>
            <a:off x="69840" y="6553080"/>
            <a:ext cx="1225440" cy="27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ff9900"/>
                </a:solidFill>
                <a:latin typeface="Arial"/>
              </a:rPr>
              <a:t>DI - UF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6600"/>
                </a:solidFill>
                <a:latin typeface="Arial"/>
              </a:rPr>
              <a:t>Planejamento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Jacques Rob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Geber Ramalh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Giordano Cabr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773280" y="1142640"/>
            <a:ext cx="757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17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compose(Construction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17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lan(STEPS:{S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:Build(Foundation),S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:Build(Frame)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17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: Build(Roof), S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:Build(Walls)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17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: Build(Interior)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17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rderings:{S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&lt;S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&lt;S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&lt;S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&lt;S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&lt;S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}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17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indings:{}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17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inks:{S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 baseline="30000">
                <a:solidFill>
                  <a:srgbClr val="000000"/>
                </a:solidFill>
                <a:latin typeface="Arial"/>
              </a:rPr>
              <a:t>Foundation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 baseline="30000">
                <a:solidFill>
                  <a:srgbClr val="000000"/>
                </a:solidFill>
                <a:latin typeface="Arial"/>
              </a:rPr>
              <a:t>Fram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 baseline="30000">
                <a:solidFill>
                  <a:srgbClr val="000000"/>
                </a:solidFill>
                <a:latin typeface="Arial"/>
              </a:rPr>
              <a:t>Fram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17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 baseline="30000">
                <a:solidFill>
                  <a:srgbClr val="000000"/>
                </a:solidFill>
                <a:latin typeface="Arial"/>
              </a:rPr>
              <a:t>Roof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 baseline="30000">
                <a:solidFill>
                  <a:srgbClr val="000000"/>
                </a:solidFill>
                <a:latin typeface="Arial"/>
              </a:rPr>
              <a:t>Walls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}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3200" spc="-1" strike="noStrike">
                <a:solidFill>
                  <a:srgbClr val="996600"/>
                </a:solidFill>
                <a:latin typeface="Arial"/>
              </a:rPr>
              <a:t>Exemplo de Decompose(o,p)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2C5E6-A871-4EB0-9ACE-3EB5D72C9A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6600"/>
                </a:solidFill>
                <a:latin typeface="Arial"/>
              </a:rPr>
              <a:t>Decomposição Hierárquica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80010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lnSpc>
                <a:spcPct val="110000"/>
              </a:lnSpc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lgoritm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11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struir POP inicial ao maior nível de abstr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11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cursivamente decompor ações abstratas até POP final conter apenas de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operadores primitivos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(que podem ser executados pelo agen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11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Verificar consistência global do POP fi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0">
              <a:lnSpc>
                <a:spcPct val="110000"/>
              </a:lnSpc>
              <a:spcBef>
                <a:spcPts val="414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10000"/>
              </a:lnSpc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antagens de Sub-POPs independent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11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paço de busca reduz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11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hecimento composicion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11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uso e reuso de sub-POPs pre-fabricados ou já planej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CD1CF-06CA-4A2E-9FF7-E183DC88D7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6600"/>
                </a:solidFill>
                <a:latin typeface="Arial"/>
              </a:rPr>
              <a:t>Decomposição e compartilhamento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72920" y="1142640"/>
            <a:ext cx="78087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oria das decomposições das ações abstratas independentes umas das outra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 as vezes a única solução primitiva envolve  compartilhamento de ações entre decomposiçõ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possibilidad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ndo escolher decomposição de uma ação abstrata, verificar oportunidades e restrições de compartilham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colher decomposição sem compartilhamento, e depois usar regras de revisão (chamadas </a:t>
            </a:r>
            <a:r>
              <a:rPr b="0" i="1" lang="en-US" sz="2200" spc="-1" strike="noStrike">
                <a:solidFill>
                  <a:srgbClr val="663300"/>
                </a:solidFill>
                <a:latin typeface="Arial"/>
              </a:rPr>
              <a:t>crítica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para tornar o plano primitivo resultante em uma solução com ações corretamente compartilha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91F7F-3A8E-4B12-B27D-2CC9BD7323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7807320" cy="76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6600"/>
                </a:solidFill>
                <a:latin typeface="Arial"/>
              </a:rPr>
              <a:t>Exemplo da necessidade de compartilhar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752480" y="4343400"/>
            <a:ext cx="5646600" cy="2130480"/>
            <a:chOff x="1752480" y="4343400"/>
            <a:chExt cx="5646600" cy="2130480"/>
          </a:xfrm>
        </p:grpSpPr>
        <p:sp>
          <p:nvSpPr>
            <p:cNvPr id="121" name=""/>
            <p:cNvSpPr/>
            <p:nvPr/>
          </p:nvSpPr>
          <p:spPr>
            <a:xfrm>
              <a:off x="3573360" y="4343400"/>
              <a:ext cx="2027160" cy="584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30600" y="4379760"/>
              <a:ext cx="1890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rtir lua de mel &amp; fazer bebê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73360" y="4935600"/>
              <a:ext cx="204840" cy="523800"/>
            </a:xfrm>
            <a:prstGeom prst="downArrow">
              <a:avLst>
                <a:gd name="adj1" fmla="val 50000"/>
                <a:gd name="adj2" fmla="val 127891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14560" y="5837400"/>
              <a:ext cx="1231560" cy="328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84400" y="5873760"/>
              <a:ext cx="10936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sar-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935160" y="5676840"/>
              <a:ext cx="1231920" cy="585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005000" y="5715000"/>
              <a:ext cx="10940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r para lua de m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63840" y="5997600"/>
              <a:ext cx="64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803920" y="5837400"/>
              <a:ext cx="1230120" cy="328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871960" y="5873760"/>
              <a:ext cx="10936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er bebê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752480" y="5521320"/>
              <a:ext cx="5646600" cy="952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43240" y="5997600"/>
              <a:ext cx="69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3481560" y="1752480"/>
            <a:ext cx="2027160" cy="50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86240" y="1755720"/>
            <a:ext cx="2017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rtir Lua-de-mel &amp; fazer beb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77960" y="2895480"/>
            <a:ext cx="1541520" cy="70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sar-se &amp; ir para lua-de-m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30640" y="2895480"/>
            <a:ext cx="1220760" cy="70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sar-se &amp; ter um beb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35480" y="2255760"/>
            <a:ext cx="264960" cy="501840"/>
          </a:xfrm>
          <a:prstGeom prst="downArrow">
            <a:avLst>
              <a:gd name="adj1" fmla="val 50000"/>
              <a:gd name="adj2" fmla="val 4738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62320" y="2757600"/>
            <a:ext cx="4209840" cy="82224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24160" y="3124080"/>
            <a:ext cx="903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580920" y="2666880"/>
            <a:ext cx="1986480" cy="1090800"/>
            <a:chOff x="3580920" y="2666880"/>
            <a:chExt cx="1986480" cy="1090800"/>
          </a:xfrm>
        </p:grpSpPr>
        <p:sp>
          <p:nvSpPr>
            <p:cNvPr id="141" name=""/>
            <p:cNvSpPr/>
            <p:nvPr/>
          </p:nvSpPr>
          <p:spPr>
            <a:xfrm>
              <a:off x="3581280" y="2692440"/>
              <a:ext cx="1986120" cy="1038960"/>
            </a:xfrm>
            <a:prstGeom prst="line">
              <a:avLst/>
            </a:prstGeom>
            <a:ln w="7632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3580920" y="2666880"/>
              <a:ext cx="1986120" cy="1090800"/>
            </a:xfrm>
            <a:prstGeom prst="line">
              <a:avLst/>
            </a:prstGeom>
            <a:ln w="7632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36EB1-BFA0-43E6-A010-B4744A6DC6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6600"/>
                </a:solidFill>
                <a:latin typeface="Arial"/>
              </a:rPr>
              <a:t>Restrições de recursos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72920" y="1142640"/>
            <a:ext cx="78087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67200" indent="-36720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esquisa Operacional (PO): busca linearização ótima de POP manualmente construíd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7200" indent="-36720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O integrada à IA permite construir planos ótimos com respeito a recursos limitados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automaticamen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7200" indent="-36720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 POP-STRIPS para POP-RC-STRIP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600" indent="-22392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presentações das precondições e efeitos enriquecida por  uma </a:t>
            </a:r>
            <a:r>
              <a:rPr b="0" i="1" lang="pt-BR" sz="2200" spc="-1" strike="noStrike">
                <a:solidFill>
                  <a:srgbClr val="663300"/>
                </a:solidFill>
                <a:latin typeface="Arial"/>
              </a:rPr>
              <a:t>ontologia de medida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cf.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eção 8.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7600" indent="-22392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estes aritméticos nas precondiçõ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7600" indent="-22392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tribuição aritmética nos efei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7600" indent="-22392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lgoritmo com novo passo verificando restrições aritméticas (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cf.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seção 3.7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1F38F-D11D-43D0-8864-7E022865CB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6600"/>
                </a:solidFill>
                <a:latin typeface="Arial"/>
              </a:rPr>
              <a:t>Restrições temporais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72920" y="1142640"/>
            <a:ext cx="78087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mpo = recurso com propriedades particular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ligado à ordem de execu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alelismo permite compartilhamento não subtrat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ão há operador de abastecimento de temp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 POP-STRIPS para POP-TR-STRIP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presentação das precondições, efeitos e ações enriquecida por uma </a:t>
            </a:r>
            <a:r>
              <a:rPr b="0" i="1" lang="pt-BR" sz="2200" spc="-1" strike="noStrike">
                <a:solidFill>
                  <a:srgbClr val="663300"/>
                </a:solidFill>
                <a:latin typeface="Arial"/>
              </a:rPr>
              <a:t>ontologia temporal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(ex, a </a:t>
            </a:r>
            <a:r>
              <a:rPr b="0" i="1" lang="pt-BR" sz="2200" spc="-1" strike="noStrike">
                <a:solidFill>
                  <a:srgbClr val="663300"/>
                </a:solidFill>
                <a:latin typeface="Arial"/>
              </a:rPr>
              <a:t>de Allen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da seção 8.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lgoritmo com novo passo verificando restrições tempor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923D7-F2B6-4698-9CC9-1301798FFB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6600"/>
                </a:solidFill>
                <a:latin typeface="Arial"/>
              </a:rPr>
              <a:t>Aplicações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72920" y="1142640"/>
            <a:ext cx="78087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63240" indent="-36324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uitas industriais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2140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lanejamento (à mã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2140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gendamento (automaticamen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3240" indent="-36324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stema Tosca na Hitach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2140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lanejamento mensal para 350 produtos diferentes, 35 máquinas de montagem, mais de 2000 operaçõ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2140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enor engajamento (ex. classe de máquina a ser usad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3240" indent="-36324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stema Isis na Westinghou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2140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ilhares de lâminas de turbinas e várias máquinas de montag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2140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tempo atribuído depende da prioridade do ped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2140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enor engajamento, planejamento hierárqu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0760C-C28C-4408-B9E6-316C4DE956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6600"/>
                </a:solidFill>
                <a:latin typeface="Arial"/>
              </a:rPr>
              <a:t>Dicas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72920" y="1142640"/>
            <a:ext cx="78087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sucesso de um planejador depende 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ta integração com os outros sistemas e plataformas com os quais op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286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. acesso a banco de dados em qualquer formato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resentação dos resultados expressiva mas inteligí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11706-47F1-4EDD-A199-9F72F765B1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4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6600"/>
                </a:solidFill>
                <a:latin typeface="Arial"/>
              </a:rPr>
              <a:t>Planejamento e Execução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F803F-E140-4813-81ED-8BD7689347B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6600"/>
                </a:solidFill>
                <a:latin typeface="Arial"/>
              </a:rPr>
              <a:t>Introdução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72920" y="1142640"/>
            <a:ext cx="78087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OP e POP-TIRC-HAD-DUNC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Funcionam quand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286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mbiente acessível, estático, determinístico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286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Conhecimento completo e correto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erceber, depois planejar, depois agir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cegam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m ambientes mais desafiador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bordage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286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1. Planejamento Condiciona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286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2. Monitoriamento da Execução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286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3. Planejamento situado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erceber, depois juntamente planejar, perceber e agi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249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6600"/>
                </a:solidFill>
                <a:latin typeface="Arial"/>
              </a:rPr>
              <a:t>Balanço de POP-STRIPS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72920" y="1371600"/>
            <a:ext cx="78087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lnSpc>
                <a:spcPct val="120000"/>
              </a:lnSpc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s expressivo que resolução de problemas porque usa a lógica para representar operadores declarativamen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20000"/>
              </a:lnSpc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ém, é feita uma restrição à lóg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12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lhora a eficiência mas impossibilita aplicações domínios complex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20000"/>
              </a:lnSpc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har melhor compromisso entre expressividade e eficiênc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12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mentar formalismo e relaxar algumas restriçõ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08F9E-B3EF-467B-B0A9-0DE56E4884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6600"/>
                </a:solidFill>
                <a:latin typeface="Arial"/>
              </a:rPr>
              <a:t>1. Planejamento Condicional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lano condicional / Conjunto de planos / Possíveis situaçõ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ções de Efetuação x Ações de Percepçã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bjetivo ação de efetuação: alterar amb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bjetivo ação de percepção: alterar conhecimento do ambiente (ex, checar o preço de algum objeto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ção de percepção po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286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ter efeitos colaterais no ambient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286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esencadear sub-plano com ações de efetuação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3200" spc="-1" strike="noStrike">
                <a:solidFill>
                  <a:srgbClr val="996600"/>
                </a:solidFill>
                <a:latin typeface="Arial"/>
              </a:rPr>
              <a:t>2. Monitoriamento da Execução 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72920" y="1142640"/>
            <a:ext cx="78087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eçar execução com plano completo e correto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ados conhecimento e suposições inicialmente disponíve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sar percepções durante a execução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para adquirir conhecimento complementar e verificar suposiçõ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planejar fim do plano para se adequar as situações não antecipada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., O agente descobre não ter $ suficiente para comprar todos os itens.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6600"/>
                </a:solidFill>
                <a:latin typeface="Arial"/>
              </a:rPr>
              <a:t>Exemplo: Conserto de um pneu vazio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30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1749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Operadores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17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- Op( Action: remove(x), Precond: On(x), Effect: Off(x) ^ ClearHub(x)^notOn(x) 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17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- Op( Action: PutOn(x), Precond: Off(x)^ClearHub(x),                                      Effect: On(x)^notClearHub(x)^not Off(x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17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- Op(Action: Inflate(x), Precond: Intact(x)^ Flat(x),                            Effect: Inflated(x)^notFlat(x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1749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Objetivo :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- On (x)^Inflated(x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1576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Condições Iniciais: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 Inflated(Spare)^Intact(Spare)^Off(Spare)^On(Tire1)^ Flat(Tire1)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6600"/>
                </a:solidFill>
                <a:latin typeface="Arial"/>
              </a:rPr>
              <a:t>Planos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OP: [Remove(Tire1). PutOn(Spare)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hecimento Incompleto: Intact(Tire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lanejador Condicional (CPOP): If(Intact(Tire1), [Inflate(Tire1)],                                                             [Remove(Tire1), PutOn(Spare)]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6600"/>
                </a:solidFill>
                <a:latin typeface="Arial"/>
              </a:rPr>
              <a:t>Execução de um plano condicional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dição é verificada na B.C. e deve ser conhecida  naquele ponto do plan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hecimento = Seq. de percepções + Seq. de ações + B.C inici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ara um plano condicional ser executável:  “o  agente deve inserir ações de percepção para testar condição”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ção de percepção = CheckTire (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ova Operação :                                   Op(Action: CheckTire(x), Precond: Tire(x),                 Effect: KnowsWhether(“Intact(x)”)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3200" spc="-1" strike="noStrike">
                <a:solidFill>
                  <a:srgbClr val="996600"/>
                </a:solidFill>
                <a:latin typeface="Arial"/>
              </a:rPr>
              <a:t>Extendendo a linguagem de planejamento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ercepção não binária. Ex.: Color(x,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lanos parametrizados com variável de execução,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xempl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 [SenseColor(table), KnowsWhat(“Color(table, c)”), GetPaint(c), Paint(Chair,c)]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ariáveis de execuçã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 u="sng">
                <a:solidFill>
                  <a:srgbClr val="000000"/>
                </a:solidFill>
                <a:uFillTx/>
                <a:latin typeface="Arial"/>
              </a:rPr>
              <a:t>Nã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se unificam entre si   </a:t>
            </a:r>
            <a:r>
              <a:rPr b="0" lang="pt-BR" sz="2200" spc="-1" strike="noStrike" u="sng">
                <a:solidFill>
                  <a:srgbClr val="000000"/>
                </a:solidFill>
                <a:uFillTx/>
                <a:latin typeface="Arial"/>
              </a:rPr>
              <a:t>nem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com consta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6600"/>
                </a:solidFill>
                <a:latin typeface="Arial"/>
              </a:rPr>
              <a:t>Continuação ...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2920" y="1142640"/>
            <a:ext cx="78087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lanos condicionais parecidos com programas. Ex.: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Loop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                          While (Knows(“UnevenColor(chair)”), [Paint(chair, c), CheckColor(chair)]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2800" spc="-1" strike="noStrike">
                <a:solidFill>
                  <a:srgbClr val="996600"/>
                </a:solidFill>
                <a:latin typeface="Arial"/>
              </a:rPr>
              <a:t>E se as coisas não sairem como planejadas?</a:t>
            </a:r>
            <a:endParaRPr b="1" i="1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129672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nitoramento da Ação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Verificação, com percepção, das  pre-condições do passo corr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nitoramento da Execução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Verficação, com percepção, das pré-condições do segmento restant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dições de lidar com pré-condiçõ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ão planeja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já satisfeit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: Robô dirigindo carro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6600"/>
                </a:solidFill>
                <a:latin typeface="Arial"/>
              </a:rPr>
              <a:t>Detecção das falhas do plano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72920" y="1142640"/>
            <a:ext cx="78087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rmas de monitoramento dependentes da percepçã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2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determinânci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Limitada (numerável)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286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x. :abrir uma lata de tint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limitada (não enumerável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286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x.: dirigir, planejamento econômico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3200" spc="-1" strike="noStrike">
                <a:solidFill>
                  <a:srgbClr val="996600"/>
                </a:solidFill>
                <a:latin typeface="Arial"/>
              </a:rPr>
              <a:t>Exemplo de aplicação: Optimun-AIV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72920" y="1142640"/>
            <a:ext cx="78087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lnSpc>
                <a:spcPct val="110000"/>
              </a:lnSpc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ntagem, integração e verificação de aeronav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10000"/>
              </a:lnSpc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Gera planos, monitora execução (feita por seres humanos) e replaneja rapidamen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10000"/>
              </a:lnSpc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lhor que técnicas de Pesquisa Operacional para problemas complexo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11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tas não indicam (ex. não têm ligações causais, etc.) como replanejar automaticam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10000"/>
              </a:lnSpc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ão pode ser resolvido com POP-Strip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11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Foi implementado com O-Plan (Currie &amp; Tate 91) que estende POP-Strips (+ tempo, recursos e hierarqui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6312A-8290-475D-B2EB-26109B57D6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6600"/>
                </a:solidFill>
                <a:latin typeface="Arial"/>
              </a:rPr>
              <a:t>Replanejamento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867280" y="1752480"/>
            <a:ext cx="32767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1749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scolher a melhor continuaçã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17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1749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erificar as precondiçõ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17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1749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cut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32080" y="30132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75280" y="278460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70160" y="3546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92280" y="2749680"/>
            <a:ext cx="1968480" cy="105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11440" y="2749680"/>
            <a:ext cx="189252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32280" y="278460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68680" y="2971800"/>
            <a:ext cx="379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97040" y="2825640"/>
            <a:ext cx="139680" cy="216000"/>
          </a:xfrm>
          <a:prstGeom prst="ellipse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7240" y="4876920"/>
            <a:ext cx="472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4649760"/>
            <a:ext cx="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66880" y="4726080"/>
            <a:ext cx="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4726080"/>
            <a:ext cx="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11320" y="5241960"/>
            <a:ext cx="898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í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93480" y="5241960"/>
            <a:ext cx="94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g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88600" y="5165640"/>
            <a:ext cx="67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03680" y="20415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92280" y="1987560"/>
            <a:ext cx="47116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6600"/>
                </a:solidFill>
                <a:latin typeface="Arial"/>
              </a:rPr>
              <a:t>Replanejamento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867280" y="1752480"/>
            <a:ext cx="32767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1749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scolher a melhor continuaçã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17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1749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erificar as precondiçõ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17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1749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cut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32080" y="30132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75280" y="278460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98600" y="3317760"/>
            <a:ext cx="456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70160" y="3546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2280" y="2749680"/>
            <a:ext cx="1968480" cy="105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11440" y="2749680"/>
            <a:ext cx="189252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11440" y="3359160"/>
            <a:ext cx="18925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32280" y="3317760"/>
            <a:ext cx="50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32280" y="278460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668680" y="2971800"/>
            <a:ext cx="379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68680" y="3505320"/>
            <a:ext cx="379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97040" y="2825640"/>
            <a:ext cx="139680" cy="216000"/>
          </a:xfrm>
          <a:prstGeom prst="ellipse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7240" y="4876920"/>
            <a:ext cx="472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410080" y="4649760"/>
            <a:ext cx="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66880" y="4726080"/>
            <a:ext cx="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4726080"/>
            <a:ext cx="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1320" y="5241960"/>
            <a:ext cx="898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í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93480" y="5241960"/>
            <a:ext cx="94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g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88600" y="5165640"/>
            <a:ext cx="67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03680" y="20415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92280" y="1987560"/>
            <a:ext cx="47116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6600"/>
                </a:solidFill>
                <a:latin typeface="Arial"/>
              </a:rPr>
              <a:t>Replanejamento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867280" y="1752480"/>
            <a:ext cx="32767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1749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scolher a melhor continuaçã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17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1749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erificar as precondiçõ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17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1749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cut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432080" y="30132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75280" y="278460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17720" y="3317760"/>
            <a:ext cx="456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70160" y="3546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92280" y="2749680"/>
            <a:ext cx="1968480" cy="105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11440" y="2749680"/>
            <a:ext cx="189252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11440" y="3359160"/>
            <a:ext cx="18925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32280" y="3317760"/>
            <a:ext cx="50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32280" y="278460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668680" y="2971800"/>
            <a:ext cx="379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68680" y="3505320"/>
            <a:ext cx="379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97040" y="2825640"/>
            <a:ext cx="139680" cy="216000"/>
          </a:xfrm>
          <a:prstGeom prst="ellipse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7240" y="4876920"/>
            <a:ext cx="472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10080" y="4649760"/>
            <a:ext cx="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666880" y="4726080"/>
            <a:ext cx="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4726080"/>
            <a:ext cx="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1320" y="5241960"/>
            <a:ext cx="898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í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93480" y="5241960"/>
            <a:ext cx="94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g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88600" y="5165640"/>
            <a:ext cx="67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2280" y="3892680"/>
            <a:ext cx="47116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03680" y="20415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03680" y="3946680"/>
            <a:ext cx="50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92280" y="1987560"/>
            <a:ext cx="47116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10440" y="5851440"/>
            <a:ext cx="3699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=  R + P    ( Plano inicial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’=  R + P’  ( Plano Final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25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2800" spc="-1" strike="noStrike">
                <a:solidFill>
                  <a:srgbClr val="996600"/>
                </a:solidFill>
                <a:latin typeface="Arial"/>
              </a:rPr>
              <a:t>Ex: Pintar cadeira da mesma cor da mesa</a:t>
            </a:r>
            <a:endParaRPr b="1" i="1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96400" y="2727360"/>
            <a:ext cx="1702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ga( Tin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44560" y="2673360"/>
            <a:ext cx="1739880" cy="596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-3960" y="3252960"/>
            <a:ext cx="157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/ Tem ( tinta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25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2800" spc="-1" strike="noStrike">
                <a:solidFill>
                  <a:srgbClr val="996600"/>
                </a:solidFill>
                <a:latin typeface="Arial"/>
              </a:rPr>
              <a:t>Ex: Pintar cadeira da mesma cor da mesa</a:t>
            </a:r>
            <a:endParaRPr b="1" i="1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96400" y="2727360"/>
            <a:ext cx="1702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ga( Tin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50520" y="1660680"/>
            <a:ext cx="81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44560" y="2673360"/>
            <a:ext cx="1739880" cy="596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197240" y="1682640"/>
            <a:ext cx="97812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8080" y="1142640"/>
            <a:ext cx="335268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66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-3960" y="3252960"/>
            <a:ext cx="157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/ Tem ( tinta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44360" y="1652760"/>
            <a:ext cx="3134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 ( cadeira ) &lt;&gt; Cor ( mesa)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 (tint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25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2800" spc="-1" strike="noStrike">
                <a:solidFill>
                  <a:srgbClr val="996600"/>
                </a:solidFill>
                <a:latin typeface="Arial"/>
              </a:rPr>
              <a:t>Ex: Pintar cadeira da mesma cor da mesa</a:t>
            </a:r>
            <a:endParaRPr b="1" i="1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96400" y="2727360"/>
            <a:ext cx="1702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ga( Tin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250520" y="1660680"/>
            <a:ext cx="81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87200" y="2879640"/>
            <a:ext cx="67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44560" y="2673360"/>
            <a:ext cx="1739880" cy="596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97240" y="1682640"/>
            <a:ext cx="97812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158320" y="2901960"/>
            <a:ext cx="9777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38080" y="1142640"/>
            <a:ext cx="335268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66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-3960" y="3252960"/>
            <a:ext cx="157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/ Tem ( tinta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044360" y="1652760"/>
            <a:ext cx="3134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 ( cadeira ) &lt;&gt; Cor ( mesa)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 (tint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25400" y="2262240"/>
            <a:ext cx="2068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 (cadeira)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 (mesa)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100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89440" y="1755720"/>
            <a:ext cx="2437920" cy="213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6" y="0"/>
                </a:moveTo>
                <a:arcTo wR="10800" hR="10800" stAng="-5404476" swAng="5404476"/>
                <a:lnTo>
                  <a:pt x="10800" y="10800"/>
                </a:lnTo>
                <a:close/>
              </a:path>
              <a:path fill="none" w="21600" h="21600">
                <a:moveTo>
                  <a:pt x="10786" y="0"/>
                </a:moveTo>
                <a:arcTo wR="10800" hR="10800" stAng="-5404476" swAng="5404476"/>
              </a:path>
            </a:pathLst>
          </a:custGeom>
          <a:noFill/>
          <a:ln cap="rnd" w="12600">
            <a:solidFill>
              <a:srgbClr val="6633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78240" y="2879640"/>
            <a:ext cx="11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i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26040" y="2825640"/>
            <a:ext cx="1359000" cy="596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392960" y="3048120"/>
            <a:ext cx="760320" cy="0"/>
          </a:xfrm>
          <a:prstGeom prst="line">
            <a:avLst/>
          </a:prstGeom>
          <a:ln w="12600">
            <a:solidFill>
              <a:srgbClr val="66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25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2800" spc="-1" strike="noStrike">
                <a:solidFill>
                  <a:srgbClr val="996600"/>
                </a:solidFill>
                <a:latin typeface="Arial"/>
              </a:rPr>
              <a:t>Ex: Pintar cadeira da mesma cor da mesa</a:t>
            </a:r>
            <a:endParaRPr b="1" i="1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96400" y="2727360"/>
            <a:ext cx="1702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ga( Tin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250520" y="1660680"/>
            <a:ext cx="81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287200" y="2879640"/>
            <a:ext cx="67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44560" y="2673360"/>
            <a:ext cx="1739880" cy="596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97240" y="1682640"/>
            <a:ext cx="97812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158320" y="2901960"/>
            <a:ext cx="9777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38080" y="1142640"/>
            <a:ext cx="335268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66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-3960" y="3252960"/>
            <a:ext cx="157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/ Tem ( tinta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44360" y="1652760"/>
            <a:ext cx="3134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 ( cadeira ) &lt;&gt; Cor ( mesa)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 (tint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25400" y="2262240"/>
            <a:ext cx="2068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 (cadeira)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 (mesa)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100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9440" y="1755720"/>
            <a:ext cx="2437920" cy="213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6" y="0"/>
                </a:moveTo>
                <a:arcTo wR="10800" hR="10800" stAng="-5404476" swAng="5404476"/>
                <a:lnTo>
                  <a:pt x="10800" y="10800"/>
                </a:lnTo>
                <a:close/>
              </a:path>
              <a:path fill="none" w="21600" h="21600">
                <a:moveTo>
                  <a:pt x="10786" y="0"/>
                </a:moveTo>
                <a:arcTo wR="10800" hR="10800" stAng="-5404476" swAng="5404476"/>
              </a:path>
            </a:pathLst>
          </a:custGeom>
          <a:noFill/>
          <a:ln cap="rnd" w="12600">
            <a:solidFill>
              <a:srgbClr val="6633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727520" y="1295640"/>
            <a:ext cx="259020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6633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78240" y="2879640"/>
            <a:ext cx="11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i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26040" y="2825640"/>
            <a:ext cx="1359000" cy="596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392960" y="3048120"/>
            <a:ext cx="760320" cy="0"/>
          </a:xfrm>
          <a:prstGeom prst="line">
            <a:avLst/>
          </a:prstGeom>
          <a:ln w="12600">
            <a:solidFill>
              <a:srgbClr val="66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25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2800" spc="-1" strike="noStrike">
                <a:solidFill>
                  <a:srgbClr val="996600"/>
                </a:solidFill>
                <a:latin typeface="Arial"/>
              </a:rPr>
              <a:t>Ex: Pintar cadeira da mesma cor da mesa</a:t>
            </a:r>
            <a:endParaRPr b="1" i="1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4648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inta, repinta: comportamento de loo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96400" y="2727360"/>
            <a:ext cx="1702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ga( Tin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250520" y="1660680"/>
            <a:ext cx="81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87200" y="2879640"/>
            <a:ext cx="67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44560" y="2673360"/>
            <a:ext cx="1739880" cy="596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97240" y="1682640"/>
            <a:ext cx="97812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158320" y="2901960"/>
            <a:ext cx="9777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38080" y="1142640"/>
            <a:ext cx="335268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66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-3960" y="3252960"/>
            <a:ext cx="157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/ Tem ( tinta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44360" y="1652760"/>
            <a:ext cx="3134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 ( cadeira ) &lt;&gt; Cor ( mesa)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 (tint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025400" y="2262240"/>
            <a:ext cx="2068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 (cadeira)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 (mesa)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100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78240" y="2879640"/>
            <a:ext cx="11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i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26040" y="2825640"/>
            <a:ext cx="1359000" cy="596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392960" y="3048120"/>
            <a:ext cx="760320" cy="0"/>
          </a:xfrm>
          <a:prstGeom prst="line">
            <a:avLst/>
          </a:prstGeom>
          <a:ln w="12600">
            <a:solidFill>
              <a:srgbClr val="66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25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2800" spc="-1" strike="noStrike">
                <a:solidFill>
                  <a:srgbClr val="996600"/>
                </a:solidFill>
                <a:latin typeface="Arial"/>
              </a:rPr>
              <a:t>Ex: Pintar cadeira da mesma cor da mesa</a:t>
            </a:r>
            <a:endParaRPr b="1" i="1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4648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inta, repinta: comportamento de loo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96400" y="2727360"/>
            <a:ext cx="1702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ga( Tin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250520" y="1660680"/>
            <a:ext cx="81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287200" y="2879640"/>
            <a:ext cx="67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44560" y="2673360"/>
            <a:ext cx="1739880" cy="596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97240" y="1682640"/>
            <a:ext cx="97812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158320" y="2901960"/>
            <a:ext cx="9777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38080" y="1142640"/>
            <a:ext cx="335268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66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-3960" y="3252960"/>
            <a:ext cx="157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/ Tem ( tinta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044360" y="1652760"/>
            <a:ext cx="3134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 ( cadeira ) &lt;&gt; Cor ( mesa)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 (tint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025400" y="2262240"/>
            <a:ext cx="2068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 (cadeira)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 (mesa)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100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89440" y="1755720"/>
            <a:ext cx="2437920" cy="213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6" y="0"/>
                </a:moveTo>
                <a:arcTo wR="10800" hR="10800" stAng="-5404476" swAng="5404476"/>
                <a:lnTo>
                  <a:pt x="10800" y="10800"/>
                </a:lnTo>
                <a:close/>
              </a:path>
              <a:path fill="none" w="21600" h="21600">
                <a:moveTo>
                  <a:pt x="10786" y="0"/>
                </a:moveTo>
                <a:arcTo wR="10800" hR="10800" stAng="-5404476" swAng="5404476"/>
              </a:path>
            </a:pathLst>
          </a:custGeom>
          <a:noFill/>
          <a:ln cap="rnd" w="12600">
            <a:solidFill>
              <a:srgbClr val="6633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78240" y="2879640"/>
            <a:ext cx="11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i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26040" y="2825640"/>
            <a:ext cx="1359000" cy="596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392960" y="3048120"/>
            <a:ext cx="760320" cy="0"/>
          </a:xfrm>
          <a:prstGeom prst="line">
            <a:avLst/>
          </a:prstGeom>
          <a:ln w="12600">
            <a:solidFill>
              <a:srgbClr val="66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25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2800" spc="-1" strike="noStrike">
                <a:solidFill>
                  <a:srgbClr val="996600"/>
                </a:solidFill>
                <a:latin typeface="Arial"/>
              </a:rPr>
              <a:t>Ex: Pintar cadeira da mesma cor da mesa</a:t>
            </a:r>
            <a:endParaRPr b="1" i="1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4648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inta, repinta: comportamento de loo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96400" y="2727360"/>
            <a:ext cx="1702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ga( Tin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250520" y="1660680"/>
            <a:ext cx="81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287200" y="2879640"/>
            <a:ext cx="67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44560" y="2673360"/>
            <a:ext cx="1739880" cy="596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197240" y="1682640"/>
            <a:ext cx="97812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158320" y="2901960"/>
            <a:ext cx="9777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8080" y="1142640"/>
            <a:ext cx="335268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66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-3960" y="3252960"/>
            <a:ext cx="157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/ Tem ( tinta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044360" y="1652760"/>
            <a:ext cx="3134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 ( cadeira ) &lt;&gt; Cor ( mesa)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 (tint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025400" y="2262240"/>
            <a:ext cx="2068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 (cadeira)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 (mesa)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100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89440" y="1755720"/>
            <a:ext cx="2437920" cy="213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6" y="0"/>
                </a:moveTo>
                <a:arcTo wR="10800" hR="10800" stAng="-5404476" swAng="5404476"/>
                <a:lnTo>
                  <a:pt x="10800" y="10800"/>
                </a:lnTo>
                <a:close/>
              </a:path>
              <a:path fill="none" w="21600" h="21600">
                <a:moveTo>
                  <a:pt x="10786" y="0"/>
                </a:moveTo>
                <a:arcTo wR="10800" hR="10800" stAng="-5404476" swAng="5404476"/>
              </a:path>
            </a:pathLst>
          </a:custGeom>
          <a:noFill/>
          <a:ln cap="rnd" w="12600">
            <a:solidFill>
              <a:srgbClr val="6633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727520" y="1295640"/>
            <a:ext cx="259020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6633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78240" y="2879640"/>
            <a:ext cx="11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i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26040" y="2825640"/>
            <a:ext cx="1359000" cy="596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392960" y="3048120"/>
            <a:ext cx="760320" cy="0"/>
          </a:xfrm>
          <a:prstGeom prst="line">
            <a:avLst/>
          </a:prstGeom>
          <a:ln w="12600">
            <a:solidFill>
              <a:srgbClr val="66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3200" spc="-1" strike="noStrike">
                <a:solidFill>
                  <a:srgbClr val="996600"/>
                </a:solidFill>
                <a:latin typeface="Arial"/>
              </a:rPr>
              <a:t>4 Limitações de POP-Strips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72920" y="1142640"/>
            <a:ext cx="78087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lanos não são hierárquic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lanejamento a um único nível de granularid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ex: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preparar turbina, preparar capsula.... Colocar fio X no conector 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é-condições e efeitos são simples dema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pesar das variáveis, os operadores são essencialmente proposicion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ex: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como não existe quantificador universal nos efeitos, não se pode dizer que todos os componentes da aeronave sobem quando ela é lanç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1A95B-E882-4E1E-B557-B0ABE2EADD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25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2800" spc="-1" strike="noStrike">
                <a:solidFill>
                  <a:srgbClr val="996600"/>
                </a:solidFill>
                <a:latin typeface="Arial"/>
              </a:rPr>
              <a:t>Ex: Pintar cadeira da mesma cor da mesa</a:t>
            </a:r>
            <a:endParaRPr b="1" i="1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4648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inta, repinta: comportamento de loo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rrando e aprendendo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96400" y="2727360"/>
            <a:ext cx="1702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ga( Tin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250520" y="1660680"/>
            <a:ext cx="81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287200" y="2879640"/>
            <a:ext cx="67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44560" y="2673360"/>
            <a:ext cx="1739880" cy="596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97240" y="1682640"/>
            <a:ext cx="97812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158320" y="2901960"/>
            <a:ext cx="9777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38080" y="1142640"/>
            <a:ext cx="335268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66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-3960" y="3252960"/>
            <a:ext cx="157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/ Tem ( tinta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44360" y="1652760"/>
            <a:ext cx="3134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 ( cadeira ) &lt;&gt; Cor ( mesa)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 (tint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025400" y="2262240"/>
            <a:ext cx="2068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 (cadeira)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 (mesa)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100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89440" y="1755720"/>
            <a:ext cx="2437920" cy="213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6" y="0"/>
                </a:moveTo>
                <a:arcTo wR="10800" hR="10800" stAng="-5404476" swAng="5404476"/>
                <a:lnTo>
                  <a:pt x="10800" y="10800"/>
                </a:lnTo>
                <a:close/>
              </a:path>
              <a:path fill="none" w="21600" h="21600">
                <a:moveTo>
                  <a:pt x="10786" y="0"/>
                </a:moveTo>
                <a:arcTo wR="10800" hR="10800" stAng="-5404476" swAng="5404476"/>
              </a:path>
            </a:pathLst>
          </a:custGeom>
          <a:noFill/>
          <a:ln cap="rnd" w="12600">
            <a:solidFill>
              <a:srgbClr val="6633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727520" y="1295640"/>
            <a:ext cx="259020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6633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572000" y="2135160"/>
            <a:ext cx="0" cy="182736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1982880" y="3962520"/>
            <a:ext cx="2589120" cy="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1981080" y="3277800"/>
            <a:ext cx="0" cy="684360"/>
          </a:xfrm>
          <a:prstGeom prst="line">
            <a:avLst/>
          </a:prstGeom>
          <a:ln w="12600">
            <a:solidFill>
              <a:srgbClr val="cc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78240" y="2879640"/>
            <a:ext cx="11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i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26040" y="2825640"/>
            <a:ext cx="1359000" cy="596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392960" y="3048120"/>
            <a:ext cx="760320" cy="0"/>
          </a:xfrm>
          <a:prstGeom prst="line">
            <a:avLst/>
          </a:prstGeom>
          <a:ln w="12600">
            <a:solidFill>
              <a:srgbClr val="66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6600"/>
                </a:solidFill>
                <a:latin typeface="Arial"/>
              </a:rPr>
              <a:t>Agente de Planejamento Situado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72920" y="1142640"/>
            <a:ext cx="78087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paz de intercalar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xecução de passos ( de percepção e efetuaçã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finamento e ajuste do plano diante de defeitos e mudanças não antecipadas no ambie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Gera um plano inici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eçar a executá-lo mesmo incomple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tinua planejando durante a execuçã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3200" spc="-1" strike="noStrike">
                <a:solidFill>
                  <a:srgbClr val="996600"/>
                </a:solidFill>
                <a:latin typeface="Arial"/>
              </a:rPr>
              <a:t>Ex: Mundo dos blocos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120" y="3886200"/>
            <a:ext cx="891396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2000"/>
          </a:bodyPr>
          <a:p>
            <a:pPr marL="232200" indent="0" algn="ctr">
              <a:spcBef>
                <a:spcPts val="2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ção: Mover (x, 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2200" indent="0">
              <a:spcBef>
                <a:spcPts val="2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pt-BR" sz="2400" spc="-1" strike="noStrike">
                <a:solidFill>
                  <a:srgbClr val="663300"/>
                </a:solidFill>
                <a:latin typeface="Arial"/>
              </a:rPr>
              <a:t>Açã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 Mover (x, y)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2200" indent="0">
              <a:spcBef>
                <a:spcPts val="2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663300"/>
                </a:solidFill>
                <a:latin typeface="Arial"/>
              </a:rPr>
              <a:t>Precond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 Limpo (x) ^ Limpo (Y) ^ EmCima (x, z)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2200" indent="0">
              <a:spcBef>
                <a:spcPts val="2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663300"/>
                </a:solidFill>
                <a:latin typeface="Arial"/>
              </a:rPr>
              <a:t>Efeit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 EmCima (x,y) ^ Limpo (z) ^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2200" indent="0">
              <a:spcBef>
                <a:spcPts val="2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n) EmCima(x, z) ^ (n) Limpo (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992160" y="3200400"/>
            <a:ext cx="2513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792760" y="3200400"/>
            <a:ext cx="2665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276920" y="3336840"/>
            <a:ext cx="1873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do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688440" y="333684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127160" y="27273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736640" y="2346480"/>
            <a:ext cx="387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346480" y="2346480"/>
            <a:ext cx="387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955960" y="2346480"/>
            <a:ext cx="40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149480" y="274968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758960" y="274968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758960" y="236844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78280" y="236844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978280" y="274968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68440" y="236844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68440" y="274968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04080" y="27273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13560" y="2346480"/>
            <a:ext cx="387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832880" y="2346480"/>
            <a:ext cx="40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854840" y="274968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245360" y="274968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026040" y="274968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635880" y="236844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635880" y="274968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613560" y="1584360"/>
            <a:ext cx="40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635880" y="1606680"/>
            <a:ext cx="368280" cy="368280"/>
          </a:xfrm>
          <a:prstGeom prst="rect">
            <a:avLst/>
          </a:prstGeom>
          <a:noFill/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635880" y="1987560"/>
            <a:ext cx="368280" cy="368280"/>
          </a:xfrm>
          <a:prstGeom prst="rect">
            <a:avLst/>
          </a:prstGeom>
          <a:noFill/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223040" y="27273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6600"/>
                </a:solidFill>
                <a:latin typeface="Arial"/>
              </a:rPr>
              <a:t>Plano Inicial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2440" y="2749680"/>
            <a:ext cx="8979120" cy="379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5000" y="4327560"/>
            <a:ext cx="898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í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469120" y="3032280"/>
            <a:ext cx="1777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r (C,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2680" y="1981080"/>
            <a:ext cx="2512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67440" y="2117880"/>
            <a:ext cx="1873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do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7680" y="150804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127160" y="1127160"/>
            <a:ext cx="387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736640" y="1127160"/>
            <a:ext cx="387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346480" y="1127160"/>
            <a:ext cx="40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39640" y="153036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149480" y="153036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149480" y="114948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368440" y="114948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368440" y="153036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758960" y="114948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758960" y="153036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402440" y="5851440"/>
            <a:ext cx="1777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r (D,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212680" y="4327560"/>
            <a:ext cx="67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050840" y="3635280"/>
            <a:ext cx="159408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NaMesa 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B,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C,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D,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725560" y="5538960"/>
            <a:ext cx="15976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D,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68200" y="2871720"/>
            <a:ext cx="15476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C,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11400" y="4243320"/>
            <a:ext cx="1585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C,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D,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58760" y="4349880"/>
            <a:ext cx="8254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159760" y="4349880"/>
            <a:ext cx="8254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416560" y="3054240"/>
            <a:ext cx="18921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273560" y="5873760"/>
            <a:ext cx="18921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4421160" y="3506760"/>
            <a:ext cx="1293840" cy="228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6600"/>
                </a:solidFill>
                <a:latin typeface="Arial"/>
              </a:rPr>
              <a:t>Plano Inicial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2440" y="2749680"/>
            <a:ext cx="8979120" cy="379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35000" y="4327560"/>
            <a:ext cx="898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í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69120" y="3032280"/>
            <a:ext cx="1777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r (C,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82680" y="1981080"/>
            <a:ext cx="2512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67440" y="2117880"/>
            <a:ext cx="1873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do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17680" y="150804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127160" y="1127160"/>
            <a:ext cx="387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736640" y="1127160"/>
            <a:ext cx="387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346480" y="1127160"/>
            <a:ext cx="40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39640" y="153036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149480" y="153036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149480" y="114948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368440" y="114948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368440" y="153036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758960" y="114948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758960" y="153036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402440" y="5851440"/>
            <a:ext cx="1777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r (D,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212680" y="4327560"/>
            <a:ext cx="67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050840" y="3635280"/>
            <a:ext cx="159408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NaMesa 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B,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C,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D,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725560" y="5538960"/>
            <a:ext cx="15976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D,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68200" y="2871720"/>
            <a:ext cx="15476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C,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611400" y="4243320"/>
            <a:ext cx="1585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C,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D,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58760" y="4349880"/>
            <a:ext cx="8254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159760" y="4349880"/>
            <a:ext cx="8254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416560" y="3054240"/>
            <a:ext cx="18921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273560" y="5873760"/>
            <a:ext cx="18921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2516040" y="3049560"/>
            <a:ext cx="1446480" cy="12938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2058840" y="3430440"/>
            <a:ext cx="1827360" cy="1751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2135160" y="3735360"/>
            <a:ext cx="1827360" cy="1674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4421160" y="3506760"/>
            <a:ext cx="1293840" cy="228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6600"/>
                </a:solidFill>
                <a:latin typeface="Arial"/>
              </a:rPr>
              <a:t>Plano Inicial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82440" y="2749680"/>
            <a:ext cx="8979120" cy="379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35000" y="4327560"/>
            <a:ext cx="898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í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469120" y="3032280"/>
            <a:ext cx="1777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r (C,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2680" y="1981080"/>
            <a:ext cx="2512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67440" y="2117880"/>
            <a:ext cx="1873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do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17680" y="150804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127160" y="1127160"/>
            <a:ext cx="387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736640" y="1127160"/>
            <a:ext cx="387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346480" y="1127160"/>
            <a:ext cx="40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39640" y="153036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149480" y="153036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149480" y="114948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368440" y="114948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368440" y="153036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758960" y="114948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758960" y="153036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402440" y="5851440"/>
            <a:ext cx="1777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r (D,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8212680" y="4327560"/>
            <a:ext cx="67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050840" y="3635280"/>
            <a:ext cx="159408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NaMesa 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B,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C,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D,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725560" y="5538960"/>
            <a:ext cx="15976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D,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68200" y="2871720"/>
            <a:ext cx="15476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C,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611400" y="4243320"/>
            <a:ext cx="1585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C,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D,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58760" y="4349880"/>
            <a:ext cx="8254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159760" y="4349880"/>
            <a:ext cx="8254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416560" y="3054240"/>
            <a:ext cx="18921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273560" y="5873760"/>
            <a:ext cx="18921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2516040" y="3049560"/>
            <a:ext cx="1446480" cy="12938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2058840" y="3430440"/>
            <a:ext cx="1827360" cy="1751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135160" y="3735360"/>
            <a:ext cx="1827360" cy="1674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516040" y="4649760"/>
            <a:ext cx="379440" cy="912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35160" y="5487840"/>
            <a:ext cx="608040" cy="455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135160" y="5792760"/>
            <a:ext cx="608040" cy="455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4421160" y="3506760"/>
            <a:ext cx="1293840" cy="228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6600"/>
                </a:solidFill>
                <a:latin typeface="Arial"/>
              </a:rPr>
              <a:t>Plano Inicial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2440" y="2749680"/>
            <a:ext cx="8979120" cy="379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5000" y="4327560"/>
            <a:ext cx="898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í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469120" y="3032280"/>
            <a:ext cx="1777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r (C,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2680" y="1981080"/>
            <a:ext cx="2512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67440" y="2117880"/>
            <a:ext cx="1873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do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17680" y="150804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127160" y="1127160"/>
            <a:ext cx="387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736640" y="1127160"/>
            <a:ext cx="387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346480" y="1127160"/>
            <a:ext cx="40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39640" y="153036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149480" y="153036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149480" y="114948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368440" y="114948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368440" y="153036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758960" y="114948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758960" y="153036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402440" y="5851440"/>
            <a:ext cx="1777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r (D,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12680" y="4327560"/>
            <a:ext cx="67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050840" y="3635280"/>
            <a:ext cx="159408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NaMesa 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B,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C,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D,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25560" y="5538960"/>
            <a:ext cx="15976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D,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68200" y="2871720"/>
            <a:ext cx="15476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C,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11400" y="4243320"/>
            <a:ext cx="1585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C,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D,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58760" y="4349880"/>
            <a:ext cx="8254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159760" y="4349880"/>
            <a:ext cx="8254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416560" y="3054240"/>
            <a:ext cx="18921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273560" y="5873760"/>
            <a:ext cx="18921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2516040" y="3049560"/>
            <a:ext cx="1446480" cy="12938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2058840" y="3430440"/>
            <a:ext cx="1827360" cy="1751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2135160" y="3735360"/>
            <a:ext cx="1827360" cy="1674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516040" y="4649760"/>
            <a:ext cx="379440" cy="912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135160" y="5487840"/>
            <a:ext cx="608040" cy="455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135160" y="5792760"/>
            <a:ext cx="608040" cy="455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4421160" y="3506760"/>
            <a:ext cx="1293840" cy="228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173640" y="3506760"/>
            <a:ext cx="455760" cy="912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5335560" y="4725720"/>
            <a:ext cx="129384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996600"/>
                </a:solidFill>
                <a:latin typeface="Arial"/>
              </a:rPr>
              <a:t>Eis que de repente...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2440" y="2749680"/>
            <a:ext cx="8979120" cy="379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35000" y="4327560"/>
            <a:ext cx="898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í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469120" y="3032280"/>
            <a:ext cx="1777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r (C,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402440" y="5851440"/>
            <a:ext cx="1777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r (D,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8212680" y="4327560"/>
            <a:ext cx="67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50840" y="3635280"/>
            <a:ext cx="15940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NaMesa 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B,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C,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3300"/>
                </a:solidFill>
                <a:latin typeface="Times New Roman"/>
              </a:rPr>
              <a:t>EmCima (D,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3300"/>
                </a:solidFill>
                <a:latin typeface="Times New Roman"/>
              </a:rPr>
              <a:t>Limpo (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25200" y="5538960"/>
            <a:ext cx="15476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D,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68200" y="2871720"/>
            <a:ext cx="15476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C,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611400" y="4243320"/>
            <a:ext cx="1585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C,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D,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58760" y="4349880"/>
            <a:ext cx="8254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8159760" y="4349880"/>
            <a:ext cx="8254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416560" y="3054240"/>
            <a:ext cx="18921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273560" y="5873760"/>
            <a:ext cx="18921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2516040" y="3049560"/>
            <a:ext cx="1446480" cy="12938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2058840" y="3430440"/>
            <a:ext cx="1827360" cy="1751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2135160" y="3735360"/>
            <a:ext cx="1827360" cy="1674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135160" y="5487840"/>
            <a:ext cx="608040" cy="455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4421160" y="3506760"/>
            <a:ext cx="1293840" cy="228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173640" y="3506760"/>
            <a:ext cx="455760" cy="912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5335560" y="4725720"/>
            <a:ext cx="129384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82680" y="1981080"/>
            <a:ext cx="2512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7680" y="150804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127160" y="1127160"/>
            <a:ext cx="387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736640" y="1127160"/>
            <a:ext cx="387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346480" y="1127160"/>
            <a:ext cx="40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39640" y="153036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149480" y="153036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149480" y="114948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8440" y="153036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758960" y="114948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758960" y="153036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149480" y="768240"/>
            <a:ext cx="368280" cy="368280"/>
          </a:xfrm>
          <a:prstGeom prst="rect">
            <a:avLst/>
          </a:prstGeom>
          <a:noFill/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127160" y="7462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516040" y="4649760"/>
            <a:ext cx="379440" cy="912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135160" y="5487840"/>
            <a:ext cx="608040" cy="455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135160" y="5792760"/>
            <a:ext cx="608040" cy="455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996600"/>
                </a:solidFill>
                <a:latin typeface="Arial"/>
              </a:rPr>
              <a:t>Eis que de repente...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82440" y="2749680"/>
            <a:ext cx="8979120" cy="379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35000" y="4327560"/>
            <a:ext cx="898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í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469120" y="3032280"/>
            <a:ext cx="1777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r (C,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402440" y="5851440"/>
            <a:ext cx="1777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r (D,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8212680" y="4327560"/>
            <a:ext cx="67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050840" y="3635280"/>
            <a:ext cx="15940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NaMesa 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B,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C,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3300"/>
                </a:solidFill>
                <a:latin typeface="Times New Roman"/>
              </a:rPr>
              <a:t>EmCima (D,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3300"/>
                </a:solidFill>
                <a:latin typeface="Times New Roman"/>
              </a:rPr>
              <a:t>Limpo (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5200" y="5538960"/>
            <a:ext cx="15476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D,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868200" y="2871720"/>
            <a:ext cx="15476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C,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611400" y="4243320"/>
            <a:ext cx="1585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C,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D,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58760" y="4349880"/>
            <a:ext cx="8254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159760" y="4349880"/>
            <a:ext cx="8254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416560" y="3054240"/>
            <a:ext cx="18921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273560" y="5873760"/>
            <a:ext cx="18921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2516040" y="3049560"/>
            <a:ext cx="1446480" cy="12938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2058840" y="3430440"/>
            <a:ext cx="1827360" cy="1751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2135160" y="3735360"/>
            <a:ext cx="1827360" cy="1674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135160" y="5487840"/>
            <a:ext cx="608040" cy="455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4421160" y="3506760"/>
            <a:ext cx="1293840" cy="228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173640" y="3506760"/>
            <a:ext cx="455760" cy="912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5335560" y="4725720"/>
            <a:ext cx="129384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82680" y="1981080"/>
            <a:ext cx="2512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17680" y="150804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127160" y="1127160"/>
            <a:ext cx="387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736640" y="1127160"/>
            <a:ext cx="387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346480" y="1127160"/>
            <a:ext cx="40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9640" y="153036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149480" y="153036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149480" y="114948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368440" y="153036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758960" y="114948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758960" y="153036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149480" y="768240"/>
            <a:ext cx="368280" cy="368280"/>
          </a:xfrm>
          <a:prstGeom prst="rect">
            <a:avLst/>
          </a:prstGeom>
          <a:noFill/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127160" y="7462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516040" y="4649760"/>
            <a:ext cx="379440" cy="912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35160" y="5487840"/>
            <a:ext cx="608040" cy="455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135160" y="5792760"/>
            <a:ext cx="608040" cy="455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487320" y="1050840"/>
            <a:ext cx="53712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próxima ação seri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Mover (D, B)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  mas as pré-condi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limpo (D) ^ limpo (B) ^ EmCima (D,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ão são mais vál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82440" y="2749680"/>
            <a:ext cx="8979120" cy="379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35000" y="4327560"/>
            <a:ext cx="898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í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469120" y="3032280"/>
            <a:ext cx="1777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r (C,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402440" y="5851440"/>
            <a:ext cx="1777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r (D,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212680" y="4327560"/>
            <a:ext cx="67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050840" y="3635280"/>
            <a:ext cx="15940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NaMesa 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B,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C,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3300"/>
                </a:solidFill>
                <a:latin typeface="Times New Roman"/>
              </a:rPr>
              <a:t>EmCima (D,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3300"/>
                </a:solidFill>
                <a:latin typeface="Times New Roman"/>
              </a:rPr>
              <a:t>Limpo (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725200" y="5538960"/>
            <a:ext cx="15476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D,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68200" y="2871720"/>
            <a:ext cx="15476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C,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611400" y="4243320"/>
            <a:ext cx="1585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C,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D,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58760" y="4349880"/>
            <a:ext cx="8254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8159760" y="4349880"/>
            <a:ext cx="8254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416560" y="3054240"/>
            <a:ext cx="18921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273560" y="5873760"/>
            <a:ext cx="18921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2516040" y="3049560"/>
            <a:ext cx="1446480" cy="12938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2058840" y="3430440"/>
            <a:ext cx="1827360" cy="1751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2135160" y="3735360"/>
            <a:ext cx="1827360" cy="1674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135160" y="5487840"/>
            <a:ext cx="608040" cy="455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4421160" y="3506760"/>
            <a:ext cx="1293840" cy="228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173640" y="3506760"/>
            <a:ext cx="455760" cy="912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5335560" y="4725720"/>
            <a:ext cx="129384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82680" y="1981080"/>
            <a:ext cx="2512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17680" y="150804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127160" y="1127160"/>
            <a:ext cx="387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736640" y="1127160"/>
            <a:ext cx="387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346480" y="1127160"/>
            <a:ext cx="40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39640" y="153036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149480" y="153036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49480" y="114948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368440" y="153036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758960" y="114948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758960" y="153036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149480" y="768240"/>
            <a:ext cx="368280" cy="368280"/>
          </a:xfrm>
          <a:prstGeom prst="rect">
            <a:avLst/>
          </a:prstGeom>
          <a:noFill/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127160" y="7462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/>
          </p:nvPr>
        </p:nvSpPr>
        <p:spPr>
          <a:xfrm>
            <a:off x="3349440" y="457200"/>
            <a:ext cx="579276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tendendo um link caus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3200" spc="-1" strike="noStrike">
                <a:solidFill>
                  <a:srgbClr val="996600"/>
                </a:solidFill>
                <a:latin typeface="Arial"/>
              </a:rPr>
              <a:t>4 Limitações de POP-Strips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72920" y="1142640"/>
            <a:ext cx="78087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tempo não é levado em con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upõe que todas as ações podem ocorrer simultâneamente e que uma pode seguir a outra sem descontinuidade tempo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x: existem datas-limite para entrega de projetos, ações têm durações, certas ações só podem ocorrer em certas épocas, 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 limitação dos recursos não é considerad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ão custa nada executar uma 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x: existe um orçamento a ser respeitado, nem todas pessoas podem trabalhar ao mesmo tempo..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2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26300-DEA8-4082-B6E3-0C19070451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82440" y="2749680"/>
            <a:ext cx="8979120" cy="379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35000" y="4327560"/>
            <a:ext cx="898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í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469120" y="3032280"/>
            <a:ext cx="1777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r (C,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402440" y="5851440"/>
            <a:ext cx="1777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r (D,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212680" y="4327560"/>
            <a:ext cx="67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050840" y="3635280"/>
            <a:ext cx="15940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NaMesa 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B,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C,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3300"/>
                </a:solidFill>
                <a:latin typeface="Times New Roman"/>
              </a:rPr>
              <a:t>EmCima (D,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725200" y="5538960"/>
            <a:ext cx="15476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D,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868200" y="2871720"/>
            <a:ext cx="15476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C,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611400" y="4243320"/>
            <a:ext cx="1585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C,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3300"/>
                </a:solidFill>
                <a:latin typeface="Times New Roman"/>
              </a:rPr>
              <a:t>EmCima (D,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58760" y="4349880"/>
            <a:ext cx="8254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8159760" y="4349880"/>
            <a:ext cx="8254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416560" y="3054240"/>
            <a:ext cx="18921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273560" y="5873760"/>
            <a:ext cx="18921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2516040" y="3049560"/>
            <a:ext cx="1446480" cy="12938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2058840" y="3430440"/>
            <a:ext cx="1827360" cy="1751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2135160" y="3735360"/>
            <a:ext cx="1827360" cy="1674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135160" y="5487840"/>
            <a:ext cx="608040" cy="455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4421160" y="3506760"/>
            <a:ext cx="1293840" cy="228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173640" y="3506760"/>
            <a:ext cx="455760" cy="912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5335560" y="4725720"/>
            <a:ext cx="129384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82680" y="1981080"/>
            <a:ext cx="2512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17680" y="150804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127160" y="1127160"/>
            <a:ext cx="387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736640" y="1127160"/>
            <a:ext cx="387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346480" y="1127160"/>
            <a:ext cx="40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39640" y="153036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149480" y="153036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149480" y="114948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368440" y="153036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758960" y="114948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758960" y="153036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149480" y="768240"/>
            <a:ext cx="368280" cy="368280"/>
          </a:xfrm>
          <a:prstGeom prst="rect">
            <a:avLst/>
          </a:prstGeom>
          <a:noFill/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127160" y="7462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3349440" y="457200"/>
            <a:ext cx="579276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tendendo um link caus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82440" y="2749680"/>
            <a:ext cx="8979120" cy="379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35000" y="4327560"/>
            <a:ext cx="898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í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469120" y="3032280"/>
            <a:ext cx="1777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r (C,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402440" y="5851440"/>
            <a:ext cx="1777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r (D,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8212680" y="4327560"/>
            <a:ext cx="67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50840" y="3635280"/>
            <a:ext cx="15940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NaMesa 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B,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C,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3300"/>
                </a:solidFill>
                <a:latin typeface="Times New Roman"/>
              </a:rPr>
              <a:t>EmCima (D,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725200" y="5538960"/>
            <a:ext cx="15476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D,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68200" y="2871720"/>
            <a:ext cx="15476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C,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611400" y="4243320"/>
            <a:ext cx="1585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C,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3300"/>
                </a:solidFill>
                <a:latin typeface="Times New Roman"/>
              </a:rPr>
              <a:t>EmCima (D,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58760" y="4349880"/>
            <a:ext cx="8254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8159760" y="4349880"/>
            <a:ext cx="8254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416560" y="3054240"/>
            <a:ext cx="18921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273560" y="5873760"/>
            <a:ext cx="18921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2516040" y="3049560"/>
            <a:ext cx="1446480" cy="12938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2058840" y="3430440"/>
            <a:ext cx="1827360" cy="1751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2135160" y="3735360"/>
            <a:ext cx="1827360" cy="1674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135160" y="5487840"/>
            <a:ext cx="608040" cy="455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4421160" y="3506760"/>
            <a:ext cx="1293840" cy="228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173640" y="3506760"/>
            <a:ext cx="455760" cy="912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5335560" y="4725720"/>
            <a:ext cx="129384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2680" y="1981080"/>
            <a:ext cx="2512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17680" y="150804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127160" y="1127160"/>
            <a:ext cx="387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736640" y="1127160"/>
            <a:ext cx="387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346480" y="1127160"/>
            <a:ext cx="40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39640" y="153036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149480" y="153036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149480" y="114948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368440" y="153036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758960" y="114948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758960" y="153036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149480" y="768240"/>
            <a:ext cx="368280" cy="368280"/>
          </a:xfrm>
          <a:prstGeom prst="rect">
            <a:avLst/>
          </a:prstGeom>
          <a:noFill/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127160" y="7462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/>
          </p:nvPr>
        </p:nvSpPr>
        <p:spPr>
          <a:xfrm>
            <a:off x="3349440" y="457200"/>
            <a:ext cx="579276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leminando passos redundan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592360" y="4648320"/>
            <a:ext cx="39607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82440" y="2749680"/>
            <a:ext cx="8979120" cy="379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35000" y="4327560"/>
            <a:ext cx="898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í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469120" y="3032280"/>
            <a:ext cx="1777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r (C,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212680" y="4327560"/>
            <a:ext cx="67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050840" y="3635280"/>
            <a:ext cx="15940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NaMesa 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B,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C,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D,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868200" y="2871720"/>
            <a:ext cx="15476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C,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611400" y="4243320"/>
            <a:ext cx="1585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C,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D,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58760" y="4349880"/>
            <a:ext cx="8254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8159760" y="4349880"/>
            <a:ext cx="8254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416560" y="3054240"/>
            <a:ext cx="18921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2516040" y="3049560"/>
            <a:ext cx="1446480" cy="12938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2058840" y="3430440"/>
            <a:ext cx="1827360" cy="1751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2135160" y="3735360"/>
            <a:ext cx="1827360" cy="1674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173640" y="3506760"/>
            <a:ext cx="455760" cy="912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82680" y="1981080"/>
            <a:ext cx="2512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17680" y="150804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127160" y="1127160"/>
            <a:ext cx="387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736640" y="1127160"/>
            <a:ext cx="387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1127160"/>
            <a:ext cx="40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39640" y="153036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149480" y="153036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149480" y="114948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68440" y="153036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758960" y="114948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758960" y="153036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149480" y="768240"/>
            <a:ext cx="368280" cy="368280"/>
          </a:xfrm>
          <a:prstGeom prst="rect">
            <a:avLst/>
          </a:prstGeom>
          <a:noFill/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127160" y="7462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/>
          </p:nvPr>
        </p:nvSpPr>
        <p:spPr>
          <a:xfrm>
            <a:off x="3349440" y="457200"/>
            <a:ext cx="579276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leminando passos redundan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592360" y="4648320"/>
            <a:ext cx="39607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82440" y="2749680"/>
            <a:ext cx="8979120" cy="379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35000" y="4327560"/>
            <a:ext cx="898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í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212680" y="4327560"/>
            <a:ext cx="67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050840" y="3635280"/>
            <a:ext cx="15940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NaMesa 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B,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C,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D,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3300"/>
                </a:solidFill>
                <a:latin typeface="Times New Roman"/>
              </a:rPr>
              <a:t>Limpo (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611400" y="4243320"/>
            <a:ext cx="1585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C,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D,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58760" y="4349880"/>
            <a:ext cx="8254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159760" y="4349880"/>
            <a:ext cx="8254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82680" y="1981080"/>
            <a:ext cx="2512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17680" y="150804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127160" y="1127160"/>
            <a:ext cx="387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736640" y="1127160"/>
            <a:ext cx="354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346480" y="1127160"/>
            <a:ext cx="40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39640" y="153036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149480" y="153036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149480" y="114948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368440" y="153036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9640" y="1149480"/>
            <a:ext cx="368280" cy="368280"/>
          </a:xfrm>
          <a:prstGeom prst="rect">
            <a:avLst/>
          </a:prstGeom>
          <a:noFill/>
          <a:ln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758960" y="153036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149480" y="768240"/>
            <a:ext cx="368280" cy="368280"/>
          </a:xfrm>
          <a:prstGeom prst="rect">
            <a:avLst/>
          </a:prstGeom>
          <a:noFill/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127160" y="7462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/>
          </p:nvPr>
        </p:nvSpPr>
        <p:spPr>
          <a:xfrm>
            <a:off x="3349440" y="457200"/>
            <a:ext cx="579276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m Agente Aloprado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592360" y="4648320"/>
            <a:ext cx="39607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17680" y="11271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2668680" y="4040280"/>
            <a:ext cx="836640" cy="303120"/>
          </a:xfrm>
          <a:prstGeom prst="line">
            <a:avLst/>
          </a:prstGeom>
          <a:ln w="12600">
            <a:solidFill>
              <a:srgbClr val="cc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82440" y="2749680"/>
            <a:ext cx="8979120" cy="379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35000" y="4327560"/>
            <a:ext cx="898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í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469120" y="3032280"/>
            <a:ext cx="1777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r (C,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8212680" y="4327560"/>
            <a:ext cx="67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050840" y="3635280"/>
            <a:ext cx="15940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NaMesa 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B,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C,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D,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868200" y="2871720"/>
            <a:ext cx="15854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C,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611400" y="4243320"/>
            <a:ext cx="1585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C,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D,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58760" y="4349880"/>
            <a:ext cx="8254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8159760" y="4349880"/>
            <a:ext cx="8254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416560" y="3054240"/>
            <a:ext cx="18921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82680" y="1981080"/>
            <a:ext cx="2512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17680" y="150804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127160" y="1127160"/>
            <a:ext cx="387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736640" y="1127160"/>
            <a:ext cx="354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346480" y="1127160"/>
            <a:ext cx="40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39640" y="153036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149480" y="153036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149480" y="114948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368440" y="153036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39640" y="1149480"/>
            <a:ext cx="368280" cy="368280"/>
          </a:xfrm>
          <a:prstGeom prst="rect">
            <a:avLst/>
          </a:prstGeom>
          <a:noFill/>
          <a:ln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758960" y="153036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149480" y="768240"/>
            <a:ext cx="368280" cy="368280"/>
          </a:xfrm>
          <a:prstGeom prst="rect">
            <a:avLst/>
          </a:prstGeom>
          <a:noFill/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127160" y="7462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/>
          </p:nvPr>
        </p:nvSpPr>
        <p:spPr>
          <a:xfrm>
            <a:off x="3349440" y="457200"/>
            <a:ext cx="579276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dicinando um novo passo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592360" y="4648320"/>
            <a:ext cx="39607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17680" y="11271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82440" y="2749680"/>
            <a:ext cx="8979120" cy="379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35000" y="4327560"/>
            <a:ext cx="898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í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469120" y="3032280"/>
            <a:ext cx="1777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r (C,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8212680" y="4327560"/>
            <a:ext cx="67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050840" y="3635280"/>
            <a:ext cx="15940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NaMesa 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B,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C,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D,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868200" y="2871720"/>
            <a:ext cx="15854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C,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611400" y="4243320"/>
            <a:ext cx="1585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C,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D,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58760" y="4349880"/>
            <a:ext cx="8254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8159760" y="4349880"/>
            <a:ext cx="8254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416560" y="3054240"/>
            <a:ext cx="18921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82680" y="1981080"/>
            <a:ext cx="2512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17680" y="150804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127160" y="1127160"/>
            <a:ext cx="387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736640" y="1127160"/>
            <a:ext cx="354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346480" y="1127160"/>
            <a:ext cx="40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39640" y="153036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149480" y="153036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149480" y="114948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368440" y="153036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39640" y="1149480"/>
            <a:ext cx="368280" cy="368280"/>
          </a:xfrm>
          <a:prstGeom prst="rect">
            <a:avLst/>
          </a:prstGeom>
          <a:noFill/>
          <a:ln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758960" y="153036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9480" y="768240"/>
            <a:ext cx="368280" cy="368280"/>
          </a:xfrm>
          <a:prstGeom prst="rect">
            <a:avLst/>
          </a:prstGeom>
          <a:noFill/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127160" y="7462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3349440" y="457200"/>
            <a:ext cx="579276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dicinando um novo passo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592360" y="4648320"/>
            <a:ext cx="39607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17680" y="11271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2516040" y="3049560"/>
            <a:ext cx="1446480" cy="12938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2058840" y="3430440"/>
            <a:ext cx="1827360" cy="1751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2135160" y="3735360"/>
            <a:ext cx="1827360" cy="1674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173640" y="3506760"/>
            <a:ext cx="455760" cy="912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82440" y="2749680"/>
            <a:ext cx="8979120" cy="379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35000" y="4327560"/>
            <a:ext cx="898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í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8212680" y="4327560"/>
            <a:ext cx="67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050840" y="3635280"/>
            <a:ext cx="15940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NaMesa 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B,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C,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D,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3300"/>
                </a:solidFill>
                <a:latin typeface="Times New Roman"/>
              </a:rPr>
              <a:t>Limpo 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611400" y="4243320"/>
            <a:ext cx="1585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C,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D,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58760" y="4349880"/>
            <a:ext cx="8254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8159760" y="4349880"/>
            <a:ext cx="8254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82680" y="1981080"/>
            <a:ext cx="2512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17680" y="150804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127160" y="1127160"/>
            <a:ext cx="387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736640" y="1127160"/>
            <a:ext cx="354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346480" y="1127160"/>
            <a:ext cx="40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39640" y="153036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149480" y="153036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149480" y="114948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368440" y="153036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149480" y="387360"/>
            <a:ext cx="368280" cy="368280"/>
          </a:xfrm>
          <a:prstGeom prst="rect">
            <a:avLst/>
          </a:prstGeom>
          <a:noFill/>
          <a:ln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758960" y="153036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149480" y="768240"/>
            <a:ext cx="368280" cy="368280"/>
          </a:xfrm>
          <a:prstGeom prst="rect">
            <a:avLst/>
          </a:prstGeom>
          <a:noFill/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127160" y="7462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/>
          </p:nvPr>
        </p:nvSpPr>
        <p:spPr>
          <a:xfrm>
            <a:off x="3349440" y="457200"/>
            <a:ext cx="579276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lmente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592360" y="4648320"/>
            <a:ext cx="39607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127160" y="36504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>
            <a:off x="82440" y="2749680"/>
            <a:ext cx="8979120" cy="379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35000" y="4327560"/>
            <a:ext cx="898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í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8212680" y="4327560"/>
            <a:ext cx="67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050840" y="3635280"/>
            <a:ext cx="15940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NaMesa 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Cima (B,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3300"/>
                </a:solidFill>
                <a:latin typeface="Times New Roman"/>
              </a:rPr>
              <a:t>EmCima (C,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3300"/>
                </a:solidFill>
                <a:latin typeface="Times New Roman"/>
              </a:rPr>
              <a:t>EmCima (D,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mpo (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611400" y="4243320"/>
            <a:ext cx="1585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3300"/>
                </a:solidFill>
                <a:latin typeface="Times New Roman"/>
              </a:rPr>
              <a:t>EmCima (C,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3300"/>
                </a:solidFill>
                <a:latin typeface="Times New Roman"/>
              </a:rPr>
              <a:t>EmCima (D,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58760" y="4349880"/>
            <a:ext cx="8254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8159760" y="4349880"/>
            <a:ext cx="8254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82680" y="1981080"/>
            <a:ext cx="2512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17680" y="150804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127160" y="1127160"/>
            <a:ext cx="387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736640" y="1127160"/>
            <a:ext cx="354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346480" y="1127160"/>
            <a:ext cx="40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39640" y="153036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149480" y="153036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149480" y="114948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368440" y="153036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149480" y="387360"/>
            <a:ext cx="368280" cy="368280"/>
          </a:xfrm>
          <a:prstGeom prst="rect">
            <a:avLst/>
          </a:prstGeom>
          <a:noFill/>
          <a:ln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758960" y="153036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149480" y="768240"/>
            <a:ext cx="368280" cy="368280"/>
          </a:xfrm>
          <a:prstGeom prst="rect">
            <a:avLst/>
          </a:prstGeom>
          <a:noFill/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127160" y="7462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/>
          </p:nvPr>
        </p:nvSpPr>
        <p:spPr>
          <a:xfrm>
            <a:off x="3349440" y="457200"/>
            <a:ext cx="579276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o agente situado pode buscar um novo objetiv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592360" y="4648320"/>
            <a:ext cx="40370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127160" y="36504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592360" y="4343400"/>
            <a:ext cx="40370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6600"/>
                </a:solidFill>
                <a:latin typeface="Arial"/>
              </a:rPr>
              <a:t>Uma Comparação: Planejamento Condicional X Replanejamento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685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ejamento Condicional:  # condições =  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lanejamento:  planos frágeis nem sempre podem ser completado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m sistema híbri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ão: deve-se considerar probabilidades e custos dos resultad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7602480" y="1660680"/>
            <a:ext cx="1414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# pass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6600"/>
                </a:solidFill>
                <a:latin typeface="Arial"/>
              </a:rPr>
              <a:t>Limitações  &amp; soluções: resumo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72920" y="1142640"/>
            <a:ext cx="78087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70800" indent="-37080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lanejamento a um único nível de granularidad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5520" indent="-22608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 POP-STRIPS para POP-HAD-STRI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0800" indent="-37080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econdições e efeitos não contextuai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5520" indent="-22608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 POP-STRIPS para POP-DUN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0800" indent="-37080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presentação do temp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5520" indent="-22608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 POP-STRIPS para POP-TI-STRIP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0800" indent="-37080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presentação de recursos globalmente limitado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5520" indent="-22608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 POP-STRIPS para POP-RC-STRI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0800" indent="-37080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s aplicações reais mais complexas requerem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5520" indent="-22608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OP-TIRC-HAD-DUNC! :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7AEAD-71B3-45B6-BF55-2A07E8436D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6600"/>
                </a:solidFill>
                <a:latin typeface="Arial"/>
              </a:rPr>
              <a:t>Decomposição Hierárquica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67200" indent="-36720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ble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600" indent="-22392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nstruções muito abstratas não são implementáveis no mundo rea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88360" indent="-22392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x. “Go(Supermarket), Buy(Milk), Buy(Bananas), Go(Home)”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7600" indent="-22392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nstruções detalhadas provocam explosão combinatória no espaço de bus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88360" indent="-22392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vançar(1cm), Girar(40°), ...”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7200" indent="-36720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oluçã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600" indent="-22392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lanejar com refinamento incremental através de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decomposição hierárquic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operadores abstra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7200" indent="-36720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peradores </a:t>
            </a:r>
            <a:r>
              <a:rPr b="1" i="1" lang="pt-BR" sz="2400" spc="-1" strike="noStrike">
                <a:solidFill>
                  <a:srgbClr val="663300"/>
                </a:solidFill>
                <a:latin typeface="Arial"/>
              </a:rPr>
              <a:t>abstratos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600" indent="-22392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ão direitamente executáveis (não primitiv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7600" indent="-22392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m várias </a:t>
            </a:r>
            <a:r>
              <a:rPr b="0" i="1" lang="pt-BR" sz="2200" spc="-1" strike="noStrike">
                <a:solidFill>
                  <a:srgbClr val="663300"/>
                </a:solidFill>
                <a:latin typeface="Arial"/>
              </a:rPr>
              <a:t>decomposiçõe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em ações menos abstrat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4341F-309B-4FDF-A2E4-2C5770176F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996600"/>
                </a:solidFill>
                <a:latin typeface="Arial"/>
              </a:rPr>
              <a:t>Exemplo de decomposição hierárquica</a:t>
            </a:r>
            <a:endParaRPr b="1" i="1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914400"/>
            <a:ext cx="1468440" cy="366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Build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219320" y="1371600"/>
            <a:ext cx="7235640" cy="2209680"/>
            <a:chOff x="1219320" y="1371600"/>
            <a:chExt cx="7235640" cy="2209680"/>
          </a:xfrm>
        </p:grpSpPr>
        <p:sp>
          <p:nvSpPr>
            <p:cNvPr id="87" name=""/>
            <p:cNvSpPr/>
            <p:nvPr/>
          </p:nvSpPr>
          <p:spPr>
            <a:xfrm>
              <a:off x="2079720" y="1928880"/>
              <a:ext cx="1084320" cy="641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Obtain Perm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079720" y="2819520"/>
              <a:ext cx="1084320" cy="641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Hire Buil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510240" y="2554200"/>
              <a:ext cx="1084320" cy="641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Pay Buil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916440" y="2631960"/>
              <a:ext cx="1625400" cy="366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Constru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66920" y="2168640"/>
              <a:ext cx="75096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3200400" y="2792160"/>
              <a:ext cx="716040" cy="40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43640" y="2790720"/>
              <a:ext cx="96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19320" y="1854360"/>
              <a:ext cx="7235640" cy="1726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321080" y="1371600"/>
              <a:ext cx="534960" cy="479520"/>
            </a:xfrm>
            <a:prstGeom prst="downArrow">
              <a:avLst>
                <a:gd name="adj1" fmla="val 50000"/>
                <a:gd name="adj2" fmla="val 25019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95840" y="1384200"/>
              <a:ext cx="2162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Decomposes 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762120" y="3657600"/>
            <a:ext cx="7885080" cy="2514600"/>
            <a:chOff x="762120" y="3657600"/>
            <a:chExt cx="7885080" cy="2514600"/>
          </a:xfrm>
        </p:grpSpPr>
        <p:sp>
          <p:nvSpPr>
            <p:cNvPr id="98" name=""/>
            <p:cNvSpPr/>
            <p:nvPr/>
          </p:nvSpPr>
          <p:spPr>
            <a:xfrm>
              <a:off x="3243240" y="4762440"/>
              <a:ext cx="977760" cy="641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Build Fr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79960" y="4403880"/>
              <a:ext cx="870120" cy="641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Build Ro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97600" y="5302080"/>
              <a:ext cx="869760" cy="641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Build Wal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307280" y="4844880"/>
              <a:ext cx="1085760" cy="641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Build Interi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73080" y="4765680"/>
              <a:ext cx="1517760" cy="641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Build Found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94080" y="5078520"/>
              <a:ext cx="75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4221000" y="4719600"/>
              <a:ext cx="858960" cy="3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22800" y="5111640"/>
              <a:ext cx="79848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5935680" y="5226120"/>
              <a:ext cx="1371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951520" y="4643280"/>
              <a:ext cx="1355760" cy="50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62120" y="4221000"/>
              <a:ext cx="7885080" cy="195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76920" y="3657600"/>
              <a:ext cx="2162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Decomposes 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19720" y="3657600"/>
              <a:ext cx="536400" cy="533520"/>
            </a:xfrm>
            <a:prstGeom prst="downArrow">
              <a:avLst>
                <a:gd name="adj1" fmla="val 50000"/>
                <a:gd name="adj2" fmla="val 25019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E342F-13AF-4067-A0DE-24434B8617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3080" y="304920"/>
            <a:ext cx="7807320" cy="4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996600"/>
                </a:solidFill>
                <a:latin typeface="Arial"/>
              </a:rPr>
              <a:t>Decomposição Hierárquica</a:t>
            </a:r>
            <a:endParaRPr b="1" i="1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72920" y="1142640"/>
            <a:ext cx="78087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que é preciso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tender STRIPS pa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286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incluir operadores abstrato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286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efinir quem são ou não os operadores abstrato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definir PO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100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ovo operador: Decompose(o,p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0">
              <a:spcBef>
                <a:spcPts val="414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250FF-9BA7-4355-9364-8628026440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12T11:25:12Z</dcterms:created>
  <dc:creator>Massilon Jr.</dc:creator>
  <dc:description/>
  <dc:language>en-US</dc:language>
  <cp:lastModifiedBy>grec</cp:lastModifiedBy>
  <cp:lastPrinted>1998-09-21T19:22:10Z</cp:lastPrinted>
  <dcterms:modified xsi:type="dcterms:W3CDTF">2001-05-03T07:07:30Z</dcterms:modified>
  <cp:revision>118</cp:revision>
  <dc:subject/>
  <dc:title>PLANEJADORES PRÁTICOS</dc:title>
</cp:coreProperties>
</file>