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54D1-13D4-4BD9-B8A0-A2970748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8856-E71B-467A-8C9D-A655DE61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914D-C8A9-4CE3-9293-839A2959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2BA-AC65-4E64-80E6-D6B8F09F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60B0-2F88-4ADE-A26F-2A9BBD9C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B09F-BEAB-40C8-A487-D01BDDCC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A541-DBDC-4735-8820-BFA7C8EA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6AE4-AEDC-45ED-A7B8-F7EAA9FD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BB77-572B-442C-806D-01EE45A0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390A-F0AE-4E9E-9994-DCA4A1E1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A6A5-3332-4E76-83E0-6555C982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77B-6449-4511-8B78-A2D68D98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7297-8117-4DD6-A8AB-E7974876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C2DC-0325-49A5-9915-3BBCDD24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FF42-1AFB-4745-B0BA-B53DF3B8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9E61-784C-4FCA-B8A8-0FC83758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994D-A1BF-49CD-B8E9-778384A7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40E-A7FA-4CE1-A241-5ADBB53A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9B93-FB4A-4915-A358-F09C92CE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2D7C-0AC1-405F-9C9F-7446BF40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4A0-0990-43F7-B106-45C5485A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D434-90CA-467A-8819-C4F70A15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2693-52AB-4DDE-8EC8-EAD77A24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0237-0A71-4034-997A-5E302A74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EB4F-304E-4085-A3C5-7C5296D9938E}" type="slidenum">
              <a:rPr b="0" lang="pt-B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D7DC-4F73-4457-B437-07C8B7C176ED}" type="slidenum">
              <a:rPr b="0" lang="pt-B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356200" y="609480"/>
            <a:ext cx="59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Bookman Old Style"/>
              </a:rPr>
              <a:t>Abordagem simbólica 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Bookman Old Style"/>
              </a:rPr>
              <a:t>análise de d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048120"/>
            <a:ext cx="79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Prof. Francisco de A. T. de Carv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34280" y="426708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Centro de Informática – CIn / UF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01560" y="654120"/>
            <a:ext cx="56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Multi-valor generalizada (Estrutur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2240" y="1905120"/>
            <a:ext cx="80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Uma variável tem uma ordenação generalizada se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sistema de ordenação dos pares de objetos é  defin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por uma estrutura (árvore, reticulado, pirâm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3120" y="34290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9080" y="352116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Microprocess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094040" y="3886200"/>
            <a:ext cx="5393160" cy="1906560"/>
            <a:chOff x="1094040" y="3886200"/>
            <a:chExt cx="5393160" cy="1906560"/>
          </a:xfrm>
        </p:grpSpPr>
        <p:sp>
          <p:nvSpPr>
            <p:cNvPr id="137" name=""/>
            <p:cNvSpPr/>
            <p:nvPr/>
          </p:nvSpPr>
          <p:spPr>
            <a:xfrm>
              <a:off x="4038480" y="3886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38480" y="3886200"/>
              <a:ext cx="1828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133360" y="3886200"/>
              <a:ext cx="19047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74240" y="4511520"/>
              <a:ext cx="7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Int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46640" y="4479840"/>
              <a:ext cx="127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Motoro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95760" y="4495680"/>
              <a:ext cx="96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outr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94040" y="5410080"/>
              <a:ext cx="83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Bookman Old Style"/>
                </a:rPr>
                <a:t>802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676160" y="4800600"/>
              <a:ext cx="6094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0" y="480060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37040" y="5410080"/>
              <a:ext cx="83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Bookman Old Style"/>
                </a:rPr>
                <a:t>803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581280" y="480060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480060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27760" y="5410080"/>
              <a:ext cx="83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Bookman Old Style"/>
                </a:rPr>
                <a:t>680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76320" y="54100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Bookman Old Style"/>
                </a:rPr>
                <a:t>V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94440" y="5424480"/>
              <a:ext cx="83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Bookman Old Style"/>
                </a:rPr>
                <a:t>68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38280" y="54100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Bookman Old Style"/>
                </a:rPr>
                <a:t>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714640" y="480060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43600" y="4800600"/>
              <a:ext cx="3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68640" y="83808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man Old Style"/>
              </a:rPr>
              <a:t>2 - Variáveis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98200" y="2057400"/>
            <a:ext cx="76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Uma variável Y é denominada intervalo se para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k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E o subconjunto Y(k) = [a,b] onde a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68920" y="33526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60640" y="3733920"/>
            <a:ext cx="429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E= conjunto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Y= valor gasto com imp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k= um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Y(k)=[2000,30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910600" y="76212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man Old Style"/>
              </a:rPr>
              <a:t>3 - Variáveis Mod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57240" y="2057400"/>
            <a:ext cx="53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Uma variável modal Y é uma fu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72440" y="4302000"/>
            <a:ext cx="60163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é uma medida ou uma distribu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(probabilidade, frequência ou pe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- U(k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- M(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) é uma família de medidas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em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25920" y="376884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77160" y="2819520"/>
            <a:ext cx="2754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:    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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(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Y(k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(U(k),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35800" y="3049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64160" y="1066680"/>
            <a:ext cx="62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C={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, ...,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Bookman Old Style"/>
              </a:rPr>
              <a:t>10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} um conjunto de 10 empres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80520" y="2057400"/>
            <a:ext cx="490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Y - descreve altura na empresa 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600" y="2819520"/>
            <a:ext cx="55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1 - Um histograma com os interva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221840" y="3657600"/>
            <a:ext cx="4874040" cy="1828800"/>
            <a:chOff x="1221840" y="3657600"/>
            <a:chExt cx="4874040" cy="1828800"/>
          </a:xfrm>
        </p:grpSpPr>
        <p:sp>
          <p:nvSpPr>
            <p:cNvPr id="169" name=""/>
            <p:cNvSpPr/>
            <p:nvPr/>
          </p:nvSpPr>
          <p:spPr>
            <a:xfrm>
              <a:off x="1905120" y="36576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7920" y="525780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90920" y="49532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90920" y="4953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48120" y="46483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44960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4812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62520" y="44960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05320" y="4496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19720" y="5029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62520" y="4953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19720" y="49532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7692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76520" y="5029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21840" y="49132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Bookman Old Style"/>
                </a:rPr>
                <a:t>0,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76520" y="47246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76520" y="4343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37680" y="457200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Bookman Old Style"/>
                </a:rPr>
                <a:t>0.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37680" y="419112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Bookman Old Style"/>
                </a:rPr>
                <a:t>0,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45200" y="5608800"/>
            <a:ext cx="759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2 - Uma distribuição normal </a:t>
            </a:r>
            <a:r>
              <a:rPr b="0" i="1" lang="pt-BR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(168,48.4 ) com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168 e variância 4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02080" y="735120"/>
            <a:ext cx="50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Tabela de dad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762120" y="2743200"/>
            <a:ext cx="7772400" cy="3200400"/>
            <a:chOff x="762120" y="2743200"/>
            <a:chExt cx="7772400" cy="3200400"/>
          </a:xfrm>
        </p:grpSpPr>
        <p:sp>
          <p:nvSpPr>
            <p:cNvPr id="191" name=""/>
            <p:cNvSpPr/>
            <p:nvPr/>
          </p:nvSpPr>
          <p:spPr>
            <a:xfrm>
              <a:off x="1006920" y="2895480"/>
              <a:ext cx="718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clas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28280" y="2895480"/>
              <a:ext cx="744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Mar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22200" y="3504960"/>
              <a:ext cx="2278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e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57040" y="3508200"/>
              <a:ext cx="1542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{CITR, PEUG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01400" y="5278320"/>
              <a:ext cx="6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77920" y="5278320"/>
              <a:ext cx="6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2600" y="5278320"/>
              <a:ext cx="6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29160" y="2743200"/>
              <a:ext cx="0" cy="320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22200" y="4038480"/>
              <a:ext cx="2278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e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22200" y="4647960"/>
              <a:ext cx="2278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e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2120" y="2743200"/>
              <a:ext cx="769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440" y="59436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2520" y="2743200"/>
              <a:ext cx="0" cy="320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53440" y="2743200"/>
              <a:ext cx="0" cy="320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11520" y="5333760"/>
              <a:ext cx="6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19400" y="2759040"/>
              <a:ext cx="2373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Dist. de freq. 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período de uso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66200" y="289548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Pre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07800" y="3444840"/>
              <a:ext cx="187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[12000,30000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07720" y="403848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{BMW,FIAT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20880" y="4655880"/>
              <a:ext cx="21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Bookman Old Style"/>
                </a:rPr>
                <a:t>{BMW,FIAT, ALFA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07800" y="4022640"/>
              <a:ext cx="187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[15000,35000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75480" y="4647960"/>
              <a:ext cx="173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[8000,45000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29480" y="4098960"/>
              <a:ext cx="243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( A 0.2   B0.5   C0.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29480" y="3520800"/>
              <a:ext cx="243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( A 0.4   B0.3   C0.4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29480" y="4632120"/>
              <a:ext cx="243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Bookman Old Style"/>
                </a:rPr>
                <a:t>( A 0.6   B0.2   C0.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2120" y="342900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00200" y="304920"/>
            <a:ext cx="5334120" cy="12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pendência entre variá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gras hierárqu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1905120"/>
            <a:ext cx="5638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ras Hierárquicas  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striçoes no Espaço de Descr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3434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Y tmo valores em S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Z não é aplic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54864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 código NA (não aplicável) é usado para expressar o fato de que nenhum valor pode ser atribuido a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2920" y="3048120"/>
            <a:ext cx="688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00"/>
                </a:solidFill>
                <a:latin typeface="Times New Roman"/>
              </a:rPr>
              <a:t>Uma variável Z é hierárquicamente dependente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00"/>
                </a:solidFill>
                <a:latin typeface="Times New Roman"/>
              </a:rPr>
              <a:t>variável Y se Z não pode ser aplicada para alg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00"/>
                </a:solidFill>
                <a:latin typeface="Times New Roman"/>
              </a:rPr>
              <a:t>categorias de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4648320"/>
            <a:ext cx="6629400" cy="7617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380880"/>
            <a:ext cx="5715000" cy="12193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3520" y="2514600"/>
            <a:ext cx="8229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uas variávei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Y= Sexo, 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= {masc.,fem.}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Z = numero de partos, 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= {0, 1, 2, 3, 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07480" y="53352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Examp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4343400"/>
            <a:ext cx="66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 claro que a aplicabilidade de Z depende do valor de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54864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 Y(x) = masc. Para algum x então Z não é aplicável para x, Z(x) =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16520" y="401760"/>
            <a:ext cx="446328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pendência entre variá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endências ló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94400" y="3200400"/>
            <a:ext cx="64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Y   toma valores em S 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Z toma valores em 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380880"/>
            <a:ext cx="4953240" cy="12193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1981080"/>
            <a:ext cx="63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valor de uma variável é restringido pelo valor de uma outra vari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3124080"/>
            <a:ext cx="6096240" cy="7621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5800" y="425772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Examp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4952880"/>
            <a:ext cx="883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[Nb horas de trabalho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[30-40]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[Tipo de Jornada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{full-time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937600" y="401760"/>
            <a:ext cx="30366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380880"/>
            <a:ext cx="4953240" cy="12193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2590920"/>
            <a:ext cx="634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 objeto simbólico é um instrumento usado para modelar o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raído de enormes bases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necido por especia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necido por um método de agrup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937600" y="401760"/>
            <a:ext cx="30366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80880"/>
            <a:ext cx="4953240" cy="12193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2590920"/>
            <a:ext cx="6340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j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m conjunto de indiví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: um conjunto de descrições de indivíduos ou de classes de indiví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uma aplicação d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m D que associa a cad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uma descrição 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 de uma dada tabela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356200" y="609480"/>
            <a:ext cx="59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Bookman Old Style"/>
              </a:rPr>
              <a:t>Abordagem simbólica 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Bookman Old Style"/>
              </a:rPr>
              <a:t>análise de d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133720"/>
            <a:ext cx="796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Descrições são ditas simbólicas qu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são mais complexas do que as usuais, p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apresentam variação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são estrutu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13400" y="4267080"/>
            <a:ext cx="790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Em uma tabela de dados simbólicos uma célula p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co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uma distribuição ou um intervalo ou vários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ligados por taxonomias e/ou reg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937600" y="401760"/>
            <a:ext cx="30366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380880"/>
            <a:ext cx="4953240" cy="12193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2743200"/>
            <a:ext cx="73915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 objeto simbólico é definido 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a descriçã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a relaçã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ra compara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m a descrição de um indivídu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a aplicaçã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hamada de função de pertin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937600" y="401760"/>
            <a:ext cx="30366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380880"/>
            <a:ext cx="4953240" cy="12193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220968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 objeto simbólico é uma tripla s = (a, R, d), 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é uma descriçã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é uma relação para compara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m a descrição de um indivídu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é uma aplicação d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m L tal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[y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R 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99320" y="401760"/>
            <a:ext cx="432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ipos de 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81080" y="380880"/>
            <a:ext cx="4953240" cy="12193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2209680"/>
            <a:ext cx="7391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tos simbólicos Boole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[y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R d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= {falso, verdadeiro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3962520"/>
            <a:ext cx="73911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mplo. Seja a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[y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R d] 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: [d’ R d] = [d’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d’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e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99320" y="401760"/>
            <a:ext cx="432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ipos de 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380880"/>
            <a:ext cx="4953240" cy="12193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2133720"/>
            <a:ext cx="73915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 y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(cor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altura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) 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{vermelho, amarelo} e altura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{21}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= (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({vermelho, azul, amarelo}, [10,15]) ent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4495680"/>
            <a:ext cx="7391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[cor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{vermelho, azul, amarelo}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altura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10,15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verdadeir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f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299320" y="401760"/>
            <a:ext cx="432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ipos de 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380880"/>
            <a:ext cx="4953240" cy="12193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2209680"/>
            <a:ext cx="7391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tos simbólicos Mod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[y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R d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= [0,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962520"/>
            <a:ext cx="73911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mplo : Objetos simbólicos probabi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48769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requency distributions on discret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29240" y="371520"/>
            <a:ext cx="70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bjetos simbólicos de semântica probabi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981080"/>
            <a:ext cx="786456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[ y  =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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 , …,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 } 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{m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, …,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}  - conjunto de categorias da variável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1  , j=1,...,k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 p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+ … +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= 1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280" y="4343400"/>
            <a:ext cx="899172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Y = Tipo de empre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 = {administração, ensino, secretariado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1 = [Type of Job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{ (0.3) administration, (0.7) teaching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2 = [Type of Job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{ (0.6) admin., (0.2) teaching , (0.2) secretary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39625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Exampl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304920"/>
            <a:ext cx="7543800" cy="6858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884960" y="401760"/>
            <a:ext cx="5159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xtensão de um objeto simbó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380880"/>
            <a:ext cx="6553440" cy="914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2209680"/>
            <a:ext cx="7391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tos simbólicos Boole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(s) =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 a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= verdadeiro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4038480"/>
            <a:ext cx="73911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tos simbólicos Mod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(s) =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 a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 um dado lim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978920" y="401760"/>
            <a:ext cx="4987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rdem entre 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95280" y="380880"/>
            <a:ext cx="6553440" cy="914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2209680"/>
            <a:ext cx="7391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 r é uma dada ordem em D, então a ordem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duzida por r no conjunto dos objetos simbólicos 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da 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4343400"/>
            <a:ext cx="73915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mplo: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ão, s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1482840" y="2590920"/>
            <a:ext cx="5780880" cy="3396600"/>
            <a:chOff x="1482840" y="2590920"/>
            <a:chExt cx="5780880" cy="3396600"/>
          </a:xfrm>
        </p:grpSpPr>
        <p:sp>
          <p:nvSpPr>
            <p:cNvPr id="274" name=""/>
            <p:cNvSpPr/>
            <p:nvPr/>
          </p:nvSpPr>
          <p:spPr>
            <a:xfrm flipV="1">
              <a:off x="2133720" y="281916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00560" y="5333760"/>
              <a:ext cx="563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82840" y="2590920"/>
              <a:ext cx="727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Bookman Old Style"/>
                </a:rPr>
                <a:t>y</a:t>
              </a:r>
              <a:r>
                <a:rPr b="0" lang="pt-BR" sz="3200" spc="-1" strike="noStrike" baseline="-25000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41360" y="5338800"/>
              <a:ext cx="522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Bookman Old Style"/>
                </a:rPr>
                <a:t>y</a:t>
              </a:r>
              <a:r>
                <a:rPr b="0" lang="pt-BR" sz="3200" spc="-1" strike="noStrike" baseline="-25000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200400" y="3276720"/>
            <a:ext cx="2577960" cy="1584360"/>
            <a:chOff x="3200400" y="3276720"/>
            <a:chExt cx="2577960" cy="1584360"/>
          </a:xfrm>
        </p:grpSpPr>
        <p:sp>
          <p:nvSpPr>
            <p:cNvPr id="279" name=""/>
            <p:cNvSpPr/>
            <p:nvPr/>
          </p:nvSpPr>
          <p:spPr>
            <a:xfrm>
              <a:off x="3200400" y="3276720"/>
              <a:ext cx="2577960" cy="158436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0400" y="3276720"/>
              <a:ext cx="1054080" cy="6714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24280" y="4189320"/>
              <a:ext cx="1054080" cy="6714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60040" y="3408120"/>
              <a:ext cx="317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2400" spc="-1" strike="noStrike">
                  <a:solidFill>
                    <a:srgbClr val="1c1c1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84640" y="43207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2400" spc="-1" strike="noStrike">
                  <a:solidFill>
                    <a:srgbClr val="1c1c1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770040" y="5954760"/>
                <a:ext cx="7232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⊕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1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∧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2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3879360" y="2057400"/>
            <a:ext cx="13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Jun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72120" y="463680"/>
            <a:ext cx="618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Operadores Simbólicos Boole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435480" y="700200"/>
            <a:ext cx="20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Conjun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635120" y="1905120"/>
            <a:ext cx="5780880" cy="3395160"/>
            <a:chOff x="1635120" y="1905120"/>
            <a:chExt cx="5780880" cy="3395160"/>
          </a:xfrm>
        </p:grpSpPr>
        <p:grpSp>
          <p:nvGrpSpPr>
            <p:cNvPr id="289" name=""/>
            <p:cNvGrpSpPr/>
            <p:nvPr/>
          </p:nvGrpSpPr>
          <p:grpSpPr>
            <a:xfrm>
              <a:off x="1635120" y="1905120"/>
              <a:ext cx="5780880" cy="3395160"/>
              <a:chOff x="1635120" y="1905120"/>
              <a:chExt cx="5780880" cy="3395160"/>
            </a:xfrm>
          </p:grpSpPr>
          <p:sp>
            <p:nvSpPr>
              <p:cNvPr id="290" name=""/>
              <p:cNvSpPr/>
              <p:nvPr/>
            </p:nvSpPr>
            <p:spPr>
              <a:xfrm flipV="1">
                <a:off x="2286000" y="2133360"/>
                <a:ext cx="0" cy="266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752840" y="4646520"/>
                <a:ext cx="56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635120" y="1905120"/>
                <a:ext cx="727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t-BR" sz="3200" spc="-1" strike="noStrike">
                    <a:solidFill>
                      <a:srgbClr val="000000"/>
                    </a:solidFill>
                    <a:latin typeface="Bookman Old Style"/>
                  </a:rPr>
                  <a:t>y</a:t>
                </a:r>
                <a:r>
                  <a:rPr b="0" lang="pt-BR" sz="3200" spc="-1" strike="noStrike" baseline="-25000">
                    <a:solidFill>
                      <a:srgbClr val="000000"/>
                    </a:solidFill>
                    <a:latin typeface="Bookman Old Style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93640" y="4651560"/>
                <a:ext cx="5223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t-BR" sz="3200" spc="-1" strike="noStrike">
                    <a:solidFill>
                      <a:srgbClr val="000000"/>
                    </a:solidFill>
                    <a:latin typeface="Bookman Old Style"/>
                  </a:rPr>
                  <a:t>y</a:t>
                </a:r>
                <a:r>
                  <a:rPr b="0" lang="pt-BR" sz="3200" spc="-1" strike="noStrike" baseline="-25000">
                    <a:solidFill>
                      <a:srgbClr val="000000"/>
                    </a:solidFill>
                    <a:latin typeface="Bookman Old Style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517920" y="2666880"/>
              <a:ext cx="2197080" cy="1280880"/>
              <a:chOff x="3517920" y="2666880"/>
              <a:chExt cx="2197080" cy="1280880"/>
            </a:xfrm>
          </p:grpSpPr>
          <p:sp>
            <p:nvSpPr>
              <p:cNvPr id="295" name=""/>
              <p:cNvSpPr/>
              <p:nvPr/>
            </p:nvSpPr>
            <p:spPr>
              <a:xfrm>
                <a:off x="3517920" y="2666880"/>
                <a:ext cx="1359000" cy="824400"/>
              </a:xfrm>
              <a:prstGeom prst="rect">
                <a:avLst/>
              </a:prstGeom>
              <a:solidFill>
                <a:srgbClr val="ff5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56000" y="3123360"/>
                <a:ext cx="1359000" cy="8244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56000" y="3123360"/>
                <a:ext cx="520920" cy="36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652200" y="2722320"/>
                <a:ext cx="3520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Bookman Old Style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250240" y="3483000"/>
                <a:ext cx="3690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Bookman Old Style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838080" y="4572000"/>
                <a:ext cx="696456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  <m:e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y</m:t>
                        </m:r>
                        <m:r>
                          <m:t xml:space="preserve">1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∧</m:t>
                        </m:r>
                        <m:r>
                          <m:t xml:space="preserve">[</m:t>
                        </m:r>
                        <m:r>
                          <m:t xml:space="preserve">y</m:t>
                        </m:r>
                        <m:r>
                          <m:t xml:space="preserve">2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2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71920" y="380880"/>
            <a:ext cx="640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Bookman Old Style"/>
              </a:rPr>
              <a:t>Fontes de dados simból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362320"/>
            <a:ext cx="86104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A partir de interrogações em uma base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rel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A partir de um algoritmo de agrupamento (clustering), simultaneamente ou seguido por um processo de gener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A partir de conhecimento especialista: descrição de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espécies biológicas, cenários de acidentes, síndrom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454200" y="66204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Disjun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676520" y="1905120"/>
            <a:ext cx="5780880" cy="3395160"/>
            <a:chOff x="1676520" y="1905120"/>
            <a:chExt cx="5780880" cy="3395160"/>
          </a:xfrm>
        </p:grpSpPr>
        <p:grpSp>
          <p:nvGrpSpPr>
            <p:cNvPr id="303" name=""/>
            <p:cNvGrpSpPr/>
            <p:nvPr/>
          </p:nvGrpSpPr>
          <p:grpSpPr>
            <a:xfrm>
              <a:off x="1676520" y="1905120"/>
              <a:ext cx="5780880" cy="3395160"/>
              <a:chOff x="1676520" y="1905120"/>
              <a:chExt cx="5780880" cy="3395160"/>
            </a:xfrm>
          </p:grpSpPr>
          <p:sp>
            <p:nvSpPr>
              <p:cNvPr id="304" name=""/>
              <p:cNvSpPr/>
              <p:nvPr/>
            </p:nvSpPr>
            <p:spPr>
              <a:xfrm flipV="1">
                <a:off x="2327400" y="2133360"/>
                <a:ext cx="0" cy="266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794240" y="4646520"/>
                <a:ext cx="56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676520" y="1905120"/>
                <a:ext cx="727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t-BR" sz="3200" spc="-1" strike="noStrike">
                    <a:solidFill>
                      <a:srgbClr val="000000"/>
                    </a:solidFill>
                    <a:latin typeface="Bookman Old Style"/>
                  </a:rPr>
                  <a:t>y</a:t>
                </a:r>
                <a:r>
                  <a:rPr b="0" lang="pt-BR" sz="3200" spc="-1" strike="noStrike" baseline="-25000">
                    <a:solidFill>
                      <a:srgbClr val="000000"/>
                    </a:solidFill>
                    <a:latin typeface="Bookman Old Style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040" y="4651560"/>
                <a:ext cx="5223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t-BR" sz="3200" spc="-1" strike="noStrike">
                    <a:solidFill>
                      <a:srgbClr val="000000"/>
                    </a:solidFill>
                    <a:latin typeface="Bookman Old Style"/>
                  </a:rPr>
                  <a:t>y</a:t>
                </a:r>
                <a:r>
                  <a:rPr b="0" lang="pt-BR" sz="3200" spc="-1" strike="noStrike" baseline="-25000">
                    <a:solidFill>
                      <a:srgbClr val="000000"/>
                    </a:solidFill>
                    <a:latin typeface="Bookman Old Style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2971800" y="2362320"/>
              <a:ext cx="3886200" cy="1980720"/>
              <a:chOff x="2971800" y="2362320"/>
              <a:chExt cx="3886200" cy="1980720"/>
            </a:xfrm>
          </p:grpSpPr>
          <p:sp>
            <p:nvSpPr>
              <p:cNvPr id="309" name=""/>
              <p:cNvSpPr/>
              <p:nvPr/>
            </p:nvSpPr>
            <p:spPr>
              <a:xfrm>
                <a:off x="2971800" y="2362320"/>
                <a:ext cx="1371600" cy="760320"/>
              </a:xfrm>
              <a:prstGeom prst="rect">
                <a:avLst/>
              </a:prstGeom>
              <a:solidFill>
                <a:srgbClr val="ff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86400" y="3582720"/>
                <a:ext cx="1371600" cy="760320"/>
              </a:xfrm>
              <a:prstGeom prst="rect">
                <a:avLst/>
              </a:prstGeom>
              <a:solidFill>
                <a:srgbClr val="00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09640" y="25160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Bookman Old Style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022080" y="373680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Bookman Old Style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44680" y="5707080"/>
                <a:ext cx="74847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[</m:t>
                        </m:r>
                        <m:r>
                          <m:t xml:space="preserve">y</m:t>
                        </m:r>
                      </m:e>
                      <m:e/>
                      <m:e>
                        <m:r>
                          <m:t xml:space="preserve">1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∧</m:t>
                        </m:r>
                        <m:r>
                          <m:t xml:space="preserve">[</m:t>
                        </m:r>
                        <m:r>
                          <m:t xml:space="preserve">y</m:t>
                        </m:r>
                        <m:r>
                          <m:t xml:space="preserve">2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d>
                    <m:r>
                      <m:t xml:space="preserve">∨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[</m:t>
                        </m:r>
                        <m:r>
                          <m:t xml:space="preserve">y</m:t>
                        </m:r>
                        <m:r>
                          <m:t xml:space="preserve">1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∧</m:t>
                        </m:r>
                        <m:r>
                          <m:t xml:space="preserve">[</m:t>
                        </m:r>
                        <m:r>
                          <m:t xml:space="preserve">y</m:t>
                        </m:r>
                        <m:r>
                          <m:t xml:space="preserve">2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776760" y="73836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Uni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482840" y="1905120"/>
            <a:ext cx="5780880" cy="3396600"/>
            <a:chOff x="1482840" y="1905120"/>
            <a:chExt cx="5780880" cy="3396600"/>
          </a:xfrm>
        </p:grpSpPr>
        <p:grpSp>
          <p:nvGrpSpPr>
            <p:cNvPr id="316" name=""/>
            <p:cNvGrpSpPr/>
            <p:nvPr/>
          </p:nvGrpSpPr>
          <p:grpSpPr>
            <a:xfrm>
              <a:off x="1482840" y="1905120"/>
              <a:ext cx="5780880" cy="3396600"/>
              <a:chOff x="1482840" y="1905120"/>
              <a:chExt cx="5780880" cy="339660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2133720" y="2133360"/>
                <a:ext cx="0" cy="266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600560" y="4647960"/>
                <a:ext cx="56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482840" y="1905120"/>
                <a:ext cx="727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t-BR" sz="3200" spc="-1" strike="noStrike">
                    <a:solidFill>
                      <a:srgbClr val="000000"/>
                    </a:solidFill>
                    <a:latin typeface="Bookman Old Style"/>
                  </a:rPr>
                  <a:t>y</a:t>
                </a:r>
                <a:r>
                  <a:rPr b="0" lang="pt-BR" sz="3200" spc="-1" strike="noStrike" baseline="-25000">
                    <a:solidFill>
                      <a:srgbClr val="000000"/>
                    </a:solidFill>
                    <a:latin typeface="Bookman Old Style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741360" y="4653000"/>
                <a:ext cx="5223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t-BR" sz="3200" spc="-1" strike="noStrike">
                    <a:solidFill>
                      <a:srgbClr val="000000"/>
                    </a:solidFill>
                    <a:latin typeface="Bookman Old Style"/>
                  </a:rPr>
                  <a:t>y</a:t>
                </a:r>
                <a:r>
                  <a:rPr b="0" lang="pt-BR" sz="3200" spc="-1" strike="noStrike" baseline="-25000">
                    <a:solidFill>
                      <a:srgbClr val="000000"/>
                    </a:solidFill>
                    <a:latin typeface="Bookman Old Style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2854440" y="2178000"/>
              <a:ext cx="3886200" cy="1981800"/>
              <a:chOff x="2854440" y="2178000"/>
              <a:chExt cx="3886200" cy="198180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2854440" y="2178000"/>
                <a:ext cx="3886200" cy="1981800"/>
                <a:chOff x="2854440" y="2178000"/>
                <a:chExt cx="3886200" cy="19818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2854440" y="2178000"/>
                  <a:ext cx="1371600" cy="762120"/>
                </a:xfrm>
                <a:prstGeom prst="rect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854440" y="3397320"/>
                  <a:ext cx="1371600" cy="76248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369040" y="3397320"/>
                  <a:ext cx="1371600" cy="762480"/>
                </a:xfrm>
                <a:prstGeom prst="rect">
                  <a:avLst/>
                </a:prstGeom>
                <a:solidFill>
                  <a:srgbClr val="9933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369040" y="2178000"/>
                  <a:ext cx="1371600" cy="762120"/>
                </a:xfrm>
                <a:prstGeom prst="rect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7" name=""/>
              <p:cNvSpPr/>
              <p:nvPr/>
            </p:nvSpPr>
            <p:spPr>
              <a:xfrm>
                <a:off x="3392280" y="233352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t-BR" sz="2400" spc="-1" strike="noStrike">
                    <a:solidFill>
                      <a:srgbClr val="1c1c1c"/>
                    </a:solidFill>
                    <a:latin typeface="Bookman Old Style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904720" y="355320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Bookman Old Style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600200" y="5791320"/>
                <a:ext cx="57913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1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∧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2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854360" y="401760"/>
            <a:ext cx="5249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edidas sobre 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380880"/>
            <a:ext cx="7620120" cy="914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2438280"/>
            <a:ext cx="8191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Potencial de descri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981080" y="2989440"/>
                <a:ext cx="46101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898200" y="4419720"/>
            <a:ext cx="59061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onde 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(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) 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cardinal de 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, se 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Bookman Old Style"/>
              </a:rPr>
              <a:t>i 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é um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amplitude de 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, se 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é um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854360" y="401760"/>
            <a:ext cx="5249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edidas sobre 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380880"/>
            <a:ext cx="7620120" cy="914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2057400"/>
            <a:ext cx="819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Grau de generalidade ou potencial de descrição relat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752480" y="3733920"/>
                <a:ext cx="480060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89856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508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2286000"/>
            <a:ext cx="586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ja  a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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[ y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=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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 m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 …, (p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ikj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 m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kj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} ]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209680" y="3886200"/>
                <a:ext cx="425952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</m:nary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ra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1752480" y="3505320"/>
            <a:ext cx="5181840" cy="2286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54360" y="401760"/>
            <a:ext cx="5249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edidas sobre 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380880"/>
            <a:ext cx="7620120" cy="914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89856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508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2133720"/>
            <a:ext cx="8001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definir funções de proximidade é necessári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ções (junção, conjunção, 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das (potencial de descrição, 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1320" y="401760"/>
            <a:ext cx="747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Índices de Proximidade entre 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380880"/>
            <a:ext cx="7620120" cy="914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96252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rdagem: combin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a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ção de comparaçã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ara comparar um par de objetos segundo uma variável 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a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ção de agregaçã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ara agregar as comparações e obter uma função de proximidade glob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89856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0508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51320" y="401760"/>
            <a:ext cx="747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Índices de Proximidade entre 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380880"/>
            <a:ext cx="7620120" cy="914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438280" y="3352680"/>
                <a:ext cx="3022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∈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∧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425680" y="3936960"/>
                <a:ext cx="2971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∈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∧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685800" y="2362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jam os ob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89856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508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1320" y="401760"/>
            <a:ext cx="747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Índices de Proximidade entre 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38080" y="380880"/>
            <a:ext cx="7620120" cy="914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129400" y="1996920"/>
            <a:ext cx="4100400" cy="2195640"/>
            <a:chOff x="2129400" y="1996920"/>
            <a:chExt cx="4100400" cy="2195640"/>
          </a:xfrm>
        </p:grpSpPr>
        <p:sp>
          <p:nvSpPr>
            <p:cNvPr id="364" name=""/>
            <p:cNvSpPr/>
            <p:nvPr/>
          </p:nvSpPr>
          <p:spPr>
            <a:xfrm>
              <a:off x="2301840" y="2420640"/>
              <a:ext cx="2133720" cy="106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49760" y="2420640"/>
              <a:ext cx="2133360" cy="106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6" name=""/>
                <p:cNvSpPr txBox="1"/>
                <p:nvPr/>
              </p:nvSpPr>
              <p:spPr>
                <a:xfrm>
                  <a:off x="2797200" y="2709720"/>
                  <a:ext cx="9144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∩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B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7" name=""/>
                <p:cNvSpPr txBox="1"/>
                <p:nvPr/>
              </p:nvSpPr>
              <p:spPr>
                <a:xfrm>
                  <a:off x="4626000" y="2716200"/>
                  <a:ext cx="9144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A</m:t>
                              </m:r>
                            </m:e>
                          </m:ba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∩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68" name=""/>
            <p:cNvSpPr/>
            <p:nvPr/>
          </p:nvSpPr>
          <p:spPr>
            <a:xfrm>
              <a:off x="2129400" y="19969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05360" y="2039760"/>
              <a:ext cx="42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ahoma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01720" y="3824280"/>
              <a:ext cx="325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(a) conjuntos não orden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600200" y="4648320"/>
            <a:ext cx="5334120" cy="1966680"/>
            <a:chOff x="1600200" y="4648320"/>
            <a:chExt cx="5334120" cy="1966680"/>
          </a:xfrm>
        </p:grpSpPr>
        <p:sp>
          <p:nvSpPr>
            <p:cNvPr id="372" name=""/>
            <p:cNvSpPr/>
            <p:nvPr/>
          </p:nvSpPr>
          <p:spPr>
            <a:xfrm>
              <a:off x="1600200" y="5224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15000" y="5224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90920" y="5224320"/>
              <a:ext cx="3124080" cy="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06200" y="4648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ahoma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130800" y="4648320"/>
              <a:ext cx="42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ahoma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1854360" y="5421240"/>
                  <a:ext cx="790560" cy="41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∩</m:t>
                      </m:r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B</m:t>
                              </m:r>
                            </m:e>
                          </m:ba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5889600" y="5376600"/>
                  <a:ext cx="79056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A</m:t>
                              </m:r>
                            </m:e>
                          </m:ba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∩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9" name=""/>
                <p:cNvSpPr txBox="1"/>
                <p:nvPr/>
              </p:nvSpPr>
              <p:spPr>
                <a:xfrm>
                  <a:off x="3186360" y="5421240"/>
                  <a:ext cx="1993680" cy="41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A</m:t>
                              </m:r>
                            </m:e>
                          </m:ba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∩</m:t>
                      </m:r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B</m:t>
                              </m:r>
                            </m:e>
                          </m:ba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∩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⊕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"/>
            <p:cNvSpPr/>
            <p:nvPr/>
          </p:nvSpPr>
          <p:spPr>
            <a:xfrm>
              <a:off x="2320560" y="6246720"/>
              <a:ext cx="42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(b) conjuntos ordenados ou interva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89856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51320" y="401760"/>
            <a:ext cx="747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Índices de Proximidade entre 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8080" y="380880"/>
            <a:ext cx="7620120" cy="914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364040" y="2209680"/>
            <a:ext cx="37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unção de comparação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62120" y="22860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69800" y="2895480"/>
                <a:ext cx="54198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kγ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φ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γ</m:t>
                                            </m:r>
                                          </m:sub>
                                        </m:sSub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φ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γ</m:t>
                                            </m:r>
                                          </m:sub>
                                        </m:sSub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6072480" y="312408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{1,...}, 0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04880" y="4267080"/>
                <a:ext cx="73040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γ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∩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685800" y="5029200"/>
                <a:ext cx="74754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γ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∩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322960" y="2209680"/>
                <a:ext cx="13064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kγ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006560" y="6021360"/>
                <a:ext cx="25272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∩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3610080" y="6095880"/>
            <a:ext cx="44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- Variáveis quantitativas ou ordi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89856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1320" y="401760"/>
            <a:ext cx="747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Índices de Proximidade entre 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080" y="380880"/>
            <a:ext cx="7620120" cy="914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950760" y="1981080"/>
            <a:ext cx="33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ersões normaliz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942840" y="4038480"/>
                <a:ext cx="57214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kγ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φ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  <m:r>
                                                  <m:t xml:space="preserve">γ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(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A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,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)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μ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O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)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φ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2</m:t>
                                                </m:r>
                                                <m:r>
                                                  <m:t xml:space="preserve">γ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(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A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,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)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μ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O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)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990720" y="2666880"/>
                <a:ext cx="57625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γ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φ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  <m:r>
                                                  <m:t xml:space="preserve">γ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(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A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,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)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μ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A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⊕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)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φ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2</m:t>
                                                </m:r>
                                                <m:r>
                                                  <m:t xml:space="preserve">γ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(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A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,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)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μ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A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⊕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)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1219320" y="5562720"/>
                <a:ext cx="31734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  <m:r>
                          <m:t xml:space="preserve">γ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i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1148760" y="6068880"/>
            <a:ext cx="216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ahoma"/>
              </a:rPr>
              <a:t>i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são métri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63720" y="5715000"/>
            <a:ext cx="759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63720" y="6248520"/>
            <a:ext cx="7596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2360" y="685800"/>
            <a:ext cx="54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Bookman Old Style"/>
              </a:rPr>
              <a:t>Symbolic Data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362320"/>
            <a:ext cx="861048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Extensão dos métodos usuais de análise de dados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de aprendizagem de máqu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clustering, classification, PCA, decision tre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para as tabelas de dados simbó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From data mining to knowledge 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89856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1320" y="401760"/>
            <a:ext cx="747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Índices de Proximidade entre 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38080" y="380880"/>
            <a:ext cx="7620120" cy="914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06960" y="2438280"/>
            <a:ext cx="446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unção de agregação - d(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81160" y="2590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1066680" y="3657600"/>
                <a:ext cx="68961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φ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k</m:t>
                                            </m:r>
                                            <m:r>
                                              <m:t xml:space="preserve">γ</m:t>
                                            </m:r>
                                          </m:sub>
                                        </m:sSub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/r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   i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,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k,r 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751320" y="401760"/>
            <a:ext cx="747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Índices de Proximidade entre 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38080" y="380880"/>
            <a:ext cx="7620120" cy="914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14840" y="2590920"/>
            <a:ext cx="347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= [30,40] B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= [35,6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07560" y="3276720"/>
            <a:ext cx="584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= {amarelo,branco} B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= {preto,cinz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80880" y="4572000"/>
                <a:ext cx="2826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γ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380880" y="5181480"/>
                <a:ext cx="2700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γ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886200" y="4572000"/>
                <a:ext cx="1627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γ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04920" y="5791320"/>
                <a:ext cx="3255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kγ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3809880" y="5105520"/>
                <a:ext cx="1649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γ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809880" y="5638680"/>
                <a:ext cx="3106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kγ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6838920" y="4876920"/>
            <a:ext cx="189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d(s</a:t>
            </a:r>
            <a:r>
              <a:rPr b="0" lang="pt-BR" sz="2400" spc="-1" strike="noStrike" baseline="-25000">
                <a:solidFill>
                  <a:srgbClr val="ff0000"/>
                </a:solidFill>
                <a:latin typeface="Tahoma"/>
              </a:rPr>
              <a:t>a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,s</a:t>
            </a:r>
            <a:r>
              <a:rPr b="0" lang="pt-BR" sz="2400" spc="-1" strike="noStrike" baseline="-25000">
                <a:solidFill>
                  <a:srgbClr val="ff0000"/>
                </a:solidFill>
                <a:latin typeface="Tahoma"/>
              </a:rPr>
              <a:t>b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)= 8.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7760" y="19810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31600" y="396252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Para variável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4880" y="396252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Para variável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64960" y="401760"/>
            <a:ext cx="8474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lassificação não supervisionada de 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380880"/>
            <a:ext cx="8534520" cy="914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2362320"/>
            <a:ext cx="8001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tura da Tabela de Dad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enção da matriz de proxim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tir da tabela de dados simbólicos, da escolha de uma função de comparação (escolha de k e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 de uma função de agregação (escolha de r), obtêm-se a matriz de dista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264960" y="401760"/>
            <a:ext cx="8474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lassificação não supervisionada de 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" y="380880"/>
            <a:ext cx="8534520" cy="914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362320"/>
            <a:ext cx="800100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upamento hierárquico dos dados simbólicos baseado na matriz de dista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sa etapa, aplica-se um método de agrupamento hierárquico apropriado (single linkage, complete linkage,etc.) à matriz de distancias obtendo-se assim uma hierarquia de grupos embutidos indo dos mais específicos ao mais g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64960" y="401760"/>
            <a:ext cx="8474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lassificação não supervisionada de 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28600" y="380880"/>
            <a:ext cx="8534520" cy="914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2362320"/>
            <a:ext cx="800100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enção de uma partição à partir da hierarqu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tição é obtida via inspeção da hierarqu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ização dos gru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a vez obtida a partição via inspeção da hierarquia, trata-se de descrever cada grupo por um objeto simbólico ou por uma conjunção de objetos simbó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64960" y="401760"/>
            <a:ext cx="8474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lassificação não supervisionada de 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" y="380880"/>
            <a:ext cx="8534520" cy="914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362320"/>
            <a:ext cx="800100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hamos que {a</a:t>
            </a:r>
            <a:r>
              <a:rPr b="1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</a:t>
            </a:r>
            <a:r>
              <a:rPr b="1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forme o k-esimo grupo da part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a forma de descrever esse grupo por um objeto simbólico consiste em generalizar os seus elementos pela jun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a</a:t>
            </a:r>
            <a:r>
              <a:rPr b="1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1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1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64960" y="401760"/>
            <a:ext cx="8474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lassificação não supervisionada de 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8600" y="380880"/>
            <a:ext cx="8534520" cy="914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2209680"/>
            <a:ext cx="8001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se caso, a descrição é completa (cada objeto do grupo satisfaz a descrição do grupo) mas eventualmente não discriminante (um objeto que não pertence ao grupo pode satisfazer a descrição do gru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998720" y="5786280"/>
            <a:ext cx="2165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4343400" y="4343040"/>
            <a:ext cx="0" cy="144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43400" y="5786280"/>
            <a:ext cx="2163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441600" y="4433760"/>
            <a:ext cx="90720" cy="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670200" y="4662360"/>
            <a:ext cx="90720" cy="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711600" y="4975200"/>
            <a:ext cx="90360" cy="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441600" y="5156280"/>
            <a:ext cx="90720" cy="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60880" y="4794120"/>
            <a:ext cx="90360" cy="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268360" y="4524480"/>
            <a:ext cx="90720" cy="9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630520" y="4705200"/>
            <a:ext cx="90360" cy="9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59080" y="4884840"/>
            <a:ext cx="90360" cy="90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19440" y="5156280"/>
            <a:ext cx="90360" cy="90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268360" y="4524480"/>
            <a:ext cx="541440" cy="722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260880" y="4433760"/>
            <a:ext cx="541080" cy="812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064120" y="4433760"/>
            <a:ext cx="90360" cy="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514840" y="4614840"/>
            <a:ext cx="90720" cy="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695920" y="4975200"/>
            <a:ext cx="90360" cy="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245200" y="5516640"/>
            <a:ext cx="90360" cy="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05560" y="5335560"/>
            <a:ext cx="90360" cy="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794120" y="4614840"/>
            <a:ext cx="90720" cy="90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245200" y="4884840"/>
            <a:ext cx="90360" cy="90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45200" y="5245200"/>
            <a:ext cx="90360" cy="90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884840" y="4975200"/>
            <a:ext cx="90360" cy="90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794120" y="4614840"/>
            <a:ext cx="541440" cy="722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064120" y="4433760"/>
            <a:ext cx="722160" cy="1173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998720" y="4343040"/>
            <a:ext cx="0" cy="144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181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64960" y="401760"/>
            <a:ext cx="8474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lassificação não supervisionada de 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8600" y="380880"/>
            <a:ext cx="8534520" cy="914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09480" y="2209680"/>
            <a:ext cx="8001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a segunda forma de descrever o grupo acima por um objeto simbólico consiste em generalizar pela junção os subgrupos que são vizinhos mútu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(a</a:t>
            </a:r>
            <a:r>
              <a:rPr b="1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1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k1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</a:t>
            </a:r>
            <a:r>
              <a:rPr b="1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1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1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km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181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4724280"/>
            <a:ext cx="800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is objetos simbólicos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tencentes a um grupo são vizinhos mútuos se a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não contem nenhum elemento de nenhum outro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64960" y="401760"/>
            <a:ext cx="8474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lassificação não supervisionada de objetos simbó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" y="380880"/>
            <a:ext cx="8534520" cy="914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21337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se caso, a descrição é completa (cada objeto do grupo satisfaz a descrição do grupo) e discriminante (nenhum objeto que não pertence ao grupo satisfaz a descrição do gru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181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227320" y="5772240"/>
            <a:ext cx="2165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572000" y="4419360"/>
            <a:ext cx="0" cy="135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5772240"/>
            <a:ext cx="2163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670200" y="4419720"/>
            <a:ext cx="90720" cy="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98800" y="4648320"/>
            <a:ext cx="90720" cy="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940200" y="4960800"/>
            <a:ext cx="90360" cy="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670200" y="5141880"/>
            <a:ext cx="90720" cy="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489480" y="4780080"/>
            <a:ext cx="90360" cy="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496960" y="4510080"/>
            <a:ext cx="90720" cy="9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59120" y="4691160"/>
            <a:ext cx="90360" cy="9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587680" y="4870440"/>
            <a:ext cx="90360" cy="90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948040" y="5141880"/>
            <a:ext cx="90360" cy="90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96960" y="4510080"/>
            <a:ext cx="541440" cy="722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89480" y="4419720"/>
            <a:ext cx="541080" cy="812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92720" y="4419720"/>
            <a:ext cx="90360" cy="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43440" y="4600440"/>
            <a:ext cx="90720" cy="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924520" y="4960800"/>
            <a:ext cx="90360" cy="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73800" y="5502240"/>
            <a:ext cx="90360" cy="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834160" y="5411880"/>
            <a:ext cx="90360" cy="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022720" y="4600440"/>
            <a:ext cx="90720" cy="90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473800" y="4870440"/>
            <a:ext cx="90360" cy="90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473800" y="5230800"/>
            <a:ext cx="90360" cy="90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113440" y="4960800"/>
            <a:ext cx="90360" cy="90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022720" y="4600440"/>
            <a:ext cx="541440" cy="722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92720" y="4419720"/>
            <a:ext cx="541440" cy="271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743440" y="4600440"/>
            <a:ext cx="271440" cy="9018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473800" y="5411880"/>
            <a:ext cx="450720" cy="1807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2227320" y="4419360"/>
            <a:ext cx="0" cy="135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181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741840" y="401760"/>
            <a:ext cx="1523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28600" y="380880"/>
            <a:ext cx="8534520" cy="914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2133720"/>
            <a:ext cx="8001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rduras e Óle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descrições simbólicas: linseed oil, perilla oil, cotton seed oil, sesame oil, camellia oil, olive oil, beef tallow, hog 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variáveis: 1 Specific Gravity (quantitativa, 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0.858, 0.937]), 2 Freezing Point (quantitativa, 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-27, 38]), 3 Iodine Value (quantitativa, 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40, 208]), 4 Saponification Value (quantitativa, 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118, 202]), 5 Majjor Fatty Acids (qualitativa nominal, 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1 Linoleic acid, 2 Linolenic acid, 3 Oleic acid, 4 Palmitic acid, 5 Myristic acid, 6 Searic acid, 7 Arachic acid, 8 Capric acid, 9 Lauric acid}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181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181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392560" y="609480"/>
            <a:ext cx="415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Bookman Old Style"/>
              </a:rPr>
              <a:t>Dados Simból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2133720"/>
            <a:ext cx="79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Dados simbólicos são informações complexas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são  expressas por intervalos, conjuntos, freqüências, distribuições de probabilid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3560" y="4648320"/>
            <a:ext cx="658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1 - Intervalo para indivídu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i="1" lang="pt-BR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= tempo  gasto com estudos por dia 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i="1" lang="pt-BR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(k) = [0,6] (em ho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k: individ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12680" y="3429000"/>
            <a:ext cx="66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Exemplos de situações em que ocorrem e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tipos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741840" y="401760"/>
            <a:ext cx="1523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28600" y="380880"/>
            <a:ext cx="8534520" cy="914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2133720"/>
            <a:ext cx="8001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ela de dados simbó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930 0.935 -27.000 -18.000 170.000 204.000 118.000 196.000 1 2 3 4 5 0 0 0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930 0.937 -5.000 -4.000 192.000 208.000 188.000 197.000 1 2 3 4 0 6 0 0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916 0.918 -6.000 -1.000 99.000 113.000 189.000 198.000 1 0 3 4 5 6 0 0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920 0.926 -6.000 -4.000 104.000 116.000 187.000 193.000 1 0 3 4 0 6 7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916 0.917 -21.000 -15.000 80.000 82.000 189.000 193.000 1 0 3 0 0 0 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914 0.919 0.000 6.000 79.000 90.000 187.000 196.000 1 0 3 4 0 6 0 0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60 0.870 30.000 38.000 40.000 48.000 190.000 199.000 0 0 3 4 5 6 0 8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58 0.864 22.000 32.000 53.000 77.000 190.000 202.000 1 0 3 4 5 6 0 0 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181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181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741840" y="401760"/>
            <a:ext cx="1523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28600" y="380880"/>
            <a:ext cx="8534520" cy="914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9480" y="2133720"/>
            <a:ext cx="8001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ção em três grupos obtida por inspeção à partir do corte de um dendograma obtido pelo método complete linkage usando-se k = 1 e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5 para função de comparação e r = 1 para a função de agreg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1 linseed oil, 2 perilla oil}, 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3 cotton seed oil, 4 sesame oil, 5 camellia oil, 6 olive oil}, 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7 beef tallow, 8 hog fa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181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181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741840" y="401760"/>
            <a:ext cx="1523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8600" y="380880"/>
            <a:ext cx="8534520" cy="914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2133720"/>
            <a:ext cx="8001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ção completa e discriminante dos grupos C</a:t>
            </a:r>
            <a:r>
              <a:rPr b="1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1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C</a:t>
            </a:r>
            <a:r>
              <a:rPr b="1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Specific Gravity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0.930, 0.937]]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Freezing Point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-27, -4]]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Iodine Value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170 208]]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ponification Value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118 197]]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Majjor Fatty Acids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1, 2, 3, 4, 5, 6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Specific Gravity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0.914, 0.926]]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Freezing Point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-21, 6]]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Iodine Value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79, 116]]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ponification Value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187, 198]]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Majjor Fatty Acids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1, 3, 4, 5, 6, 7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Specific Gravity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0.858, 0.870]]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Freezing Point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22, 38]]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Iodine Value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40, 77]]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ponification Value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190, 202]]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Majjor Fatty Acids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1, 3, 4, 5, 6, 8, 9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181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181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04640" y="228600"/>
            <a:ext cx="631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2 - Conjunto para classes de indiví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i="1" lang="pt-BR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- instituições bancárias de uma 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i="1" lang="pt-BR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(k) = {Bandeirantes, Itau, Bradesco, B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k é uma cidade (classe de indivídu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11600" y="2590920"/>
            <a:ext cx="6833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3 - Distribuição de freqüê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Y = percentual de votos por partido polít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em uma regi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i="1" lang="pt-BR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(k) = ((ABR;0,50),(PDF;0,30),(DEO;0,20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k: é uma região (classe de indivídu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876920"/>
            <a:ext cx="8129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4 - Distribuição de proba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Y =  nível de cinza de uma região de uma imag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i="1" lang="pt-BR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(k) = 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(20,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k: região de uma imagem(classe de indivídu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45680" y="70020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Variáveis Simbó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05200" y="350532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E - conjunto de entid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34720" y="4267080"/>
            <a:ext cx="64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k - uma entidade (ex. grupo de estudant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empresa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2280" y="541008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O - Domínio de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51200" y="281952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Y - uma vari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59560" y="3200400"/>
            <a:ext cx="7456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onde U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P(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) conjunto de todos os subconju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de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Bookman Old Style"/>
              </a:rPr>
              <a:t>i.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. No caso usual |Y(k)|=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47840" y="83808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man Old Style"/>
              </a:rPr>
              <a:t>1 - Variáveis Multi-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12560" y="1828800"/>
            <a:ext cx="63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Uma variável Y multi-valores é uma fun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63960" y="5257800"/>
            <a:ext cx="62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a) U pode ser um subconjunto categór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cor (k) = {azul, verde, amarelo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98800" y="44956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Multi-valor categó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13680" y="2286000"/>
            <a:ext cx="2571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Y : E  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Bookman Old Style"/>
              </a:rPr>
              <a:t>B 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=P(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Y(k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46160" y="1981080"/>
            <a:ext cx="78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b) U pode ser um subconjunto finito de núme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re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Exemp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Y = partos realizados em 5 hospitais de uma 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k em uma se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Y(k)= {100, 200, 150, 220, 18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6920" y="609480"/>
            <a:ext cx="35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Multi-valor quantit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4880" y="286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3920" y="457056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Multi-valor ord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50840" y="354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5486400"/>
            <a:ext cx="4599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Se o domínio de </a:t>
            </a:r>
            <a:r>
              <a:rPr b="0" i="1" lang="pt-BR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é orde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17:28:45Z</dcterms:created>
  <dc:creator>fatc</dc:creator>
  <dc:description/>
  <dc:language>en-US</dc:language>
  <cp:lastModifiedBy>fatc</cp:lastModifiedBy>
  <dcterms:modified xsi:type="dcterms:W3CDTF">2001-03-28T16:43:37Z</dcterms:modified>
  <cp:revision>58</cp:revision>
  <dc:subject/>
  <dc:title>Apresentação do PowerPoint</dc:title>
</cp:coreProperties>
</file>