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37.jpeg" ContentType="image/jpe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41.jpeg" ContentType="image/jpeg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39.jpeg" ContentType="image/jpeg"/>
  <Override PartName="/ppt/media/image32.png" ContentType="image/png"/>
  <Override PartName="/ppt/media/image42.jpeg" ContentType="image/jpeg"/>
  <Override PartName="/ppt/media/image49.png" ContentType="image/png"/>
  <Override PartName="/ppt/media/image9.wmf" ContentType="image/x-wmf"/>
  <Override PartName="/ppt/media/image43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6.wmf" ContentType="image/x-wmf"/>
  <Override PartName="/ppt/media/image47.png" ContentType="image/png"/>
  <Override PartName="/ppt/media/image35.wmf" ContentType="image/x-wmf"/>
  <Override PartName="/ppt/media/image48.png" ContentType="image/png"/>
  <Override PartName="/ppt/media/image8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3.wmf" ContentType="image/x-wmf"/>
  <Override PartName="/ppt/media/image10.wmf" ContentType="image/x-wmf"/>
  <Override PartName="/ppt/media/image38.jpeg" ContentType="image/jpeg"/>
  <Override PartName="/ppt/media/image7.jpeg" ContentType="image/jpeg"/>
  <Override PartName="/ppt/media/image50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603-25F5-4D6F-A40E-4D4B65FA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E4D-A6B1-4FE5-B8DF-C6D6B71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A25-D4B8-4586-8185-D1B860EE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182-3955-4DA9-84FC-A3D159F4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04A-DFDF-40AD-BA89-4CBF474B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02A-6365-4D06-80A2-3FDB63B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A9A-CA17-4049-B4CC-25EE7A1F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167-6851-486A-990D-DDCBCC84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7DE-5329-462B-A3DD-C9CF725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CEB-C421-4BC5-B2A2-5CFF8C6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40D-3D87-4E99-8AA6-2616B0E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17C-EDA9-4388-AAD9-06114F2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6D7-4639-43CA-951F-4C63C74D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png"/><Relationship Id="rId2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es Inteligentes 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ção de Intr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/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ndro Curvelo 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h@cesar.org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dipeqt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16765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RobertTappan2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984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s modelos com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19000" y="1866960"/>
          <a:ext cx="82663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866960"/>
                    <a:ext cx="82663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791320" y="1752480"/>
            <a:ext cx="243828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os de pac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19000" y="1866960"/>
          <a:ext cx="82663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866960"/>
                    <a:ext cx="82663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505320" y="1447920"/>
            <a:ext cx="243828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505320"/>
            <a:ext cx="243828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71560" y="374760"/>
            <a:ext cx="6099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pecto de um pacote TC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905120"/>
          <a:ext cx="85471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5471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048120" y="3352680"/>
            <a:ext cx="2971800" cy="2362320"/>
            <a:chOff x="3048120" y="3352680"/>
            <a:chExt cx="2971800" cy="2362320"/>
          </a:xfrm>
        </p:grpSpPr>
        <p:sp>
          <p:nvSpPr>
            <p:cNvPr id="103" name=""/>
            <p:cNvSpPr/>
            <p:nvPr/>
          </p:nvSpPr>
          <p:spPr>
            <a:xfrm>
              <a:off x="4724280" y="3352680"/>
              <a:ext cx="121932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8120" y="3886200"/>
              <a:ext cx="1676160" cy="838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4495680"/>
              <a:ext cx="25146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5320" y="5029200"/>
              <a:ext cx="25146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3352680"/>
              <a:ext cx="1219320" cy="914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8120" y="3886200"/>
              <a:ext cx="1676160" cy="838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495680"/>
              <a:ext cx="25146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5029200"/>
              <a:ext cx="251460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os de pac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420640" cy="361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2895480"/>
            <a:ext cx="2822400" cy="308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8480" y="396252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19810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27672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87692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3341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5720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os de pac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420640" cy="361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3600" y="2895480"/>
            <a:ext cx="2822400" cy="3087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19810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1240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373392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5053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3280" y="48909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85160" y="321480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ros de pac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2420640" cy="3619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943600" y="2895480"/>
            <a:ext cx="2822400" cy="30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4197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44197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44197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4197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3886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886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3886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3886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23040" y="48736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22320" y="43401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5080" y="3882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34290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34290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4290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4290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54000" y="33498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ços Com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822400" cy="3087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9120" y="1600200"/>
            <a:ext cx="3850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/HTT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P/T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U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/QPOP/I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S/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nte para citar algu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96960" y="380880"/>
            <a:ext cx="6321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ém dos serviços existe o S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371600" y="1697040"/>
          <a:ext cx="161280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97040"/>
                    <a:ext cx="161280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082520" y="2895480"/>
          <a:ext cx="298476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2520" y="2895480"/>
                    <a:ext cx="298476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359240" y="4191120"/>
          <a:ext cx="3517920" cy="13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9240" y="4191120"/>
                    <a:ext cx="351792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206960" y="1600200"/>
          <a:ext cx="1384200" cy="12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6960" y="1600200"/>
                    <a:ext cx="138420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5800" y="3962520"/>
          <a:ext cx="2603520" cy="10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3962520"/>
                    <a:ext cx="260352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87840" y="3048120"/>
          <a:ext cx="1841400" cy="79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87840" y="3048120"/>
                    <a:ext cx="18414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095880" y="5334120"/>
          <a:ext cx="2298960" cy="12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5334120"/>
                    <a:ext cx="22989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5410080"/>
          <a:ext cx="2813040" cy="1089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5410080"/>
                    <a:ext cx="28130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987640" y="5562720"/>
          <a:ext cx="306072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87640" y="5562720"/>
                    <a:ext cx="30607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603840" y="1828800"/>
          <a:ext cx="1946520" cy="47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03840" y="1828800"/>
                    <a:ext cx="1946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464160" y="1752480"/>
          <a:ext cx="2695680" cy="1600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64160" y="1752480"/>
                    <a:ext cx="26956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resultado prátic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urança de Redes. Histór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problema da Detecção de Intrus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digmas no trato d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dagens usando ag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ções da abordag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1852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94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18520" cy="61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185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948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185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5260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4381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s 34 minutos do dia 3 de Novembro de 1988, uma mensagem intrigante e aparentemente sem sentido é lida pelos usuários de um grupo de discussão na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ce que há um vírus à solta na Internet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y Sudduth (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29000" y="3809880"/>
          <a:ext cx="302580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809880"/>
                    <a:ext cx="30258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alidade X Seguranç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421000" cy="3619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1498680" cy="1639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1498320" cy="1639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248520" y="3962520"/>
            <a:ext cx="1498320" cy="1639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645320" y="3962520"/>
            <a:ext cx="1498680" cy="163980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3200400" y="5562720"/>
            <a:ext cx="5943600" cy="304560"/>
            <a:chOff x="3200400" y="5562720"/>
            <a:chExt cx="5943600" cy="304560"/>
          </a:xfrm>
        </p:grpSpPr>
        <p:sp>
          <p:nvSpPr>
            <p:cNvPr id="206" name=""/>
            <p:cNvSpPr/>
            <p:nvPr/>
          </p:nvSpPr>
          <p:spPr>
            <a:xfrm>
              <a:off x="3200400" y="5791320"/>
              <a:ext cx="594360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41008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2296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8098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5410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ção de Intr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ão garante segurança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ódigo do S.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ódigo dos servi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ços inerentemente inseg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da pode fazer contra um atacante que já se encontra dentro do perímetro da r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ção de Intr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ó conseguem conter ataques conh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ão conseguem conter ataques oriundos da rede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ques (internos ou externos) deixam sint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dade de previsão de ata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n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to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 ata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sões, datas e/ou código de arquivos (executáveis ou não) alte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ários legítimos com privilégio inespera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ça de usuários ilegítim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vos de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lter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os de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não sincroniz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tativas de remoção, movimentação, edição e/ou leitura de arquivos considerad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nsíve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enári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 Ata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bservação da natureza indica que certos eventos normalmente precedem ou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vens  ==&gt;   Chu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 de eventos, simultâneos ou não, que podem indicar a iminência de um ata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tativas de acesso a portas invál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itas tentativas em pouco t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de os agentes entra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ando sinto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mente verificando permissões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ando cená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mente analizando o tráfego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dade de oferecer serviços adicion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imizando a coleta de informações relevan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arando “trigger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de os agentes entra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dade de oferecer “capacidade reativa” automática da rede ata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onectando o intrus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queando o tráfego para a Internet etc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ando mensagem para o operador 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200400" y="3581280"/>
            <a:ext cx="167652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81280"/>
            <a:ext cx="1676520" cy="152424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3581280"/>
            <a:ext cx="167652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81280"/>
            <a:ext cx="1676520" cy="152424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3360" y="2514600"/>
            <a:ext cx="2421000" cy="3619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3886200"/>
            <a:ext cx="1295280" cy="12193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dagem Centraliz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6560" y="3962520"/>
            <a:ext cx="1498320" cy="1639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4164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193920" y="5562720"/>
            <a:ext cx="5943600" cy="304560"/>
            <a:chOff x="3193920" y="5562720"/>
            <a:chExt cx="5943600" cy="304560"/>
          </a:xfrm>
        </p:grpSpPr>
        <p:sp>
          <p:nvSpPr>
            <p:cNvPr id="240" name=""/>
            <p:cNvSpPr/>
            <p:nvPr/>
          </p:nvSpPr>
          <p:spPr>
            <a:xfrm>
              <a:off x="3193920" y="5791320"/>
              <a:ext cx="594360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797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4036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7752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82231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870440" y="3962520"/>
            <a:ext cx="1498680" cy="1639800"/>
            <a:chOff x="4870440" y="3962520"/>
            <a:chExt cx="1498680" cy="163980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48704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29280" y="4079880"/>
              <a:ext cx="6620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242040" y="3962520"/>
            <a:ext cx="1498680" cy="1639800"/>
            <a:chOff x="6242040" y="3962520"/>
            <a:chExt cx="1498680" cy="163980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62420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0880" y="4079880"/>
              <a:ext cx="6620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67600" y="33177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22680" y="4079880"/>
            <a:ext cx="662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639200" y="3962520"/>
            <a:ext cx="1498320" cy="1639800"/>
            <a:chOff x="7639200" y="3962520"/>
            <a:chExt cx="1498320" cy="1639800"/>
          </a:xfrm>
        </p:grpSpPr>
        <p:pic>
          <p:nvPicPr>
            <p:cNvPr id="254" name="" descr=""/>
            <p:cNvPicPr/>
            <p:nvPr/>
          </p:nvPicPr>
          <p:blipFill>
            <a:blip r:embed="rId5"/>
            <a:stretch/>
          </p:blipFill>
          <p:spPr>
            <a:xfrm>
              <a:off x="7639200" y="3962520"/>
              <a:ext cx="14983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7907400" y="4056120"/>
              <a:ext cx="66204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838080" y="44956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46483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8006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49528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556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ódigo gerado por Robert Tappan Morris , estudante da Cornell University/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tina principal  consistia de menos de 100 linhas de código escritos em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orris" descr=""/>
          <p:cNvPicPr/>
          <p:nvPr/>
        </p:nvPicPr>
        <p:blipFill>
          <a:blip r:embed="rId1"/>
          <a:stretch/>
        </p:blipFill>
        <p:spPr>
          <a:xfrm>
            <a:off x="5562720" y="247680"/>
            <a:ext cx="3400200" cy="3125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62412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ingiu quase 6.000 computadores da rede, só nos EUA, em 24 h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brecarg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apaci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antou uma questão básica: as redes são vulneráve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dagem Distribuí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03360" y="2514600"/>
            <a:ext cx="2421000" cy="3619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346560" y="3962520"/>
            <a:ext cx="1498320" cy="1639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04164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39200" y="3962520"/>
            <a:ext cx="1498320" cy="16398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193920" y="5562720"/>
            <a:ext cx="5943600" cy="304560"/>
            <a:chOff x="3193920" y="5562720"/>
            <a:chExt cx="5943600" cy="304560"/>
          </a:xfrm>
        </p:grpSpPr>
        <p:sp>
          <p:nvSpPr>
            <p:cNvPr id="266" name=""/>
            <p:cNvSpPr/>
            <p:nvPr/>
          </p:nvSpPr>
          <p:spPr>
            <a:xfrm>
              <a:off x="3193920" y="5791320"/>
              <a:ext cx="594360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8797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036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7752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2231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15328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3962520"/>
            <a:ext cx="1498680" cy="1639800"/>
            <a:chOff x="4870440" y="3962520"/>
            <a:chExt cx="1498680" cy="1639800"/>
          </a:xfrm>
        </p:grpSpPr>
        <p:pic>
          <p:nvPicPr>
            <p:cNvPr id="273" name="" descr=""/>
            <p:cNvPicPr/>
            <p:nvPr/>
          </p:nvPicPr>
          <p:blipFill>
            <a:blip r:embed="rId4"/>
            <a:stretch/>
          </p:blipFill>
          <p:spPr>
            <a:xfrm>
              <a:off x="48704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129280" y="4079880"/>
              <a:ext cx="6620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242040" y="3962520"/>
            <a:ext cx="1498680" cy="1639800"/>
            <a:chOff x="6242040" y="3962520"/>
            <a:chExt cx="1498680" cy="1639800"/>
          </a:xfrm>
        </p:grpSpPr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62420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500880" y="4079880"/>
              <a:ext cx="6620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9246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343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5715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5181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8006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35040" y="33177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67600" y="33177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79720" y="5486400"/>
            <a:ext cx="4437360" cy="380880"/>
            <a:chOff x="3879720" y="5486400"/>
            <a:chExt cx="4437360" cy="380880"/>
          </a:xfrm>
        </p:grpSpPr>
        <p:sp>
          <p:nvSpPr>
            <p:cNvPr id="290" name=""/>
            <p:cNvSpPr/>
            <p:nvPr/>
          </p:nvSpPr>
          <p:spPr>
            <a:xfrm flipV="1">
              <a:off x="3886200" y="5790960"/>
              <a:ext cx="44197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879720" y="548640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8240760" y="548640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955400" y="33177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1640" y="33177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885840" y="5486400"/>
            <a:ext cx="4436640" cy="380880"/>
            <a:chOff x="3885840" y="5486400"/>
            <a:chExt cx="4436640" cy="380880"/>
          </a:xfrm>
        </p:grpSpPr>
        <p:sp>
          <p:nvSpPr>
            <p:cNvPr id="296" name=""/>
            <p:cNvSpPr/>
            <p:nvPr/>
          </p:nvSpPr>
          <p:spPr>
            <a:xfrm flipV="1">
              <a:off x="3892320" y="5790960"/>
              <a:ext cx="4419360" cy="76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885480" y="5486400"/>
              <a:ext cx="759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246160" y="5486400"/>
              <a:ext cx="7596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885840" y="5486400"/>
            <a:ext cx="4436640" cy="380880"/>
            <a:chOff x="3885840" y="5486400"/>
            <a:chExt cx="4436640" cy="380880"/>
          </a:xfrm>
        </p:grpSpPr>
        <p:sp>
          <p:nvSpPr>
            <p:cNvPr id="300" name=""/>
            <p:cNvSpPr/>
            <p:nvPr/>
          </p:nvSpPr>
          <p:spPr>
            <a:xfrm flipV="1">
              <a:off x="3892320" y="5790960"/>
              <a:ext cx="441936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885480" y="5486400"/>
              <a:ext cx="7596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246160" y="5486400"/>
              <a:ext cx="7596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421000" cy="3619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346560" y="3962520"/>
            <a:ext cx="1498320" cy="1639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04164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7639200" y="3962520"/>
            <a:ext cx="1498320" cy="163980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3193920" y="5562720"/>
            <a:ext cx="5943600" cy="304560"/>
            <a:chOff x="3193920" y="5562720"/>
            <a:chExt cx="5943600" cy="304560"/>
          </a:xfrm>
        </p:grpSpPr>
        <p:sp>
          <p:nvSpPr>
            <p:cNvPr id="308" name=""/>
            <p:cNvSpPr/>
            <p:nvPr/>
          </p:nvSpPr>
          <p:spPr>
            <a:xfrm>
              <a:off x="3193920" y="5791320"/>
              <a:ext cx="594360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797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4036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7752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2231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870440" y="3962520"/>
            <a:ext cx="1498680" cy="1639800"/>
            <a:chOff x="4870440" y="3962520"/>
            <a:chExt cx="1498680" cy="1639800"/>
          </a:xfrm>
        </p:grpSpPr>
        <p:pic>
          <p:nvPicPr>
            <p:cNvPr id="314" name="" descr=""/>
            <p:cNvPicPr/>
            <p:nvPr/>
          </p:nvPicPr>
          <p:blipFill>
            <a:blip r:embed="rId4"/>
            <a:stretch/>
          </p:blipFill>
          <p:spPr>
            <a:xfrm>
              <a:off x="48704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129280" y="4079880"/>
              <a:ext cx="6620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242040" y="3962520"/>
            <a:ext cx="1498680" cy="1639800"/>
            <a:chOff x="6242040" y="3962520"/>
            <a:chExt cx="1498680" cy="163980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62420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500880" y="4079880"/>
              <a:ext cx="6620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320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06760" y="2970360"/>
            <a:ext cx="5133960" cy="916920"/>
            <a:chOff x="3506760" y="2970360"/>
            <a:chExt cx="5133960" cy="916920"/>
          </a:xfrm>
        </p:grpSpPr>
        <p:sp>
          <p:nvSpPr>
            <p:cNvPr id="324" name=""/>
            <p:cNvSpPr/>
            <p:nvPr/>
          </p:nvSpPr>
          <p:spPr>
            <a:xfrm>
              <a:off x="6306480" y="2970360"/>
              <a:ext cx="99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7420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3100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0676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dagem Distribuíd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86200" y="2666880"/>
            <a:ext cx="1602720" cy="762120"/>
            <a:chOff x="3886200" y="2666880"/>
            <a:chExt cx="1602720" cy="762120"/>
          </a:xfrm>
        </p:grpSpPr>
        <p:sp>
          <p:nvSpPr>
            <p:cNvPr id="330" name=""/>
            <p:cNvSpPr/>
            <p:nvPr/>
          </p:nvSpPr>
          <p:spPr>
            <a:xfrm>
              <a:off x="3886200" y="2666880"/>
              <a:ext cx="152388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39480" y="286848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Um ataque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05520" y="1600200"/>
            <a:ext cx="1295280" cy="1066680"/>
            <a:chOff x="5105520" y="1600200"/>
            <a:chExt cx="1295280" cy="1066680"/>
          </a:xfrm>
        </p:grpSpPr>
        <p:sp>
          <p:nvSpPr>
            <p:cNvPr id="333" name=""/>
            <p:cNvSpPr/>
            <p:nvPr/>
          </p:nvSpPr>
          <p:spPr>
            <a:xfrm>
              <a:off x="5105520" y="1600200"/>
              <a:ext cx="1295280" cy="1066680"/>
            </a:xfrm>
            <a:prstGeom prst="cloudCallout">
              <a:avLst>
                <a:gd name="adj1" fmla="val 73898"/>
                <a:gd name="adj2" fmla="val 842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36640" y="19047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Z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781680" y="2057400"/>
            <a:ext cx="1602720" cy="762120"/>
            <a:chOff x="6781680" y="2057400"/>
            <a:chExt cx="1602720" cy="762120"/>
          </a:xfrm>
        </p:grpSpPr>
        <p:sp>
          <p:nvSpPr>
            <p:cNvPr id="336" name=""/>
            <p:cNvSpPr/>
            <p:nvPr/>
          </p:nvSpPr>
          <p:spPr>
            <a:xfrm>
              <a:off x="6781680" y="2057400"/>
              <a:ext cx="152388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34960" y="225900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Um ataque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762120" y="3886200"/>
            <a:ext cx="1295280" cy="12193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44956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6483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48006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49528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344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348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93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estão implementado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93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ção de sinto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ado em reg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ção de cená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ndo conhecimento extraído de ataques simulados (conhecid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nhecendo padrões (conhecid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793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isas a consider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93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es aumentam as cargas dos servi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r sintomas e/ou cenários em tempo real tem alto custo compu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tidade de “falsos positiv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e agentes tem limit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os ataques não previstos na base de conhec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: Novos serviç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os sint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os cen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-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por fim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43434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es e gerentes podem ser “corrompido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agente/gerente é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S.O. e seus protocolos também são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tem “bug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s” são explo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3720" y="1600200"/>
            <a:ext cx="1447560" cy="243828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0832400">
            <a:off x="5181480" y="1371240"/>
            <a:ext cx="1447920" cy="243828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42120" y="15652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9040" y="3352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andal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74840" y="3295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ompendo o agent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421000" cy="36194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346560" y="3962520"/>
            <a:ext cx="1498320" cy="1639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04164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639200" y="3962520"/>
            <a:ext cx="1498320" cy="16398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3193920" y="5562720"/>
            <a:ext cx="5943600" cy="304560"/>
            <a:chOff x="3193920" y="5562720"/>
            <a:chExt cx="5943600" cy="304560"/>
          </a:xfrm>
        </p:grpSpPr>
        <p:sp>
          <p:nvSpPr>
            <p:cNvPr id="369" name=""/>
            <p:cNvSpPr/>
            <p:nvPr/>
          </p:nvSpPr>
          <p:spPr>
            <a:xfrm>
              <a:off x="3193920" y="5791320"/>
              <a:ext cx="594360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8797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54036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7520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223120" y="5562720"/>
              <a:ext cx="763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870440" y="3962520"/>
            <a:ext cx="1498680" cy="1639800"/>
            <a:chOff x="4870440" y="3962520"/>
            <a:chExt cx="1498680" cy="1639800"/>
          </a:xfrm>
        </p:grpSpPr>
        <p:pic>
          <p:nvPicPr>
            <p:cNvPr id="375" name="" descr=""/>
            <p:cNvPicPr/>
            <p:nvPr/>
          </p:nvPicPr>
          <p:blipFill>
            <a:blip r:embed="rId4"/>
            <a:stretch/>
          </p:blipFill>
          <p:spPr>
            <a:xfrm>
              <a:off x="48704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129280" y="4079880"/>
              <a:ext cx="6620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242040" y="3962520"/>
            <a:ext cx="1498680" cy="1639800"/>
            <a:chOff x="6242040" y="3962520"/>
            <a:chExt cx="1498680" cy="1639800"/>
          </a:xfrm>
        </p:grpSpPr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62420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6500880" y="4079880"/>
              <a:ext cx="6620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381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506760" y="2970360"/>
            <a:ext cx="5133960" cy="916920"/>
            <a:chOff x="3506760" y="2970360"/>
            <a:chExt cx="5133960" cy="916920"/>
          </a:xfrm>
        </p:grpSpPr>
        <p:sp>
          <p:nvSpPr>
            <p:cNvPr id="385" name=""/>
            <p:cNvSpPr/>
            <p:nvPr/>
          </p:nvSpPr>
          <p:spPr>
            <a:xfrm>
              <a:off x="6306480" y="2970360"/>
              <a:ext cx="99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420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3100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06760" y="35053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86200" y="2666880"/>
            <a:ext cx="1542600" cy="762120"/>
            <a:chOff x="3886200" y="2666880"/>
            <a:chExt cx="1542600" cy="762120"/>
          </a:xfrm>
        </p:grpSpPr>
        <p:sp>
          <p:nvSpPr>
            <p:cNvPr id="390" name=""/>
            <p:cNvSpPr/>
            <p:nvPr/>
          </p:nvSpPr>
          <p:spPr>
            <a:xfrm>
              <a:off x="3886200" y="2666880"/>
              <a:ext cx="152388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40560" y="2868480"/>
              <a:ext cx="148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im mestr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05520" y="1600200"/>
            <a:ext cx="1295280" cy="1066680"/>
            <a:chOff x="5105520" y="1600200"/>
            <a:chExt cx="1295280" cy="1066680"/>
          </a:xfrm>
        </p:grpSpPr>
        <p:sp>
          <p:nvSpPr>
            <p:cNvPr id="393" name=""/>
            <p:cNvSpPr/>
            <p:nvPr/>
          </p:nvSpPr>
          <p:spPr>
            <a:xfrm>
              <a:off x="5105520" y="1600200"/>
              <a:ext cx="1295280" cy="1066680"/>
            </a:xfrm>
            <a:prstGeom prst="cloudCallout">
              <a:avLst>
                <a:gd name="adj1" fmla="val 73898"/>
                <a:gd name="adj2" fmla="val 842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36640" y="19047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Z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1349280"/>
            <a:ext cx="2362320" cy="1524240"/>
            <a:chOff x="6781680" y="1349280"/>
            <a:chExt cx="2362320" cy="1524240"/>
          </a:xfrm>
        </p:grpSpPr>
        <p:sp>
          <p:nvSpPr>
            <p:cNvPr id="396" name=""/>
            <p:cNvSpPr/>
            <p:nvPr/>
          </p:nvSpPr>
          <p:spPr>
            <a:xfrm>
              <a:off x="6781680" y="1349280"/>
              <a:ext cx="2362320" cy="1524240"/>
            </a:xfrm>
            <a:prstGeom prst="wedgeEllipseCallout">
              <a:avLst>
                <a:gd name="adj1" fmla="val -43750"/>
                <a:gd name="adj2" fmla="val 6645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85160" y="1660680"/>
              <a:ext cx="1887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Que saco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unca aconte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ada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366560" y="3809880"/>
            <a:ext cx="1922400" cy="990720"/>
            <a:chOff x="1366560" y="3809880"/>
            <a:chExt cx="1922400" cy="990720"/>
          </a:xfrm>
        </p:grpSpPr>
        <p:sp>
          <p:nvSpPr>
            <p:cNvPr id="399" name=""/>
            <p:cNvSpPr/>
            <p:nvPr/>
          </p:nvSpPr>
          <p:spPr>
            <a:xfrm flipH="1">
              <a:off x="1370880" y="3809880"/>
              <a:ext cx="1917720" cy="990720"/>
            </a:xfrm>
            <a:prstGeom prst="wedgeEllipseCallout">
              <a:avLst>
                <a:gd name="adj1" fmla="val -45037"/>
                <a:gd name="adj2" fmla="val 652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366200" y="4114800"/>
              <a:ext cx="184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Mãos ao alto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105520" y="1600200"/>
            <a:ext cx="1295280" cy="1066680"/>
            <a:chOff x="5105520" y="1600200"/>
            <a:chExt cx="1295280" cy="1066680"/>
          </a:xfrm>
        </p:grpSpPr>
        <p:sp>
          <p:nvSpPr>
            <p:cNvPr id="402" name=""/>
            <p:cNvSpPr/>
            <p:nvPr/>
          </p:nvSpPr>
          <p:spPr>
            <a:xfrm>
              <a:off x="5105520" y="1600200"/>
              <a:ext cx="1295280" cy="1066680"/>
            </a:xfrm>
            <a:prstGeom prst="cloudCallout">
              <a:avLst>
                <a:gd name="adj1" fmla="val 73898"/>
                <a:gd name="adj2" fmla="val 8422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6640" y="19047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Z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369080" y="3809880"/>
            <a:ext cx="1919880" cy="990720"/>
            <a:chOff x="1369080" y="3809880"/>
            <a:chExt cx="1919880" cy="990720"/>
          </a:xfrm>
        </p:grpSpPr>
        <p:sp>
          <p:nvSpPr>
            <p:cNvPr id="405" name=""/>
            <p:cNvSpPr/>
            <p:nvPr/>
          </p:nvSpPr>
          <p:spPr>
            <a:xfrm flipH="1">
              <a:off x="1370880" y="3809880"/>
              <a:ext cx="1917720" cy="990720"/>
            </a:xfrm>
            <a:prstGeom prst="wedgeEllipseCallout">
              <a:avLst>
                <a:gd name="adj1" fmla="val -45037"/>
                <a:gd name="adj2" fmla="val 652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368720" y="4114800"/>
              <a:ext cx="17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Não grite!!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886200" y="2666880"/>
            <a:ext cx="1523880" cy="762120"/>
            <a:chOff x="3886200" y="2666880"/>
            <a:chExt cx="1523880" cy="762120"/>
          </a:xfrm>
        </p:grpSpPr>
        <p:sp>
          <p:nvSpPr>
            <p:cNvPr id="408" name=""/>
            <p:cNvSpPr/>
            <p:nvPr/>
          </p:nvSpPr>
          <p:spPr>
            <a:xfrm>
              <a:off x="3886200" y="2666880"/>
              <a:ext cx="152388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40920" y="2868480"/>
              <a:ext cx="13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udo OK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415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886200" y="5562720"/>
            <a:ext cx="2971800" cy="304560"/>
            <a:chOff x="3886200" y="5562720"/>
            <a:chExt cx="2971800" cy="304560"/>
          </a:xfrm>
        </p:grpSpPr>
        <p:sp>
          <p:nvSpPr>
            <p:cNvPr id="419" name=""/>
            <p:cNvSpPr/>
            <p:nvPr/>
          </p:nvSpPr>
          <p:spPr>
            <a:xfrm flipV="1">
              <a:off x="3886200" y="5790600"/>
              <a:ext cx="297180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88620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781680" y="5562720"/>
              <a:ext cx="7632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1523880" y="5562720"/>
            <a:ext cx="6019920" cy="492120"/>
            <a:chOff x="1523880" y="5562720"/>
            <a:chExt cx="6019920" cy="492120"/>
          </a:xfrm>
        </p:grpSpPr>
        <p:sp>
          <p:nvSpPr>
            <p:cNvPr id="423" name=""/>
            <p:cNvSpPr/>
            <p:nvPr/>
          </p:nvSpPr>
          <p:spPr>
            <a:xfrm>
              <a:off x="1523880" y="5562720"/>
              <a:ext cx="15264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91520" y="5580360"/>
              <a:ext cx="1522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23880" y="5902560"/>
              <a:ext cx="6019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confiar num agent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6510240" y="3048120"/>
            <a:ext cx="2405160" cy="263052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685800" y="3048120"/>
            <a:ext cx="2405160" cy="2630520"/>
            <a:chOff x="685800" y="3048120"/>
            <a:chExt cx="2405160" cy="263052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685800" y="3048120"/>
              <a:ext cx="24051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1101600" y="3218040"/>
              <a:ext cx="1108080" cy="838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127160" y="3376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62120" y="5638680"/>
            <a:ext cx="1752480" cy="459720"/>
            <a:chOff x="762120" y="5638680"/>
            <a:chExt cx="1752480" cy="459720"/>
          </a:xfrm>
        </p:grpSpPr>
        <p:sp>
          <p:nvSpPr>
            <p:cNvPr id="433" name=""/>
            <p:cNvSpPr/>
            <p:nvPr/>
          </p:nvSpPr>
          <p:spPr>
            <a:xfrm>
              <a:off x="762120" y="563868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4080" y="563868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14600" y="5791320"/>
            <a:ext cx="1752480" cy="459720"/>
            <a:chOff x="2514600" y="5791320"/>
            <a:chExt cx="1752480" cy="459720"/>
          </a:xfrm>
        </p:grpSpPr>
        <p:sp>
          <p:nvSpPr>
            <p:cNvPr id="436" name=""/>
            <p:cNvSpPr/>
            <p:nvPr/>
          </p:nvSpPr>
          <p:spPr>
            <a:xfrm>
              <a:off x="251460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2656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191120" y="5791320"/>
            <a:ext cx="1752480" cy="459720"/>
            <a:chOff x="4191120" y="5791320"/>
            <a:chExt cx="1752480" cy="459720"/>
          </a:xfrm>
        </p:grpSpPr>
        <p:sp>
          <p:nvSpPr>
            <p:cNvPr id="439" name=""/>
            <p:cNvSpPr/>
            <p:nvPr/>
          </p:nvSpPr>
          <p:spPr>
            <a:xfrm>
              <a:off x="419112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0308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867280" y="5791320"/>
            <a:ext cx="1752480" cy="459720"/>
            <a:chOff x="5867280" y="5791320"/>
            <a:chExt cx="1752480" cy="459720"/>
          </a:xfrm>
        </p:grpSpPr>
        <p:sp>
          <p:nvSpPr>
            <p:cNvPr id="442" name=""/>
            <p:cNvSpPr/>
            <p:nvPr/>
          </p:nvSpPr>
          <p:spPr>
            <a:xfrm>
              <a:off x="586728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7924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629400" y="5649840"/>
            <a:ext cx="1752480" cy="459720"/>
            <a:chOff x="6629400" y="5649840"/>
            <a:chExt cx="1752480" cy="459720"/>
          </a:xfrm>
        </p:grpSpPr>
        <p:sp>
          <p:nvSpPr>
            <p:cNvPr id="445" name=""/>
            <p:cNvSpPr/>
            <p:nvPr/>
          </p:nvSpPr>
          <p:spPr>
            <a:xfrm>
              <a:off x="6629400" y="564984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1360" y="564984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84320" y="3200400"/>
            <a:ext cx="1137960" cy="838080"/>
            <a:chOff x="1084320" y="3200400"/>
            <a:chExt cx="1137960" cy="838080"/>
          </a:xfrm>
        </p:grpSpPr>
        <p:sp>
          <p:nvSpPr>
            <p:cNvPr id="448" name=""/>
            <p:cNvSpPr/>
            <p:nvPr/>
          </p:nvSpPr>
          <p:spPr>
            <a:xfrm>
              <a:off x="1084320" y="3200400"/>
              <a:ext cx="11080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27160" y="3369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62120" y="5638680"/>
            <a:ext cx="1752480" cy="459720"/>
            <a:chOff x="762120" y="5638680"/>
            <a:chExt cx="1752480" cy="459720"/>
          </a:xfrm>
        </p:grpSpPr>
        <p:sp>
          <p:nvSpPr>
            <p:cNvPr id="451" name=""/>
            <p:cNvSpPr/>
            <p:nvPr/>
          </p:nvSpPr>
          <p:spPr>
            <a:xfrm>
              <a:off x="762120" y="563868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4080" y="563868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514600" y="5791320"/>
            <a:ext cx="1752480" cy="459720"/>
            <a:chOff x="2514600" y="5791320"/>
            <a:chExt cx="1752480" cy="459720"/>
          </a:xfrm>
        </p:grpSpPr>
        <p:sp>
          <p:nvSpPr>
            <p:cNvPr id="454" name=""/>
            <p:cNvSpPr/>
            <p:nvPr/>
          </p:nvSpPr>
          <p:spPr>
            <a:xfrm>
              <a:off x="251460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2656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191120" y="5791320"/>
            <a:ext cx="1752480" cy="459720"/>
            <a:chOff x="4191120" y="5791320"/>
            <a:chExt cx="1752480" cy="459720"/>
          </a:xfrm>
        </p:grpSpPr>
        <p:sp>
          <p:nvSpPr>
            <p:cNvPr id="457" name=""/>
            <p:cNvSpPr/>
            <p:nvPr/>
          </p:nvSpPr>
          <p:spPr>
            <a:xfrm>
              <a:off x="419112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308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67280" y="5791320"/>
            <a:ext cx="1752480" cy="459720"/>
            <a:chOff x="5867280" y="5791320"/>
            <a:chExt cx="1752480" cy="459720"/>
          </a:xfrm>
        </p:grpSpPr>
        <p:sp>
          <p:nvSpPr>
            <p:cNvPr id="460" name=""/>
            <p:cNvSpPr/>
            <p:nvPr/>
          </p:nvSpPr>
          <p:spPr>
            <a:xfrm>
              <a:off x="586728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79240" y="57913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629400" y="5638680"/>
            <a:ext cx="1752480" cy="459720"/>
            <a:chOff x="6629400" y="5638680"/>
            <a:chExt cx="1752480" cy="459720"/>
          </a:xfrm>
        </p:grpSpPr>
        <p:sp>
          <p:nvSpPr>
            <p:cNvPr id="463" name=""/>
            <p:cNvSpPr/>
            <p:nvPr/>
          </p:nvSpPr>
          <p:spPr>
            <a:xfrm>
              <a:off x="6629400" y="563868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41360" y="563868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udo OK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304920" y="2362320"/>
            <a:ext cx="30859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ão como confiar num agent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905120" y="3200400"/>
            <a:ext cx="5562360" cy="2666880"/>
            <a:chOff x="1905120" y="3200400"/>
            <a:chExt cx="5562360" cy="2666880"/>
          </a:xfrm>
        </p:grpSpPr>
        <p:sp>
          <p:nvSpPr>
            <p:cNvPr id="468" name=""/>
            <p:cNvSpPr/>
            <p:nvPr/>
          </p:nvSpPr>
          <p:spPr>
            <a:xfrm>
              <a:off x="1905120" y="3200400"/>
              <a:ext cx="304560" cy="26668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71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74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77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523880" y="2362320"/>
            <a:ext cx="1108080" cy="838080"/>
            <a:chOff x="1523880" y="2362320"/>
            <a:chExt cx="1108080" cy="838080"/>
          </a:xfrm>
        </p:grpSpPr>
        <p:sp>
          <p:nvSpPr>
            <p:cNvPr id="480" name=""/>
            <p:cNvSpPr/>
            <p:nvPr/>
          </p:nvSpPr>
          <p:spPr>
            <a:xfrm>
              <a:off x="1523880" y="2362320"/>
              <a:ext cx="1108080" cy="838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2568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83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86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905120" y="4648320"/>
            <a:ext cx="5562360" cy="1218960"/>
            <a:chOff x="1905120" y="4648320"/>
            <a:chExt cx="5562360" cy="1218960"/>
          </a:xfrm>
        </p:grpSpPr>
        <p:sp>
          <p:nvSpPr>
            <p:cNvPr id="489" name=""/>
            <p:cNvSpPr/>
            <p:nvPr/>
          </p:nvSpPr>
          <p:spPr>
            <a:xfrm>
              <a:off x="1905120" y="4648320"/>
              <a:ext cx="304560" cy="12189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05120" y="5562360"/>
              <a:ext cx="5562360" cy="304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527120" y="3809880"/>
            <a:ext cx="1137960" cy="838440"/>
            <a:chOff x="1527120" y="3809880"/>
            <a:chExt cx="1137960" cy="838440"/>
          </a:xfrm>
        </p:grpSpPr>
        <p:sp>
          <p:nvSpPr>
            <p:cNvPr id="492" name=""/>
            <p:cNvSpPr/>
            <p:nvPr/>
          </p:nvSpPr>
          <p:spPr>
            <a:xfrm>
              <a:off x="1527120" y="3809880"/>
              <a:ext cx="1108080" cy="8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9960" y="3979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1523880" y="5562720"/>
            <a:ext cx="6019920" cy="492120"/>
            <a:chOff x="1523880" y="5562720"/>
            <a:chExt cx="6019920" cy="492120"/>
          </a:xfrm>
        </p:grpSpPr>
        <p:sp>
          <p:nvSpPr>
            <p:cNvPr id="495" name=""/>
            <p:cNvSpPr/>
            <p:nvPr/>
          </p:nvSpPr>
          <p:spPr>
            <a:xfrm>
              <a:off x="1523880" y="5562720"/>
              <a:ext cx="152640" cy="381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1520" y="5580360"/>
              <a:ext cx="1522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23880" y="5902560"/>
              <a:ext cx="6019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510240" y="3048120"/>
            <a:ext cx="2405160" cy="263052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685800" y="3048120"/>
            <a:ext cx="2405160" cy="2630520"/>
            <a:chOff x="685800" y="3048120"/>
            <a:chExt cx="2405160" cy="2630520"/>
          </a:xfrm>
        </p:grpSpPr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685800" y="3048120"/>
              <a:ext cx="24051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101600" y="3218040"/>
              <a:ext cx="1108080" cy="838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127160" y="3376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762120" y="5638680"/>
            <a:ext cx="1752480" cy="459720"/>
            <a:chOff x="762120" y="5638680"/>
            <a:chExt cx="1752480" cy="459720"/>
          </a:xfrm>
        </p:grpSpPr>
        <p:sp>
          <p:nvSpPr>
            <p:cNvPr id="504" name=""/>
            <p:cNvSpPr/>
            <p:nvPr/>
          </p:nvSpPr>
          <p:spPr>
            <a:xfrm>
              <a:off x="762120" y="563868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75520" y="5638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Px1kL9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14600" y="5791320"/>
            <a:ext cx="1752480" cy="459720"/>
            <a:chOff x="2514600" y="5791320"/>
            <a:chExt cx="1752480" cy="459720"/>
          </a:xfrm>
        </p:grpSpPr>
        <p:sp>
          <p:nvSpPr>
            <p:cNvPr id="507" name=""/>
            <p:cNvSpPr/>
            <p:nvPr/>
          </p:nvSpPr>
          <p:spPr>
            <a:xfrm>
              <a:off x="251460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8000" y="57913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Px1kL9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191120" y="5791320"/>
            <a:ext cx="1752480" cy="459720"/>
            <a:chOff x="4191120" y="5791320"/>
            <a:chExt cx="1752480" cy="459720"/>
          </a:xfrm>
        </p:grpSpPr>
        <p:sp>
          <p:nvSpPr>
            <p:cNvPr id="510" name=""/>
            <p:cNvSpPr/>
            <p:nvPr/>
          </p:nvSpPr>
          <p:spPr>
            <a:xfrm>
              <a:off x="419112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4520" y="57913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Px1kL9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943600" y="5791320"/>
            <a:ext cx="1752480" cy="459720"/>
            <a:chOff x="5943600" y="5791320"/>
            <a:chExt cx="1752480" cy="459720"/>
          </a:xfrm>
        </p:grpSpPr>
        <p:sp>
          <p:nvSpPr>
            <p:cNvPr id="513" name=""/>
            <p:cNvSpPr/>
            <p:nvPr/>
          </p:nvSpPr>
          <p:spPr>
            <a:xfrm>
              <a:off x="5943600" y="579132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57000" y="57913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Px1kL9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629400" y="5638680"/>
            <a:ext cx="1752480" cy="459720"/>
            <a:chOff x="6629400" y="5638680"/>
            <a:chExt cx="1752480" cy="459720"/>
          </a:xfrm>
        </p:grpSpPr>
        <p:sp>
          <p:nvSpPr>
            <p:cNvPr id="516" name=""/>
            <p:cNvSpPr/>
            <p:nvPr/>
          </p:nvSpPr>
          <p:spPr>
            <a:xfrm>
              <a:off x="6629400" y="5638680"/>
              <a:ext cx="1752480" cy="457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42800" y="563868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Px1kL9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ptograf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1240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de ficariam guardadas as cha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8235200">
            <a:off x="609480" y="2971440"/>
            <a:ext cx="1981080" cy="1676160"/>
          </a:xfrm>
          <a:prstGeom prst="plus">
            <a:avLst>
              <a:gd name="adj" fmla="val 389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o não é pura paranó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defcon7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foi possível o Wor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s “exploráveis” nos códigos dos servid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ger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m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x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s “exploráveis” na implementação do Sistema Oper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s “exploráveis” na implementação do  protocolo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defcon6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886200" cy="1368360"/>
          </a:xfrm>
          <a:prstGeom prst="rect">
            <a:avLst/>
          </a:prstGeom>
          <a:ln w="0">
            <a:noFill/>
          </a:ln>
        </p:spPr>
      </p:pic>
      <p:pic>
        <p:nvPicPr>
          <p:cNvPr id="524" name="confroom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78204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gathering" descr=""/>
          <p:cNvPicPr/>
          <p:nvPr/>
        </p:nvPicPr>
        <p:blipFill>
          <a:blip r:embed="rId1"/>
          <a:stretch/>
        </p:blipFill>
        <p:spPr>
          <a:xfrm>
            <a:off x="914400" y="1758960"/>
            <a:ext cx="7467480" cy="4718160"/>
          </a:xfrm>
          <a:prstGeom prst="rect">
            <a:avLst/>
          </a:prstGeom>
          <a:ln w="0">
            <a:noFill/>
          </a:ln>
        </p:spPr>
      </p:pic>
      <p:pic>
        <p:nvPicPr>
          <p:cNvPr id="526" name="defcon6" descr=""/>
          <p:cNvPicPr/>
          <p:nvPr/>
        </p:nvPicPr>
        <p:blipFill>
          <a:blip r:embed="rId2"/>
          <a:stretch/>
        </p:blipFill>
        <p:spPr>
          <a:xfrm>
            <a:off x="2590920" y="76320"/>
            <a:ext cx="3886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defcon6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3886200" cy="1368360"/>
          </a:xfrm>
          <a:prstGeom prst="rect">
            <a:avLst/>
          </a:prstGeom>
          <a:ln w="0">
            <a:noFill/>
          </a:ln>
        </p:spPr>
      </p:pic>
      <p:pic>
        <p:nvPicPr>
          <p:cNvPr id="528" name="defcon13" descr=""/>
          <p:cNvPicPr/>
          <p:nvPr/>
        </p:nvPicPr>
        <p:blipFill>
          <a:blip r:embed="rId2"/>
          <a:stretch/>
        </p:blipFill>
        <p:spPr>
          <a:xfrm>
            <a:off x="750960" y="1557360"/>
            <a:ext cx="778356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defcon6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3886200" cy="1368360"/>
          </a:xfrm>
          <a:prstGeom prst="rect">
            <a:avLst/>
          </a:prstGeom>
          <a:ln w="0">
            <a:noFill/>
          </a:ln>
        </p:spPr>
      </p:pic>
      <p:pic>
        <p:nvPicPr>
          <p:cNvPr id="530" name="dvorak" descr=""/>
          <p:cNvPicPr/>
          <p:nvPr/>
        </p:nvPicPr>
        <p:blipFill>
          <a:blip r:embed="rId2"/>
          <a:stretch/>
        </p:blipFill>
        <p:spPr>
          <a:xfrm>
            <a:off x="2827440" y="1523880"/>
            <a:ext cx="3497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defcon6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3886200" cy="1368360"/>
          </a:xfrm>
          <a:prstGeom prst="rect">
            <a:avLst/>
          </a:prstGeom>
          <a:ln w="0">
            <a:noFill/>
          </a:ln>
        </p:spPr>
      </p:pic>
      <p:pic>
        <p:nvPicPr>
          <p:cNvPr id="532" name="moving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46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ertura da Mí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114800" y="3276720"/>
          <a:ext cx="91440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276720"/>
                    <a:ext cx="9144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2286000" y="1676520"/>
          <a:ext cx="4876920" cy="44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676520"/>
                    <a:ext cx="4876920" cy="44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endizagem típ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421000" cy="3619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3346560" y="3962520"/>
            <a:ext cx="1498320" cy="16398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304164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498840" y="5562720"/>
            <a:ext cx="3664080" cy="228600"/>
            <a:chOff x="3498840" y="5562720"/>
            <a:chExt cx="3664080" cy="228600"/>
          </a:xfrm>
        </p:grpSpPr>
        <p:sp>
          <p:nvSpPr>
            <p:cNvPr id="543" name=""/>
            <p:cNvSpPr/>
            <p:nvPr/>
          </p:nvSpPr>
          <p:spPr>
            <a:xfrm>
              <a:off x="3498840" y="5715360"/>
              <a:ext cx="3664080" cy="75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879720" y="5562720"/>
              <a:ext cx="777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405400" y="5562720"/>
              <a:ext cx="777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778080" y="556272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870440" y="3962520"/>
            <a:ext cx="1498680" cy="1639800"/>
            <a:chOff x="4870440" y="3962520"/>
            <a:chExt cx="1498680" cy="163980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48704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129280" y="4079880"/>
              <a:ext cx="6620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6242040" y="3962520"/>
            <a:ext cx="1498680" cy="1639800"/>
            <a:chOff x="6242040" y="3962520"/>
            <a:chExt cx="1498680" cy="1639800"/>
          </a:xfrm>
        </p:grpSpPr>
        <p:pic>
          <p:nvPicPr>
            <p:cNvPr id="551" name="" descr=""/>
            <p:cNvPicPr/>
            <p:nvPr/>
          </p:nvPicPr>
          <p:blipFill>
            <a:blip r:embed="rId4"/>
            <a:stretch/>
          </p:blipFill>
          <p:spPr>
            <a:xfrm>
              <a:off x="6242040" y="3962520"/>
              <a:ext cx="14986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6500880" y="4079880"/>
              <a:ext cx="66204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6932880" y="4952880"/>
            <a:ext cx="1752120" cy="1618200"/>
            <a:chOff x="6932880" y="4952880"/>
            <a:chExt cx="1752120" cy="1618200"/>
          </a:xfrm>
        </p:grpSpPr>
        <p:sp>
          <p:nvSpPr>
            <p:cNvPr id="554" name=""/>
            <p:cNvSpPr/>
            <p:nvPr/>
          </p:nvSpPr>
          <p:spPr>
            <a:xfrm>
              <a:off x="7467480" y="495288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32880" y="5867280"/>
              <a:ext cx="175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 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4724280"/>
            <a:ext cx="76176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4495680"/>
            <a:ext cx="1218960" cy="8384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4191120"/>
            <a:ext cx="182880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3886200"/>
            <a:ext cx="1295280" cy="12193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44956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464832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143000" y="48006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95280" y="4952880"/>
            <a:ext cx="3812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781680" y="2971800"/>
            <a:ext cx="1602720" cy="762120"/>
            <a:chOff x="6781680" y="2971800"/>
            <a:chExt cx="1602720" cy="762120"/>
          </a:xfrm>
        </p:grpSpPr>
        <p:sp>
          <p:nvSpPr>
            <p:cNvPr id="568" name=""/>
            <p:cNvSpPr/>
            <p:nvPr/>
          </p:nvSpPr>
          <p:spPr>
            <a:xfrm>
              <a:off x="6781680" y="2971800"/>
              <a:ext cx="152388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34960" y="3173400"/>
              <a:ext cx="15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Um ataque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tos a pondera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793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ão é aconselhável confiar na platafor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 agente é um software como qualquer ou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ponto de vista do administrador parece não ser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“inteligência” é importante para a detec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“imunidade” é importante para a solução glo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 computacional da sol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ma coisa tem que ser feita para parar esses car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3805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Beware of bugs in the above code; I have only proved it correct, not tried it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ocess of removing software bugs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the process of putting them i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ald Kn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onknuth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111480" cy="4267080"/>
          </a:xfrm>
          <a:prstGeom prst="rect">
            <a:avLst/>
          </a:prstGeom>
          <a:ln w="0">
            <a:noFill/>
          </a:ln>
        </p:spPr>
      </p:pic>
      <p:pic>
        <p:nvPicPr>
          <p:cNvPr id="57" name="reginaldorossi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A. e Detecção de Intr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11430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Architecture for Intrusion Detection using Autonomous Ag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i Balasubramaniyan, Jose Omar Garcia-Fernandez, E. H. Spafford, and Diego Zamboni,, Purdue University; Coast TR 98-05;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ramework and prototype for a distributed Intrusion Detection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go Zamboni and E. H. Spafford. Department of Computer Sciences, Purdue University; Coast TR 98-06;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ending a system using autonomous ag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 Crosbie and Eugene Spafford. COAST.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Intrusion De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Mukherjee, L Todd Heberline, Karl Levitt. COAST.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fe Tiger Team - Anatomia de um ata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e Franklin, Evandro Hora, Fábio Silva, Marco Carnut e Patrícia Alvarenga. Relatório Técnico. DI/UFPE.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609480" y="1676520"/>
            <a:ext cx="852804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 has taught us: never underestimate the amount of money, time, and effort someone will expend to thwart a security system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lways better to assume the worst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your adversaries are better than they are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uce Schnei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65480" y="414360"/>
            <a:ext cx="307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 refleti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93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foi possível o Wor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93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ção de confiança (serviços “r”) entre as máqu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 identificação/autent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idade desejável na administração de re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ito usado em redes de médio/grande 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52480" y="4267080"/>
            <a:ext cx="5943600" cy="1904760"/>
            <a:chOff x="1752480" y="4267080"/>
            <a:chExt cx="5943600" cy="190476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905120" y="4267080"/>
              <a:ext cx="149832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429000" y="4267080"/>
              <a:ext cx="149868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800600" y="4267080"/>
              <a:ext cx="149868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6197760" y="4267080"/>
              <a:ext cx="149832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752480" y="5867280"/>
              <a:ext cx="5943600" cy="304560"/>
              <a:chOff x="1752480" y="5867280"/>
              <a:chExt cx="5943600" cy="304560"/>
            </a:xfrm>
          </p:grpSpPr>
          <p:sp>
            <p:nvSpPr>
              <p:cNvPr id="66" name=""/>
              <p:cNvSpPr/>
              <p:nvPr/>
            </p:nvSpPr>
            <p:spPr>
              <a:xfrm>
                <a:off x="1752480" y="6095880"/>
                <a:ext cx="594360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43828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396216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533376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78168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93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foi possível o Wor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9320" y="1981080"/>
            <a:ext cx="526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neidade da r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52480" y="4267080"/>
            <a:ext cx="5943600" cy="1904760"/>
            <a:chOff x="1752480" y="4267080"/>
            <a:chExt cx="5943600" cy="19047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1905120" y="4267080"/>
              <a:ext cx="149832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3429000" y="4267080"/>
              <a:ext cx="149868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800600" y="4267080"/>
              <a:ext cx="149868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6197760" y="4267080"/>
              <a:ext cx="1498320" cy="164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752480" y="5867280"/>
              <a:ext cx="5943600" cy="304560"/>
              <a:chOff x="1752480" y="5867280"/>
              <a:chExt cx="5943600" cy="304560"/>
            </a:xfrm>
          </p:grpSpPr>
          <p:sp>
            <p:nvSpPr>
              <p:cNvPr id="79" name=""/>
              <p:cNvSpPr/>
              <p:nvPr/>
            </p:nvSpPr>
            <p:spPr>
              <a:xfrm>
                <a:off x="1752480" y="6095880"/>
                <a:ext cx="5943600" cy="75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243828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96216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33376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781680" y="5867280"/>
                <a:ext cx="763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2061720" y="377496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OS       SunOS       SunOs       S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62800" y="3809880"/>
            <a:ext cx="51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un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HP-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I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793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foi possível o Wor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3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ção do modelo “Segurança pela obscuridad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que atacariam minha red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 que tantos tentam escalar o pico K2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 que Amyr Klink quer passar 1 ano morando num barco pequeno, sozinho, encalhado no gelo do Pólo Su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s” nem sabem que ela existe…afinal tem ta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m mais interessante por aí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de pode não ser o alvo primário, e ser usada como cabeça-de-ponte para atacar out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strich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“Se esse assunto não for discutido, não chamaremos a atenção sobre o problema…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e uma sensação (falsa) de seguranç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5T18:27:12Z</dcterms:created>
  <dc:creator>Evandro Curvelo Hora</dc:creator>
  <dc:description/>
  <dc:language>en-US</dc:language>
  <cp:lastModifiedBy>Evandro Curvelo Hora</cp:lastModifiedBy>
  <dcterms:modified xsi:type="dcterms:W3CDTF">1999-06-16T00:34:50Z</dcterms:modified>
  <cp:revision>152</cp:revision>
  <dc:subject/>
  <dc:title>No Slide Title</dc:title>
</cp:coreProperties>
</file>