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CB5-2803-410B-B00F-ECACF717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06080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DA7-F258-4606-853F-51589020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06080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120" y="406080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8C9-BE1A-430D-8E5C-1C2799A7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840" y="17521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6240" y="17521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06080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840" y="406080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6240" y="406080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735-A1C1-480D-9CBC-28474C4B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DBF8-A5D5-4966-8028-BBD6C6EE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E39C-ED52-4940-8707-9B053208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775-564C-47FB-8D81-76AF2720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2742-8A2B-44D5-BB8C-88176B2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ADD3-EDEA-4CAF-ACF9-68A4C9C2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351B-F764-48CD-8FB6-AFBA4D27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406080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D325-8AC6-4531-8269-81419E25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564-DB90-47BC-BF41-3D7D8C1A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5120" y="406080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5759-CA90-4AE5-801F-C1C5AF11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06080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74A5-FCD9-41FB-9D90-E9B0F4C6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406080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F56-1A18-46F2-8247-978CE9E7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406080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5120" y="406080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2A89-6116-4DBC-95FB-6E28552F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90840" y="17521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6240" y="175212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406080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90840" y="406080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6240" y="4060800"/>
            <a:ext cx="25761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3FA2-C79E-4DF4-9292-593E4588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3E6-CB17-432B-AA7D-B7C964EB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175-536A-4CA0-B7F6-4CBE5A2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A25-6C23-42F9-AA37-1710B80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B6D-B28B-4541-981B-CB1A23A8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06080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228-22D2-462E-9ECC-47F9F1D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120" y="406080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35F-3BC3-43D2-99B3-4E7423D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120" y="1752120"/>
            <a:ext cx="3904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060800"/>
            <a:ext cx="8001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283-9E3F-45A6-8A51-E90E2BDF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7D15-6C9B-433C-8F9C-916963650E1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9070-54EC-4CBF-8218-5861B9347E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grapes" descr=""/>
          <p:cNvPicPr/>
          <p:nvPr/>
        </p:nvPicPr>
        <p:blipFill>
          <a:blip r:embed="rId2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8CAD-6910-4D3A-A774-3655C8EC829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01/06/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RDM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3A9-2BA9-4B3A-8D91-2A2F7EA5B4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rapes" descr=""/>
          <p:cNvPicPr/>
          <p:nvPr/>
        </p:nvPicPr>
        <p:blipFill>
          <a:blip r:embed="rId2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66"/>
                </a:solidFill>
                <a:latin typeface="Times New Roman"/>
              </a:rPr>
              <a:t>UFPE - Universidade Federal de Pernambuco</a:t>
            </a:r>
            <a:br>
              <a:rPr sz="3600"/>
            </a:br>
            <a:r>
              <a:rPr b="1" i="1" lang="pt-BR" sz="3200" spc="-1" strike="noStrike">
                <a:solidFill>
                  <a:srgbClr val="ffcc66"/>
                </a:solidFill>
                <a:latin typeface="Times New Roman"/>
              </a:rPr>
              <a:t>CIN - Centro de Informática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9933"/>
                </a:solidFill>
                <a:latin typeface="Times New Roman"/>
              </a:rPr>
              <a:t>Agentes Inteligentes</a:t>
            </a:r>
            <a:br>
              <a:rPr sz="4000"/>
            </a:br>
            <a:r>
              <a:rPr b="0" i="1" lang="pt-BR" sz="4000" spc="-1" strike="noStrike">
                <a:solidFill>
                  <a:srgbClr val="ff9933"/>
                </a:solidFill>
                <a:latin typeface="Tahoma"/>
              </a:rPr>
              <a:t>Recuperação de Dados Multimídi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33412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ristiane Gomes da Silva (cgs@di.ufpe.br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oisés Batista Leal Júnior (mblj@di.ufpe.b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Áudio (Audio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perações de manipul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cc"/>
                </a:solidFill>
                <a:latin typeface="Times New Roman"/>
              </a:rPr>
              <a:t>estática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: cortar, copiar e colar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cc"/>
                </a:solidFill>
                <a:latin typeface="Times New Roman"/>
              </a:rPr>
              <a:t>tempo-real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: playback e recor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perações tempo real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significado apenas com respeito a 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escala do temp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necessidade de expressar relações tempora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5C7-0A2C-47A8-8F69-20AC6D2F92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C8917-4129-422E-BC2C-6C1BFB5EEC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Fala (Speech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la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é normalmente armazenada como á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ud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arece não ser necessário manusear f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ala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como algo diferente que áud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cc"/>
                </a:solidFill>
                <a:latin typeface="Times New Roman"/>
              </a:rPr>
              <a:t>Ex,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formato áudio pode ser usado para recuperação avançada de palavras em documentos fa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orém, 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reconhecimento de f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ala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permit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esquisar por palavras chav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identificar enunciadores específ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885-0044-4742-AEDD-1AB62899C1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45D8E-77D0-4CAD-9087-58A4193875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Fala (Speech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elhorias em reconhecimento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la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permite pesquisar por palavras cha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Identificar enunciador específ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rogresso no campo do processamento da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la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em linguagem natura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odem servir como entrada  para recuperação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Áudi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armazenado e dados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740-8EA7-44D5-95AF-B2DDC4B43D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2B843-16A3-4B5B-B022-5EB281E0EA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Fala (Speech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odem ser gerado como resultado de qu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sses algoritmos necessitam de abstrações compatível com técnicas de indexação tradicional para recuperação de inform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la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utiliza as características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Áudi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e adicionalmente propriedades únicas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ala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CD8-4FDD-4709-802F-0CF38D52DD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9EE7B-48E1-44EB-A4A3-FA39024D21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Vídeo (Video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íde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combina as propriedades do tipo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Áudi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ig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íde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é dependente do temp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perações de manipul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ut, copy e paste  </a:t>
            </a:r>
            <a:r>
              <a:rPr b="0" lang="pt-BR" sz="2800" spc="-1" strike="noStrike">
                <a:solidFill>
                  <a:srgbClr val="ffcc66"/>
                </a:solidFill>
                <a:latin typeface="Arrows1"/>
                <a:ea typeface="Arrows1"/>
              </a:rPr>
              <a:t>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estaticamente manuse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layback e recording </a:t>
            </a:r>
            <a:r>
              <a:rPr b="0" lang="pt-BR" sz="2800" spc="-1" strike="noStrike">
                <a:solidFill>
                  <a:srgbClr val="ffcc66"/>
                </a:solidFill>
                <a:latin typeface="Arrows1"/>
                <a:ea typeface="Arrows1"/>
              </a:rPr>
              <a:t>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 escala do temp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Constituição atômica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íde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SymbolProp BT"/>
                <a:ea typeface="SymbolProp BT"/>
              </a:rPr>
              <a:t>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quadros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íde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Arrows1"/>
                <a:ea typeface="Arrows1"/>
              </a:rPr>
              <a:t>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relacionada a dado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Figu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061-EB37-4C46-B28F-07246F2685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9D5DF-F23A-4681-9B18-22010FB8D1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Vídeo (Video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Recuperação avançada para conteúdo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íde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x. recuperando partes particulares de um vídeo que começa com uma cena especifica cortada que esta próximo a figura d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ropriedades tem um impacto na implementação do tipo de dado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íde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e a manipulação do dado através de um SGB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x. animação e musica geradas por comput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B46-09B5-4E5E-899B-D69BA623B1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0D3EC-CFC3-4DFE-B2FD-C0845D5157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Mídia Gerada (Generated Media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e previamente computadas e armazenadas como dado de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Víde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ou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Áudi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não existe diferença para outro material de vídeo ou áud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e gerados em tempo real durante apresentação, ambos podem ser visto com um tipo especial de tipo de mídia contínu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B3A-DE93-42CB-BEEF-24672E1F11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FED1A-17B0-4C1B-9B36-6AD4DA2F12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Mídia Gerada (Generated Media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Gerar animações e música durante apresentação aumenta a possibilidade de inter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Velocidade de apresentação pode  ser mudada com menos problemas que para áudio ou víde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 processo de geração pode produzir som de tamanho arbitrário ou gerar figuras adicionais para apresentar uma animação em câmara len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0CB-ED23-4990-912E-47F1F149F5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100D0-CDBB-4ED8-A668-CA2CE62F0F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Mídia Gerada (Generated Media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xemplos são mudados no angulo visual  na cena apresentada ou na simulação de manipulação de parâmetros, se uma sequência de animação representa um resultado de simul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A21-4A20-4F60-BA23-63F896AB87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00099-AD2C-4397-9464-4F81A4E465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Relacionamentos Tempora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Documentos Convencionais </a:t>
            </a: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composições estruturadas estaticam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x. texto, gráficos e figur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Documentos Multimídia </a:t>
            </a:r>
            <a:r>
              <a:rPr b="1" lang="pt-BR" sz="32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começam a ser dinâmicos tão logo  incorpore mídia dependente do temp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BA9-AA6A-46A6-B664-B7091C11E6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B1587-0161-48C8-A0C9-A7069BF5F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Rotei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otiv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f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fs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d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Conclusõ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Referências Bibliográf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5FF-8922-4800-9C14-A690519070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46DB-5EB9-4B80-805E-BD7C74586D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Relacionamentos Tempora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Dinamismo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é baseado em um relacionamento temporal entre um componente de mídia contínuo que faz parte da apresent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x.1 “playing back” um 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Vídeo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e um 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Áudio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simultaneamen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x.2 “playing back” dois 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Vídeo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em sucessão ou depois de um intervalo temporal predefinid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B9B-AD89-43AA-9074-A53395FFF5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1DA45-BF7B-49FE-9292-BF3B24199F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Relacionamentos Tempora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Sistemas OO-BD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provê conceitos úteis para manusear estruturas estáticas complex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les estão perdendo a habilidade de lidar herança dinâmica para relacionamento tempo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 modelagem e representação de informação MM depende fortemente da habilidade de refletir relacionamentos tempora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6870-4DEA-4AAD-A4B7-ED47817FB7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0B0AC-5C1B-469C-AAA2-AC4CDB7EDF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Relacionamentos Tempora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formações Estáticas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- apresentada como um completo pedaço de dado, ou gatilho por subsequentes interações de usuários, pedaço após pedaç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 operação com dado independente do tempo não consome tempo e pode ser modelado como uma sequencia de pass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32A-74C9-45B3-BCAF-895AAA16FD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B4A1D-B5EE-4355-AFA5-5E745570B1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Relacionamentos Tempora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presentação de mídia dinâmica é esperada pelo menos algum temp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19240" indent="-2192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Interação do usuário a qualquer tempo pode mudar a apresent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19240" indent="-2192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GBDMM prove algumas noções de paralelismo para lidar com relacionamento tempora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19240" indent="-2192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x. executando uma operação de “playback” em vídeos e áudio simultaneam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19240" indent="-2192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controlar a interação do usuário em paralelo com a apresentação de míd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19240" indent="-2192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 sistema deve também prover a representação de relacionamento temporal e sua composiçã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405-0D4B-4754-89ED-09AC671AB1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F5365-B5BC-4A16-82C9-FAB396F9BB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rquitetura MM-DB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2743200"/>
            <a:ext cx="1676520" cy="167652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1981080"/>
            <a:ext cx="1371600" cy="24386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38640" y="1981080"/>
            <a:ext cx="1371600" cy="24386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38920" y="1828800"/>
            <a:ext cx="1295640" cy="83808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38920" y="3124080"/>
            <a:ext cx="1295640" cy="114300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04840" y="33526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9760" y="3276720"/>
            <a:ext cx="30492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81160" y="36576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30456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52560" y="32004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76240" y="3505320"/>
            <a:ext cx="30492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3440" y="34290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09840" y="25146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33880" y="2666880"/>
            <a:ext cx="30456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28960" y="25146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67240" y="2590920"/>
            <a:ext cx="30492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95840" y="27432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24440" y="2590920"/>
            <a:ext cx="30492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8760" y="3733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 Narrow"/>
              </a:rPr>
              <a:t>Armazenamento de obje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24040" y="2895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 Narrow"/>
              </a:rPr>
              <a:t>Manipulação de obje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62680" y="2895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 Narrow"/>
              </a:rPr>
              <a:t>Manipulação de obje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8664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92929"/>
                </a:solidFill>
                <a:latin typeface="Arial Narrow"/>
              </a:rPr>
              <a:t>Aplic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43880" y="3314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92929"/>
                </a:solidFill>
                <a:latin typeface="Arial Narrow"/>
              </a:rPr>
              <a:t>Dispositivos de míd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41148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66"/>
                </a:solidFill>
                <a:latin typeface="Arial Narrow"/>
              </a:rPr>
              <a:t>Transporte de objet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1148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66"/>
                </a:solidFill>
                <a:latin typeface="Arial Narrow"/>
              </a:rPr>
              <a:t>Apresentação de objet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0574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Arial Narrow"/>
              </a:rPr>
              <a:t>MM-DBMS Serv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133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66"/>
                </a:solidFill>
                <a:latin typeface="Arial Narrow"/>
              </a:rPr>
              <a:t>MM-DBMS Serv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29718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Bullets 5(Korean)"/>
                <a:ea typeface="Bullets 5(Korean)"/>
              </a:rPr>
              <a:t></a:t>
            </a:r>
            <a:r>
              <a:rPr b="1" lang="pt-BR" sz="1400" spc="-1" strike="noStrike">
                <a:solidFill>
                  <a:srgbClr val="ff9966"/>
                </a:solidFill>
                <a:latin typeface="Arial Narrow"/>
              </a:rPr>
              <a:t>  </a:t>
            </a:r>
            <a:r>
              <a:rPr b="1" lang="pt-BR" sz="1400" spc="-1" strike="noStrike">
                <a:solidFill>
                  <a:srgbClr val="0099ff"/>
                </a:solidFill>
                <a:latin typeface="Festive"/>
                <a:ea typeface="Festive"/>
              </a:rPr>
              <a:t></a:t>
            </a:r>
            <a:r>
              <a:rPr b="1" lang="pt-BR" sz="1400" spc="-1" strike="noStrike">
                <a:solidFill>
                  <a:srgbClr val="ff9966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00ff99"/>
                </a:solidFill>
                <a:latin typeface="Festive"/>
                <a:ea typeface="Festive"/>
              </a:rPr>
              <a:t></a:t>
            </a:r>
            <a:r>
              <a:rPr b="1" lang="pt-BR" sz="1400" spc="-1" strike="noStrike">
                <a:solidFill>
                  <a:srgbClr val="ff9966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ffcccc"/>
                </a:solidFill>
                <a:latin typeface="Festive"/>
                <a:ea typeface="Festive"/>
              </a:rPr>
              <a:t></a:t>
            </a:r>
            <a:r>
              <a:rPr b="1" lang="pt-BR" sz="1400" spc="-1" strike="noStrike">
                <a:solidFill>
                  <a:srgbClr val="0099ff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9966ff"/>
                </a:solidFill>
                <a:latin typeface="Monotype Sorts"/>
                <a:ea typeface="Monotype Sorts"/>
              </a:rPr>
              <a:t></a:t>
            </a:r>
            <a:r>
              <a:rPr b="1" lang="pt-BR" sz="1400" spc="-1" strike="noStrike">
                <a:solidFill>
                  <a:srgbClr val="ff9966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ff9966"/>
                </a:solidFill>
                <a:latin typeface="Monotype Sorts"/>
                <a:ea typeface="Monotype Sorts"/>
              </a:rPr>
              <a:t></a:t>
            </a:r>
            <a:r>
              <a:rPr b="1" lang="pt-BR" sz="1400" spc="-1" strike="noStrike">
                <a:solidFill>
                  <a:srgbClr val="ff9966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ffcc66"/>
                </a:solidFill>
                <a:latin typeface="Monotype Sorts"/>
                <a:ea typeface="Monotype Sorts"/>
              </a:rPr>
              <a:t></a:t>
            </a:r>
            <a:r>
              <a:rPr b="1" lang="pt-BR" sz="1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b2b2b2"/>
                </a:solidFill>
                <a:latin typeface="Monotype Sorts"/>
                <a:ea typeface="Monotype Sorts"/>
              </a:rPr>
              <a:t></a:t>
            </a:r>
            <a:r>
              <a:rPr b="1" lang="pt-BR" sz="1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66ffff"/>
                </a:solidFill>
                <a:latin typeface="Monotype Sorts"/>
                <a:ea typeface="Monotype Sorts"/>
              </a:rPr>
              <a:t></a:t>
            </a:r>
            <a:r>
              <a:rPr b="1" lang="pt-BR" sz="1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pt-BR" sz="1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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962520"/>
            <a:ext cx="5562360" cy="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429000"/>
            <a:ext cx="0" cy="53352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429000"/>
            <a:ext cx="0" cy="53352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37720" y="2362320"/>
            <a:ext cx="11430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37720" y="1905120"/>
            <a:ext cx="1143000" cy="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8622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66"/>
                </a:solidFill>
                <a:latin typeface="Arial Narrow"/>
              </a:rPr>
              <a:t>d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3241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 Narrow"/>
              </a:rPr>
              <a:t>control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2040" y="34290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200400"/>
            <a:ext cx="30456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657600"/>
            <a:ext cx="30456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5812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3505320"/>
            <a:ext cx="30456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33526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276720"/>
            <a:ext cx="30492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733920"/>
            <a:ext cx="30492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3505320"/>
            <a:ext cx="30456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35812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6668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514600"/>
            <a:ext cx="30456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3657600"/>
            <a:ext cx="30456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2004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3526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124080"/>
            <a:ext cx="30456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429000"/>
            <a:ext cx="30456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31240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65760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3276720"/>
            <a:ext cx="304920" cy="7596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33526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581280"/>
            <a:ext cx="304920" cy="7632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3962520"/>
            <a:ext cx="0" cy="9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257800" y="3962520"/>
            <a:ext cx="533520" cy="9144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886200" y="4876920"/>
            <a:ext cx="1371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276360" y="3962520"/>
            <a:ext cx="609480" cy="9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743200" y="3962520"/>
            <a:ext cx="533520" cy="9144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133360" y="4876920"/>
            <a:ext cx="609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791320" y="2209680"/>
            <a:ext cx="1752480" cy="175284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2209680"/>
            <a:ext cx="1522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852880" y="3966840"/>
            <a:ext cx="547560" cy="90972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772400" y="3962520"/>
            <a:ext cx="0" cy="9144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00800" y="4876920"/>
            <a:ext cx="1371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3A8-F029-4848-BE38-A1A1F3A7AE4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69438-3633-49E9-A40C-E9AC679DCE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cc66"/>
                </a:solidFill>
                <a:latin typeface="Times New Roman"/>
              </a:rPr>
              <a:t>Meta Banco de Dados e Agente de busca para Acesso a Banco de Dados Multimídia na Internet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436-FFFE-44B0-8EB2-DC80E164B2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97ED5-97B4-478D-B859-8AC4EEB0AD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cc66"/>
                </a:solidFill>
                <a:latin typeface="Times New Roman"/>
              </a:rPr>
              <a:t>Arquitetura do sistema de Recuperação e Gerenciamento de Dados Multimídia baseados na Web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Meta%20-%20figura%2001%20-%20a" descr=""/>
          <p:cNvPicPr/>
          <p:nvPr/>
        </p:nvPicPr>
        <p:blipFill>
          <a:blip r:embed="rId1"/>
          <a:stretch/>
        </p:blipFill>
        <p:spPr>
          <a:xfrm>
            <a:off x="914400" y="1384200"/>
            <a:ext cx="7620120" cy="48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C6B-F33E-4F33-89AD-94E95FBC81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9AF85-8407-47D8-87BD-0AF16AF8F4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rojeto do Meta B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D72-F59B-40B4-A311-84DACFC0170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38F1D-32D6-4683-AA34-084DB78A55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Grupamento de Bases de Dad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91F-BBEE-48B5-AF61-B799C0A4DB7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A3761-ADE4-426A-A433-8DD6B9E93C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axa de Similaridade Significati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Meta%20-%20formula%2001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2438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93640" y="3657600"/>
            <a:ext cx="855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Ond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SimRate(i,t): A taxa de similaridade entre a imagem i e o template t, onde      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0.0 &lt;= SimRate(i,t) &lt;= 1.0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th: A similarity threshold, onde 0.0 &lt;= th&lt;=1.0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NuImg(db,t,th): número de imagens semelhantes de um banco de dados db,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relativa ao template t e a similarity threshold t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Mean(db,t,th): A taxa de similaridade Significativa de imagens semelhantes no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banco de dados db, relativo ao template t e a similarity threshold t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18D-8284-4C7D-8CDE-A81872404D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D5E87-6B04-4157-8464-31C24FE3B2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Informação MM - MultiMídia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Incorporaçã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de novos tipos de dados como áudio, vídeo e gráficos, imagens, (pictures), fala, musica, animaçã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junto com dados alfanuméricos de computação convenc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qualquer composição arbitrária desses tipos de d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ídias continuas: áudio, animaçã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9A0-6E96-4E0E-B7A9-88D84AEF3A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9605E-2575-4BFC-914B-41229FA471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Desvio Padrão de Taxas de Similaridad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Meta%20-%20formula%200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686800" cy="1765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93640" y="3581280"/>
            <a:ext cx="85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nd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Var(db,t,th): O Desvio padrão da taxa de similaridade de imagens semelhantes no banco de dados db, relativo ao template t e a similarity threshold t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1C8-29D6-4694-98F3-0FD8FE47BA4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8368D-6AB5-4227-A78C-1A7FA4B1A9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Condição para seleção de um BD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Meta%20-%20formula%2003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686800" cy="12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314-DBA7-4215-B2FE-C4715D2662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CDF9A-E58C-4864-8599-E3B6D42EE5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rganização dos Templ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999-AED8-407A-A649-57634BB29B2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2572B-707F-4DB3-8383-4881701650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(a)Agrupamento Hierárquico de uma configuração  de image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Meta%20-%20figura%2002%20-%20a" descr=""/>
          <p:cNvPicPr/>
          <p:nvPr/>
        </p:nvPicPr>
        <p:blipFill>
          <a:blip r:embed="rId1"/>
          <a:stretch/>
        </p:blipFill>
        <p:spPr>
          <a:xfrm>
            <a:off x="1752480" y="1281240"/>
            <a:ext cx="5105520" cy="3889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548640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(b)Grupamento de ícon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F33-CCB7-4575-83D6-DBDA871BAD8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6BFC8-14E5-40BA-A890-8E459F5DBF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Visão conceitual do meta banco de dad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Meta%20-%20figura%2003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324840" cy="59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CC3-464B-470F-9C15-4D9AEF20778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7FD2F-8883-4C0B-B0FA-BB74ED1E9A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gente de Busc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3B0-EAAF-47E4-B51A-B58B48A1A6A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F6CCF-694D-4275-868E-5D4F89A335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Comparações de Semelhança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Meta%20-%20figura%2004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43556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926-06C0-49B5-8310-59B0C676CBC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53029-AEFD-476D-BE6B-0718A37EC6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Medida Significati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404-2A35-440D-BEFF-79AD62BACC4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BA7B2-14A5-4E37-8B3A-61BFC73B36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Seleção de exempl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99072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Distribuição de exempl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7524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tervalo Significativ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7" name="Meta%20-%20formula%2004%20e%2005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8153280" cy="13701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411480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amanho dos exempl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6D3-352F-4590-BD62-7E7E9AF02F3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31186-7506-455F-9987-E3468CE8D6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Algoritmo de Classificação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Meta%20-%20formula%2006%20a%2011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686800" cy="34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343-3D5B-4D39-AB27-DBFC673107A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FD5E2-899A-49CA-B979-84BCB6C405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cc66"/>
                </a:solidFill>
                <a:latin typeface="Times New Roman"/>
              </a:rPr>
              <a:t>Dados MM x Dados convenciona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Complexidade cresc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semân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omputaciona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spaço de armazenam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tempo de processam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Necessidade de técnic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de compressão e as vezes a sincronizaçã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perações complex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ara ambos sua interpretação e sua manipulaçã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E73-CDAA-40D2-BAC4-EF47EC6476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EB3CF-468A-45D4-8739-8295F47B5A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Intervalos Significativ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Meta%20-%20tabela%200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010640" cy="3756240"/>
          </a:xfrm>
          <a:prstGeom prst="rect">
            <a:avLst/>
          </a:prstGeom>
          <a:ln w="0">
            <a:noFill/>
          </a:ln>
        </p:spPr>
      </p:pic>
      <p:pic>
        <p:nvPicPr>
          <p:cNvPr id="233" name="Meta%20-%20tabela%2002" descr=""/>
          <p:cNvPicPr/>
          <p:nvPr/>
        </p:nvPicPr>
        <p:blipFill>
          <a:blip r:embed="rId2"/>
          <a:stretch/>
        </p:blipFill>
        <p:spPr>
          <a:xfrm>
            <a:off x="1447920" y="4191120"/>
            <a:ext cx="655308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982-DE0E-49B4-B51F-894E1A07EFC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38477-8CFB-4350-9E0D-5CBFE277B6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Tipos de Interesses de Usuári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Meta%20-%20formula%2012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381880" cy="920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81600" y="17524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Todos os Bancos de Dad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7" name="Meta%20-%20formula%2012%20-%20a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8381880" cy="37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037-B867-43E8-B459-28129BB5C58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4815A-A303-42B2-B972-02CEC572C9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Tipos de Interesses de Usuári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1720" y="160020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lguns Bancos de Dados relevant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0" name="Meta%20-%20formula%2013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458200" cy="708120"/>
          </a:xfrm>
          <a:prstGeom prst="rect">
            <a:avLst/>
          </a:prstGeom>
          <a:ln w="0">
            <a:noFill/>
          </a:ln>
        </p:spPr>
      </p:pic>
      <p:pic>
        <p:nvPicPr>
          <p:cNvPr id="241" name="Meta%20-%20formula%2013%20-%20a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8458200" cy="43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FEF-2F5C-4332-9FC8-37BAFA9BE92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43A56-3D10-4728-B62C-EF30C00AE6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Tipos de Interesses de Usuári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0640" y="1676520"/>
            <a:ext cx="47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s mais relevantes Bancos de Dad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4" name="Meta%20-%20formula%2014%20-%20a" descr=""/>
          <p:cNvPicPr/>
          <p:nvPr/>
        </p:nvPicPr>
        <p:blipFill>
          <a:blip r:embed="rId1"/>
          <a:stretch/>
        </p:blipFill>
        <p:spPr>
          <a:xfrm>
            <a:off x="533520" y="4495680"/>
            <a:ext cx="8381880" cy="561960"/>
          </a:xfrm>
          <a:prstGeom prst="rect">
            <a:avLst/>
          </a:prstGeom>
          <a:ln w="0">
            <a:noFill/>
          </a:ln>
        </p:spPr>
      </p:pic>
      <p:pic>
        <p:nvPicPr>
          <p:cNvPr id="245" name="Meta%20-%20formula%2014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8381880" cy="121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D3F-5C37-4E09-B671-BBFD8C22CA8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3546F-3D4C-470D-BA81-1386AD86FA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rocura da Que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DA4-5988-4958-846A-5074090214B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5DB52-4D95-42B7-A719-E59B5BB74E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xperimen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681-C50F-4E8B-BF22-CE3124C2642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427EA-3F6C-4353-AE1F-A6E8325B3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 implementação do Siste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5280" y="1600200"/>
            <a:ext cx="847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 abordagem do projeto para o acesso ao ambiente baseado na Web envolv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Um Browser capaz de tratar código Java, aceitando uma query introduzida pelo usuário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Uma interface gráfica applet java; 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Uma query do usuário que está sob a forma de uma imag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4D2-298E-44D4-AA84-B94F894BA43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93088-F2E6-4270-B0C0-81615D9CEA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 implementação do Siste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280" y="1828800"/>
            <a:ext cx="847872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ssa query, em forma de imagem, é enviada para o programa metaservidor que está rodando no servidor We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s resultados (sites de bancos de dados selecionados) são apresentados ao usuário para que ele os selecion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s resultados finais das queries (nomes das imagens recuperadas) são também apresentadas ao usuário e a imagem desejada pode ser diretamente recuperada de um banco de dados específ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2E8-291D-4805-909B-96528263741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C2DFC-E561-4BFF-887C-881376EA92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Metaservi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5280" y="1066680"/>
            <a:ext cx="847872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 qualquer momento que chegar uma query, o metaservidor deve enviá-la seletivamente para os bancos de dados relevantes, para uma busca efici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Dada uma query, o metaservidor rodará uma busca local procurando padrões de casamento com templa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alcula o potencial de cada base de dados remota através do cálculo do rank entre as bases de dados, usando a abordagem do número de imagens semelhantes para os templates “casados”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Roteia a query para os N bancos de dados melhor classificado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C21-C5FE-4FFD-8871-88092862B48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88572-71BB-4067-B5B8-50EEE48606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Metaservi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5280" y="1066680"/>
            <a:ext cx="847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Funcionalidad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Módulo de Registro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- Responsável para coletar e atualizar informações sobre os banco de dados remot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anda cada template para todas as bases mencionadas no arquivo de configurações e armazena as informações recuperadas nos arquivos que serão utilizados pelo módulo de seleçã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ADA-EBE2-47F6-80B1-E9F2407F777E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D46BA-48BD-429E-B813-A63C4A8AC0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Tipos de Dad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Imagem (Imag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Gráficos (Graphic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Texto (Text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Áudio (Audi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Fala (Speec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Vídeo (Vide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ídia Gerada (Generated Medi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65C-16C9-488F-A98F-4E91A99386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E4FA1-25A6-495E-AD65-36F04332A6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Metaservi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5280" y="1447920"/>
            <a:ext cx="847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Funcionalidad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Módulo de Seleção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- Responsável pelas tomadas de decisões baseadas nas informações do metabancodedados, e pelo roteamento da query para as bases remota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E2A-8251-41F6-BD99-9A20304E29A4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449DC-D56C-47E6-99C2-7C766C8D30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Metaservi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5280" y="1143000"/>
            <a:ext cx="847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Toma dois arquivos de configuração como entrada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O arquivo de configuração de template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que especifica a localização dos dados de imagem e a localização na qual a informação sobre o template deveria ser colocada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O arquivo de configuração de bancos de dado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que contém dados sobre a localização (incluindo especificações de host e porta) das bases remot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DA1-A70D-42B6-9E76-3BA2629611EE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06014-A82A-48EC-87ED-F42B01745B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Metaservi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5280" y="1371600"/>
            <a:ext cx="847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Passo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Na inicialização, o módulo de registro lê informações do arquivo de configurações e envia os dados das imagens correspondentes a cada template para todas as bases remot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s bancos de dados retornam os resultados baseados nas imagens que casam com esses templa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 módulo de registro armazena esses resultados em arquivos correspondentes a cada templ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C77-D8BA-4273-9BA8-B4F905BDDBE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5501B-2CC5-43F7-8A5B-BA34E63CB6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Metaservi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5280" y="1066680"/>
            <a:ext cx="847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Passo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 módulo de seleção toma decisões baseadas nas informações coletadas pelo módulo de registr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rmazena as informações dos templates numa hashe table e as informações dos bancos num array e espera (escuta) pelas requisições dos usuári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Quando chegar uma query de usuário, é executada uma busca local para achar os templates que combinam. Isto é usado para procurar por informações na hash table sobre esses templates nos diferentes sites de banco de dad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EB5-F006-45CF-B4B2-A237E242304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6EC3A-21C0-4B05-813A-3207C8E576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Metaservi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5280" y="1066680"/>
            <a:ext cx="847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Passo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s bancos de dados são classificados e a query é enviada para os N melhores bancos de dad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mbos os módulos suportam configurações dinâmicas. As bases de dados e os templates podem ser adicionados dinamicamente através da modificação dos arquivos de configuraçã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xistem programas servidores individuais rodando nos sites remotos para ajudar o metaservidor a executar a recuperação da imag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834-B659-4FD8-A4E3-318ADF7205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54C9A-1A4A-4B72-B4E0-9C38F6EDF0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Metaservido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280" y="1752480"/>
            <a:ext cx="847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Passo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 servidor de informações gera informações sobre os templates individuais passados pelo metaservido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O servidor de banco de dados recupera as imagens que casam com a query do usuário e as envia de volta para o metaservid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680-3D2E-4ECB-93DA-2003D4E8F009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10464-CF9E-4191-8936-A28B843B31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Um experimen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5280" y="914400"/>
            <a:ext cx="84787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Um teste com três banco de dados foi construído a partir da Brodatz Collection, da base VisTex obtida do laboratório de mídia do MIT, e de uma base geográfica contendo imagens de satéli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Imagens de ícones são selecionadas randomicamente de cortes de image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Foram introduzidos fatores de análise de efetividade da abordagem proposta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precisão da seleção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- Todo banco de dados selecionado deveria realmente conter a informação relevante; 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33"/>
                </a:solidFill>
                <a:latin typeface="Times New Roman"/>
              </a:rPr>
              <a:t>recall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- Todos os sites de banco de dados que contêm a informação relevante deveria ser selecionado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CB8-864B-4B98-95BC-EADE29D357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2BB3A-8234-4DCD-96AC-CB48FBC64B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Um experimen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7621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Vamos assumir qu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2" name="Meta%20-%20formula%2015" descr=""/>
          <p:cNvPicPr/>
          <p:nvPr/>
        </p:nvPicPr>
        <p:blipFill>
          <a:blip r:embed="rId1"/>
          <a:stretch/>
        </p:blipFill>
        <p:spPr>
          <a:xfrm>
            <a:off x="457200" y="1352520"/>
            <a:ext cx="8686800" cy="1008000"/>
          </a:xfrm>
          <a:prstGeom prst="rect">
            <a:avLst/>
          </a:prstGeom>
          <a:ln w="0">
            <a:noFill/>
          </a:ln>
        </p:spPr>
      </p:pic>
      <p:pic>
        <p:nvPicPr>
          <p:cNvPr id="273" name="Meta%20-%20formula%2016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80880" y="28195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, qu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72428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Vamos assumir qu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all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, P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some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e P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more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ssumem os valores de precisão; 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pt-BR" sz="1600" spc="-1" strike="noStrike">
                <a:solidFill>
                  <a:srgbClr val="ffffcc"/>
                </a:solidFill>
                <a:latin typeface="Times New Roman"/>
              </a:rPr>
              <a:t>all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, R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some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e R</a:t>
            </a:r>
            <a:r>
              <a:rPr b="0" lang="pt-BR" sz="1400" spc="-1" strike="noStrike">
                <a:solidFill>
                  <a:srgbClr val="ffffcc"/>
                </a:solidFill>
                <a:latin typeface="Times New Roman"/>
              </a:rPr>
              <a:t>more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ssumem os valores de rec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CE2-6A74-4D43-8BEC-03FC8676C64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DC839-2ACE-4878-AF1F-D1F2E3FE5F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Referências Bibliográfic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[1]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Thomas C, Rakow, Erich J. Neuhold and Michael Loh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Multimedia Database Systems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: The Notions and the 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[2]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Wendy Chang+, Deepak Murthy, Yousong Mei+, and Aidong Zha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ffcc"/>
                </a:solidFill>
                <a:uFillTx/>
                <a:latin typeface="Times New Roman"/>
              </a:rPr>
              <a:t>Metadatabase and Search Agent for Multimedia Database: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Access over Inter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D47-3F0C-4E90-8F8E-331082613CB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1E161-E806-485A-BBD6-AF8E707316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Imagem (Imag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perações de manipul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ortar e colar (clipp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xpandir e reduzir (scal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orreção cromá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omposição de várias fontes de figur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Representação abstrata dessas imagen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no SGBDM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ara usuários finais e aplicaçõ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tendem a ocupar </a:t>
            </a:r>
            <a:r>
              <a:rPr b="0" i="1" lang="pt-BR" sz="2800" spc="-1" strike="noStrike">
                <a:solidFill>
                  <a:srgbClr val="ffffcc"/>
                </a:solidFill>
                <a:latin typeface="Times New Roman"/>
              </a:rPr>
              <a:t>muito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espaç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67D-D6B6-4D5E-B984-85BF3FFB38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0C5B1-675B-4518-BBC6-DCF5D9E468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Gráficos (Graphics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Gráficos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de computado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geração de desenhos e outras image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baseada em uma descrição formal, programas ou estruturas de d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lementos típ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linhas, regiões, elementos texto (legendas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Representação de objeto gráfico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requer estruturas de dados complex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orém independentes do temp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A81-067F-4D86-9E96-5A54FFD0AE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F42E5-5BF4-4576-944A-95C976E986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Texto (Text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Um texto não é apenas um stringã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ossui características estruturais própria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lementos estruturais padrões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titul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aut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autor afili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resu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sessõ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subseçõ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parágraf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om repetições e aninham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1CE-F813-4B56-AA1C-89DE2F626B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04661-0F33-46A5-8B08-B66379E350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Texto (Text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lementos estrutura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são marcados na forma (ex, titulo em fonte maior e negrito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indicam elementos semântic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orém essas duas associações sã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muitos para mui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ruidosas (para cada regra, N exceçõ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Idealmente, em um SGBDMM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um texto é modelado por N camp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ada um correspondendo a um elemento estrutu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requer técnicas de 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Extração de Informação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e Processamento de Linguagem Natu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401-E5C2-4DBD-AC8B-E7B4FDE6C5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04A8E-A53A-4CE7-8844-288BEAF802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2T01:37:17Z</dcterms:created>
  <dc:creator>Cris</dc:creator>
  <dc:description/>
  <dc:language>en-US</dc:language>
  <cp:lastModifiedBy>Departamento de Informática</cp:lastModifiedBy>
  <cp:lastPrinted>2000-06-05T22:28:47Z</cp:lastPrinted>
  <dcterms:modified xsi:type="dcterms:W3CDTF">2000-06-06T21:29:32Z</dcterms:modified>
  <cp:revision>85</cp:revision>
  <dc:subject/>
  <dc:title>Recuperação de Dados Multimídia </dc:title>
</cp:coreProperties>
</file>