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15.jpeg" ContentType="image/jpeg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6.wmf" ContentType="image/x-wmf"/>
  <Override PartName="/ppt/media/image18.png" ContentType="image/png"/>
  <Override PartName="/ppt/media/image17.png" ContentType="image/png"/>
  <Override PartName="/ppt/media/image20.wmf" ContentType="image/x-wmf"/>
  <Override PartName="/ppt/media/image21.png" ContentType="image/png"/>
  <Override PartName="/ppt/media/image19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688138" cy="99647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9845-964A-48D1-B930-CF7A7C1D4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2215-BBE2-42C1-8259-D70A03962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4CDC-A483-4AE7-98EE-9B858AF21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9861-AD77-46D6-9C56-991AA54AD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BEFDB-E580-4864-ACC1-4524609A1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D2E6B-0658-42F1-B033-BE98FF474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AFD29-8AA9-4106-8647-1E707B712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EAABD-D587-474C-A3F7-432196DA2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9C1E5-28A8-45A0-90D6-1F43ED656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4CF8E-6584-47B6-9C4C-08431BDD0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9F06E-8C56-4298-BEBE-E450940E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7ACA-D463-462C-86F8-E969E20A8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0AF08-CE20-453D-AD01-91AE9599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15A0B-B855-4EF2-A9E2-F16F44F8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FE742-176C-4ECB-A665-46CEB3A65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EF6F5-2ABA-480F-85F5-130C105C4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E133B-1418-4888-A9B3-A66052A04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4BB0-0623-4C05-BDA3-00265ECCF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728B-86CB-48DF-8F53-4E17FE881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CE8D-B02E-4884-959C-9A2D7AF35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64D9-10FD-453B-B953-D79CB4523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ED10-3C41-421F-8B28-A7183579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8B6B-3D3C-4A01-A16A-5D71012F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11B2-E4B7-4E9B-87E5-0DB34808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A441F-17C4-4129-A47B-D3522F63E16B}" type="slidenum"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3390C-E5EC-4441-B450-939069D3CA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99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99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slide" Target="slide19.xm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oleObject" Target="../embeddings/oleObject1.bin"/><Relationship Id="rId8" Type="http://schemas.openxmlformats.org/officeDocument/2006/relationships/image" Target="../media/image12.png"/><Relationship Id="rId9" Type="http://schemas.openxmlformats.org/officeDocument/2006/relationships/image" Target="../media/image8.wmf"/><Relationship Id="rId10" Type="http://schemas.openxmlformats.org/officeDocument/2006/relationships/image" Target="../media/image8.wmf"/><Relationship Id="rId11" Type="http://schemas.openxmlformats.org/officeDocument/2006/relationships/image" Target="../media/image7.wmf"/><Relationship Id="rId12" Type="http://schemas.openxmlformats.org/officeDocument/2006/relationships/image" Target="../media/image6.wmf"/><Relationship Id="rId13" Type="http://schemas.openxmlformats.org/officeDocument/2006/relationships/image" Target="../media/image6.wmf"/><Relationship Id="rId14" Type="http://schemas.openxmlformats.org/officeDocument/2006/relationships/image" Target="../media/image13.wmf"/><Relationship Id="rId15" Type="http://schemas.openxmlformats.org/officeDocument/2006/relationships/image" Target="../media/image14.wmf"/><Relationship Id="rId16" Type="http://schemas.openxmlformats.org/officeDocument/2006/relationships/image" Target="../media/image7.wmf"/><Relationship Id="rId17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AGENTES MÓVEIS</a:t>
            </a: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99"/>
                </a:solidFill>
                <a:latin typeface="Tahoma"/>
              </a:rPr>
              <a:t>Professores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99"/>
                </a:solidFill>
                <a:latin typeface="Tahoma"/>
              </a:rPr>
              <a:t>Geber Ramalho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99"/>
                </a:solidFill>
                <a:latin typeface="Tahoma"/>
              </a:rPr>
              <a:t>Jacques Robin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25" name="cin" descr=""/>
          <p:cNvPicPr/>
          <p:nvPr/>
        </p:nvPicPr>
        <p:blipFill>
          <a:blip r:embed="rId1"/>
          <a:stretch/>
        </p:blipFill>
        <p:spPr>
          <a:xfrm>
            <a:off x="533520" y="5611680"/>
            <a:ext cx="3757320" cy="124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CONTEÚDO</a:t>
            </a: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Motivação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xemplos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Modelo Computacional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lataformas de Agentes Móveis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xemplos e Comparações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CONTEÚDO</a:t>
            </a: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Tahoma"/>
              </a:rPr>
              <a:t>Motivação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Tahoma"/>
              </a:rPr>
              <a:t>Exemplos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Modelo Computacional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Tahoma"/>
              </a:rPr>
              <a:t>Plataformas de Agentes Móveis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Tahoma"/>
              </a:rPr>
              <a:t>Exemplos e Comparações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aeaea"/>
                </a:solidFill>
                <a:latin typeface="Tahoma"/>
              </a:rPr>
              <a:t>Modelo Computacional</a:t>
            </a:r>
            <a:endParaRPr b="0" lang="en-US" sz="4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O agente móvel compõe-se de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arte móve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mbiente computacional - agente estático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oferece os serviços e recursos para a parte móvel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ambiente de execução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Mediando esses dois elementos há um ponto de serviço ou conceito local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aeaea"/>
                </a:solidFill>
                <a:latin typeface="Tahoma"/>
              </a:rPr>
              <a:t>Modelo Computacional</a:t>
            </a:r>
            <a:endParaRPr b="0" lang="en-US" sz="4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" y="2590920"/>
            <a:ext cx="3657600" cy="251460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0880" y="3251160"/>
            <a:ext cx="3353040" cy="1600200"/>
          </a:xfrm>
          <a:prstGeom prst="rect">
            <a:avLst/>
          </a:prstGeom>
          <a:solidFill>
            <a:srgbClr val="3366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3600" y="4191120"/>
            <a:ext cx="315108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istemas de objetos móvei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4280" y="3581280"/>
            <a:ext cx="287352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mbiente computacional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11360" y="2666880"/>
            <a:ext cx="86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ahoma"/>
              </a:rPr>
              <a:t>HOST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257800" y="2590920"/>
            <a:ext cx="3657600" cy="251460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10080" y="3251160"/>
            <a:ext cx="3353040" cy="1600200"/>
          </a:xfrm>
          <a:prstGeom prst="rect">
            <a:avLst/>
          </a:prstGeom>
          <a:solidFill>
            <a:srgbClr val="3366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482800" y="4191120"/>
            <a:ext cx="315108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istemas de objetos móvei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613480" y="3581280"/>
            <a:ext cx="287352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mbiente computacional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640560" y="2666880"/>
            <a:ext cx="86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ahoma"/>
              </a:rPr>
              <a:t>HOST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3429000"/>
            <a:ext cx="1218960" cy="121932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cc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ahoma"/>
              </a:rPr>
              <a:t>Rede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Modelo Computacional</a:t>
            </a: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914400" y="2743200"/>
            <a:ext cx="2286000" cy="213372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gente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óvel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505320" y="3657600"/>
            <a:ext cx="609480" cy="15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2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505320" y="3886200"/>
            <a:ext cx="60948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2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19720" y="2133720"/>
            <a:ext cx="3733560" cy="3547800"/>
          </a:xfrm>
          <a:prstGeom prst="rect">
            <a:avLst/>
          </a:prstGeom>
          <a:noFill/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Comportamento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Estado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Atributo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9" name="">
            <a:hlinkClick r:id="rId3" action="ppaction://hlinksldjump"/>
          </p:cNvPr>
          <p:cNvSpPr/>
          <p:nvPr/>
        </p:nvSpPr>
        <p:spPr>
          <a:xfrm>
            <a:off x="8077320" y="594360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11868" y="3794"/>
                </a:moveTo>
                <a:lnTo>
                  <a:pt x="25881" y="10800"/>
                </a:lnTo>
                <a:lnTo>
                  <a:pt x="11868" y="17806"/>
                </a:lnTo>
                <a:close/>
              </a:path>
            </a:pathLst>
          </a:custGeom>
          <a:solidFill>
            <a:srgbClr val="cbc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Modelo Computacional</a:t>
            </a: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omportamento - código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xecutar tarefas complexas e tediosas;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xecutar de forma autônoma por longos períodos de tempo;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er ativado de um computador móvel e retornar em outra conexão;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Interagir com agentes de outros usuários;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Modelo Computacional</a:t>
            </a: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omportamento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cessar recursos e dados em máquinas remotas;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Coletar informações na rede;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Facilitar a atualização de programas servidores;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Monitorar o estado de um sistema ou de uma base de dados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Modelo Computacional</a:t>
            </a: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380880" y="1684440"/>
          <a:ext cx="8382240" cy="499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84440"/>
                    <a:ext cx="8382240" cy="49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Modelo Computacional</a:t>
            </a: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99"/>
                </a:solidFill>
                <a:latin typeface="Tahoma"/>
              </a:rPr>
              <a:t>Para dar suporte ao comportamento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Tahoma"/>
              </a:rPr>
              <a:t>Autonomia de movimentação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9"/>
                </a:solidFill>
                <a:latin typeface="Tahoma"/>
              </a:rPr>
              <a:t>itinerário determinado pelo estado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Tahoma"/>
              </a:rPr>
              <a:t>Serialização de estado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Tahoma"/>
              </a:rPr>
              <a:t>Redirecionamento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9"/>
                </a:solidFill>
                <a:latin typeface="Tahoma"/>
              </a:rPr>
              <a:t>de chamadas e mensagens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Tahoma"/>
              </a:rPr>
              <a:t>Funcionalidade dinâmica do agente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9"/>
                </a:solidFill>
                <a:latin typeface="Tahoma"/>
              </a:rPr>
              <a:t>carregam. dinâmico em diversas plataformas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aeaea"/>
                </a:solidFill>
                <a:latin typeface="Tahoma"/>
              </a:rPr>
              <a:t>Modelo Computacional</a:t>
            </a:r>
            <a:endParaRPr b="0" lang="en-US" sz="4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0099"/>
                </a:solidFill>
                <a:uFillTx/>
                <a:latin typeface="Tahoma"/>
                <a:hlinkClick r:id="rId1" action="ppaction://hlinksldjump"/>
              </a:rPr>
              <a:t>Atributos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Localização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2" marL="1040040" indent="-207720">
              <a:spcBef>
                <a:spcPts val="601"/>
              </a:spcBef>
              <a:buClr>
                <a:srgbClr val="0000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onde se encontra atualmente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Identificação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2" marL="1040040" indent="-207720">
              <a:spcBef>
                <a:spcPts val="601"/>
              </a:spcBef>
              <a:buClr>
                <a:srgbClr val="0000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pode ser um número ou um nome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utoridade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2" marL="1040040" indent="-207720">
              <a:spcBef>
                <a:spcPts val="601"/>
              </a:spcBef>
              <a:buClr>
                <a:srgbClr val="0000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identifica quem o agente representa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ermissões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2" marL="1040040" indent="-207720">
              <a:spcBef>
                <a:spcPts val="601"/>
              </a:spcBef>
              <a:buClr>
                <a:srgbClr val="0000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operações e recursos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2" marL="10400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PLATAFORMAS PARA 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AGENTES MÓVEIS</a:t>
            </a: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99"/>
                </a:solidFill>
                <a:latin typeface="Tahoma"/>
              </a:rPr>
              <a:t>Grupo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99"/>
                </a:solidFill>
                <a:latin typeface="Tahoma"/>
              </a:rPr>
              <a:t>Jorge Luiz de Castro e Silv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99"/>
                </a:solidFill>
                <a:latin typeface="Tahoma"/>
              </a:rPr>
              <a:t>Mônica Valeria Caldas de Aguiar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Modelo Computacional</a:t>
            </a: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888840" y="1720800"/>
            <a:ext cx="7290000" cy="4744080"/>
            <a:chOff x="888840" y="1720800"/>
            <a:chExt cx="7290000" cy="4744080"/>
          </a:xfrm>
        </p:grpSpPr>
        <p:sp>
          <p:nvSpPr>
            <p:cNvPr id="223" name=""/>
            <p:cNvSpPr/>
            <p:nvPr/>
          </p:nvSpPr>
          <p:spPr>
            <a:xfrm>
              <a:off x="5918040" y="1765440"/>
              <a:ext cx="2260800" cy="4254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88840" y="1765440"/>
              <a:ext cx="2260800" cy="4254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151680" y="5297400"/>
              <a:ext cx="1898640" cy="4953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149880" y="4950000"/>
              <a:ext cx="381240" cy="3459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912000" y="4950000"/>
              <a:ext cx="380880" cy="3459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69080" y="4950000"/>
              <a:ext cx="381240" cy="3459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154560" y="5295960"/>
              <a:ext cx="37152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157800" y="5295960"/>
              <a:ext cx="3636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157800" y="5300640"/>
              <a:ext cx="3636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919920" y="5294160"/>
              <a:ext cx="37152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916680" y="5300640"/>
              <a:ext cx="37008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677000" y="5295960"/>
              <a:ext cx="36828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677000" y="5299200"/>
              <a:ext cx="36684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075360" y="5386320"/>
              <a:ext cx="1898640" cy="4953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073920" y="5038560"/>
              <a:ext cx="380880" cy="3463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835680" y="5038560"/>
              <a:ext cx="381240" cy="3463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593120" y="5038560"/>
              <a:ext cx="380880" cy="3463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078600" y="5384880"/>
              <a:ext cx="37152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081840" y="5384880"/>
              <a:ext cx="36324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086520" y="5389560"/>
              <a:ext cx="3636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848640" y="5383080"/>
              <a:ext cx="36648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845400" y="5389560"/>
              <a:ext cx="36828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601040" y="5384880"/>
              <a:ext cx="36828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1040" y="5388120"/>
              <a:ext cx="37152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6070680" y="2082960"/>
              <a:ext cx="1980720" cy="2779920"/>
              <a:chOff x="6070680" y="2082960"/>
              <a:chExt cx="1980720" cy="2779920"/>
            </a:xfrm>
          </p:grpSpPr>
          <p:grpSp>
            <p:nvGrpSpPr>
              <p:cNvPr id="248" name=""/>
              <p:cNvGrpSpPr/>
              <p:nvPr/>
            </p:nvGrpSpPr>
            <p:grpSpPr>
              <a:xfrm>
                <a:off x="6146640" y="2082960"/>
                <a:ext cx="1904760" cy="2703960"/>
                <a:chOff x="6146640" y="2082960"/>
                <a:chExt cx="1904760" cy="2703960"/>
              </a:xfrm>
            </p:grpSpPr>
            <p:grpSp>
              <p:nvGrpSpPr>
                <p:cNvPr id="249" name=""/>
                <p:cNvGrpSpPr/>
                <p:nvPr/>
              </p:nvGrpSpPr>
              <p:grpSpPr>
                <a:xfrm>
                  <a:off x="6148080" y="3947400"/>
                  <a:ext cx="1898280" cy="839520"/>
                  <a:chOff x="6148080" y="3947400"/>
                  <a:chExt cx="1898280" cy="839520"/>
                </a:xfrm>
              </p:grpSpPr>
              <p:sp>
                <p:nvSpPr>
                  <p:cNvPr id="250" name=""/>
                  <p:cNvSpPr/>
                  <p:nvPr/>
                </p:nvSpPr>
                <p:spPr>
                  <a:xfrm flipV="1">
                    <a:off x="6148080" y="3947040"/>
                    <a:ext cx="1898280" cy="495000"/>
                  </a:xfrm>
                  <a:prstGeom prst="rect">
                    <a:avLst/>
                  </a:prstGeom>
                  <a:solidFill>
                    <a:srgbClr val="3366ff"/>
                  </a:solidFill>
                  <a:ln w="936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 flipV="1">
                    <a:off x="6527160" y="4441320"/>
                    <a:ext cx="380520" cy="345600"/>
                  </a:xfrm>
                  <a:prstGeom prst="rect">
                    <a:avLst/>
                  </a:prstGeom>
                  <a:solidFill>
                    <a:srgbClr val="3366ff"/>
                  </a:solidFill>
                  <a:ln w="936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 flipV="1">
                    <a:off x="7288920" y="4441320"/>
                    <a:ext cx="380880" cy="345600"/>
                  </a:xfrm>
                  <a:prstGeom prst="rect">
                    <a:avLst/>
                  </a:prstGeom>
                  <a:solidFill>
                    <a:srgbClr val="3366ff"/>
                  </a:solidFill>
                  <a:ln w="936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531840" y="4441320"/>
                    <a:ext cx="371160" cy="0"/>
                  </a:xfrm>
                  <a:prstGeom prst="line">
                    <a:avLst/>
                  </a:prstGeom>
                  <a:ln w="9360">
                    <a:solidFill>
                      <a:srgbClr val="33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7290720" y="4441320"/>
                    <a:ext cx="371160" cy="0"/>
                  </a:xfrm>
                  <a:prstGeom prst="line">
                    <a:avLst/>
                  </a:prstGeom>
                  <a:ln w="9360">
                    <a:solidFill>
                      <a:srgbClr val="33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6533280" y="4436280"/>
                    <a:ext cx="374400" cy="0"/>
                  </a:xfrm>
                  <a:prstGeom prst="line">
                    <a:avLst/>
                  </a:prstGeom>
                  <a:ln w="9360">
                    <a:solidFill>
                      <a:srgbClr val="33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7301880" y="4436280"/>
                    <a:ext cx="374040" cy="0"/>
                  </a:xfrm>
                  <a:prstGeom prst="line">
                    <a:avLst/>
                  </a:prstGeom>
                  <a:ln w="9360">
                    <a:solidFill>
                      <a:srgbClr val="33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7" name=""/>
                <p:cNvSpPr/>
                <p:nvPr/>
              </p:nvSpPr>
              <p:spPr>
                <a:xfrm>
                  <a:off x="6146640" y="2082960"/>
                  <a:ext cx="1904760" cy="2361960"/>
                </a:xfrm>
                <a:prstGeom prst="rect">
                  <a:avLst/>
                </a:prstGeom>
                <a:solidFill>
                  <a:srgbClr val="3366ff"/>
                </a:solidFill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8" name=""/>
                <p:cNvGrpSpPr/>
                <p:nvPr/>
              </p:nvGrpSpPr>
              <p:grpSpPr>
                <a:xfrm>
                  <a:off x="6527520" y="2768400"/>
                  <a:ext cx="1142280" cy="685080"/>
                  <a:chOff x="6527520" y="2768400"/>
                  <a:chExt cx="1142280" cy="685080"/>
                </a:xfrm>
              </p:grpSpPr>
              <p:grpSp>
                <p:nvGrpSpPr>
                  <p:cNvPr id="259" name=""/>
                  <p:cNvGrpSpPr/>
                  <p:nvPr/>
                </p:nvGrpSpPr>
                <p:grpSpPr>
                  <a:xfrm>
                    <a:off x="6603120" y="2768400"/>
                    <a:ext cx="1066680" cy="608760"/>
                    <a:chOff x="6603120" y="2768400"/>
                    <a:chExt cx="1066680" cy="608760"/>
                  </a:xfrm>
                </p:grpSpPr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6679080" y="2768400"/>
                      <a:ext cx="990720" cy="532800"/>
                    </a:xfrm>
                    <a:prstGeom prst="rect">
                      <a:avLst/>
                    </a:prstGeom>
                    <a:solidFill>
                      <a:srgbClr val="99ccff"/>
                    </a:solidFill>
                    <a:ln w="9360">
                      <a:solidFill>
                        <a:srgbClr val="0000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6603120" y="2844000"/>
                      <a:ext cx="990360" cy="533160"/>
                    </a:xfrm>
                    <a:prstGeom prst="rect">
                      <a:avLst/>
                    </a:prstGeom>
                    <a:solidFill>
                      <a:srgbClr val="99ccff"/>
                    </a:solidFill>
                    <a:ln w="9360">
                      <a:solidFill>
                        <a:srgbClr val="0000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62" name=""/>
                  <p:cNvSpPr/>
                  <p:nvPr/>
                </p:nvSpPr>
                <p:spPr>
                  <a:xfrm>
                    <a:off x="6603120" y="2844000"/>
                    <a:ext cx="990360" cy="533160"/>
                  </a:xfrm>
                  <a:prstGeom prst="rect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6527520" y="2920320"/>
                    <a:ext cx="990000" cy="533160"/>
                  </a:xfrm>
                  <a:prstGeom prst="rect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4" name=""/>
                <p:cNvSpPr/>
                <p:nvPr/>
              </p:nvSpPr>
              <p:spPr>
                <a:xfrm>
                  <a:off x="6532200" y="4443120"/>
                  <a:ext cx="371160" cy="0"/>
                </a:xfrm>
                <a:prstGeom prst="line">
                  <a:avLst/>
                </a:prstGeom>
                <a:ln w="93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295760" y="4444920"/>
                  <a:ext cx="369360" cy="0"/>
                </a:xfrm>
                <a:prstGeom prst="line">
                  <a:avLst/>
                </a:prstGeom>
                <a:ln w="93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6070680" y="2158920"/>
                <a:ext cx="1904760" cy="2703960"/>
                <a:chOff x="6070680" y="2158920"/>
                <a:chExt cx="1904760" cy="270396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072120" y="4023360"/>
                  <a:ext cx="1898280" cy="839520"/>
                  <a:chOff x="6072120" y="4023360"/>
                  <a:chExt cx="1898280" cy="83952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 flipV="1">
                    <a:off x="6072120" y="4023000"/>
                    <a:ext cx="1898280" cy="495000"/>
                  </a:xfrm>
                  <a:prstGeom prst="rect">
                    <a:avLst/>
                  </a:prstGeom>
                  <a:solidFill>
                    <a:srgbClr val="3366ff"/>
                  </a:solidFill>
                  <a:ln w="936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V="1">
                    <a:off x="6451200" y="4517280"/>
                    <a:ext cx="380520" cy="345600"/>
                  </a:xfrm>
                  <a:prstGeom prst="rect">
                    <a:avLst/>
                  </a:prstGeom>
                  <a:solidFill>
                    <a:srgbClr val="3366ff"/>
                  </a:solidFill>
                  <a:ln w="936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V="1">
                    <a:off x="7212960" y="4517280"/>
                    <a:ext cx="380880" cy="345600"/>
                  </a:xfrm>
                  <a:prstGeom prst="rect">
                    <a:avLst/>
                  </a:prstGeom>
                  <a:solidFill>
                    <a:srgbClr val="3366ff"/>
                  </a:solidFill>
                  <a:ln w="936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6455880" y="4517280"/>
                    <a:ext cx="371160" cy="0"/>
                  </a:xfrm>
                  <a:prstGeom prst="line">
                    <a:avLst/>
                  </a:prstGeom>
                  <a:ln w="9360">
                    <a:solidFill>
                      <a:srgbClr val="33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7214760" y="4517280"/>
                    <a:ext cx="371160" cy="0"/>
                  </a:xfrm>
                  <a:prstGeom prst="line">
                    <a:avLst/>
                  </a:prstGeom>
                  <a:ln w="9360">
                    <a:solidFill>
                      <a:srgbClr val="33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6457320" y="4512240"/>
                    <a:ext cx="374400" cy="0"/>
                  </a:xfrm>
                  <a:prstGeom prst="line">
                    <a:avLst/>
                  </a:prstGeom>
                  <a:ln w="9360">
                    <a:solidFill>
                      <a:srgbClr val="33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7225920" y="4512240"/>
                    <a:ext cx="374040" cy="0"/>
                  </a:xfrm>
                  <a:prstGeom prst="line">
                    <a:avLst/>
                  </a:prstGeom>
                  <a:ln w="9360">
                    <a:solidFill>
                      <a:srgbClr val="33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5" name=""/>
                <p:cNvSpPr/>
                <p:nvPr/>
              </p:nvSpPr>
              <p:spPr>
                <a:xfrm>
                  <a:off x="6070680" y="2158920"/>
                  <a:ext cx="1904760" cy="2361960"/>
                </a:xfrm>
                <a:prstGeom prst="rect">
                  <a:avLst/>
                </a:prstGeom>
                <a:solidFill>
                  <a:srgbClr val="3366ff"/>
                </a:solidFill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6" name=""/>
                <p:cNvGrpSpPr/>
                <p:nvPr/>
              </p:nvGrpSpPr>
              <p:grpSpPr>
                <a:xfrm>
                  <a:off x="6451560" y="2844360"/>
                  <a:ext cx="1142280" cy="685080"/>
                  <a:chOff x="6451560" y="2844360"/>
                  <a:chExt cx="1142280" cy="685080"/>
                </a:xfrm>
              </p:grpSpPr>
              <p:grpSp>
                <p:nvGrpSpPr>
                  <p:cNvPr id="277" name=""/>
                  <p:cNvGrpSpPr/>
                  <p:nvPr/>
                </p:nvGrpSpPr>
                <p:grpSpPr>
                  <a:xfrm>
                    <a:off x="6527160" y="2844360"/>
                    <a:ext cx="1066680" cy="608760"/>
                    <a:chOff x="6527160" y="2844360"/>
                    <a:chExt cx="1066680" cy="608760"/>
                  </a:xfrm>
                </p:grpSpPr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6603120" y="2844360"/>
                      <a:ext cx="990720" cy="532800"/>
                    </a:xfrm>
                    <a:prstGeom prst="rect">
                      <a:avLst/>
                    </a:prstGeom>
                    <a:solidFill>
                      <a:srgbClr val="99ccff"/>
                    </a:solidFill>
                    <a:ln w="9360">
                      <a:solidFill>
                        <a:srgbClr val="0000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6527160" y="2919960"/>
                      <a:ext cx="990360" cy="533160"/>
                    </a:xfrm>
                    <a:prstGeom prst="rect">
                      <a:avLst/>
                    </a:prstGeom>
                    <a:solidFill>
                      <a:srgbClr val="99ccff"/>
                    </a:solidFill>
                    <a:ln w="9360">
                      <a:solidFill>
                        <a:srgbClr val="0000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0" name=""/>
                  <p:cNvSpPr/>
                  <p:nvPr/>
                </p:nvSpPr>
                <p:spPr>
                  <a:xfrm>
                    <a:off x="6527160" y="2919960"/>
                    <a:ext cx="990360" cy="533160"/>
                  </a:xfrm>
                  <a:prstGeom prst="rect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6451560" y="2996280"/>
                    <a:ext cx="990000" cy="533160"/>
                  </a:xfrm>
                  <a:prstGeom prst="rect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2" name=""/>
                <p:cNvSpPr/>
                <p:nvPr/>
              </p:nvSpPr>
              <p:spPr>
                <a:xfrm>
                  <a:off x="6456240" y="4519080"/>
                  <a:ext cx="371160" cy="0"/>
                </a:xfrm>
                <a:prstGeom prst="line">
                  <a:avLst/>
                </a:prstGeom>
                <a:ln w="93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7219800" y="4520880"/>
                  <a:ext cx="369360" cy="0"/>
                </a:xfrm>
                <a:prstGeom prst="line">
                  <a:avLst/>
                </a:prstGeom>
                <a:ln w="93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4" name=""/>
            <p:cNvGrpSpPr/>
            <p:nvPr/>
          </p:nvGrpSpPr>
          <p:grpSpPr>
            <a:xfrm>
              <a:off x="914400" y="2133720"/>
              <a:ext cx="2247840" cy="2851200"/>
              <a:chOff x="914400" y="2133720"/>
              <a:chExt cx="2247840" cy="2851200"/>
            </a:xfrm>
          </p:grpSpPr>
          <p:graphicFrame>
            <p:nvGraphicFramePr>
              <p:cNvPr id="285" name=""/>
              <p:cNvGraphicFramePr/>
              <p:nvPr/>
            </p:nvGraphicFramePr>
            <p:xfrm>
              <a:off x="914400" y="4375080"/>
              <a:ext cx="2247840" cy="6098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86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914400" y="4375080"/>
                        <a:ext cx="2247840" cy="609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87" name=""/>
              <p:cNvSpPr/>
              <p:nvPr/>
            </p:nvSpPr>
            <p:spPr>
              <a:xfrm>
                <a:off x="1066680" y="2133720"/>
                <a:ext cx="1905120" cy="236196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288" name=""/>
              <p:cNvGrpSpPr/>
              <p:nvPr/>
            </p:nvGrpSpPr>
            <p:grpSpPr>
              <a:xfrm>
                <a:off x="1447920" y="2819520"/>
                <a:ext cx="1142640" cy="685800"/>
                <a:chOff x="1447920" y="2819520"/>
                <a:chExt cx="1142640" cy="685800"/>
              </a:xfrm>
            </p:grpSpPr>
            <p:grpSp>
              <p:nvGrpSpPr>
                <p:cNvPr id="289" name=""/>
                <p:cNvGrpSpPr/>
                <p:nvPr/>
              </p:nvGrpSpPr>
              <p:grpSpPr>
                <a:xfrm>
                  <a:off x="1523880" y="2819520"/>
                  <a:ext cx="1066680" cy="609480"/>
                  <a:chOff x="1523880" y="2819520"/>
                  <a:chExt cx="1066680" cy="609480"/>
                </a:xfrm>
              </p:grpSpPr>
              <p:sp>
                <p:nvSpPr>
                  <p:cNvPr id="290" name=""/>
                  <p:cNvSpPr/>
                  <p:nvPr/>
                </p:nvSpPr>
                <p:spPr>
                  <a:xfrm>
                    <a:off x="1599840" y="2819520"/>
                    <a:ext cx="990720" cy="533160"/>
                  </a:xfrm>
                  <a:prstGeom prst="rect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1523880" y="2895480"/>
                    <a:ext cx="990360" cy="533520"/>
                  </a:xfrm>
                  <a:prstGeom prst="rect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2" name=""/>
                <p:cNvSpPr/>
                <p:nvPr/>
              </p:nvSpPr>
              <p:spPr>
                <a:xfrm>
                  <a:off x="1523880" y="2895480"/>
                  <a:ext cx="990720" cy="53352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1447920" y="2971800"/>
                  <a:ext cx="990360" cy="53352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4" name=""/>
              <p:cNvSpPr/>
              <p:nvPr/>
            </p:nvSpPr>
            <p:spPr>
              <a:xfrm>
                <a:off x="1454040" y="4495680"/>
                <a:ext cx="374760" cy="0"/>
              </a:xfrm>
              <a:prstGeom prst="line">
                <a:avLst/>
              </a:prstGeom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222640" y="4495680"/>
                <a:ext cx="374400" cy="0"/>
              </a:xfrm>
              <a:prstGeom prst="line">
                <a:avLst/>
              </a:prstGeom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296" name=""/>
            <p:cNvSpPr/>
            <p:nvPr/>
          </p:nvSpPr>
          <p:spPr>
            <a:xfrm>
              <a:off x="1071720" y="5361120"/>
              <a:ext cx="1898640" cy="4950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069920" y="5013360"/>
              <a:ext cx="380880" cy="3459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32040" y="5013360"/>
              <a:ext cx="380880" cy="3459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589120" y="5013360"/>
              <a:ext cx="381240" cy="3459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074600" y="5359320"/>
              <a:ext cx="37152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077840" y="5359320"/>
              <a:ext cx="3636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082520" y="5364000"/>
              <a:ext cx="3636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844640" y="5357880"/>
              <a:ext cx="36684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841400" y="5364000"/>
              <a:ext cx="36828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597040" y="5359320"/>
              <a:ext cx="36828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597040" y="5362560"/>
              <a:ext cx="37152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307" name=""/>
            <p:cNvGrpSpPr/>
            <p:nvPr/>
          </p:nvGrpSpPr>
          <p:grpSpPr>
            <a:xfrm>
              <a:off x="3452400" y="4916520"/>
              <a:ext cx="2040120" cy="1109160"/>
              <a:chOff x="3452400" y="4916520"/>
              <a:chExt cx="2040120" cy="1109160"/>
            </a:xfrm>
          </p:grpSpPr>
          <p:sp>
            <p:nvSpPr>
              <p:cNvPr id="308" name=""/>
              <p:cNvSpPr/>
              <p:nvPr/>
            </p:nvSpPr>
            <p:spPr>
              <a:xfrm rot="1559400">
                <a:off x="3545640" y="5051160"/>
                <a:ext cx="162720" cy="464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5080"/>
                      <a:pt x="0" y="10800"/>
                    </a:cubicBezTo>
                    <a:cubicBezTo>
                      <a:pt x="0" y="16520"/>
                      <a:pt x="10800" y="21600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9999"/>
              </a:solidFill>
              <a:ln w="255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18143400">
                <a:off x="3675600" y="5473440"/>
                <a:ext cx="163080" cy="469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5080"/>
                      <a:pt x="0" y="10800"/>
                    </a:cubicBezTo>
                    <a:cubicBezTo>
                      <a:pt x="0" y="16520"/>
                      <a:pt x="10800" y="21600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9999"/>
              </a:solidFill>
              <a:ln w="255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17116200">
                <a:off x="4112640" y="5682960"/>
                <a:ext cx="134640" cy="426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5080"/>
                      <a:pt x="0" y="10800"/>
                    </a:cubicBezTo>
                    <a:cubicBezTo>
                      <a:pt x="0" y="16520"/>
                      <a:pt x="10800" y="21600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9999"/>
              </a:solidFill>
              <a:ln w="255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15876600">
                <a:off x="4618800" y="5655600"/>
                <a:ext cx="138600" cy="550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5080"/>
                      <a:pt x="0" y="10800"/>
                    </a:cubicBezTo>
                    <a:cubicBezTo>
                      <a:pt x="0" y="16520"/>
                      <a:pt x="10800" y="21600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9999"/>
              </a:solidFill>
              <a:ln w="255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13860000">
                <a:off x="5113080" y="5558760"/>
                <a:ext cx="134640" cy="426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5080"/>
                      <a:pt x="0" y="10800"/>
                    </a:cubicBezTo>
                    <a:cubicBezTo>
                      <a:pt x="0" y="16520"/>
                      <a:pt x="10800" y="21600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9999"/>
              </a:solidFill>
              <a:ln w="255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7058400">
                <a:off x="4977000" y="4863240"/>
                <a:ext cx="134640" cy="427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5080"/>
                      <a:pt x="0" y="10800"/>
                    </a:cubicBezTo>
                    <a:cubicBezTo>
                      <a:pt x="0" y="16520"/>
                      <a:pt x="10800" y="21600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9999"/>
              </a:solidFill>
              <a:ln w="255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5248800">
                <a:off x="4517280" y="4780800"/>
                <a:ext cx="137520" cy="426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5080"/>
                      <a:pt x="0" y="10800"/>
                    </a:cubicBezTo>
                    <a:cubicBezTo>
                      <a:pt x="0" y="16520"/>
                      <a:pt x="10800" y="21600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9999"/>
              </a:solidFill>
              <a:ln w="255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5046600">
                <a:off x="4012560" y="4731480"/>
                <a:ext cx="121680" cy="615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5080"/>
                      <a:pt x="0" y="10800"/>
                    </a:cubicBezTo>
                    <a:cubicBezTo>
                      <a:pt x="0" y="16520"/>
                      <a:pt x="10800" y="21600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9999"/>
              </a:solidFill>
              <a:ln w="255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9834000">
                <a:off x="5298120" y="5196600"/>
                <a:ext cx="137880" cy="42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5080"/>
                      <a:pt x="0" y="10800"/>
                    </a:cubicBezTo>
                    <a:cubicBezTo>
                      <a:pt x="0" y="16520"/>
                      <a:pt x="10800" y="21600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9999"/>
              </a:solidFill>
              <a:ln w="255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>
              <a:off x="3149640" y="4140360"/>
              <a:ext cx="0" cy="10285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cxnSp>
          <p:nvCxnSpPr>
            <p:cNvPr id="318" name=""/>
            <p:cNvCxnSpPr>
              <a:endCxn id="310" idx="3"/>
            </p:cNvCxnSpPr>
            <p:nvPr/>
          </p:nvCxnSpPr>
          <p:spPr>
            <a:xfrm flipV="1">
              <a:off x="1984320" y="5951160"/>
              <a:ext cx="2183760" cy="107280"/>
            </a:xfrm>
            <a:prstGeom prst="bentConnector4">
              <a:avLst>
                <a:gd name="adj1" fmla="val 939"/>
                <a:gd name="adj2" fmla="val -380471"/>
              </a:avLst>
            </a:prstGeom>
            <a:ln w="76320">
              <a:solidFill>
                <a:srgbClr val="9933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19" name=""/>
            <p:cNvCxnSpPr>
              <a:stCxn id="311" idx="3"/>
            </p:cNvCxnSpPr>
            <p:nvPr/>
          </p:nvCxnSpPr>
          <p:spPr>
            <a:xfrm flipH="1" rot="16200000">
              <a:off x="5812200" y="4871160"/>
              <a:ext cx="38880" cy="2275200"/>
            </a:xfrm>
            <a:prstGeom prst="bentConnector4">
              <a:avLst>
                <a:gd name="adj1" fmla="val 1232710"/>
                <a:gd name="adj2" fmla="val 99509"/>
              </a:avLst>
            </a:prstGeom>
            <a:ln w="76320">
              <a:solidFill>
                <a:srgbClr val="9933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320" name=""/>
            <p:cNvSpPr/>
            <p:nvPr/>
          </p:nvSpPr>
          <p:spPr>
            <a:xfrm>
              <a:off x="4109040" y="5276880"/>
              <a:ext cx="74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3300"/>
                  </a:solidFill>
                  <a:latin typeface="Tahoma"/>
                </a:rPr>
                <a:t>Rede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343400" y="3720960"/>
              <a:ext cx="330120" cy="1155960"/>
            </a:xfrm>
            <a:prstGeom prst="upDownArrow">
              <a:avLst>
                <a:gd name="adj1" fmla="val 50000"/>
                <a:gd name="adj2" fmla="val 69708"/>
              </a:avLst>
            </a:prstGeom>
            <a:solidFill>
              <a:srgbClr val="993300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632040" y="2882880"/>
              <a:ext cx="1740240" cy="72396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963960" y="2914560"/>
              <a:ext cx="108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663300"/>
                  </a:solidFill>
                  <a:latin typeface="Tahoma"/>
                </a:rPr>
                <a:t>Sistema 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715560" y="319392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3300"/>
                  </a:solidFill>
                  <a:latin typeface="Tahoma"/>
                </a:rPr>
                <a:t>não agente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384560" y="1771560"/>
              <a:ext cx="60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.O.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553440" y="1720800"/>
              <a:ext cx="60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.O.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075680" y="2152800"/>
              <a:ext cx="18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istema Agente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079320" y="2139840"/>
              <a:ext cx="18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istema Agente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453680" y="3041640"/>
              <a:ext cx="95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gente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457320" y="3041640"/>
              <a:ext cx="95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gente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161720" y="5315040"/>
              <a:ext cx="168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infraestrutura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065240" y="5556240"/>
              <a:ext cx="192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e comunicação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216480" y="5327640"/>
              <a:ext cx="168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infraestrutura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119640" y="5568840"/>
              <a:ext cx="192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e comunicação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Modelo Computacional</a:t>
            </a: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rquitetura - Componentes básicos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Linguagem de programação de agentes;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Biblioteca de funções;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Interpretador;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ervidor de agentes;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Mecanismo de segurança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CONTEÚDO</a:t>
            </a: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Tahoma"/>
              </a:rPr>
              <a:t>Motivação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Tahoma"/>
              </a:rPr>
              <a:t>Exemplos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Tahoma"/>
              </a:rPr>
              <a:t>Modelo Computacional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lataformas de Agentes Móveis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Tahoma"/>
              </a:rPr>
              <a:t>Exemplos e Comparações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Plataformas</a:t>
            </a: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spectos a considerar na escolha de uma plataforma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mobilidade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comunicação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gerenciamento de recursos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descoberta de recursos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segurança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identificação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controle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gerenciamento de dados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portabilidade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Plataformas</a:t>
            </a: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spectos a considerar na escolha de uma plataforma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mobilidade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ahoma"/>
              </a:rPr>
              <a:t>comunicação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ahoma"/>
              </a:rPr>
              <a:t>gerenciamento de recursos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ahoma"/>
              </a:rPr>
              <a:t>descoberta de recursos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ahoma"/>
              </a:rPr>
              <a:t>segurança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ahoma"/>
              </a:rPr>
              <a:t>identificação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ahoma"/>
              </a:rPr>
              <a:t>controle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ahoma"/>
              </a:rPr>
              <a:t>gerenciamento de dados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ahoma"/>
              </a:rPr>
              <a:t>portabilidade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43" name=""/>
          <p:cNvSpPr/>
          <p:nvPr/>
        </p:nvSpPr>
        <p:spPr>
          <a:xfrm>
            <a:off x="5715000" y="3352680"/>
            <a:ext cx="3048120" cy="1769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8764" y="-3826"/>
                </a:moveTo>
                <a:lnTo>
                  <a:pt x="-540" y="1281"/>
                </a:lnTo>
              </a:path>
              <a:path w="21600" h="21600">
                <a:moveTo>
                  <a:pt x="-540" y="0"/>
                </a:moveTo>
                <a:lnTo>
                  <a:pt x="-540" y="21600"/>
                </a:lnTo>
              </a:path>
            </a:pathLst>
          </a:cu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99"/>
                </a:solidFill>
                <a:latin typeface="Tahoma"/>
              </a:rPr>
              <a:t>Recursos para movimentação do agente: protocolo de transporte, suporte da linguagem, etc.</a:t>
            </a:r>
            <a:endParaRPr b="0" lang="en-US" sz="2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Plataformas</a:t>
            </a: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spectos a considerar na escolha de uma plataforma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ahoma"/>
              </a:rPr>
              <a:t>mobilidade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comunicação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ahoma"/>
              </a:rPr>
              <a:t>gerenciamento de recursos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ahoma"/>
              </a:rPr>
              <a:t>descoberta de recursos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ahoma"/>
              </a:rPr>
              <a:t>segurança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ahoma"/>
              </a:rPr>
              <a:t>identificação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ahoma"/>
              </a:rPr>
              <a:t>controle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ahoma"/>
              </a:rPr>
              <a:t>gerenciamento de dados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ahoma"/>
              </a:rPr>
              <a:t>portabilidade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46" name=""/>
          <p:cNvSpPr/>
          <p:nvPr/>
        </p:nvSpPr>
        <p:spPr>
          <a:xfrm>
            <a:off x="5715000" y="3429000"/>
            <a:ext cx="2743200" cy="1769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8298" y="-589"/>
                </a:moveTo>
                <a:lnTo>
                  <a:pt x="-600" y="1281"/>
                </a:lnTo>
              </a:path>
              <a:path w="21600" h="21600">
                <a:moveTo>
                  <a:pt x="-600" y="0"/>
                </a:moveTo>
                <a:lnTo>
                  <a:pt x="-600" y="21600"/>
                </a:lnTo>
              </a:path>
            </a:pathLst>
          </a:cu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Tahoma"/>
              </a:rPr>
              <a:t>Recursos para a comunicação entre agentes: RPC, mensagens, eventos,...</a:t>
            </a:r>
            <a:endParaRPr b="0" lang="en-US" sz="2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Plataformas</a:t>
            </a: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spectos a considerar na escolha de uma plataforma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ahoma"/>
              </a:rPr>
              <a:t>mobilidade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ahoma"/>
              </a:rPr>
              <a:t>comunicação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gerenciamento de recursos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ahoma"/>
              </a:rPr>
              <a:t>descoberta de recursos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ahoma"/>
              </a:rPr>
              <a:t>segurança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ahoma"/>
              </a:rPr>
              <a:t>identificação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ahoma"/>
              </a:rPr>
              <a:t>controle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ahoma"/>
              </a:rPr>
              <a:t>gerenciamento de dados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ahoma"/>
              </a:rPr>
              <a:t>portabilidade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49" name=""/>
          <p:cNvSpPr/>
          <p:nvPr/>
        </p:nvSpPr>
        <p:spPr>
          <a:xfrm>
            <a:off x="5715000" y="4452840"/>
            <a:ext cx="3048120" cy="1099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10" y="-12755"/>
                </a:moveTo>
                <a:lnTo>
                  <a:pt x="-540" y="1713"/>
                </a:lnTo>
              </a:path>
              <a:path w="21600" h="21600">
                <a:moveTo>
                  <a:pt x="-540" y="0"/>
                </a:moveTo>
                <a:lnTo>
                  <a:pt x="-540" y="21600"/>
                </a:lnTo>
              </a:path>
            </a:pathLst>
          </a:cu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99"/>
                </a:solidFill>
                <a:latin typeface="Tahoma"/>
              </a:rPr>
              <a:t>CPU, disco, memória, rede, bancos de dados, etc.</a:t>
            </a:r>
            <a:endParaRPr b="0" lang="en-US" sz="2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Plataformas</a:t>
            </a: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spectos a considerar na escolha de uma plataforma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ahoma"/>
              </a:rPr>
              <a:t>mobilidade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ahoma"/>
              </a:rPr>
              <a:t>comunicação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ahoma"/>
              </a:rPr>
              <a:t>gerenciamento de recursos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descoberta de recursos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ahoma"/>
              </a:rPr>
              <a:t>segurança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ahoma"/>
              </a:rPr>
              <a:t>identificação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ahoma"/>
              </a:rPr>
              <a:t>controle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ahoma"/>
              </a:rPr>
              <a:t>gerenciamento de dados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ahoma"/>
              </a:rPr>
              <a:t>portabilidade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52" name=""/>
          <p:cNvSpPr/>
          <p:nvPr/>
        </p:nvSpPr>
        <p:spPr>
          <a:xfrm>
            <a:off x="5715000" y="4479840"/>
            <a:ext cx="3048120" cy="1769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20" y="-3062"/>
                </a:moveTo>
                <a:lnTo>
                  <a:pt x="-540" y="1390"/>
                </a:lnTo>
              </a:path>
              <a:path w="21600" h="21600">
                <a:moveTo>
                  <a:pt x="-540" y="0"/>
                </a:moveTo>
                <a:lnTo>
                  <a:pt x="-540" y="21600"/>
                </a:lnTo>
              </a:path>
            </a:pathLst>
          </a:cu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Tahoma"/>
              </a:rPr>
              <a:t>O agente deve poder descobrir os recursos disponíveis no site no momento de sua chegada</a:t>
            </a:r>
            <a:endParaRPr b="0" lang="en-US" sz="2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Plataformas</a:t>
            </a: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spectos a considerar na escolha de uma plataforma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ahoma"/>
              </a:rPr>
              <a:t>mobilidade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ahoma"/>
              </a:rPr>
              <a:t>comunicação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ahoma"/>
              </a:rPr>
              <a:t>gerenciamento de recursos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ahoma"/>
              </a:rPr>
              <a:t>descoberta de recursos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segurança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ahoma"/>
              </a:rPr>
              <a:t>identificação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ahoma"/>
              </a:rPr>
              <a:t>controle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ahoma"/>
              </a:rPr>
              <a:t>gerenciamento de dados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ahoma"/>
              </a:rPr>
              <a:t>portabilidade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55" name=""/>
          <p:cNvSpPr/>
          <p:nvPr/>
        </p:nvSpPr>
        <p:spPr>
          <a:xfrm>
            <a:off x="5715000" y="4457880"/>
            <a:ext cx="3048120" cy="143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8899" y="2151"/>
                </a:moveTo>
                <a:lnTo>
                  <a:pt x="-540" y="1713"/>
                </a:lnTo>
              </a:path>
              <a:path w="21600" h="21600">
                <a:moveTo>
                  <a:pt x="-540" y="0"/>
                </a:moveTo>
                <a:lnTo>
                  <a:pt x="-540" y="21600"/>
                </a:lnTo>
              </a:path>
            </a:pathLst>
          </a:cu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99"/>
                </a:solidFill>
                <a:latin typeface="Tahoma"/>
              </a:rPr>
              <a:t>Recursos para proteger agentes, ambientes e hosts uns dos outros</a:t>
            </a:r>
            <a:endParaRPr b="0" lang="en-US" sz="2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Plataformas</a:t>
            </a: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spectos a considerar na escolha de uma plataforma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ahoma"/>
              </a:rPr>
              <a:t>mobilidade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ahoma"/>
              </a:rPr>
              <a:t>comunicação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ahoma"/>
              </a:rPr>
              <a:t>gerenciamento de recursos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ahoma"/>
              </a:rPr>
              <a:t>descoberta de recursos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ahoma"/>
              </a:rPr>
              <a:t>segurança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identificação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ahoma"/>
              </a:rPr>
              <a:t>controle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ahoma"/>
              </a:rPr>
              <a:t>gerenciamento de dados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ahoma"/>
              </a:rPr>
              <a:t>portabilidade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58" name=""/>
          <p:cNvSpPr/>
          <p:nvPr/>
        </p:nvSpPr>
        <p:spPr>
          <a:xfrm>
            <a:off x="5715000" y="4484520"/>
            <a:ext cx="3048120" cy="1769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6603" y="6234"/>
                </a:moveTo>
                <a:lnTo>
                  <a:pt x="-540" y="1390"/>
                </a:lnTo>
              </a:path>
              <a:path w="21600" h="21600">
                <a:moveTo>
                  <a:pt x="-540" y="0"/>
                </a:moveTo>
                <a:lnTo>
                  <a:pt x="-540" y="21600"/>
                </a:lnTo>
              </a:path>
            </a:pathLst>
          </a:cu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99"/>
                </a:solidFill>
                <a:latin typeface="Tahoma"/>
              </a:rPr>
              <a:t>Como o agente é referenciado no ambiente; pode ser numericamente, por nome, etc.</a:t>
            </a:r>
            <a:endParaRPr b="0" lang="en-US" sz="2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Paradigmas</a:t>
            </a: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28600" y="1922400"/>
          <a:ext cx="8610480" cy="394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22400"/>
                    <a:ext cx="8610480" cy="39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Plataformas</a:t>
            </a: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spectos a considerar na escolha de uma plataforma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ahoma"/>
              </a:rPr>
              <a:t>mobilidade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ahoma"/>
              </a:rPr>
              <a:t>comunicação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ahoma"/>
              </a:rPr>
              <a:t>gerenciamento de recursos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ahoma"/>
              </a:rPr>
              <a:t>descoberta de recursos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ahoma"/>
              </a:rPr>
              <a:t>segurança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ahoma"/>
              </a:rPr>
              <a:t>identificação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controle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ahoma"/>
              </a:rPr>
              <a:t>gerenciamento de dados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ahoma"/>
              </a:rPr>
              <a:t>portabilidade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1" name=""/>
          <p:cNvSpPr/>
          <p:nvPr/>
        </p:nvSpPr>
        <p:spPr>
          <a:xfrm>
            <a:off x="5715000" y="4484520"/>
            <a:ext cx="2971800" cy="21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1184" y="9153"/>
                </a:moveTo>
                <a:lnTo>
                  <a:pt x="-554" y="1390"/>
                </a:lnTo>
              </a:path>
              <a:path w="21600" h="21600">
                <a:moveTo>
                  <a:pt x="-554" y="0"/>
                </a:moveTo>
                <a:lnTo>
                  <a:pt x="-554" y="21600"/>
                </a:lnTo>
              </a:path>
            </a:pathLst>
          </a:cu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Tahoma"/>
              </a:rPr>
              <a:t>Ciclo de vida do agente: criação, ativação, desativação, duplicação, auto-desativação</a:t>
            </a:r>
            <a:endParaRPr b="0" lang="en-US" sz="2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Plataformas</a:t>
            </a: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spectos a considerar na escolha de uma plataforma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ahoma"/>
              </a:rPr>
              <a:t>mobilidade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ahoma"/>
              </a:rPr>
              <a:t>comunicação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ahoma"/>
              </a:rPr>
              <a:t>gerenciamento de recursos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ahoma"/>
              </a:rPr>
              <a:t>descoberta de recursos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ahoma"/>
              </a:rPr>
              <a:t>segurança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ahoma"/>
              </a:rPr>
              <a:t>identificação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Tahoma"/>
              </a:rPr>
              <a:t>controle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gerenciamento de dados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ahoma"/>
              </a:rPr>
              <a:t>portabilidade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4" name=""/>
          <p:cNvSpPr/>
          <p:nvPr/>
        </p:nvSpPr>
        <p:spPr>
          <a:xfrm>
            <a:off x="5715000" y="4462560"/>
            <a:ext cx="2971800" cy="143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813" y="19270"/>
                </a:moveTo>
                <a:lnTo>
                  <a:pt x="-554" y="1713"/>
                </a:lnTo>
              </a:path>
              <a:path w="21600" h="21600">
                <a:moveTo>
                  <a:pt x="-554" y="0"/>
                </a:moveTo>
                <a:lnTo>
                  <a:pt x="-554" y="21600"/>
                </a:lnTo>
              </a:path>
            </a:pathLst>
          </a:cu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Tahoma"/>
              </a:rPr>
              <a:t>Armazenamento de dados para efeitos de persistência e tolerância a falhas</a:t>
            </a:r>
            <a:endParaRPr b="0" lang="en-US" sz="2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Plataformas</a:t>
            </a: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spectos a considerar na escolha de uma plataforma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ahoma"/>
              </a:rPr>
              <a:t>mobilidade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ahoma"/>
              </a:rPr>
              <a:t>comunicação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ahoma"/>
              </a:rPr>
              <a:t>gerenciamento de recursos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ahoma"/>
              </a:rPr>
              <a:t>descoberta de recursos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ahoma"/>
              </a:rPr>
              <a:t>segurança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ahoma"/>
              </a:rPr>
              <a:t>identificação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Tahoma"/>
              </a:rPr>
              <a:t>controle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Tahoma"/>
              </a:rPr>
              <a:t>gerenciamento de dados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portabilidade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7" name=""/>
          <p:cNvSpPr/>
          <p:nvPr/>
        </p:nvSpPr>
        <p:spPr>
          <a:xfrm>
            <a:off x="5715000" y="4462560"/>
            <a:ext cx="2971800" cy="143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6475" y="25290"/>
                </a:moveTo>
                <a:lnTo>
                  <a:pt x="-554" y="1713"/>
                </a:lnTo>
              </a:path>
              <a:path w="21600" h="21600">
                <a:moveTo>
                  <a:pt x="-554" y="0"/>
                </a:moveTo>
                <a:lnTo>
                  <a:pt x="-554" y="21600"/>
                </a:lnTo>
              </a:path>
            </a:pathLst>
          </a:cu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Tahoma"/>
              </a:rPr>
              <a:t>Como o agente pode mover-se entre plataformas heterogêneas</a:t>
            </a:r>
            <a:endParaRPr b="0" lang="en-US" sz="2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aeaea"/>
                </a:solidFill>
                <a:latin typeface="Tahoma"/>
              </a:rPr>
              <a:t>Plataformas Java</a:t>
            </a: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99"/>
                </a:solidFill>
                <a:latin typeface="Tahoma"/>
              </a:rPr>
              <a:t>Aglets</a:t>
            </a:r>
            <a:r>
              <a:rPr b="0" lang="pt-BR" sz="2800" spc="-1" strike="noStrike">
                <a:solidFill>
                  <a:srgbClr val="000099"/>
                </a:solidFill>
                <a:latin typeface="Tahoma"/>
              </a:rPr>
              <a:t> - IBM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99"/>
                </a:solidFill>
                <a:latin typeface="Tahoma"/>
              </a:rPr>
              <a:t>Concordia</a:t>
            </a:r>
            <a:r>
              <a:rPr b="0" lang="pt-BR" sz="2800" spc="-1" strike="noStrike">
                <a:solidFill>
                  <a:srgbClr val="000099"/>
                </a:solidFill>
                <a:latin typeface="Tahoma"/>
              </a:rPr>
              <a:t> - Mitsubishi Company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99"/>
                </a:solidFill>
                <a:latin typeface="Tahoma"/>
              </a:rPr>
              <a:t>Mole</a:t>
            </a:r>
            <a:r>
              <a:rPr b="0" lang="pt-BR" sz="2800" spc="-1" strike="noStrike">
                <a:solidFill>
                  <a:srgbClr val="000099"/>
                </a:solidFill>
                <a:latin typeface="Tahoma"/>
              </a:rPr>
              <a:t> - Institute for Parallel and Computer Systems (IPVR)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99"/>
                </a:solidFill>
                <a:latin typeface="Tahoma"/>
              </a:rPr>
              <a:t>Odyssey </a:t>
            </a:r>
            <a:r>
              <a:rPr b="0" lang="pt-BR" sz="2800" spc="-1" strike="noStrike">
                <a:solidFill>
                  <a:srgbClr val="000099"/>
                </a:solidFill>
                <a:latin typeface="Tahoma"/>
              </a:rPr>
              <a:t>- General Magic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99"/>
                </a:solidFill>
                <a:latin typeface="Tahoma"/>
              </a:rPr>
              <a:t>Voyager</a:t>
            </a:r>
            <a:r>
              <a:rPr b="0" lang="pt-BR" sz="2800" spc="-1" strike="noStrike">
                <a:solidFill>
                  <a:srgbClr val="000099"/>
                </a:solidFill>
                <a:latin typeface="Tahoma"/>
              </a:rPr>
              <a:t> - ObjectSpace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Tahoma"/>
              </a:rPr>
              <a:t>Secure and High Performance Mobile Agent Infrastructure (</a:t>
            </a:r>
            <a:r>
              <a:rPr b="1" lang="pt-BR" sz="2800" spc="-1" strike="noStrike">
                <a:solidFill>
                  <a:srgbClr val="000099"/>
                </a:solidFill>
                <a:latin typeface="Tahoma"/>
              </a:rPr>
              <a:t>SHIP-MAI</a:t>
            </a:r>
            <a:r>
              <a:rPr b="0" lang="pt-BR" sz="2800" spc="-1" strike="noStrike">
                <a:solidFill>
                  <a:srgbClr val="000099"/>
                </a:solidFill>
                <a:latin typeface="Tahoma"/>
              </a:rPr>
              <a:t>) - Multimedia and Mobile Agent Research Laboratory, Ottawa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aeaea"/>
                </a:solidFill>
                <a:latin typeface="Tahoma"/>
              </a:rPr>
              <a:t>Plataformas Não Java</a:t>
            </a: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99"/>
                </a:solidFill>
                <a:latin typeface="Tahoma"/>
              </a:rPr>
              <a:t>Agent Tcl</a:t>
            </a:r>
            <a:r>
              <a:rPr b="0" lang="pt-BR" sz="2800" spc="-1" strike="noStrike">
                <a:solidFill>
                  <a:srgbClr val="000099"/>
                </a:solidFill>
                <a:latin typeface="Tahoma"/>
              </a:rPr>
              <a:t> - Dartmouth College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Tahoma"/>
              </a:rPr>
              <a:t>Agent for Remote Access (</a:t>
            </a:r>
            <a:r>
              <a:rPr b="1" lang="pt-BR" sz="2800" spc="-1" strike="noStrike">
                <a:solidFill>
                  <a:srgbClr val="000099"/>
                </a:solidFill>
                <a:latin typeface="Tahoma"/>
              </a:rPr>
              <a:t>ARA</a:t>
            </a:r>
            <a:r>
              <a:rPr b="0" lang="pt-BR" sz="2800" spc="-1" strike="noStrike">
                <a:solidFill>
                  <a:srgbClr val="000099"/>
                </a:solidFill>
                <a:latin typeface="Tahoma"/>
              </a:rPr>
              <a:t>) - University of Kaiserslautern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Tahoma"/>
              </a:rPr>
              <a:t>TromsØ and Cornell Moving Agents (</a:t>
            </a:r>
            <a:r>
              <a:rPr b="1" lang="pt-BR" sz="2800" spc="-1" strike="noStrike">
                <a:solidFill>
                  <a:srgbClr val="000099"/>
                </a:solidFill>
                <a:latin typeface="Tahoma"/>
              </a:rPr>
              <a:t>TACOMA) </a:t>
            </a:r>
            <a:r>
              <a:rPr b="0" lang="pt-BR" sz="2800" spc="-1" strike="noStrike">
                <a:solidFill>
                  <a:srgbClr val="000099"/>
                </a:solidFill>
                <a:latin typeface="Tahoma"/>
              </a:rPr>
              <a:t>- Cornell University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Plataformas</a:t>
            </a: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99"/>
                </a:solidFill>
                <a:latin typeface="Tahoma"/>
              </a:rPr>
              <a:t>Serão comparadas as plataformas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9"/>
                </a:solidFill>
                <a:latin typeface="Tahoma"/>
              </a:rPr>
              <a:t>Concordia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9"/>
                </a:solidFill>
                <a:latin typeface="Tahoma"/>
              </a:rPr>
              <a:t>Odyssey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9"/>
                </a:solidFill>
                <a:latin typeface="Tahoma"/>
              </a:rPr>
              <a:t>Voyager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99"/>
                </a:solidFill>
                <a:latin typeface="Tahoma"/>
              </a:rPr>
              <a:t>...Nos aspectos d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9"/>
                </a:solidFill>
                <a:latin typeface="Tahoma"/>
              </a:rPr>
              <a:t>mobilidade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9"/>
                </a:solidFill>
                <a:latin typeface="Tahoma"/>
              </a:rPr>
              <a:t>comunicação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9"/>
                </a:solidFill>
                <a:latin typeface="Tahoma"/>
              </a:rPr>
              <a:t>controle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CONTEÚDO</a:t>
            </a: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Tahoma"/>
              </a:rPr>
              <a:t>Motivação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Tahoma"/>
              </a:rPr>
              <a:t>Exemplos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Tahoma"/>
              </a:rPr>
              <a:t>Modelo Computacional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Tahoma"/>
              </a:rPr>
              <a:t>Plataformas de Agentes Móveis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xemplos e Comparações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Tecnologias para uma PAM</a:t>
            </a:r>
            <a:endParaRPr b="0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67816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9966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0000"/>
                </a:solidFill>
                <a:latin typeface="Arial"/>
              </a:rPr>
              <a:t>Porque utilizar Java na construção de uma PAM?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Ligação Dinâmica (DL) -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Java usa DL a nível distribuído. O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ClassLoader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da JVM procura na rede a classe e agrega a aplicação.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assagem de Objeto por Valor -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Java Serialization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Classloader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do destino fica encarregado de procurar na rede a classe do objeto passado por valor. 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378" name="javalogo52x88" descr=""/>
          <p:cNvPicPr/>
          <p:nvPr/>
        </p:nvPicPr>
        <p:blipFill>
          <a:blip r:embed="rId1"/>
          <a:stretch/>
        </p:blipFill>
        <p:spPr>
          <a:xfrm>
            <a:off x="7462800" y="2590920"/>
            <a:ext cx="1530360" cy="259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371240" y="76176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Tecnologias para uma PAM</a:t>
            </a:r>
            <a:endParaRPr b="0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6629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Inspeçã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écnica para um agente descobrir os serviços oferecidos  pelos objetos locais.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Java Reflection.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As tecnologias do tipo Ligação Dinâmica, Passagem de Objeto por Valor, Inspeção e RMI são suficientes para a construção de uma plataforma de agentes móveis?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7391520" y="3200400"/>
            <a:ext cx="1363680" cy="2590920"/>
            <a:chOff x="7391520" y="3200400"/>
            <a:chExt cx="1363680" cy="2590920"/>
          </a:xfrm>
        </p:grpSpPr>
        <p:grpSp>
          <p:nvGrpSpPr>
            <p:cNvPr id="382" name=""/>
            <p:cNvGrpSpPr/>
            <p:nvPr/>
          </p:nvGrpSpPr>
          <p:grpSpPr>
            <a:xfrm>
              <a:off x="7391520" y="3581640"/>
              <a:ext cx="1363680" cy="2209680"/>
              <a:chOff x="7391520" y="3581640"/>
              <a:chExt cx="1363680" cy="2209680"/>
            </a:xfrm>
          </p:grpSpPr>
          <p:pic>
            <p:nvPicPr>
              <p:cNvPr id="38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391520" y="3581640"/>
                <a:ext cx="1363680" cy="220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4" name=""/>
              <p:cNvSpPr/>
              <p:nvPr/>
            </p:nvSpPr>
            <p:spPr>
              <a:xfrm>
                <a:off x="7451640" y="3609720"/>
                <a:ext cx="1234800" cy="214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385" name=""/>
            <p:cNvSpPr/>
            <p:nvPr/>
          </p:nvSpPr>
          <p:spPr>
            <a:xfrm>
              <a:off x="7766280" y="320040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???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599840" y="609480"/>
            <a:ext cx="6095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Critérios de Análise</a:t>
            </a:r>
            <a:endParaRPr b="0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aracterísticas Gerais das Plataformas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mponentes Básicos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inguagem de Implementação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pecificação OMG - MASIF (Mobile Agent System interoperability Facilities)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odelo de Ciclo de Vida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- serviços 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necessários para se criar, destruir, 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niciar, suspender e terminar um agente.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6746760" y="3759120"/>
            <a:ext cx="2701800" cy="3022560"/>
            <a:chOff x="6746760" y="3759120"/>
            <a:chExt cx="2701800" cy="3022560"/>
          </a:xfrm>
        </p:grpSpPr>
        <p:pic>
          <p:nvPicPr>
            <p:cNvPr id="389" name="" descr=""/>
            <p:cNvPicPr/>
            <p:nvPr/>
          </p:nvPicPr>
          <p:blipFill>
            <a:blip r:embed="rId1"/>
            <a:stretch/>
          </p:blipFill>
          <p:spPr>
            <a:xfrm>
              <a:off x="6746760" y="3759120"/>
              <a:ext cx="2701800" cy="302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6838920" y="3805200"/>
              <a:ext cx="2504880" cy="29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228600" y="1922400"/>
          <a:ext cx="8610480" cy="394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22400"/>
                    <a:ext cx="8610480" cy="39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Paradigmas</a:t>
            </a: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599840" y="5331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Critérios de Análise</a:t>
            </a:r>
            <a:endParaRPr b="0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61048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o de Migraçã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mecanismos de transporte de agentes entre duas entidades computacionais.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o de Comunicaçã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define a comunicação entre agentes e entre agente / outras entidades.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6365880" y="3378240"/>
            <a:ext cx="2701800" cy="3022560"/>
            <a:chOff x="6365880" y="3378240"/>
            <a:chExt cx="2701800" cy="3022560"/>
          </a:xfrm>
        </p:grpSpPr>
        <p:pic>
          <p:nvPicPr>
            <p:cNvPr id="394" name="" descr=""/>
            <p:cNvPicPr/>
            <p:nvPr/>
          </p:nvPicPr>
          <p:blipFill>
            <a:blip r:embed="rId1"/>
            <a:stretch/>
          </p:blipFill>
          <p:spPr>
            <a:xfrm>
              <a:off x="6365880" y="3378240"/>
              <a:ext cx="2701800" cy="302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"/>
            <p:cNvSpPr/>
            <p:nvPr/>
          </p:nvSpPr>
          <p:spPr>
            <a:xfrm>
              <a:off x="6458040" y="3424320"/>
              <a:ext cx="2504880" cy="29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360" y="9907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Plataformas Analisadas</a:t>
            </a:r>
            <a:br>
              <a:rPr sz="3600"/>
            </a:br>
            <a:endParaRPr b="0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76312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99"/>
                </a:solidFill>
                <a:latin typeface="Arial"/>
              </a:rPr>
              <a:t>Concordia da Mitsubishi Eletric 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99"/>
                </a:solidFill>
                <a:latin typeface="Arial"/>
              </a:rPr>
              <a:t>Voyager da ObjectSpace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99"/>
                </a:solidFill>
                <a:latin typeface="Arial"/>
              </a:rPr>
              <a:t>Odyssey da General Magic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7147080" y="3200400"/>
            <a:ext cx="1625400" cy="296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599840" y="5331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eaeaea"/>
                </a:solidFill>
                <a:latin typeface="Arial"/>
              </a:rPr>
              <a:t>Framework Concordia</a:t>
            </a:r>
            <a:endParaRPr b="0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omponentes Básico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gente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- modelado como um programa Java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ervidor Concordia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 servidor Concordia é executado a partir do botão Iniciar do Windows.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Itinerário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- objeto que encapsula os endereços de destino do agente e os métodos que o agente pode executar.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99840" y="4568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eaeaea"/>
                </a:solidFill>
                <a:latin typeface="Arial"/>
              </a:rPr>
              <a:t>Framework Concordia</a:t>
            </a:r>
            <a:endParaRPr b="0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odelo de Ciclo de Vida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Um agente herda métodos e atributos da classe Agent (COM.meitca.concordia). É criado através do construtor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 retirado pelo coletor de lixo da JVM  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lassAgent agente = new ClassAgent();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. . . 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mport COM.meitca.concordia.*;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ublic class ClassAgent extends Agent {  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599840" y="5331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eaeaea"/>
                </a:solidFill>
                <a:latin typeface="Arial"/>
              </a:rPr>
              <a:t>Framework Concordia</a:t>
            </a:r>
            <a:endParaRPr b="0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76276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odelo de Migração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s migrações do agente são descritas pelos seus itinerários. Itinerário é uma estrutura de dados armazenada e mantida fora do objeto agente. 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tinerary itinerario = new Itinerary();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tinerario.addDestination(new Destination(host1, “metodo1”));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tinerario.addDestination(new Destination(host2, “metodo2”));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gente.setItinerary(itinerario);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gente.launch();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599840" y="5331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eaeaea"/>
                </a:solidFill>
                <a:latin typeface="Arial"/>
              </a:rPr>
              <a:t>Framework Concordia</a:t>
            </a:r>
            <a:endParaRPr b="0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4920" y="205704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odelo de Comunicação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Java RMI.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nvocação de método para comunicação com outro agente. Comunicação síncrona. Comunicação remota ou local é transparente.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2895480" y="4114800"/>
            <a:ext cx="5784840" cy="2514600"/>
            <a:chOff x="2895480" y="4114800"/>
            <a:chExt cx="5784840" cy="2514600"/>
          </a:xfrm>
        </p:grpSpPr>
        <p:sp>
          <p:nvSpPr>
            <p:cNvPr id="408" name=""/>
            <p:cNvSpPr/>
            <p:nvPr/>
          </p:nvSpPr>
          <p:spPr>
            <a:xfrm flipH="1" flipV="1">
              <a:off x="3596760" y="4470120"/>
              <a:ext cx="1457640" cy="33660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276720" y="4724280"/>
              <a:ext cx="1693800" cy="13035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pic>
          <p:nvPicPr>
            <p:cNvPr id="410" name="" descr=""/>
            <p:cNvPicPr/>
            <p:nvPr/>
          </p:nvPicPr>
          <p:blipFill>
            <a:blip r:embed="rId1"/>
            <a:stretch/>
          </p:blipFill>
          <p:spPr>
            <a:xfrm>
              <a:off x="6878520" y="5191200"/>
              <a:ext cx="1801800" cy="143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1" name="" descr=""/>
            <p:cNvPicPr/>
            <p:nvPr/>
          </p:nvPicPr>
          <p:blipFill>
            <a:blip r:embed="rId2"/>
            <a:stretch/>
          </p:blipFill>
          <p:spPr>
            <a:xfrm>
              <a:off x="6781680" y="4579920"/>
              <a:ext cx="76212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2" name="" descr=""/>
            <p:cNvPicPr/>
            <p:nvPr/>
          </p:nvPicPr>
          <p:blipFill>
            <a:blip r:embed="rId3"/>
            <a:stretch/>
          </p:blipFill>
          <p:spPr>
            <a:xfrm>
              <a:off x="4952880" y="5943600"/>
              <a:ext cx="762120" cy="60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5638680" y="6248520"/>
              <a:ext cx="1219320" cy="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pic>
          <p:nvPicPr>
            <p:cNvPr id="414" name="" descr=""/>
            <p:cNvPicPr/>
            <p:nvPr/>
          </p:nvPicPr>
          <p:blipFill>
            <a:blip r:embed="rId4"/>
            <a:stretch/>
          </p:blipFill>
          <p:spPr>
            <a:xfrm>
              <a:off x="5029200" y="4572000"/>
              <a:ext cx="762120" cy="65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5" name="" descr=""/>
            <p:cNvPicPr/>
            <p:nvPr/>
          </p:nvPicPr>
          <p:blipFill>
            <a:blip r:embed="rId5"/>
            <a:stretch/>
          </p:blipFill>
          <p:spPr>
            <a:xfrm>
              <a:off x="2895480" y="4114800"/>
              <a:ext cx="762120" cy="65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"/>
            <p:cNvSpPr/>
            <p:nvPr/>
          </p:nvSpPr>
          <p:spPr>
            <a:xfrm flipH="1">
              <a:off x="5714640" y="4876920"/>
              <a:ext cx="1066680" cy="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eaeaea"/>
                </a:solidFill>
                <a:latin typeface="Arial"/>
              </a:rPr>
              <a:t>Concordia - Código da Aplicação</a:t>
            </a:r>
            <a:endParaRPr b="0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mport COM.meitca.concordia.*;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22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/**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22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* Exemplo para o Seminario de Agentes Inteligentes.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22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ublic class TesteLaunch {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ublic static void main(String args[]) {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tring destination = “localhost”,   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tring home = "progs.concordia"; 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ry {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esteAgent agente = new TesteAgent();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tinerary itinerary = new Itinerary();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tinerary.addDestination(new Destination(destination, ”obterDados"));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tinerary.addDestination(new Destination(destination,”mostrarDados"));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gente.setItinerary(itinerary);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tring relatedClasses[] = {”InfoServer"};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gente.setRelatedClasses(relatedClasses);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gente.launch();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eaeaea"/>
                </a:solidFill>
                <a:latin typeface="Arial"/>
              </a:rPr>
              <a:t>Concordia - Código da Aplicação</a:t>
            </a:r>
            <a:r>
              <a:rPr b="0" lang="pt-BR" sz="4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mport java.util.*;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mport java.net.*;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mport COM.meitca.concordia.*;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ublic class TesteAgent extends Agent {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ector listaInfoServer;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ublic TesteAgent() {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istaInfoServer = new Vector();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ublic void obterDados() {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ry {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istaInfoServer.addElement(new InfoServer(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etAddress.getLocalHost().getHostName(),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ystem.getProperty("user.name"),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ystem.getProperty("os.name"),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ystem.getProperty("os.version")));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86108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eaeaea"/>
                </a:solidFill>
                <a:latin typeface="Arial"/>
              </a:rPr>
              <a:t>Concordia - Código da Aplicação</a:t>
            </a:r>
            <a:endParaRPr b="0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/**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* Este metodo mostra as informações obtidas durante a viagem do agente.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ublic void mostrarDados() {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numeration enum = listaInfoServer.elements();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ystem.out.println("O Agente visitou:\n");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while (enum.hasMoreElements()) {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foServer info = (InfoServer)enum.nextElement();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ystem.out.println("************************************************************");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ystem.out.println("\tNome do servidor é: " + info.nomeServer);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ystem.out.println("\tNome do usuário é: " + info.nomeUser);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ystem.out.println("\tSistema Operacional é: " + info.nomeOs);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ystem.out.println("\tA versão do SO é: " + info.nomeVersaoOs);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ystem.out.println("************************************************************");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86108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eaeaea"/>
                </a:solidFill>
                <a:latin typeface="Arial"/>
              </a:rPr>
              <a:t>Concordia - Código da Aplicação</a:t>
            </a:r>
            <a:endParaRPr b="0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25" name=""/>
          <p:cNvSpPr/>
          <p:nvPr/>
        </p:nvSpPr>
        <p:spPr>
          <a:xfrm>
            <a:off x="304920" y="1649520"/>
            <a:ext cx="83055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import java.io.*;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public class InfoServer implements Serializable {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public String nomeServer;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public String nomeUser;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public String nomeOs;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public String nomeVersaoOs;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public InfoServer (String serverName, String userName,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String osName, String osVersion){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nomeServer = serverName;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nomeUser = userName;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nomeOs = osName;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nomeVersaoOs = osVersion;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Paradigmas</a:t>
            </a: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Evolução da programação de aplicações distribuídas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5105520" y="1981080"/>
            <a:ext cx="3200400" cy="4572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ensagem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105520" y="2514600"/>
            <a:ext cx="3200400" cy="1066680"/>
            <a:chOff x="5105520" y="2514600"/>
            <a:chExt cx="3200400" cy="1066680"/>
          </a:xfrm>
        </p:grpSpPr>
        <p:sp>
          <p:nvSpPr>
            <p:cNvPr id="138" name=""/>
            <p:cNvSpPr/>
            <p:nvPr/>
          </p:nvSpPr>
          <p:spPr>
            <a:xfrm>
              <a:off x="6324480" y="2514600"/>
              <a:ext cx="762120" cy="304920"/>
            </a:xfrm>
            <a:prstGeom prst="downArrow">
              <a:avLst>
                <a:gd name="adj1" fmla="val 45417"/>
                <a:gd name="adj2" fmla="val 68750"/>
              </a:avLst>
            </a:prstGeom>
            <a:solidFill>
              <a:srgbClr val="ffff66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105520" y="3048120"/>
              <a:ext cx="3200400" cy="5331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RPC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105520" y="3657600"/>
            <a:ext cx="3200400" cy="1066680"/>
            <a:chOff x="5105520" y="3657600"/>
            <a:chExt cx="3200400" cy="1066680"/>
          </a:xfrm>
        </p:grpSpPr>
        <p:sp>
          <p:nvSpPr>
            <p:cNvPr id="141" name=""/>
            <p:cNvSpPr/>
            <p:nvPr/>
          </p:nvSpPr>
          <p:spPr>
            <a:xfrm>
              <a:off x="6324480" y="3657600"/>
              <a:ext cx="762120" cy="304920"/>
            </a:xfrm>
            <a:prstGeom prst="downArrow">
              <a:avLst>
                <a:gd name="adj1" fmla="val 45417"/>
                <a:gd name="adj2" fmla="val 68750"/>
              </a:avLst>
            </a:prstGeom>
            <a:solidFill>
              <a:srgbClr val="ffff66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05520" y="4191120"/>
              <a:ext cx="3200400" cy="5331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Objetos Distribuídos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105520" y="4800600"/>
            <a:ext cx="3200400" cy="1066680"/>
            <a:chOff x="5105520" y="4800600"/>
            <a:chExt cx="3200400" cy="1066680"/>
          </a:xfrm>
        </p:grpSpPr>
        <p:sp>
          <p:nvSpPr>
            <p:cNvPr id="144" name=""/>
            <p:cNvSpPr/>
            <p:nvPr/>
          </p:nvSpPr>
          <p:spPr>
            <a:xfrm>
              <a:off x="6324480" y="4800600"/>
              <a:ext cx="762120" cy="304920"/>
            </a:xfrm>
            <a:prstGeom prst="downArrow">
              <a:avLst>
                <a:gd name="adj1" fmla="val 45417"/>
                <a:gd name="adj2" fmla="val 68750"/>
              </a:avLst>
            </a:prstGeom>
            <a:solidFill>
              <a:srgbClr val="ffff66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105520" y="5334120"/>
              <a:ext cx="3200400" cy="5331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Agentes móveis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599840" y="5331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eaeaea"/>
                </a:solidFill>
                <a:latin typeface="Arial"/>
              </a:rPr>
              <a:t>Framework Voyager</a:t>
            </a:r>
            <a:endParaRPr b="0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omponentes Básicos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gente/Objeto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- modelado como um programa Java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Interface do Agente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ervidor Voyager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É executado através do comando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voyager 8000.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Também é executado a partir do programa.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ublic class MeuServidor {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tatic void main (Str9ing args[]) {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Voyager.startup(8000);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Objeto Proxy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599840" y="5331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eaeaea"/>
                </a:solidFill>
                <a:latin typeface="Arial"/>
              </a:rPr>
              <a:t>Framework Voyager</a:t>
            </a:r>
            <a:endParaRPr b="0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odelo de Ciclo de Vida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 método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Factory.create()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cria uma proxy para o agente a ser criado. Um agente pode ter um tempo de vida infinito (liveForever)  ou determinado. É destruído pelo método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dieNow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u com o método Voyager.shutdown();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ClassAgent agente = (IClassAgent) Factory.create(“nomeAgente”, “//localhost:8000);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99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599840" y="5331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eaeaea"/>
                </a:solidFill>
                <a:latin typeface="Arial"/>
              </a:rPr>
              <a:t>Framework Voyager</a:t>
            </a:r>
            <a:endParaRPr b="0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104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Modelo de Migração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 migração é feita pela método moveTo. O Voyager usa Java Reflection para invocar mais de um método do agente qdo ele atinge um novo host.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298440" indent="-29844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marL="2984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ublic class MeuAgente extends Agent {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2984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euAgente(); { }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2984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ublic void inicioViagem {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2984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oveTo(“globo.com”, “compraTicket”, quant); }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2984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ublic void compraTicket (int quant) {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2984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. . .                        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// compra o ticket aqui ...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2984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oveTo(“home.com.br” “fim”); }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2984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ublic void fim() {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2984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ieNow(); }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2984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}                 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29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99840" y="5331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eaeaea"/>
                </a:solidFill>
                <a:latin typeface="Arial"/>
              </a:rPr>
              <a:t>Framework Voyager</a:t>
            </a:r>
            <a:endParaRPr b="0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83908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o de Comunicação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B próprio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ocação de método para comunicação com outro agente. Comunicação síncrona e assíncrona. Comunicação remota ou local é transparente.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2895480" y="4114800"/>
            <a:ext cx="5784840" cy="2514600"/>
            <a:chOff x="2895480" y="4114800"/>
            <a:chExt cx="5784840" cy="2514600"/>
          </a:xfrm>
        </p:grpSpPr>
        <p:sp>
          <p:nvSpPr>
            <p:cNvPr id="435" name=""/>
            <p:cNvSpPr/>
            <p:nvPr/>
          </p:nvSpPr>
          <p:spPr>
            <a:xfrm flipH="1" flipV="1">
              <a:off x="3596760" y="4470120"/>
              <a:ext cx="1457640" cy="33660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276720" y="4724280"/>
              <a:ext cx="1693800" cy="13035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pic>
          <p:nvPicPr>
            <p:cNvPr id="437" name="" descr=""/>
            <p:cNvPicPr/>
            <p:nvPr/>
          </p:nvPicPr>
          <p:blipFill>
            <a:blip r:embed="rId1"/>
            <a:stretch/>
          </p:blipFill>
          <p:spPr>
            <a:xfrm>
              <a:off x="6878520" y="5191200"/>
              <a:ext cx="1801800" cy="143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" descr=""/>
            <p:cNvPicPr/>
            <p:nvPr/>
          </p:nvPicPr>
          <p:blipFill>
            <a:blip r:embed="rId2"/>
            <a:stretch/>
          </p:blipFill>
          <p:spPr>
            <a:xfrm>
              <a:off x="6781680" y="4579920"/>
              <a:ext cx="76212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9" name="" descr=""/>
            <p:cNvPicPr/>
            <p:nvPr/>
          </p:nvPicPr>
          <p:blipFill>
            <a:blip r:embed="rId3"/>
            <a:stretch/>
          </p:blipFill>
          <p:spPr>
            <a:xfrm>
              <a:off x="4952880" y="5943600"/>
              <a:ext cx="762120" cy="60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>
              <a:off x="5638680" y="6248520"/>
              <a:ext cx="1219320" cy="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pic>
          <p:nvPicPr>
            <p:cNvPr id="441" name="" descr=""/>
            <p:cNvPicPr/>
            <p:nvPr/>
          </p:nvPicPr>
          <p:blipFill>
            <a:blip r:embed="rId4"/>
            <a:stretch/>
          </p:blipFill>
          <p:spPr>
            <a:xfrm>
              <a:off x="5029200" y="4572000"/>
              <a:ext cx="762120" cy="65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2" name="" descr=""/>
            <p:cNvPicPr/>
            <p:nvPr/>
          </p:nvPicPr>
          <p:blipFill>
            <a:blip r:embed="rId5"/>
            <a:stretch/>
          </p:blipFill>
          <p:spPr>
            <a:xfrm>
              <a:off x="2895480" y="4114800"/>
              <a:ext cx="762120" cy="65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 flipH="1">
              <a:off x="5714640" y="4876920"/>
              <a:ext cx="1066680" cy="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86108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eaeaea"/>
                </a:solidFill>
                <a:latin typeface="Arial"/>
              </a:rPr>
              <a:t>Voyager - Código da Aplicação</a:t>
            </a:r>
            <a:endParaRPr b="0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46" name=""/>
          <p:cNvSpPr/>
          <p:nvPr/>
        </p:nvSpPr>
        <p:spPr>
          <a:xfrm>
            <a:off x="304920" y="1649520"/>
            <a:ext cx="83055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import com.objectspace.voyager.*;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import com.objectspace.voyager.mobility.*;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import com.objectspace.lib.util.*;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public class TestLaunch {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public static void main(String args[]) {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try {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Voyager.startup("7000");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ITestAgent agenteProxy = (ITestAgent) Factory.create("TestAgent");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                                                      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IMobility agenteMovel = Mobility.of(agenteProxy-);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agenteMovel.moveTo("//localhost:8000");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agenteProxy.getServerData();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86108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eaeaea"/>
                </a:solidFill>
                <a:latin typeface="Arial"/>
              </a:rPr>
              <a:t>Voyager - Código da Aplicação</a:t>
            </a:r>
            <a:endParaRPr b="0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49" name=""/>
          <p:cNvSpPr/>
          <p:nvPr/>
        </p:nvSpPr>
        <p:spPr>
          <a:xfrm>
            <a:off x="304920" y="1649520"/>
            <a:ext cx="83055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/** Continuacao do Programa Principal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*/     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agenteMovel.moveTo("//localhost:9000");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agenteProxy.reportServerInfo();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catch (Exception e) {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System.err.println(e.getMessage());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e.printStackTrace();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Voyager.shutdown();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86108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eaeaea"/>
                </a:solidFill>
                <a:latin typeface="Arial"/>
              </a:rPr>
              <a:t>Voyager - Código da Aplicação</a:t>
            </a:r>
            <a:endParaRPr b="0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52" name=""/>
          <p:cNvSpPr/>
          <p:nvPr/>
        </p:nvSpPr>
        <p:spPr>
          <a:xfrm>
            <a:off x="914400" y="1965240"/>
            <a:ext cx="7162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public interface ITestAgent {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void getServerData();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void reportServerInfo();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86108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eaeaea"/>
                </a:solidFill>
                <a:latin typeface="Arial"/>
              </a:rPr>
              <a:t>Voyager - Código da Aplicação</a:t>
            </a:r>
            <a:endParaRPr b="0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55" name=""/>
          <p:cNvSpPr/>
          <p:nvPr/>
        </p:nvSpPr>
        <p:spPr>
          <a:xfrm>
            <a:off x="304920" y="1649520"/>
            <a:ext cx="83055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import java.util.*;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import java.net.*;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import java.io.*;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import com.objectspace.voyager.mobility.*;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public class TestAgent implements ITestAgent, Serializable {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Vector listaInfoServer = new Vector();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public TestAgent() {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System.out.println("Passou no Construtor");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86108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eaeaea"/>
                </a:solidFill>
                <a:latin typeface="Arial"/>
              </a:rPr>
              <a:t>Voyager - Código da Aplicação</a:t>
            </a:r>
            <a:endParaRPr b="0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1649520"/>
            <a:ext cx="83055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public void getServerData() {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try {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listaInfoServer.addElement(new ServerInfo(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                        </a:t>
            </a: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InetAddress.getLocalHost().getHostName(),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                        </a:t>
            </a: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System.getProperty("user.name"),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                        </a:t>
            </a: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System.getProperty("os.name"),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                        </a:t>
            </a: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System.getProperty("os.version")));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            </a:t>
            </a: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System.out.println("Mensagem UM no HOST remoto");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}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catch (Exception error) {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System.out.println("TestAgent.getServerData: ocorreu erro.\n"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                            </a:t>
            </a: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error.getMessage());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error.printStackTrace();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86108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eaeaea"/>
                </a:solidFill>
                <a:latin typeface="Arial"/>
              </a:rPr>
              <a:t>Voyager - Código da Aplicação</a:t>
            </a:r>
            <a:endParaRPr b="0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61" name=""/>
          <p:cNvSpPr/>
          <p:nvPr/>
        </p:nvSpPr>
        <p:spPr>
          <a:xfrm>
            <a:off x="304920" y="1649520"/>
            <a:ext cx="830556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public void reportServerInfo() {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Enumeration enum = listaInfoServer.elements();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System.out.println("O Agente visitou:\n");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while (enum.hasMoreElements()) {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ServerInfo info = (ServerInfo)enum.nextElement();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System.out.println("************************************************************");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System.out.println("\tServer name was : " + info.nomeServer);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System.out.println("\tUser Name was: " + info.nomeUser);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System.out.println("\tThe OS was: " + info.nomeOs);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System.out.println("\tOS Version was: " + info.nomeVersaoOs);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System.out.println("************************************************************");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AGENTE MÓVEL</a:t>
            </a: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O que é?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ahoma"/>
              </a:rPr>
              <a:t>Software agente que pode se mover entre vários locais na rede e agir em favor do usuário ou outra entidade [1]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Cada agente móvel possui </a:t>
            </a:r>
            <a:r>
              <a:rPr b="1" lang="en-US" sz="2800" spc="-1" strike="noStrike" u="sng">
                <a:solidFill>
                  <a:srgbClr val="cc3300"/>
                </a:solidFill>
                <a:uFillTx/>
                <a:latin typeface="Tahoma"/>
              </a:rPr>
              <a:t>instruções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, </a:t>
            </a:r>
            <a:r>
              <a:rPr b="1" lang="en-US" sz="2800" spc="-1" strike="noStrike" u="sng">
                <a:solidFill>
                  <a:srgbClr val="cc3300"/>
                </a:solidFill>
                <a:uFillTx/>
                <a:latin typeface="Tahoma"/>
              </a:rPr>
              <a:t>dados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e carrega informações sobre o seu próprio </a:t>
            </a:r>
            <a:r>
              <a:rPr b="1" lang="en-US" sz="2800" spc="-1" strike="noStrike" u="sng">
                <a:solidFill>
                  <a:srgbClr val="cc3300"/>
                </a:solidFill>
                <a:uFillTx/>
                <a:latin typeface="Tahoma"/>
              </a:rPr>
              <a:t>estado de execução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599840" y="5331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eaeaea"/>
                </a:solidFill>
                <a:latin typeface="Arial"/>
              </a:rPr>
              <a:t>Framework Odyssey</a:t>
            </a:r>
            <a:endParaRPr b="0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omponentes Básicos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gente - é uma extensão da classe Agent ou da classe Worker. 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istema de Agentes - é um conjunto de classes Java que suporta agentes e lugares. O servidor Odyssey executado a partir de um arquivo .boot com alguns parâmetros. 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ugar (Place) - é o contexto dentro de um sistema de agentes no qual os agentes são executados. Classe Java derivada da classe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Place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599840" y="5331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eaeaea"/>
                </a:solidFill>
                <a:latin typeface="Arial"/>
              </a:rPr>
              <a:t>Framework Odyssey</a:t>
            </a:r>
            <a:endParaRPr b="0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61048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odelo de Ciclo de Vida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Um agente herda métodos e atributos da classe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Worker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. É criado através do construtor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e não existe método específico para destruir o agente.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lassAgent agente = new ClassAgent(“agent”);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mport genmagic.odyssey*;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ublic class ClassAgent extends Worker {  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599840" y="5331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eaeaea"/>
                </a:solidFill>
                <a:latin typeface="Arial"/>
              </a:rPr>
              <a:t>Framework Odyssey</a:t>
            </a:r>
            <a:endParaRPr b="0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odelo de Migração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inerários são armazenados em array (parâmetro na criação do agente). O método start dispara o agente.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ublic class MeuAgente extends Worker {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tected void inicioViagem() { . . . }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tected void compraTicket() { . . . }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Task ts[] = new Task[2];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ts[0] = new Task(“go://globo.com”, “inicioViagem”);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ts[1] = new Task(“go://home.com.br”, “fim”);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euAgente agente = new MeuAgente(ts);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euAgente.start();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68" name=""/>
          <p:cNvSpPr/>
          <p:nvPr/>
        </p:nvSpPr>
        <p:spPr>
          <a:xfrm>
            <a:off x="6019920" y="3124080"/>
            <a:ext cx="304560" cy="1295640"/>
          </a:xfrm>
          <a:custGeom>
            <a:avLst/>
            <a:gdLst>
              <a:gd name="textAreaLeft" fmla="*/ 0 w 304560"/>
              <a:gd name="textAreaRight" fmla="*/ 109800 w 30456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0" y="4724280"/>
            <a:ext cx="457200" cy="2057400"/>
          </a:xfrm>
          <a:custGeom>
            <a:avLst/>
            <a:gdLst>
              <a:gd name="textAreaLeft" fmla="*/ 0 w 457200"/>
              <a:gd name="textAreaRight" fmla="*/ 164880 w 4572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706800" y="3292560"/>
            <a:ext cx="168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Times New Roman"/>
              </a:rPr>
              <a:t>Classe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Times New Roman"/>
              </a:rPr>
              <a:t>MeuAgente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468200" y="5273640"/>
            <a:ext cx="150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Programa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Principal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599840" y="5331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eaeaea"/>
                </a:solidFill>
                <a:latin typeface="Arial"/>
              </a:rPr>
              <a:t>Framework Odyssey</a:t>
            </a:r>
            <a:endParaRPr b="0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odelo de Comunicação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Java RMI.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nvocação de método para comunicação com outro agente. Comunicação síncrona. Comunicação somente local.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2895480" y="4114800"/>
            <a:ext cx="5784840" cy="2514600"/>
            <a:chOff x="2895480" y="4114800"/>
            <a:chExt cx="5784840" cy="2514600"/>
          </a:xfrm>
        </p:grpSpPr>
        <p:sp>
          <p:nvSpPr>
            <p:cNvPr id="475" name=""/>
            <p:cNvSpPr/>
            <p:nvPr/>
          </p:nvSpPr>
          <p:spPr>
            <a:xfrm flipH="1" flipV="1">
              <a:off x="3596760" y="4470120"/>
              <a:ext cx="1457640" cy="33660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276720" y="4724280"/>
              <a:ext cx="1693800" cy="13035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pic>
          <p:nvPicPr>
            <p:cNvPr id="477" name="" descr=""/>
            <p:cNvPicPr/>
            <p:nvPr/>
          </p:nvPicPr>
          <p:blipFill>
            <a:blip r:embed="rId1"/>
            <a:stretch/>
          </p:blipFill>
          <p:spPr>
            <a:xfrm>
              <a:off x="6878520" y="5191200"/>
              <a:ext cx="1801800" cy="143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" descr=""/>
            <p:cNvPicPr/>
            <p:nvPr/>
          </p:nvPicPr>
          <p:blipFill>
            <a:blip r:embed="rId2"/>
            <a:stretch/>
          </p:blipFill>
          <p:spPr>
            <a:xfrm>
              <a:off x="6781680" y="4579920"/>
              <a:ext cx="76212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9" name="" descr=""/>
            <p:cNvPicPr/>
            <p:nvPr/>
          </p:nvPicPr>
          <p:blipFill>
            <a:blip r:embed="rId3"/>
            <a:stretch/>
          </p:blipFill>
          <p:spPr>
            <a:xfrm>
              <a:off x="4952880" y="5943600"/>
              <a:ext cx="762120" cy="60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5638680" y="6248520"/>
              <a:ext cx="1219320" cy="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pic>
          <p:nvPicPr>
            <p:cNvPr id="481" name="" descr=""/>
            <p:cNvPicPr/>
            <p:nvPr/>
          </p:nvPicPr>
          <p:blipFill>
            <a:blip r:embed="rId4"/>
            <a:stretch/>
          </p:blipFill>
          <p:spPr>
            <a:xfrm>
              <a:off x="5029200" y="4572000"/>
              <a:ext cx="762120" cy="65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" descr=""/>
            <p:cNvPicPr/>
            <p:nvPr/>
          </p:nvPicPr>
          <p:blipFill>
            <a:blip r:embed="rId5"/>
            <a:stretch/>
          </p:blipFill>
          <p:spPr>
            <a:xfrm>
              <a:off x="2895480" y="4114800"/>
              <a:ext cx="762120" cy="65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"/>
            <p:cNvSpPr/>
            <p:nvPr/>
          </p:nvSpPr>
          <p:spPr>
            <a:xfrm flipH="1">
              <a:off x="5714640" y="4876920"/>
              <a:ext cx="1066680" cy="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Análise Comparativa</a:t>
            </a:r>
            <a:endParaRPr b="0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485" name=""/>
          <p:cNvGraphicFramePr/>
          <p:nvPr/>
        </p:nvGraphicFramePr>
        <p:xfrm>
          <a:off x="304920" y="1819440"/>
          <a:ext cx="8381880" cy="503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819440"/>
                    <a:ext cx="8381880" cy="50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4920" y="6858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Análise Comparativa</a:t>
            </a:r>
            <a:endParaRPr b="0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488" name=""/>
          <p:cNvGraphicFramePr/>
          <p:nvPr/>
        </p:nvGraphicFramePr>
        <p:xfrm>
          <a:off x="457200" y="2390760"/>
          <a:ext cx="8077320" cy="3019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90760"/>
                    <a:ext cx="80773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4920" y="6858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Análise Comparativa</a:t>
            </a:r>
            <a:endParaRPr b="0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1440" y="1600200"/>
          <a:ext cx="9141120" cy="529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1600200"/>
                    <a:ext cx="9141120" cy="52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4920" y="6858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Análise Comparativa</a:t>
            </a:r>
            <a:endParaRPr b="0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1440" y="1495440"/>
          <a:ext cx="9141120" cy="558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1495440"/>
                    <a:ext cx="9141120" cy="55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04920" y="6858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Análise Comparativa</a:t>
            </a:r>
            <a:endParaRPr b="0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457200" y="2390760"/>
          <a:ext cx="8077320" cy="3019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90760"/>
                    <a:ext cx="80773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SÍNTESE</a:t>
            </a: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457200" y="2057400"/>
          <a:ext cx="8240760" cy="3724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057400"/>
                    <a:ext cx="824076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1828800" y="1766880"/>
          <a:ext cx="5791320" cy="473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766880"/>
                    <a:ext cx="5791320" cy="47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Exemplo 1: Reserva Aérea</a:t>
            </a: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SÍNTESE</a:t>
            </a: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609480" y="2133720"/>
          <a:ext cx="8240760" cy="343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133720"/>
                    <a:ext cx="8240760" cy="34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SÍNTESE</a:t>
            </a: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762120" y="1676520"/>
          <a:ext cx="7467480" cy="478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467480" cy="47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aeaea"/>
                </a:solidFill>
                <a:latin typeface="Tahoma"/>
              </a:rPr>
              <a:t>Bibliografia</a:t>
            </a: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"/>
              </a:rPr>
              <a:t>Silva, J.L.C. e Souza, J.N. “Agentes Móveis com Java: As Plataformas Aglets, Concordia, Odyssy e Voyager”. Projeto Gerente, ProTeM CC-III, Relatório Técnico, Dez. 1998.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"/>
              </a:rPr>
              <a:t>Pham, V.A. and Karmouch, ªMobile Software Agents: na Overview”. IEEE Communication, Vol.36, No 7, pp.26-36, 1998.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Tahoma"/>
              </a:rPr>
              <a:t>Bieszczad, A., Pagurek B., White, T.; Mobile Agents for Network Management, IEEE Communications Surveys, Fourth Quarter 1998, vol. 1, no. 1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36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Bibliografia</a:t>
            </a: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87631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"/>
              </a:rPr>
              <a:t>General Magic, “Introduction to The Odyssey API”, published by G.M., 1997.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"/>
              </a:rPr>
              <a:t>Mitsubishi Eletric, “Mobile Agent Computing: A White Paper”. Published by The Horizon Systems Laboratory, Jan 1998. 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"/>
              </a:rPr>
              <a:t>Http://www.meitca.com/HSL/Projects/Concordia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"/>
              </a:rPr>
              <a:t>Endler, M., “Novos Paradigmas de Interação usando Agentes Móveis”. Minicurso apresentado no XVI SBRC, Rio de Janeiro, Maio 1998.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"/>
              </a:rPr>
              <a:t>ObjectSpace, “Voyager Core Technology 2.0”. User Guide, 1998.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9036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Arial"/>
              </a:rPr>
              <a:t>FIM</a:t>
            </a: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13" name=""/>
          <p:cNvSpPr/>
          <p:nvPr/>
        </p:nvSpPr>
        <p:spPr>
          <a:xfrm>
            <a:off x="2955960" y="1962000"/>
            <a:ext cx="33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Muito obrigado!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2708280" y="2822400"/>
            <a:ext cx="3295800" cy="342612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 rot="19497600">
            <a:off x="1665000" y="4798800"/>
            <a:ext cx="213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Questõe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rot="2549400">
            <a:off x="5362560" y="4812840"/>
            <a:ext cx="183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Dúvida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Exemplo 2: Compras</a:t>
            </a: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676520" y="1676520"/>
          <a:ext cx="6019560" cy="492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676520"/>
                    <a:ext cx="6019560" cy="49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Exemplo 3: Gerência de Redes</a:t>
            </a: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143760" y="2838600"/>
            <a:ext cx="568080" cy="7063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3535200" y="2247840"/>
            <a:ext cx="703440" cy="7477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4761000" y="4667400"/>
            <a:ext cx="1787400" cy="13744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7010280" y="2038320"/>
            <a:ext cx="1597320" cy="12668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4089240" y="3741840"/>
            <a:ext cx="1441440" cy="5410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6"/>
          <a:stretch/>
        </p:blipFill>
        <p:spPr>
          <a:xfrm>
            <a:off x="7684920" y="4610160"/>
            <a:ext cx="1190880" cy="166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1" name=""/>
          <p:cNvGraphicFramePr/>
          <p:nvPr/>
        </p:nvGraphicFramePr>
        <p:xfrm>
          <a:off x="6827760" y="5875200"/>
          <a:ext cx="544680" cy="66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27760" y="5875200"/>
                    <a:ext cx="54468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3" name="" descr=""/>
          <p:cNvPicPr/>
          <p:nvPr/>
        </p:nvPicPr>
        <p:blipFill>
          <a:blip r:embed="rId9"/>
          <a:stretch/>
        </p:blipFill>
        <p:spPr>
          <a:xfrm>
            <a:off x="3984480" y="1962000"/>
            <a:ext cx="1764000" cy="13557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0"/>
          <a:stretch/>
        </p:blipFill>
        <p:spPr>
          <a:xfrm>
            <a:off x="365040" y="4838760"/>
            <a:ext cx="1763640" cy="13557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1"/>
          <a:stretch/>
        </p:blipFill>
        <p:spPr>
          <a:xfrm>
            <a:off x="176040" y="4529160"/>
            <a:ext cx="762120" cy="8096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2"/>
          <a:stretch/>
        </p:blipFill>
        <p:spPr>
          <a:xfrm>
            <a:off x="2203560" y="5848200"/>
            <a:ext cx="583920" cy="7257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 flipH="1" rot="370200">
            <a:off x="4971240" y="6133680"/>
            <a:ext cx="3372120" cy="476640"/>
          </a:xfrm>
          <a:custGeom>
            <a:avLst/>
            <a:gdLst>
              <a:gd name="textAreaLeft" fmla="*/ 663480 w 3372120"/>
              <a:gd name="textAreaRight" fmla="*/ 2354400 w 3372120"/>
              <a:gd name="textAreaTop" fmla="*/ 63720 h 476640"/>
              <a:gd name="textAreaBottom" fmla="*/ 412920 h 47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502" hR="21600" stAng="10800000" swAng="-5400000"/>
                <a:lnTo>
                  <a:pt x="10829" y="21600"/>
                </a:lnTo>
                <a:arcTo wR="8502" hR="21600" stAng="5400000" swAng="-2100285"/>
                <a:lnTo>
                  <a:pt x="20510" y="10583"/>
                </a:lnTo>
                <a:lnTo>
                  <a:pt x="18168" y="0"/>
                </a:lnTo>
                <a:lnTo>
                  <a:pt x="13645" y="10583"/>
                </a:lnTo>
                <a:lnTo>
                  <a:pt x="15914" y="10583"/>
                </a:lnTo>
                <a:arcTo wR="8502" hR="21600" stAng="3299715" swAng="1913534"/>
                <a:lnTo>
                  <a:pt x="9666" y="21397"/>
                </a:lnTo>
                <a:arcTo wR="8502" hR="21600" stAng="5586752" swAng="5213248"/>
                <a:close/>
              </a:path>
              <a:path fill="darkenLess" w="21600" h="21600">
                <a:moveTo>
                  <a:pt x="0" y="0"/>
                </a:moveTo>
                <a:arcTo wR="8502" hR="21600" stAng="10800000" swAng="-5400000"/>
                <a:lnTo>
                  <a:pt x="10829" y="21600"/>
                </a:lnTo>
                <a:arcTo wR="8502" hR="21600" stAng="5400000" swAng="186752"/>
                <a:lnTo>
                  <a:pt x="9666" y="21397"/>
                </a:lnTo>
                <a:arcTo wR="8502" hR="21600" stAng="5586752" swAng="5213248"/>
                <a:close/>
              </a:path>
            </a:pathLst>
          </a:cu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rot="21587400">
            <a:off x="743040" y="6152760"/>
            <a:ext cx="3371760" cy="476280"/>
          </a:xfrm>
          <a:custGeom>
            <a:avLst/>
            <a:gdLst>
              <a:gd name="textAreaLeft" fmla="*/ 663480 w 3371760"/>
              <a:gd name="textAreaRight" fmla="*/ 2354040 w 3371760"/>
              <a:gd name="textAreaTop" fmla="*/ 63720 h 476280"/>
              <a:gd name="textAreaBottom" fmla="*/ 412560 h 476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502" hR="21600" stAng="10800000" swAng="-5400000"/>
                <a:lnTo>
                  <a:pt x="10829" y="21600"/>
                </a:lnTo>
                <a:arcTo wR="8502" hR="21600" stAng="5400000" swAng="-2100285"/>
                <a:lnTo>
                  <a:pt x="20510" y="10583"/>
                </a:lnTo>
                <a:lnTo>
                  <a:pt x="18168" y="0"/>
                </a:lnTo>
                <a:lnTo>
                  <a:pt x="13645" y="10583"/>
                </a:lnTo>
                <a:lnTo>
                  <a:pt x="15914" y="10583"/>
                </a:lnTo>
                <a:arcTo wR="8502" hR="21600" stAng="3299715" swAng="1913534"/>
                <a:lnTo>
                  <a:pt x="9666" y="21397"/>
                </a:lnTo>
                <a:arcTo wR="8502" hR="21600" stAng="5586752" swAng="5213248"/>
                <a:close/>
              </a:path>
              <a:path fill="darkenLess" w="21600" h="21600">
                <a:moveTo>
                  <a:pt x="0" y="0"/>
                </a:moveTo>
                <a:arcTo wR="8502" hR="21600" stAng="10800000" swAng="-5400000"/>
                <a:lnTo>
                  <a:pt x="10829" y="21600"/>
                </a:lnTo>
                <a:arcTo wR="8502" hR="21600" stAng="5400000" swAng="186752"/>
                <a:lnTo>
                  <a:pt x="9666" y="21397"/>
                </a:lnTo>
                <a:arcTo wR="8502" hR="21600" stAng="5586752" swAng="5213248"/>
                <a:close/>
              </a:path>
            </a:pathLst>
          </a:cu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rot="21587400">
            <a:off x="1809720" y="4285800"/>
            <a:ext cx="3371760" cy="476280"/>
          </a:xfrm>
          <a:custGeom>
            <a:avLst/>
            <a:gdLst>
              <a:gd name="textAreaLeft" fmla="*/ 663480 w 3371760"/>
              <a:gd name="textAreaRight" fmla="*/ 2354040 w 3371760"/>
              <a:gd name="textAreaTop" fmla="*/ 63720 h 476280"/>
              <a:gd name="textAreaBottom" fmla="*/ 412560 h 476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502" hR="21600" stAng="10800000" swAng="-5400000"/>
                <a:lnTo>
                  <a:pt x="10829" y="21600"/>
                </a:lnTo>
                <a:arcTo wR="8502" hR="21600" stAng="5400000" swAng="-2100285"/>
                <a:lnTo>
                  <a:pt x="20510" y="10583"/>
                </a:lnTo>
                <a:lnTo>
                  <a:pt x="18168" y="0"/>
                </a:lnTo>
                <a:lnTo>
                  <a:pt x="13645" y="10583"/>
                </a:lnTo>
                <a:lnTo>
                  <a:pt x="15914" y="10583"/>
                </a:lnTo>
                <a:arcTo wR="8502" hR="21600" stAng="3299715" swAng="1913534"/>
                <a:lnTo>
                  <a:pt x="9666" y="21397"/>
                </a:lnTo>
                <a:arcTo wR="8502" hR="21600" stAng="5586752" swAng="5213248"/>
                <a:close/>
              </a:path>
              <a:path fill="darkenLess" w="21600" h="21600">
                <a:moveTo>
                  <a:pt x="0" y="0"/>
                </a:moveTo>
                <a:arcTo wR="8502" hR="21600" stAng="10800000" swAng="-5400000"/>
                <a:lnTo>
                  <a:pt x="10829" y="21600"/>
                </a:lnTo>
                <a:arcTo wR="8502" hR="21600" stAng="5400000" swAng="186752"/>
                <a:lnTo>
                  <a:pt x="9666" y="21397"/>
                </a:lnTo>
                <a:arcTo wR="8502" hR="21600" stAng="5586752" swAng="5213248"/>
                <a:close/>
              </a:path>
            </a:pathLst>
          </a:cu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rot="21360000">
            <a:off x="4551120" y="3198600"/>
            <a:ext cx="3371760" cy="474480"/>
          </a:xfrm>
          <a:custGeom>
            <a:avLst/>
            <a:gdLst>
              <a:gd name="textAreaLeft" fmla="*/ 663480 w 3371760"/>
              <a:gd name="textAreaRight" fmla="*/ 2354040 w 3371760"/>
              <a:gd name="textAreaTop" fmla="*/ 63360 h 474480"/>
              <a:gd name="textAreaBottom" fmla="*/ 411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502" hR="21600" stAng="10800000" swAng="-5400000"/>
                <a:lnTo>
                  <a:pt x="10829" y="21600"/>
                </a:lnTo>
                <a:arcTo wR="8502" hR="21600" stAng="5400000" swAng="-2100285"/>
                <a:lnTo>
                  <a:pt x="20510" y="10583"/>
                </a:lnTo>
                <a:lnTo>
                  <a:pt x="18168" y="0"/>
                </a:lnTo>
                <a:lnTo>
                  <a:pt x="13645" y="10583"/>
                </a:lnTo>
                <a:lnTo>
                  <a:pt x="15914" y="10583"/>
                </a:lnTo>
                <a:arcTo wR="8502" hR="21600" stAng="3299715" swAng="1913534"/>
                <a:lnTo>
                  <a:pt x="9666" y="21397"/>
                </a:lnTo>
                <a:arcTo wR="8502" hR="21600" stAng="5586752" swAng="5213248"/>
                <a:close/>
              </a:path>
              <a:path fill="darkenLess" w="21600" h="21600">
                <a:moveTo>
                  <a:pt x="0" y="0"/>
                </a:moveTo>
                <a:arcTo wR="8502" hR="21600" stAng="10800000" swAng="-5400000"/>
                <a:lnTo>
                  <a:pt x="10829" y="21600"/>
                </a:lnTo>
                <a:arcTo wR="8502" hR="21600" stAng="5400000" swAng="186752"/>
                <a:lnTo>
                  <a:pt x="9666" y="21397"/>
                </a:lnTo>
                <a:arcTo wR="8502" hR="21600" stAng="5586752" swAng="5213248"/>
                <a:close/>
              </a:path>
            </a:pathLst>
          </a:cu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3"/>
          <a:stretch/>
        </p:blipFill>
        <p:spPr>
          <a:xfrm>
            <a:off x="3006720" y="4051440"/>
            <a:ext cx="542880" cy="674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4"/>
          <a:stretch/>
        </p:blipFill>
        <p:spPr>
          <a:xfrm>
            <a:off x="3013200" y="4973760"/>
            <a:ext cx="1447560" cy="11746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15"/>
          <a:stretch/>
        </p:blipFill>
        <p:spPr>
          <a:xfrm>
            <a:off x="496800" y="1949400"/>
            <a:ext cx="2317680" cy="23526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94160" y="2216160"/>
            <a:ext cx="155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C Browser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43840" y="2549520"/>
            <a:ext cx="70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C 1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39160" y="28162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C 1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47800" y="256212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514440" y="3180960"/>
            <a:ext cx="571320" cy="131436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1467000" y="2467080"/>
            <a:ext cx="2038320" cy="28548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58960" y="4502160"/>
            <a:ext cx="116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PC ? sim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615480" y="1863720"/>
            <a:ext cx="6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PC ?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37240" y="246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sim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6"/>
          <a:stretch/>
        </p:blipFill>
        <p:spPr>
          <a:xfrm>
            <a:off x="7126200" y="4076640"/>
            <a:ext cx="703440" cy="7477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7777800" y="4121280"/>
            <a:ext cx="6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PC ?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308800" y="413064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não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18:17:26Z</dcterms:created>
  <dc:creator>Sergio Monica</dc:creator>
  <dc:description/>
  <dc:language>en-US</dc:language>
  <cp:lastModifiedBy>Salgueiro</cp:lastModifiedBy>
  <cp:lastPrinted>2000-05-25T16:38:03Z</cp:lastPrinted>
  <dcterms:modified xsi:type="dcterms:W3CDTF">2000-05-26T04:40:20Z</dcterms:modified>
  <cp:revision>40</cp:revision>
  <dc:subject/>
  <dc:title>PLATAFORMAS PARA  AGENTES MÓVEIS</dc:title>
</cp:coreProperties>
</file>