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A45C9-80D8-409B-886F-FD72814DF4E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5F0E5-4FC2-48DE-BBCB-6B93DEE4B934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 fluxo de eventos pode ser visto com duplo clique nos Casos de Uso Efetuar Login, Efetuar Pagamento do Qualiti Card e Realizar DOC (pacote Use Case View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bserve o exemplo para os casos de uso Efetu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ogin e Efetuar Pagamento do Qualiti C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C154C-CCA6-441C-89E7-844A14E83F1E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Veja os diagramas EfetuarLogin e EfetuarPagamentoQualitiCard e faça o exercício no diagrama RealizarDO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24A68-92E6-4F6B-A492-84FA879E4570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Veja os diagramas EfetuarLogin e EfetuarPagamentoQualitiCard e faça o exercício no diagrama RealizarDO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0FE39-82CA-4925-BE88-87CE6761A2CB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Veja os diagramas EfetuarLogin e EfetuarPagamentoQualitiCard e faça o exercício no diagrama RealizarDO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71779-FB95-47FC-9E95-AA5E30C7E881}" type="datetime">
              <a:rPr b="0" lang="pt-BR" sz="12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isar caso de u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A8112-D445-4C62-9B90-F4CDD00AC43D}" type="datetime">
              <a:rPr b="0" lang="pt-BR" sz="12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isar caso de u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E04EE-9CAA-4517-964E-8C0B449A3EDF}" type="datetime">
              <a:rPr b="0" lang="pt-BR" sz="12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isar caso de u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3CCD6-4451-4055-BD27-92D5B376C91D}" type="datetime">
              <a:rPr b="0" lang="pt-BR" sz="12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isar caso de u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2332-61DE-470C-88C7-E84E7ED72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06D5-C093-429C-8934-A651D3EDA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C811-D3BA-4C69-812D-4BED3566E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188A-2670-4076-9E23-F140FF485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6C967-57C6-43FC-8D4E-50B2C2D38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A3AFA-1705-460A-9C3D-38E79DF33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3B6C8-3E28-464D-AC50-C44F5C67D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58DE8-E5A4-47D0-A9AE-7BA1BF439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4F1DA-6F3F-4FC2-8258-2F454F20D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DDD07-C98B-44F1-9093-6DAC0A6A3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02448-91B0-4107-8C73-3C5963B4B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5962-58EE-4361-8B9F-E08125328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5B2AD-0997-4B89-9882-26F0EFFF0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E3729-5D38-4727-A5DD-5F1F2F2A5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66919-A91C-452D-9680-6A1A97081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24785-F06B-47E4-B98F-D19AFD3DD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4C79A-7211-467A-9822-623DF6B0F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C387-6CAC-492A-A854-D930B5062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66CB-78E6-4185-B994-8AC47BBFD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F295-0F26-4666-A510-45F51D2F3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2B0B-EF5F-4859-9ED6-93E2507B7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BA2C-72B1-4556-8CFF-14B6FBBF8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0EB8-82FB-4414-BF43-724B4844A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382D-9260-45A7-BF67-61832E4E1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C5A8B-CB16-465F-811C-E78AFCE80BFB}" type="slidenum"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59F31-974C-4C8F-BCA8-E11B9B2E0820}" type="slidenum"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vtb@cin.ufpe.br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330066"/>
                </a:solidFill>
                <a:latin typeface="Arial"/>
              </a:rPr>
              <a:t>Aula Prática 1 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mila Sá – cs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ado em: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itor Braga – </a:t>
            </a:r>
            <a:r>
              <a:rPr b="0" lang="pt-BR" sz="2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tb@cin.ufpe.br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900" spc="-1" strike="noStrike">
                <a:solidFill>
                  <a:srgbClr val="330066"/>
                </a:solidFill>
                <a:latin typeface="Arial"/>
              </a:rPr>
              <a:t>Passo a Pass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d8d8ec"/>
                </a:solidFill>
                <a:latin typeface="Arial"/>
              </a:rPr>
              <a:t>Para cada caso de us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1. Encontrar classes de análi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000" spc="-1" strike="noStrike">
                <a:solidFill>
                  <a:srgbClr val="d8d8ec"/>
                </a:solidFill>
                <a:latin typeface="Arial"/>
              </a:rPr>
              <a:t>2. Identificar persistênc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d8d8ec"/>
                </a:solidFill>
                <a:latin typeface="Arial"/>
              </a:rPr>
              <a:t>Para cada class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d8d8ec"/>
                </a:solidFill>
                <a:latin typeface="Arial"/>
              </a:rPr>
              <a:t>	</a:t>
            </a:r>
            <a:r>
              <a:rPr b="0" lang="pt-BR" sz="3000" spc="-1" strike="noStrike">
                <a:solidFill>
                  <a:srgbClr val="d8d8ec"/>
                </a:solidFill>
                <a:latin typeface="Arial"/>
              </a:rPr>
              <a:t>3. Distribuir comportamento entre as cla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d8d8ec"/>
                </a:solidFill>
                <a:latin typeface="Arial"/>
              </a:rPr>
              <a:t>	</a:t>
            </a:r>
            <a:r>
              <a:rPr b="0" lang="pt-BR" sz="3000" spc="-1" strike="noStrike">
                <a:solidFill>
                  <a:srgbClr val="d8d8ec"/>
                </a:solidFill>
                <a:latin typeface="Arial"/>
              </a:rPr>
              <a:t>4. Descrever responsabilida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d8d8ec"/>
                </a:solidFill>
                <a:latin typeface="Arial"/>
              </a:rPr>
              <a:t>	</a:t>
            </a:r>
            <a:r>
              <a:rPr b="0" lang="pt-BR" sz="3000" spc="-1" strike="noStrike">
                <a:solidFill>
                  <a:srgbClr val="d8d8ec"/>
                </a:solidFill>
                <a:latin typeface="Arial"/>
              </a:rPr>
              <a:t>5. Descrever atributos e associaçõ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d8d8ec"/>
                </a:solidFill>
                <a:latin typeface="Arial"/>
              </a:rPr>
              <a:t>	</a:t>
            </a:r>
            <a:r>
              <a:rPr b="0" lang="pt-BR" sz="3000" spc="-1" strike="noStrike">
                <a:solidFill>
                  <a:srgbClr val="d8d8ec"/>
                </a:solidFill>
                <a:latin typeface="Arial"/>
              </a:rPr>
              <a:t>6. Revisar os Resultad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900" spc="-1" strike="noStrike">
                <a:solidFill>
                  <a:srgbClr val="330066"/>
                </a:solidFill>
                <a:latin typeface="Arial"/>
              </a:rPr>
              <a:t>Passo 1: Encontrar classes de anális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Dado: Artefatos de requisitos do QIB (especialmente o fluxo de eventos do caso de uso Realizar DOC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Produzir: Identificação das classes de análise, com seus estereótipos e breve descriçã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Abrir arquivo: 1classesDeAnalise.md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Duração: 15 mi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900" spc="-1" strike="noStrike">
                <a:solidFill>
                  <a:srgbClr val="330066"/>
                </a:solidFill>
                <a:latin typeface="Arial"/>
              </a:rPr>
              <a:t>Resposta: </a:t>
            </a:r>
            <a:r>
              <a:rPr b="1" lang="pt-BR" sz="3600" spc="-1" strike="noStrike">
                <a:solidFill>
                  <a:srgbClr val="330066"/>
                </a:solidFill>
                <a:latin typeface="Arial"/>
              </a:rPr>
              <a:t>classesDeAnalise.mdl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57200" y="1719360"/>
            <a:ext cx="8229600" cy="44114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" descr=""/>
          <p:cNvPicPr/>
          <p:nvPr/>
        </p:nvPicPr>
        <p:blipFill>
          <a:blip r:embed="rId2"/>
          <a:stretch/>
        </p:blipFill>
        <p:spPr>
          <a:xfrm>
            <a:off x="250920" y="2133720"/>
            <a:ext cx="8569080" cy="42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900" spc="-1" strike="noStrike">
                <a:solidFill>
                  <a:srgbClr val="330066"/>
                </a:solidFill>
                <a:latin typeface="Arial"/>
              </a:rPr>
              <a:t>Passo a Pass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Para cada caso de us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d8d8ec"/>
                </a:solidFill>
                <a:latin typeface="Arial"/>
              </a:rPr>
              <a:t>	</a:t>
            </a:r>
            <a:r>
              <a:rPr b="0" lang="pt-BR" sz="3000" spc="-1" strike="noStrike">
                <a:solidFill>
                  <a:srgbClr val="d8d8ec"/>
                </a:solidFill>
                <a:latin typeface="Arial"/>
              </a:rPr>
              <a:t>1. Encontrar classes de análi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2. Identificar persistê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d8d8ec"/>
                </a:solidFill>
                <a:latin typeface="Arial"/>
              </a:rPr>
              <a:t>Para cada class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d8d8ec"/>
                </a:solidFill>
                <a:latin typeface="Arial"/>
              </a:rPr>
              <a:t>	</a:t>
            </a:r>
            <a:r>
              <a:rPr b="0" lang="pt-BR" sz="3000" spc="-1" strike="noStrike">
                <a:solidFill>
                  <a:srgbClr val="d8d8ec"/>
                </a:solidFill>
                <a:latin typeface="Arial"/>
              </a:rPr>
              <a:t>3. Distribuir comportamento entre as cla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d8d8ec"/>
                </a:solidFill>
                <a:latin typeface="Arial"/>
              </a:rPr>
              <a:t>	</a:t>
            </a:r>
            <a:r>
              <a:rPr b="0" lang="pt-BR" sz="3000" spc="-1" strike="noStrike">
                <a:solidFill>
                  <a:srgbClr val="d8d8ec"/>
                </a:solidFill>
                <a:latin typeface="Arial"/>
              </a:rPr>
              <a:t>4. Descrever responsabilida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d8d8ec"/>
                </a:solidFill>
                <a:latin typeface="Arial"/>
              </a:rPr>
              <a:t>	</a:t>
            </a:r>
            <a:r>
              <a:rPr b="0" lang="pt-BR" sz="3000" spc="-1" strike="noStrike">
                <a:solidFill>
                  <a:srgbClr val="d8d8ec"/>
                </a:solidFill>
                <a:latin typeface="Arial"/>
              </a:rPr>
              <a:t>5. Descrever atributos e associaçõ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d8d8ec"/>
                </a:solidFill>
                <a:latin typeface="Arial"/>
              </a:rPr>
              <a:t>	</a:t>
            </a:r>
            <a:r>
              <a:rPr b="0" lang="pt-BR" sz="3000" spc="-1" strike="noStrike">
                <a:solidFill>
                  <a:srgbClr val="d8d8ec"/>
                </a:solidFill>
                <a:latin typeface="Arial"/>
              </a:rPr>
              <a:t>6. Revisar os Resultad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900" spc="-1" strike="noStrike">
                <a:solidFill>
                  <a:srgbClr val="330066"/>
                </a:solidFill>
                <a:latin typeface="Arial"/>
              </a:rPr>
              <a:t>Passo 2: </a:t>
            </a:r>
            <a:r>
              <a:rPr b="1" lang="pt-BR" sz="3600" spc="-1" strike="noStrike">
                <a:solidFill>
                  <a:srgbClr val="330066"/>
                </a:solidFill>
                <a:latin typeface="Arial"/>
              </a:rPr>
              <a:t>Identificar persistência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Dad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rtefatos de requisitos, especialmente a descrição dos requisitos não funciona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Classes de entida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Produzi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Identificação das classes que deverão ser persisten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Criar classes de cadastr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Duração: 10mi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900" spc="-1" strike="noStrike">
                <a:solidFill>
                  <a:srgbClr val="330066"/>
                </a:solidFill>
                <a:latin typeface="Arial"/>
              </a:rPr>
              <a:t>Resposta: 2persistencia</a:t>
            </a:r>
            <a:r>
              <a:rPr b="1" lang="pt-BR" sz="3600" spc="-1" strike="noStrike">
                <a:solidFill>
                  <a:srgbClr val="330066"/>
                </a:solidFill>
                <a:latin typeface="Arial"/>
              </a:rPr>
              <a:t>.mdl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457200" y="1719360"/>
            <a:ext cx="8229600" cy="4411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5" descr=""/>
          <p:cNvPicPr/>
          <p:nvPr/>
        </p:nvPicPr>
        <p:blipFill>
          <a:blip r:embed="rId2"/>
          <a:stretch/>
        </p:blipFill>
        <p:spPr>
          <a:xfrm>
            <a:off x="0" y="1814400"/>
            <a:ext cx="9144000" cy="485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900" spc="-1" strike="noStrike">
                <a:solidFill>
                  <a:srgbClr val="330066"/>
                </a:solidFill>
                <a:latin typeface="Arial"/>
              </a:rPr>
              <a:t>Passo a Pass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6868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d8d8ec"/>
                </a:solidFill>
                <a:latin typeface="Arial"/>
              </a:rPr>
              <a:t>Para cada caso de us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d8d8ec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d8d8ec"/>
                </a:solidFill>
                <a:latin typeface="Arial"/>
              </a:rPr>
              <a:t>1. Encontrar classes de análi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d8d8ec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d8d8ec"/>
                </a:solidFill>
                <a:latin typeface="Arial"/>
              </a:rPr>
              <a:t>2. Identificar persistên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Para cada class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3. Distribuir comportamento entre as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600" spc="-1" strike="noStrike">
                <a:solidFill>
                  <a:srgbClr val="d8d8ec"/>
                </a:solidFill>
                <a:latin typeface="Arial"/>
              </a:rPr>
              <a:t>4. Descrever responsabilida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d8d8ec"/>
                </a:solidFill>
                <a:latin typeface="Arial"/>
              </a:rPr>
              <a:t>	</a:t>
            </a:r>
            <a:r>
              <a:rPr b="1" lang="pt-BR" sz="2600" spc="-1" strike="noStrike">
                <a:solidFill>
                  <a:srgbClr val="d8d8ec"/>
                </a:solidFill>
                <a:latin typeface="Arial"/>
              </a:rPr>
              <a:t>5. Descrever atributos e associaçõ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d8d8ec"/>
                </a:solidFill>
                <a:latin typeface="Arial"/>
              </a:rPr>
              <a:t>	</a:t>
            </a:r>
            <a:r>
              <a:rPr b="1" lang="pt-BR" sz="2600" spc="-1" strike="noStrike">
                <a:solidFill>
                  <a:srgbClr val="d8d8ec"/>
                </a:solidFill>
                <a:latin typeface="Arial"/>
              </a:rPr>
              <a:t>6. Revisar os Resultad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0066"/>
                </a:solidFill>
                <a:latin typeface="Arial"/>
              </a:rPr>
              <a:t>Resposta: </a:t>
            </a:r>
            <a:r>
              <a:rPr b="1" lang="pt-BR" sz="3200" spc="-1" strike="noStrike">
                <a:solidFill>
                  <a:srgbClr val="330066"/>
                </a:solidFill>
                <a:latin typeface="Arial"/>
              </a:rPr>
              <a:t>3diagramasInteracao.mdl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57200" y="1719360"/>
            <a:ext cx="8229600" cy="44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900" spc="-1" strike="noStrike">
                <a:solidFill>
                  <a:srgbClr val="330066"/>
                </a:solidFill>
                <a:latin typeface="Arial"/>
              </a:rPr>
              <a:t>Passo a Pass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6868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d8d8ec"/>
                </a:solidFill>
                <a:latin typeface="Arial"/>
              </a:rPr>
              <a:t>Para cada caso de us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d8d8ec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d8d8ec"/>
                </a:solidFill>
                <a:latin typeface="Arial"/>
              </a:rPr>
              <a:t>1. Encontrar classes de análi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d8d8ec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d8d8ec"/>
                </a:solidFill>
                <a:latin typeface="Arial"/>
              </a:rPr>
              <a:t>2. Identificar persistên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Para cada class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d8d8ec"/>
                </a:solidFill>
                <a:latin typeface="Arial"/>
              </a:rPr>
              <a:t>3. Distribuir comportamento entre as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4. Descrever responsabil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d8d8ec"/>
                </a:solidFill>
                <a:latin typeface="Arial"/>
              </a:rPr>
              <a:t>	</a:t>
            </a:r>
            <a:r>
              <a:rPr b="1" lang="pt-BR" sz="2600" spc="-1" strike="noStrike">
                <a:solidFill>
                  <a:srgbClr val="d8d8ec"/>
                </a:solidFill>
                <a:latin typeface="Arial"/>
              </a:rPr>
              <a:t>5. Descrever atributos e associaçõ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d8d8ec"/>
                </a:solidFill>
                <a:latin typeface="Arial"/>
              </a:rPr>
              <a:t>	</a:t>
            </a:r>
            <a:r>
              <a:rPr b="1" lang="pt-BR" sz="2600" spc="-1" strike="noStrike">
                <a:solidFill>
                  <a:srgbClr val="d8d8ec"/>
                </a:solidFill>
                <a:latin typeface="Arial"/>
              </a:rPr>
              <a:t>6. Revisar os Resultad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77040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0066"/>
                </a:solidFill>
                <a:latin typeface="Arial"/>
              </a:rPr>
              <a:t>Passo 4:</a:t>
            </a:r>
            <a:r>
              <a:rPr b="1" lang="pt-BR" sz="35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330066"/>
                </a:solidFill>
                <a:latin typeface="Arial"/>
              </a:rPr>
              <a:t>Descrever responsabilidade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Dad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rtefatos de requisitos do QIB, especialmente o fluxo de eventos do caso de uso Realizar DO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s classes de análise identificadas no exercício anteri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Produzir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Diagrama de interação para o caso de us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VOPC com responsabilida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Duração: 20 mi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900" spc="-1" strike="noStrike">
                <a:solidFill>
                  <a:srgbClr val="330066"/>
                </a:solidFill>
                <a:latin typeface="Arial"/>
              </a:rPr>
              <a:t>Analisar Casos de Us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59" name="Object 7"/>
          <p:cNvGraphicFramePr/>
          <p:nvPr/>
        </p:nvGraphicFramePr>
        <p:xfrm>
          <a:off x="468360" y="1620720"/>
          <a:ext cx="8346960" cy="465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620720"/>
                    <a:ext cx="8346960" cy="465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Rectangle 8"/>
          <p:cNvSpPr/>
          <p:nvPr/>
        </p:nvSpPr>
        <p:spPr>
          <a:xfrm>
            <a:off x="1187280" y="2852640"/>
            <a:ext cx="1944720" cy="2305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500" spc="-1" strike="noStrike">
                <a:solidFill>
                  <a:srgbClr val="330066"/>
                </a:solidFill>
                <a:latin typeface="Arial"/>
              </a:rPr>
              <a:t>Resposta: 4relacionamentosAtributos.mdl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0" name="Picture 5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7559640" cy="486756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6"/>
          <p:cNvSpPr/>
          <p:nvPr/>
        </p:nvSpPr>
        <p:spPr>
          <a:xfrm>
            <a:off x="664920" y="62308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 diagrama de seqüênc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900" spc="-1" strike="noStrike">
                <a:solidFill>
                  <a:srgbClr val="330066"/>
                </a:solidFill>
                <a:latin typeface="Arial"/>
              </a:rPr>
              <a:t>Passo a Pass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d8d8ec"/>
                </a:solidFill>
                <a:latin typeface="Arial"/>
              </a:rPr>
              <a:t>Para cada caso de us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d8d8ec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d8d8ec"/>
                </a:solidFill>
                <a:latin typeface="Arial"/>
              </a:rPr>
              <a:t>1. Encontrar classes de análi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d8d8ec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d8d8ec"/>
                </a:solidFill>
                <a:latin typeface="Arial"/>
              </a:rPr>
              <a:t>2. Identificar persistên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Para cada class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d8d8ec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d8d8ec"/>
                </a:solidFill>
                <a:latin typeface="Arial"/>
              </a:rPr>
              <a:t>3. Distribuir comportamento entre as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d8d8ec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d8d8ec"/>
                </a:solidFill>
                <a:latin typeface="Arial"/>
              </a:rPr>
              <a:t>4. Descrever responsabilida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5. Descrever atributos e associaçõ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d8d8ec"/>
                </a:solidFill>
                <a:latin typeface="Arial"/>
              </a:rPr>
              <a:t>	</a:t>
            </a:r>
            <a:r>
              <a:rPr b="0" lang="pt-BR" sz="3600" spc="-1" strike="noStrike">
                <a:solidFill>
                  <a:srgbClr val="d8d8ec"/>
                </a:solidFill>
                <a:latin typeface="Arial"/>
              </a:rPr>
              <a:t>6. Revisar os Resulta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500" spc="-1" strike="noStrike">
                <a:solidFill>
                  <a:srgbClr val="330066"/>
                </a:solidFill>
                <a:latin typeface="Arial"/>
              </a:rPr>
              <a:t>Passo 5: Exercício: VOPC com relacionamentos e atributo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Dad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Classes de análise do caso de uso Realizar DOC com estereótipos e responsabilidad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Diagramas de interação do caso de us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VOPCs desenvolvidos no exercício anterio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Produzir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VOPCs com relacionamentos e atributos. Incluir multiplicidade e navegabilidade dos relacionamen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Duração: 20 mi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900" spc="-1" strike="noStrike">
                <a:solidFill>
                  <a:srgbClr val="330066"/>
                </a:solidFill>
                <a:latin typeface="Arial"/>
              </a:rPr>
              <a:t>Resposta: 5arquitetura.md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0" y="1300320"/>
            <a:ext cx="8604360" cy="58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900" spc="-1" strike="noStrike">
                <a:solidFill>
                  <a:srgbClr val="330066"/>
                </a:solidFill>
                <a:latin typeface="Arial"/>
              </a:rPr>
              <a:t>Passo a Pass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d8d8ec"/>
                </a:solidFill>
                <a:latin typeface="Arial"/>
              </a:rPr>
              <a:t>Para cada caso de us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d8d8ec"/>
                </a:solidFill>
                <a:latin typeface="Arial"/>
              </a:rPr>
              <a:t>	</a:t>
            </a:r>
            <a:r>
              <a:rPr b="0" lang="pt-BR" sz="3000" spc="-1" strike="noStrike">
                <a:solidFill>
                  <a:srgbClr val="d8d8ec"/>
                </a:solidFill>
                <a:latin typeface="Arial"/>
              </a:rPr>
              <a:t>1. Encontrar classes de análi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d8d8ec"/>
                </a:solidFill>
                <a:latin typeface="Arial"/>
              </a:rPr>
              <a:t>	</a:t>
            </a:r>
            <a:r>
              <a:rPr b="0" lang="pt-BR" sz="3000" spc="-1" strike="noStrike">
                <a:solidFill>
                  <a:srgbClr val="d8d8ec"/>
                </a:solidFill>
                <a:latin typeface="Arial"/>
              </a:rPr>
              <a:t>2. Identificar persistênc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d8d8ec"/>
                </a:solidFill>
                <a:latin typeface="Arial"/>
              </a:rPr>
              <a:t>Para cada class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d8d8ec"/>
                </a:solidFill>
                <a:latin typeface="Arial"/>
              </a:rPr>
              <a:t>	</a:t>
            </a:r>
            <a:r>
              <a:rPr b="0" lang="pt-BR" sz="3000" spc="-1" strike="noStrike">
                <a:solidFill>
                  <a:srgbClr val="d8d8ec"/>
                </a:solidFill>
                <a:latin typeface="Arial"/>
              </a:rPr>
              <a:t>3. Distribuir comportamento entre as cla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d8d8ec"/>
                </a:solidFill>
                <a:latin typeface="Arial"/>
              </a:rPr>
              <a:t>	</a:t>
            </a:r>
            <a:r>
              <a:rPr b="0" lang="pt-BR" sz="3000" spc="-1" strike="noStrike">
                <a:solidFill>
                  <a:srgbClr val="d8d8ec"/>
                </a:solidFill>
                <a:latin typeface="Arial"/>
              </a:rPr>
              <a:t>4. Descrever responsabilida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000" spc="-1" strike="noStrike">
                <a:solidFill>
                  <a:srgbClr val="d8d8ec"/>
                </a:solidFill>
                <a:latin typeface="Arial"/>
              </a:rPr>
              <a:t>5. Descrever atributos e associaçõ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6. Revisar os Resulta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900" spc="-1" strike="noStrike">
                <a:solidFill>
                  <a:srgbClr val="330066"/>
                </a:solidFill>
                <a:latin typeface="Arial"/>
              </a:rPr>
              <a:t>Passo 6: Revisar Resultad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Verificar se as classes de análise satisfazem os requisitos funciona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Unificar as classes de análi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Verificar se todo o modelo está consistente entre si e com os requisi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Compare seus resultados com o do arquivo 5arquitetura.md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900" spc="-1" strike="noStrike">
                <a:solidFill>
                  <a:srgbClr val="330066"/>
                </a:solidFill>
                <a:latin typeface="Arial"/>
              </a:rPr>
              <a:t>Objetiv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Encontrar as classes iniciais do sistema(classes de análise) e distribuir comportamento dos casos de uso entre el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Para cada classe descrever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responsabilidad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tributo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ssociaçõ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900" spc="-1" strike="noStrike">
                <a:solidFill>
                  <a:srgbClr val="330066"/>
                </a:solidFill>
                <a:latin typeface="Arial"/>
              </a:rPr>
              <a:t>Visão Geral dos artefat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5" name="Picture 8" descr=""/>
          <p:cNvPicPr/>
          <p:nvPr/>
        </p:nvPicPr>
        <p:blipFill>
          <a:blip r:embed="rId1"/>
          <a:stretch/>
        </p:blipFill>
        <p:spPr>
          <a:xfrm>
            <a:off x="585720" y="1719360"/>
            <a:ext cx="8163000" cy="45180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468360" y="1484280"/>
            <a:ext cx="1366920" cy="1368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3851280" y="1484280"/>
            <a:ext cx="1584360" cy="1513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Análise e Projeto OO com UML e Padrões|  </a:t>
            </a:r>
            <a:fld id="{FB0D8A9A-A091-49B7-9FD3-BC832FBBC7E0}" type="slidenum">
              <a:rPr b="0" lang="pt-B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900" spc="-1" strike="noStrike">
                <a:solidFill>
                  <a:srgbClr val="330066"/>
                </a:solidFill>
                <a:latin typeface="Arial"/>
              </a:rPr>
              <a:t>Exercício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– Qualiti Internet Bank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Dad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tefatos de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requisito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o Qualiti Internet Banking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, especi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mente o fluxo de eventos do caso de uso RealizarDoc (ver próximos slid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Produzir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Identificação das classes de análise, com seus estereótipos e breve descriçã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Object 0" descr=""/>
          <p:cNvPicPr/>
          <p:nvPr/>
        </p:nvPicPr>
        <p:blipFill>
          <a:blip r:embed="rId1"/>
          <a:stretch/>
        </p:blipFill>
        <p:spPr>
          <a:xfrm>
            <a:off x="6948360" y="4724280"/>
            <a:ext cx="16192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Análise e Projeto OO com UML e Padrões|  </a:t>
            </a:r>
            <a:fld id="{3EC005CC-7D49-4D1F-9EEC-CD8478983758}" type="slidenum">
              <a:rPr b="0" lang="pt-B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900" spc="-1" strike="noStrike">
                <a:solidFill>
                  <a:srgbClr val="330066"/>
                </a:solidFill>
                <a:latin typeface="Arial"/>
              </a:rPr>
              <a:t>QIB – Realizar Doc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Descrição inici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838080" y="1981080"/>
            <a:ext cx="7467840" cy="33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ste caso de uso é responsável por realizar a transferência de valores entre uma conta deste banco para uma conta de um outro banco. A transferência pode ocorrer entre contas com mesmo CPF ou CPFs distin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Pré-condição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: o cliente deve estar conectado ao sistema (ter efetuado o logi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Pós-condição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: o valor da transferência foi debitado da conta do cliente, o DOC foi enviado à operadora de DOC e a transação foi registr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Análise e Projeto OO com UML e Padrões|  </a:t>
            </a:r>
            <a:fld id="{D3A10233-2510-42E3-A5F9-E4F409261467}" type="slidenum">
              <a:rPr b="0" lang="pt-B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900" spc="-1" strike="noStrike">
                <a:solidFill>
                  <a:srgbClr val="330066"/>
                </a:solidFill>
                <a:latin typeface="Arial"/>
              </a:rPr>
              <a:t>QIB – Realizar Doc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Fluxo de eventos princip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1066680" y="1676520"/>
            <a:ext cx="7543800" cy="366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. O cliente informa os dados necessários para a realização do DO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- Banco, agência e conta destin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- CPF do favorecid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- Valor do DO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2. O sistema recupera a conta bancária do cliente log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3. O sistema verifica se o saldo da conta do cliente é suficiente para a realização do DO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4. O sistema envia o DOC à operado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5. Debita-se o valor da con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6. O QIB registra a ocorrência desta transação (um DOC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7. Emite-se um comprovante da mesma para o usuário, contendo os dados da conta de origem e destino, assim como a data e valor do DO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Análise e Projeto OO com UML e Padrões|  </a:t>
            </a:r>
            <a:fld id="{B0130733-A994-4D10-9F36-44489F8ABC51}" type="slidenum">
              <a:rPr b="0" lang="pt-B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900" spc="-1" strike="noStrike">
                <a:solidFill>
                  <a:srgbClr val="330066"/>
                </a:solidFill>
                <a:latin typeface="Arial"/>
              </a:rPr>
              <a:t>QIB – Realizar Doc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Fluxo de eventos secundári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609480" y="1828800"/>
            <a:ext cx="7086600" cy="28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Fluxo Princip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d8d8ec"/>
                </a:solidFill>
                <a:latin typeface="Arial"/>
              </a:rPr>
              <a:t>1.</a:t>
            </a:r>
            <a:r>
              <a:rPr b="0" lang="pt-PT" sz="1800" spc="-1" strike="noStrike">
                <a:solidFill>
                  <a:srgbClr val="d8d8ec"/>
                </a:solidFill>
                <a:latin typeface="Arial"/>
              </a:rPr>
              <a:t> </a:t>
            </a:r>
            <a:r>
              <a:rPr b="0" lang="pt-PT" sz="1200" spc="-1" strike="noStrike">
                <a:solidFill>
                  <a:srgbClr val="d8d8ec"/>
                </a:solidFill>
                <a:latin typeface="Arial"/>
              </a:rPr>
              <a:t>O cliente informa os dados necessários para a realização do DOC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d8d8ec"/>
                </a:solidFill>
                <a:latin typeface="Arial"/>
              </a:rPr>
              <a:t>   </a:t>
            </a:r>
            <a:r>
              <a:rPr b="0" lang="pt-PT" sz="1200" spc="-1" strike="noStrike">
                <a:solidFill>
                  <a:srgbClr val="d8d8ec"/>
                </a:solidFill>
                <a:latin typeface="Arial"/>
              </a:rPr>
              <a:t>- Banco, agência e conta destino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d8d8ec"/>
                </a:solidFill>
                <a:latin typeface="Arial"/>
              </a:rPr>
              <a:t>   </a:t>
            </a:r>
            <a:r>
              <a:rPr b="0" lang="pt-PT" sz="1200" spc="-1" strike="noStrike">
                <a:solidFill>
                  <a:srgbClr val="d8d8ec"/>
                </a:solidFill>
                <a:latin typeface="Arial"/>
              </a:rPr>
              <a:t>- CPF do favorecido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d8d8ec"/>
                </a:solidFill>
                <a:latin typeface="Arial"/>
              </a:rPr>
              <a:t>   </a:t>
            </a:r>
            <a:r>
              <a:rPr b="0" lang="pt-PT" sz="1200" spc="-1" strike="noStrike">
                <a:solidFill>
                  <a:srgbClr val="d8d8ec"/>
                </a:solidFill>
                <a:latin typeface="Arial"/>
              </a:rPr>
              <a:t>- Valor do DO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d8d8ec"/>
                </a:solidFill>
                <a:latin typeface="Arial"/>
              </a:rPr>
              <a:t>2. O sistema recupera a conta bancária do cliente loga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3. O sistema verifica se o saldo da conta do cliente é suficiente para a realização do DO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4. O sistema envia o DOC à operador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pt-PT" sz="1200" spc="-1" strike="noStrike">
                <a:solidFill>
                  <a:srgbClr val="d8d8ec"/>
                </a:solidFill>
                <a:latin typeface="Arial"/>
              </a:rPr>
              <a:t>Debita-se o valor da con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d8d8ec"/>
                </a:solidFill>
                <a:latin typeface="Arial"/>
              </a:rPr>
              <a:t>6. O QIB registra a ocorrência desta transação (um DOC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d8d8ec"/>
                </a:solidFill>
                <a:latin typeface="Arial"/>
              </a:rPr>
              <a:t>7. Emite-se um comprovante da mesma para o usuário, contendo os dados da conta de origem e destino, assim como a data e valor do DO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914400" y="3886200"/>
            <a:ext cx="777240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luxo secundá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No passo 3, se o saldo disponível na conta do usuário for menor que o valor do DOC, o sistema informa que o saldo é insuficiente e retorna ao passo 1 do fluxo principal de even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No passo 4, se a operadora de DOC estiver inativa ou se ocorrer algum erro de comunicação que impeça a efetivação da transação, o sistema emite uma mensagem para o cliente e aborta a transaçã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m qualquer momento o usuário pode cancelar a operaç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900" spc="-1" strike="noStrike">
                <a:solidFill>
                  <a:srgbClr val="330066"/>
                </a:solidFill>
                <a:latin typeface="Arial"/>
              </a:rPr>
              <a:t>Passo a Pass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Para cada caso de us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1. Encontrar classes de análi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2. Identificar persistênc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Para cada class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3. Distribuir comportamento entre as cla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4. Descrever responsabilida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5. Descrever atributos e associaçõ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6. Revisar os Resultad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1T00:47:22Z</dcterms:created>
  <dc:creator>Vitor Braga</dc:creator>
  <dc:description/>
  <dc:language>en-US</dc:language>
  <cp:lastModifiedBy>Felipe</cp:lastModifiedBy>
  <dcterms:modified xsi:type="dcterms:W3CDTF">2010-08-31T10:44:43Z</dcterms:modified>
  <cp:revision>19</cp:revision>
  <dc:subject/>
  <dc:title>Aula Prática 1</dc:title>
</cp:coreProperties>
</file>