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jpeg" ContentType="image/jpeg"/>
  <Override PartName="/ppt/media/image25.jpeg" ContentType="image/jpeg"/>
  <Override PartName="/ppt/media/image32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4.wmf" ContentType="image/x-wmf"/>
  <Override PartName="/ppt/media/image27.jpeg" ContentType="image/jpeg"/>
  <Override PartName="/ppt/media/image52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5.wmf" ContentType="image/x-wmf"/>
  <Override PartName="/ppt/media/image44.png" ContentType="image/png"/>
  <Override PartName="/ppt/media/image41.jpeg" ContentType="image/jpeg"/>
  <Override PartName="/ppt/media/image54.png" ContentType="image/png"/>
  <Override PartName="/ppt/media/image42.jpeg" ContentType="image/jpeg"/>
  <Override PartName="/ppt/media/image49.png" ContentType="image/png"/>
  <Override PartName="/ppt/media/image45.png" ContentType="image/png"/>
  <Override PartName="/ppt/media/image46.wmf" ContentType="image/x-wmf"/>
  <Override PartName="/ppt/media/image50.png" ContentType="image/png"/>
  <Override PartName="/ppt/media/image13.png" ContentType="image/png"/>
  <Override PartName="/ppt/media/image53.png" ContentType="image/png"/>
  <Override PartName="/ppt/media/image43.png" ContentType="image/png"/>
  <Override PartName="/ppt/media/image55.png" ContentType="image/png"/>
  <Override PartName="/ppt/media/image56.png" ContentType="image/png"/>
  <Override PartName="/ppt/media/image39.jpeg" ContentType="image/jpeg"/>
  <Override PartName="/ppt/media/image38.png" ContentType="image/png"/>
  <Override PartName="/ppt/media/image8.wmf" ContentType="image/x-wmf"/>
  <Override PartName="/ppt/media/image40.png" ContentType="image/png"/>
  <Override PartName="/ppt/media/image36.png" ContentType="image/png"/>
  <Override PartName="/ppt/media/image34.jpeg" ContentType="image/jpeg"/>
  <Override PartName="/ppt/media/image37.png" ContentType="image/png"/>
  <Override PartName="/ppt/media/image31.jpeg" ContentType="image/jpeg"/>
  <Override PartName="/ppt/media/image30.png" ContentType="image/png"/>
  <Override PartName="/ppt/media/image9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6.wmf" ContentType="image/x-wmf"/>
  <Override PartName="/ppt/media/image48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A4BA-937C-4AA5-A5C3-E8B81A5F3E6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546440" cy="341028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ware is a layer of software between the network and applicai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546440" cy="34102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ercial development of middleware has lagged.  These are some of the activities and work underway within the Internet2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CB61A-020A-48FB-B928-3B77505C7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943F0-394A-41BB-A14B-E4E63A23B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FB4EE-43F6-4606-85A8-9054057B9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70668-1A96-452E-8E61-083953E34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2B8F7-B2F7-4A72-AF01-C1FB9EC8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0FFCA-430C-40A9-BDF3-B0E80B28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4E6B7-83BE-434D-BF46-DFC9BB13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D16B2-5890-4730-8434-B9B63394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B5510-40D8-4B5E-B1F4-14BCA5AA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280" y="457200"/>
            <a:ext cx="7848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9E481-8CF7-4C07-B64F-D1F9F226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00D09-C2A6-4278-A548-E7226890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1172F-8222-417B-868A-1DED2BCCD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7D4E8-392A-4E04-983D-0D357475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20D66-F7F5-4518-9335-08137A81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81CED-67BB-4E7F-94FD-A3A95B91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D6E87-5BAF-413C-98DD-74E13802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78FD5-F6A5-4956-95AA-7F901582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C5C74-F909-49EC-A2BB-E85981851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5B61B-F90A-4163-87FF-78FCC0C53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1D216-3E4D-4C82-877F-CF42D69C6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457200"/>
            <a:ext cx="7848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CBBB9-2443-4923-93E4-0F95C400C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6EF69-3DC4-44C7-8B05-CFF8C02D9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4D0BD-EDAA-4C7A-953F-506A0F821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078D2-6A78-4F3E-B1C6-C005FF5B2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B60B-F2B6-4329-BEBC-2B68DD99A3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  <p:pic>
        <p:nvPicPr>
          <p:cNvPr id="5" name="NOVAmarca" descr=""/>
          <p:cNvPicPr/>
          <p:nvPr/>
        </p:nvPicPr>
        <p:blipFill>
          <a:blip r:embed="rId3"/>
          <a:stretch/>
        </p:blipFill>
        <p:spPr>
          <a:xfrm>
            <a:off x="8077320" y="380880"/>
            <a:ext cx="914400" cy="88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33D3-0FBB-4936-81AB-351EDE94CB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image" Target="../media/image7.wmf"/><Relationship Id="rId14" Type="http://schemas.openxmlformats.org/officeDocument/2006/relationships/image" Target="../media/image8.wmf"/><Relationship Id="rId15" Type="http://schemas.openxmlformats.org/officeDocument/2006/relationships/image" Target="../media/image7.wmf"/><Relationship Id="rId16" Type="http://schemas.openxmlformats.org/officeDocument/2006/relationships/image" Target="../media/image4.wmf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washington.edu/hdtv/" TargetMode="External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image" Target="../media/image7.wmf"/><Relationship Id="rId14" Type="http://schemas.openxmlformats.org/officeDocument/2006/relationships/image" Target="../media/image8.wmf"/><Relationship Id="rId15" Type="http://schemas.openxmlformats.org/officeDocument/2006/relationships/image" Target="../media/image7.wmf"/><Relationship Id="rId16" Type="http://schemas.openxmlformats.org/officeDocument/2006/relationships/image" Target="../media/image4.wmf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6.wmf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hyperlink" Target="http://www.internet2.edu/" TargetMode="External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net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858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Prof. José Augusto Suruagy Monteiro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Mestrado Profissional em Redes de Computador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Unicode MS"/>
              </a:rPr>
              <a:t>www.nuperc.unifacs.br/suruag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NOVAmarca" descr=""/>
          <p:cNvPicPr/>
          <p:nvPr/>
        </p:nvPicPr>
        <p:blipFill>
          <a:blip r:embed="rId1"/>
          <a:stretch/>
        </p:blipFill>
        <p:spPr>
          <a:xfrm>
            <a:off x="228600" y="3854520"/>
            <a:ext cx="1371600" cy="1326960"/>
          </a:xfrm>
          <a:prstGeom prst="rect">
            <a:avLst/>
          </a:prstGeom>
          <a:ln w="0">
            <a:noFill/>
          </a:ln>
        </p:spPr>
      </p:pic>
      <p:pic>
        <p:nvPicPr>
          <p:cNvPr id="94" name="I2" descr=""/>
          <p:cNvPicPr/>
          <p:nvPr/>
        </p:nvPicPr>
        <p:blipFill>
          <a:blip r:embed="rId2"/>
          <a:stretch/>
        </p:blipFill>
        <p:spPr>
          <a:xfrm>
            <a:off x="7543800" y="476280"/>
            <a:ext cx="11430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úmero de Internautas no Bras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914400" y="1752480"/>
          <a:ext cx="7238880" cy="466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238880" cy="466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4" name=""/>
          <p:cNvSpPr/>
          <p:nvPr/>
        </p:nvSpPr>
        <p:spPr>
          <a:xfrm>
            <a:off x="4565520" y="6477120"/>
            <a:ext cx="326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Fonte: http://www.ibope.com.br/eratings/index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autas Ativ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6" name="alcance_ativos_set01" descr=""/>
          <p:cNvPicPr/>
          <p:nvPr/>
        </p:nvPicPr>
        <p:blipFill>
          <a:blip r:embed="rId1"/>
          <a:stretch/>
        </p:blipFill>
        <p:spPr>
          <a:xfrm>
            <a:off x="1219320" y="188604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omínios Mais Visitad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43080" y="1560600"/>
            <a:ext cx="8686800" cy="3476520"/>
            <a:chOff x="343080" y="1560600"/>
            <a:chExt cx="8686800" cy="3476520"/>
          </a:xfrm>
        </p:grpSpPr>
        <p:sp>
          <p:nvSpPr>
            <p:cNvPr id="629" name=""/>
            <p:cNvSpPr/>
            <p:nvPr/>
          </p:nvSpPr>
          <p:spPr>
            <a:xfrm>
              <a:off x="343080" y="1560600"/>
              <a:ext cx="8686800" cy="34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3080" y="1560600"/>
              <a:ext cx="3265560" cy="16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1" name="top10_julho01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41044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licaç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rreio eletrônico (197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rminal virtual –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telne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(197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ransferência de arquivos –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ftp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(197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ista de e-mails (197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stema de nomes de Domínios –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DN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(198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News – NNTP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(198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RC –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Internet Relay Chat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(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WAIS –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Wide Area Information Servers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(199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licaç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opher (199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WWW (199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BONE (multicast de áudio e vídeo) (199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rnet Talk Radio (199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alAudio (199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rnet Phone (19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P3 (199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cessidade de Largura de Band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rida dos Dados de Alta Velocid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4762800" cy="278136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899640" y="2733840"/>
            <a:ext cx="24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o Telefôn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222560" y="5791320"/>
            <a:ext cx="18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V a cab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087680" y="312408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téli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706800" y="480060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Wireles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274760" y="1895400"/>
            <a:ext cx="64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Qual a tecnologia de acesso mais adequa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01680" y="5638680"/>
            <a:ext cx="20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o Elétr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7240" y="359568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ra Óp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 Projeto Internet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ttp://www.internet2.e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riado em 10/1996 por 34 Universidades, conta hoje com mais de 17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volve també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64 empres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37 institutos de pesquisa (incluindo 9 laboratórios governamenta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ais de 30 parceiros internacion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rceiros de agências feder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ta com cerca de 25 funcionár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9" name="I2" descr=""/>
          <p:cNvPicPr/>
          <p:nvPr/>
        </p:nvPicPr>
        <p:blipFill>
          <a:blip r:embed="rId1"/>
          <a:stretch/>
        </p:blipFill>
        <p:spPr>
          <a:xfrm>
            <a:off x="7696080" y="5410080"/>
            <a:ext cx="11430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tivos da Internet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nstrar novas aplicações que tenham um grande impacto no modo dos pesquisadores colaborarem e conduzirem seus experimen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nstrar aplicações da “proximidade virtual” (educação, saúde, ambiente,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er ferramentas e plataforma de desenvolvimento para aplicações avanç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tivos da Internet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acilitar o desenvolvimento e operação de infra-estrutura que garanta QoS diferenciadas para as aplica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mover experiências com a próxima geração de tecnologias de comunic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ordenar a adoção de padrões para garantir QoS fim a fim e interoperabi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teir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 que é a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ção da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licaçõ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es de acesso de Banda Lar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nterne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nternet2 no Bras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tivos da Internet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talizar parcerias entre governo e setor priv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corajar a transferência de tecnologia da Internet 2 para o resto da Intern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tudar o impacto desta nova infra-estrutura, serviços e aplicações na educação superior e na comunidade Internet em ger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licações da Internet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is são as aplicações características da Internet2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 melhoram qualitativa e quantitativamente a forma como conduzimos pesquisa e nos envolvemos com ensino e aprendiz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 requerem redes avançadas para funcion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emplos de Aplicaç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laboração de pesquisa e Instrução 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interativa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baseadas em re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mulação e Modelagem baseada em sensores, em 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tempo real</a:t>
            </a:r>
            <a:r>
              <a:rPr b="0" lang="pt-BR" sz="2800" spc="-1" strike="noStrike">
                <a:solidFill>
                  <a:srgbClr val="808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utação paralela (em múltiplos sites) e processamento de banco de dados em 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larga escala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Teleimersão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- realidade virtual compartilh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Áreas de Atividad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envolvimento e uso de aplicações avanç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fra-estrutura de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Middlewar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para Ensino Superior e Pesqu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fra-estrutura avançada de re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vas capacitações de re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ransferência de tecnolog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ceria e Divulg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licações Avançad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licações Avançad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utação Distribuí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aboratórios Virtu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ibliotecas Digit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prendizado Distribuí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ídeo 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leimers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binação de todas aci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tributos das Aplicaç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100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laboração interativ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cesso em tempo real a recursos remo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5410080" y="4373640"/>
            <a:ext cx="3102120" cy="2332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69" name="screen" descr=""/>
          <p:cNvPicPr/>
          <p:nvPr/>
        </p:nvPicPr>
        <p:blipFill>
          <a:blip r:embed="rId2"/>
          <a:stretch/>
        </p:blipFill>
        <p:spPr>
          <a:xfrm>
            <a:off x="4670280" y="1936800"/>
            <a:ext cx="3048120" cy="2284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70" name="" descr=""/>
          <p:cNvPicPr/>
          <p:nvPr/>
        </p:nvPicPr>
        <p:blipFill>
          <a:blip r:embed="rId3"/>
          <a:stretch/>
        </p:blipFill>
        <p:spPr>
          <a:xfrm>
            <a:off x="6248520" y="3365640"/>
            <a:ext cx="2666880" cy="1904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71" name="Subaru-Keck-NASA" descr=""/>
          <p:cNvPicPr/>
          <p:nvPr/>
        </p:nvPicPr>
        <p:blipFill>
          <a:blip r:embed="rId4"/>
          <a:stretch/>
        </p:blipFill>
        <p:spPr>
          <a:xfrm>
            <a:off x="304920" y="3429000"/>
            <a:ext cx="4038480" cy="3029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3200400" cy="2619360"/>
          </a:xfrm>
          <a:prstGeom prst="rect">
            <a:avLst/>
          </a:prstGeom>
          <a:ln w="0">
            <a:noFill/>
          </a:ln>
        </p:spPr>
      </p:pic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tributos, cont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100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ação distribuída e mineração de dados de larga esca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idade virtual compartilh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quer combinação das aplicações aci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2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litton-pair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971800" cy="289080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ídeo Digit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667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conferência com qualidade até a de 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ição ao vivo e acesso sob demanda a uma variedade de conteú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nema digital baseado em HDTV, produção de estúdio baseada em redes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9" name="AG2" descr=""/>
          <p:cNvPicPr/>
          <p:nvPr/>
        </p:nvPicPr>
        <p:blipFill>
          <a:blip r:embed="rId2"/>
          <a:stretch/>
        </p:blipFill>
        <p:spPr>
          <a:xfrm>
            <a:off x="6539040" y="4373640"/>
            <a:ext cx="176688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leimers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1" name="mainImage" descr="Tele-Immersion"/>
          <p:cNvPicPr/>
          <p:nvPr/>
        </p:nvPicPr>
        <p:blipFill>
          <a:blip r:embed="rId1"/>
          <a:stretch/>
        </p:blipFill>
        <p:spPr>
          <a:xfrm>
            <a:off x="152280" y="167652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2095560" y="14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sketch" descr="Office of the future sketch"/>
          <p:cNvPicPr/>
          <p:nvPr/>
        </p:nvPicPr>
        <p:blipFill>
          <a:blip r:embed="rId2"/>
          <a:stretch/>
        </p:blipFill>
        <p:spPr>
          <a:xfrm>
            <a:off x="4419720" y="2971800"/>
            <a:ext cx="4572000" cy="38070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366840" y="5943600"/>
            <a:ext cx="387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http://www.internet2.edu/html/tele-immersion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 que é a Internet: visão dos component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508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ilhões de dispositivos de computação conectados: </a:t>
            </a:r>
            <a:r>
              <a:rPr b="0" i="1" lang="pt-BR" sz="2400" spc="-1" strike="noStrike">
                <a:solidFill>
                  <a:srgbClr val="ff0000"/>
                </a:solidFill>
                <a:latin typeface="Tahoma"/>
              </a:rPr>
              <a:t>hosts, sistemas fin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workstations de pcs, servi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elefones com PDA’s, torradeir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odando </a:t>
            </a:r>
            <a:r>
              <a:rPr b="0" i="1" lang="pt-BR" sz="2400" spc="-1" strike="noStrike">
                <a:solidFill>
                  <a:srgbClr val="ff0000"/>
                </a:solidFill>
                <a:latin typeface="Tahoma"/>
              </a:rPr>
              <a:t>aplicações de re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Tahoma"/>
              </a:rPr>
              <a:t>enlaces (canais) de comunic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ibra, cobre, rádio, satél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Tahoma"/>
              </a:rPr>
              <a:t>roteadores: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encaminham pacotes (pedaços) de dados através da re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6894360" y="3152880"/>
            <a:ext cx="179892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14800" y="300996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83080" y="446076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132520" y="3144960"/>
            <a:ext cx="732960" cy="318960"/>
            <a:chOff x="5132520" y="3144960"/>
            <a:chExt cx="732960" cy="3189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5132520" y="314496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5586120" y="326304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 flipV="1">
              <a:off x="5538960" y="338652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132520" y="3740040"/>
            <a:ext cx="732960" cy="319320"/>
            <a:chOff x="5132520" y="3740040"/>
            <a:chExt cx="732960" cy="319320"/>
          </a:xfrm>
        </p:grpSpPr>
        <p:pic>
          <p:nvPicPr>
            <p:cNvPr id="107" name="" descr=""/>
            <p:cNvPicPr/>
            <p:nvPr/>
          </p:nvPicPr>
          <p:blipFill>
            <a:blip r:embed="rId3"/>
            <a:stretch/>
          </p:blipFill>
          <p:spPr>
            <a:xfrm>
              <a:off x="5132520" y="374004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>
              <a:off x="5586120" y="3858120"/>
              <a:ext cx="27936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flipV="1">
              <a:off x="5538960" y="398160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508720" y="3527280"/>
            <a:ext cx="69480" cy="214200"/>
            <a:chOff x="5508720" y="3527280"/>
            <a:chExt cx="69480" cy="214200"/>
          </a:xfrm>
        </p:grpSpPr>
        <p:sp>
          <p:nvSpPr>
            <p:cNvPr id="111" name=""/>
            <p:cNvSpPr/>
            <p:nvPr/>
          </p:nvSpPr>
          <p:spPr>
            <a:xfrm>
              <a:off x="5508720" y="3527280"/>
              <a:ext cx="64080" cy="604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11240" y="3604320"/>
              <a:ext cx="64080" cy="601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14120" y="3681360"/>
              <a:ext cx="64080" cy="601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978520" y="4030560"/>
            <a:ext cx="209520" cy="394920"/>
            <a:chOff x="5978520" y="4030560"/>
            <a:chExt cx="209520" cy="394920"/>
          </a:xfrm>
        </p:grpSpPr>
        <p:sp>
          <p:nvSpPr>
            <p:cNvPr id="115" name=""/>
            <p:cNvSpPr/>
            <p:nvPr/>
          </p:nvSpPr>
          <p:spPr>
            <a:xfrm>
              <a:off x="5978520" y="43344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84720" y="40330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79600" y="41191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78520" y="40305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88040" y="40366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112080" y="43344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96520" y="4159080"/>
              <a:ext cx="87840" cy="174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09120" y="42120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215040" y="4184280"/>
            <a:ext cx="233280" cy="81000"/>
            <a:chOff x="6215040" y="4184280"/>
            <a:chExt cx="233280" cy="81000"/>
          </a:xfrm>
        </p:grpSpPr>
        <p:sp>
          <p:nvSpPr>
            <p:cNvPr id="124" name=""/>
            <p:cNvSpPr/>
            <p:nvPr/>
          </p:nvSpPr>
          <p:spPr>
            <a:xfrm rot="16200000">
              <a:off x="6210360" y="4195080"/>
              <a:ext cx="74520" cy="655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6200000">
              <a:off x="6294240" y="4191840"/>
              <a:ext cx="74520" cy="655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6200000">
              <a:off x="6378120" y="4188600"/>
              <a:ext cx="74520" cy="655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114960" y="393876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8200" y="393552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13560" y="3933720"/>
            <a:ext cx="144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15080" y="3398760"/>
            <a:ext cx="28872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827680" y="3684240"/>
            <a:ext cx="2761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354720" y="3770280"/>
            <a:ext cx="180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483240" y="4017960"/>
            <a:ext cx="209520" cy="394920"/>
            <a:chOff x="6483240" y="4017960"/>
            <a:chExt cx="209520" cy="394920"/>
          </a:xfrm>
        </p:grpSpPr>
        <p:sp>
          <p:nvSpPr>
            <p:cNvPr id="134" name=""/>
            <p:cNvSpPr/>
            <p:nvPr/>
          </p:nvSpPr>
          <p:spPr>
            <a:xfrm>
              <a:off x="6483240" y="43218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89440" y="40204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84320" y="41065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83240" y="40179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92760" y="40240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616800" y="43218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01240" y="4146480"/>
              <a:ext cx="87840" cy="174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13840" y="41994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516640" y="4627440"/>
            <a:ext cx="479160" cy="925200"/>
            <a:chOff x="5516640" y="4627440"/>
            <a:chExt cx="479160" cy="925200"/>
          </a:xfrm>
        </p:grpSpPr>
        <p:pic>
          <p:nvPicPr>
            <p:cNvPr id="143" name="" descr=""/>
            <p:cNvPicPr/>
            <p:nvPr/>
          </p:nvPicPr>
          <p:blipFill>
            <a:blip r:embed="rId5"/>
            <a:stretch/>
          </p:blipFill>
          <p:spPr>
            <a:xfrm>
              <a:off x="5516640" y="46274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 flipV="1">
              <a:off x="5923440" y="48740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6"/>
            <a:stretch/>
          </p:blipFill>
          <p:spPr>
            <a:xfrm>
              <a:off x="5516640" y="52221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 flipV="1">
              <a:off x="5923440" y="547236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5641920" y="4968720"/>
              <a:ext cx="70560" cy="222480"/>
              <a:chOff x="5641920" y="4968720"/>
              <a:chExt cx="70560" cy="222480"/>
            </a:xfrm>
          </p:grpSpPr>
          <p:sp>
            <p:nvSpPr>
              <p:cNvPr id="148" name=""/>
              <p:cNvSpPr/>
              <p:nvPr/>
            </p:nvSpPr>
            <p:spPr>
              <a:xfrm>
                <a:off x="5641920" y="4968720"/>
                <a:ext cx="65160" cy="6264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644440" y="5048640"/>
                <a:ext cx="65160" cy="6228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647320" y="5128920"/>
                <a:ext cx="65160" cy="6228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5990400" y="487116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6384960" y="5637240"/>
            <a:ext cx="417600" cy="331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5770440" y="5626080"/>
            <a:ext cx="416160" cy="330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rot="16200000">
            <a:off x="6187320" y="5730120"/>
            <a:ext cx="63360" cy="64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6272280" y="5727600"/>
            <a:ext cx="63360" cy="669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6349680" y="5732280"/>
            <a:ext cx="61920" cy="65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638760" y="5583240"/>
            <a:ext cx="180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014880" y="557172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016680" y="557856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996160" y="520344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97720" y="5249880"/>
            <a:ext cx="30312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392960" y="524664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9"/>
          <a:stretch/>
        </p:blipFill>
        <p:spPr>
          <a:xfrm>
            <a:off x="7570800" y="479916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0"/>
          <a:stretch/>
        </p:blipFill>
        <p:spPr>
          <a:xfrm>
            <a:off x="6234120" y="487980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315120" y="465444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581880" y="6076800"/>
            <a:ext cx="406080" cy="426960"/>
            <a:chOff x="6581880" y="6076800"/>
            <a:chExt cx="406080" cy="426960"/>
          </a:xfrm>
        </p:grpSpPr>
        <p:pic>
          <p:nvPicPr>
            <p:cNvPr id="167" name="" descr=""/>
            <p:cNvPicPr/>
            <p:nvPr/>
          </p:nvPicPr>
          <p:blipFill>
            <a:blip r:embed="rId11"/>
            <a:stretch/>
          </p:blipFill>
          <p:spPr>
            <a:xfrm>
              <a:off x="6581880" y="6076800"/>
              <a:ext cx="378360" cy="3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12"/>
            <a:stretch/>
          </p:blipFill>
          <p:spPr>
            <a:xfrm>
              <a:off x="6641640" y="61887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"/>
          <p:cNvGrpSpPr/>
          <p:nvPr/>
        </p:nvGrpSpPr>
        <p:grpSpPr>
          <a:xfrm>
            <a:off x="7359480" y="6108840"/>
            <a:ext cx="406080" cy="426960"/>
            <a:chOff x="7359480" y="6108840"/>
            <a:chExt cx="406080" cy="426960"/>
          </a:xfrm>
        </p:grpSpPr>
        <p:pic>
          <p:nvPicPr>
            <p:cNvPr id="170" name="" descr=""/>
            <p:cNvPicPr/>
            <p:nvPr/>
          </p:nvPicPr>
          <p:blipFill>
            <a:blip r:embed="rId13"/>
            <a:stretch/>
          </p:blipFill>
          <p:spPr>
            <a:xfrm>
              <a:off x="7359480" y="610884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14"/>
            <a:stretch/>
          </p:blipFill>
          <p:spPr>
            <a:xfrm>
              <a:off x="7419240" y="622080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"/>
          <p:cNvGrpSpPr/>
          <p:nvPr/>
        </p:nvGrpSpPr>
        <p:grpSpPr>
          <a:xfrm>
            <a:off x="6945480" y="5824440"/>
            <a:ext cx="379080" cy="376200"/>
            <a:chOff x="6945480" y="5824440"/>
            <a:chExt cx="379080" cy="376200"/>
          </a:xfrm>
        </p:grpSpPr>
        <p:pic>
          <p:nvPicPr>
            <p:cNvPr id="173" name="" descr=""/>
            <p:cNvPicPr/>
            <p:nvPr/>
          </p:nvPicPr>
          <p:blipFill>
            <a:blip r:embed="rId15"/>
            <a:stretch/>
          </p:blipFill>
          <p:spPr>
            <a:xfrm>
              <a:off x="6945480" y="5824440"/>
              <a:ext cx="37908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7055640" y="5956560"/>
              <a:ext cx="26712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7251840" y="572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972560" y="5151600"/>
            <a:ext cx="207720" cy="408960"/>
            <a:chOff x="7972560" y="5151600"/>
            <a:chExt cx="207720" cy="408960"/>
          </a:xfrm>
        </p:grpSpPr>
        <p:sp>
          <p:nvSpPr>
            <p:cNvPr id="177" name=""/>
            <p:cNvSpPr/>
            <p:nvPr/>
          </p:nvSpPr>
          <p:spPr>
            <a:xfrm>
              <a:off x="7972560" y="5466240"/>
              <a:ext cx="207720" cy="94320"/>
            </a:xfrm>
            <a:prstGeom prst="parallelogram">
              <a:avLst>
                <a:gd name="adj" fmla="val 8483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077680" y="515412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73640" y="5243400"/>
              <a:ext cx="13140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72560" y="5151600"/>
              <a:ext cx="207720" cy="94320"/>
            </a:xfrm>
            <a:prstGeom prst="parallelogram">
              <a:avLst>
                <a:gd name="adj" fmla="val 8483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80280" y="515808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8105040" y="5466240"/>
              <a:ext cx="745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90200" y="5284800"/>
              <a:ext cx="87120" cy="181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02800" y="533952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959600" y="5595840"/>
            <a:ext cx="208080" cy="409680"/>
            <a:chOff x="7959600" y="5595840"/>
            <a:chExt cx="208080" cy="409680"/>
          </a:xfrm>
        </p:grpSpPr>
        <p:sp>
          <p:nvSpPr>
            <p:cNvPr id="186" name=""/>
            <p:cNvSpPr/>
            <p:nvPr/>
          </p:nvSpPr>
          <p:spPr>
            <a:xfrm>
              <a:off x="7959600" y="591084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64720" y="559836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60680" y="568764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59600" y="559584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67680" y="560232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8092440" y="591084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77240" y="5729040"/>
              <a:ext cx="87480" cy="181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89840" y="57837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 flipV="1">
            <a:off x="7891560" y="521964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88320" y="582948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85080" y="535320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608880" y="3449520"/>
            <a:ext cx="458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3800" y="343368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8062920" y="3770280"/>
            <a:ext cx="2412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92880" y="354636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18440" y="4194000"/>
            <a:ext cx="53496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778880" y="4659480"/>
            <a:ext cx="2664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551360" y="3738600"/>
            <a:ext cx="56052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561440" y="3178080"/>
            <a:ext cx="35064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278920" y="3354480"/>
            <a:ext cx="20160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53000" y="29923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SP lo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20520" y="6004080"/>
            <a:ext cx="123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de 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62480" y="4145040"/>
            <a:ext cx="16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SP reg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948280" y="1747800"/>
            <a:ext cx="501840" cy="232920"/>
            <a:chOff x="5948280" y="1747800"/>
            <a:chExt cx="501840" cy="232920"/>
          </a:xfrm>
        </p:grpSpPr>
        <p:sp>
          <p:nvSpPr>
            <p:cNvPr id="210" name=""/>
            <p:cNvSpPr/>
            <p:nvPr/>
          </p:nvSpPr>
          <p:spPr>
            <a:xfrm>
              <a:off x="5952240" y="1851840"/>
              <a:ext cx="497520" cy="1288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52240" y="1840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50120" y="1840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52240" y="1840680"/>
              <a:ext cx="4932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48280" y="1747800"/>
              <a:ext cx="497160" cy="1504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067800" y="1780560"/>
              <a:ext cx="246240" cy="88200"/>
              <a:chOff x="6067800" y="1780560"/>
              <a:chExt cx="246240" cy="88200"/>
            </a:xfrm>
          </p:grpSpPr>
          <p:sp>
            <p:nvSpPr>
              <p:cNvPr id="216" name=""/>
              <p:cNvSpPr/>
              <p:nvPr/>
            </p:nvSpPr>
            <p:spPr>
              <a:xfrm flipV="1">
                <a:off x="6067800" y="1780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236640" y="1868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148800" y="1782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6067800" y="1779840"/>
              <a:ext cx="246240" cy="88200"/>
              <a:chOff x="6067800" y="1779840"/>
              <a:chExt cx="246240" cy="88200"/>
            </a:xfrm>
          </p:grpSpPr>
          <p:sp>
            <p:nvSpPr>
              <p:cNvPr id="220" name=""/>
              <p:cNvSpPr/>
              <p:nvPr/>
            </p:nvSpPr>
            <p:spPr>
              <a:xfrm>
                <a:off x="6067800" y="1866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236640" y="1779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6148800" y="1779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5958000" y="2324160"/>
            <a:ext cx="209520" cy="409680"/>
            <a:chOff x="5958000" y="2324160"/>
            <a:chExt cx="209520" cy="409680"/>
          </a:xfrm>
        </p:grpSpPr>
        <p:sp>
          <p:nvSpPr>
            <p:cNvPr id="224" name=""/>
            <p:cNvSpPr/>
            <p:nvPr/>
          </p:nvSpPr>
          <p:spPr>
            <a:xfrm>
              <a:off x="5958000" y="2639160"/>
              <a:ext cx="209520" cy="94680"/>
            </a:xfrm>
            <a:prstGeom prst="parallelogram">
              <a:avLst>
                <a:gd name="adj" fmla="val 8524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64200" y="2326680"/>
              <a:ext cx="9612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59080" y="2415960"/>
              <a:ext cx="13248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58000" y="2324160"/>
              <a:ext cx="209520" cy="94680"/>
            </a:xfrm>
            <a:prstGeom prst="parallelogram">
              <a:avLst>
                <a:gd name="adj" fmla="val 8524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67520" y="23306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091560" y="2639160"/>
              <a:ext cx="752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76000" y="2457360"/>
              <a:ext cx="87840" cy="181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88600" y="2512080"/>
              <a:ext cx="666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2" name="" descr=""/>
          <p:cNvPicPr/>
          <p:nvPr/>
        </p:nvPicPr>
        <p:blipFill>
          <a:blip r:embed="rId16"/>
          <a:stretch/>
        </p:blipFill>
        <p:spPr>
          <a:xfrm>
            <a:off x="7211880" y="1801800"/>
            <a:ext cx="417600" cy="31896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7149960" y="2408400"/>
            <a:ext cx="406080" cy="426960"/>
            <a:chOff x="7149960" y="2408400"/>
            <a:chExt cx="406080" cy="426960"/>
          </a:xfrm>
        </p:grpSpPr>
        <p:pic>
          <p:nvPicPr>
            <p:cNvPr id="234" name="" descr=""/>
            <p:cNvPicPr/>
            <p:nvPr/>
          </p:nvPicPr>
          <p:blipFill>
            <a:blip r:embed="rId17"/>
            <a:stretch/>
          </p:blipFill>
          <p:spPr>
            <a:xfrm>
              <a:off x="7149960" y="24084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8"/>
            <a:stretch/>
          </p:blipFill>
          <p:spPr>
            <a:xfrm>
              <a:off x="7209720" y="25203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"/>
          <p:cNvGrpSpPr/>
          <p:nvPr/>
        </p:nvGrpSpPr>
        <p:grpSpPr>
          <a:xfrm>
            <a:off x="6089760" y="3546360"/>
            <a:ext cx="501480" cy="233280"/>
            <a:chOff x="6089760" y="3546360"/>
            <a:chExt cx="501480" cy="233280"/>
          </a:xfrm>
        </p:grpSpPr>
        <p:sp>
          <p:nvSpPr>
            <p:cNvPr id="237" name=""/>
            <p:cNvSpPr/>
            <p:nvPr/>
          </p:nvSpPr>
          <p:spPr>
            <a:xfrm>
              <a:off x="6093720" y="3650400"/>
              <a:ext cx="49716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93720" y="36396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91240" y="36396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93720" y="3639600"/>
              <a:ext cx="49284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89760" y="3546360"/>
              <a:ext cx="49680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6209280" y="3579120"/>
              <a:ext cx="246240" cy="88560"/>
              <a:chOff x="6209280" y="3579120"/>
              <a:chExt cx="246240" cy="8856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6209280" y="3579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78120" y="3667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290280" y="35812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6209280" y="3578040"/>
              <a:ext cx="246240" cy="88560"/>
              <a:chOff x="6209280" y="3578040"/>
              <a:chExt cx="246240" cy="88560"/>
            </a:xfrm>
          </p:grpSpPr>
          <p:sp>
            <p:nvSpPr>
              <p:cNvPr id="247" name=""/>
              <p:cNvSpPr/>
              <p:nvPr/>
            </p:nvSpPr>
            <p:spPr>
              <a:xfrm>
                <a:off x="6209280" y="3664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78120" y="3578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6290280" y="35780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7042320" y="3317760"/>
            <a:ext cx="501480" cy="233280"/>
            <a:chOff x="7042320" y="3317760"/>
            <a:chExt cx="501480" cy="233280"/>
          </a:xfrm>
        </p:grpSpPr>
        <p:sp>
          <p:nvSpPr>
            <p:cNvPr id="251" name=""/>
            <p:cNvSpPr/>
            <p:nvPr/>
          </p:nvSpPr>
          <p:spPr>
            <a:xfrm>
              <a:off x="7046280" y="3421800"/>
              <a:ext cx="49716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46280" y="3411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43800" y="3411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46280" y="3411000"/>
              <a:ext cx="49284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42320" y="3317760"/>
              <a:ext cx="49680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7161840" y="3350520"/>
              <a:ext cx="246240" cy="88560"/>
              <a:chOff x="7161840" y="3350520"/>
              <a:chExt cx="246240" cy="88560"/>
            </a:xfrm>
          </p:grpSpPr>
          <p:sp>
            <p:nvSpPr>
              <p:cNvPr id="257" name=""/>
              <p:cNvSpPr/>
              <p:nvPr/>
            </p:nvSpPr>
            <p:spPr>
              <a:xfrm flipV="1">
                <a:off x="7161840" y="3350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330680" y="3439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242840" y="33526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7161840" y="3349440"/>
              <a:ext cx="246240" cy="88560"/>
              <a:chOff x="7161840" y="3349440"/>
              <a:chExt cx="246240" cy="88560"/>
            </a:xfrm>
          </p:grpSpPr>
          <p:sp>
            <p:nvSpPr>
              <p:cNvPr id="261" name=""/>
              <p:cNvSpPr/>
              <p:nvPr/>
            </p:nvSpPr>
            <p:spPr>
              <a:xfrm>
                <a:off x="7161840" y="3436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330680" y="3349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7242840" y="33494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7059600" y="3975120"/>
            <a:ext cx="501840" cy="232920"/>
            <a:chOff x="7059600" y="3975120"/>
            <a:chExt cx="501840" cy="232920"/>
          </a:xfrm>
        </p:grpSpPr>
        <p:sp>
          <p:nvSpPr>
            <p:cNvPr id="265" name=""/>
            <p:cNvSpPr/>
            <p:nvPr/>
          </p:nvSpPr>
          <p:spPr>
            <a:xfrm>
              <a:off x="7063560" y="4079160"/>
              <a:ext cx="497520" cy="1288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63560" y="4068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61440" y="4068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63560" y="4068000"/>
              <a:ext cx="4932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59600" y="3975120"/>
              <a:ext cx="497160" cy="1504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7179120" y="4007880"/>
              <a:ext cx="246240" cy="88200"/>
              <a:chOff x="7179120" y="4007880"/>
              <a:chExt cx="246240" cy="88200"/>
            </a:xfrm>
          </p:grpSpPr>
          <p:sp>
            <p:nvSpPr>
              <p:cNvPr id="271" name=""/>
              <p:cNvSpPr/>
              <p:nvPr/>
            </p:nvSpPr>
            <p:spPr>
              <a:xfrm flipV="1">
                <a:off x="7179120" y="4007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347960" y="4096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260120" y="40100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179120" y="4007160"/>
              <a:ext cx="246240" cy="88200"/>
              <a:chOff x="7179120" y="4007160"/>
              <a:chExt cx="246240" cy="88200"/>
            </a:xfrm>
          </p:grpSpPr>
          <p:sp>
            <p:nvSpPr>
              <p:cNvPr id="275" name=""/>
              <p:cNvSpPr/>
              <p:nvPr/>
            </p:nvSpPr>
            <p:spPr>
              <a:xfrm>
                <a:off x="7179120" y="409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347960" y="4007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7260120" y="40071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8029440" y="3525840"/>
            <a:ext cx="500040" cy="232920"/>
            <a:chOff x="8029440" y="3525840"/>
            <a:chExt cx="500040" cy="232920"/>
          </a:xfrm>
        </p:grpSpPr>
        <p:sp>
          <p:nvSpPr>
            <p:cNvPr id="279" name=""/>
            <p:cNvSpPr/>
            <p:nvPr/>
          </p:nvSpPr>
          <p:spPr>
            <a:xfrm>
              <a:off x="8033400" y="3629880"/>
              <a:ext cx="495720" cy="1288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033400" y="3618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529480" y="3618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33400" y="3618720"/>
              <a:ext cx="4914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29440" y="3525840"/>
              <a:ext cx="495360" cy="1504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8148600" y="3558600"/>
              <a:ext cx="245520" cy="88200"/>
              <a:chOff x="8148600" y="3558600"/>
              <a:chExt cx="245520" cy="88200"/>
            </a:xfrm>
          </p:grpSpPr>
          <p:sp>
            <p:nvSpPr>
              <p:cNvPr id="285" name=""/>
              <p:cNvSpPr/>
              <p:nvPr/>
            </p:nvSpPr>
            <p:spPr>
              <a:xfrm flipV="1">
                <a:off x="8148600" y="35586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317080" y="36468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229240" y="35607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8148600" y="3557880"/>
              <a:ext cx="245520" cy="88200"/>
              <a:chOff x="8148600" y="3557880"/>
              <a:chExt cx="245520" cy="88200"/>
            </a:xfrm>
          </p:grpSpPr>
          <p:sp>
            <p:nvSpPr>
              <p:cNvPr id="289" name=""/>
              <p:cNvSpPr/>
              <p:nvPr/>
            </p:nvSpPr>
            <p:spPr>
              <a:xfrm>
                <a:off x="8148600" y="36442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317080" y="35578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8229240" y="35578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7835760" y="4422600"/>
            <a:ext cx="501840" cy="233280"/>
            <a:chOff x="7835760" y="4422600"/>
            <a:chExt cx="501840" cy="233280"/>
          </a:xfrm>
        </p:grpSpPr>
        <p:sp>
          <p:nvSpPr>
            <p:cNvPr id="293" name=""/>
            <p:cNvSpPr/>
            <p:nvPr/>
          </p:nvSpPr>
          <p:spPr>
            <a:xfrm>
              <a:off x="7839720" y="4526640"/>
              <a:ext cx="49752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39720" y="45158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337600" y="45158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839720" y="4515840"/>
              <a:ext cx="4932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35760" y="4422600"/>
              <a:ext cx="49716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7955280" y="4455360"/>
              <a:ext cx="246240" cy="88560"/>
              <a:chOff x="7955280" y="4455360"/>
              <a:chExt cx="246240" cy="88560"/>
            </a:xfrm>
          </p:grpSpPr>
          <p:sp>
            <p:nvSpPr>
              <p:cNvPr id="299" name=""/>
              <p:cNvSpPr/>
              <p:nvPr/>
            </p:nvSpPr>
            <p:spPr>
              <a:xfrm flipV="1">
                <a:off x="7955280" y="4455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124120" y="4543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036280" y="44575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7955280" y="4454280"/>
              <a:ext cx="246240" cy="88560"/>
              <a:chOff x="7955280" y="4454280"/>
              <a:chExt cx="246240" cy="88560"/>
            </a:xfrm>
          </p:grpSpPr>
          <p:sp>
            <p:nvSpPr>
              <p:cNvPr id="303" name=""/>
              <p:cNvSpPr/>
              <p:nvPr/>
            </p:nvSpPr>
            <p:spPr>
              <a:xfrm>
                <a:off x="7955280" y="4541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124120" y="44542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8036280" y="44542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7502400" y="5006880"/>
            <a:ext cx="501840" cy="234720"/>
            <a:chOff x="7502400" y="5006880"/>
            <a:chExt cx="501840" cy="234720"/>
          </a:xfrm>
        </p:grpSpPr>
        <p:sp>
          <p:nvSpPr>
            <p:cNvPr id="307" name=""/>
            <p:cNvSpPr/>
            <p:nvPr/>
          </p:nvSpPr>
          <p:spPr>
            <a:xfrm>
              <a:off x="7506360" y="5111640"/>
              <a:ext cx="497520" cy="1299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06360" y="5100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004240" y="5100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06360" y="5100480"/>
              <a:ext cx="493200" cy="7956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02400" y="5006880"/>
              <a:ext cx="497160" cy="1515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621920" y="5040000"/>
              <a:ext cx="246240" cy="88920"/>
              <a:chOff x="7621920" y="5040000"/>
              <a:chExt cx="246240" cy="88920"/>
            </a:xfrm>
          </p:grpSpPr>
          <p:sp>
            <p:nvSpPr>
              <p:cNvPr id="313" name=""/>
              <p:cNvSpPr/>
              <p:nvPr/>
            </p:nvSpPr>
            <p:spPr>
              <a:xfrm flipV="1">
                <a:off x="7621920" y="5040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790760" y="512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702920" y="50421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7621920" y="5038920"/>
              <a:ext cx="246240" cy="88920"/>
              <a:chOff x="7621920" y="5038920"/>
              <a:chExt cx="246240" cy="88920"/>
            </a:xfrm>
          </p:grpSpPr>
          <p:sp>
            <p:nvSpPr>
              <p:cNvPr id="317" name=""/>
              <p:cNvSpPr/>
              <p:nvPr/>
            </p:nvSpPr>
            <p:spPr>
              <a:xfrm>
                <a:off x="7621920" y="5126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790760" y="503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7702920" y="50389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6892920" y="5495760"/>
            <a:ext cx="500040" cy="233280"/>
            <a:chOff x="6892920" y="5495760"/>
            <a:chExt cx="500040" cy="233280"/>
          </a:xfrm>
        </p:grpSpPr>
        <p:sp>
          <p:nvSpPr>
            <p:cNvPr id="321" name=""/>
            <p:cNvSpPr/>
            <p:nvPr/>
          </p:nvSpPr>
          <p:spPr>
            <a:xfrm>
              <a:off x="6896880" y="5599800"/>
              <a:ext cx="49572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96880" y="5589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92960" y="5589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96880" y="5589000"/>
              <a:ext cx="4914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92920" y="5495760"/>
              <a:ext cx="49536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7012080" y="5528520"/>
              <a:ext cx="245520" cy="88560"/>
              <a:chOff x="7012080" y="5528520"/>
              <a:chExt cx="245520" cy="88560"/>
            </a:xfrm>
          </p:grpSpPr>
          <p:sp>
            <p:nvSpPr>
              <p:cNvPr id="327" name=""/>
              <p:cNvSpPr/>
              <p:nvPr/>
            </p:nvSpPr>
            <p:spPr>
              <a:xfrm flipV="1">
                <a:off x="7012080" y="55285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180560" y="56170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092720" y="553068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7012080" y="5527440"/>
              <a:ext cx="245520" cy="88560"/>
              <a:chOff x="7012080" y="5527440"/>
              <a:chExt cx="245520" cy="88560"/>
            </a:xfrm>
          </p:grpSpPr>
          <p:sp>
            <p:nvSpPr>
              <p:cNvPr id="331" name=""/>
              <p:cNvSpPr/>
              <p:nvPr/>
            </p:nvSpPr>
            <p:spPr>
              <a:xfrm>
                <a:off x="7012080" y="56142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180560" y="55274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7092720" y="552744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"/>
          <p:cNvGrpSpPr/>
          <p:nvPr/>
        </p:nvGrpSpPr>
        <p:grpSpPr>
          <a:xfrm>
            <a:off x="6089760" y="5119560"/>
            <a:ext cx="501480" cy="233280"/>
            <a:chOff x="6089760" y="5119560"/>
            <a:chExt cx="501480" cy="233280"/>
          </a:xfrm>
        </p:grpSpPr>
        <p:sp>
          <p:nvSpPr>
            <p:cNvPr id="335" name=""/>
            <p:cNvSpPr/>
            <p:nvPr/>
          </p:nvSpPr>
          <p:spPr>
            <a:xfrm>
              <a:off x="6093720" y="5223600"/>
              <a:ext cx="49716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93720" y="52128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591240" y="52128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93720" y="5212800"/>
              <a:ext cx="49284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89760" y="5119560"/>
              <a:ext cx="49680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6209280" y="5152320"/>
              <a:ext cx="246240" cy="88560"/>
              <a:chOff x="6209280" y="5152320"/>
              <a:chExt cx="246240" cy="88560"/>
            </a:xfrm>
          </p:grpSpPr>
          <p:sp>
            <p:nvSpPr>
              <p:cNvPr id="341" name=""/>
              <p:cNvSpPr/>
              <p:nvPr/>
            </p:nvSpPr>
            <p:spPr>
              <a:xfrm flipV="1">
                <a:off x="6209280" y="5152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78120" y="5240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290280" y="51544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209280" y="5151240"/>
              <a:ext cx="246240" cy="88560"/>
              <a:chOff x="6209280" y="5151240"/>
              <a:chExt cx="246240" cy="88560"/>
            </a:xfrm>
          </p:grpSpPr>
          <p:sp>
            <p:nvSpPr>
              <p:cNvPr id="345" name=""/>
              <p:cNvSpPr/>
              <p:nvPr/>
            </p:nvSpPr>
            <p:spPr>
              <a:xfrm>
                <a:off x="6209280" y="5238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378120" y="5151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6290280" y="51512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8" name=""/>
          <p:cNvSpPr/>
          <p:nvPr/>
        </p:nvSpPr>
        <p:spPr>
          <a:xfrm>
            <a:off x="5900760" y="191124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102080" y="2038320"/>
            <a:ext cx="15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22160" y="242244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64960" y="260820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ó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6345360" y="5331960"/>
            <a:ext cx="1440" cy="24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e imers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9153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critório do Futuro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7" name="15from%20OFFICEdoor%20at%20many%20in%20277" descr=""/>
          <p:cNvPicPr/>
          <p:nvPr/>
        </p:nvPicPr>
        <p:blipFill>
          <a:blip r:embed="rId1"/>
          <a:stretch/>
        </p:blipFill>
        <p:spPr>
          <a:xfrm>
            <a:off x="4267080" y="2286000"/>
            <a:ext cx="4343400" cy="325584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4876920" y="65070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te: University of North Carol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Office of the Future" descr=""/>
          <p:cNvPicPr/>
          <p:nvPr/>
        </p:nvPicPr>
        <p:blipFill>
          <a:blip r:embed="rId2"/>
          <a:stretch/>
        </p:blipFill>
        <p:spPr>
          <a:xfrm>
            <a:off x="0" y="3662280"/>
            <a:ext cx="4876920" cy="31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unc-nano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019920" cy="4281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nanoManipulador Distribuído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2" name=""/>
          <p:cNvSpPr/>
          <p:nvPr/>
        </p:nvSpPr>
        <p:spPr>
          <a:xfrm>
            <a:off x="3360600" y="6324480"/>
            <a:ext cx="29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University of North Carolina-Chapel 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Bancada de Anatomia e Cirurg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ermite que os alunos aprendam anatomia e técnicas de prática cirúrgica usando estações de trabalho 3-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 test bed de rede avalia a eficácia das aplicações da banc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"/>
          <p:cNvSpPr/>
          <p:nvPr/>
        </p:nvSpPr>
        <p:spPr>
          <a:xfrm>
            <a:off x="228600" y="1946160"/>
            <a:ext cx="4495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ford Univers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 of Medi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28600" y="6168960"/>
            <a:ext cx="4038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haiti.stanford.edu/~ngi/fina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hand" descr=""/>
          <p:cNvPicPr/>
          <p:nvPr/>
        </p:nvPicPr>
        <p:blipFill>
          <a:blip r:embed="rId1"/>
          <a:stretch/>
        </p:blipFill>
        <p:spPr>
          <a:xfrm>
            <a:off x="762120" y="29052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eleoperação Remota de Equipamentos em Tempo Re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257800" y="1946160"/>
            <a:ext cx="358128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Arial"/>
              </a:rPr>
              <a:t>Escavadeira computadoriz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Arial"/>
              </a:rPr>
              <a:t>Operação remota, usada em situações de risc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Arial"/>
              </a:rPr>
              <a:t>Garantia de Qualidade de Serviç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"/>
          <p:cNvSpPr/>
          <p:nvPr/>
        </p:nvSpPr>
        <p:spPr>
          <a:xfrm>
            <a:off x="228600" y="1946160"/>
            <a:ext cx="457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rth Carolina State Univers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5943600"/>
            <a:ext cx="480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CARL.ce.ncsu.ed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Televator2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45720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einamento e Audições Remot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952880" y="1946160"/>
            <a:ext cx="36576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imeira orquestra a se tornar membro da Internet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nsino a distância para treinar mús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Áudio e vídeo de alta qualidade em tempo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228600" y="1946160"/>
            <a:ext cx="4495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World Symph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8600" y="6168960"/>
            <a:ext cx="4038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ttp://www.nws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2Chan,%20Ivan" descr=""/>
          <p:cNvPicPr/>
          <p:nvPr/>
        </p:nvPicPr>
        <p:blipFill>
          <a:blip r:embed="rId1"/>
          <a:stretch/>
        </p:blipFill>
        <p:spPr>
          <a:xfrm>
            <a:off x="228600" y="2738520"/>
            <a:ext cx="40384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jetos baseados em Grad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2670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EESGrid (Engenharia de Terremot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www.neesgrid.o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riPhyN (Físic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www.griphyn.o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fra-estru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www.gridforum.o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5562720" y="3967200"/>
            <a:ext cx="3152520" cy="2539800"/>
          </a:xfrm>
          <a:prstGeom prst="rect">
            <a:avLst/>
          </a:prstGeom>
          <a:ln w="0">
            <a:noFill/>
          </a:ln>
        </p:spPr>
      </p:pic>
      <p:pic>
        <p:nvPicPr>
          <p:cNvPr id="711" name="arm_t" descr=""/>
          <p:cNvPicPr/>
          <p:nvPr/>
        </p:nvPicPr>
        <p:blipFill>
          <a:blip r:embed="rId2"/>
          <a:stretch/>
        </p:blipFill>
        <p:spPr>
          <a:xfrm>
            <a:off x="4952880" y="1411200"/>
            <a:ext cx="3353040" cy="21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esso às Grad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3" name="access.boston.ls4" descr=""/>
          <p:cNvPicPr/>
          <p:nvPr/>
        </p:nvPicPr>
        <p:blipFill>
          <a:blip r:embed="rId1"/>
          <a:stretch/>
        </p:blipFill>
        <p:spPr>
          <a:xfrm>
            <a:off x="291960" y="1855800"/>
            <a:ext cx="8699760" cy="38592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288160" y="5834160"/>
            <a:ext cx="46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.accessgrid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876920" y="65070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te: Argonne National Labor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monstração de HDTV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7" name="logosub" descr="Internet HDT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752480"/>
            <a:ext cx="1646280" cy="514440"/>
          </a:xfrm>
          <a:prstGeom prst="rect">
            <a:avLst/>
          </a:prstGeom>
          <a:ln w="0">
            <a:noFill/>
          </a:ln>
        </p:spPr>
      </p:pic>
      <p:pic>
        <p:nvPicPr>
          <p:cNvPr id="718" name="pic3" descr=""/>
          <p:cNvPicPr/>
          <p:nvPr/>
        </p:nvPicPr>
        <p:blipFill>
          <a:blip r:embed="rId3"/>
          <a:stretch/>
        </p:blipFill>
        <p:spPr>
          <a:xfrm>
            <a:off x="1066680" y="2438280"/>
            <a:ext cx="68580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Infra-estrutura de Armazenamento Distribuíd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odelo do DSI da I2: Serviços Repli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s clientes acessam o servidor mais próxi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odos têm um bom desempenh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cursos locais implementam um serviço glob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1" name="three" descr=""/>
          <p:cNvPicPr/>
          <p:nvPr/>
        </p:nvPicPr>
        <p:blipFill>
          <a:blip r:embed="rId1"/>
          <a:stretch/>
        </p:blipFill>
        <p:spPr>
          <a:xfrm>
            <a:off x="4627440" y="2523960"/>
            <a:ext cx="40086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257800" y="1885680"/>
            <a:ext cx="3378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he Internet2 Comm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mbiente Colaborativo Distribuído de Larga Escala para a Comunidade de Pesquisa e Educ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5" name="Commons_diagram" descr="Commons_diagram"/>
          <p:cNvPicPr/>
          <p:nvPr/>
        </p:nvPicPr>
        <p:blipFill>
          <a:blip r:embed="rId1"/>
          <a:stretch/>
        </p:blipFill>
        <p:spPr>
          <a:xfrm>
            <a:off x="304920" y="457200"/>
            <a:ext cx="464004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 que é a Internet: visão dos component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Tahoma"/>
              </a:rPr>
              <a:t>protocolos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trola o envio e recepção de mensag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x., TCP, IP, HTTP, FTP,  P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Tahoma"/>
              </a:rPr>
              <a:t>Internet: </a:t>
            </a:r>
            <a:r>
              <a:rPr b="0" lang="pt-BR" sz="2400" spc="-1" strike="noStrike">
                <a:solidFill>
                  <a:srgbClr val="ff0000"/>
                </a:solidFill>
                <a:latin typeface="Tahoma"/>
              </a:rPr>
              <a:t>“rede de rede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livremente hierárqu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ternet pública versus intranet privad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drões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FC: Request for com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ETF: Internet Engineering Task Fo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6797520" y="3152880"/>
            <a:ext cx="179892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17960" y="300996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86240" y="446076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5035680" y="3144960"/>
            <a:ext cx="732960" cy="318960"/>
            <a:chOff x="5035680" y="3144960"/>
            <a:chExt cx="732960" cy="318960"/>
          </a:xfrm>
        </p:grpSpPr>
        <p:pic>
          <p:nvPicPr>
            <p:cNvPr id="359" name="" descr=""/>
            <p:cNvPicPr/>
            <p:nvPr/>
          </p:nvPicPr>
          <p:blipFill>
            <a:blip r:embed="rId1"/>
            <a:stretch/>
          </p:blipFill>
          <p:spPr>
            <a:xfrm>
              <a:off x="5035680" y="314496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2"/>
            <a:stretch/>
          </p:blipFill>
          <p:spPr>
            <a:xfrm>
              <a:off x="5489280" y="326304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 flipV="1">
              <a:off x="5442120" y="338652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5035680" y="3740040"/>
            <a:ext cx="732960" cy="319320"/>
            <a:chOff x="5035680" y="3740040"/>
            <a:chExt cx="732960" cy="319320"/>
          </a:xfrm>
        </p:grpSpPr>
        <p:pic>
          <p:nvPicPr>
            <p:cNvPr id="363" name="" descr=""/>
            <p:cNvPicPr/>
            <p:nvPr/>
          </p:nvPicPr>
          <p:blipFill>
            <a:blip r:embed="rId3"/>
            <a:stretch/>
          </p:blipFill>
          <p:spPr>
            <a:xfrm>
              <a:off x="5035680" y="374004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4"/>
            <a:stretch/>
          </p:blipFill>
          <p:spPr>
            <a:xfrm>
              <a:off x="5489280" y="3858120"/>
              <a:ext cx="27936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 flipV="1">
              <a:off x="5442120" y="398160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411880" y="3527280"/>
            <a:ext cx="69480" cy="214200"/>
            <a:chOff x="5411880" y="3527280"/>
            <a:chExt cx="69480" cy="214200"/>
          </a:xfrm>
        </p:grpSpPr>
        <p:sp>
          <p:nvSpPr>
            <p:cNvPr id="367" name=""/>
            <p:cNvSpPr/>
            <p:nvPr/>
          </p:nvSpPr>
          <p:spPr>
            <a:xfrm>
              <a:off x="5411880" y="3527280"/>
              <a:ext cx="64080" cy="604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14400" y="3604320"/>
              <a:ext cx="64080" cy="601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17280" y="3681360"/>
              <a:ext cx="64080" cy="601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881680" y="4030560"/>
            <a:ext cx="209520" cy="394920"/>
            <a:chOff x="5881680" y="4030560"/>
            <a:chExt cx="209520" cy="394920"/>
          </a:xfrm>
        </p:grpSpPr>
        <p:sp>
          <p:nvSpPr>
            <p:cNvPr id="371" name=""/>
            <p:cNvSpPr/>
            <p:nvPr/>
          </p:nvSpPr>
          <p:spPr>
            <a:xfrm>
              <a:off x="5881680" y="43344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987880" y="40330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82760" y="41191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81680" y="40305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91200" y="40366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6015240" y="43344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899680" y="4159080"/>
              <a:ext cx="87840" cy="174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12280" y="42120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6118200" y="4184280"/>
            <a:ext cx="233280" cy="81000"/>
            <a:chOff x="6118200" y="4184280"/>
            <a:chExt cx="233280" cy="81000"/>
          </a:xfrm>
        </p:grpSpPr>
        <p:sp>
          <p:nvSpPr>
            <p:cNvPr id="380" name=""/>
            <p:cNvSpPr/>
            <p:nvPr/>
          </p:nvSpPr>
          <p:spPr>
            <a:xfrm rot="16200000">
              <a:off x="6113520" y="4195080"/>
              <a:ext cx="74520" cy="655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6200000">
              <a:off x="6197400" y="4191840"/>
              <a:ext cx="74520" cy="655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16200000">
              <a:off x="6281280" y="4188600"/>
              <a:ext cx="74520" cy="655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6018120" y="393876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21360" y="393552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16720" y="3933720"/>
            <a:ext cx="144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18240" y="3398760"/>
            <a:ext cx="28872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730840" y="3684240"/>
            <a:ext cx="2761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257880" y="3770280"/>
            <a:ext cx="180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6386400" y="4017960"/>
            <a:ext cx="209520" cy="394920"/>
            <a:chOff x="6386400" y="4017960"/>
            <a:chExt cx="209520" cy="394920"/>
          </a:xfrm>
        </p:grpSpPr>
        <p:sp>
          <p:nvSpPr>
            <p:cNvPr id="390" name=""/>
            <p:cNvSpPr/>
            <p:nvPr/>
          </p:nvSpPr>
          <p:spPr>
            <a:xfrm>
              <a:off x="6386400" y="43218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92600" y="40204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87480" y="41065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386400" y="40179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95920" y="40240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6519960" y="43218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404400" y="4146480"/>
              <a:ext cx="87840" cy="174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17000" y="41994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419800" y="4627440"/>
            <a:ext cx="479160" cy="925200"/>
            <a:chOff x="5419800" y="4627440"/>
            <a:chExt cx="479160" cy="925200"/>
          </a:xfrm>
        </p:grpSpPr>
        <p:pic>
          <p:nvPicPr>
            <p:cNvPr id="399" name="" descr=""/>
            <p:cNvPicPr/>
            <p:nvPr/>
          </p:nvPicPr>
          <p:blipFill>
            <a:blip r:embed="rId5"/>
            <a:stretch/>
          </p:blipFill>
          <p:spPr>
            <a:xfrm>
              <a:off x="5419800" y="46274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 flipV="1">
              <a:off x="5826600" y="48740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1" name="" descr=""/>
            <p:cNvPicPr/>
            <p:nvPr/>
          </p:nvPicPr>
          <p:blipFill>
            <a:blip r:embed="rId6"/>
            <a:stretch/>
          </p:blipFill>
          <p:spPr>
            <a:xfrm>
              <a:off x="5419800" y="52221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 flipV="1">
              <a:off x="5826600" y="547236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5545080" y="4968720"/>
              <a:ext cx="70560" cy="222480"/>
              <a:chOff x="5545080" y="4968720"/>
              <a:chExt cx="70560" cy="222480"/>
            </a:xfrm>
          </p:grpSpPr>
          <p:sp>
            <p:nvSpPr>
              <p:cNvPr id="404" name=""/>
              <p:cNvSpPr/>
              <p:nvPr/>
            </p:nvSpPr>
            <p:spPr>
              <a:xfrm>
                <a:off x="5545080" y="4968720"/>
                <a:ext cx="65160" cy="6264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547600" y="5048640"/>
                <a:ext cx="65160" cy="6228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550480" y="5128920"/>
                <a:ext cx="65160" cy="6228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5893560" y="487116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8" name="" descr=""/>
          <p:cNvPicPr/>
          <p:nvPr/>
        </p:nvPicPr>
        <p:blipFill>
          <a:blip r:embed="rId7"/>
          <a:stretch/>
        </p:blipFill>
        <p:spPr>
          <a:xfrm>
            <a:off x="6288120" y="5637240"/>
            <a:ext cx="417600" cy="3319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8"/>
          <a:stretch/>
        </p:blipFill>
        <p:spPr>
          <a:xfrm>
            <a:off x="5673600" y="5626080"/>
            <a:ext cx="416160" cy="3301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 rot="16200000">
            <a:off x="6090480" y="5730120"/>
            <a:ext cx="63360" cy="64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6200000">
            <a:off x="6175440" y="5727600"/>
            <a:ext cx="63360" cy="669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6252840" y="5732280"/>
            <a:ext cx="61920" cy="65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541920" y="5583240"/>
            <a:ext cx="180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918040" y="557172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919840" y="557856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899320" y="520344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00880" y="5249880"/>
            <a:ext cx="30312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7296120" y="524664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9"/>
          <a:stretch/>
        </p:blipFill>
        <p:spPr>
          <a:xfrm>
            <a:off x="7473960" y="479916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10"/>
          <a:stretch/>
        </p:blipFill>
        <p:spPr>
          <a:xfrm>
            <a:off x="6137280" y="487980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218280" y="465444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485040" y="6076800"/>
            <a:ext cx="406080" cy="426960"/>
            <a:chOff x="6485040" y="6076800"/>
            <a:chExt cx="406080" cy="426960"/>
          </a:xfrm>
        </p:grpSpPr>
        <p:pic>
          <p:nvPicPr>
            <p:cNvPr id="423" name="" descr=""/>
            <p:cNvPicPr/>
            <p:nvPr/>
          </p:nvPicPr>
          <p:blipFill>
            <a:blip r:embed="rId11"/>
            <a:stretch/>
          </p:blipFill>
          <p:spPr>
            <a:xfrm>
              <a:off x="6485040" y="6076800"/>
              <a:ext cx="378360" cy="3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12"/>
            <a:stretch/>
          </p:blipFill>
          <p:spPr>
            <a:xfrm>
              <a:off x="6544800" y="61887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5" name=""/>
          <p:cNvGrpSpPr/>
          <p:nvPr/>
        </p:nvGrpSpPr>
        <p:grpSpPr>
          <a:xfrm>
            <a:off x="7262640" y="6108840"/>
            <a:ext cx="406080" cy="426960"/>
            <a:chOff x="7262640" y="6108840"/>
            <a:chExt cx="406080" cy="426960"/>
          </a:xfrm>
        </p:grpSpPr>
        <p:pic>
          <p:nvPicPr>
            <p:cNvPr id="426" name="" descr=""/>
            <p:cNvPicPr/>
            <p:nvPr/>
          </p:nvPicPr>
          <p:blipFill>
            <a:blip r:embed="rId13"/>
            <a:stretch/>
          </p:blipFill>
          <p:spPr>
            <a:xfrm>
              <a:off x="7262640" y="610884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4"/>
            <a:stretch/>
          </p:blipFill>
          <p:spPr>
            <a:xfrm>
              <a:off x="7322400" y="622080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"/>
          <p:cNvGrpSpPr/>
          <p:nvPr/>
        </p:nvGrpSpPr>
        <p:grpSpPr>
          <a:xfrm>
            <a:off x="6848640" y="5824440"/>
            <a:ext cx="379080" cy="376200"/>
            <a:chOff x="6848640" y="5824440"/>
            <a:chExt cx="379080" cy="376200"/>
          </a:xfrm>
        </p:grpSpPr>
        <p:pic>
          <p:nvPicPr>
            <p:cNvPr id="429" name="" descr=""/>
            <p:cNvPicPr/>
            <p:nvPr/>
          </p:nvPicPr>
          <p:blipFill>
            <a:blip r:embed="rId15"/>
            <a:stretch/>
          </p:blipFill>
          <p:spPr>
            <a:xfrm>
              <a:off x="6848640" y="5824440"/>
              <a:ext cx="37908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6958800" y="5956560"/>
              <a:ext cx="26712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7155000" y="572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7875720" y="5151600"/>
            <a:ext cx="207720" cy="408960"/>
            <a:chOff x="7875720" y="5151600"/>
            <a:chExt cx="207720" cy="408960"/>
          </a:xfrm>
        </p:grpSpPr>
        <p:sp>
          <p:nvSpPr>
            <p:cNvPr id="433" name=""/>
            <p:cNvSpPr/>
            <p:nvPr/>
          </p:nvSpPr>
          <p:spPr>
            <a:xfrm>
              <a:off x="7875720" y="5466240"/>
              <a:ext cx="207720" cy="94320"/>
            </a:xfrm>
            <a:prstGeom prst="parallelogram">
              <a:avLst>
                <a:gd name="adj" fmla="val 8483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80840" y="515412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76800" y="5243400"/>
              <a:ext cx="13140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75720" y="5151600"/>
              <a:ext cx="207720" cy="94320"/>
            </a:xfrm>
            <a:prstGeom prst="parallelogram">
              <a:avLst>
                <a:gd name="adj" fmla="val 8483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83440" y="515808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8008200" y="5466240"/>
              <a:ext cx="745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893360" y="5284800"/>
              <a:ext cx="87120" cy="181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05960" y="533952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7862760" y="5595840"/>
            <a:ext cx="208080" cy="409680"/>
            <a:chOff x="7862760" y="5595840"/>
            <a:chExt cx="208080" cy="409680"/>
          </a:xfrm>
        </p:grpSpPr>
        <p:sp>
          <p:nvSpPr>
            <p:cNvPr id="442" name=""/>
            <p:cNvSpPr/>
            <p:nvPr/>
          </p:nvSpPr>
          <p:spPr>
            <a:xfrm>
              <a:off x="7862760" y="591084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967880" y="559836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863840" y="568764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862760" y="559584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70840" y="560232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7995600" y="591084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880400" y="5729040"/>
              <a:ext cx="87480" cy="181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893000" y="57837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 flipV="1">
            <a:off x="7794720" y="521964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791480" y="582948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788240" y="535320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6512040" y="3449520"/>
            <a:ext cx="458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46960" y="343368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7966080" y="3770280"/>
            <a:ext cx="2412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196040" y="354636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221600" y="4194000"/>
            <a:ext cx="53496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7682040" y="4659480"/>
            <a:ext cx="2664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7454520" y="3738600"/>
            <a:ext cx="56052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7464600" y="3178080"/>
            <a:ext cx="35064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8182080" y="3354480"/>
            <a:ext cx="20160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56160" y="29923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SP lo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23680" y="6004080"/>
            <a:ext cx="123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de 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965640" y="4145040"/>
            <a:ext cx="16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SP reg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851440" y="1747800"/>
            <a:ext cx="501840" cy="232920"/>
            <a:chOff x="5851440" y="1747800"/>
            <a:chExt cx="501840" cy="232920"/>
          </a:xfrm>
        </p:grpSpPr>
        <p:sp>
          <p:nvSpPr>
            <p:cNvPr id="466" name=""/>
            <p:cNvSpPr/>
            <p:nvPr/>
          </p:nvSpPr>
          <p:spPr>
            <a:xfrm>
              <a:off x="5855400" y="1851840"/>
              <a:ext cx="497520" cy="1288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55400" y="1840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53280" y="1840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855400" y="1840680"/>
              <a:ext cx="4932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851440" y="1747800"/>
              <a:ext cx="497160" cy="1504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5970960" y="1780560"/>
              <a:ext cx="246240" cy="88200"/>
              <a:chOff x="5970960" y="1780560"/>
              <a:chExt cx="246240" cy="88200"/>
            </a:xfrm>
          </p:grpSpPr>
          <p:sp>
            <p:nvSpPr>
              <p:cNvPr id="472" name=""/>
              <p:cNvSpPr/>
              <p:nvPr/>
            </p:nvSpPr>
            <p:spPr>
              <a:xfrm flipV="1">
                <a:off x="5970960" y="1780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39800" y="1868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051960" y="1782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5970960" y="1779840"/>
              <a:ext cx="246240" cy="88200"/>
              <a:chOff x="5970960" y="1779840"/>
              <a:chExt cx="246240" cy="88200"/>
            </a:xfrm>
          </p:grpSpPr>
          <p:sp>
            <p:nvSpPr>
              <p:cNvPr id="476" name=""/>
              <p:cNvSpPr/>
              <p:nvPr/>
            </p:nvSpPr>
            <p:spPr>
              <a:xfrm>
                <a:off x="5970960" y="1866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139800" y="1779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6051960" y="1779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9" name=""/>
          <p:cNvGrpSpPr/>
          <p:nvPr/>
        </p:nvGrpSpPr>
        <p:grpSpPr>
          <a:xfrm>
            <a:off x="5861160" y="2324160"/>
            <a:ext cx="209520" cy="409680"/>
            <a:chOff x="5861160" y="2324160"/>
            <a:chExt cx="209520" cy="409680"/>
          </a:xfrm>
        </p:grpSpPr>
        <p:sp>
          <p:nvSpPr>
            <p:cNvPr id="480" name=""/>
            <p:cNvSpPr/>
            <p:nvPr/>
          </p:nvSpPr>
          <p:spPr>
            <a:xfrm>
              <a:off x="5861160" y="2639160"/>
              <a:ext cx="209520" cy="94680"/>
            </a:xfrm>
            <a:prstGeom prst="parallelogram">
              <a:avLst>
                <a:gd name="adj" fmla="val 8524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967360" y="2326680"/>
              <a:ext cx="9612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862240" y="2415960"/>
              <a:ext cx="13248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61160" y="2324160"/>
              <a:ext cx="209520" cy="94680"/>
            </a:xfrm>
            <a:prstGeom prst="parallelogram">
              <a:avLst>
                <a:gd name="adj" fmla="val 8524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70680" y="23306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994720" y="2639160"/>
              <a:ext cx="752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879160" y="2457360"/>
              <a:ext cx="87840" cy="181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891760" y="2512080"/>
              <a:ext cx="666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8" name="" descr=""/>
          <p:cNvPicPr/>
          <p:nvPr/>
        </p:nvPicPr>
        <p:blipFill>
          <a:blip r:embed="rId16"/>
          <a:stretch/>
        </p:blipFill>
        <p:spPr>
          <a:xfrm>
            <a:off x="7115040" y="1801800"/>
            <a:ext cx="417600" cy="318960"/>
          </a:xfrm>
          <a:prstGeom prst="rect">
            <a:avLst/>
          </a:prstGeom>
          <a:ln w="0">
            <a:noFill/>
          </a:ln>
        </p:spPr>
      </p:pic>
      <p:grpSp>
        <p:nvGrpSpPr>
          <p:cNvPr id="489" name=""/>
          <p:cNvGrpSpPr/>
          <p:nvPr/>
        </p:nvGrpSpPr>
        <p:grpSpPr>
          <a:xfrm>
            <a:off x="7053120" y="2408400"/>
            <a:ext cx="406080" cy="426960"/>
            <a:chOff x="7053120" y="2408400"/>
            <a:chExt cx="406080" cy="426960"/>
          </a:xfrm>
        </p:grpSpPr>
        <p:pic>
          <p:nvPicPr>
            <p:cNvPr id="490" name="" descr=""/>
            <p:cNvPicPr/>
            <p:nvPr/>
          </p:nvPicPr>
          <p:blipFill>
            <a:blip r:embed="rId17"/>
            <a:stretch/>
          </p:blipFill>
          <p:spPr>
            <a:xfrm>
              <a:off x="7053120" y="24084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18"/>
            <a:stretch/>
          </p:blipFill>
          <p:spPr>
            <a:xfrm>
              <a:off x="7112880" y="25203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2" name=""/>
          <p:cNvGrpSpPr/>
          <p:nvPr/>
        </p:nvGrpSpPr>
        <p:grpSpPr>
          <a:xfrm>
            <a:off x="5992920" y="3546360"/>
            <a:ext cx="501480" cy="233280"/>
            <a:chOff x="5992920" y="3546360"/>
            <a:chExt cx="501480" cy="233280"/>
          </a:xfrm>
        </p:grpSpPr>
        <p:sp>
          <p:nvSpPr>
            <p:cNvPr id="493" name=""/>
            <p:cNvSpPr/>
            <p:nvPr/>
          </p:nvSpPr>
          <p:spPr>
            <a:xfrm>
              <a:off x="5996880" y="3650400"/>
              <a:ext cx="49716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6880" y="36396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94400" y="36396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996880" y="3639600"/>
              <a:ext cx="49284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992920" y="3546360"/>
              <a:ext cx="49680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6112440" y="3579120"/>
              <a:ext cx="246240" cy="88560"/>
              <a:chOff x="6112440" y="3579120"/>
              <a:chExt cx="246240" cy="88560"/>
            </a:xfrm>
          </p:grpSpPr>
          <p:sp>
            <p:nvSpPr>
              <p:cNvPr id="499" name=""/>
              <p:cNvSpPr/>
              <p:nvPr/>
            </p:nvSpPr>
            <p:spPr>
              <a:xfrm flipV="1">
                <a:off x="6112440" y="3579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281280" y="3667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193440" y="35812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6112440" y="3578040"/>
              <a:ext cx="246240" cy="88560"/>
              <a:chOff x="6112440" y="3578040"/>
              <a:chExt cx="246240" cy="88560"/>
            </a:xfrm>
          </p:grpSpPr>
          <p:sp>
            <p:nvSpPr>
              <p:cNvPr id="503" name=""/>
              <p:cNvSpPr/>
              <p:nvPr/>
            </p:nvSpPr>
            <p:spPr>
              <a:xfrm>
                <a:off x="6112440" y="3664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281280" y="3578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6193440" y="35780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6945480" y="3317760"/>
            <a:ext cx="501480" cy="233280"/>
            <a:chOff x="6945480" y="3317760"/>
            <a:chExt cx="501480" cy="233280"/>
          </a:xfrm>
        </p:grpSpPr>
        <p:sp>
          <p:nvSpPr>
            <p:cNvPr id="507" name=""/>
            <p:cNvSpPr/>
            <p:nvPr/>
          </p:nvSpPr>
          <p:spPr>
            <a:xfrm>
              <a:off x="6949440" y="3421800"/>
              <a:ext cx="49716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49440" y="3411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446960" y="3411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49440" y="3411000"/>
              <a:ext cx="49284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45480" y="3317760"/>
              <a:ext cx="49680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7065000" y="3350520"/>
              <a:ext cx="246240" cy="88560"/>
              <a:chOff x="7065000" y="3350520"/>
              <a:chExt cx="246240" cy="88560"/>
            </a:xfrm>
          </p:grpSpPr>
          <p:sp>
            <p:nvSpPr>
              <p:cNvPr id="513" name=""/>
              <p:cNvSpPr/>
              <p:nvPr/>
            </p:nvSpPr>
            <p:spPr>
              <a:xfrm flipV="1">
                <a:off x="7065000" y="3350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233840" y="3439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146000" y="33526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7065000" y="3349440"/>
              <a:ext cx="246240" cy="88560"/>
              <a:chOff x="7065000" y="3349440"/>
              <a:chExt cx="246240" cy="88560"/>
            </a:xfrm>
          </p:grpSpPr>
          <p:sp>
            <p:nvSpPr>
              <p:cNvPr id="517" name=""/>
              <p:cNvSpPr/>
              <p:nvPr/>
            </p:nvSpPr>
            <p:spPr>
              <a:xfrm>
                <a:off x="7065000" y="3436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233840" y="3349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7146000" y="33494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0" name=""/>
          <p:cNvGrpSpPr/>
          <p:nvPr/>
        </p:nvGrpSpPr>
        <p:grpSpPr>
          <a:xfrm>
            <a:off x="6962760" y="3975120"/>
            <a:ext cx="501840" cy="232920"/>
            <a:chOff x="6962760" y="3975120"/>
            <a:chExt cx="501840" cy="232920"/>
          </a:xfrm>
        </p:grpSpPr>
        <p:sp>
          <p:nvSpPr>
            <p:cNvPr id="521" name=""/>
            <p:cNvSpPr/>
            <p:nvPr/>
          </p:nvSpPr>
          <p:spPr>
            <a:xfrm>
              <a:off x="6966720" y="4079160"/>
              <a:ext cx="497520" cy="1288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66720" y="4068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464600" y="4068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66720" y="4068000"/>
              <a:ext cx="4932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62760" y="3975120"/>
              <a:ext cx="497160" cy="1504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7082280" y="4007880"/>
              <a:ext cx="246240" cy="88200"/>
              <a:chOff x="7082280" y="4007880"/>
              <a:chExt cx="246240" cy="88200"/>
            </a:xfrm>
          </p:grpSpPr>
          <p:sp>
            <p:nvSpPr>
              <p:cNvPr id="527" name=""/>
              <p:cNvSpPr/>
              <p:nvPr/>
            </p:nvSpPr>
            <p:spPr>
              <a:xfrm flipV="1">
                <a:off x="7082280" y="4007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251120" y="4096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163280" y="40100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7082280" y="4007160"/>
              <a:ext cx="246240" cy="88200"/>
              <a:chOff x="7082280" y="4007160"/>
              <a:chExt cx="246240" cy="88200"/>
            </a:xfrm>
          </p:grpSpPr>
          <p:sp>
            <p:nvSpPr>
              <p:cNvPr id="531" name=""/>
              <p:cNvSpPr/>
              <p:nvPr/>
            </p:nvSpPr>
            <p:spPr>
              <a:xfrm>
                <a:off x="7082280" y="409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251120" y="4007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7163280" y="40071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4" name=""/>
          <p:cNvGrpSpPr/>
          <p:nvPr/>
        </p:nvGrpSpPr>
        <p:grpSpPr>
          <a:xfrm>
            <a:off x="7932600" y="3525840"/>
            <a:ext cx="500040" cy="232920"/>
            <a:chOff x="7932600" y="3525840"/>
            <a:chExt cx="500040" cy="232920"/>
          </a:xfrm>
        </p:grpSpPr>
        <p:sp>
          <p:nvSpPr>
            <p:cNvPr id="535" name=""/>
            <p:cNvSpPr/>
            <p:nvPr/>
          </p:nvSpPr>
          <p:spPr>
            <a:xfrm>
              <a:off x="7936560" y="3629880"/>
              <a:ext cx="495720" cy="1288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936560" y="3618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432640" y="3618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936560" y="3618720"/>
              <a:ext cx="4914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32600" y="3525840"/>
              <a:ext cx="495360" cy="1504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8051760" y="3558600"/>
              <a:ext cx="245520" cy="88200"/>
              <a:chOff x="8051760" y="3558600"/>
              <a:chExt cx="245520" cy="88200"/>
            </a:xfrm>
          </p:grpSpPr>
          <p:sp>
            <p:nvSpPr>
              <p:cNvPr id="541" name=""/>
              <p:cNvSpPr/>
              <p:nvPr/>
            </p:nvSpPr>
            <p:spPr>
              <a:xfrm flipV="1">
                <a:off x="8051760" y="35586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220240" y="36468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132400" y="35607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8051760" y="3557880"/>
              <a:ext cx="245520" cy="88200"/>
              <a:chOff x="8051760" y="3557880"/>
              <a:chExt cx="245520" cy="88200"/>
            </a:xfrm>
          </p:grpSpPr>
          <p:sp>
            <p:nvSpPr>
              <p:cNvPr id="545" name=""/>
              <p:cNvSpPr/>
              <p:nvPr/>
            </p:nvSpPr>
            <p:spPr>
              <a:xfrm>
                <a:off x="8051760" y="36442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220240" y="35578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8132400" y="35578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8" name=""/>
          <p:cNvGrpSpPr/>
          <p:nvPr/>
        </p:nvGrpSpPr>
        <p:grpSpPr>
          <a:xfrm>
            <a:off x="7738920" y="4422600"/>
            <a:ext cx="501840" cy="233280"/>
            <a:chOff x="7738920" y="4422600"/>
            <a:chExt cx="501840" cy="233280"/>
          </a:xfrm>
        </p:grpSpPr>
        <p:sp>
          <p:nvSpPr>
            <p:cNvPr id="549" name=""/>
            <p:cNvSpPr/>
            <p:nvPr/>
          </p:nvSpPr>
          <p:spPr>
            <a:xfrm>
              <a:off x="7742880" y="4526640"/>
              <a:ext cx="49752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42880" y="45158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240760" y="45158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42880" y="4515840"/>
              <a:ext cx="4932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38920" y="4422600"/>
              <a:ext cx="49716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7858440" y="4455360"/>
              <a:ext cx="246240" cy="88560"/>
              <a:chOff x="7858440" y="4455360"/>
              <a:chExt cx="246240" cy="88560"/>
            </a:xfrm>
          </p:grpSpPr>
          <p:sp>
            <p:nvSpPr>
              <p:cNvPr id="555" name=""/>
              <p:cNvSpPr/>
              <p:nvPr/>
            </p:nvSpPr>
            <p:spPr>
              <a:xfrm flipV="1">
                <a:off x="7858440" y="4455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027280" y="4543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939440" y="44575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7858440" y="4454280"/>
              <a:ext cx="246240" cy="88560"/>
              <a:chOff x="7858440" y="4454280"/>
              <a:chExt cx="246240" cy="88560"/>
            </a:xfrm>
          </p:grpSpPr>
          <p:sp>
            <p:nvSpPr>
              <p:cNvPr id="559" name=""/>
              <p:cNvSpPr/>
              <p:nvPr/>
            </p:nvSpPr>
            <p:spPr>
              <a:xfrm>
                <a:off x="7858440" y="4541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027280" y="44542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7939440" y="44542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2" name=""/>
          <p:cNvGrpSpPr/>
          <p:nvPr/>
        </p:nvGrpSpPr>
        <p:grpSpPr>
          <a:xfrm>
            <a:off x="7405560" y="5006880"/>
            <a:ext cx="501840" cy="234720"/>
            <a:chOff x="7405560" y="5006880"/>
            <a:chExt cx="501840" cy="234720"/>
          </a:xfrm>
        </p:grpSpPr>
        <p:sp>
          <p:nvSpPr>
            <p:cNvPr id="563" name=""/>
            <p:cNvSpPr/>
            <p:nvPr/>
          </p:nvSpPr>
          <p:spPr>
            <a:xfrm>
              <a:off x="7409520" y="5111640"/>
              <a:ext cx="497520" cy="1299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09520" y="5100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907400" y="5100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409520" y="5100480"/>
              <a:ext cx="493200" cy="7956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405560" y="5006880"/>
              <a:ext cx="497160" cy="1515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7525080" y="5040000"/>
              <a:ext cx="246240" cy="88920"/>
              <a:chOff x="7525080" y="5040000"/>
              <a:chExt cx="246240" cy="88920"/>
            </a:xfrm>
          </p:grpSpPr>
          <p:sp>
            <p:nvSpPr>
              <p:cNvPr id="569" name=""/>
              <p:cNvSpPr/>
              <p:nvPr/>
            </p:nvSpPr>
            <p:spPr>
              <a:xfrm flipV="1">
                <a:off x="7525080" y="5040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693920" y="512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606080" y="50421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7525080" y="5038920"/>
              <a:ext cx="246240" cy="88920"/>
              <a:chOff x="7525080" y="5038920"/>
              <a:chExt cx="246240" cy="88920"/>
            </a:xfrm>
          </p:grpSpPr>
          <p:sp>
            <p:nvSpPr>
              <p:cNvPr id="573" name=""/>
              <p:cNvSpPr/>
              <p:nvPr/>
            </p:nvSpPr>
            <p:spPr>
              <a:xfrm>
                <a:off x="7525080" y="5126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693920" y="503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7606080" y="50389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6" name=""/>
          <p:cNvGrpSpPr/>
          <p:nvPr/>
        </p:nvGrpSpPr>
        <p:grpSpPr>
          <a:xfrm>
            <a:off x="6796080" y="5495760"/>
            <a:ext cx="500040" cy="233280"/>
            <a:chOff x="6796080" y="5495760"/>
            <a:chExt cx="500040" cy="233280"/>
          </a:xfrm>
        </p:grpSpPr>
        <p:sp>
          <p:nvSpPr>
            <p:cNvPr id="577" name=""/>
            <p:cNvSpPr/>
            <p:nvPr/>
          </p:nvSpPr>
          <p:spPr>
            <a:xfrm>
              <a:off x="6800040" y="5599800"/>
              <a:ext cx="49572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800040" y="5589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96120" y="5589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00040" y="5589000"/>
              <a:ext cx="49140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796080" y="5495760"/>
              <a:ext cx="49536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6915240" y="5528520"/>
              <a:ext cx="245520" cy="88560"/>
              <a:chOff x="6915240" y="5528520"/>
              <a:chExt cx="245520" cy="88560"/>
            </a:xfrm>
          </p:grpSpPr>
          <p:sp>
            <p:nvSpPr>
              <p:cNvPr id="583" name=""/>
              <p:cNvSpPr/>
              <p:nvPr/>
            </p:nvSpPr>
            <p:spPr>
              <a:xfrm flipV="1">
                <a:off x="6915240" y="55285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083720" y="56170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995880" y="553068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6915240" y="5527440"/>
              <a:ext cx="245520" cy="88560"/>
              <a:chOff x="6915240" y="5527440"/>
              <a:chExt cx="245520" cy="88560"/>
            </a:xfrm>
          </p:grpSpPr>
          <p:sp>
            <p:nvSpPr>
              <p:cNvPr id="587" name=""/>
              <p:cNvSpPr/>
              <p:nvPr/>
            </p:nvSpPr>
            <p:spPr>
              <a:xfrm>
                <a:off x="6915240" y="56142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083720" y="55274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6995880" y="552744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0" name=""/>
          <p:cNvGrpSpPr/>
          <p:nvPr/>
        </p:nvGrpSpPr>
        <p:grpSpPr>
          <a:xfrm>
            <a:off x="5992920" y="5119560"/>
            <a:ext cx="501480" cy="233280"/>
            <a:chOff x="5992920" y="5119560"/>
            <a:chExt cx="501480" cy="233280"/>
          </a:xfrm>
        </p:grpSpPr>
        <p:sp>
          <p:nvSpPr>
            <p:cNvPr id="591" name=""/>
            <p:cNvSpPr/>
            <p:nvPr/>
          </p:nvSpPr>
          <p:spPr>
            <a:xfrm>
              <a:off x="5996880" y="5223600"/>
              <a:ext cx="497160" cy="1292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96880" y="52128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494400" y="52128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996880" y="5212800"/>
              <a:ext cx="492840" cy="78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992920" y="5119560"/>
              <a:ext cx="496800" cy="15084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6112440" y="5152320"/>
              <a:ext cx="246240" cy="88560"/>
              <a:chOff x="6112440" y="5152320"/>
              <a:chExt cx="246240" cy="88560"/>
            </a:xfrm>
          </p:grpSpPr>
          <p:sp>
            <p:nvSpPr>
              <p:cNvPr id="597" name=""/>
              <p:cNvSpPr/>
              <p:nvPr/>
            </p:nvSpPr>
            <p:spPr>
              <a:xfrm flipV="1">
                <a:off x="6112440" y="5152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81280" y="5240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193440" y="51544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6112440" y="5151240"/>
              <a:ext cx="246240" cy="88560"/>
              <a:chOff x="6112440" y="5151240"/>
              <a:chExt cx="246240" cy="88560"/>
            </a:xfrm>
          </p:grpSpPr>
          <p:sp>
            <p:nvSpPr>
              <p:cNvPr id="601" name=""/>
              <p:cNvSpPr/>
              <p:nvPr/>
            </p:nvSpPr>
            <p:spPr>
              <a:xfrm>
                <a:off x="6112440" y="5238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81280" y="5151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6193440" y="51512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4" name=""/>
          <p:cNvSpPr/>
          <p:nvPr/>
        </p:nvSpPr>
        <p:spPr>
          <a:xfrm>
            <a:off x="5803920" y="191124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005240" y="2038320"/>
            <a:ext cx="15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25320" y="242244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68120" y="260820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ó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6248520" y="5331960"/>
            <a:ext cx="1440" cy="24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iddle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iddle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a camada de software entre a rede e as aplica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entic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c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riz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tór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uranç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apa do Middle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685800" y="2133720"/>
          <a:ext cx="7848720" cy="35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848720" cy="35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Iniciativa de Middleware da Internet2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comunidade Internet2 possui necessidades e capacitações ún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iddleware Architecture Committee for Education (M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arly Harvest and Early Adop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abs de Infra-estrutura de chaves públicas (PK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hibboleth (autenticação inter-campu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iretórios (eduPers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des Avançad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des Avançad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redes de alto desempenho que participam do projeto Internet2 provêem o ambiente no qual novas aplicações e capacitações de rede podem ser implantadas e test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 Rede Abile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jeto da UCAID em parceria co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isc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ortel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west Commun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2 Test and Evaluation Centers (ITEC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th Caroli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h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abilene-topology-oct-2001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60240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231120" y="640080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IP over SONET (OC-48c = 2,5 G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 Futuro da ABILE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romisso da Qwest estendido por mais 5 anos (01/10/200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pgrade do backbone para transporte óptico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anda do backbone será quadruplicada em 2 a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-48c SONET (2.5 Gbps) para 10-Gbps DWD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lexibilidade para provimento de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’s para dar suporte a experimentos ponto-a-ponto e outros proje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spectos chave do nov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siliência de Re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ovas capacitações para mediçõ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Abilene_Core_Top_M2000" descr=""/>
          <p:cNvPicPr/>
          <p:nvPr/>
        </p:nvPicPr>
        <p:blipFill>
          <a:blip r:embed="rId1"/>
          <a:srcRect l="22045" t="21052" r="0" b="14710"/>
          <a:stretch/>
        </p:blipFill>
        <p:spPr>
          <a:xfrm>
            <a:off x="1600200" y="2395440"/>
            <a:ext cx="5950080" cy="374508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78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bilene International Peer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6" name=""/>
          <p:cNvSpPr/>
          <p:nvPr/>
        </p:nvSpPr>
        <p:spPr>
          <a:xfrm>
            <a:off x="5257800" y="3625920"/>
            <a:ext cx="228600" cy="228600"/>
          </a:xfrm>
          <a:custGeom>
            <a:avLst/>
            <a:gdLst>
              <a:gd name="textAreaLeft" fmla="*/ 52200 w 228600"/>
              <a:gd name="textAreaRight" fmla="*/ 176400 w 228600"/>
              <a:gd name="textAreaTop" fmla="*/ 52200 h 228600"/>
              <a:gd name="textAreaBottom" fmla="*/ 1764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276720" y="1676520"/>
            <a:ext cx="5638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ICAGO/STAR T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AN/TransPAC, Ca*net3, CERN, CERnet, GEMnet, IUCC, KOREN/KREONET2,  MIRnet, NORDUnet, RENATER, SURFnet, SingAREN, SINET, TAnet2 (ANSP, RNP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029200" y="2819520"/>
            <a:ext cx="380880" cy="9144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5410080" y="3106800"/>
            <a:ext cx="1232640" cy="899280"/>
            <a:chOff x="5410080" y="3106800"/>
            <a:chExt cx="1232640" cy="899280"/>
          </a:xfrm>
        </p:grpSpPr>
        <p:sp>
          <p:nvSpPr>
            <p:cNvPr id="750" name=""/>
            <p:cNvSpPr/>
            <p:nvPr/>
          </p:nvSpPr>
          <p:spPr>
            <a:xfrm flipV="1">
              <a:off x="5410080" y="3396960"/>
              <a:ext cx="533520" cy="304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5638680" y="3396600"/>
              <a:ext cx="30492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52520" y="31068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OC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7467480" y="3089160"/>
            <a:ext cx="152424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Y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LNET,  CA*net3, HEANET, JANE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DUnet, SURFne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N-155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0" y="3701880"/>
            <a:ext cx="685800" cy="2286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89800" y="1644480"/>
            <a:ext cx="20491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A/SNN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RNET, CA*ne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NET2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PA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523880" y="2254320"/>
            <a:ext cx="609840" cy="3808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58760" y="3290760"/>
            <a:ext cx="1746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N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MNET, SingAREN, WIDE (SINE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295280" y="3886200"/>
            <a:ext cx="457200" cy="1206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00" y="4513320"/>
            <a:ext cx="1031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E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914400" y="4616280"/>
            <a:ext cx="1143000" cy="15264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934320" y="5454720"/>
            <a:ext cx="20574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UNA, RNP2 (RETIN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477120" y="5835600"/>
            <a:ext cx="38088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5638320" y="4844880"/>
            <a:ext cx="228600" cy="838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638680" y="5683320"/>
            <a:ext cx="838440" cy="1522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051160" y="54864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OC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84560" y="5773680"/>
            <a:ext cx="1355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 El P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505320" y="5378400"/>
            <a:ext cx="152280" cy="4572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19120" y="5468760"/>
            <a:ext cx="1384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RE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1676520" y="4844880"/>
            <a:ext cx="457200" cy="6858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320" y="6568920"/>
            <a:ext cx="9067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NES, CARNET, CESnet, DFN, GRNET, HEAnet, RESTENA, SWITCH, HUNGARNET, GARR-B, POL-34, RCCN, RedI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563800" y="990720"/>
            <a:ext cx="11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 August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escimento da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map_new" descr=""/>
          <p:cNvPicPr/>
          <p:nvPr/>
        </p:nvPicPr>
        <p:blipFill>
          <a:blip r:embed="rId1"/>
          <a:srcRect l="14310" t="3332" r="6925" b="0"/>
          <a:stretch/>
        </p:blipFill>
        <p:spPr>
          <a:xfrm>
            <a:off x="4705200" y="1828800"/>
            <a:ext cx="4438800" cy="5029200"/>
          </a:xfrm>
          <a:prstGeom prst="rect">
            <a:avLst/>
          </a:prstGeom>
          <a:ln w="0">
            <a:noFill/>
          </a:ln>
        </p:spPr>
      </p:pic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mPA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ttp://ampath.fiu.ed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510552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iderado pela Florida International University e Global Cro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otencial para conectar 10 países a 45Mbps c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eering através de Miami (colocated com SFG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UNA (Chile) e RNP2 (Brasil) conectados atual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revemente também RETINA (Argentin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cnologi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S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Packet Over Sone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PLS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Multi Protocol Label Switching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igabit Ethernet (http://www.10gea.org) em fibra esc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oS: Serviços Integrados e Diferenci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genharia de Tráfe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genharia de Red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r, desenvolver e testar serviços e tecnologias avançadas de redes pa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r suporte ao uso intenso de aplicações avançadas de rede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r suporte ao uso intenso da infra-estrutura da Internet2 por professores, estudantes e funcionários das instituições participantes 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ir que a próxima geração da Internet comercial forneça o desempenho confiável que as aplicações avançadas requer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ngenharia de Redes</a:t>
            </a:r>
            <a:br>
              <a:rPr sz="18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rganiz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rupos de Trabal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cnologias ch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je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oblemas com tempo limitado e interdisciplin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2 Centros de Avaliação de Tecnolog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ão suporte às necessidades da rede ABILENE dos GTs e dos Proje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ngenharia de Redes</a:t>
            </a:r>
            <a:br>
              <a:rPr sz="18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upos de Trabalh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edi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lidade de Serviç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ote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guranç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opolog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apa do Tempo da Abile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84" name="abilene" descr=""/>
          <p:cNvPicPr/>
          <p:nvPr/>
        </p:nvPicPr>
        <p:blipFill>
          <a:blip r:embed="rId1"/>
          <a:stretch/>
        </p:blipFill>
        <p:spPr>
          <a:xfrm>
            <a:off x="0" y="1244520"/>
            <a:ext cx="914400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iciativa de Desempenho Fim a Fi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issã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ir que os pesquisadores, professores, alunos e funcionários que utilizam redes de alta velocidade obtenham um desempenho otimizado da infra-estrutura atual de uma forma consist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"/>
          <p:cNvSpPr/>
          <p:nvPr/>
        </p:nvSpPr>
        <p:spPr>
          <a:xfrm>
            <a:off x="990720" y="495288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ectividade Bru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876920" y="495288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empenho das Aplic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962520" y="5486400"/>
            <a:ext cx="1066680" cy="0"/>
          </a:xfrm>
          <a:prstGeom prst="line">
            <a:avLst/>
          </a:prstGeom>
          <a:ln w="7632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iciativa de Desempenho Fim a Fi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Áre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plica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juste do Host/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fra-estrutura de medi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mbiente de Melhoria do Desempen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unicação entre Operações e Usuá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rcabouço para Revisão e Avaliação do Desempen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eb10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3962520" cy="279252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217188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4038480" y="2604960"/>
          <a:ext cx="5105520" cy="3576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2604960"/>
                    <a:ext cx="5105520" cy="35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7" name="" descr=""/>
          <p:cNvPicPr/>
          <p:nvPr/>
        </p:nvPicPr>
        <p:blipFill>
          <a:blip r:embed="rId4"/>
          <a:stretch/>
        </p:blipFill>
        <p:spPr>
          <a:xfrm>
            <a:off x="6172200" y="304920"/>
            <a:ext cx="1616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2 no Bras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MAV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ackbone da RN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Ts da RN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hamada de Projetos CNPq (ProTeM/RN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hamada de Projetos CNPq (ProTeM/RN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www.rnp.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escimento da Internet no Mund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2" name=""/>
          <p:cNvSpPr/>
          <p:nvPr/>
        </p:nvSpPr>
        <p:spPr>
          <a:xfrm>
            <a:off x="311040" y="17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1040" y="17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Count_Host" descr="Internet Hosts Chart"/>
          <p:cNvPicPr/>
          <p:nvPr/>
        </p:nvPicPr>
        <p:blipFill>
          <a:blip r:embed="rId1"/>
          <a:stretch/>
        </p:blipFill>
        <p:spPr>
          <a:xfrm>
            <a:off x="685800" y="1828800"/>
            <a:ext cx="792468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1981080" y="1623960"/>
            <a:ext cx="5029200" cy="4624560"/>
          </a:xfrm>
          <a:prstGeom prst="rect">
            <a:avLst/>
          </a:prstGeom>
          <a:ln w="0">
            <a:noFill/>
          </a:ln>
        </p:spPr>
      </p:pic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MAV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2" name=""/>
          <p:cNvSpPr/>
          <p:nvPr/>
        </p:nvSpPr>
        <p:spPr>
          <a:xfrm>
            <a:off x="6214680" y="3689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4" name="welcome_11" descr=""/>
          <p:cNvPicPr/>
          <p:nvPr/>
        </p:nvPicPr>
        <p:blipFill>
          <a:blip r:embed="rId1"/>
          <a:stretch/>
        </p:blipFill>
        <p:spPr>
          <a:xfrm>
            <a:off x="3081240" y="2824200"/>
            <a:ext cx="2982960" cy="1211400"/>
          </a:xfrm>
          <a:prstGeom prst="rect">
            <a:avLst/>
          </a:prstGeom>
          <a:ln w="0">
            <a:noFill/>
          </a:ln>
        </p:spPr>
      </p:pic>
      <p:pic>
        <p:nvPicPr>
          <p:cNvPr id="805" name="welcome_06" descr=""/>
          <p:cNvPicPr/>
          <p:nvPr/>
        </p:nvPicPr>
        <p:blipFill>
          <a:blip r:embed="rId2"/>
          <a:stretch/>
        </p:blipFill>
        <p:spPr>
          <a:xfrm>
            <a:off x="3657600" y="2041560"/>
            <a:ext cx="1828800" cy="777960"/>
          </a:xfrm>
          <a:prstGeom prst="rect">
            <a:avLst/>
          </a:prstGeom>
          <a:ln w="0">
            <a:noFill/>
          </a:ln>
        </p:spPr>
      </p:pic>
      <p:pic>
        <p:nvPicPr>
          <p:cNvPr id="806" name="welcome_04" descr=""/>
          <p:cNvPicPr/>
          <p:nvPr/>
        </p:nvPicPr>
        <p:blipFill>
          <a:blip r:embed="rId3"/>
          <a:stretch/>
        </p:blipFill>
        <p:spPr>
          <a:xfrm>
            <a:off x="5486400" y="1295280"/>
            <a:ext cx="2011320" cy="1532160"/>
          </a:xfrm>
          <a:prstGeom prst="rect">
            <a:avLst/>
          </a:prstGeom>
          <a:ln w="0">
            <a:noFill/>
          </a:ln>
        </p:spPr>
      </p:pic>
      <p:pic>
        <p:nvPicPr>
          <p:cNvPr id="807" name="welcome_17" descr=""/>
          <p:cNvPicPr/>
          <p:nvPr/>
        </p:nvPicPr>
        <p:blipFill>
          <a:blip r:embed="rId4"/>
          <a:stretch/>
        </p:blipFill>
        <p:spPr>
          <a:xfrm>
            <a:off x="3375000" y="4038480"/>
            <a:ext cx="2492280" cy="125748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524160" y="5943600"/>
            <a:ext cx="79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Times New Roman"/>
              </a:rPr>
              <a:t>Parceiros: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FBA, Governo do Estado, CONDER, PMS, TELEMAR, UC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welcome_1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38280" y="4038480"/>
            <a:ext cx="960480" cy="1257480"/>
          </a:xfrm>
          <a:prstGeom prst="rect">
            <a:avLst/>
          </a:prstGeom>
          <a:ln w="0">
            <a:noFill/>
          </a:ln>
        </p:spPr>
      </p:pic>
      <p:pic>
        <p:nvPicPr>
          <p:cNvPr id="810" name="welcome_12" descr=""/>
          <p:cNvPicPr/>
          <p:nvPr/>
        </p:nvPicPr>
        <p:blipFill>
          <a:blip r:embed="rId7"/>
          <a:stretch/>
        </p:blipFill>
        <p:spPr>
          <a:xfrm>
            <a:off x="6019920" y="2819520"/>
            <a:ext cx="1463400" cy="1211040"/>
          </a:xfrm>
          <a:prstGeom prst="rect">
            <a:avLst/>
          </a:prstGeom>
          <a:ln w="0">
            <a:noFill/>
          </a:ln>
        </p:spPr>
      </p:pic>
      <p:pic>
        <p:nvPicPr>
          <p:cNvPr id="811" name="welcome_18" descr=""/>
          <p:cNvPicPr/>
          <p:nvPr/>
        </p:nvPicPr>
        <p:blipFill>
          <a:blip r:embed="rId8"/>
          <a:stretch/>
        </p:blipFill>
        <p:spPr>
          <a:xfrm>
            <a:off x="5867280" y="4000680"/>
            <a:ext cx="165744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1295280" y="1047600"/>
            <a:ext cx="6553440" cy="5734080"/>
          </a:xfrm>
          <a:prstGeom prst="rect">
            <a:avLst/>
          </a:prstGeom>
          <a:ln w="0">
            <a:noFill/>
          </a:ln>
        </p:spPr>
      </p:pic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Backbone da RNP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GTs da RNP2 </a:t>
            </a: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(em fase de criação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fra-estrutura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T de Qualidade de Serviço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iddleware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T de Diretório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plicaçõ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T de Voz sobre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T de Aplicações em Educação 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T de Vídeo Digi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hamada de Projetos CNPq (ProTeM/RNP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tos para Aplicações de Redes Avanç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mentar a produção de aplicações em redes de alta velocidade, metropolitanas e de longa distância; 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ar e ampliar o acesso a tais aplicações pelas empresas nacionais, e comunidade em ger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alida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squi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tos de Demonstr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envolvi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mada para Aplicações de Redes Avançad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Áreas Foca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Qualidade de Serviço Fim a Fi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eguranç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Vídeo Digi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rabalho Cooperat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iddle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mada para Aplicações de Redes Avançad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plicadas 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ibliotecas Digit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utação Ubíqu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ducação a Distâ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arantia à Privacidade e Anonima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erenciamento de Direitos Autor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randes Sistemas Distribuídos Complex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aboratórios Virtu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lemedic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rabalho Cooperat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mada para Aplicações de Redes Avançad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at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ançamento da Chamada: 18/10/200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cebimento de propostas: 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14/11/2001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nálise, julgamento: 19-23/11/200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ivulgação de resultados: 7/12/200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tratação das propostas: 01/200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hamada de Projetos CNPq (SocInfo/ProTeM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nologias para o Desenvolvimento e Pesquisa em Conteúdos Digit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mentar a produção de Conteúdos Digitais de qualquer natureza (textos, música, software, etc), promovendo a indústria e identidade cultural do país; 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ar e ampliar a geração, distribuição e acesso a tais conteúdos em todo o paí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mada de Conteúdos Digita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has de Atuaçã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u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squi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tos de demonstr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envolvi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lic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ç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ação tecnológ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rescimento da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16" name="Count_WWW" descr="WWW Growth Chart"/>
          <p:cNvPicPr/>
          <p:nvPr/>
        </p:nvPicPr>
        <p:blipFill>
          <a:blip r:embed="rId1"/>
          <a:stretch/>
        </p:blipFill>
        <p:spPr>
          <a:xfrm>
            <a:off x="380880" y="1981080"/>
            <a:ext cx="8458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mada de Conteúdos Digita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Áreas Foca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eguranç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agamentos eletrônicos e Micro-tarif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r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Visualiz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reserv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rmazenagem e recuper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adrões técnicos e metad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istribuição/transpor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teúdos semânti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mada de Conteúdos Digita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at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ançamento da Chamada: 18/10/200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cebimento de propostas: 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14/11/2001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nálise, julgamento: 19-23/11/200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ivulgação de resultados: 7/12/200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tratação das propostas: 01/200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istribuição de </a:t>
            </a: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Hosts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 no Mund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119240" y="2057400"/>
            <a:ext cx="690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/B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de sucesso na transferência de tecnologia para a socieda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sição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(Network Wizards, 1/2001)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úmero de hosts: 876.596 (eram 662.910 em 07/20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do Mundo (era o 1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ahoma"/>
              </a:rPr>
              <a:t>o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m 07/20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das Américas  (México = 559.165 - 15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da América do Sul (Argentina = 270.275 - 25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18:48:10Z</dcterms:created>
  <dc:creator>Suruagy</dc:creator>
  <dc:description/>
  <dc:language>en-US</dc:language>
  <cp:lastModifiedBy>Suruagy</cp:lastModifiedBy>
  <dcterms:modified xsi:type="dcterms:W3CDTF">2001-10-25T14:07:51Z</dcterms:modified>
  <cp:revision>52</cp:revision>
  <dc:subject/>
  <dc:title>Pós-graduação em Ciência da Computação</dc:title>
</cp:coreProperties>
</file>