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25C-DFC2-4209-8AF0-D525EF2A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28B-E1A7-43BD-BCF3-47C732D0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FEB-8FB1-4073-AE20-413EFC32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CA1-01BD-4553-B403-9360D0D6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FAC7-02A0-4CFD-B568-7336DADB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E06B-10BD-4DC9-8F67-A2B810B2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0227-7516-4DDA-BAD2-C39618F5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CAD7-7FAD-4F98-BA5B-5ED1C32B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0056-2177-4387-97AF-6D59894A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66E1-ED31-475E-991F-0248B0D5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6E07-46D1-4B3E-86A5-52DB0FBC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8A1-8D3D-4A89-A913-E50A255C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1E96-300B-48A4-83BE-00B6D29E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7B54-17F2-4633-8043-FBE62A0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895E-3065-495D-9BDB-8FDD889C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B7E6-3B58-4A91-BCAA-B7DD2A4E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A115-CFBB-4441-B527-34D94D85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3EF-4B29-4E1E-9203-8BE5702B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1CD-C8DB-414D-B69D-3E69CE68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E5E-B746-4411-B92A-153FF234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744-1855-430B-9933-86293A42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552-B47B-4275-9358-93E9E559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434-5475-47C5-BDA5-7146BAB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61E-74FF-4DF2-A096-C5D9E5B8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C2BA-1551-4E8F-B1F3-0119DF5D388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itle 1"/>
          <p:cNvSpPr/>
          <p:nvPr/>
        </p:nvSpPr>
        <p:spPr>
          <a:xfrm>
            <a:off x="3714840" y="4429080"/>
            <a:ext cx="52862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d9d9d9"/>
                </a:solidFill>
                <a:latin typeface="Courier New"/>
              </a:rPr>
              <a:t>no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9d9d9"/>
                </a:solidFill>
                <a:latin typeface="Courier New"/>
              </a:rPr>
              <a:t>i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d9d9d9"/>
                </a:solidFill>
                <a:latin typeface="Courier New"/>
              </a:rPr>
              <a:t>aload   </a:t>
            </a:r>
            <a:r>
              <a:rPr b="1" lang="pt-BR" sz="2000" spc="-1" strike="noStrike">
                <a:solidFill>
                  <a:srgbClr val="d9d9d9"/>
                </a:solidFill>
                <a:latin typeface="Courier New"/>
              </a:rPr>
              <a:t>ba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9d9d9"/>
                </a:solidFill>
                <a:latin typeface="Courier New"/>
              </a:rPr>
              <a:t>iinc   </a:t>
            </a:r>
            <a:r>
              <a:rPr b="1" lang="pt-BR" sz="3700" spc="-1" strike="noStrike">
                <a:solidFill>
                  <a:srgbClr val="d9d9d9"/>
                </a:solidFill>
                <a:latin typeface="Courier New"/>
              </a:rPr>
              <a:t>ldc</a:t>
            </a:r>
            <a:r>
              <a:rPr b="1" lang="pt-BR" sz="1500" spc="-1" strike="noStrike">
                <a:solidFill>
                  <a:srgbClr val="d9d9d9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d9d9d9"/>
                </a:solidFill>
                <a:latin typeface="Courier New"/>
              </a:rPr>
              <a:t>g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9d9d9"/>
                </a:solidFill>
                <a:latin typeface="Courier New"/>
              </a:rPr>
              <a:t>dup2_x1 </a:t>
            </a:r>
            <a:r>
              <a:rPr b="1" lang="pt-BR" sz="1500" spc="-1" strike="noStrike">
                <a:solidFill>
                  <a:srgbClr val="d9d9d9"/>
                </a:solidFill>
                <a:latin typeface="Courier New"/>
              </a:rPr>
              <a:t>goto_w </a:t>
            </a:r>
            <a:r>
              <a:rPr b="1" lang="pt-BR" sz="2200" spc="-1" strike="noStrike">
                <a:solidFill>
                  <a:srgbClr val="d9d9d9"/>
                </a:solidFill>
                <a:latin typeface="Courier New"/>
              </a:rPr>
              <a:t>bipush </a:t>
            </a:r>
            <a:r>
              <a:rPr b="1" lang="pt-BR" sz="2000" spc="-1" strike="noStrike">
                <a:solidFill>
                  <a:srgbClr val="d9d9d9"/>
                </a:solidFill>
                <a:latin typeface="Courier New"/>
              </a:rPr>
              <a:t>dup</a:t>
            </a:r>
            <a:r>
              <a:rPr b="1" lang="pt-BR" sz="1500" spc="-1" strike="noStrike">
                <a:solidFill>
                  <a:srgbClr val="d9d9d9"/>
                </a:solidFill>
                <a:latin typeface="Courier New"/>
              </a:rPr>
              <a:t> </a:t>
            </a:r>
            <a:r>
              <a:rPr b="1" lang="pt-BR" sz="2600" spc="-1" strike="noStrike">
                <a:solidFill>
                  <a:srgbClr val="d9d9d9"/>
                </a:solidFill>
                <a:latin typeface="Courier New"/>
              </a:rPr>
              <a:t>swa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itle 1"/>
          <p:cNvSpPr/>
          <p:nvPr/>
        </p:nvSpPr>
        <p:spPr>
          <a:xfrm>
            <a:off x="3714840" y="4429080"/>
            <a:ext cx="52862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d9d9d9"/>
                </a:solidFill>
                <a:latin typeface="Courier New"/>
              </a:rPr>
              <a:t>no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9d9d9"/>
                </a:solidFill>
                <a:latin typeface="Courier New"/>
              </a:rPr>
              <a:t>i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d9d9d9"/>
                </a:solidFill>
                <a:latin typeface="Courier New"/>
              </a:rPr>
              <a:t>aload   </a:t>
            </a:r>
            <a:r>
              <a:rPr b="1" lang="pt-BR" sz="2000" spc="-1" strike="noStrike">
                <a:solidFill>
                  <a:srgbClr val="d9d9d9"/>
                </a:solidFill>
                <a:latin typeface="Courier New"/>
              </a:rPr>
              <a:t>ba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9d9d9"/>
                </a:solidFill>
                <a:latin typeface="Courier New"/>
              </a:rPr>
              <a:t>iinc   </a:t>
            </a:r>
            <a:r>
              <a:rPr b="1" lang="pt-BR" sz="3700" spc="-1" strike="noStrike">
                <a:solidFill>
                  <a:srgbClr val="d9d9d9"/>
                </a:solidFill>
                <a:latin typeface="Courier New"/>
              </a:rPr>
              <a:t>ldc</a:t>
            </a:r>
            <a:r>
              <a:rPr b="1" lang="pt-BR" sz="1500" spc="-1" strike="noStrike">
                <a:solidFill>
                  <a:srgbClr val="d9d9d9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d9d9d9"/>
                </a:solidFill>
                <a:latin typeface="Courier New"/>
              </a:rPr>
              <a:t>g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9d9d9"/>
                </a:solidFill>
                <a:latin typeface="Courier New"/>
              </a:rPr>
              <a:t>dup2_x1 </a:t>
            </a:r>
            <a:r>
              <a:rPr b="1" lang="pt-BR" sz="1500" spc="-1" strike="noStrike">
                <a:solidFill>
                  <a:srgbClr val="d9d9d9"/>
                </a:solidFill>
                <a:latin typeface="Courier New"/>
              </a:rPr>
              <a:t>goto_w </a:t>
            </a:r>
            <a:r>
              <a:rPr b="1" lang="pt-BR" sz="2200" spc="-1" strike="noStrike">
                <a:solidFill>
                  <a:srgbClr val="d9d9d9"/>
                </a:solidFill>
                <a:latin typeface="Courier New"/>
              </a:rPr>
              <a:t>bipush </a:t>
            </a:r>
            <a:r>
              <a:rPr b="1" lang="pt-BR" sz="2000" spc="-1" strike="noStrike">
                <a:solidFill>
                  <a:srgbClr val="d9d9d9"/>
                </a:solidFill>
                <a:latin typeface="Courier New"/>
              </a:rPr>
              <a:t>dup</a:t>
            </a:r>
            <a:r>
              <a:rPr b="1" lang="pt-BR" sz="1500" spc="-1" strike="noStrike">
                <a:solidFill>
                  <a:srgbClr val="d9d9d9"/>
                </a:solidFill>
                <a:latin typeface="Courier New"/>
              </a:rPr>
              <a:t> </a:t>
            </a:r>
            <a:r>
              <a:rPr b="1" lang="pt-BR" sz="2600" spc="-1" strike="noStrike">
                <a:solidFill>
                  <a:srgbClr val="d9d9d9"/>
                </a:solidFill>
                <a:latin typeface="Courier New"/>
              </a:rPr>
              <a:t>swa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3714840" y="4429080"/>
            <a:ext cx="52862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d9d9d9"/>
                </a:solidFill>
                <a:latin typeface="Courier New"/>
              </a:rPr>
              <a:t>no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9d9d9"/>
                </a:solidFill>
                <a:latin typeface="Courier New"/>
              </a:rPr>
              <a:t>i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d9d9d9"/>
                </a:solidFill>
                <a:latin typeface="Courier New"/>
              </a:rPr>
              <a:t>aload   </a:t>
            </a:r>
            <a:r>
              <a:rPr b="1" lang="pt-BR" sz="2000" spc="-1" strike="noStrike">
                <a:solidFill>
                  <a:srgbClr val="d9d9d9"/>
                </a:solidFill>
                <a:latin typeface="Courier New"/>
              </a:rPr>
              <a:t>ba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9d9d9"/>
                </a:solidFill>
                <a:latin typeface="Courier New"/>
              </a:rPr>
              <a:t>iinc   </a:t>
            </a:r>
            <a:r>
              <a:rPr b="1" lang="pt-BR" sz="3700" spc="-1" strike="noStrike">
                <a:solidFill>
                  <a:srgbClr val="d9d9d9"/>
                </a:solidFill>
                <a:latin typeface="Courier New"/>
              </a:rPr>
              <a:t>ldc</a:t>
            </a:r>
            <a:r>
              <a:rPr b="1" lang="pt-BR" sz="1500" spc="-1" strike="noStrike">
                <a:solidFill>
                  <a:srgbClr val="d9d9d9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d9d9d9"/>
                </a:solidFill>
                <a:latin typeface="Courier New"/>
              </a:rPr>
              <a:t>g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9d9d9"/>
                </a:solidFill>
                <a:latin typeface="Courier New"/>
              </a:rPr>
              <a:t>dup2_x1 </a:t>
            </a:r>
            <a:r>
              <a:rPr b="1" lang="pt-BR" sz="1500" spc="-1" strike="noStrike">
                <a:solidFill>
                  <a:srgbClr val="d9d9d9"/>
                </a:solidFill>
                <a:latin typeface="Courier New"/>
              </a:rPr>
              <a:t>goto_w </a:t>
            </a:r>
            <a:r>
              <a:rPr b="1" lang="pt-BR" sz="2200" spc="-1" strike="noStrike">
                <a:solidFill>
                  <a:srgbClr val="d9d9d9"/>
                </a:solidFill>
                <a:latin typeface="Courier New"/>
              </a:rPr>
              <a:t>bipush </a:t>
            </a:r>
            <a:r>
              <a:rPr b="1" lang="pt-BR" sz="2000" spc="-1" strike="noStrike">
                <a:solidFill>
                  <a:srgbClr val="d9d9d9"/>
                </a:solidFill>
                <a:latin typeface="Courier New"/>
              </a:rPr>
              <a:t>dup</a:t>
            </a:r>
            <a:r>
              <a:rPr b="1" lang="pt-BR" sz="1500" spc="-1" strike="noStrike">
                <a:solidFill>
                  <a:srgbClr val="d9d9d9"/>
                </a:solidFill>
                <a:latin typeface="Courier New"/>
              </a:rPr>
              <a:t> </a:t>
            </a:r>
            <a:r>
              <a:rPr b="1" lang="pt-BR" sz="2600" spc="-1" strike="noStrike">
                <a:solidFill>
                  <a:srgbClr val="d9d9d9"/>
                </a:solidFill>
                <a:latin typeface="Courier New"/>
              </a:rPr>
              <a:t>swa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8323-47F3-4691-B9C1-6B7485FB158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securityfocus.com/archive/1/495224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JME Security Vulnera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Bruno Arôx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Fundament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KVM is a key feature of the JME archit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ghly portable Java virtual machine designed from the ground up for small memory, limited-resource, network-connected devices such as cellular phones, pagers, and personal organiz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mall memory budget of no more than few Kilobytes (128-256Kb for heap out of which 40-80Kb is needed for the VM itsel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K Virtual Machine (KV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JME Fundamen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KVM Vulner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Hands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4"/>
          <p:cNvSpPr/>
          <p:nvPr/>
        </p:nvSpPr>
        <p:spPr>
          <a:xfrm>
            <a:off x="785880" y="1405080"/>
            <a:ext cx="20001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5"/>
          <p:cNvSpPr/>
          <p:nvPr/>
        </p:nvSpPr>
        <p:spPr>
          <a:xfrm>
            <a:off x="785880" y="2000160"/>
            <a:ext cx="3286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rtual machine level secu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t ensures that the applications running in the virtual machine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Calibri"/>
              </a:rPr>
              <a:t>follow the semantic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of the Java programming language, and that an ill-formed or maliciously-encoded class file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Calibri"/>
              </a:rPr>
              <a:t>does not crash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or in any other way harm the target dev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Bytecode verifier is responsible for guarantee low-level security (standard JV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pplication level secu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 CLDC it is accomplished by using the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Calibri"/>
              </a:rPr>
              <a:t>sandbox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mo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Securit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The application can access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only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those libraries define by the configuration, profiles, and manufacturer-specific cla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The sandbox ensures that a malicious or possibly erroneous application cannot gain access to system resour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pplication programmer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cannot modify or bypass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the standard class loading mechanisms of the virtual mach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The set of native functions accessible to the VM is clos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Sandbox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CLDC implementation shall ensure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he application programmer cannot override, modify, or add any classes to these protected system pack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he application programmer is not allowed to manipulate the class file lookup order in any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y default, a Java application can load application classes only from its own Java Archive (JAR)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Additional Security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he security of data is imposed on a language level through the use of access scope identifiers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private, protected, public and default) limiting access to classes, field variables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nd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emory can be implicitly allocated but not freed (only through G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trict type checking of instruction opperands (type safe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Java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DC: Features remove from J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JNI (Java Native Interf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User-define class lo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hread groups and deamon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in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Weak 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Differences from J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nsures that bytecodes cannot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tains illegal instr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e executed in an illegal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tain references to an invalid memory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tain references to memory areas that are outside the object he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sures that Java code is type safe and adheres to the semantics of the Java 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Bytecode Ver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ytecode verifier checks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de does not forge poi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lass file format is 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de does not violate access privile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lass definition is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o stack overflows /underflows occ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ll local-variable uses and stores are val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ytecode parameters are all corre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de does not access one sort of object as if it were anoth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Bytecode Ver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It takes a minimum of 50 Kb binary code space, and at least 30-100 Kb of heap at run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PU power needed to perform the iterative dataflow algorithm in the conventional verifier can be substanti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ew approach to JME with a two-phase verification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re-verification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Calibri"/>
              </a:rPr>
              <a:t>off device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(using the JSE verifier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time verification with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Calibri"/>
              </a:rPr>
              <a:t>stack ma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Bytecode Ver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JME Fundamen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JME Security Archit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KVM Vulner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Hands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0040" y="55717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escribe the state of stack and local variables for code locations that can be reached across several different execution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Stackmap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1633680"/>
            <a:ext cx="88027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ytecode ver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KVM Runtime (execution eng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re CLDC and MIDP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anufacturer-specific classes (com.symbian.*, com.mot.*, com.sun.*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Native methods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Potential Weak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JME Fundamen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KVM Vulner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Hands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4"/>
          <p:cNvSpPr/>
          <p:nvPr/>
        </p:nvSpPr>
        <p:spPr>
          <a:xfrm>
            <a:off x="785880" y="1405080"/>
            <a:ext cx="20001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5"/>
          <p:cNvSpPr/>
          <p:nvPr/>
        </p:nvSpPr>
        <p:spPr>
          <a:xfrm>
            <a:off x="785880" y="2000160"/>
            <a:ext cx="3286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6"/>
          <p:cNvSpPr/>
          <p:nvPr/>
        </p:nvSpPr>
        <p:spPr>
          <a:xfrm>
            <a:off x="785880" y="2571840"/>
            <a:ext cx="464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KVM Vulnerab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4929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Bytecode verifier does not check whether the target of the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goto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instruction is within the code limits of the current meth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It only verifies whether there exists a proper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Stackmap entry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orresponding to the target of the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goto instr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Goto F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87868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KVM Vulnerab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In a result of goto bytecode verifier flaws, jumping to arbitrary bytecode locations outside of the current method code can be do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ince bytecode verifier operates on a single method basis, it is possible to escape the KVM sandbox and to execute Java bytecodes from the unverified execution pa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This opens the whole range of other attack possibilities aiming to circumvent type safety of the Java language in order to get full access to the device memo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KVM Vulnerab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7105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KVM Vulnerab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Exploitation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739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KVM Vulnerab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flaw in one of the JVM components, which creates the possibility to perform cast operations from one type to any unrelated type in a way that violates the Java type casting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The goal is to perform illegal cast and to access memory region belonging to an object of one type as if it was of some other unrelated ty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In JSE 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type confusion attacks are possible since there are no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runtime checks done for 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getfield/putfield instructions with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regard to the types of their argu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Type Confusion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KVM Vulnerab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Type Confusion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928800" y="1427040"/>
            <a:ext cx="75009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JME Fundamen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KVM Vulner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ands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4"/>
          <p:cNvSpPr/>
          <p:nvPr/>
        </p:nvSpPr>
        <p:spPr>
          <a:xfrm>
            <a:off x="785880" y="1405080"/>
            <a:ext cx="20001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5"/>
          <p:cNvSpPr/>
          <p:nvPr/>
        </p:nvSpPr>
        <p:spPr>
          <a:xfrm>
            <a:off x="785880" y="2000160"/>
            <a:ext cx="3286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6"/>
          <p:cNvSpPr/>
          <p:nvPr/>
        </p:nvSpPr>
        <p:spPr>
          <a:xfrm>
            <a:off x="785880" y="2571840"/>
            <a:ext cx="464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7"/>
          <p:cNvSpPr/>
          <p:nvPr/>
        </p:nvSpPr>
        <p:spPr>
          <a:xfrm>
            <a:off x="785880" y="314316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laws in virtual machine level impacts a high number of handsets (independent of the application developer skil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New mobile services makes the (mobile) domain much more interesting (rewar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 mobile devices become more powerful the security vulnerabilities goes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Hands 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0000"/>
                </a:solidFill>
                <a:latin typeface="Trebuchet MS"/>
              </a:rPr>
              <a:t>Oo’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JME Fundamen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JME Security Archit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KVM Vulner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ands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4"/>
          <p:cNvSpPr/>
          <p:nvPr/>
        </p:nvSpPr>
        <p:spPr>
          <a:xfrm>
            <a:off x="785880" y="1405080"/>
            <a:ext cx="20001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5"/>
          <p:cNvSpPr/>
          <p:nvPr/>
        </p:nvSpPr>
        <p:spPr>
          <a:xfrm>
            <a:off x="785880" y="2000160"/>
            <a:ext cx="3286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6"/>
          <p:cNvSpPr/>
          <p:nvPr/>
        </p:nvSpPr>
        <p:spPr>
          <a:xfrm>
            <a:off x="785880" y="2571840"/>
            <a:ext cx="464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7"/>
          <p:cNvSpPr/>
          <p:nvPr/>
        </p:nvSpPr>
        <p:spPr>
          <a:xfrm>
            <a:off x="785880" y="314316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8"/>
          <p:cNvSpPr/>
          <p:nvPr/>
        </p:nvSpPr>
        <p:spPr>
          <a:xfrm>
            <a:off x="785880" y="3714840"/>
            <a:ext cx="20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J2ME Security Vulnerabilities 2008.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ecurityFocus Bugtrack. Disponível em: </a:t>
            </a:r>
            <a:r>
              <a:rPr b="0" lang="pt-BR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ecurityfocus.com/archive/1/495224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. Acesso em: 27/10/200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The JavaTM Virtual Machine Specification, Tim Lindholm,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Frank Yell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Connected Limited Device Configuration Specification ver. 1.0/1.1, SUN Micro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CLDC Byte Code Typechecker Specification, Gilad Bracha,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Tim Lindholm, Wei Tao and Frank Yell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J2ME Building Blocks for Mobile Devices, White Paper on KVM and the Connected, Limited Device Configuration (CLDC), SUN Micro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KVM Porting Guide, SUN Micro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JME Fundamen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J2ME Security Archit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KVM Vulner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Hands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a6a6"/>
                </a:solidFill>
                <a:latin typeface="Calibri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4"/>
          <p:cNvSpPr/>
          <p:nvPr/>
        </p:nvSpPr>
        <p:spPr>
          <a:xfrm>
            <a:off x="785880" y="1405080"/>
            <a:ext cx="20001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Fundament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JME has been developed primarily for the execution of Java applications on small, constrained  devices with limited resources (mobile phones, PDAs, TV set-top box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t has been derived from J2SE (standard edition) and inherits all of the characteristics of the Jav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Fundament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2500200" y="2143080"/>
            <a:ext cx="3571920" cy="2571840"/>
            <a:chOff x="2500200" y="2143080"/>
            <a:chExt cx="3571920" cy="2571840"/>
          </a:xfrm>
        </p:grpSpPr>
        <p:grpSp>
          <p:nvGrpSpPr>
            <p:cNvPr id="100" name="Group 10"/>
            <p:cNvGrpSpPr/>
            <p:nvPr/>
          </p:nvGrpSpPr>
          <p:grpSpPr>
            <a:xfrm>
              <a:off x="2500200" y="2143080"/>
              <a:ext cx="3571920" cy="2143440"/>
              <a:chOff x="2500200" y="2143080"/>
              <a:chExt cx="3571920" cy="2143440"/>
            </a:xfrm>
          </p:grpSpPr>
          <p:sp>
            <p:nvSpPr>
              <p:cNvPr id="101" name="Oval 7"/>
              <p:cNvSpPr/>
              <p:nvPr/>
            </p:nvSpPr>
            <p:spPr>
              <a:xfrm>
                <a:off x="2500200" y="2143080"/>
                <a:ext cx="3571920" cy="1857600"/>
              </a:xfrm>
              <a:prstGeom prst="ellipse">
                <a:avLst/>
              </a:prstGeom>
              <a:solidFill>
                <a:srgbClr val="c3d69b">
                  <a:alpha val="70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alibri"/>
                  </a:rPr>
                  <a:t>J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8"/>
              <p:cNvSpPr/>
              <p:nvPr/>
            </p:nvSpPr>
            <p:spPr>
              <a:xfrm>
                <a:off x="3286080" y="3000240"/>
                <a:ext cx="2143080" cy="1285920"/>
              </a:xfrm>
              <a:prstGeom prst="ellipse">
                <a:avLst/>
              </a:prstGeom>
              <a:solidFill>
                <a:srgbClr val="c6d9f1">
                  <a:alpha val="70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alibri"/>
                  </a:rPr>
                  <a:t>CD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9"/>
              <p:cNvSpPr/>
              <p:nvPr/>
            </p:nvSpPr>
            <p:spPr>
              <a:xfrm>
                <a:off x="3643200" y="3500640"/>
                <a:ext cx="1428840" cy="785880"/>
              </a:xfrm>
              <a:prstGeom prst="ellipse">
                <a:avLst/>
              </a:prstGeom>
              <a:solidFill>
                <a:srgbClr val="c6d9f1">
                  <a:alpha val="70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alibri"/>
                  </a:rPr>
                  <a:t>CLD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Box 11"/>
            <p:cNvSpPr/>
            <p:nvPr/>
          </p:nvSpPr>
          <p:spPr>
            <a:xfrm>
              <a:off x="2857320" y="4286520"/>
              <a:ext cx="27147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JME derived from J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Fundament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363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Fundament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fine a set of hardware functionality made available to applications through JV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wo basic configurations are defined in JME: CDC (Connected Device Configuration) and CLDC (Connected Limited Device Configur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he heart of a given configuration implementation is the Java Virtual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Key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JME Fundament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fines high level APIs exposed to application developers (graphics, 3D support, bluetooth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lies on configuration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IDP (Mobile Information Device Profi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he most widely supported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vides support for graphical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450720" y="909720"/>
            <a:ext cx="82296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6a6a6"/>
                </a:solidFill>
                <a:latin typeface="Calibri"/>
              </a:rPr>
              <a:t>Key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21:04:06Z</dcterms:created>
  <dc:creator>4R0X4</dc:creator>
  <dc:description/>
  <dc:language>en-US</dc:language>
  <cp:lastModifiedBy>4R0X4</cp:lastModifiedBy>
  <dcterms:modified xsi:type="dcterms:W3CDTF">2008-11-24T06:20:08Z</dcterms:modified>
  <cp:revision>109</cp:revision>
  <dc:subject/>
  <dc:title>J2ME Security Vulnerabilities</dc:title>
</cp:coreProperties>
</file>