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BBE-8A43-4946-8D0A-40570AF917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271-1867-45F8-8674-F59ABDB520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04F-116F-4B78-BA41-89935F46601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B16-6EF1-49CD-9055-973088FBB30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301-3337-41AC-82A8-6797F32A7A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886-AF16-47C1-B5A9-5A4C1AD2F33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779-1713-4DA7-939F-9FE5378F8F0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2DE-5731-4B4D-BDFF-C49C989EC7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8CD-10F1-40F9-AA39-92DA369E1A5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D718-9A48-4BAD-805F-0A456BAA97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454-4FB1-4CF1-BD11-1BBD4E72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6D0-42DE-4C3A-9931-7F731F6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A23-997A-439C-A665-679C08E7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799-8BC8-4893-BCD8-6467A155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084-9997-4CCC-87A0-3314B95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57D-7D09-44B3-AC8B-CE958CCB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670-9519-4197-8F8E-00AAC67D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1FD-6C15-4F6B-A8A8-E2F0DB75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724-E91A-4BBE-AD96-A0C35CBF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792-D727-407C-BA91-D95633DE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510-9467-4E74-8748-0E68A37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060-D85B-47CD-9998-176E143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dc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29D-0545-4415-8EDE-B4A27894A1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de Planejamento em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ackbox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DDL -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www.cs.washington.edu/homes/kautz/blackbo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PDDL (Planning Domain Descrip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 duas partes: domínio 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ção do probl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otes a serem levados por caminhão e av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pie para o mesmo diretório os seguintes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blackbox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cygwin1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domain.pd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a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types PACKAGE TRUCK LOCATION AIRPLANE CITY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cados e Variá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predicates (at ?obj ?loc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 com parâmetros, pré-condições e efe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LOAD-TRUCK :parameters(?obj – PACKAG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FLY-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?airplane -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from - AIR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to -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re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f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nd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not (at ?airplane ?loc-from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to)))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de fatos: 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objetos do tip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aeropo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amin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lo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age1 –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irplane1 –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 –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truck –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po –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init (in-city pgh-po pgh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goal (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package1 bos-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t package2 bos-airport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cutando o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ção -o indica o arquivo de operações e a opção -f o arquivo de f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mbre-se! Todos os arquivos que você copiou devem estar em um mesmo diretó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aminando o arquivo de saí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&gt; out.t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–g saida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erra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 Spa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os blo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www.cs.ubc.ca/labs/lci/CIspace/Version4/planning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-Plan: Arquitetura de 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TF (Task Formal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em um domínio de busca e salv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oplan.aiai.ed.ac.uk/oplan/web-demo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docs: planejamen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baseado em restrições temporais (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e veículos não tripulados (ví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42:37Z</dcterms:created>
  <dc:creator>c.siebra</dc:creator>
  <dc:description/>
  <dc:language>en-US</dc:language>
  <cp:lastModifiedBy>glr</cp:lastModifiedBy>
  <dcterms:modified xsi:type="dcterms:W3CDTF">2011-03-18T03:25:47Z</dcterms:modified>
  <cp:revision>27</cp:revision>
  <dc:subject/>
  <dc:title>Ferramentas de Planejamento em IA</dc:title>
</cp:coreProperties>
</file>