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7C5-4633-4031-A603-5399DC03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184-0AF7-441E-9392-82FAE3C1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18A-BE18-4F6E-A64F-52B97BF4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71F-E1BA-4C64-BDCC-7220DAF6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4CC3-057C-4E2F-B592-C87EEEAC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FDC4-CD74-4FCE-B47A-1033F7E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E51-7DFA-44E9-9FDC-CEF1525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A7B8-7053-4BDA-BC1B-4F05924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FDE-0ED5-4F94-9C9C-ABF2943A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DA7-7E1E-4FC0-818D-89A7E097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C33C-C18D-4307-A769-0AD6278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860-89CF-4DEE-A776-9D31455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1FE-B592-472F-9B71-77D39C1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88BA-6FD8-4B1F-9CB9-04476241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1FB-D9D0-4B4F-84BA-49B88AB3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3004-59C8-4770-9637-6E756542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DF00-9892-49FE-B5F4-872F49FC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6B61-C3E8-4BF7-BF49-A76225F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357B-D355-4BA0-8BE4-BB43429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96DD-EE09-4109-95D0-8BDD2FC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3776-B126-464E-AB50-F920D58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1D8B-A74C-44DE-9F5D-2D2591B7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B8A-7D69-474A-BABB-2807A2B2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DC2B-2FC4-4F63-8748-8F18CEC3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B8A3-68F2-4595-A4C0-48A7D96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6865-A36B-4EBF-B494-B4346AE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8B16-6D8D-41E2-B751-EE9EEBD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F663-593E-4D3E-A03D-1E2ACFF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B6F6-8F5B-4942-9C4E-1078AC52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E0C9-6A80-42CE-BBB9-8CCF6CDD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7D4B-F61B-4A5C-B4D9-B1F702A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5393-2D65-48BC-99E6-80B7F25C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C7BB-B45D-4965-B80A-58D7A23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654-71BF-4BA2-8074-71D7608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0BA0-4123-4EF9-A3A8-E9D7EC5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4A0F-797E-4D9C-B069-FB886E3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3D29-7FFD-45AC-9C6D-C0B8381F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F0CD-EEDD-47C0-B8DB-645D992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C8E1-7410-4396-8815-D812FD3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16038-F93D-4B3A-BE5F-64B2690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F78C-D361-4482-8A50-6882669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D639-E228-4270-8957-AE23446F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62A8-5AF8-4907-8BC7-4BD69E3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9F487-A342-4ED0-935F-EAB6E678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DCC-B83C-41B4-B57D-DA240966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D952-6F49-4354-B4EF-672468F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FD36-9E0C-4215-9EBA-868208A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922A2-2352-43A2-B100-19200BC4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4A17-51A5-4343-AACC-6EBF1BD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250C-FA8D-470C-AE97-442DB19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920E-0793-4EBB-A54F-C9BA793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C56E-FD6C-433B-B7F8-360B278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984C6-EE40-4A09-84BA-DF41013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6E44-E6D0-4579-97E8-7DE7CF9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EE4C-F96E-45BA-ABBE-CDE27E1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471-C0CE-47D3-BF7D-D9AE718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463A-3480-49DB-8BCD-7B5F97B2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CF8-E6C8-4094-BBAE-B168104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804-CABE-4C20-8CFD-07EB375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1DA-1C59-41E5-B485-C786035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de cantos arredondados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ângulo de cantos arredondados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ângulo de cantos arredondados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0FAB-8EAC-4948-AE9D-6F142920FD51}" type="slidenum">
              <a:rPr b="0" lang="pt-B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ângulo de cantos arredondados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6B5F-4606-42B7-985E-9CF8223411ED}" type="slidenum">
              <a:rPr b="0" lang="pt-B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ângulo de cantos arredondados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C701-70AF-4473-ABBC-629D72E6AD8E}" type="slidenum">
              <a:rPr b="0" lang="pt-B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7D9-DCD3-488C-9C96-33D91188D42C}" type="slidenum">
              <a:rPr b="0" lang="pt-B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edondar Retângulo em um Canto Único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BFF9-690B-46B6-BFD8-D88A9BAC4A38}" type="slidenum">
              <a:rPr b="0" lang="pt-B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onicemotion.com/ch/index.php?option=com_frontpage&amp;Itemid=1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olosonics.com/technology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oundblaster.com/technology/welcome.asp?j1=eax&amp;j2=gamelist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Verdana"/>
              </a:rPr>
              <a:t>Espacialização de Som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00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utação musical – 2008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elipe Maia (f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gor Duarte(id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uciano Demétrio (lds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iago Ferreira (tf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Vladimir Alves (vap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ração com o ouvint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ntes de atingir o nervo auditivo, ondas sonoras ainda sofrem filtragem na cabeça, orelha e torso, pois o som interage com qualquer meio, inclusive o corpo human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função que descreve as diversas respostas em frequência do som incidente é a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Head-related transfer function (HRTF).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la depende da frequência do som, e de três coordenadas espaciais que determinem a localização da fonte. Mesmo com medidas realizadas em modelos simples da cabeça humana, a função é muito complex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RTF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ão medidas em câmara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necóicas para evitar efeitos indesejados, como reverberação e ecos, e interpolação é utilizado para estimar os valores entre os intervalos de ângulo de mediçã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umanos são pouco sensíveis à mudanças no ângulo azimutal, e o HRTF varia de indivíduo para indivídu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vação e Reproduçã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ceitos: mono X ster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étodos de gravação ster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inaural recor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rround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om direcion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ono X Stere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o: o sinal de audio é transmitido através de um canal de gravação ou reprodução, apenas. Para diversas caixas de som, ou headphones, o mesmo sinal é tocado em cada um. Para diversos microfones, em algum momento o sinal é misturado no mesmo ca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ereo: é o uso de dois ou mais canais independentes de áudio.  Gravações em stereo não podem ser reproduzidas em sistemas mono, sem perda de fidelidade. Isso ocorre devido à diferença de fase entre os sinais gravados, o que causa interfer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tereo: métodos de gravaçã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X-Y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ois microfones direcionais no mesmo lugar, com ângulo de 90º entre si. Há pouca diferença na fase e no tempo de cheg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-B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ois microfones omnidirecionais separados por uma certa distância. Pode gerar problema de fase caso reproduzido por um sistema mon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/S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m microfone omnidirecional grava a intensidade média (M) do sinal, enquanto que um bidirecional perpendicular ao primeiro, grava as diferenças de intensidade (S) em relação a M pra cada direção. Totalmente compatível com mon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ear-coincident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stura de X-Y e A-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seudo-stereo: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écnicas utilizadas na restauração e remasterização de gravações mono. Filtr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Shelv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usado para separar baixas frequências para o canal esquerdo, e altas para o direito. Filtr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Comb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sere delay nos can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inaural Record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crofones são colocados no interior do modelo de uma cabeça humana com orelha e canal auditivo, onde ficariam os tímpanos. Assim, o som gravado simula exatamente aquele que uma pessoa ouviria se estivesse na mesma posição dos microfones. A gravação é tocada em headphones, sem mixagem ou qualquer tipo de corre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3" descr="Dummyhead.jpg"/>
          <p:cNvPicPr/>
          <p:nvPr/>
        </p:nvPicPr>
        <p:blipFill>
          <a:blip r:embed="rId1"/>
          <a:stretch/>
        </p:blipFill>
        <p:spPr>
          <a:xfrm>
            <a:off x="4000680" y="2428920"/>
            <a:ext cx="3740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urround Soun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30280"/>
            <a:ext cx="8183520" cy="282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a reprodução do som através de muitos canais em volta do ouvinte, para dar a sensação de imersão no ambiente de grav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me theater, cinema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os formatos: Dolby, DTS, DVD-Audio, Super Audio CD, MP3 Surroun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o de canal para baixas frequências (LFE), permitindo que se faça o gerenciamento através de subwoof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Imagem 3" descr="Bravox_E2k.jpg"/>
          <p:cNvPicPr/>
          <p:nvPr/>
        </p:nvPicPr>
        <p:blipFill>
          <a:blip r:embed="rId1"/>
          <a:stretch/>
        </p:blipFill>
        <p:spPr>
          <a:xfrm>
            <a:off x="5357880" y="3357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4983120"/>
            <a:ext cx="8286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urround Sound: </a:t>
            </a: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étodos de geraçã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o de vários microfones, mixagem e reprodução em diversas caixas de som espalh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do audio usando métodos de localização baseados na psico-acústica, para simular sensação de localização 2D usando headph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nstrução das frentes de ondas. Wave field synthesis (WFS) é o procedimento de renderização espacial de audio utilizado. Sistemas comerciais requerem muitos auto-falantes e muito processamento. </a:t>
            </a:r>
            <a:r>
              <a:rPr b="0" lang="pt-BR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Sonic E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bisonics: baseado no mesmo princípio do WFS. Provê reconstrução exata da onda num ponto central, mas perde precisão à medida que se afas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Direcionad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30280"/>
            <a:ext cx="8183520" cy="361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auto-falantes capazes de projetar o som numa determinada direção, em oposição aos normais que espalham o som por tod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o na difração e na interação não linear do meio de propagação com altas frequên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-linearidade: frequências maiores geram frequências men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o de ultrasom: inaudível para humanos, alguns milímetros de comprimento de o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Audio Spotl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Imagem 3" descr="tech_main-img_.gif"/>
          <p:cNvPicPr/>
          <p:nvPr/>
        </p:nvPicPr>
        <p:blipFill>
          <a:blip r:embed="rId2"/>
          <a:stretch/>
        </p:blipFill>
        <p:spPr>
          <a:xfrm>
            <a:off x="6143760" y="3357720"/>
            <a:ext cx="21812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ureal 3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rect Sound 3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pe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ureal 3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Espaço Reservado para Conteúdo 3" descr="150px-A3d.png"/>
          <p:cNvPicPr/>
          <p:nvPr/>
        </p:nvPicPr>
        <p:blipFill>
          <a:blip r:embed="rId1"/>
          <a:stretch/>
        </p:blipFill>
        <p:spPr>
          <a:xfrm>
            <a:off x="6715080" y="714240"/>
            <a:ext cx="1643040" cy="2322720"/>
          </a:xfrm>
          <a:prstGeom prst="rect">
            <a:avLst/>
          </a:prstGeom>
          <a:ln w="0">
            <a:noFill/>
          </a:ln>
        </p:spPr>
      </p:pic>
      <p:sp>
        <p:nvSpPr>
          <p:cNvPr id="269" name="CaixaDeTexto 4"/>
          <p:cNvSpPr/>
          <p:nvPr/>
        </p:nvSpPr>
        <p:spPr>
          <a:xfrm>
            <a:off x="642960" y="571680"/>
            <a:ext cx="5357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da pela Aureal Semicond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som para headphones, 2 ou 4 caixas de s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o de HR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 vantagens para ambientes dinâmicos, como jogos, video conferências, etc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3Dspace – dire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3Dverb – reflex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3D 2.0 comporta até 60 reflexões de primeira ord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lência devido a problemas legais com a Creative Labs em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 que se trata?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em por objetivo recriar a sensação de ambiência que é perdida no momento em que som originado de diversas fontes distribuídas no espaço, é reproduzido por poucas fontes localiza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cérebro é um poderoso processador, capaz de identificar a localidade das fontes sonoras, bem como o ambiente onde está imers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rect Sound 3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ntativa da Microsoft de padronizar audio 3D para o Window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roduzida em 1996 com o directX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 o Windows Vista, um caminho direto entre DirectSound e os drivers de audio deixou de existir, prejudicando qualquer tipo de aceleração e o uso de efeitos do DS3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eative Alchemy é a solução que intercepta chamadas do DS3D e traduz para Ope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AX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Espaço Reservado para Conteúdo 3" descr="Logo-eax.jpg"/>
          <p:cNvPicPr/>
          <p:nvPr/>
        </p:nvPicPr>
        <p:blipFill>
          <a:blip r:embed="rId1"/>
          <a:stretch/>
        </p:blipFill>
        <p:spPr>
          <a:xfrm>
            <a:off x="5857920" y="714240"/>
            <a:ext cx="2590920" cy="809640"/>
          </a:xfrm>
          <a:prstGeom prst="rect">
            <a:avLst/>
          </a:prstGeom>
          <a:ln w="0">
            <a:noFill/>
          </a:ln>
        </p:spPr>
      </p:pic>
      <p:sp>
        <p:nvSpPr>
          <p:cNvPr id="274" name="CaixaDeTexto 4"/>
          <p:cNvSpPr/>
          <p:nvPr/>
        </p:nvSpPr>
        <p:spPr>
          <a:xfrm>
            <a:off x="857160" y="928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da devido à popularização de APIs proprietárias para 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biblioteca que extende as funcionalidades do DirectSound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ferece as funcionalidades do motor de efeitos da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osicionamento é tratado pelo DS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ixaDeTexto 5"/>
          <p:cNvSpPr/>
          <p:nvPr/>
        </p:nvSpPr>
        <p:spPr>
          <a:xfrm>
            <a:off x="6429240" y="2786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Lista de j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pen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I multi-plataforma de á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venções semelhantes ao Open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icialmente desenvolvida para portar jogos de Windows para Lin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ncipais enti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 – posição, velocidade, orientação, intens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uffers – PCM, 8-16 bits, mono-stere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stener – posição, velocidade, orientação, ganh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enuação com a distancia, efeito doppler. Framework proporciona efeitos de rever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nível para Mac OS X, iPhone, Linux, BSD, Solaris, IRIX, Windows, Xbox, Xox360, Morph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8400" y="529920"/>
            <a:ext cx="82580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vsg.quasihome.com/interfer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sound.media.mit.edu/KEMAR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lon-capa.org/~mmp/kap27/Gary-Diffraction/app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lon-capa.org/~mmp/applist/doppler/d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metacafe.com/watch/554510/virtual_barbershop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www.holosonics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msdn.microsoft.com/en-us/library/bb174772.asp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www.openal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enu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rferê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ração com o amb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fraç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feito Dopp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ração com o ouvi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tenuaçã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nossa percepção a intensidade está ligada à amplitude da onda son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intensidade de uma onda esférica é inversamente proporcional ao quadrado da distância do ouvinte à fo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 seja, quanto mais distante, mais fraco é o s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Imagem 3" descr="intensidade onda esferica.gif"/>
          <p:cNvPicPr/>
          <p:nvPr/>
        </p:nvPicPr>
        <p:blipFill>
          <a:blip r:embed="rId1"/>
          <a:stretch/>
        </p:blipFill>
        <p:spPr>
          <a:xfrm>
            <a:off x="3929040" y="3929040"/>
            <a:ext cx="451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Imagem 3" descr="interferencia.jpg"/>
          <p:cNvPicPr/>
          <p:nvPr/>
        </p:nvPicPr>
        <p:blipFill>
          <a:blip r:embed="rId1"/>
          <a:stretch/>
        </p:blipFill>
        <p:spPr>
          <a:xfrm>
            <a:off x="5715000" y="3286080"/>
            <a:ext cx="2614680" cy="2500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rferênci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71680" indent="-57168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das sonoras se misturam, gerando uma nova onda. A soma das amplitudes pode causar interferência construtiva ou destru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das de frequências diferentes, geram novos padrões de ondul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m som geralmente é composto de diversas componentes de frequê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ração com ambient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30280"/>
            <a:ext cx="8183520" cy="2541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rincípio, o som se propaga em qualquer meio físico e interage com e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fusão, reflexão, transmissão, absor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pende da frequência da onda, logo, os obstáculos do ambiente atuam como filtros mecân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Imagem 3" descr="bass trap.jpg"/>
          <p:cNvPicPr/>
          <p:nvPr/>
        </p:nvPicPr>
        <p:blipFill>
          <a:blip r:embed="rId1"/>
          <a:stretch/>
        </p:blipFill>
        <p:spPr>
          <a:xfrm>
            <a:off x="4357800" y="2857680"/>
            <a:ext cx="2830320" cy="2108160"/>
          </a:xfrm>
          <a:prstGeom prst="rect">
            <a:avLst/>
          </a:prstGeom>
          <a:ln w="0">
            <a:noFill/>
          </a:ln>
        </p:spPr>
      </p:pic>
      <p:sp>
        <p:nvSpPr>
          <p:cNvPr id="235" name="CaixaDeTexto 4"/>
          <p:cNvSpPr/>
          <p:nvPr/>
        </p:nvSpPr>
        <p:spPr>
          <a:xfrm>
            <a:off x="5072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ss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fraçã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2684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ém disso, a onda também interage com o que “não está lá”. Ao passar por uma abertura num obstáculo, a onda pode ser espalhada em todas as direções. Esse espalhamento depende do tamanho da abertura e do comprimento de on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a abertura é ordens de grandeza maior que o comprimento, não há espalhamen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as dimensões forem semelhantes, ocorre difr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Imagem 3" descr="difracao orificio menor.jpg"/>
          <p:cNvPicPr/>
          <p:nvPr/>
        </p:nvPicPr>
        <p:blipFill>
          <a:blip r:embed="rId1"/>
          <a:stretch/>
        </p:blipFill>
        <p:spPr>
          <a:xfrm>
            <a:off x="2857680" y="3286080"/>
            <a:ext cx="2690640" cy="2500200"/>
          </a:xfrm>
          <a:prstGeom prst="rect">
            <a:avLst/>
          </a:prstGeom>
          <a:ln w="0">
            <a:noFill/>
          </a:ln>
        </p:spPr>
      </p:pic>
      <p:pic>
        <p:nvPicPr>
          <p:cNvPr id="239" name="Imagem 4" descr="difracao orificio maior.jpg"/>
          <p:cNvPicPr/>
          <p:nvPr/>
        </p:nvPicPr>
        <p:blipFill>
          <a:blip r:embed="rId2"/>
          <a:stretch/>
        </p:blipFill>
        <p:spPr>
          <a:xfrm>
            <a:off x="5643720" y="3286080"/>
            <a:ext cx="2836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fraçã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30280"/>
            <a:ext cx="8183520" cy="154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e o som se choca contra um obstáculo da ordem de grandeza do seu comprimento de onda, ele o contor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Imagem 3" descr="difracao obstaculo.jpg"/>
          <p:cNvPicPr/>
          <p:nvPr/>
        </p:nvPicPr>
        <p:blipFill>
          <a:blip r:embed="rId1"/>
          <a:stretch/>
        </p:blipFill>
        <p:spPr>
          <a:xfrm>
            <a:off x="3500280" y="2714760"/>
            <a:ext cx="4399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feito Doppl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formato da onda sonora depende da movimentação da fonte, e sua percepção também depende do ouvinte. Quando estão se aproximando um do outro, a frequência tende a aumentar. Quando se distanciam, a frequência parece diminui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Imagem 3" descr="efeito doppler.jpg"/>
          <p:cNvPicPr/>
          <p:nvPr/>
        </p:nvPicPr>
        <p:blipFill>
          <a:blip r:embed="rId1"/>
          <a:stretch/>
        </p:blipFill>
        <p:spPr>
          <a:xfrm>
            <a:off x="4857840" y="271476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5:01:07Z</dcterms:created>
  <dc:creator>vap2</dc:creator>
  <dc:description/>
  <dc:language>en-US</dc:language>
  <cp:lastModifiedBy>vap2</cp:lastModifiedBy>
  <dcterms:modified xsi:type="dcterms:W3CDTF">2008-06-02T13:39:49Z</dcterms:modified>
  <cp:revision>55</cp:revision>
  <dc:subject/>
  <dc:title>Espacialização de Som</dc:title>
</cp:coreProperties>
</file>