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4167C-2DD9-4953-98B9-95DAA5BA391E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6410B-1006-4110-B00F-E2A0DA21010C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8C213-7103-4584-AE0D-0B15EDFC4C7A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67A29-F5D2-4F7D-80BB-6BBBF484DFA9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9AAB2-1133-47E9-81EC-026731B48571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8D98C-817C-4CF7-A7D1-8EFA0D1B4FA8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37C29-A7CD-4070-A716-E0E17F658D16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539D8-A418-498F-8BC9-C91B120D2666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E41F5-471C-404D-905A-4AEC58261AD7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43DF2-6DF2-4E4D-BDB8-A8622CFA9F7B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7867-1971-4251-B504-239742946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E301-C0A5-4BD3-A2D9-3E36E524A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0B7E-E126-49E4-AF25-7C1AA589A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2434-7CA7-4E2F-ABC7-A3F070EC8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C951-10F3-4622-8660-470B0BF00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02BE-9F3E-4FF9-BFD1-09AA70F85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26E4-1C3B-4CC1-951A-E9CC5EF9E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DDD6-A3A9-4AE2-B698-8257107B4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72A7-5DC9-4073-B145-D5304D70E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0B17-0950-4944-9AF4-A1B72F8D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AAC6-8057-4B86-B367-37C8E90E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2117-0BB9-4937-ABD0-CC945511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2dcd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85AAF-D0EF-480F-8DF5-D1264A0F4FB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../blackbox/domain.pdd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../blackbox/domain.pdd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Ferramentas de Planejamento em 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Blackbox Pla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6"/>
          <p:cNvSpPr/>
          <p:nvPr/>
        </p:nvSpPr>
        <p:spPr>
          <a:xfrm>
            <a:off x="684360" y="34290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1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DDL - Black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ttp://www.cs.washington.edu/homes/kautz/blackbox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 PDDL (Planning Domain Description Langu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fine duas partes: domínio e 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finição do domín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edic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c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ção do proble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emplo de logís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cotes a serem levados por caminhão e avi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pie para o mesmo diretório os seguintes arquiv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www.cin.ufpe.br/~cas/classes/blackbox/blackbox.ex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www.cin.ufpe.br/~cas/classes/blackbox/cygwin1.d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www.cin.ufpe.br/~cas/classes/blackbox/domain.pdd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www.cin.ufpe.br/~cas/classes/blackbox/prob004-log-a.pdd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ipad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(:types PACKAGE TRUCK LOCATION AIRPLANE CITY AIRPO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edicados e Variáve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(:predicates (at ?obj ?loc)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ções com parâmetros, pré-condições e efei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(:action LOAD-TRUCK :parameters(?obj – PACKAGE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rquivo </a:t>
            </a:r>
            <a:r>
              <a:rPr b="0" lang="pt-BR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omain.pdd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rquivo </a:t>
            </a:r>
            <a:r>
              <a:rPr b="0" lang="pt-BR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omain.pdd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çõ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-TRUCK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;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-AIRPLANE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;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LOAD-TRUCK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;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LOAD-AIRPLANE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;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IVE-TRUCK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;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Y-AIRPLANE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(:action FLY-AIR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: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(?airplane - AIR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?loc-from - AIR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?loc-to - AIRPO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:precon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(at ?airplane ?loc-fr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:ef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(and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(not (at ?airplane ?loc-from)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(at ?airplane ?loc-to)))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rquivo de fatos: prob004-log-a.pdd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fine a situação ini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8 objetos do tipo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 aeropor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3 c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3 caminh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3 loc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ckage1 –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irplane1 – AIR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gh – 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gh-truck – TR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gh-po –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b004-log-a.pdd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fine a situação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(:init (in-city pgh-po pgh)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fine o obje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(:goal (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(at package1 bos-p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at package2 bos-airport)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cutando o Black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inha de coman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lackbox -o domain.pddl -f  prob004-log-a.pdd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opção -o indica o arquivo de operações e a opção -f o arquivo de fa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embre-se! Todos os arquivos que você copiou devem estar em um mesmo diretó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aminando o arquivo de saíd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lackbox -o domain.pddl -f  prob004-log-a.pddl &gt; out.t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u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lackbox -o domain.pddl -f  prob004-log-a.pddl –g saida.t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utras Ferramen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I Space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odelagem do problema em STR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monstração no domínio dos blo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http://www.cs.ubc.ca/labs/lci/CIspace/Version4/planning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-Plan: Arquitetura de Planej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odelagem do problema em TF (Task Formalis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monstração em um domínio de busca e salv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http://oplan.aiai.ed.ac.uk/oplan/web-demo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radocs: planejamento tempo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lanejamento baseado em restrições temporais (pap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monstração no domínio de veículos não tripulados (víde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3T10:42:37Z</dcterms:created>
  <dc:creator>c.siebra</dc:creator>
  <dc:description/>
  <dc:language>en-US</dc:language>
  <cp:lastModifiedBy>glr</cp:lastModifiedBy>
  <dcterms:modified xsi:type="dcterms:W3CDTF">2011-03-18T03:25:47Z</dcterms:modified>
  <cp:revision>27</cp:revision>
  <dc:subject/>
  <dc:title>Ferramentas de Planejamento em IA</dc:title>
</cp:coreProperties>
</file>