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CHICOTE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994E-8A47-4E78-B5A6-99218726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13B6-D05A-4C7F-BAE9-31A8A81D46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2FC1-BE69-4406-A2E0-3CC4FA2C5D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028F-14C5-4D1B-BCD9-9B9B784596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65400" y="615960"/>
            <a:ext cx="4105080" cy="3079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63480" y="3900240"/>
            <a:ext cx="53085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2B11-B921-4B50-B17C-C533CB8C8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2920" y="3958560"/>
            <a:ext cx="78087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09E6-5952-46E5-8133-187BEFF08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72920" y="395856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74320" y="395856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69A1-184B-429F-96D7-DF6343F94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13160" y="137160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53760" y="137160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72920" y="395856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13160" y="395856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53760" y="395856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CCC2-94B8-4DF0-A905-7CF532F8D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0645-0C20-4C3F-B12B-81EF5BA65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A09A-7A0C-4E8E-80CD-B64AF9F99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A096-E9B4-42D0-BC93-EC93A8A2E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E675-52F0-4E72-8D33-6438CD6A1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703080" y="304920"/>
            <a:ext cx="7807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6ACF-0BE1-4726-846E-88E911082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2920" y="395856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2196-80E8-4C3B-B79B-5886ADD9B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74320" y="395856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B045-5116-433A-9EA0-CE667D53E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72920" y="3958560"/>
            <a:ext cx="78087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A010-E2B6-4473-B383-A633A16F7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217F-3911-48AA-A2B3-C1B6404182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6553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n - UF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1880" indent="-22860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0"/>
            <a:ext cx="632880" cy="6861240"/>
            <a:chOff x="0" y="0"/>
            <a:chExt cx="632880" cy="6861240"/>
          </a:xfrm>
        </p:grpSpPr>
        <p:grpSp>
          <p:nvGrpSpPr>
            <p:cNvPr id="5" name="Group 7"/>
            <p:cNvGrpSpPr/>
            <p:nvPr/>
          </p:nvGrpSpPr>
          <p:grpSpPr>
            <a:xfrm>
              <a:off x="23400" y="0"/>
              <a:ext cx="595800" cy="6859440"/>
              <a:chOff x="23400" y="0"/>
              <a:chExt cx="595800" cy="6859440"/>
            </a:xfrm>
          </p:grpSpPr>
          <p:sp>
            <p:nvSpPr>
              <p:cNvPr id="6" name="Freeform 8"/>
              <p:cNvSpPr/>
              <p:nvPr/>
            </p:nvSpPr>
            <p:spPr>
              <a:xfrm>
                <a:off x="31680" y="0"/>
                <a:ext cx="586080" cy="683568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835680"/>
                  <a:gd name="textAreaBottom" fmla="*/ 6836040 h 6835680"/>
                </a:gdLst>
                <a:ahLst/>
                <a:rect l="textAreaLeft" t="textAreaTop" r="textAreaRight" b="textAreaBottom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31680" y="1700280"/>
                <a:ext cx="586080" cy="44928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1680" y="1289160"/>
                <a:ext cx="586080" cy="45540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1680" y="160200"/>
                <a:ext cx="586080" cy="28908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1680" y="992160"/>
                <a:ext cx="586080" cy="33660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1680" y="685800"/>
                <a:ext cx="586080" cy="43344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1680" y="403200"/>
                <a:ext cx="587520" cy="32544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3400" y="3938760"/>
                <a:ext cx="584280" cy="45720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3400" y="3538440"/>
                <a:ext cx="584280" cy="4604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23400" y="2406600"/>
                <a:ext cx="584280" cy="29232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23400" y="3236760"/>
                <a:ext cx="584280" cy="3398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23400" y="2932200"/>
                <a:ext cx="584280" cy="431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3400" y="2649600"/>
                <a:ext cx="584280" cy="32220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31680" y="4978440"/>
                <a:ext cx="584280" cy="4460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31680" y="4568760"/>
                <a:ext cx="584280" cy="45396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23400" y="5680080"/>
                <a:ext cx="584280" cy="28908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3400" y="6507000"/>
                <a:ext cx="584280" cy="3524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23400" y="6200640"/>
                <a:ext cx="584280" cy="43668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436680"/>
                  <a:gd name="textAreaBottom" fmla="*/ 436680 h 436680"/>
                </a:gdLst>
                <a:ahLst/>
                <a:rect l="textAreaLeft" t="textAreaTop" r="textAreaRight" b="textAreaBottom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23400" y="5921280"/>
                <a:ext cx="584280" cy="32220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Freeform 27"/>
            <p:cNvSpPr/>
            <p:nvPr/>
          </p:nvSpPr>
          <p:spPr>
            <a:xfrm>
              <a:off x="0" y="3240"/>
              <a:ext cx="264960" cy="68580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452880" y="3240"/>
              <a:ext cx="180000" cy="685620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COTE.WAV"/><Relationship Id="rId3" Type="http://schemas.openxmlformats.org/officeDocument/2006/relationships/audio" Target="../media/CHICOTE.WAV"/><Relationship Id="rId4" Type="http://schemas.openxmlformats.org/officeDocument/2006/relationships/audio" Target="../media/CHICOTE.WAV"/><Relationship Id="rId5" Type="http://schemas.openxmlformats.org/officeDocument/2006/relationships/audio" Target="../media/CHICOTE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332E9C-0564-458A-A499-878203657D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Som em Jog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árcio Dah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ber Ramal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c-logomarca"/>
          <p:cNvPicPr/>
          <p:nvPr/>
        </p:nvPicPr>
        <p:blipFill>
          <a:blip r:embed="rId1"/>
          <a:stretch/>
        </p:blipFill>
        <p:spPr>
          <a:xfrm>
            <a:off x="3780000" y="6021360"/>
            <a:ext cx="1728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5181F6-A2B1-4484-A8A4-ED5BCEAEFA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Caminho do Sinal de Áudio Digital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553080" y="1131840"/>
            <a:ext cx="2200320" cy="1838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838080" y="1163520"/>
            <a:ext cx="271476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5"/>
          <p:cNvGrpSpPr/>
          <p:nvPr/>
        </p:nvGrpSpPr>
        <p:grpSpPr>
          <a:xfrm>
            <a:off x="2133720" y="3875040"/>
            <a:ext cx="5620320" cy="2104560"/>
            <a:chOff x="2133720" y="3875040"/>
            <a:chExt cx="5620320" cy="2104560"/>
          </a:xfrm>
        </p:grpSpPr>
        <p:grpSp>
          <p:nvGrpSpPr>
            <p:cNvPr id="131" name="Group 6"/>
            <p:cNvGrpSpPr/>
            <p:nvPr/>
          </p:nvGrpSpPr>
          <p:grpSpPr>
            <a:xfrm>
              <a:off x="2133720" y="3875040"/>
              <a:ext cx="4657680" cy="1600200"/>
              <a:chOff x="2133720" y="3875040"/>
              <a:chExt cx="4657680" cy="1600200"/>
            </a:xfrm>
          </p:grpSpPr>
          <p:graphicFrame>
            <p:nvGraphicFramePr>
              <p:cNvPr id="132" name="Object 7"/>
              <p:cNvGraphicFramePr/>
              <p:nvPr/>
            </p:nvGraphicFramePr>
            <p:xfrm>
              <a:off x="4316400" y="4064040"/>
              <a:ext cx="1185840" cy="1411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16400" y="4064040"/>
                        <a:ext cx="1185840" cy="141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" name="Line 8"/>
              <p:cNvSpPr/>
              <p:nvPr/>
            </p:nvSpPr>
            <p:spPr>
              <a:xfrm>
                <a:off x="2133720" y="3875040"/>
                <a:ext cx="22860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9"/>
              <p:cNvGrpSpPr/>
              <p:nvPr/>
            </p:nvGrpSpPr>
            <p:grpSpPr>
              <a:xfrm>
                <a:off x="5197320" y="4713120"/>
                <a:ext cx="1594080" cy="466920"/>
                <a:chOff x="5197320" y="4713120"/>
                <a:chExt cx="1594080" cy="466920"/>
              </a:xfrm>
            </p:grpSpPr>
            <p:pic>
              <p:nvPicPr>
                <p:cNvPr id="136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943600" y="4713120"/>
                  <a:ext cx="847800" cy="46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Line 11"/>
                <p:cNvSpPr/>
                <p:nvPr/>
              </p:nvSpPr>
              <p:spPr>
                <a:xfrm>
                  <a:off x="5197320" y="4865760"/>
                  <a:ext cx="762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Text Box 12"/>
            <p:cNvSpPr/>
            <p:nvPr/>
          </p:nvSpPr>
          <p:spPr>
            <a:xfrm>
              <a:off x="6783840" y="47894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3"/>
            <p:cNvSpPr/>
            <p:nvPr/>
          </p:nvSpPr>
          <p:spPr>
            <a:xfrm>
              <a:off x="4028040" y="5398920"/>
              <a:ext cx="206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mputador ou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ispositivo eletrô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1590480" y="1849320"/>
            <a:ext cx="2600640" cy="1982160"/>
            <a:chOff x="1590480" y="1849320"/>
            <a:chExt cx="2600640" cy="1982160"/>
          </a:xfrm>
        </p:grpSpPr>
        <p:sp>
          <p:nvSpPr>
            <p:cNvPr id="141" name="Text Box 15"/>
            <p:cNvSpPr/>
            <p:nvPr/>
          </p:nvSpPr>
          <p:spPr>
            <a:xfrm>
              <a:off x="1590480" y="3188880"/>
              <a:ext cx="128268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vers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/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>
              <a:off x="4038480" y="18493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4191120" y="1849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8"/>
            <p:cNvSpPr/>
            <p:nvPr/>
          </p:nvSpPr>
          <p:spPr>
            <a:xfrm flipH="1">
              <a:off x="2209680" y="29160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2209680" y="291600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20"/>
          <p:cNvSpPr/>
          <p:nvPr/>
        </p:nvSpPr>
        <p:spPr>
          <a:xfrm>
            <a:off x="6553080" y="20462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7064280" y="3189240"/>
            <a:ext cx="12826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V="1">
            <a:off x="5105520" y="3874680"/>
            <a:ext cx="25905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3"/>
          <p:cNvGrpSpPr/>
          <p:nvPr/>
        </p:nvGrpSpPr>
        <p:grpSpPr>
          <a:xfrm>
            <a:off x="3503160" y="1360440"/>
            <a:ext cx="1479240" cy="718560"/>
            <a:chOff x="3503160" y="1360440"/>
            <a:chExt cx="1479240" cy="718560"/>
          </a:xfrm>
        </p:grpSpPr>
        <p:sp>
          <p:nvSpPr>
            <p:cNvPr id="150" name="AutoShape 24"/>
            <p:cNvSpPr/>
            <p:nvPr/>
          </p:nvSpPr>
          <p:spPr>
            <a:xfrm flipV="1" rot="16174200">
              <a:off x="3580200" y="1619640"/>
              <a:ext cx="456840" cy="4568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3503160" y="1360440"/>
              <a:ext cx="14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é-amplific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6"/>
          <p:cNvGrpSpPr/>
          <p:nvPr/>
        </p:nvGrpSpPr>
        <p:grpSpPr>
          <a:xfrm>
            <a:off x="5620680" y="1512720"/>
            <a:ext cx="2075400" cy="1676160"/>
            <a:chOff x="5620680" y="1512720"/>
            <a:chExt cx="2075400" cy="1676160"/>
          </a:xfrm>
        </p:grpSpPr>
        <p:grpSp>
          <p:nvGrpSpPr>
            <p:cNvPr id="153" name="Group 27"/>
            <p:cNvGrpSpPr/>
            <p:nvPr/>
          </p:nvGrpSpPr>
          <p:grpSpPr>
            <a:xfrm>
              <a:off x="5791320" y="1815480"/>
              <a:ext cx="1904760" cy="1373400"/>
              <a:chOff x="5791320" y="1815480"/>
              <a:chExt cx="1904760" cy="1373400"/>
            </a:xfrm>
          </p:grpSpPr>
          <p:sp>
            <p:nvSpPr>
              <p:cNvPr id="154" name="AutoShape 28"/>
              <p:cNvSpPr/>
              <p:nvPr/>
            </p:nvSpPr>
            <p:spPr>
              <a:xfrm flipV="1" rot="16174200">
                <a:off x="6094440" y="1817280"/>
                <a:ext cx="457200" cy="45684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 flipH="1">
                <a:off x="5791320" y="2045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791320" y="204588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5791320" y="2960280"/>
                <a:ext cx="19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7696080" y="29602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 Box 33"/>
            <p:cNvSpPr/>
            <p:nvPr/>
          </p:nvSpPr>
          <p:spPr>
            <a:xfrm>
              <a:off x="5620680" y="1512720"/>
              <a:ext cx="11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Amplific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5008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Conversão A/D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stem várias “representações” para o s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4724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5"/>
          <p:cNvGrpSpPr/>
          <p:nvPr/>
        </p:nvGrpSpPr>
        <p:grpSpPr>
          <a:xfrm>
            <a:off x="2743200" y="1905120"/>
            <a:ext cx="4800600" cy="685800"/>
            <a:chOff x="2743200" y="1905120"/>
            <a:chExt cx="4800600" cy="685800"/>
          </a:xfrm>
        </p:grpSpPr>
        <p:sp>
          <p:nvSpPr>
            <p:cNvPr id="164" name="Line 6"/>
            <p:cNvSpPr/>
            <p:nvPr/>
          </p:nvSpPr>
          <p:spPr>
            <a:xfrm>
              <a:off x="29718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12408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32004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335268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>
              <a:off x="358128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27432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38862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>
              <a:off x="419112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45720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464832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48006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50292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586728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601992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609588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24852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647712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>
              <a:off x="563868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>
              <a:off x="678168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>
              <a:off x="533412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>
              <a:off x="70866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73152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746748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7543800" y="1905120"/>
              <a:ext cx="0" cy="6858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31"/>
          <p:cNvSpPr/>
          <p:nvPr/>
        </p:nvSpPr>
        <p:spPr>
          <a:xfrm>
            <a:off x="1143000" y="1905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nôm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1014840" y="2727360"/>
            <a:ext cx="144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nd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n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mecân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1100880" y="3886200"/>
            <a:ext cx="135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nd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a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4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4724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3"/>
          <p:cNvGraphicFramePr/>
          <p:nvPr/>
        </p:nvGraphicFramePr>
        <p:xfrm>
          <a:off x="3352680" y="2039760"/>
          <a:ext cx="516420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039760"/>
                    <a:ext cx="51642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4"/>
          <p:cNvSpPr/>
          <p:nvPr/>
        </p:nvSpPr>
        <p:spPr>
          <a:xfrm>
            <a:off x="932040" y="2309760"/>
            <a:ext cx="20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) amostr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3280" y="222120"/>
            <a:ext cx="7750080" cy="4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Conversão A/D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3370320" y="1125360"/>
          <a:ext cx="5164200" cy="10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0320" y="1125360"/>
                    <a:ext cx="51642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8"/>
          <p:cNvSpPr/>
          <p:nvPr/>
        </p:nvSpPr>
        <p:spPr>
          <a:xfrm>
            <a:off x="800280" y="140508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 ana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"/>
          <p:cNvGrpSpPr/>
          <p:nvPr/>
        </p:nvGrpSpPr>
        <p:grpSpPr>
          <a:xfrm>
            <a:off x="2897640" y="2116080"/>
            <a:ext cx="5424480" cy="1547280"/>
            <a:chOff x="2897640" y="2116080"/>
            <a:chExt cx="5424480" cy="1547280"/>
          </a:xfrm>
        </p:grpSpPr>
        <p:grpSp>
          <p:nvGrpSpPr>
            <p:cNvPr id="201" name="Group 10"/>
            <p:cNvGrpSpPr/>
            <p:nvPr/>
          </p:nvGrpSpPr>
          <p:grpSpPr>
            <a:xfrm>
              <a:off x="3446280" y="2116080"/>
              <a:ext cx="4875840" cy="914400"/>
              <a:chOff x="3446280" y="2116080"/>
              <a:chExt cx="4875840" cy="914400"/>
            </a:xfrm>
          </p:grpSpPr>
          <p:sp>
            <p:nvSpPr>
              <p:cNvPr id="202" name="Line 11"/>
              <p:cNvSpPr/>
              <p:nvPr/>
            </p:nvSpPr>
            <p:spPr>
              <a:xfrm>
                <a:off x="3446280" y="248112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2"/>
              <p:cNvSpPr/>
              <p:nvPr/>
            </p:nvSpPr>
            <p:spPr>
              <a:xfrm>
                <a:off x="3733200" y="23446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3"/>
              <p:cNvSpPr/>
              <p:nvPr/>
            </p:nvSpPr>
            <p:spPr>
              <a:xfrm>
                <a:off x="4020480" y="22082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4"/>
              <p:cNvSpPr/>
              <p:nvPr/>
            </p:nvSpPr>
            <p:spPr>
              <a:xfrm>
                <a:off x="4306320" y="2116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5"/>
              <p:cNvSpPr/>
              <p:nvPr/>
            </p:nvSpPr>
            <p:spPr>
              <a:xfrm>
                <a:off x="4593600" y="2116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6"/>
              <p:cNvSpPr/>
              <p:nvPr/>
            </p:nvSpPr>
            <p:spPr>
              <a:xfrm>
                <a:off x="4880880" y="2116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7"/>
              <p:cNvSpPr/>
              <p:nvPr/>
            </p:nvSpPr>
            <p:spPr>
              <a:xfrm>
                <a:off x="5166720" y="22082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8"/>
              <p:cNvSpPr/>
              <p:nvPr/>
            </p:nvSpPr>
            <p:spPr>
              <a:xfrm>
                <a:off x="5454000" y="23446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9"/>
              <p:cNvSpPr/>
              <p:nvPr/>
            </p:nvSpPr>
            <p:spPr>
              <a:xfrm>
                <a:off x="5741280" y="248112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20"/>
              <p:cNvSpPr/>
              <p:nvPr/>
            </p:nvSpPr>
            <p:spPr>
              <a:xfrm flipV="1">
                <a:off x="6027120" y="257328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1"/>
              <p:cNvSpPr/>
              <p:nvPr/>
            </p:nvSpPr>
            <p:spPr>
              <a:xfrm flipV="1">
                <a:off x="6601320" y="257328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22"/>
              <p:cNvSpPr/>
              <p:nvPr/>
            </p:nvSpPr>
            <p:spPr>
              <a:xfrm flipV="1">
                <a:off x="6887160" y="25732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23"/>
              <p:cNvSpPr/>
              <p:nvPr/>
            </p:nvSpPr>
            <p:spPr>
              <a:xfrm flipV="1">
                <a:off x="7174440" y="25732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24"/>
              <p:cNvSpPr/>
              <p:nvPr/>
            </p:nvSpPr>
            <p:spPr>
              <a:xfrm flipV="1">
                <a:off x="7461720" y="25732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25"/>
              <p:cNvSpPr/>
              <p:nvPr/>
            </p:nvSpPr>
            <p:spPr>
              <a:xfrm flipV="1">
                <a:off x="7747560" y="257328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26"/>
              <p:cNvSpPr/>
              <p:nvPr/>
            </p:nvSpPr>
            <p:spPr>
              <a:xfrm>
                <a:off x="6314040" y="2573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27"/>
              <p:cNvSpPr/>
              <p:nvPr/>
            </p:nvSpPr>
            <p:spPr>
              <a:xfrm>
                <a:off x="8034840" y="2573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28"/>
              <p:cNvSpPr/>
              <p:nvPr/>
            </p:nvSpPr>
            <p:spPr>
              <a:xfrm flipV="1">
                <a:off x="8322120" y="257328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29"/>
            <p:cNvSpPr/>
            <p:nvPr/>
          </p:nvSpPr>
          <p:spPr>
            <a:xfrm>
              <a:off x="2897640" y="305280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amos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0"/>
            <p:cNvSpPr/>
            <p:nvPr/>
          </p:nvSpPr>
          <p:spPr>
            <a:xfrm flipV="1">
              <a:off x="3962160" y="2367000"/>
              <a:ext cx="609480" cy="76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4669200" y="3020760"/>
              <a:ext cx="180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9900"/>
                  </a:solidFill>
                  <a:latin typeface="Arial"/>
                </a:rPr>
                <a:t>período de </a:t>
              </a:r>
              <a:br>
                <a:rPr sz="1800"/>
              </a:br>
              <a:r>
                <a:rPr b="0" lang="pt-BR" sz="1800" spc="-1" strike="noStrike">
                  <a:solidFill>
                    <a:srgbClr val="009900"/>
                  </a:solidFill>
                  <a:latin typeface="Arial"/>
                </a:rPr>
                <a:t>amostragem 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>
              <a:off x="4876560" y="2671560"/>
              <a:ext cx="3049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V="1">
              <a:off x="5028840" y="2747880"/>
              <a:ext cx="0" cy="38088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34"/>
          <p:cNvSpPr/>
          <p:nvPr/>
        </p:nvSpPr>
        <p:spPr>
          <a:xfrm>
            <a:off x="914400" y="37386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2) Quantific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001, 010, 0 11, 1 00, 1 00, 1 00, 11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35"/>
          <p:cNvGrpSpPr/>
          <p:nvPr/>
        </p:nvGrpSpPr>
        <p:grpSpPr>
          <a:xfrm>
            <a:off x="3124080" y="4347720"/>
            <a:ext cx="3733560" cy="457200"/>
            <a:chOff x="3124080" y="4347720"/>
            <a:chExt cx="3733560" cy="457200"/>
          </a:xfrm>
        </p:grpSpPr>
        <p:sp>
          <p:nvSpPr>
            <p:cNvPr id="227" name="Line 36"/>
            <p:cNvSpPr/>
            <p:nvPr/>
          </p:nvSpPr>
          <p:spPr>
            <a:xfrm>
              <a:off x="3124080" y="4804920"/>
              <a:ext cx="37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 flipV="1">
              <a:off x="3497040" y="43477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3497040" y="4348080"/>
              <a:ext cx="18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9"/>
            <p:cNvSpPr/>
            <p:nvPr/>
          </p:nvSpPr>
          <p:spPr>
            <a:xfrm>
              <a:off x="3683880" y="434808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0"/>
            <p:cNvSpPr/>
            <p:nvPr/>
          </p:nvSpPr>
          <p:spPr>
            <a:xfrm>
              <a:off x="3683880" y="4804920"/>
              <a:ext cx="18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1"/>
            <p:cNvSpPr/>
            <p:nvPr/>
          </p:nvSpPr>
          <p:spPr>
            <a:xfrm flipV="1">
              <a:off x="3870720" y="43477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2"/>
            <p:cNvSpPr/>
            <p:nvPr/>
          </p:nvSpPr>
          <p:spPr>
            <a:xfrm>
              <a:off x="3870720" y="4348080"/>
              <a:ext cx="18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>
              <a:off x="4057200" y="434808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>
              <a:off x="4057200" y="4804920"/>
              <a:ext cx="18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5"/>
            <p:cNvSpPr/>
            <p:nvPr/>
          </p:nvSpPr>
          <p:spPr>
            <a:xfrm>
              <a:off x="4244040" y="4804920"/>
              <a:ext cx="18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 flipV="1">
              <a:off x="4430520" y="43477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7"/>
            <p:cNvSpPr/>
            <p:nvPr/>
          </p:nvSpPr>
          <p:spPr>
            <a:xfrm>
              <a:off x="4430520" y="4348080"/>
              <a:ext cx="37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8"/>
            <p:cNvSpPr/>
            <p:nvPr/>
          </p:nvSpPr>
          <p:spPr>
            <a:xfrm>
              <a:off x="4804200" y="480492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49"/>
            <p:cNvSpPr/>
            <p:nvPr/>
          </p:nvSpPr>
          <p:spPr>
            <a:xfrm>
              <a:off x="4804200" y="4348080"/>
              <a:ext cx="18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0"/>
            <p:cNvSpPr/>
            <p:nvPr/>
          </p:nvSpPr>
          <p:spPr>
            <a:xfrm>
              <a:off x="4990680" y="434808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51"/>
            <p:cNvSpPr/>
            <p:nvPr/>
          </p:nvSpPr>
          <p:spPr>
            <a:xfrm>
              <a:off x="4990680" y="4804920"/>
              <a:ext cx="18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2"/>
            <p:cNvSpPr/>
            <p:nvPr/>
          </p:nvSpPr>
          <p:spPr>
            <a:xfrm>
              <a:off x="5177520" y="4804920"/>
              <a:ext cx="18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3"/>
            <p:cNvSpPr/>
            <p:nvPr/>
          </p:nvSpPr>
          <p:spPr>
            <a:xfrm flipV="1">
              <a:off x="5364360" y="43477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4"/>
            <p:cNvSpPr/>
            <p:nvPr/>
          </p:nvSpPr>
          <p:spPr>
            <a:xfrm>
              <a:off x="5364360" y="4348080"/>
              <a:ext cx="18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5"/>
            <p:cNvSpPr/>
            <p:nvPr/>
          </p:nvSpPr>
          <p:spPr>
            <a:xfrm>
              <a:off x="5550840" y="434808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6"/>
            <p:cNvSpPr/>
            <p:nvPr/>
          </p:nvSpPr>
          <p:spPr>
            <a:xfrm>
              <a:off x="5550840" y="4804920"/>
              <a:ext cx="37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7"/>
            <p:cNvSpPr/>
            <p:nvPr/>
          </p:nvSpPr>
          <p:spPr>
            <a:xfrm flipV="1">
              <a:off x="5924520" y="43477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58"/>
            <p:cNvSpPr/>
            <p:nvPr/>
          </p:nvSpPr>
          <p:spPr>
            <a:xfrm>
              <a:off x="5924520" y="4348080"/>
              <a:ext cx="18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9"/>
            <p:cNvSpPr/>
            <p:nvPr/>
          </p:nvSpPr>
          <p:spPr>
            <a:xfrm>
              <a:off x="6111000" y="434808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0"/>
            <p:cNvSpPr/>
            <p:nvPr/>
          </p:nvSpPr>
          <p:spPr>
            <a:xfrm>
              <a:off x="6111000" y="4804920"/>
              <a:ext cx="37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1"/>
            <p:cNvSpPr/>
            <p:nvPr/>
          </p:nvSpPr>
          <p:spPr>
            <a:xfrm flipV="1">
              <a:off x="6484680" y="43477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2"/>
            <p:cNvSpPr/>
            <p:nvPr/>
          </p:nvSpPr>
          <p:spPr>
            <a:xfrm>
              <a:off x="6484680" y="4348080"/>
              <a:ext cx="37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64"/>
          <p:cNvSpPr/>
          <p:nvPr/>
        </p:nvSpPr>
        <p:spPr>
          <a:xfrm>
            <a:off x="914400" y="4484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3) Cod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3080" y="304560"/>
            <a:ext cx="78073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Conversão A/D: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nais analógicos e digitais: 2 diferenças básic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ostragem em intervalos de tempo discr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imita freqüência máxim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ificação em valores discretos (inteiro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imita o máxima faixa dinâmica (intensidades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FB87-1EC0-47CE-85E6-7168C5D778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1EEB39-6B01-4B65-9D9D-F81AAFEC76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Conversão D/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1185480" y="3276720"/>
            <a:ext cx="7501320" cy="1012680"/>
            <a:chOff x="1185480" y="3276720"/>
            <a:chExt cx="7501320" cy="1012680"/>
          </a:xfrm>
        </p:grpSpPr>
        <p:graphicFrame>
          <p:nvGraphicFramePr>
            <p:cNvPr id="261" name="Object 5"/>
            <p:cNvGraphicFramePr/>
            <p:nvPr/>
          </p:nvGraphicFramePr>
          <p:xfrm>
            <a:off x="3522600" y="3276720"/>
            <a:ext cx="5164200" cy="101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22600" y="3276720"/>
                      <a:ext cx="5164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Text Box 6"/>
            <p:cNvSpPr/>
            <p:nvPr/>
          </p:nvSpPr>
          <p:spPr>
            <a:xfrm>
              <a:off x="1185480" y="358128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inal ana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7"/>
          <p:cNvGrpSpPr/>
          <p:nvPr/>
        </p:nvGrpSpPr>
        <p:grpSpPr>
          <a:xfrm>
            <a:off x="1443600" y="2133720"/>
            <a:ext cx="7031160" cy="914400"/>
            <a:chOff x="1443600" y="2133720"/>
            <a:chExt cx="7031160" cy="914400"/>
          </a:xfrm>
        </p:grpSpPr>
        <p:grpSp>
          <p:nvGrpSpPr>
            <p:cNvPr id="265" name="Group 8"/>
            <p:cNvGrpSpPr/>
            <p:nvPr/>
          </p:nvGrpSpPr>
          <p:grpSpPr>
            <a:xfrm>
              <a:off x="3598920" y="2133720"/>
              <a:ext cx="4875840" cy="914400"/>
              <a:chOff x="3598920" y="2133720"/>
              <a:chExt cx="4875840" cy="914400"/>
            </a:xfrm>
          </p:grpSpPr>
          <p:sp>
            <p:nvSpPr>
              <p:cNvPr id="266" name="Line 9"/>
              <p:cNvSpPr/>
              <p:nvPr/>
            </p:nvSpPr>
            <p:spPr>
              <a:xfrm>
                <a:off x="3598920" y="249876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0"/>
              <p:cNvSpPr/>
              <p:nvPr/>
            </p:nvSpPr>
            <p:spPr>
              <a:xfrm>
                <a:off x="3885840" y="23623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1"/>
              <p:cNvSpPr/>
              <p:nvPr/>
            </p:nvSpPr>
            <p:spPr>
              <a:xfrm>
                <a:off x="4173120" y="222588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2"/>
              <p:cNvSpPr/>
              <p:nvPr/>
            </p:nvSpPr>
            <p:spPr>
              <a:xfrm>
                <a:off x="4458960" y="21337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3"/>
              <p:cNvSpPr/>
              <p:nvPr/>
            </p:nvSpPr>
            <p:spPr>
              <a:xfrm>
                <a:off x="4746240" y="21337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4"/>
              <p:cNvSpPr/>
              <p:nvPr/>
            </p:nvSpPr>
            <p:spPr>
              <a:xfrm>
                <a:off x="5033520" y="21337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5"/>
              <p:cNvSpPr/>
              <p:nvPr/>
            </p:nvSpPr>
            <p:spPr>
              <a:xfrm>
                <a:off x="5319360" y="222588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6"/>
              <p:cNvSpPr/>
              <p:nvPr/>
            </p:nvSpPr>
            <p:spPr>
              <a:xfrm>
                <a:off x="5606640" y="23623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7"/>
              <p:cNvSpPr/>
              <p:nvPr/>
            </p:nvSpPr>
            <p:spPr>
              <a:xfrm>
                <a:off x="5893920" y="249876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8"/>
              <p:cNvSpPr/>
              <p:nvPr/>
            </p:nvSpPr>
            <p:spPr>
              <a:xfrm flipV="1">
                <a:off x="6179760" y="259092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 flipV="1">
                <a:off x="6753960" y="25909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703980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 flipV="1">
                <a:off x="732708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V="1">
                <a:off x="761436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 flipV="1">
                <a:off x="7900200" y="25909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6466680" y="2590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5"/>
              <p:cNvSpPr/>
              <p:nvPr/>
            </p:nvSpPr>
            <p:spPr>
              <a:xfrm>
                <a:off x="8187480" y="2590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6"/>
              <p:cNvSpPr/>
              <p:nvPr/>
            </p:nvSpPr>
            <p:spPr>
              <a:xfrm flipV="1">
                <a:off x="8474760" y="259092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27"/>
            <p:cNvSpPr/>
            <p:nvPr/>
          </p:nvSpPr>
          <p:spPr>
            <a:xfrm>
              <a:off x="1443600" y="235260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cretiz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28"/>
          <p:cNvSpPr/>
          <p:nvPr/>
        </p:nvSpPr>
        <p:spPr>
          <a:xfrm>
            <a:off x="1143000" y="1295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al digital (PCM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01, 010, 011, 100, 100, 100, 0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9"/>
          <p:cNvSpPr/>
          <p:nvPr/>
        </p:nvSpPr>
        <p:spPr>
          <a:xfrm>
            <a:off x="3886200" y="2362320"/>
            <a:ext cx="30492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0"/>
          <p:cNvSpPr/>
          <p:nvPr/>
        </p:nvSpPr>
        <p:spPr>
          <a:xfrm>
            <a:off x="4191120" y="2209680"/>
            <a:ext cx="22860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1"/>
          <p:cNvSpPr/>
          <p:nvPr/>
        </p:nvSpPr>
        <p:spPr>
          <a:xfrm>
            <a:off x="4495680" y="2133720"/>
            <a:ext cx="22860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2"/>
          <p:cNvSpPr/>
          <p:nvPr/>
        </p:nvSpPr>
        <p:spPr>
          <a:xfrm>
            <a:off x="4724280" y="2133720"/>
            <a:ext cx="30492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3"/>
          <p:cNvSpPr/>
          <p:nvPr/>
        </p:nvSpPr>
        <p:spPr>
          <a:xfrm>
            <a:off x="5029200" y="2209680"/>
            <a:ext cx="30492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>
            <a:off x="5334120" y="2362320"/>
            <a:ext cx="30456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5"/>
          <p:cNvSpPr/>
          <p:nvPr/>
        </p:nvSpPr>
        <p:spPr>
          <a:xfrm>
            <a:off x="5562720" y="2514600"/>
            <a:ext cx="30456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6"/>
          <p:cNvSpPr/>
          <p:nvPr/>
        </p:nvSpPr>
        <p:spPr>
          <a:xfrm>
            <a:off x="5867280" y="2590920"/>
            <a:ext cx="30492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7"/>
          <p:cNvSpPr/>
          <p:nvPr/>
        </p:nvSpPr>
        <p:spPr>
          <a:xfrm>
            <a:off x="6172200" y="2743200"/>
            <a:ext cx="30492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8"/>
          <p:cNvSpPr/>
          <p:nvPr/>
        </p:nvSpPr>
        <p:spPr>
          <a:xfrm flipH="1">
            <a:off x="3580920" y="2514600"/>
            <a:ext cx="30492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9"/>
          <p:cNvSpPr/>
          <p:nvPr/>
        </p:nvSpPr>
        <p:spPr>
          <a:xfrm>
            <a:off x="6477120" y="2819520"/>
            <a:ext cx="30456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0"/>
          <p:cNvSpPr/>
          <p:nvPr/>
        </p:nvSpPr>
        <p:spPr>
          <a:xfrm>
            <a:off x="6781680" y="2971800"/>
            <a:ext cx="228600" cy="0"/>
          </a:xfrm>
          <a:prstGeom prst="line">
            <a:avLst/>
          </a:prstGeom>
          <a:ln w="1908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C91-A480-42C7-8B47-4BE9DEAB7E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3080" y="304560"/>
            <a:ext cx="78073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Amostragem (discretização no tempo)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itério de Nyqu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27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a &gt; 2 * F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27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 = frequência de amostragem 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max = maior frequência presente no s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de-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or a taxa, mais precisa é a amostragem, no entanto maior é a quantidade de informação a ser armaze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1925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 para CD e música em geral = 44,1 KHz (ou 48 KH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FC3876-1AFC-498B-BAE0-26A45E0B05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3080" y="328680"/>
            <a:ext cx="780732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Quantificação (discretização na amplitude)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303" name="Picture 3" descr="P2-7A"/>
          <p:cNvPicPr/>
          <p:nvPr/>
        </p:nvPicPr>
        <p:blipFill>
          <a:blip r:embed="rId1"/>
          <a:stretch/>
        </p:blipFill>
        <p:spPr>
          <a:xfrm>
            <a:off x="762120" y="685800"/>
            <a:ext cx="7605720" cy="4363920"/>
          </a:xfrm>
          <a:prstGeom prst="rect">
            <a:avLst/>
          </a:prstGeom>
          <a:ln w="0">
            <a:noFill/>
          </a:ln>
        </p:spPr>
      </p:pic>
      <p:sp>
        <p:nvSpPr>
          <p:cNvPr id="304" name="Retângulo 5"/>
          <p:cNvSpPr/>
          <p:nvPr/>
        </p:nvSpPr>
        <p:spPr>
          <a:xfrm>
            <a:off x="1042920" y="530064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4760" indent="-374760">
              <a:lnSpc>
                <a:spcPct val="100000"/>
              </a:lnSpc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áudio profissional trabalhasse com 16 bits (~65K val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3080" y="304560"/>
            <a:ext cx="78073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Codificaçã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vez duplamente discretizado, o sinal precisa ser representado para poder ser armazenado ou transmiti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aúdio profissional, trabalha-se com a codificação PCM-lin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amostra =&gt; 1 cadeia de caracteres em código biná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rvalos temporais de quantificação unifor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ssos (resolução) da quantificação  unifor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19A2-2ED7-4FC0-9B1A-B94163C664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1191600" y="5011560"/>
            <a:ext cx="7324920" cy="1587600"/>
            <a:chOff x="1191600" y="5011560"/>
            <a:chExt cx="7324920" cy="1587600"/>
          </a:xfrm>
        </p:grpSpPr>
        <p:grpSp>
          <p:nvGrpSpPr>
            <p:cNvPr id="309" name="Group 5"/>
            <p:cNvGrpSpPr/>
            <p:nvPr/>
          </p:nvGrpSpPr>
          <p:grpSpPr>
            <a:xfrm>
              <a:off x="1191600" y="5011560"/>
              <a:ext cx="7324920" cy="1012680"/>
              <a:chOff x="1191600" y="5011560"/>
              <a:chExt cx="7324920" cy="1012680"/>
            </a:xfrm>
          </p:grpSpPr>
          <p:grpSp>
            <p:nvGrpSpPr>
              <p:cNvPr id="310" name="Group 6"/>
              <p:cNvGrpSpPr/>
              <p:nvPr/>
            </p:nvGrpSpPr>
            <p:grpSpPr>
              <a:xfrm>
                <a:off x="1191600" y="5011560"/>
                <a:ext cx="7324920" cy="1012680"/>
                <a:chOff x="1191600" y="5011560"/>
                <a:chExt cx="7324920" cy="1012680"/>
              </a:xfrm>
            </p:grpSpPr>
            <p:graphicFrame>
              <p:nvGraphicFramePr>
                <p:cNvPr id="311" name="Object 7"/>
                <p:cNvGraphicFramePr/>
                <p:nvPr/>
              </p:nvGraphicFramePr>
              <p:xfrm>
                <a:off x="3352680" y="5011560"/>
                <a:ext cx="5163840" cy="10126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12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352680" y="5011560"/>
                          <a:ext cx="5163840" cy="1012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3" name="Text Box 8"/>
                <p:cNvSpPr/>
                <p:nvPr/>
              </p:nvSpPr>
              <p:spPr>
                <a:xfrm>
                  <a:off x="1191600" y="5306400"/>
                  <a:ext cx="1750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sinal analógico </a:t>
                  </a:r>
                  <a:br>
                    <a:rPr sz="1800"/>
                  </a:b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amostr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9"/>
              <p:cNvGrpSpPr/>
              <p:nvPr/>
            </p:nvGrpSpPr>
            <p:grpSpPr>
              <a:xfrm>
                <a:off x="3446280" y="5087520"/>
                <a:ext cx="4875840" cy="914400"/>
                <a:chOff x="3446280" y="5087520"/>
                <a:chExt cx="4875840" cy="914400"/>
              </a:xfrm>
            </p:grpSpPr>
            <p:sp>
              <p:nvSpPr>
                <p:cNvPr id="315" name="Line 10"/>
                <p:cNvSpPr/>
                <p:nvPr/>
              </p:nvSpPr>
              <p:spPr>
                <a:xfrm>
                  <a:off x="3446280" y="5452560"/>
                  <a:ext cx="0" cy="9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1"/>
                <p:cNvSpPr/>
                <p:nvPr/>
              </p:nvSpPr>
              <p:spPr>
                <a:xfrm>
                  <a:off x="3733200" y="531612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2"/>
                <p:cNvSpPr/>
                <p:nvPr/>
              </p:nvSpPr>
              <p:spPr>
                <a:xfrm>
                  <a:off x="4020480" y="5179680"/>
                  <a:ext cx="0" cy="36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"/>
                <p:cNvSpPr/>
                <p:nvPr/>
              </p:nvSpPr>
              <p:spPr>
                <a:xfrm>
                  <a:off x="4306320" y="5087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"/>
                <p:cNvSpPr/>
                <p:nvPr/>
              </p:nvSpPr>
              <p:spPr>
                <a:xfrm>
                  <a:off x="4593600" y="5087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5"/>
                <p:cNvSpPr/>
                <p:nvPr/>
              </p:nvSpPr>
              <p:spPr>
                <a:xfrm>
                  <a:off x="4880880" y="5087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6"/>
                <p:cNvSpPr/>
                <p:nvPr/>
              </p:nvSpPr>
              <p:spPr>
                <a:xfrm>
                  <a:off x="5166720" y="5179680"/>
                  <a:ext cx="0" cy="36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7"/>
                <p:cNvSpPr/>
                <p:nvPr/>
              </p:nvSpPr>
              <p:spPr>
                <a:xfrm>
                  <a:off x="5454000" y="531612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"/>
                <p:cNvSpPr/>
                <p:nvPr/>
              </p:nvSpPr>
              <p:spPr>
                <a:xfrm>
                  <a:off x="5741280" y="5452560"/>
                  <a:ext cx="0" cy="9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9"/>
                <p:cNvSpPr/>
                <p:nvPr/>
              </p:nvSpPr>
              <p:spPr>
                <a:xfrm flipV="1">
                  <a:off x="6027120" y="5544720"/>
                  <a:ext cx="0" cy="9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0"/>
                <p:cNvSpPr/>
                <p:nvPr/>
              </p:nvSpPr>
              <p:spPr>
                <a:xfrm flipV="1">
                  <a:off x="6601320" y="5544720"/>
                  <a:ext cx="0" cy="36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21"/>
                <p:cNvSpPr/>
                <p:nvPr/>
              </p:nvSpPr>
              <p:spPr>
                <a:xfrm flipV="1">
                  <a:off x="6887160" y="5544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22"/>
                <p:cNvSpPr/>
                <p:nvPr/>
              </p:nvSpPr>
              <p:spPr>
                <a:xfrm flipV="1">
                  <a:off x="7174440" y="5544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3"/>
                <p:cNvSpPr/>
                <p:nvPr/>
              </p:nvSpPr>
              <p:spPr>
                <a:xfrm flipV="1">
                  <a:off x="7461720" y="5544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4"/>
                <p:cNvSpPr/>
                <p:nvPr/>
              </p:nvSpPr>
              <p:spPr>
                <a:xfrm flipV="1">
                  <a:off x="7747560" y="5544720"/>
                  <a:ext cx="0" cy="36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25"/>
                <p:cNvSpPr/>
                <p:nvPr/>
              </p:nvSpPr>
              <p:spPr>
                <a:xfrm>
                  <a:off x="6314040" y="554472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26"/>
                <p:cNvSpPr/>
                <p:nvPr/>
              </p:nvSpPr>
              <p:spPr>
                <a:xfrm>
                  <a:off x="8034840" y="554472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7"/>
                <p:cNvSpPr/>
                <p:nvPr/>
              </p:nvSpPr>
              <p:spPr>
                <a:xfrm flipV="1">
                  <a:off x="8322120" y="5544720"/>
                  <a:ext cx="0" cy="9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Text Box 28"/>
            <p:cNvSpPr/>
            <p:nvPr/>
          </p:nvSpPr>
          <p:spPr>
            <a:xfrm>
              <a:off x="1250640" y="6230880"/>
              <a:ext cx="58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inal digital: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01, 010, 011, 100, 100, 100, 011, 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9"/>
            <p:cNvSpPr/>
            <p:nvPr/>
          </p:nvSpPr>
          <p:spPr>
            <a:xfrm>
              <a:off x="3778200" y="5697360"/>
              <a:ext cx="18288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29C5-18F9-44B9-B8DE-0A80315163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3280" y="235080"/>
            <a:ext cx="775008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Vantagens do áudio digital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lhor relação sinal-ruído (SNR) pois não depende do meio (ou ca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fácil separar ruído de sinal devido as formas de onda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limina chiado (hiss), distorção não-linear e wow e flutter (variação de velocidade) das fi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is fácil de implementar algoritmos de processamento versáte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feitos de ambi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ínte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as manipulações via software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50E6A3-FCED-44D5-8496-6ADDCE61BC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Processa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371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40920" indent="-34092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dança de dinâ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077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plificação/atenu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077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ressão/expan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dança de espectro (dem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077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iltr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077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qual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di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077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x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biência (dem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077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verber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os efeit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077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horus, flanging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66ACA1-65AA-469D-B5C8-F4BE2301FB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0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4000" spc="-1" strike="noStrike">
                <a:solidFill>
                  <a:srgbClr val="996600"/>
                </a:solidFill>
                <a:latin typeface="Arial"/>
              </a:rPr>
              <a:t>Fundamento de Som Digital</a:t>
            </a:r>
            <a:br>
              <a:rPr sz="4000"/>
            </a:br>
            <a:r>
              <a:rPr b="1" i="1" lang="pt-BR" sz="4000" spc="-1" strike="noStrike">
                <a:solidFill>
                  <a:srgbClr val="996600"/>
                </a:solidFill>
                <a:latin typeface="Arial"/>
              </a:rPr>
              <a:t>para Jogos</a:t>
            </a:r>
            <a:endParaRPr b="1" i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-38088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eitos básicos de s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som, sua interação com o ambiente e sua percepçã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íntese de som e MID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 e música em jog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ED7E96-E05F-46E4-84EA-F4109BBBE5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135440" y="2954160"/>
            <a:ext cx="7053840" cy="351108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onsole"/>
              </a:rPr>
              <a:t>Tamanho</a:t>
            </a:r>
            <a:r>
              <a:rPr b="1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Lucida Console"/>
              </a:rPr>
              <a:t>Descr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“RIF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Tamanho do chunk (32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“WA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“fmt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Tamanho da descrição do arqu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2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Flag para </a:t>
            </a:r>
            <a:r>
              <a:rPr b="1" lang="pt-BR" sz="1800" spc="-1" strike="noStrike">
                <a:solidFill>
                  <a:srgbClr val="000000"/>
                </a:solidFill>
                <a:latin typeface="Lucida Console"/>
              </a:rPr>
              <a:t>mono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 (0x01) ou </a:t>
            </a:r>
            <a:r>
              <a:rPr b="1" lang="pt-BR" sz="1800" spc="-1" strike="noStrike">
                <a:solidFill>
                  <a:srgbClr val="000000"/>
                </a:solidFill>
                <a:latin typeface="Lucida Console"/>
              </a:rPr>
              <a:t>estéreo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 (0x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Lucida Console"/>
              </a:rPr>
              <a:t>Taxa de amostr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Bytes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2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Alinhamento do bl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2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Lucida Console"/>
              </a:rPr>
              <a:t>Bits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“d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Lucida Console"/>
              </a:rPr>
              <a:t>Tamanho do segmento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onsole"/>
              </a:rPr>
              <a:t>(n bytes)</a:t>
            </a:r>
            <a:r>
              <a:rPr b="1" lang="pt-BR" sz="1800" spc="-1" strike="noStrike">
                <a:solidFill>
                  <a:srgbClr val="ff0000"/>
                </a:solidFill>
                <a:latin typeface="Lucida Console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Lucida Console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3080" y="304560"/>
            <a:ext cx="78073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Armazena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73280" y="914040"/>
            <a:ext cx="7913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IFF (wave): formato da Microsoft/IB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osto de chunks de 32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uto-descr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ttle-Endian Word (Esquerdo (MSB) | Direito (LSB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27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5640" y="294840"/>
            <a:ext cx="783756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marL="195120" indent="0" algn="ctr">
              <a:lnSpc>
                <a:spcPct val="85000"/>
              </a:lnSpc>
              <a:buNone/>
              <a:tabLst>
                <a:tab algn="l" pos="0"/>
                <a:tab algn="l" pos="195120"/>
                <a:tab algn="l" pos="1023840"/>
                <a:tab algn="l" pos="1854360"/>
                <a:tab algn="l" pos="2682720"/>
                <a:tab algn="l" pos="3513240"/>
                <a:tab algn="l" pos="4341960"/>
                <a:tab algn="l" pos="5172120"/>
                <a:tab algn="l" pos="6000840"/>
                <a:tab algn="l" pos="6831000"/>
                <a:tab algn="l" pos="7659720"/>
                <a:tab algn="l" pos="8489880"/>
                <a:tab algn="l" pos="9318600"/>
                <a:tab algn="l" pos="9906120"/>
                <a:tab algn="l" pos="10667880"/>
              </a:tabLst>
            </a:pPr>
            <a:r>
              <a:rPr b="1" i="1" lang="en-GB" sz="3200" spc="-1" strike="noStrike">
                <a:solidFill>
                  <a:srgbClr val="996600"/>
                </a:solidFill>
                <a:latin typeface="Arial"/>
              </a:rPr>
              <a:t>Compressão de dad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3756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-372960">
              <a:spcAft>
                <a:spcPts val="1287"/>
              </a:spcAft>
              <a:buClr>
                <a:srgbClr val="ff9900"/>
              </a:buClr>
              <a:buFont typeface="Monotype Sorts" charset="2"/>
              <a:buChar char="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so de codificação de mensagens a fim de reduzir o número de “bits” necessários para representá-l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Aft>
                <a:spcPts val="1287"/>
              </a:spcAft>
              <a:buClr>
                <a:srgbClr val="ff9900"/>
              </a:buClr>
              <a:buFont typeface="Monotype Sorts" charset="2"/>
              <a:buChar char="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 tipos de compress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buClr>
                <a:srgbClr val="000000"/>
              </a:buClr>
              <a:buFont typeface="Arial"/>
              <a:buChar char="•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m per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ão há eliminação de informação na mensagem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mpressão implica codificação eficient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buClr>
                <a:srgbClr val="000000"/>
              </a:buClr>
              <a:buFont typeface="Arial"/>
              <a:buChar char="•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 per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formações redundantes, pouco importantes ou irrelevantes sob algum critério são descartad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ão dispensa a codificação eficient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rau de compressão x Distorção na mensage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5640" y="294840"/>
            <a:ext cx="783756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marL="195120" indent="0" algn="ctr">
              <a:lnSpc>
                <a:spcPct val="85000"/>
              </a:lnSpc>
              <a:buNone/>
              <a:tabLst>
                <a:tab algn="l" pos="0"/>
                <a:tab algn="l" pos="195120"/>
                <a:tab algn="l" pos="1023840"/>
                <a:tab algn="l" pos="1854360"/>
                <a:tab algn="l" pos="2682720"/>
                <a:tab algn="l" pos="3513240"/>
                <a:tab algn="l" pos="4341960"/>
                <a:tab algn="l" pos="5172120"/>
                <a:tab algn="l" pos="6000840"/>
                <a:tab algn="l" pos="6831000"/>
                <a:tab algn="l" pos="7659720"/>
                <a:tab algn="l" pos="8489880"/>
                <a:tab algn="l" pos="9318600"/>
                <a:tab algn="l" pos="9906120"/>
                <a:tab algn="l" pos="10667880"/>
              </a:tabLst>
            </a:pPr>
            <a:r>
              <a:rPr b="1" i="1" lang="en-GB" sz="3200" spc="-1" strike="noStrike">
                <a:solidFill>
                  <a:srgbClr val="996600"/>
                </a:solidFill>
                <a:latin typeface="Arial"/>
              </a:rPr>
              <a:t>Compressão de áudi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06080" y="5716440"/>
            <a:ext cx="783756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50280" indent="0">
              <a:buNone/>
              <a:tabLst>
                <a:tab algn="l" pos="0"/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*Taxa de Compressão(TC) =  1- (tamanho comprimido/tamanho original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1697040" y="1405080"/>
            <a:ext cx="6340320" cy="42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3080" y="252720"/>
            <a:ext cx="780732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28720"/>
                <a:tab algn="l" pos="1657440"/>
                <a:tab algn="l" pos="2487600"/>
                <a:tab algn="l" pos="3316320"/>
                <a:tab algn="l" pos="4146480"/>
                <a:tab algn="l" pos="4975200"/>
                <a:tab algn="l" pos="5805360"/>
                <a:tab algn="l" pos="6634080"/>
                <a:tab algn="l" pos="7464600"/>
                <a:tab algn="l" pos="8292960"/>
                <a:tab algn="l" pos="91234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996600"/>
                </a:solidFill>
                <a:latin typeface="Arial"/>
              </a:rPr>
              <a:t>Conceitos importantes</a:t>
            </a:r>
            <a:endParaRPr b="1" i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94120" indent="-294120">
              <a:spcBef>
                <a:spcPts val="726"/>
              </a:spcBef>
              <a:buClr>
                <a:srgbClr val="ff9900"/>
              </a:buClr>
              <a:buFont typeface="Gill Sans MT"/>
              <a:buChar char="•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dec (COder–DECoder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120" indent="-294120">
              <a:spcBef>
                <a:spcPts val="726"/>
              </a:spcBef>
              <a:buClr>
                <a:srgbClr val="ff9900"/>
              </a:buClr>
              <a:buFont typeface="Gill Sans MT"/>
              <a:buChar char="•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44080">
              <a:spcBef>
                <a:spcPts val="638"/>
              </a:spcBef>
              <a:buClr>
                <a:srgbClr val="000000"/>
              </a:buClr>
              <a:buFont typeface="Gill Sans MT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rutura de dados correspondente à unidade  mínima de tempo em arquivos de á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44080">
              <a:spcBef>
                <a:spcPts val="638"/>
              </a:spcBef>
              <a:buClr>
                <a:srgbClr val="000000"/>
              </a:buClr>
              <a:buFont typeface="Gill Sans MT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p3 =&gt; 1152 amostras P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120" indent="-294120">
              <a:spcBef>
                <a:spcPts val="726"/>
              </a:spcBef>
              <a:buClr>
                <a:srgbClr val="ff9900"/>
              </a:buClr>
              <a:buFont typeface="Gill Sans MT"/>
              <a:buChar char="•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trate (taxa de bits):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úmero de bits p/ codificar um fra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44080">
              <a:spcBef>
                <a:spcPts val="638"/>
              </a:spcBef>
              <a:buClr>
                <a:srgbClr val="000000"/>
              </a:buClr>
              <a:buFont typeface="Gill Sans MT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R (constant bitrate) - A mesma quantidade de bits para representar qualquer frame (WAV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44080">
              <a:spcBef>
                <a:spcPts val="638"/>
              </a:spcBef>
              <a:buClr>
                <a:srgbClr val="000000"/>
              </a:buClr>
              <a:buFont typeface="Gill Sans MT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R (average bitrate) - Frames menos complexos deixam bits para os próximos (MP3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44080">
              <a:spcBef>
                <a:spcPts val="638"/>
              </a:spcBef>
              <a:buClr>
                <a:srgbClr val="000000"/>
              </a:buClr>
              <a:buFont typeface="Gill Sans MT"/>
              <a:buChar char="–"/>
              <a:tabLst>
                <a:tab algn="l" pos="825480"/>
                <a:tab algn="l" pos="1655640"/>
                <a:tab algn="l" pos="2484360"/>
                <a:tab algn="l" pos="3314880"/>
                <a:tab algn="l" pos="4143240"/>
                <a:tab algn="l" pos="4973760"/>
                <a:tab algn="l" pos="5802480"/>
                <a:tab algn="l" pos="6632640"/>
                <a:tab algn="l" pos="7461360"/>
                <a:tab algn="l" pos="8291520"/>
                <a:tab algn="l" pos="912024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BR (variable bitrate) - O número de bits para cada frame deve garantir a qualidade definida no início da codificação (AAC, VORBIS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CD1695-DE81-4B2D-83E6-D79C128968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600" spc="-1" strike="noStrike">
                <a:solidFill>
                  <a:srgbClr val="996600"/>
                </a:solidFill>
                <a:latin typeface="Arial"/>
              </a:rPr>
              <a:t>Síntese Sonora</a:t>
            </a:r>
            <a:endParaRPr b="1" i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is de onde vem o som se não vier dos microfon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EA1A53-C073-4D4B-A26E-8AC9FACA68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Síntese Sonor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cesso de compor ou combinar diversas partes ou elementos em um todo ma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riação de um espectro sônico dinâm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todos mais utiliz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íntese Adi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íntese direta por softwa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íntese Subt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intetizadores (Moog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íntese FM (Chowning) - a usada nas placas “fuleira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Yamaha DX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ostragem Dig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ampl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23CA29-4965-4942-8329-9CA48AF61A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3080" y="304560"/>
            <a:ext cx="780732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Síntese por Amostragem </a:t>
            </a:r>
            <a:br>
              <a:rPr sz="3200"/>
            </a:br>
            <a:r>
              <a:rPr b="0" i="1" lang="pt-BR" sz="3200" spc="-1" strike="noStrike">
                <a:solidFill>
                  <a:srgbClr val="996600"/>
                </a:solidFill>
                <a:latin typeface="Arial"/>
              </a:rPr>
              <a:t>(sampling, wavetable synthesis)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ípi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gitalizar de fragmentos sonoros (já complexos) e armazená-los em tabe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riar duração e afinação com técnicas de varredura da tabela (respectivamente, laço e Munchising/Multi-amostrag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versos tabelas (instrumento, intervalo espectral,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44"/>
          <p:cNvPicPr/>
          <p:nvPr/>
        </p:nvPicPr>
        <p:blipFill>
          <a:blip r:embed="rId1"/>
          <a:stretch/>
        </p:blipFill>
        <p:spPr>
          <a:xfrm>
            <a:off x="2209680" y="4267080"/>
            <a:ext cx="4800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EAA806-CF0C-4BC9-B0A0-C8EEB4F470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Arial"/>
              </a:rPr>
              <a:t>MIDI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sical Instrument Digital Interfa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3CAE20-5232-4A42-8FA3-E73D6F9128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MIDI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2920" y="914400"/>
            <a:ext cx="8142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 é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quema de interconexão física e método de comunicação lógica para controlar de instrumentos musicais em tempo 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transmite som e sim informações de control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tocar: tecla, intensidade (velocidade), duração, instrumento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para o controlador do gerador de s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ibilita interoperabilidade... mas a qualidade do som depende do ger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Tipos de Mensagens MIDI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grpSp>
        <p:nvGrpSpPr>
          <p:cNvPr id="370" name="Group 76"/>
          <p:cNvGrpSpPr/>
          <p:nvPr/>
        </p:nvGrpSpPr>
        <p:grpSpPr>
          <a:xfrm>
            <a:off x="179280" y="1457280"/>
            <a:ext cx="8937720" cy="3672000"/>
            <a:chOff x="179280" y="1457280"/>
            <a:chExt cx="8937720" cy="3672000"/>
          </a:xfrm>
        </p:grpSpPr>
        <p:sp>
          <p:nvSpPr>
            <p:cNvPr id="371" name="Rectangle 31"/>
            <p:cNvSpPr/>
            <p:nvPr/>
          </p:nvSpPr>
          <p:spPr>
            <a:xfrm>
              <a:off x="179280" y="3478320"/>
              <a:ext cx="1656000" cy="1650960"/>
            </a:xfrm>
            <a:prstGeom prst="rect">
              <a:avLst/>
            </a:prstGeom>
            <a:solidFill>
              <a:srgbClr val="ffcc99"/>
            </a:solidFill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48"/>
            <p:cNvSpPr/>
            <p:nvPr/>
          </p:nvSpPr>
          <p:spPr>
            <a:xfrm>
              <a:off x="2000160" y="3478320"/>
              <a:ext cx="1656000" cy="1415880"/>
            </a:xfrm>
            <a:prstGeom prst="rect">
              <a:avLst/>
            </a:prstGeom>
            <a:solidFill>
              <a:srgbClr val="ffcc99"/>
            </a:solidFill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4645080" y="1814400"/>
              <a:ext cx="1440" cy="15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>
              <a:off x="1917720" y="1973160"/>
              <a:ext cx="1440" cy="157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>
              <a:off x="6464160" y="1973160"/>
              <a:ext cx="1800" cy="157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>
              <a:off x="1917720" y="1973160"/>
              <a:ext cx="2727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645080" y="1973160"/>
              <a:ext cx="1819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>
              <a:off x="1917720" y="2487600"/>
              <a:ext cx="1440" cy="15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1004760" y="2646360"/>
              <a:ext cx="1800" cy="15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2824200" y="2646360"/>
              <a:ext cx="1440" cy="15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>
              <a:off x="1004760" y="2646360"/>
              <a:ext cx="912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5"/>
            <p:cNvSpPr/>
            <p:nvPr/>
          </p:nvSpPr>
          <p:spPr>
            <a:xfrm>
              <a:off x="1917720" y="2646360"/>
              <a:ext cx="906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187200" y="3486240"/>
              <a:ext cx="1641600" cy="233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706320" y="3484440"/>
              <a:ext cx="67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ote 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187200" y="3719520"/>
              <a:ext cx="1641600" cy="233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709560" y="3718080"/>
              <a:ext cx="67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ote o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187200" y="3952800"/>
              <a:ext cx="1641600" cy="233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0640" y="395280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hannel Press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187200" y="4186080"/>
              <a:ext cx="1641600" cy="235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63320" y="4186080"/>
              <a:ext cx="114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Key Press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187200" y="4421160"/>
              <a:ext cx="1641600" cy="233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357840" y="4419720"/>
              <a:ext cx="134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trol Ch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6"/>
            <p:cNvSpPr/>
            <p:nvPr/>
          </p:nvSpPr>
          <p:spPr>
            <a:xfrm>
              <a:off x="187200" y="4654440"/>
              <a:ext cx="1641600" cy="23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7"/>
            <p:cNvSpPr/>
            <p:nvPr/>
          </p:nvSpPr>
          <p:spPr>
            <a:xfrm>
              <a:off x="292680" y="4653000"/>
              <a:ext cx="145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gram Ch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8"/>
            <p:cNvSpPr/>
            <p:nvPr/>
          </p:nvSpPr>
          <p:spPr>
            <a:xfrm>
              <a:off x="187200" y="4888080"/>
              <a:ext cx="1641600" cy="233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568080" y="4888080"/>
              <a:ext cx="92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itch Be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0"/>
            <p:cNvSpPr/>
            <p:nvPr/>
          </p:nvSpPr>
          <p:spPr>
            <a:xfrm>
              <a:off x="1004760" y="3162240"/>
              <a:ext cx="1800" cy="316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32"/>
            <p:cNvSpPr/>
            <p:nvPr/>
          </p:nvSpPr>
          <p:spPr>
            <a:xfrm>
              <a:off x="179280" y="2805120"/>
              <a:ext cx="1656000" cy="357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3"/>
            <p:cNvSpPr/>
            <p:nvPr/>
          </p:nvSpPr>
          <p:spPr>
            <a:xfrm>
              <a:off x="839520" y="2865600"/>
              <a:ext cx="329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o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4"/>
            <p:cNvSpPr/>
            <p:nvPr/>
          </p:nvSpPr>
          <p:spPr>
            <a:xfrm>
              <a:off x="179280" y="2805120"/>
              <a:ext cx="1656000" cy="357120"/>
            </a:xfrm>
            <a:prstGeom prst="rect">
              <a:avLst/>
            </a:prstGeom>
            <a:noFill/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35"/>
            <p:cNvSpPr/>
            <p:nvPr/>
          </p:nvSpPr>
          <p:spPr>
            <a:xfrm>
              <a:off x="2006640" y="3486240"/>
              <a:ext cx="1641600" cy="233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6"/>
            <p:cNvSpPr/>
            <p:nvPr/>
          </p:nvSpPr>
          <p:spPr>
            <a:xfrm>
              <a:off x="2293920" y="348444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7"/>
            <p:cNvSpPr/>
            <p:nvPr/>
          </p:nvSpPr>
          <p:spPr>
            <a:xfrm>
              <a:off x="2006640" y="3719520"/>
              <a:ext cx="1641600" cy="233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8"/>
            <p:cNvSpPr/>
            <p:nvPr/>
          </p:nvSpPr>
          <p:spPr>
            <a:xfrm>
              <a:off x="2322000" y="3718080"/>
              <a:ext cx="107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ll Notes O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9"/>
            <p:cNvSpPr/>
            <p:nvPr/>
          </p:nvSpPr>
          <p:spPr>
            <a:xfrm>
              <a:off x="2006640" y="3952800"/>
              <a:ext cx="1641600" cy="233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40"/>
            <p:cNvSpPr/>
            <p:nvPr/>
          </p:nvSpPr>
          <p:spPr>
            <a:xfrm>
              <a:off x="2466720" y="395280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mni O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1"/>
            <p:cNvSpPr/>
            <p:nvPr/>
          </p:nvSpPr>
          <p:spPr>
            <a:xfrm>
              <a:off x="2006640" y="4186080"/>
              <a:ext cx="1641600" cy="235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42"/>
            <p:cNvSpPr/>
            <p:nvPr/>
          </p:nvSpPr>
          <p:spPr>
            <a:xfrm>
              <a:off x="2463480" y="418608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mni 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3"/>
            <p:cNvSpPr/>
            <p:nvPr/>
          </p:nvSpPr>
          <p:spPr>
            <a:xfrm>
              <a:off x="2006640" y="4421160"/>
              <a:ext cx="1641600" cy="233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44"/>
            <p:cNvSpPr/>
            <p:nvPr/>
          </p:nvSpPr>
          <p:spPr>
            <a:xfrm>
              <a:off x="2625840" y="4419720"/>
              <a:ext cx="47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on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5"/>
            <p:cNvSpPr/>
            <p:nvPr/>
          </p:nvSpPr>
          <p:spPr>
            <a:xfrm>
              <a:off x="2006640" y="4654440"/>
              <a:ext cx="1641600" cy="23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46"/>
            <p:cNvSpPr/>
            <p:nvPr/>
          </p:nvSpPr>
          <p:spPr>
            <a:xfrm>
              <a:off x="2646000" y="4653000"/>
              <a:ext cx="37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l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47"/>
            <p:cNvSpPr/>
            <p:nvPr/>
          </p:nvSpPr>
          <p:spPr>
            <a:xfrm>
              <a:off x="2824200" y="3162240"/>
              <a:ext cx="1440" cy="316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49"/>
            <p:cNvSpPr/>
            <p:nvPr/>
          </p:nvSpPr>
          <p:spPr>
            <a:xfrm>
              <a:off x="2000160" y="2805120"/>
              <a:ext cx="1656000" cy="357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50"/>
            <p:cNvSpPr/>
            <p:nvPr/>
          </p:nvSpPr>
          <p:spPr>
            <a:xfrm>
              <a:off x="2590200" y="2865600"/>
              <a:ext cx="47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od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1"/>
            <p:cNvSpPr/>
            <p:nvPr/>
          </p:nvSpPr>
          <p:spPr>
            <a:xfrm>
              <a:off x="2000160" y="2805120"/>
              <a:ext cx="1656000" cy="357120"/>
            </a:xfrm>
            <a:prstGeom prst="rect">
              <a:avLst/>
            </a:prstGeom>
            <a:noFill/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2"/>
            <p:cNvSpPr/>
            <p:nvPr/>
          </p:nvSpPr>
          <p:spPr>
            <a:xfrm>
              <a:off x="1093680" y="2130480"/>
              <a:ext cx="1656000" cy="357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53"/>
            <p:cNvSpPr/>
            <p:nvPr/>
          </p:nvSpPr>
          <p:spPr>
            <a:xfrm>
              <a:off x="1701360" y="2192400"/>
              <a:ext cx="50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n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4"/>
            <p:cNvSpPr/>
            <p:nvPr/>
          </p:nvSpPr>
          <p:spPr>
            <a:xfrm>
              <a:off x="1093680" y="2130480"/>
              <a:ext cx="1656000" cy="357120"/>
            </a:xfrm>
            <a:prstGeom prst="rect">
              <a:avLst/>
            </a:prstGeom>
            <a:noFill/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5"/>
            <p:cNvSpPr/>
            <p:nvPr/>
          </p:nvSpPr>
          <p:spPr>
            <a:xfrm>
              <a:off x="6464160" y="2487600"/>
              <a:ext cx="1800" cy="15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56"/>
            <p:cNvSpPr/>
            <p:nvPr/>
          </p:nvSpPr>
          <p:spPr>
            <a:xfrm>
              <a:off x="4645080" y="2646360"/>
              <a:ext cx="1440" cy="15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7"/>
            <p:cNvSpPr/>
            <p:nvPr/>
          </p:nvSpPr>
          <p:spPr>
            <a:xfrm>
              <a:off x="6464160" y="2646360"/>
              <a:ext cx="1800" cy="15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58"/>
            <p:cNvSpPr/>
            <p:nvPr/>
          </p:nvSpPr>
          <p:spPr>
            <a:xfrm>
              <a:off x="8285040" y="2646360"/>
              <a:ext cx="1800" cy="15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59"/>
            <p:cNvSpPr/>
            <p:nvPr/>
          </p:nvSpPr>
          <p:spPr>
            <a:xfrm>
              <a:off x="4645080" y="2646360"/>
              <a:ext cx="1819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0"/>
            <p:cNvSpPr/>
            <p:nvPr/>
          </p:nvSpPr>
          <p:spPr>
            <a:xfrm>
              <a:off x="6464160" y="2646360"/>
              <a:ext cx="1820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1"/>
            <p:cNvSpPr/>
            <p:nvPr/>
          </p:nvSpPr>
          <p:spPr>
            <a:xfrm>
              <a:off x="3821040" y="2805120"/>
              <a:ext cx="1654200" cy="357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62"/>
            <p:cNvSpPr/>
            <p:nvPr/>
          </p:nvSpPr>
          <p:spPr>
            <a:xfrm>
              <a:off x="4151160" y="2865600"/>
              <a:ext cx="10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mpo Re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63"/>
            <p:cNvSpPr/>
            <p:nvPr/>
          </p:nvSpPr>
          <p:spPr>
            <a:xfrm>
              <a:off x="3821040" y="2805120"/>
              <a:ext cx="1654200" cy="357120"/>
            </a:xfrm>
            <a:prstGeom prst="rect">
              <a:avLst/>
            </a:prstGeom>
            <a:noFill/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4"/>
            <p:cNvSpPr/>
            <p:nvPr/>
          </p:nvSpPr>
          <p:spPr>
            <a:xfrm>
              <a:off x="5640480" y="2805120"/>
              <a:ext cx="1655640" cy="357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65"/>
            <p:cNvSpPr/>
            <p:nvPr/>
          </p:nvSpPr>
          <p:spPr>
            <a:xfrm>
              <a:off x="6106680" y="2865600"/>
              <a:ext cx="71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mu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6"/>
            <p:cNvSpPr/>
            <p:nvPr/>
          </p:nvSpPr>
          <p:spPr>
            <a:xfrm>
              <a:off x="5640480" y="2805120"/>
              <a:ext cx="1655640" cy="357120"/>
            </a:xfrm>
            <a:prstGeom prst="rect">
              <a:avLst/>
            </a:prstGeom>
            <a:noFill/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7"/>
            <p:cNvSpPr/>
            <p:nvPr/>
          </p:nvSpPr>
          <p:spPr>
            <a:xfrm>
              <a:off x="7461360" y="2805120"/>
              <a:ext cx="1655640" cy="357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8"/>
            <p:cNvSpPr/>
            <p:nvPr/>
          </p:nvSpPr>
          <p:spPr>
            <a:xfrm>
              <a:off x="8021520" y="2865600"/>
              <a:ext cx="59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 E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9"/>
            <p:cNvSpPr/>
            <p:nvPr/>
          </p:nvSpPr>
          <p:spPr>
            <a:xfrm>
              <a:off x="7461360" y="2805120"/>
              <a:ext cx="1655640" cy="357120"/>
            </a:xfrm>
            <a:prstGeom prst="rect">
              <a:avLst/>
            </a:prstGeom>
            <a:noFill/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70"/>
            <p:cNvSpPr/>
            <p:nvPr/>
          </p:nvSpPr>
          <p:spPr>
            <a:xfrm>
              <a:off x="5640480" y="2130480"/>
              <a:ext cx="1655640" cy="357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71"/>
            <p:cNvSpPr/>
            <p:nvPr/>
          </p:nvSpPr>
          <p:spPr>
            <a:xfrm>
              <a:off x="6120360" y="2192400"/>
              <a:ext cx="69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72"/>
            <p:cNvSpPr/>
            <p:nvPr/>
          </p:nvSpPr>
          <p:spPr>
            <a:xfrm>
              <a:off x="5640480" y="2130480"/>
              <a:ext cx="1655640" cy="357120"/>
            </a:xfrm>
            <a:prstGeom prst="rect">
              <a:avLst/>
            </a:prstGeom>
            <a:noFill/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73"/>
            <p:cNvSpPr/>
            <p:nvPr/>
          </p:nvSpPr>
          <p:spPr>
            <a:xfrm>
              <a:off x="3821040" y="1457280"/>
              <a:ext cx="1654200" cy="357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74"/>
            <p:cNvSpPr/>
            <p:nvPr/>
          </p:nvSpPr>
          <p:spPr>
            <a:xfrm>
              <a:off x="4147920" y="151776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nsage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5"/>
            <p:cNvSpPr/>
            <p:nvPr/>
          </p:nvSpPr>
          <p:spPr>
            <a:xfrm>
              <a:off x="3821040" y="1457280"/>
              <a:ext cx="1654200" cy="357120"/>
            </a:xfrm>
            <a:prstGeom prst="rect">
              <a:avLst/>
            </a:prstGeom>
            <a:noFill/>
            <a:ln w="144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F51C91-F332-4FE6-9A85-E9BE2DDA40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Onda Sonor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952880" cy="23623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684360" y="913680"/>
            <a:ext cx="1893600" cy="1846440"/>
            <a:chOff x="684360" y="913680"/>
            <a:chExt cx="1893600" cy="1846440"/>
          </a:xfrm>
        </p:grpSpPr>
        <p:sp>
          <p:nvSpPr>
            <p:cNvPr id="81" name="Text Box 5"/>
            <p:cNvSpPr/>
            <p:nvPr/>
          </p:nvSpPr>
          <p:spPr>
            <a:xfrm>
              <a:off x="975600" y="15994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Nível ze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1143720" y="913680"/>
              <a:ext cx="89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ico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684360" y="2361240"/>
              <a:ext cx="189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ico - (ou val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3"/>
          <p:cNvSpPr/>
          <p:nvPr/>
        </p:nvSpPr>
        <p:spPr>
          <a:xfrm>
            <a:off x="762120" y="3657600"/>
            <a:ext cx="7808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plitude (intensid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reqüência e período (agudo/grave): 20 a 20KH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 rot="16200000">
            <a:off x="3124080" y="2133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667960" y="3047040"/>
            <a:ext cx="41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19280"/>
                <a:tab algn="l" pos="333360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cic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cic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ci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 rot="16200000">
            <a:off x="4647960" y="213300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0"/>
          <p:cNvSpPr/>
          <p:nvPr/>
        </p:nvSpPr>
        <p:spPr>
          <a:xfrm rot="16200000">
            <a:off x="6172200" y="2133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CO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CO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CO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CO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0E423F-C467-46D4-ADFC-B4A9340B0A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844056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Possibilidades para MIDI no Computador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6553080" y="1131840"/>
            <a:ext cx="2200320" cy="1838520"/>
          </a:xfrm>
          <a:prstGeom prst="rect">
            <a:avLst/>
          </a:prstGeom>
          <a:ln w="0">
            <a:noFill/>
          </a:ln>
        </p:spPr>
      </p:pic>
      <p:sp>
        <p:nvSpPr>
          <p:cNvPr id="444" name="Line 20"/>
          <p:cNvSpPr/>
          <p:nvPr/>
        </p:nvSpPr>
        <p:spPr>
          <a:xfrm>
            <a:off x="6553080" y="20462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8"/>
          <p:cNvSpPr/>
          <p:nvPr/>
        </p:nvSpPr>
        <p:spPr>
          <a:xfrm flipV="1" rot="16174200">
            <a:off x="6094440" y="1817640"/>
            <a:ext cx="457200" cy="4568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5620680" y="15127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mplific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50"/>
          <p:cNvGrpSpPr/>
          <p:nvPr/>
        </p:nvGrpSpPr>
        <p:grpSpPr>
          <a:xfrm>
            <a:off x="2514600" y="5562720"/>
            <a:ext cx="1676520" cy="990360"/>
            <a:chOff x="2514600" y="5562720"/>
            <a:chExt cx="1676520" cy="990360"/>
          </a:xfrm>
        </p:grpSpPr>
        <p:sp>
          <p:nvSpPr>
            <p:cNvPr id="448" name="Text Box 12"/>
            <p:cNvSpPr/>
            <p:nvPr/>
          </p:nvSpPr>
          <p:spPr>
            <a:xfrm>
              <a:off x="2514600" y="617184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rquivo mi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Picture 45" descr=""/>
            <p:cNvPicPr/>
            <p:nvPr/>
          </p:nvPicPr>
          <p:blipFill>
            <a:blip r:embed="rId2"/>
            <a:stretch/>
          </p:blipFill>
          <p:spPr>
            <a:xfrm>
              <a:off x="2895480" y="5714640"/>
              <a:ext cx="8478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Rectangle 49"/>
            <p:cNvSpPr/>
            <p:nvPr/>
          </p:nvSpPr>
          <p:spPr>
            <a:xfrm>
              <a:off x="2666880" y="5562720"/>
              <a:ext cx="1295640" cy="9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37"/>
          <p:cNvSpPr/>
          <p:nvPr/>
        </p:nvSpPr>
        <p:spPr>
          <a:xfrm>
            <a:off x="685800" y="3276720"/>
            <a:ext cx="4952880" cy="1752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3819240" y="3382920"/>
            <a:ext cx="128268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2"/>
          <p:cNvSpPr/>
          <p:nvPr/>
        </p:nvSpPr>
        <p:spPr>
          <a:xfrm flipH="1" flipV="1">
            <a:off x="4419360" y="4036680"/>
            <a:ext cx="12600" cy="23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3438360" y="4267080"/>
            <a:ext cx="20703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íntese do 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FM ou wave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8"/>
          <p:cNvSpPr/>
          <p:nvPr/>
        </p:nvSpPr>
        <p:spPr>
          <a:xfrm rot="16200000">
            <a:off x="-30960" y="398844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ca de 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AutoShape 39"/>
          <p:cNvCxnSpPr>
            <a:stCxn id="452" idx="0"/>
            <a:endCxn id="445" idx="3"/>
          </p:cNvCxnSpPr>
          <p:nvPr/>
        </p:nvCxnSpPr>
        <p:spPr>
          <a:xfrm flipH="1" flipV="1" rot="5400000">
            <a:off x="4602600" y="1905480"/>
            <a:ext cx="1335600" cy="16200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AutoShape 52"/>
          <p:cNvCxnSpPr>
            <a:stCxn id="450" idx="0"/>
            <a:endCxn id="454" idx="2"/>
          </p:cNvCxnSpPr>
          <p:nvPr/>
        </p:nvCxnSpPr>
        <p:spPr>
          <a:xfrm flipH="1" flipV="1" rot="5400000">
            <a:off x="3573000" y="4662000"/>
            <a:ext cx="642240" cy="1159560"/>
          </a:xfrm>
          <a:prstGeom prst="bentConnector3">
            <a:avLst>
              <a:gd name="adj1" fmla="val 4997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Text Box 56"/>
          <p:cNvSpPr/>
          <p:nvPr/>
        </p:nvSpPr>
        <p:spPr>
          <a:xfrm>
            <a:off x="772560" y="2394000"/>
            <a:ext cx="219528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tetis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módulo ou tecl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1150920" y="4419720"/>
            <a:ext cx="151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DI Ex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AutoShape 61"/>
          <p:cNvCxnSpPr>
            <a:stCxn id="450" idx="0"/>
            <a:endCxn id="459" idx="2"/>
          </p:cNvCxnSpPr>
          <p:nvPr/>
        </p:nvCxnSpPr>
        <p:spPr>
          <a:xfrm flipV="1" rot="16200000">
            <a:off x="2229120" y="4476600"/>
            <a:ext cx="764280" cy="1407600"/>
          </a:xfrm>
          <a:prstGeom prst="bentConnector3">
            <a:avLst>
              <a:gd name="adj1" fmla="val 4236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AutoShape 63"/>
          <p:cNvCxnSpPr>
            <a:stCxn id="459" idx="0"/>
            <a:endCxn id="458" idx="2"/>
          </p:cNvCxnSpPr>
          <p:nvPr/>
        </p:nvCxnSpPr>
        <p:spPr>
          <a:xfrm flipH="1" flipV="1">
            <a:off x="1869480" y="304776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AutoShape 64"/>
          <p:cNvCxnSpPr>
            <a:stCxn id="458" idx="0"/>
            <a:endCxn id="445" idx="3"/>
          </p:cNvCxnSpPr>
          <p:nvPr/>
        </p:nvCxnSpPr>
        <p:spPr>
          <a:xfrm flipH="1" flipV="1" rot="5400000">
            <a:off x="3801960" y="115560"/>
            <a:ext cx="346680" cy="42105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6002FB-3CB3-487F-8F7A-485DE6CFDB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De volta aos Jog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pt-B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87BCC3-AD6E-46C6-906C-AC56D8642D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Porque usar som em jogos ?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músicas/sons proporcionam identid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guém lembra dessa mús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 essa lembra alguma cois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 ajudam a determinar o “clima” da situ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á que os personagens da cena estão alegr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 isso? Causa me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são tão importantes nos filmes, é natural que o fossem nos jogo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gente pode não perceber mas sua falta é logo detecta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indy.wma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RockyTheme.mid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1" name="psycho.wma" descr=""/>
          <p:cNvPicPr/>
          <p:nvPr/>
        </p:nvPicPr>
        <p:blipFill>
          <a:blip r:embed="rId3"/>
          <a:stretch/>
        </p:blipFill>
        <p:spPr>
          <a:xfrm>
            <a:off x="800100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2" name="superman.wma" descr=""/>
          <p:cNvPicPr/>
          <p:nvPr/>
        </p:nvPicPr>
        <p:blipFill>
          <a:blip r:embed="rId4"/>
          <a:stretch/>
        </p:blipFill>
        <p:spPr>
          <a:xfrm>
            <a:off x="4495680" y="33735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03080" y="304560"/>
            <a:ext cx="78073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Som em jog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72920" y="13860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rilhas son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feitos sono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cessar (modificar) sons pré-defini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riar novos sons e/ou trilhas son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car (multiplos) sons pré-definidos ou recém criados, incluindo posicion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prietá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p3, wav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57C8-F049-481D-96E1-0EDFAB4E62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9649A7-8160-4565-8B5D-C4E14EEACF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MIDI x Wave em Jog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8142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idade de informação: wave ma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DI: pou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WAVE: eno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: ex. 4 semínimas a 60 pulsos por minuto = 4 segun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di  (note-on, note-off, keynote, velocity) x 4 notas = ~32 byt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AVE: 44100 (Fa) x 2 canais) x 4 seg x 16 bits = 700.000 byt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 do s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WAVE: controle to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DI: vai depender da placa do usuário (ou da wave tab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3F3018-F879-4E4B-86D9-4D8793B11E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MIDI x Wave em Jog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nipul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WAVE: muito pouca e cara (volume, envoltória, reverberaç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DI: Total e barata computacio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que de 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WAVE: sem limitação (ex. vo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DI: mais limitado (general MID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F69EDB-3CB6-4C95-9082-7224A8FFF0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Posicionamento do som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s para tentar dar mais realismo a uma execução sono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lhorar a experi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vocar imersão do usuá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rimir deficiências do equipamento utili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versas técnic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tereo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urround S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Virtual Surround S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3D A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27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CCCF89-721A-4FE5-AE54-F8A014F136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Trilhas Sonoras Interativa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jogo não é igual a um fil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rativ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revisibilidade das jo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tor t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s de composição devem ser modific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dinâ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ambi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nos re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relacionamento entre as pa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a no mercado de g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rmy men, Serious Sam, WarCraft, Wolfenstein, Medal of Honor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3080" y="304560"/>
            <a:ext cx="78073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Jogos Musicai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772920" y="135576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ulador de instrume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uitar hero, drums challenge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rapolando (mas ficando no ritm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tapom, elite beat agents, DDR, DJ night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eúdo a partir da mús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udio sur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iando musica e jogan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8745-A613-44A0-B010-387968439B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3E6B2A-8C80-4133-940A-81A19EC9CB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Referência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938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tis Roads, The Computar Muisic Tutorial, The MIT Press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Ken C. Pohlman, Principles of Digital Audio, McGraw Hill, 1995, 3rd Ed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de arquiv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home.sprynet.com/~cbagwell/AudioForma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DI/XMF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www.midi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P3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www.iis.fhg.de/amm/techinf/layer3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active soundtrack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www.gamasutr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dio 3D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iasig.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24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2EE62E-5461-45EB-BFB1-D90820A3CB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ples (senoidal)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iste na natureza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x(t) = A sen (ft + </a:t>
            </a: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 = amplitu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 = freqüênci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= fase inici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lexa (composta de senoidais)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ie de Fou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(t) = a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f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f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+ ... + a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f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27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0 é chamada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reqüência fundam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outras são chamadas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a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harmônic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parcial múltiplo de f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27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1905120" cy="152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172200" y="5029200"/>
            <a:ext cx="2666880" cy="1525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Espectr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26C6FD-3573-43AE-AE52-050D5ECCEA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Exemplo (fft 3D)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96" name="Picture 4" descr="418"/>
          <p:cNvPicPr/>
          <p:nvPr/>
        </p:nvPicPr>
        <p:blipFill>
          <a:blip r:embed="rId1"/>
          <a:stretch/>
        </p:blipFill>
        <p:spPr>
          <a:xfrm>
            <a:off x="1752480" y="124920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520732-3276-449E-BE85-AA25A075C2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Ambiênci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biênc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sação de interação com a acústica do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pende das reflexões (tempo de atraso e quantid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2895480" y="2819520"/>
          <a:ext cx="335304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19520"/>
                    <a:ext cx="335304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8C950B-C0E3-44DE-9B66-CE2CECA7F4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Ambiênci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c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etição perceptíveis do s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verber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flexões muito densas percebidas como um  contínuo decaimento no tempo, prolongando o som dir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1371600" y="3809880"/>
          <a:ext cx="327672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327672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6"/>
          <p:cNvGraphicFramePr/>
          <p:nvPr/>
        </p:nvGraphicFramePr>
        <p:xfrm>
          <a:off x="5181480" y="3733920"/>
          <a:ext cx="3233880" cy="26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733920"/>
                    <a:ext cx="323388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9C5A27-9A3C-4852-B0D3-3B7BC404C2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Estereofoni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809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ereofoni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unciona por diferença de intensidade e de tempo de chegada da onda no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is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uv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calização pode ser recria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norâmico: esquerda ou dire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verberação: longe ou pe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5940360" y="2977920"/>
            <a:ext cx="2743200" cy="1904760"/>
            <a:chOff x="5940360" y="2977920"/>
            <a:chExt cx="2743200" cy="1904760"/>
          </a:xfrm>
        </p:grpSpPr>
        <p:sp>
          <p:nvSpPr>
            <p:cNvPr id="113" name="Line 5"/>
            <p:cNvSpPr/>
            <p:nvPr/>
          </p:nvSpPr>
          <p:spPr>
            <a:xfrm flipV="1">
              <a:off x="7235640" y="29779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940360" y="442584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 rot="16200000">
              <a:off x="6352200" y="35589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verber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7238880" y="4118400"/>
              <a:ext cx="143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stereofo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7083000" y="5264280"/>
            <a:ext cx="305280" cy="685800"/>
            <a:chOff x="7083000" y="5264280"/>
            <a:chExt cx="305280" cy="685800"/>
          </a:xfrm>
        </p:grpSpPr>
        <p:sp>
          <p:nvSpPr>
            <p:cNvPr id="118" name="Oval 10"/>
            <p:cNvSpPr/>
            <p:nvPr/>
          </p:nvSpPr>
          <p:spPr>
            <a:xfrm>
              <a:off x="7159680" y="5264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7235640" y="5340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7235640" y="579780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H="1">
              <a:off x="7083000" y="579780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4"/>
            <p:cNvSpPr/>
            <p:nvPr/>
          </p:nvSpPr>
          <p:spPr>
            <a:xfrm>
              <a:off x="7235640" y="5569200"/>
              <a:ext cx="1526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 flipH="1">
              <a:off x="7083000" y="556920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ço Reservado para Número de Slide 3"/>
          <p:cNvSpPr/>
          <p:nvPr/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CB5675-BC37-4C96-9E2B-1F6F69AF54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506680"/>
            <a:ext cx="777240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4000" spc="-1" strike="noStrike">
                <a:solidFill>
                  <a:srgbClr val="996600"/>
                </a:solidFill>
                <a:latin typeface="Arial"/>
              </a:rPr>
              <a:t>Som Digital</a:t>
            </a:r>
            <a:endParaRPr b="1" i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2:21:20Z</dcterms:created>
  <dc:creator>Departamento de Informatica</dc:creator>
  <dc:description/>
  <dc:language>en-US</dc:language>
  <cp:lastModifiedBy>Geber</cp:lastModifiedBy>
  <dcterms:modified xsi:type="dcterms:W3CDTF">2014-01-09T13:04:03Z</dcterms:modified>
  <cp:revision>190</cp:revision>
  <dc:subject/>
  <dc:title>Tecnologia Musical: gravação em estúdio</dc:title>
</cp:coreProperties>
</file>