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8578-F01D-4193-A6F7-B8B18A8E4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E508-9AC2-49FF-BE34-DFC23E3E0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9E3A-7ADF-43B4-BD54-CCF53907A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92040"/>
            <a:ext cx="87631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41C9-2D0E-422B-BEE5-9EC6BD76C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9204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880" y="399204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1081-1673-4A41-8089-9E464C4C8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21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400" y="1523880"/>
            <a:ext cx="2821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821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92040"/>
            <a:ext cx="2821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400" y="3992040"/>
            <a:ext cx="2821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4200" y="3992040"/>
            <a:ext cx="2821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39C2-4C29-4973-A2F8-C6D0844E0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043C-569B-401B-88D5-3BE6D8C410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F515-60C7-4FCB-9C48-233F7DCF15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FFE55-0B2A-4FB5-8256-AFACAAA3CC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CC4D-758E-4733-BA1B-6205DF6329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4ADB-14C7-4A83-9029-7C637047F7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50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F901-A155-4ACB-8BFF-0723DF9BD5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600" y="399204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133A-A389-4265-BDE9-E4DAAADAD8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B1FB-541B-4C63-8F30-1E836D3D3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8880" y="399204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22C4-0EC5-4BFE-9B6B-E2F5F3CCF6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600" y="3992040"/>
            <a:ext cx="87631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0ED2-BF3F-424E-87AC-B9E6194CC1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600" y="3992040"/>
            <a:ext cx="87631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DC1AC-0F83-4A85-BAA1-B8F54968D2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399204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8880" y="399204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2344-D0B3-45FC-AB95-762EF81D8E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21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1400" y="1523880"/>
            <a:ext cx="2821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821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600" y="3992040"/>
            <a:ext cx="2821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1400" y="3992040"/>
            <a:ext cx="2821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54200" y="3992040"/>
            <a:ext cx="2821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82621-1E45-4DC0-AF37-EB41781B6E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5211-E011-4B54-9AAF-C7C948D4C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817F-4EA6-44AA-A2D6-5986DA6E2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492E-5497-48BF-AA46-F502A1BEF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50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1457-4056-4D86-A7BD-EC52B3088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9204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A362-B5EA-4796-B1B3-F8C025DDD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880" y="399204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0DA9-F0A9-415E-8984-5FAE67CBA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92040"/>
            <a:ext cx="87631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8A2A-C2EC-4CA8-9472-4C28714DD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996633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72C0-2207-489F-BF77-BF73F372F9B9}" type="slidenum">
              <a:rPr b="0" lang="pt-BR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8242200" cy="3967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cin"/>
          <p:cNvPicPr/>
          <p:nvPr/>
        </p:nvPicPr>
        <p:blipFill>
          <a:blip r:embed="rId3"/>
          <a:stretch/>
        </p:blipFill>
        <p:spPr>
          <a:xfrm>
            <a:off x="0" y="6477120"/>
            <a:ext cx="106668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901800" y="3352680"/>
            <a:ext cx="8242200" cy="39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996633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7315200" y="63432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FEA6-FF1F-4B96-BBDA-2F473A37DA1B}" type="slidenum">
              <a:rPr b="0" lang="pt-BR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gamasutra.com/features/programming/080197/pathfinding.htm" TargetMode="External"/><Relationship Id="rId2" Type="http://schemas.openxmlformats.org/officeDocument/2006/relationships/hyperlink" Target="http://www.gamasutra.com/features/programming/080197/pathfinding.htm" TargetMode="External"/><Relationship Id="rId3" Type="http://schemas.openxmlformats.org/officeDocument/2006/relationships/hyperlink" Target="ftp://ftp.gdmag.com/pub/src/oct96.zip" TargetMode="External"/><Relationship Id="rId4" Type="http://schemas.openxmlformats.org/officeDocument/2006/relationships/hyperlink" Target="http://www.gamasutra.com/features/20001101/woodcock_pfv.htm" TargetMode="External"/><Relationship Id="rId5" Type="http://schemas.openxmlformats.org/officeDocument/2006/relationships/hyperlink" Target="http://www.gamedev.net/reference/articles/article1125.asp" TargetMode="External"/><Relationship Id="rId6" Type="http://schemas.openxmlformats.org/officeDocument/2006/relationships/hyperlink" Target="http://www.gamasutra.com/features/200103014/pinter_01.htm" TargetMode="External"/><Relationship Id="rId7" Type="http://schemas.openxmlformats.org/officeDocument/2006/relationships/hyperlink" Target="ftp://ftp.gdmag.com/pub/src/oct96.zip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7315200" y="63435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B065-12E4-43BA-B33F-1F8587C16C7F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26"/>
          <p:cNvSpPr/>
          <p:nvPr/>
        </p:nvSpPr>
        <p:spPr>
          <a:xfrm>
            <a:off x="1008000" y="3860640"/>
            <a:ext cx="72392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Motiv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écnicas clássicas e otim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ransformação do espaço de bus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1676160"/>
            <a:ext cx="81788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3300"/>
                </a:solidFill>
                <a:latin typeface="Arial Black"/>
              </a:rPr>
              <a:t>Pathfinding</a:t>
            </a:r>
            <a:endParaRPr b="0" lang="en-US" sz="3600" spc="-1" strike="noStrike">
              <a:solidFill>
                <a:srgbClr val="993300"/>
              </a:solidFill>
              <a:latin typeface="Arial Black"/>
            </a:endParaRPr>
          </a:p>
        </p:txBody>
      </p:sp>
      <p:pic>
        <p:nvPicPr>
          <p:cNvPr id="91" name="Picture 1029" descr="cc-logomarca"/>
          <p:cNvPicPr/>
          <p:nvPr/>
        </p:nvPicPr>
        <p:blipFill>
          <a:blip r:embed="rId1"/>
          <a:stretch/>
        </p:blipFill>
        <p:spPr>
          <a:xfrm>
            <a:off x="179280" y="6208560"/>
            <a:ext cx="151308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30"/>
          <p:cNvSpPr/>
          <p:nvPr/>
        </p:nvSpPr>
        <p:spPr>
          <a:xfrm>
            <a:off x="3491280" y="614520"/>
            <a:ext cx="19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ber Ram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8C43-DECC-42A3-B5EC-176F1DF70727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Attractor-repulsor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Soma vetorial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etor do alvo: linha do alvo até o ponto em quest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etores dos campos dos obstáculos: a partir dos centros geométr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Cálculo da direção e movimento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Intensidades dos campos são inversamente proporcionais às distâncias entre as entidades e o ponto em questão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Direção resultante em um ponto é a soma vetorial dos campos atrativo e repulsivo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Esta direção resultante é calculada a cada ciclo de tempo T segundos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A entidade se move na direção calculada por T segundos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A90D-BA7B-4788-916F-6417D33F74F2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"/>
          <p:cNvSpPr/>
          <p:nvPr/>
        </p:nvSpPr>
        <p:spPr>
          <a:xfrm>
            <a:off x="4267080" y="2787480"/>
            <a:ext cx="1214640" cy="914400"/>
          </a:xfrm>
          <a:prstGeom prst="parallelogram">
            <a:avLst>
              <a:gd name="adj" fmla="val 33209"/>
            </a:avLst>
          </a:prstGeom>
          <a:solidFill>
            <a:srgbClr val="5e574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809880" y="2406600"/>
            <a:ext cx="304920" cy="2286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648320" y="4311720"/>
            <a:ext cx="304560" cy="2286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572000" y="2787480"/>
            <a:ext cx="609480" cy="914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H="1">
            <a:off x="4266720" y="2787480"/>
            <a:ext cx="1219320" cy="914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H="1" flipV="1">
            <a:off x="4571640" y="385416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4724280" y="4387680"/>
            <a:ext cx="763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 flipH="1">
            <a:off x="4495320" y="43876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 flipH="1">
            <a:off x="3733920" y="4540320"/>
            <a:ext cx="838080" cy="45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3581280" y="4844880"/>
            <a:ext cx="304920" cy="2286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 flipH="1">
            <a:off x="3428640" y="499752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3"/>
          <p:cNvSpPr/>
          <p:nvPr/>
        </p:nvSpPr>
        <p:spPr>
          <a:xfrm flipV="1">
            <a:off x="3733920" y="4540320"/>
            <a:ext cx="759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3429000" y="4997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 flipH="1">
            <a:off x="2514600" y="4997520"/>
            <a:ext cx="914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2286000" y="4844880"/>
            <a:ext cx="304920" cy="2286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 flipV="1">
            <a:off x="2438280" y="4464000"/>
            <a:ext cx="3049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H="1">
            <a:off x="2057400" y="499752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H="1" flipV="1">
            <a:off x="2285640" y="476856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H="1" flipV="1">
            <a:off x="1752480" y="4006800"/>
            <a:ext cx="609840" cy="838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1752480" y="3854520"/>
            <a:ext cx="304920" cy="2286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1981080" y="3549600"/>
            <a:ext cx="6098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H="1">
            <a:off x="1447560" y="39304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 flipV="1">
            <a:off x="1981080" y="3625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 flipV="1">
            <a:off x="1981080" y="2787480"/>
            <a:ext cx="0" cy="914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6"/>
          <p:cNvSpPr/>
          <p:nvPr/>
        </p:nvSpPr>
        <p:spPr>
          <a:xfrm>
            <a:off x="1828800" y="2558880"/>
            <a:ext cx="304920" cy="2286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7"/>
          <p:cNvSpPr/>
          <p:nvPr/>
        </p:nvSpPr>
        <p:spPr>
          <a:xfrm flipH="1" flipV="1">
            <a:off x="1447560" y="2482560"/>
            <a:ext cx="53316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8"/>
          <p:cNvSpPr/>
          <p:nvPr/>
        </p:nvSpPr>
        <p:spPr>
          <a:xfrm flipV="1">
            <a:off x="1981080" y="2558880"/>
            <a:ext cx="11430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9"/>
          <p:cNvSpPr/>
          <p:nvPr/>
        </p:nvSpPr>
        <p:spPr>
          <a:xfrm flipV="1">
            <a:off x="1981080" y="2406240"/>
            <a:ext cx="7621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0"/>
          <p:cNvSpPr/>
          <p:nvPr/>
        </p:nvSpPr>
        <p:spPr>
          <a:xfrm flipV="1">
            <a:off x="2057400" y="2178000"/>
            <a:ext cx="1371600" cy="45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3276720" y="2025720"/>
            <a:ext cx="304560" cy="2286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2"/>
          <p:cNvSpPr/>
          <p:nvPr/>
        </p:nvSpPr>
        <p:spPr>
          <a:xfrm>
            <a:off x="5106240" y="4513320"/>
            <a:ext cx="5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0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3"/>
          <p:cNvSpPr/>
          <p:nvPr/>
        </p:nvSpPr>
        <p:spPr>
          <a:xfrm>
            <a:off x="3658320" y="5302080"/>
            <a:ext cx="60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1=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1753560" y="530208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2=2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762840" y="36259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3=3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6"/>
          <p:cNvSpPr/>
          <p:nvPr/>
        </p:nvSpPr>
        <p:spPr>
          <a:xfrm>
            <a:off x="1524960" y="1949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4=4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7"/>
          <p:cNvSpPr/>
          <p:nvPr/>
        </p:nvSpPr>
        <p:spPr>
          <a:xfrm>
            <a:off x="3734640" y="17971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5=5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8"/>
          <p:cNvSpPr/>
          <p:nvPr/>
        </p:nvSpPr>
        <p:spPr>
          <a:xfrm>
            <a:off x="5410080" y="3092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tá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9"/>
          <p:cNvSpPr/>
          <p:nvPr/>
        </p:nvSpPr>
        <p:spPr>
          <a:xfrm>
            <a:off x="7467480" y="4800600"/>
            <a:ext cx="1214640" cy="12142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0"/>
          <p:cNvSpPr/>
          <p:nvPr/>
        </p:nvSpPr>
        <p:spPr>
          <a:xfrm>
            <a:off x="7467480" y="5410080"/>
            <a:ext cx="6098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1"/>
          <p:cNvSpPr/>
          <p:nvPr/>
        </p:nvSpPr>
        <p:spPr>
          <a:xfrm flipV="1">
            <a:off x="7467480" y="4800240"/>
            <a:ext cx="6098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2"/>
          <p:cNvSpPr/>
          <p:nvPr/>
        </p:nvSpPr>
        <p:spPr>
          <a:xfrm>
            <a:off x="7467480" y="54100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3"/>
          <p:cNvSpPr/>
          <p:nvPr/>
        </p:nvSpPr>
        <p:spPr>
          <a:xfrm>
            <a:off x="3352680" y="2635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4"/>
          <p:cNvSpPr/>
          <p:nvPr/>
        </p:nvSpPr>
        <p:spPr>
          <a:xfrm>
            <a:off x="3505320" y="2178000"/>
            <a:ext cx="7617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5"/>
          <p:cNvSpPr/>
          <p:nvPr/>
        </p:nvSpPr>
        <p:spPr>
          <a:xfrm flipH="1" flipV="1">
            <a:off x="3200040" y="194904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6"/>
          <p:cNvSpPr/>
          <p:nvPr/>
        </p:nvSpPr>
        <p:spPr>
          <a:xfrm>
            <a:off x="3505320" y="2178000"/>
            <a:ext cx="5331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7"/>
          <p:cNvSpPr/>
          <p:nvPr/>
        </p:nvSpPr>
        <p:spPr>
          <a:xfrm>
            <a:off x="7315200" y="4038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álculo da resul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Attractor-repulsor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56383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88640" indent="-188640">
              <a:spcBef>
                <a:spcPts val="1375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08600" indent="-15696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o, pois calcula tudo na hora, mas adapta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08600" indent="-15696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de ficar preso em mínimos loc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75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2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4389-27A7-4796-8C77-BFA5B5F110AF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MP_shot4"/>
          <p:cNvPicPr/>
          <p:nvPr/>
        </p:nvPicPr>
        <p:blipFill>
          <a:blip r:embed="rId1"/>
          <a:stretch/>
        </p:blipFill>
        <p:spPr>
          <a:xfrm>
            <a:off x="7086600" y="4800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Potential Fields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781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Método discreto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ada tile do terreno tem um valor de potencial determinado pela influencia 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destino = potencial baixo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obstáculo e ponto de partida = potencial alto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elemento “escorrega” para o potencial mais baix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Barato, pois pré-calcula tudo, mas ruim se obstáculos se movimentam (recalcular)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Pode ficar preso em mínimos locais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ombinar informação local e global via propagação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DF02-CEF2-4374-A94B-C71B853BCB25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Path-Finding reativo (online)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Idéia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 movimentar em direção ao objetivo e pegar outra direção quando esbarrar nos obstácu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Tecnicas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leató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obust tr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CFB2-0A59-4A1C-86FA-A4A41BF85B2E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Path-Finding reativo (online)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Direção aleatória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o esbarrar, move em direção aleatoriamente e tenta de no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blema: obstáculos grandes e cônca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1029" descr=""/>
          <p:cNvPicPr/>
          <p:nvPr/>
        </p:nvPicPr>
        <p:blipFill>
          <a:blip r:embed="rId1"/>
          <a:stretch/>
        </p:blipFill>
        <p:spPr>
          <a:xfrm>
            <a:off x="685800" y="4441680"/>
            <a:ext cx="2838600" cy="1866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31" descr=""/>
          <p:cNvPicPr/>
          <p:nvPr/>
        </p:nvPicPr>
        <p:blipFill>
          <a:blip r:embed="rId2"/>
          <a:stretch/>
        </p:blipFill>
        <p:spPr>
          <a:xfrm>
            <a:off x="4876920" y="3451320"/>
            <a:ext cx="32860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C1C0-874E-4BD2-B5D2-0718702A6390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28" descr=""/>
          <p:cNvPicPr/>
          <p:nvPr/>
        </p:nvPicPr>
        <p:blipFill>
          <a:blip r:embed="rId1"/>
          <a:stretch/>
        </p:blipFill>
        <p:spPr>
          <a:xfrm>
            <a:off x="1371600" y="4008600"/>
            <a:ext cx="2838600" cy="2876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29" descr=""/>
          <p:cNvPicPr/>
          <p:nvPr/>
        </p:nvPicPr>
        <p:blipFill>
          <a:blip r:embed="rId2"/>
          <a:stretch/>
        </p:blipFill>
        <p:spPr>
          <a:xfrm>
            <a:off x="4716360" y="4119480"/>
            <a:ext cx="3133800" cy="23338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Path-Finding reativo (online)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41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Simple Tracing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o esbarrar, segue, em uma direção fixa, “tateando” o obstáculo até contorná-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Problema: quando parar de tatear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Quando mudar de direção, testa se pode andar na direção do alvo sem voltar por onde já passou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Nem sempre funciona...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033"/>
          <p:cNvSpPr/>
          <p:nvPr/>
        </p:nvSpPr>
        <p:spPr>
          <a:xfrm>
            <a:off x="4647240" y="648648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Arial"/>
              </a:rPr>
              <a:t>Tateando sempre à dire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39"/>
          <p:cNvGrpSpPr/>
          <p:nvPr/>
        </p:nvGrpSpPr>
        <p:grpSpPr>
          <a:xfrm>
            <a:off x="6329520" y="5762520"/>
            <a:ext cx="288720" cy="289080"/>
            <a:chOff x="6329520" y="5762520"/>
            <a:chExt cx="288720" cy="289080"/>
          </a:xfrm>
        </p:grpSpPr>
        <p:sp>
          <p:nvSpPr>
            <p:cNvPr id="217" name="Line 1037"/>
            <p:cNvSpPr/>
            <p:nvPr/>
          </p:nvSpPr>
          <p:spPr>
            <a:xfrm>
              <a:off x="6618240" y="5762520"/>
              <a:ext cx="0" cy="289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038"/>
            <p:cNvSpPr/>
            <p:nvPr/>
          </p:nvSpPr>
          <p:spPr>
            <a:xfrm>
              <a:off x="6329520" y="6051600"/>
              <a:ext cx="288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040"/>
          <p:cNvGrpSpPr/>
          <p:nvPr/>
        </p:nvGrpSpPr>
        <p:grpSpPr>
          <a:xfrm>
            <a:off x="5119200" y="5762520"/>
            <a:ext cx="289080" cy="288720"/>
            <a:chOff x="5119200" y="5762520"/>
            <a:chExt cx="289080" cy="288720"/>
          </a:xfrm>
        </p:grpSpPr>
        <p:sp>
          <p:nvSpPr>
            <p:cNvPr id="220" name="Line 1041"/>
            <p:cNvSpPr/>
            <p:nvPr/>
          </p:nvSpPr>
          <p:spPr>
            <a:xfrm flipH="1">
              <a:off x="5119200" y="605124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042"/>
            <p:cNvSpPr/>
            <p:nvPr/>
          </p:nvSpPr>
          <p:spPr>
            <a:xfrm>
              <a:off x="5119200" y="5762520"/>
              <a:ext cx="0" cy="288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043"/>
          <p:cNvGrpSpPr/>
          <p:nvPr/>
        </p:nvGrpSpPr>
        <p:grpSpPr>
          <a:xfrm>
            <a:off x="5118120" y="4536720"/>
            <a:ext cx="288720" cy="289080"/>
            <a:chOff x="5118120" y="4536720"/>
            <a:chExt cx="288720" cy="289080"/>
          </a:xfrm>
        </p:grpSpPr>
        <p:sp>
          <p:nvSpPr>
            <p:cNvPr id="223" name="Line 1044"/>
            <p:cNvSpPr/>
            <p:nvPr/>
          </p:nvSpPr>
          <p:spPr>
            <a:xfrm flipV="1">
              <a:off x="5118120" y="4536720"/>
              <a:ext cx="0" cy="289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045"/>
            <p:cNvSpPr/>
            <p:nvPr/>
          </p:nvSpPr>
          <p:spPr>
            <a:xfrm flipH="1">
              <a:off x="5118120" y="4536720"/>
              <a:ext cx="288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7B4A-74E0-4A5D-AA31-3CB41905ECB3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Path-Finding reativo (online)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Robust tracing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ma vez começado a tatear, se o ponto inicial de bloqueio está entre o objetivo e o agente, ao cruzar com a semi-reta traçada entre a posição original e o objetivo, não para de tat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so volte à posição original, abor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blema: pode tomar muito tempo fazendo trac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Picture 1028" descr=""/>
          <p:cNvPicPr/>
          <p:nvPr/>
        </p:nvPicPr>
        <p:blipFill>
          <a:blip r:embed="rId1"/>
          <a:stretch/>
        </p:blipFill>
        <p:spPr>
          <a:xfrm>
            <a:off x="762120" y="4284720"/>
            <a:ext cx="3276360" cy="2600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29" descr=""/>
          <p:cNvPicPr/>
          <p:nvPr/>
        </p:nvPicPr>
        <p:blipFill>
          <a:blip r:embed="rId2"/>
          <a:stretch/>
        </p:blipFill>
        <p:spPr>
          <a:xfrm>
            <a:off x="4495680" y="4437000"/>
            <a:ext cx="4057920" cy="2257560"/>
          </a:xfrm>
          <a:prstGeom prst="rect">
            <a:avLst/>
          </a:prstGeom>
          <a:ln w="0">
            <a:noFill/>
          </a:ln>
        </p:spPr>
      </p:pic>
      <p:sp>
        <p:nvSpPr>
          <p:cNvPr id="230" name="Line 1030"/>
          <p:cNvSpPr/>
          <p:nvPr/>
        </p:nvSpPr>
        <p:spPr>
          <a:xfrm flipH="1" flipV="1">
            <a:off x="541080" y="5660640"/>
            <a:ext cx="3382920" cy="3603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8990-5E5E-4F5D-9245-0D2A103D1F94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Path-Finding</a:t>
            </a:r>
            <a:br>
              <a:rPr sz="3200"/>
            </a:b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online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Solução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sar simple trace de ca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Quando um loop é detectado, mudar para Robust tr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Infelizmente, 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há situações onde é preciso uma busca intelig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  particular para tratar “pesos de regiões” (estradas, rios, florestas, campos,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1B31-FDFF-4C89-A3F7-2536BFD37001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Path-Finding</a:t>
            </a:r>
            <a:br>
              <a:rPr sz="3200"/>
            </a:b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Buscas Não-Informadas (offline)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50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Estratégias: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usca em largura (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Breadth-first search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usca em profundidade (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usca em profundidade limit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usca de custo uniforme (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Dijkstra’s search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usca em profundidade iter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Direção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ício para m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eta para iní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idirec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792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Busca Gul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0"/>
          <p:cNvGraphicFramePr/>
          <p:nvPr/>
        </p:nvGraphicFramePr>
        <p:xfrm>
          <a:off x="76320" y="2057400"/>
          <a:ext cx="891540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057400"/>
                    <a:ext cx="89154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E1B7-11BE-419F-BB91-3CFC08DDA2BB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Pathfinding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Definição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tenção de um melhor caminho de um ponto inicial para um objetivo de acordo com um ou mais crité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Ex.: tempo, distância, periculosidade dos inimigos, velocidade, ocupação do mapa, etc.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diferente steering behaviors... 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É um dos poucos consensos em termos de AI Eng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225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993300"/>
                </a:solidFill>
                <a:latin typeface="Arial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0"/>
          <p:cNvGraphicFramePr/>
          <p:nvPr/>
        </p:nvGraphicFramePr>
        <p:xfrm>
          <a:off x="88920" y="1981080"/>
          <a:ext cx="89028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981080"/>
                    <a:ext cx="89028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1433-7D5B-40ED-9DB7-E1AA18E1753D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Path-Finding</a:t>
            </a:r>
            <a:br>
              <a:rPr sz="3200"/>
            </a:b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Buscas Informadas (offline)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Estratégias:  A*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bina a busca de custo uniforme (Dijkstra) com best-fir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f(x) = g(x) + h(x), onde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g = o que custou até agora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h = função heurística (o que provavelmente ainda vai custar)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Heurística determina eficiência: quanto mais próximo do real, embora sempre otimista, melh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leto, ótimo e corr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istas Closed (já visitados) e Open (a visitar - fronteir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76D5-4C08-4A52-9F81-C9C0F1213B68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Adaptações de A*  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Mesmo sendo a melhor técnica, A* ainda tem limitações devido aos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quisitos de tempo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imitações de memória disponí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eficiência dos algoritmos de manipulação das listas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Qualidade da funçã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9633-0711-4D38-BFE9-F1D847A802B0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Adaptações de A*  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Alternativas para melhorias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justes para melhorar desempenho/memória </a:t>
            </a:r>
            <a:r>
              <a:rPr b="0" i="1" lang="pt-BR" sz="2400" spc="-1" strike="noStrike">
                <a:solidFill>
                  <a:srgbClr val="996633"/>
                </a:solidFill>
                <a:latin typeface="Tahoma"/>
              </a:rPr>
              <a:t>(visto em 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Iterative Deepening A*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Beam Search – Simplified Memory A* 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Alterações na função h(x)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Algoritmo de Floyd-Warshall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truturas de dad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Representação do campo do jogo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Dados do estado da busca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Melhorias na manipulação das listas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nsformação do espaço de bus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FF13-3059-4D6E-8ADB-068B13833F4E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Estrutura de dados</a:t>
            </a:r>
            <a:br>
              <a:rPr sz="3200"/>
            </a:b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Representação do mapa do jog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Representação das áreas acessíveis de cada ponto e dos esforços para a movimentação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retamente no map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 uma estrutura separada, o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alculadas quando necessá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Representação das características na área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retamente no map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u em uma estrutura separ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F2D2-3B83-49D7-AFCF-B26142ED6851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Estrutura de dados </a:t>
            </a:r>
            <a:br>
              <a:rPr sz="3200"/>
            </a:b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Dados do Estado da Busca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Pode-se incluir no nós, além da estrutura de busca básica,...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ordenadas da posição do ma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tributos relevantes da entidade, como orientação e veloc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usto estimado até o objetivo (ou até o objetivo mais próxim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ferências adicionais para outros nó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próximo elemento, elemento anterior ,“esquerda”, “direita”, ...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A620-D72C-47B4-9DE0-C0DC300A15FE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Melhorias Estéticas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Obter trajetórias mais macias...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er demo de Marco Pi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2676600" y="2952720"/>
            <a:ext cx="3790800" cy="952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2666880" y="4572000"/>
            <a:ext cx="37720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Lembrete das estratégias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66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253B-A2C0-4806-AB8D-5D52049EE817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aixaDeTexto 4"/>
          <p:cNvSpPr/>
          <p:nvPr/>
        </p:nvSpPr>
        <p:spPr>
          <a:xfrm>
            <a:off x="3463920" y="1592280"/>
            <a:ext cx="3124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thf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aixaDeTexto 5"/>
          <p:cNvSpPr/>
          <p:nvPr/>
        </p:nvSpPr>
        <p:spPr>
          <a:xfrm>
            <a:off x="1877040" y="2381400"/>
            <a:ext cx="1044720" cy="398880"/>
          </a:xfrm>
          <a:prstGeom prst="rect">
            <a:avLst/>
          </a:prstGeom>
          <a:solidFill>
            <a:srgbClr val="ffa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aixaDeTexto 6"/>
          <p:cNvSpPr/>
          <p:nvPr/>
        </p:nvSpPr>
        <p:spPr>
          <a:xfrm>
            <a:off x="6593760" y="2384280"/>
            <a:ext cx="1469880" cy="398880"/>
          </a:xfrm>
          <a:prstGeom prst="rect">
            <a:avLst/>
          </a:prstGeom>
          <a:solidFill>
            <a:srgbClr val="ffe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bus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Conector angulado 8"/>
          <p:cNvCxnSpPr>
            <a:stCxn id="267" idx="2"/>
            <a:endCxn id="268" idx="0"/>
          </p:cNvCxnSpPr>
          <p:nvPr/>
        </p:nvCxnSpPr>
        <p:spPr>
          <a:xfrm rot="5400000">
            <a:off x="3517560" y="873000"/>
            <a:ext cx="389880" cy="2627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1" name="Conector angulado 10"/>
          <p:cNvCxnSpPr>
            <a:stCxn id="267" idx="2"/>
            <a:endCxn id="269" idx="0"/>
          </p:cNvCxnSpPr>
          <p:nvPr/>
        </p:nvCxnSpPr>
        <p:spPr>
          <a:xfrm flipH="1" rot="16200000">
            <a:off x="5980680" y="1036080"/>
            <a:ext cx="392760" cy="23043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2" name="CaixaDeTexto 11"/>
          <p:cNvSpPr/>
          <p:nvPr/>
        </p:nvSpPr>
        <p:spPr>
          <a:xfrm>
            <a:off x="152280" y="3213000"/>
            <a:ext cx="2347920" cy="398880"/>
          </a:xfrm>
          <a:prstGeom prst="rect">
            <a:avLst/>
          </a:prstGeom>
          <a:solidFill>
            <a:srgbClr val="ffc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mpos poten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aixaDeTexto 12"/>
          <p:cNvSpPr/>
          <p:nvPr/>
        </p:nvSpPr>
        <p:spPr>
          <a:xfrm>
            <a:off x="2879640" y="3213000"/>
            <a:ext cx="1116360" cy="398880"/>
          </a:xfrm>
          <a:prstGeom prst="rect">
            <a:avLst/>
          </a:prstGeom>
          <a:solidFill>
            <a:srgbClr val="ffc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ç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Conector angulado 14"/>
          <p:cNvCxnSpPr>
            <a:stCxn id="268" idx="2"/>
            <a:endCxn id="272" idx="0"/>
          </p:cNvCxnSpPr>
          <p:nvPr/>
        </p:nvCxnSpPr>
        <p:spPr>
          <a:xfrm rot="5400000">
            <a:off x="1646640" y="2461320"/>
            <a:ext cx="432360" cy="10720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5" name="Conector angulado 16"/>
          <p:cNvCxnSpPr>
            <a:stCxn id="268" idx="2"/>
            <a:endCxn id="273" idx="0"/>
          </p:cNvCxnSpPr>
          <p:nvPr/>
        </p:nvCxnSpPr>
        <p:spPr>
          <a:xfrm flipH="1" rot="16200000">
            <a:off x="2702520" y="2476800"/>
            <a:ext cx="432360" cy="10404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76" name="CaixaDeTexto 17"/>
          <p:cNvSpPr/>
          <p:nvPr/>
        </p:nvSpPr>
        <p:spPr>
          <a:xfrm>
            <a:off x="1337760" y="4000680"/>
            <a:ext cx="1185120" cy="398880"/>
          </a:xfrm>
          <a:prstGeom prst="rect">
            <a:avLst/>
          </a:prstGeom>
          <a:solidFill>
            <a:srgbClr val="ffe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eató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aixaDeTexto 18"/>
          <p:cNvSpPr/>
          <p:nvPr/>
        </p:nvSpPr>
        <p:spPr>
          <a:xfrm>
            <a:off x="2885760" y="4000680"/>
            <a:ext cx="1086120" cy="398880"/>
          </a:xfrm>
          <a:prstGeom prst="rect">
            <a:avLst/>
          </a:prstGeom>
          <a:solidFill>
            <a:srgbClr val="ffe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aixaDeTexto 19"/>
          <p:cNvSpPr/>
          <p:nvPr/>
        </p:nvSpPr>
        <p:spPr>
          <a:xfrm>
            <a:off x="4414680" y="4000680"/>
            <a:ext cx="1130040" cy="398880"/>
          </a:xfrm>
          <a:prstGeom prst="rect">
            <a:avLst/>
          </a:prstGeom>
          <a:solidFill>
            <a:srgbClr val="ffe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bu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Conector angulado 21"/>
          <p:cNvCxnSpPr>
            <a:stCxn id="273" idx="2"/>
            <a:endCxn id="276" idx="0"/>
          </p:cNvCxnSpPr>
          <p:nvPr/>
        </p:nvCxnSpPr>
        <p:spPr>
          <a:xfrm rot="5400000">
            <a:off x="2489760" y="3052800"/>
            <a:ext cx="388080" cy="1508760"/>
          </a:xfrm>
          <a:prstGeom prst="bentConnector3">
            <a:avLst>
              <a:gd name="adj1" fmla="val 49953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0" name="Conector angulado 23"/>
          <p:cNvCxnSpPr>
            <a:stCxn id="273" idx="2"/>
            <a:endCxn id="277" idx="0"/>
          </p:cNvCxnSpPr>
          <p:nvPr/>
        </p:nvCxnSpPr>
        <p:spPr>
          <a:xfrm rot="5400000">
            <a:off x="3239280" y="3802320"/>
            <a:ext cx="388080" cy="10080"/>
          </a:xfrm>
          <a:prstGeom prst="bentConnector3">
            <a:avLst>
              <a:gd name="adj1" fmla="val 49953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1" name="Conector angulado 25"/>
          <p:cNvCxnSpPr>
            <a:stCxn id="273" idx="2"/>
            <a:endCxn id="278" idx="0"/>
          </p:cNvCxnSpPr>
          <p:nvPr/>
        </p:nvCxnSpPr>
        <p:spPr>
          <a:xfrm flipH="1" rot="16200000">
            <a:off x="4015440" y="3035880"/>
            <a:ext cx="388080" cy="1542240"/>
          </a:xfrm>
          <a:prstGeom prst="bentConnector3">
            <a:avLst>
              <a:gd name="adj1" fmla="val 49953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2" name="CaixaDeTexto 26"/>
          <p:cNvSpPr/>
          <p:nvPr/>
        </p:nvSpPr>
        <p:spPr>
          <a:xfrm>
            <a:off x="6261840" y="3208320"/>
            <a:ext cx="790200" cy="398880"/>
          </a:xfrm>
          <a:prstGeom prst="rect">
            <a:avLst/>
          </a:prstGeom>
          <a:solidFill>
            <a:srgbClr val="ffeb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ixaDeTexto 27"/>
          <p:cNvSpPr/>
          <p:nvPr/>
        </p:nvSpPr>
        <p:spPr>
          <a:xfrm>
            <a:off x="7385400" y="3208320"/>
            <a:ext cx="1326600" cy="398880"/>
          </a:xfrm>
          <a:prstGeom prst="rect">
            <a:avLst/>
          </a:prstGeom>
          <a:solidFill>
            <a:srgbClr val="ffeb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or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Conector angulado 29"/>
          <p:cNvCxnSpPr>
            <a:stCxn id="269" idx="2"/>
            <a:endCxn id="282" idx="0"/>
          </p:cNvCxnSpPr>
          <p:nvPr/>
        </p:nvCxnSpPr>
        <p:spPr>
          <a:xfrm rot="5400000">
            <a:off x="6780600" y="2659680"/>
            <a:ext cx="424440" cy="6739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5" name="Conector angulado 31"/>
          <p:cNvCxnSpPr>
            <a:stCxn id="269" idx="2"/>
            <a:endCxn id="283" idx="0"/>
          </p:cNvCxnSpPr>
          <p:nvPr/>
        </p:nvCxnSpPr>
        <p:spPr>
          <a:xfrm flipH="1" rot="16200000">
            <a:off x="7476120" y="2636640"/>
            <a:ext cx="424440" cy="719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6" name="CaixaDeTexto 33"/>
          <p:cNvSpPr/>
          <p:nvPr/>
        </p:nvSpPr>
        <p:spPr>
          <a:xfrm>
            <a:off x="7084800" y="4905360"/>
            <a:ext cx="1948680" cy="1008720"/>
          </a:xfrm>
          <a:prstGeom prst="rect">
            <a:avLst/>
          </a:prstGeom>
          <a:solidFill>
            <a:srgbClr val="fff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ul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riantes de A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Conector de seta reta 37"/>
          <p:cNvCxnSpPr>
            <a:stCxn id="283" idx="2"/>
            <a:endCxn id="286" idx="0"/>
          </p:cNvCxnSpPr>
          <p:nvPr/>
        </p:nvCxnSpPr>
        <p:spPr>
          <a:xfrm>
            <a:off x="8048160" y="3607920"/>
            <a:ext cx="10440" cy="1297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8" name="CaixaDeTexto 38"/>
          <p:cNvSpPr/>
          <p:nvPr/>
        </p:nvSpPr>
        <p:spPr>
          <a:xfrm>
            <a:off x="4932360" y="4933800"/>
            <a:ext cx="1979640" cy="1008720"/>
          </a:xfrm>
          <a:prstGeom prst="rect">
            <a:avLst/>
          </a:prstGeom>
          <a:solidFill>
            <a:srgbClr val="fff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rgura, profundidad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Conector de seta reta 40"/>
          <p:cNvCxnSpPr>
            <a:stCxn id="282" idx="2"/>
            <a:endCxn id="288" idx="0"/>
          </p:cNvCxnSpPr>
          <p:nvPr/>
        </p:nvCxnSpPr>
        <p:spPr>
          <a:xfrm flipH="1">
            <a:off x="5920920" y="3608280"/>
            <a:ext cx="735840" cy="1326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7315200" y="63435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67CD-9487-4CD3-9C31-B4660C3DB3C6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560" y="1676160"/>
            <a:ext cx="81788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3300"/>
                </a:solidFill>
                <a:latin typeface="Tahoma"/>
              </a:rPr>
              <a:t>Transformação do espaço de busca</a:t>
            </a:r>
            <a:endParaRPr b="0" lang="en-US" sz="36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295280" y="4171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3D66-3515-4685-8824-329B55613F4D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Transformação do espaço de busca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Idéia básica: 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usca realizada com “menos estados” para reduzir a complexidade da busca ini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Técnicas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Áreas dsicreta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Hierarquização/agregação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Àreas contínua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Discretização em células (Cell decomposition)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Superposição de grafo de caminhamento (skeletomization)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Pathfinding: motivações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15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plicável para o cálculo de ro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74304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idadão comum: GPS, Google maps, etc.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4304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Meio empresarial: Problemas de logística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4304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Meio militar: Problemas táticos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43040" indent="-343080">
              <a:spcBef>
                <a:spcPts val="1375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Jogos digitais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00240" indent="-343080">
              <a:spcBef>
                <a:spcPts val="125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slocamento dos NP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0240" indent="-343080">
              <a:spcBef>
                <a:spcPts val="125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nálise de terreno e situ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0240" indent="-343080">
              <a:spcBef>
                <a:spcPts val="125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m dos poucos consensos em termos de AI Eng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DF08-31EF-4602-9AA4-D4B584F725F9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7D4A-D6BA-4E73-819E-800AC7FD2DDF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Hierarquização e Agregaçã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Idéia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compor busca inicial em sub-buscas mais simpl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=&gt; agrupar células (quadradinhos) em áreas maiores e fazer a busca hierarquicamente do maior para os men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Divisão do mapa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apa deve ser dividido em grandes áreas contíguas cujas conectividades são conheci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m ou dois “quadradinhos” (células) da borda  entre cada par de áreas adjacentes são escolhi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1F34-F83E-420F-B9F1-C8A6DB2A6AD0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Hierarquização e Agregaçã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Uma sucessão de buscas irá ser realizada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primeira busca irá ser realizada em cima deste novo “espaço com menos quadradinho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s buscas sucessivas, em espaços transformados com mais “quadradinhos”, evitam iterações desnecessárias determinadas pelas buscas anteri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DFFA-88FB-4E5E-8D5C-9008CC7F215C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Hierarquização e Agregaçã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Exemplo: determinar a melhor rota terrestre entre Madri e Atenas utilizando o mapa da Europa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ada país pode ser considerado uma á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ntos nas bordas (fronteiras) dos países são definidos para a primeira bus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elhor rota na primeira iteração: Espanha - França - Itália - Iugoslávia - Gré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primeira iteração evita que a bota correspondente à Itália seja incluída nos próximos passos da sequência hierárquica de bus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B709-AF1F-4B1F-8823-1840AF31FFB6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Hierarquização e Agregaçã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pic>
        <p:nvPicPr>
          <p:cNvPr id="307" name="Picture 3" descr="europa2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D7CD-4D88-40D3-A6E6-6D0DD6440CD5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Discretização de Espaço Contínu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E se o jogo for em um espaço contínuo (não baseado em tiles)? 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2 abordagens vindas do planejamento de movimento de robôs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ell decom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keleto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Picture 4" descr="path_fig11a"/>
          <p:cNvPicPr/>
          <p:nvPr/>
        </p:nvPicPr>
        <p:blipFill>
          <a:blip r:embed="rId1"/>
          <a:stretch/>
        </p:blipFill>
        <p:spPr>
          <a:xfrm>
            <a:off x="4876920" y="3124080"/>
            <a:ext cx="35478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1B7F-37E1-4CBB-8282-B77BE0894A34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Discretização de Espaço Contínu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Cell decomposition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scretização em células menores (idênticas ou não) e fixação 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spots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(pontos no “centro” das células) que serão ligados formando um grafo de caminh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emplos: tiles, tiras, células cilíndricas, quadtrees,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465A-A407-4AB1-82E5-DA2FBD384C30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Discretização de Espaço Contínu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Tiles 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vidir o espaço em “ladrilhos” de resolução pré-defin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adrilhos inseridos total ou parcialmente em obstáculos são marcados como bloque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ermite movimento sem risco de colis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blema: difícil ajustar a granular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FEB7-D25B-400B-BCD7-EEC5ED11153A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Discretização de Espaço Contínu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pic>
        <p:nvPicPr>
          <p:cNvPr id="320" name="Picture 3" descr="path_fig11b"/>
          <p:cNvPicPr/>
          <p:nvPr/>
        </p:nvPicPr>
        <p:blipFill>
          <a:blip r:embed="rId1"/>
          <a:stretch/>
        </p:blipFill>
        <p:spPr>
          <a:xfrm>
            <a:off x="2590920" y="2400480"/>
            <a:ext cx="3962160" cy="39240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4"/>
          <p:cNvSpPr/>
          <p:nvPr/>
        </p:nvSpPr>
        <p:spPr>
          <a:xfrm>
            <a:off x="3456000" y="1828800"/>
            <a:ext cx="237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iles (ladrilh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C5FC-486F-47E9-93AE-728844FAE0AB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Discretização de Espaço Contínu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Quadtrees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espaço é dividido em quadrados (ti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ada quadrado que não é suficientemente homogêneo é recursivamente dividido em quatro quadr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s centros dos quadrados homogêneos que não estão em obstáculos são usados pela busca (spo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giões das bordas dos obstáculos são consideradas bloque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4F7A-0456-47C0-B96F-306AD7D3DF00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Discretização de Espaço Contínu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4114800" y="160020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d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path_fig11e"/>
          <p:cNvPicPr/>
          <p:nvPr/>
        </p:nvPicPr>
        <p:blipFill>
          <a:blip r:embed="rId1"/>
          <a:stretch/>
        </p:blipFill>
        <p:spPr>
          <a:xfrm>
            <a:off x="3809880" y="2421000"/>
            <a:ext cx="4125960" cy="4086000"/>
          </a:xfrm>
          <a:prstGeom prst="rect">
            <a:avLst/>
          </a:prstGeom>
          <a:ln w="0">
            <a:noFill/>
          </a:ln>
        </p:spPr>
      </p:pic>
      <p:sp>
        <p:nvSpPr>
          <p:cNvPr id="329" name="Line 5"/>
          <p:cNvSpPr/>
          <p:nvPr/>
        </p:nvSpPr>
        <p:spPr>
          <a:xfrm>
            <a:off x="304920" y="31240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973080" y="2906640"/>
            <a:ext cx="26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bdivisão do espa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"/>
          <p:cNvSpPr/>
          <p:nvPr/>
        </p:nvSpPr>
        <p:spPr>
          <a:xfrm>
            <a:off x="304920" y="3630600"/>
            <a:ext cx="5331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972720" y="341316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Grafo (az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B1BB-7618-41D3-9C17-BB512292AA72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Pathfinding: jogos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Ainda não é um problema resolvido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ave Pottinger: “AOE2 gasta 60-70% do tempo de simulação fazendo pathfinding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Dificuldades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vitar obstáculos, sobretudo os largos e cônca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evar em conta os pesos (tipos de terren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ferentes critérios (mais curto, mais seguro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emória e tempo de processamento em função 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tamanho do terreno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número de unidades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número de jogadores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201C-174D-41D5-84FE-9B723BC139DA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Discretização de Espaço Contínu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Tiras verticais ou horizontais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dimensão em um dos eixos (x ou y) se expande até “esbarrar” em um obstácu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blema: sobram espaços que, no entanto, não podem ser usados para mano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5" descr="tiras"/>
          <p:cNvPicPr/>
          <p:nvPr/>
        </p:nvPicPr>
        <p:blipFill>
          <a:blip r:embed="rId1"/>
          <a:stretch/>
        </p:blipFill>
        <p:spPr>
          <a:xfrm>
            <a:off x="2195640" y="3859200"/>
            <a:ext cx="51163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AC44-13A5-4B25-883D-CFD12BF7E13C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Discretização de Espaço Contínu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Skeletomization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uperposição de um grafo de caminhamento diretamente em função dos obstácu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s buscas consideram apenas os caminhos do gra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emplos: manual (waypoints), grafo de visibilidade, polígonos convexos, diagrama de Voronoi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0D0A-FADA-4771-9A2E-72A2507E94A8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Discretização de Espaço Contínu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Pontos de visibilidade 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ão os pontos críticos (quinas dos obstáculos) mas com uma folga para evitar colis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s caminhos possíveis (conexões) definidos entre os pontos críticos visíveis entre 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ou seja... não deve existir obstáculos entre estes pontos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5988-3A8F-4F30-8401-24B13F1E1B45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Discretização de Espaço Contínu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2743200" y="182880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ntos de Visi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path_fig11c"/>
          <p:cNvPicPr/>
          <p:nvPr/>
        </p:nvPicPr>
        <p:blipFill>
          <a:blip r:embed="rId1"/>
          <a:stretch/>
        </p:blipFill>
        <p:spPr>
          <a:xfrm>
            <a:off x="2666880" y="2395440"/>
            <a:ext cx="3969000" cy="3929040"/>
          </a:xfrm>
          <a:prstGeom prst="rect">
            <a:avLst/>
          </a:prstGeom>
          <a:ln w="0">
            <a:noFill/>
          </a:ln>
        </p:spPr>
      </p:pic>
      <p:sp>
        <p:nvSpPr>
          <p:cNvPr id="347" name="Line 6"/>
          <p:cNvSpPr/>
          <p:nvPr/>
        </p:nvSpPr>
        <p:spPr>
          <a:xfrm>
            <a:off x="304920" y="3630600"/>
            <a:ext cx="5331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972720" y="341316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Grafo (az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DD7C-5159-4994-A307-B263030C089A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Discretização de Espaço Contínu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Polígonos convexos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sso ini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Quebrar o espaço (sem obstáculos) em polígonos convexos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partir daí define os spots segundo 2 técn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Tahoma"/>
              </a:rPr>
              <a:t>C-Cells: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 cada vértice é conectado ao ao vértice mais próximo subdividindo o espaço em polígonos cujos centroides serão os spots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Tahoma"/>
              </a:rPr>
              <a:t>Maximum-area decomposition: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 similar mas os spots estão no meio das arestas que ligam os vértices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DF53-91FE-4012-8B40-FA89A3AEBFCB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Discretização de Espaço Contínu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pic>
        <p:nvPicPr>
          <p:cNvPr id="354" name="Picture 6" descr="path_fig11d"/>
          <p:cNvPicPr/>
          <p:nvPr/>
        </p:nvPicPr>
        <p:blipFill>
          <a:blip r:embed="rId1"/>
          <a:stretch/>
        </p:blipFill>
        <p:spPr>
          <a:xfrm>
            <a:off x="4572000" y="2401920"/>
            <a:ext cx="3962520" cy="392256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4648320" y="1828800"/>
            <a:ext cx="3962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lígonos Conve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8"/>
          <p:cNvSpPr/>
          <p:nvPr/>
        </p:nvSpPr>
        <p:spPr>
          <a:xfrm>
            <a:off x="304920" y="31240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973080" y="2906640"/>
            <a:ext cx="26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bdivisão do espa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304920" y="3630600"/>
            <a:ext cx="5331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970920" y="3413160"/>
            <a:ext cx="264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Grafo (azul) segu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Maximum-ar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decomposi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4D24-FBE7-4409-AA42-F1F56589BF15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Colaboração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duardo Calabria (egc@cin.ufpe.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duardo Laureano (eagcl@cin.ufpe.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harles Madeira (Charles.MADEIRA@poleia.lip6.f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7217-B541-41CB-BAD5-294463B09434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Bibliografia &amp; Links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25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Russel &amp; Norvig: </a:t>
            </a: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AIMA (cap 4, 5 e 25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125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Bryan Stout, </a:t>
            </a: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Smart Moves: Intelligent Path-Finding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http://www.gamasutra.com/features/programming/080197/pathfinding.ht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demo: ftp://ftp.</a:t>
            </a:r>
            <a:r>
              <a:rPr b="0" lang="pt-BR" sz="16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gdmag.com/pub/src/oct96.z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125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Game AI: </a:t>
            </a: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The State of Indust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http://www.gamasutra.com/features/20001101/woodcock_pfv.ht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125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Stefan Baert, </a:t>
            </a:r>
            <a:r>
              <a:rPr b="1" i="1" lang="pt-BR" sz="1800" spc="-1" strike="noStrike">
                <a:solidFill>
                  <a:srgbClr val="000000"/>
                </a:solidFill>
                <a:latin typeface="Tahoma"/>
              </a:rPr>
              <a:t>Motion Planning Using Potential Field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http://www.gamedev.net/reference/articles/article1125.as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125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Amit Patel, Amit´s Thoughts on Pathfinding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http://theory.stanford.edu/~amit/GameProgramming/index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125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Marco Pinter, Toward More Realistic Pathfinding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http://www.gamasutra.com/features/200103014/pinter_01.ht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063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ahoma"/>
              </a:rPr>
              <a:t>Paul Tozour, Influence Mapping, in (ed) Mark Deloura, Game Programming Gems II.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9053-E9C2-4353-B9B6-454BC2EA6F44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Image1"/>
          <p:cNvPicPr/>
          <p:nvPr/>
        </p:nvPicPr>
        <p:blipFill>
          <a:blip r:embed="rId1"/>
          <a:stretch/>
        </p:blipFill>
        <p:spPr>
          <a:xfrm>
            <a:off x="1447920" y="2495520"/>
            <a:ext cx="6495840" cy="4210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Pathfinding: </a:t>
            </a:r>
            <a:r>
              <a:rPr b="0" lang="en-US" sz="3000" spc="-1" strike="noStrike">
                <a:solidFill>
                  <a:srgbClr val="993300"/>
                </a:solidFill>
                <a:latin typeface="Arial Black"/>
              </a:rPr>
              <a:t>Exemplo</a:t>
            </a:r>
            <a:endParaRPr b="0" lang="en-US" sz="30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poléon en Russie - V. Corruble (LIP6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minho mais cur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89120" y="28954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í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950720" y="51814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5105520" y="5486400"/>
            <a:ext cx="5331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1981080" y="2666880"/>
            <a:ext cx="5335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5332-0FD1-4CBB-A322-4E118BD2DEA2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Pathfinding: </a:t>
            </a:r>
            <a:r>
              <a:rPr b="0" lang="en-US" sz="3000" spc="-1" strike="noStrike">
                <a:solidFill>
                  <a:srgbClr val="993300"/>
                </a:solidFill>
                <a:latin typeface="Arial Black"/>
              </a:rPr>
              <a:t>Exemplo</a:t>
            </a:r>
            <a:endParaRPr b="0" lang="en-US" sz="30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poléon en Russie - V. Corruble (LIP6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minho menos visí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Image2"/>
          <p:cNvPicPr/>
          <p:nvPr/>
        </p:nvPicPr>
        <p:blipFill>
          <a:blip r:embed="rId1"/>
          <a:stretch/>
        </p:blipFill>
        <p:spPr>
          <a:xfrm>
            <a:off x="1371600" y="2448000"/>
            <a:ext cx="65818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E8EB-7D14-44BA-A00F-2902E3C7506B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Pathfinding: </a:t>
            </a:r>
            <a:r>
              <a:rPr b="0" lang="en-US" sz="3000" spc="-1" strike="noStrike">
                <a:solidFill>
                  <a:srgbClr val="993300"/>
                </a:solidFill>
                <a:latin typeface="Arial Black"/>
              </a:rPr>
              <a:t>Exemplo</a:t>
            </a:r>
            <a:endParaRPr b="0" lang="en-US" sz="30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poléon en Russie - V. Corruble (LIP6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minho mais segu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Image4"/>
          <p:cNvPicPr/>
          <p:nvPr/>
        </p:nvPicPr>
        <p:blipFill>
          <a:blip r:embed="rId1"/>
          <a:stretch/>
        </p:blipFill>
        <p:spPr>
          <a:xfrm>
            <a:off x="1295280" y="2438280"/>
            <a:ext cx="66675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Path-Finding - Estratégias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119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00CC-C7D2-4A97-94D8-BCBEC44BAECF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ixaDeTexto 4"/>
          <p:cNvSpPr/>
          <p:nvPr/>
        </p:nvSpPr>
        <p:spPr>
          <a:xfrm>
            <a:off x="3463920" y="1592280"/>
            <a:ext cx="3124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thf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ixaDeTexto 5"/>
          <p:cNvSpPr/>
          <p:nvPr/>
        </p:nvSpPr>
        <p:spPr>
          <a:xfrm>
            <a:off x="1877040" y="2381400"/>
            <a:ext cx="1044720" cy="398880"/>
          </a:xfrm>
          <a:prstGeom prst="rect">
            <a:avLst/>
          </a:prstGeom>
          <a:solidFill>
            <a:srgbClr val="ffa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ixaDeTexto 6"/>
          <p:cNvSpPr/>
          <p:nvPr/>
        </p:nvSpPr>
        <p:spPr>
          <a:xfrm>
            <a:off x="6593760" y="2384280"/>
            <a:ext cx="1469880" cy="398880"/>
          </a:xfrm>
          <a:prstGeom prst="rect">
            <a:avLst/>
          </a:prstGeom>
          <a:solidFill>
            <a:srgbClr val="ffe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bus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Conector angulado 8"/>
          <p:cNvCxnSpPr>
            <a:stCxn id="120" idx="2"/>
            <a:endCxn id="121" idx="0"/>
          </p:cNvCxnSpPr>
          <p:nvPr/>
        </p:nvCxnSpPr>
        <p:spPr>
          <a:xfrm rot="5400000">
            <a:off x="3517560" y="873000"/>
            <a:ext cx="389880" cy="2627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4" name="Conector angulado 10"/>
          <p:cNvCxnSpPr>
            <a:stCxn id="120" idx="2"/>
            <a:endCxn id="122" idx="0"/>
          </p:cNvCxnSpPr>
          <p:nvPr/>
        </p:nvCxnSpPr>
        <p:spPr>
          <a:xfrm flipH="1" rot="16200000">
            <a:off x="5980680" y="1036080"/>
            <a:ext cx="392760" cy="23043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5" name="CaixaDeTexto 11"/>
          <p:cNvSpPr/>
          <p:nvPr/>
        </p:nvSpPr>
        <p:spPr>
          <a:xfrm>
            <a:off x="152280" y="3213000"/>
            <a:ext cx="2347920" cy="398880"/>
          </a:xfrm>
          <a:prstGeom prst="rect">
            <a:avLst/>
          </a:prstGeom>
          <a:solidFill>
            <a:srgbClr val="ffc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mpos poten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ixaDeTexto 12"/>
          <p:cNvSpPr/>
          <p:nvPr/>
        </p:nvSpPr>
        <p:spPr>
          <a:xfrm>
            <a:off x="2879640" y="3213000"/>
            <a:ext cx="1116360" cy="398880"/>
          </a:xfrm>
          <a:prstGeom prst="rect">
            <a:avLst/>
          </a:prstGeom>
          <a:solidFill>
            <a:srgbClr val="ffc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ç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Conector angulado 14"/>
          <p:cNvCxnSpPr>
            <a:stCxn id="121" idx="2"/>
            <a:endCxn id="125" idx="0"/>
          </p:cNvCxnSpPr>
          <p:nvPr/>
        </p:nvCxnSpPr>
        <p:spPr>
          <a:xfrm rot="5400000">
            <a:off x="1646640" y="2461320"/>
            <a:ext cx="432360" cy="10720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8" name="Conector angulado 16"/>
          <p:cNvCxnSpPr>
            <a:stCxn id="121" idx="2"/>
            <a:endCxn id="126" idx="0"/>
          </p:cNvCxnSpPr>
          <p:nvPr/>
        </p:nvCxnSpPr>
        <p:spPr>
          <a:xfrm flipH="1" rot="16200000">
            <a:off x="2702520" y="2476800"/>
            <a:ext cx="432360" cy="10404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9" name="CaixaDeTexto 17"/>
          <p:cNvSpPr/>
          <p:nvPr/>
        </p:nvSpPr>
        <p:spPr>
          <a:xfrm>
            <a:off x="1337760" y="4000680"/>
            <a:ext cx="1185120" cy="398880"/>
          </a:xfrm>
          <a:prstGeom prst="rect">
            <a:avLst/>
          </a:prstGeom>
          <a:solidFill>
            <a:srgbClr val="ffe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eató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ixaDeTexto 18"/>
          <p:cNvSpPr/>
          <p:nvPr/>
        </p:nvSpPr>
        <p:spPr>
          <a:xfrm>
            <a:off x="2885760" y="4000680"/>
            <a:ext cx="1086120" cy="398880"/>
          </a:xfrm>
          <a:prstGeom prst="rect">
            <a:avLst/>
          </a:prstGeom>
          <a:solidFill>
            <a:srgbClr val="ffe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ixaDeTexto 19"/>
          <p:cNvSpPr/>
          <p:nvPr/>
        </p:nvSpPr>
        <p:spPr>
          <a:xfrm>
            <a:off x="4414680" y="4000680"/>
            <a:ext cx="1130040" cy="398880"/>
          </a:xfrm>
          <a:prstGeom prst="rect">
            <a:avLst/>
          </a:prstGeom>
          <a:solidFill>
            <a:srgbClr val="ffe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bu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Conector angulado 21"/>
          <p:cNvCxnSpPr>
            <a:stCxn id="126" idx="2"/>
            <a:endCxn id="129" idx="0"/>
          </p:cNvCxnSpPr>
          <p:nvPr/>
        </p:nvCxnSpPr>
        <p:spPr>
          <a:xfrm rot="5400000">
            <a:off x="2489760" y="3052800"/>
            <a:ext cx="388080" cy="1508760"/>
          </a:xfrm>
          <a:prstGeom prst="bentConnector3">
            <a:avLst>
              <a:gd name="adj1" fmla="val 49953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3" name="Conector angulado 23"/>
          <p:cNvCxnSpPr>
            <a:stCxn id="126" idx="2"/>
            <a:endCxn id="130" idx="0"/>
          </p:cNvCxnSpPr>
          <p:nvPr/>
        </p:nvCxnSpPr>
        <p:spPr>
          <a:xfrm rot="5400000">
            <a:off x="3239280" y="3802320"/>
            <a:ext cx="388080" cy="10080"/>
          </a:xfrm>
          <a:prstGeom prst="bentConnector3">
            <a:avLst>
              <a:gd name="adj1" fmla="val 49953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4" name="Conector angulado 25"/>
          <p:cNvCxnSpPr>
            <a:stCxn id="126" idx="2"/>
            <a:endCxn id="131" idx="0"/>
          </p:cNvCxnSpPr>
          <p:nvPr/>
        </p:nvCxnSpPr>
        <p:spPr>
          <a:xfrm flipH="1" rot="16200000">
            <a:off x="4015440" y="3035880"/>
            <a:ext cx="388080" cy="1542240"/>
          </a:xfrm>
          <a:prstGeom prst="bentConnector3">
            <a:avLst>
              <a:gd name="adj1" fmla="val 49953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5" name="CaixaDeTexto 26"/>
          <p:cNvSpPr/>
          <p:nvPr/>
        </p:nvSpPr>
        <p:spPr>
          <a:xfrm>
            <a:off x="6261840" y="3208320"/>
            <a:ext cx="790200" cy="398880"/>
          </a:xfrm>
          <a:prstGeom prst="rect">
            <a:avLst/>
          </a:prstGeom>
          <a:solidFill>
            <a:srgbClr val="ffeb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ixaDeTexto 27"/>
          <p:cNvSpPr/>
          <p:nvPr/>
        </p:nvSpPr>
        <p:spPr>
          <a:xfrm>
            <a:off x="7385400" y="3208320"/>
            <a:ext cx="1326600" cy="398880"/>
          </a:xfrm>
          <a:prstGeom prst="rect">
            <a:avLst/>
          </a:prstGeom>
          <a:solidFill>
            <a:srgbClr val="ffeb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or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Conector angulado 29"/>
          <p:cNvCxnSpPr>
            <a:stCxn id="122" idx="2"/>
            <a:endCxn id="135" idx="0"/>
          </p:cNvCxnSpPr>
          <p:nvPr/>
        </p:nvCxnSpPr>
        <p:spPr>
          <a:xfrm rot="5400000">
            <a:off x="6780600" y="2659680"/>
            <a:ext cx="424440" cy="6739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8" name="Conector angulado 31"/>
          <p:cNvCxnSpPr>
            <a:stCxn id="122" idx="2"/>
            <a:endCxn id="136" idx="0"/>
          </p:cNvCxnSpPr>
          <p:nvPr/>
        </p:nvCxnSpPr>
        <p:spPr>
          <a:xfrm flipH="1" rot="16200000">
            <a:off x="7476120" y="2636640"/>
            <a:ext cx="424440" cy="719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9" name="CaixaDeTexto 33"/>
          <p:cNvSpPr/>
          <p:nvPr/>
        </p:nvSpPr>
        <p:spPr>
          <a:xfrm>
            <a:off x="7084800" y="4905360"/>
            <a:ext cx="1948680" cy="1008720"/>
          </a:xfrm>
          <a:prstGeom prst="rect">
            <a:avLst/>
          </a:prstGeom>
          <a:solidFill>
            <a:srgbClr val="fff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ul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riantes de A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Conector de seta reta 37"/>
          <p:cNvCxnSpPr>
            <a:stCxn id="136" idx="2"/>
            <a:endCxn id="139" idx="0"/>
          </p:cNvCxnSpPr>
          <p:nvPr/>
        </p:nvCxnSpPr>
        <p:spPr>
          <a:xfrm>
            <a:off x="8048160" y="3607920"/>
            <a:ext cx="10440" cy="1297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CaixaDeTexto 38"/>
          <p:cNvSpPr/>
          <p:nvPr/>
        </p:nvSpPr>
        <p:spPr>
          <a:xfrm>
            <a:off x="4932360" y="4933800"/>
            <a:ext cx="1979640" cy="1008720"/>
          </a:xfrm>
          <a:prstGeom prst="rect">
            <a:avLst/>
          </a:prstGeom>
          <a:solidFill>
            <a:srgbClr val="fff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rgura, profundidad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Conector de seta reta 40"/>
          <p:cNvCxnSpPr>
            <a:stCxn id="135" idx="2"/>
            <a:endCxn id="141" idx="0"/>
          </p:cNvCxnSpPr>
          <p:nvPr/>
        </p:nvCxnSpPr>
        <p:spPr>
          <a:xfrm flipH="1">
            <a:off x="5920920" y="3608280"/>
            <a:ext cx="735840" cy="1326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ço Reservado para Número de Slide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8E0B-E243-4D15-8B97-C57657282931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 Black"/>
              </a:rPr>
              <a:t>Campos potenciais</a:t>
            </a:r>
            <a:endParaRPr b="0" lang="en-US" sz="3200" spc="-1" strike="noStrike">
              <a:solidFill>
                <a:srgbClr val="9933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Usa o princípio de campo gravitacional para determinar a direção do movimento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lvo tem campo gravitacional atr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stáculos têm campo gravitacional repuls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62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Duas abordagens para</a:t>
            </a:r>
            <a:endParaRPr b="1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ma vetorial (Attractor-repuls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online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tential fields ou método grad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996633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Pré-calculado e marcado no terreno</a:t>
            </a:r>
            <a:endParaRPr b="0" i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42:03Z</dcterms:created>
  <dc:creator>Geber</dc:creator>
  <dc:description/>
  <dc:language>en-US</dc:language>
  <cp:lastModifiedBy>Geber</cp:lastModifiedBy>
  <dcterms:modified xsi:type="dcterms:W3CDTF">2013-12-10T14:48:30Z</dcterms:modified>
  <cp:revision>51</cp:revision>
  <dc:subject/>
  <dc:title>Análise de Terreno e Pathfinding</dc:title>
</cp:coreProperties>
</file>