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1AB-E274-4BB2-A395-02B54CDC6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4767-753B-4B8C-8E96-03CCDA5D2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1AB6-1AFA-4508-B997-BB1F1127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525A-7F8F-4CE6-A6E6-2B963090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DA92-6EFE-41DD-9878-D9EC957FB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D18-9A18-4FF0-B4CD-76E93564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3F0-B619-4C93-9735-BE4E72AE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6B7-9215-4782-B8F2-6D8E12D7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231-6F89-4CD5-866C-BA46E1A8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0FA-6D4C-4DDC-94E2-6CDF0CB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693-2A9C-488E-AEF6-CEE6BF2E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46A-17B3-4D01-BD89-82417676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34E-AE83-411E-96F2-FDEDDCB9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E70-C52F-4139-B16C-921DBDE6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71F-7C5C-4DB4-9864-084E344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6DA-DD24-4675-A7DE-F465C38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343-8150-478D-8B91-4BFDBF0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9114-8372-4B3E-986B-3B5EFDA3A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racle.com/technetwork/java/javase/downloads/jdk6-jsp-136632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9720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ão Geral da Plataform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ava Micro E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Introducao - Java Platform"/>
          <p:cNvPicPr/>
          <p:nvPr/>
        </p:nvPicPr>
        <p:blipFill>
          <a:blip r:embed="rId1"/>
          <a:stretch/>
        </p:blipFill>
        <p:spPr>
          <a:xfrm>
            <a:off x="2314440" y="2090880"/>
            <a:ext cx="4705560" cy="3929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311560" y="155736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taform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nec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junto de bibliotec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apacidades da máquina virtu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ais básicos para uma família de dispositiv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uma plataforma para um segment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orizont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luem um conjunto básico de classes Ja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ão especificadas pela J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nected Device Configuration (C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ositivos com ampla variação de capacidade computac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As, TV Set-top boxes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ositivos com capacidade computacional limit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figuração específica para que uma plataforma Java execute em dispositivos com limitações de memória, processamento e gráfic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z melhorias com relação à CLDC 1.0, dentre e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Adição de Ponto Flutua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Memória mínima de 162Kb para 192K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 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cotes herdades de J2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l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ut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otes específicos do CL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x.microedition.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 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eçã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m Java que dá suporte a um grupo específico de dispositiv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uma plataforma para um segment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tic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l objetivo é garantir interoperabilidade entre dispositivos de um mesmo gru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, entre outras cois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clo de vida da aplica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istênci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face com o usuári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ectividad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quisitos de hardwa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ras AP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P 2.0: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x.microedition.lcdui.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1403280" y="5013360"/>
            <a:ext cx="6050160" cy="1728720"/>
            <a:chOff x="1403280" y="5013360"/>
            <a:chExt cx="6050160" cy="1728720"/>
          </a:xfrm>
        </p:grpSpPr>
        <p:sp>
          <p:nvSpPr>
            <p:cNvPr id="103" name="Rectangle 6"/>
            <p:cNvSpPr/>
            <p:nvPr/>
          </p:nvSpPr>
          <p:spPr>
            <a:xfrm>
              <a:off x="1403280" y="5302080"/>
              <a:ext cx="424980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5940360" y="5302080"/>
              <a:ext cx="15130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2578320" y="5518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650600" y="6310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3085560" y="6310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4169880" y="5518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4251600" y="6310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AutoShape 13"/>
            <p:cNvCxnSpPr>
              <a:stCxn id="106" idx="0"/>
              <a:endCxn id="105" idx="2"/>
            </p:cNvCxnSpPr>
            <p:nvPr/>
          </p:nvCxnSpPr>
          <p:spPr>
            <a:xfrm flipH="1" flipV="1" rot="5400000">
              <a:off x="2231640" y="5677560"/>
              <a:ext cx="508680" cy="75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AutoShape 14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2870280" y="5794200"/>
              <a:ext cx="508680" cy="523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15"/>
            <p:cNvCxnSpPr>
              <a:stCxn id="105" idx="3"/>
              <a:endCxn id="108" idx="1"/>
            </p:cNvCxnSpPr>
            <p:nvPr/>
          </p:nvCxnSpPr>
          <p:spPr>
            <a:xfrm>
              <a:off x="3171960" y="5660640"/>
              <a:ext cx="96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Text Box 16"/>
            <p:cNvSpPr/>
            <p:nvPr/>
          </p:nvSpPr>
          <p:spPr>
            <a:xfrm>
              <a:off x="3140280" y="5445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1418040" y="5013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6342480" y="6310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AutoShape 19"/>
            <p:cNvCxnSpPr>
              <a:stCxn id="109" idx="3"/>
              <a:endCxn id="115" idx="1"/>
            </p:cNvCxnSpPr>
            <p:nvPr/>
          </p:nvCxnSpPr>
          <p:spPr>
            <a:xfrm>
              <a:off x="5409720" y="6452640"/>
              <a:ext cx="903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Text Box 20"/>
            <p:cNvSpPr/>
            <p:nvPr/>
          </p:nvSpPr>
          <p:spPr>
            <a:xfrm>
              <a:off x="5953320" y="5013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6188040" y="5518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AutoShape 22"/>
            <p:cNvCxnSpPr>
              <a:stCxn id="115" idx="0"/>
              <a:endCxn id="118" idx="2"/>
            </p:cNvCxnSpPr>
            <p:nvPr/>
          </p:nvCxnSpPr>
          <p:spPr>
            <a:xfrm flipH="1" flipV="1" rot="5400000">
              <a:off x="6436440" y="6054840"/>
              <a:ext cx="5086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A: Mobile Service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28600" y="1544760"/>
            <a:ext cx="86644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uma aplicação MID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ui uma classe Java que extende a class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MIDle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controla o ciclo de vida da aplicação, implementando os método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ause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gerenciado pelo Java Application Manager (JAM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licação que acompanha a implementação do MIDP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a instalação, execução e remoção de MIDle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ta erros ocorridos durante instalação e execu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3026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ula 1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Introdução a Java Micro Ed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clo de Vida de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30400" y="2527200"/>
            <a:ext cx="1905120" cy="5335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535720" y="3654360"/>
            <a:ext cx="1904760" cy="5335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30400" y="4721400"/>
            <a:ext cx="1905120" cy="53316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935520" y="502596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6450120" y="41878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3935520" y="28162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6450120" y="28162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V="1">
            <a:off x="2992320" y="1676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2639880" y="304452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3325680" y="304452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24240" y="3654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pause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695480" y="23590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destroy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4695480" y="5102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destroy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1114560" y="3654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start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097080" y="182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ne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let 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arquivos empacotados num J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 possuir pelo menos um MID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 contém arquivos .class, recursos e manif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ava Application Descriptor (JA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quivo texto que descreve uma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do pela JAM para fazer verificações antes de baixar a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ém usado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r proprieda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let Suite e Descrit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427640" y="4869000"/>
            <a:ext cx="4537080" cy="1584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1: AloMundo, ,br.ufpe.cin.j2me.MyMID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Name: Alo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Vendor: CIn UF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Jar-URL: HelloWorld.j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SE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acle.com/technetwork/java/javase/downloads/jdk6-jsp-13663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ME SDK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oracle.com/technetwork/java/javame/downloads/sdk30-jsp-139759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Wireless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oracle.com/technetwork/java/index-jsp-13716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lipse + Eclipse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clipse.org/downloads/index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eclipseme.org/docs/installation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DKs dos fabric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bbe0e3"/>
                </a:solidFill>
                <a:latin typeface="Arial"/>
              </a:rPr>
              <a:t>http://forum.nokia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developer.motorola.com/docstools/sdk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yEricss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developer.sonyericsson.com/site/global/home/p_home.js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e de Desenvolvi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nha a API sempre por per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ttp://java.sun.com/javame/reference/apis/jsr118/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[WTKdir]\docs\api\midp\index.htm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 1: Hello Worl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C:\Users\Scholz\Desktop\API.png"/>
          <p:cNvPicPr/>
          <p:nvPr/>
        </p:nvPicPr>
        <p:blipFill>
          <a:blip r:embed="rId1"/>
          <a:stretch/>
        </p:blipFill>
        <p:spPr>
          <a:xfrm>
            <a:off x="755640" y="2781360"/>
            <a:ext cx="77072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ar 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llo Wor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eitos d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Graphic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suas funçõe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ntes embarcad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ação e exibição de um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ow-Level Displayab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tamento de tecl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ação e renderização de imagen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 2: Usando UI de Baixo Ní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apas na concepção de um jog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es em emulador (emulaçã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es no dispositivo real (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eplo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lhoria de 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rimeiro jo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7571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ardo Scho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der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55 81 3425.48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3026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ula 2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esenvolvimento de Jogos em J2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 d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me Desig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/ Concep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lha do mercado/público-al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lha da categ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c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zz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ção, Esportes, RPG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ari, Mega Drive, Nintendo 8 bits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lay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le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arelhos-al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 de um bom jogo para ce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egação e aprendizagem inicial fác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tar uso de muit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ftke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 pressionamento de tec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aprendizagem: desafiador, mas não impossível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gos casuais ou com opção de salv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games_02"/>
          <p:cNvPicPr/>
          <p:nvPr/>
        </p:nvPicPr>
        <p:blipFill>
          <a:blip r:embed="rId1"/>
          <a:stretch/>
        </p:blipFill>
        <p:spPr>
          <a:xfrm>
            <a:off x="34920" y="1125360"/>
            <a:ext cx="9036000" cy="5319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5867280" y="4497480"/>
            <a:ext cx="3060720" cy="1584360"/>
          </a:xfrm>
          <a:prstGeom prst="roundRect">
            <a:avLst>
              <a:gd name="adj" fmla="val 13806"/>
            </a:avLst>
          </a:prstGeom>
          <a:solidFill>
            <a:srgbClr val="99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obre a Mean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12000" y="4653000"/>
            <a:ext cx="27716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 base dos conhecimentos em sistemas mobile da Meantime (processos e ferramentas) vieram da longa experiência com o desenvolvimento de jogos para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24000" y="4341960"/>
            <a:ext cx="2708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+ 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de</a:t>
            </a: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24000" y="5062680"/>
            <a:ext cx="2708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 Narrow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 Narrow"/>
              </a:rPr>
              <a:t>DES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4 e 7 pesso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disciplinar: artistas gráficos, músicos, engenheiros de software, engenheiros de testes, game designers, ger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gências do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ting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00+ aparel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clo de desenvolvimento curto: 15 dias a 2 m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ç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R$ 10 mil e R$ 60 m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is Limit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manho de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 volátil e capacidade de process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eja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amos tudo o que foi falado 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t’em up game simplificadííííííssimo! </a:t>
            </a:r>
            <a:r>
              <a:rPr b="0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so Jo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2490840" cy="2934000"/>
          </a:xfrm>
          <a:prstGeom prst="rect">
            <a:avLst/>
          </a:prstGeom>
          <a:ln w="0">
            <a:noFill/>
          </a:ln>
        </p:spPr>
      </p:pic>
      <p:sp>
        <p:nvSpPr>
          <p:cNvPr id="165" name="CaixaDeTexto 6"/>
          <p:cNvSpPr/>
          <p:nvPr/>
        </p:nvSpPr>
        <p:spPr>
          <a:xfrm>
            <a:off x="468360" y="3500280"/>
            <a:ext cx="532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fc000"/>
                </a:solidFill>
                <a:latin typeface="Arial"/>
              </a:rPr>
              <a:t>Star Hero</a:t>
            </a:r>
            <a:r>
              <a:rPr b="0" i="1" lang="pt-BR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é um jogo singleplayer, no estilo shoot’em up . O jogo consiste em uma espaçonave controlada pelo jogador que trafega pelo espaço, atirando em inimigos. Essas ações resultam em pontos para o jogador. O objetivo do jogo é acumular o máximo de pontos possíveis e salvar a galáxi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: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cisamos 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MIDlet (claro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que trata os comandos alto-nível e possui o loop principal do jog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ê 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ualiza estado do mini-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nta a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que representa um elemento animado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 n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os inimi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s ba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com todas as constantes (para facilitar o acesso e regulagem dos parâme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á temos o conceito… mãos à obr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65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8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2603520" y="3139920"/>
            <a:ext cx="1366560" cy="1055880"/>
            <a:chOff x="2603520" y="3139920"/>
            <a:chExt cx="1366560" cy="1055880"/>
          </a:xfrm>
        </p:grpSpPr>
        <p:grpSp>
          <p:nvGrpSpPr>
            <p:cNvPr id="172" name="Group 21"/>
            <p:cNvGrpSpPr/>
            <p:nvPr/>
          </p:nvGrpSpPr>
          <p:grpSpPr>
            <a:xfrm>
              <a:off x="2603520" y="3139920"/>
              <a:ext cx="1366560" cy="1055880"/>
              <a:chOff x="2603520" y="3139920"/>
              <a:chExt cx="1366560" cy="105588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260352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0"/>
              <p:cNvSpPr/>
              <p:nvPr/>
            </p:nvSpPr>
            <p:spPr>
              <a:xfrm>
                <a:off x="260352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13"/>
            <p:cNvSpPr/>
            <p:nvPr/>
          </p:nvSpPr>
          <p:spPr>
            <a:xfrm>
              <a:off x="2762280" y="31399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704960" y="5213520"/>
            <a:ext cx="1611360" cy="1055520"/>
            <a:chOff x="1704960" y="5213520"/>
            <a:chExt cx="1611360" cy="1055520"/>
          </a:xfrm>
        </p:grpSpPr>
        <p:grpSp>
          <p:nvGrpSpPr>
            <p:cNvPr id="177" name="Group 22"/>
            <p:cNvGrpSpPr/>
            <p:nvPr/>
          </p:nvGrpSpPr>
          <p:grpSpPr>
            <a:xfrm>
              <a:off x="1704960" y="5213520"/>
              <a:ext cx="1532520" cy="1055520"/>
              <a:chOff x="1704960" y="5213520"/>
              <a:chExt cx="1532520" cy="1055520"/>
            </a:xfrm>
          </p:grpSpPr>
          <p:sp>
            <p:nvSpPr>
              <p:cNvPr id="178" name="Rectangle 23"/>
              <p:cNvSpPr/>
              <p:nvPr/>
            </p:nvSpPr>
            <p:spPr>
              <a:xfrm>
                <a:off x="1704960" y="5213520"/>
                <a:ext cx="153252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4"/>
              <p:cNvSpPr/>
              <p:nvPr/>
            </p:nvSpPr>
            <p:spPr>
              <a:xfrm>
                <a:off x="1704960" y="5476680"/>
                <a:ext cx="15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 Box 25"/>
            <p:cNvSpPr/>
            <p:nvPr/>
          </p:nvSpPr>
          <p:spPr>
            <a:xfrm>
              <a:off x="1855440" y="52135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3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182" name="Group 29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183" name="Rectangle 30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31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32"/>
            <p:cNvSpPr/>
            <p:nvPr/>
          </p:nvSpPr>
          <p:spPr>
            <a:xfrm>
              <a:off x="6026760" y="11253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54"/>
          <p:cNvGrpSpPr/>
          <p:nvPr/>
        </p:nvGrpSpPr>
        <p:grpSpPr>
          <a:xfrm>
            <a:off x="5869080" y="3284640"/>
            <a:ext cx="1366560" cy="1055520"/>
            <a:chOff x="5869080" y="3284640"/>
            <a:chExt cx="1366560" cy="1055520"/>
          </a:xfrm>
        </p:grpSpPr>
        <p:grpSp>
          <p:nvGrpSpPr>
            <p:cNvPr id="187" name="Group 33"/>
            <p:cNvGrpSpPr/>
            <p:nvPr/>
          </p:nvGrpSpPr>
          <p:grpSpPr>
            <a:xfrm>
              <a:off x="5869080" y="3284640"/>
              <a:ext cx="1366560" cy="1055520"/>
              <a:chOff x="5869080" y="3284640"/>
              <a:chExt cx="1366560" cy="1055520"/>
            </a:xfrm>
          </p:grpSpPr>
          <p:sp>
            <p:nvSpPr>
              <p:cNvPr id="188" name="Rectangle 34"/>
              <p:cNvSpPr/>
              <p:nvPr/>
            </p:nvSpPr>
            <p:spPr>
              <a:xfrm>
                <a:off x="586908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586908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36"/>
            <p:cNvSpPr/>
            <p:nvPr/>
          </p:nvSpPr>
          <p:spPr>
            <a:xfrm>
              <a:off x="6300000" y="3284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58"/>
          <p:cNvGrpSpPr/>
          <p:nvPr/>
        </p:nvGrpSpPr>
        <p:grpSpPr>
          <a:xfrm>
            <a:off x="7283520" y="3933720"/>
            <a:ext cx="1366560" cy="1055520"/>
            <a:chOff x="7283520" y="3933720"/>
            <a:chExt cx="1366560" cy="1055520"/>
          </a:xfrm>
        </p:grpSpPr>
        <p:grpSp>
          <p:nvGrpSpPr>
            <p:cNvPr id="192" name="Group 37"/>
            <p:cNvGrpSpPr/>
            <p:nvPr/>
          </p:nvGrpSpPr>
          <p:grpSpPr>
            <a:xfrm>
              <a:off x="7283520" y="3933720"/>
              <a:ext cx="1366560" cy="1055520"/>
              <a:chOff x="7283520" y="3933720"/>
              <a:chExt cx="1366560" cy="1055520"/>
            </a:xfrm>
          </p:grpSpPr>
          <p:sp>
            <p:nvSpPr>
              <p:cNvPr id="193" name="Rectangle 38"/>
              <p:cNvSpPr/>
              <p:nvPr/>
            </p:nvSpPr>
            <p:spPr>
              <a:xfrm>
                <a:off x="72835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39"/>
              <p:cNvSpPr/>
              <p:nvPr/>
            </p:nvSpPr>
            <p:spPr>
              <a:xfrm>
                <a:off x="72835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40"/>
            <p:cNvSpPr/>
            <p:nvPr/>
          </p:nvSpPr>
          <p:spPr>
            <a:xfrm>
              <a:off x="7720560" y="39337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7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197" name="Group 41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198" name="Rectangle 42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44"/>
            <p:cNvSpPr/>
            <p:nvPr/>
          </p:nvSpPr>
          <p:spPr>
            <a:xfrm>
              <a:off x="4782600" y="2852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5"/>
          <p:cNvGrpSpPr/>
          <p:nvPr/>
        </p:nvGrpSpPr>
        <p:grpSpPr>
          <a:xfrm>
            <a:off x="3476520" y="5227560"/>
            <a:ext cx="1566360" cy="1055520"/>
            <a:chOff x="3476520" y="5227560"/>
            <a:chExt cx="1566360" cy="1055520"/>
          </a:xfrm>
        </p:grpSpPr>
        <p:grpSp>
          <p:nvGrpSpPr>
            <p:cNvPr id="202" name="Group 45"/>
            <p:cNvGrpSpPr/>
            <p:nvPr/>
          </p:nvGrpSpPr>
          <p:grpSpPr>
            <a:xfrm>
              <a:off x="3476520" y="5227560"/>
              <a:ext cx="1566360" cy="1055520"/>
              <a:chOff x="3476520" y="5227560"/>
              <a:chExt cx="1566360" cy="1055520"/>
            </a:xfrm>
          </p:grpSpPr>
          <p:sp>
            <p:nvSpPr>
              <p:cNvPr id="203" name="Rectangle 46"/>
              <p:cNvSpPr/>
              <p:nvPr/>
            </p:nvSpPr>
            <p:spPr>
              <a:xfrm>
                <a:off x="3476520" y="5227560"/>
                <a:ext cx="15663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7"/>
              <p:cNvSpPr/>
              <p:nvPr/>
            </p:nvSpPr>
            <p:spPr>
              <a:xfrm>
                <a:off x="3476520" y="5490720"/>
                <a:ext cx="156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 Box 48"/>
            <p:cNvSpPr/>
            <p:nvPr/>
          </p:nvSpPr>
          <p:spPr>
            <a:xfrm>
              <a:off x="3491280" y="5227560"/>
              <a:ext cx="151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56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07" name="Group 49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08" name="Rectangle 50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51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52"/>
            <p:cNvSpPr/>
            <p:nvPr/>
          </p:nvSpPr>
          <p:spPr>
            <a:xfrm>
              <a:off x="7526520" y="530064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60"/>
          <p:cNvSpPr/>
          <p:nvPr/>
        </p:nvSpPr>
        <p:spPr>
          <a:xfrm flipV="1">
            <a:off x="5208480" y="2204640"/>
            <a:ext cx="8762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2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3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4"/>
          <p:cNvSpPr/>
          <p:nvPr/>
        </p:nvSpPr>
        <p:spPr>
          <a:xfrm>
            <a:off x="3289320" y="4219560"/>
            <a:ext cx="995400" cy="100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6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7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1692360" y="5492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3492360" y="5516640"/>
            <a:ext cx="15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5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6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9"/>
          <p:cNvGrpSpPr/>
          <p:nvPr/>
        </p:nvGrpSpPr>
        <p:grpSpPr>
          <a:xfrm>
            <a:off x="2687760" y="1916280"/>
            <a:ext cx="1209600" cy="720720"/>
            <a:chOff x="2687760" y="1916280"/>
            <a:chExt cx="1209600" cy="720720"/>
          </a:xfrm>
        </p:grpSpPr>
        <p:sp>
          <p:nvSpPr>
            <p:cNvPr id="225" name="Rectangle 80"/>
            <p:cNvSpPr/>
            <p:nvPr/>
          </p:nvSpPr>
          <p:spPr>
            <a:xfrm>
              <a:off x="268776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1"/>
            <p:cNvSpPr/>
            <p:nvPr/>
          </p:nvSpPr>
          <p:spPr>
            <a:xfrm>
              <a:off x="268776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82"/>
          <p:cNvSpPr/>
          <p:nvPr/>
        </p:nvSpPr>
        <p:spPr>
          <a:xfrm>
            <a:off x="2951640" y="1878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 flipV="1">
            <a:off x="327672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4"/>
          <p:cNvSpPr/>
          <p:nvPr/>
        </p:nvSpPr>
        <p:spPr>
          <a:xfrm>
            <a:off x="7125120" y="267480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5"/>
          <p:cNvSpPr/>
          <p:nvPr/>
        </p:nvSpPr>
        <p:spPr>
          <a:xfrm>
            <a:off x="2443680" y="276084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4764600" y="234936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7"/>
          <p:cNvSpPr/>
          <p:nvPr/>
        </p:nvSpPr>
        <p:spPr>
          <a:xfrm>
            <a:off x="6333120" y="292428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8"/>
          <p:cNvSpPr/>
          <p:nvPr/>
        </p:nvSpPr>
        <p:spPr>
          <a:xfrm>
            <a:off x="1390680" y="352584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339840" y="449568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3"/>
          <p:cNvSpPr/>
          <p:nvPr/>
        </p:nvSpPr>
        <p:spPr>
          <a:xfrm>
            <a:off x="828000" y="32385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4"/>
          <p:cNvSpPr/>
          <p:nvPr/>
        </p:nvSpPr>
        <p:spPr>
          <a:xfrm>
            <a:off x="78480" y="4187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5"/>
          <p:cNvSpPr/>
          <p:nvPr/>
        </p:nvSpPr>
        <p:spPr>
          <a:xfrm flipH="1" flipV="1">
            <a:off x="684360" y="4868640"/>
            <a:ext cx="100800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6"/>
          <p:cNvSpPr/>
          <p:nvPr/>
        </p:nvSpPr>
        <p:spPr>
          <a:xfrm>
            <a:off x="223200" y="531324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7"/>
          <p:cNvSpPr/>
          <p:nvPr/>
        </p:nvSpPr>
        <p:spPr>
          <a:xfrm>
            <a:off x="936720" y="451008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8"/>
          <p:cNvSpPr/>
          <p:nvPr/>
        </p:nvSpPr>
        <p:spPr>
          <a:xfrm flipH="1" flipV="1">
            <a:off x="1692360" y="3933720"/>
            <a:ext cx="50472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9"/>
          <p:cNvSpPr/>
          <p:nvPr/>
        </p:nvSpPr>
        <p:spPr>
          <a:xfrm>
            <a:off x="4647240" y="40053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0"/>
          <p:cNvSpPr/>
          <p:nvPr/>
        </p:nvSpPr>
        <p:spPr>
          <a:xfrm>
            <a:off x="7023600" y="48690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andos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acterísticas dos ob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acterísticas do aparelho (ex.: largura e altura da te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ns usadas pelos ob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 para carregar as imagens 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Images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MID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referência para a tela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referência para o controlador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os objetos acima no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App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o loop do jogo no control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ra a tela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que contém o loop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 todos os comandos alto-nível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a a máquina de estados do jogo (pause – resu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: NÃO CONFUNDIR com a máquina de estados do MIDlet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ção {X,Y} na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ura e largura de cada frame e do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ação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ção de coli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dades horizontal e ver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s abstrato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um array de ba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 máquina de estados própria: FLYING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ção das im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s para mover a nav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 para disparar bala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iza a imagem da bala (não possui anim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máquina de estados própria: WAITING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renciamento quando bala sai da 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ualiza posição, de acordo com a velocidad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-167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comportamento ingênuo: randô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ns anim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680" indent="-167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Game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e possui todos os elementos do jogo: nave, inimigos e bala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 a atualização dos estados dos objet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a colisão de balas com inimig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a colisão de inimigos com a nav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iza todos os objet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a e pinta todas as informações do jogo (pontuação, nível e vi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 pressionamento das teclas (esquerda, direita e fire)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303516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BUILD &amp; RUN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3384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ver the Air” (O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fra verme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bo 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sgi_altix3700_1"/>
          <p:cNvPicPr/>
          <p:nvPr/>
        </p:nvPicPr>
        <p:blipFill>
          <a:blip r:embed="rId1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ony-ericsson_P800_01"/>
          <p:cNvPicPr/>
          <p:nvPr/>
        </p:nvPicPr>
        <p:blipFill>
          <a:blip r:embed="rId2"/>
          <a:stretch/>
        </p:blipFill>
        <p:spPr>
          <a:xfrm>
            <a:off x="2627280" y="259092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sony-ericsson_P800_01"/>
          <p:cNvPicPr/>
          <p:nvPr/>
        </p:nvPicPr>
        <p:blipFill>
          <a:blip r:embed="rId3"/>
          <a:stretch/>
        </p:blipFill>
        <p:spPr>
          <a:xfrm>
            <a:off x="2627280" y="4437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sony-ericsson_P800_01"/>
          <p:cNvPicPr/>
          <p:nvPr/>
        </p:nvPicPr>
        <p:blipFill>
          <a:blip r:embed="rId4"/>
          <a:stretch/>
        </p:blipFill>
        <p:spPr>
          <a:xfrm>
            <a:off x="3830760" y="53658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sony-ericsson_P800_01"/>
          <p:cNvPicPr/>
          <p:nvPr/>
        </p:nvPicPr>
        <p:blipFill>
          <a:blip r:embed="rId5"/>
          <a:stretch/>
        </p:blipFill>
        <p:spPr>
          <a:xfrm>
            <a:off x="5425920" y="537372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sony-ericsson_P800_01"/>
          <p:cNvPicPr/>
          <p:nvPr/>
        </p:nvPicPr>
        <p:blipFill>
          <a:blip r:embed="rId6"/>
          <a:stretch/>
        </p:blipFill>
        <p:spPr>
          <a:xfrm>
            <a:off x="7769160" y="53308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sony-ericsson_P800_01"/>
          <p:cNvPicPr/>
          <p:nvPr/>
        </p:nvPicPr>
        <p:blipFill>
          <a:blip r:embed="rId7"/>
          <a:stretch/>
        </p:blipFill>
        <p:spPr>
          <a:xfrm>
            <a:off x="7767720" y="34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sony-ericsson_P800_01"/>
          <p:cNvPicPr/>
          <p:nvPr/>
        </p:nvPicPr>
        <p:blipFill>
          <a:blip r:embed="rId8"/>
          <a:stretch/>
        </p:blipFill>
        <p:spPr>
          <a:xfrm>
            <a:off x="7740720" y="1989000"/>
            <a:ext cx="608040" cy="67500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 flipH="1">
            <a:off x="3347640" y="2852640"/>
            <a:ext cx="1584360" cy="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H="1">
            <a:off x="3347640" y="3284640"/>
            <a:ext cx="165564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565740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6227640" y="3645000"/>
            <a:ext cx="1440000" cy="20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6588000" y="306864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8"/>
          <p:cNvSpPr/>
          <p:nvPr/>
        </p:nvSpPr>
        <p:spPr>
          <a:xfrm flipH="1">
            <a:off x="4356000" y="3716280"/>
            <a:ext cx="936720" cy="144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414160" y="32432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2456640" y="50976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5253840" y="6021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 flipV="1">
            <a:off x="5802480" y="3933720"/>
            <a:ext cx="144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7553160" y="41241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7599600" y="16286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3562200" y="60213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7582680" y="59878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2916360" y="3551400"/>
            <a:ext cx="0" cy="7920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3348000" y="4869000"/>
            <a:ext cx="720720" cy="477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>
            <a:off x="4538520" y="5732640"/>
            <a:ext cx="792360" cy="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6156360" y="5732640"/>
            <a:ext cx="1440000" cy="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4"/>
          <p:cNvSpPr/>
          <p:nvPr/>
        </p:nvSpPr>
        <p:spPr>
          <a:xfrm flipV="1">
            <a:off x="8045280" y="4436640"/>
            <a:ext cx="0" cy="79236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5"/>
          <p:cNvSpPr/>
          <p:nvPr/>
        </p:nvSpPr>
        <p:spPr>
          <a:xfrm flipV="1">
            <a:off x="8040600" y="2695680"/>
            <a:ext cx="0" cy="720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8"/>
          <p:cNvSpPr/>
          <p:nvPr/>
        </p:nvSpPr>
        <p:spPr>
          <a:xfrm>
            <a:off x="4645080" y="4437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9"/>
          <p:cNvSpPr/>
          <p:nvPr/>
        </p:nvSpPr>
        <p:spPr>
          <a:xfrm>
            <a:off x="6880680" y="2997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R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l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045760" y="16812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MIDle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6232680" y="4508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D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71268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D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ercado de Jogo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deia de Val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volvimento precisa se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ápi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orno do investimento é l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upo 41"/>
          <p:cNvGrpSpPr/>
          <p:nvPr/>
        </p:nvGrpSpPr>
        <p:grpSpPr>
          <a:xfrm>
            <a:off x="1332000" y="2276640"/>
            <a:ext cx="6480000" cy="1677240"/>
            <a:chOff x="1332000" y="2276640"/>
            <a:chExt cx="6480000" cy="1677240"/>
          </a:xfrm>
        </p:grpSpPr>
        <p:sp>
          <p:nvSpPr>
            <p:cNvPr id="59" name="AutoShape 8"/>
            <p:cNvSpPr/>
            <p:nvPr/>
          </p:nvSpPr>
          <p:spPr>
            <a:xfrm>
              <a:off x="2568600" y="2623680"/>
              <a:ext cx="1222200" cy="94608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0" y="0"/>
                  </a:lnTo>
                  <a:lnTo>
                    <a:pt x="21600" y="10800"/>
                  </a:lnTo>
                  <a:lnTo>
                    <a:pt x="19400" y="21600"/>
                  </a:lnTo>
                  <a:lnTo>
                    <a:pt x="0" y="21600"/>
                  </a:lnTo>
                  <a:lnTo>
                    <a:pt x="220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upo 39"/>
            <p:cNvGrpSpPr/>
            <p:nvPr/>
          </p:nvGrpSpPr>
          <p:grpSpPr>
            <a:xfrm>
              <a:off x="5605560" y="2623680"/>
              <a:ext cx="1157040" cy="946080"/>
              <a:chOff x="5605560" y="2623680"/>
              <a:chExt cx="1157040" cy="94608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5605560" y="2623680"/>
                <a:ext cx="1157040" cy="946080"/>
              </a:xfrm>
              <a:custGeom>
                <a:avLst/>
                <a:gdLst>
                  <a:gd name="textAreaLeft" fmla="*/ 0 w 1157040"/>
                  <a:gd name="textAreaRight" fmla="*/ 1157040 w 115704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400" y="0"/>
                    </a:lnTo>
                    <a:lnTo>
                      <a:pt x="21600" y="10800"/>
                    </a:lnTo>
                    <a:lnTo>
                      <a:pt x="19400" y="21600"/>
                    </a:lnTo>
                    <a:lnTo>
                      <a:pt x="0" y="21600"/>
                    </a:lnTo>
                    <a:lnTo>
                      <a:pt x="22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"/>
              <p:cNvSpPr/>
              <p:nvPr/>
            </p:nvSpPr>
            <p:spPr>
              <a:xfrm>
                <a:off x="5845680" y="2911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rr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upo 40"/>
            <p:cNvGrpSpPr/>
            <p:nvPr/>
          </p:nvGrpSpPr>
          <p:grpSpPr>
            <a:xfrm>
              <a:off x="6648480" y="2617920"/>
              <a:ext cx="1163520" cy="946080"/>
              <a:chOff x="6648480" y="2617920"/>
              <a:chExt cx="1163520" cy="946080"/>
            </a:xfrm>
          </p:grpSpPr>
          <p:sp>
            <p:nvSpPr>
              <p:cNvPr id="64" name="AutoShape 14"/>
              <p:cNvSpPr/>
              <p:nvPr/>
            </p:nvSpPr>
            <p:spPr>
              <a:xfrm>
                <a:off x="6648480" y="2617920"/>
                <a:ext cx="1163520" cy="94608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57" y="0"/>
                    </a:lnTo>
                    <a:lnTo>
                      <a:pt x="21600" y="10800"/>
                    </a:lnTo>
                    <a:lnTo>
                      <a:pt x="19757" y="21600"/>
                    </a:lnTo>
                    <a:lnTo>
                      <a:pt x="0" y="21600"/>
                    </a:lnTo>
                    <a:lnTo>
                      <a:pt x="1843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5"/>
              <p:cNvSpPr/>
              <p:nvPr/>
            </p:nvSpPr>
            <p:spPr>
              <a:xfrm>
                <a:off x="6804000" y="2924640"/>
                <a:ext cx="95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-us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8"/>
            <p:cNvSpPr/>
            <p:nvPr/>
          </p:nvSpPr>
          <p:spPr>
            <a:xfrm>
              <a:off x="4656600" y="2623680"/>
              <a:ext cx="1096560" cy="946080"/>
            </a:xfrm>
            <a:custGeom>
              <a:avLst/>
              <a:gdLst>
                <a:gd name="textAreaLeft" fmla="*/ 0 w 1096560"/>
                <a:gd name="textAreaRight" fmla="*/ 1096920 w 109656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upo 38"/>
            <p:cNvGrpSpPr/>
            <p:nvPr/>
          </p:nvGrpSpPr>
          <p:grpSpPr>
            <a:xfrm>
              <a:off x="3657240" y="2623680"/>
              <a:ext cx="1134000" cy="947880"/>
              <a:chOff x="3657240" y="2623680"/>
              <a:chExt cx="1134000" cy="947880"/>
            </a:xfrm>
          </p:grpSpPr>
          <p:sp>
            <p:nvSpPr>
              <p:cNvPr id="68" name="AutoShape 17"/>
              <p:cNvSpPr/>
              <p:nvPr/>
            </p:nvSpPr>
            <p:spPr>
              <a:xfrm>
                <a:off x="3657240" y="2623680"/>
                <a:ext cx="1134000" cy="94788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107" y="0"/>
                    </a:lnTo>
                    <a:lnTo>
                      <a:pt x="21600" y="10800"/>
                    </a:lnTo>
                    <a:lnTo>
                      <a:pt x="19107" y="21600"/>
                    </a:lnTo>
                    <a:lnTo>
                      <a:pt x="0" y="21600"/>
                    </a:lnTo>
                    <a:lnTo>
                      <a:pt x="2493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3794400" y="292356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s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upo 37"/>
            <p:cNvGrpSpPr/>
            <p:nvPr/>
          </p:nvGrpSpPr>
          <p:grpSpPr>
            <a:xfrm>
              <a:off x="1348560" y="2630520"/>
              <a:ext cx="1372680" cy="946080"/>
              <a:chOff x="1348560" y="2630520"/>
              <a:chExt cx="1372680" cy="946080"/>
            </a:xfrm>
          </p:grpSpPr>
          <p:sp>
            <p:nvSpPr>
              <p:cNvPr id="71" name="AutoShape 4"/>
              <p:cNvSpPr/>
              <p:nvPr/>
            </p:nvSpPr>
            <p:spPr>
              <a:xfrm>
                <a:off x="1376640" y="2630520"/>
                <a:ext cx="1339560" cy="946080"/>
              </a:xfrm>
              <a:custGeom>
                <a:avLst/>
                <a:gdLst>
                  <a:gd name="textAreaLeft" fmla="*/ 0 w 1339560"/>
                  <a:gd name="textAreaRight" fmla="*/ 1339920 w 133956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400" y="0"/>
                    </a:lnTo>
                    <a:lnTo>
                      <a:pt x="21600" y="10800"/>
                    </a:lnTo>
                    <a:lnTo>
                      <a:pt x="19400" y="21600"/>
                    </a:lnTo>
                    <a:lnTo>
                      <a:pt x="0" y="21600"/>
                    </a:lnTo>
                    <a:lnTo>
                      <a:pt x="22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5"/>
              <p:cNvSpPr/>
              <p:nvPr/>
            </p:nvSpPr>
            <p:spPr>
              <a:xfrm>
                <a:off x="1348560" y="3162240"/>
                <a:ext cx="1368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chnolog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6"/>
              <p:cNvSpPr/>
              <p:nvPr/>
            </p:nvSpPr>
            <p:spPr>
              <a:xfrm>
                <a:off x="1348560" y="2695320"/>
                <a:ext cx="1368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ran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0"/>
              <p:cNvSpPr/>
              <p:nvPr/>
            </p:nvSpPr>
            <p:spPr>
              <a:xfrm>
                <a:off x="1502280" y="312804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21"/>
            <p:cNvSpPr/>
            <p:nvPr/>
          </p:nvSpPr>
          <p:spPr>
            <a:xfrm>
              <a:off x="1332000" y="2276640"/>
              <a:ext cx="64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2f2f2"/>
                  </a:solidFill>
                  <a:latin typeface="Verdana"/>
                </a:rPr>
                <a:t>Fluxo de produção &gt;&gt;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332000" y="3616560"/>
              <a:ext cx="64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2f2f2"/>
                  </a:solidFill>
                  <a:latin typeface="Verdana"/>
                </a:rPr>
                <a:t>&lt;&lt;&lt; Fluxo de receita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ição de Splash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ição de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lhorar tela de game o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r tela de recordes (persistênc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ground com scrolling (efeito de parala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fe de f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eta de itens com diferentes funcionalida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pos diferentes de inimig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A dos Inimig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load de pontuação para servi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hor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fuscadores para diminuir tamanho de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uard, Retroguard, et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utela no uso de herança e excesso de cla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ite usar classes anônimas ou aninh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essos a variáveis estáticas e métodos estáticos é mais ráp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ops de trás para frente (comparação com 0, null e false é mais rápid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e obje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idado no uso de Str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imize, se necessá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 várias imagens em uma s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úmero de cores das im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o de clip para pintu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is restriçõ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anho do JAR: a partir de 64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ória volátil: a partir de ~200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amento: 6 a 10 frames por seg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imize, se necessá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2411280" y="1700280"/>
          <a:ext cx="84456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"/>
          <p:cNvGraphicFramePr/>
          <p:nvPr/>
        </p:nvGraphicFramePr>
        <p:xfrm>
          <a:off x="5219640" y="1916280"/>
          <a:ext cx="273204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91628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6"/>
          <p:cNvSpPr/>
          <p:nvPr/>
        </p:nvSpPr>
        <p:spPr>
          <a:xfrm>
            <a:off x="5931360" y="23479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magem P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823320" y="206064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Imagens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zer nosso Sprite herdar do Sprite de MIDP 2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ar a colisão do Sprite de MIDP 2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r GameCanvas par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tamento de teclas, vi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Stat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z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ckbuff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sando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Graphic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nar o jog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ull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icionar som (sugestão: MID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: Porting para MIDP 2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109872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sequenceDemo"/>
          <p:cNvPicPr/>
          <p:nvPr/>
        </p:nvPicPr>
        <p:blipFill>
          <a:blip r:embed="rId1"/>
          <a:stretch/>
        </p:blipFill>
        <p:spPr>
          <a:xfrm>
            <a:off x="3780000" y="6138720"/>
            <a:ext cx="914400" cy="34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826920" y="224964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561960" y="202248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7"/>
          <p:cNvGrpSpPr/>
          <p:nvPr/>
        </p:nvGrpSpPr>
        <p:grpSpPr>
          <a:xfrm>
            <a:off x="3635280" y="1890720"/>
            <a:ext cx="4997520" cy="4638600"/>
            <a:chOff x="3635280" y="1890720"/>
            <a:chExt cx="4997520" cy="4638600"/>
          </a:xfrm>
        </p:grpSpPr>
        <p:pic>
          <p:nvPicPr>
            <p:cNvPr id="308" name="Picture 8" descr=""/>
            <p:cNvPicPr/>
            <p:nvPr/>
          </p:nvPicPr>
          <p:blipFill>
            <a:blip r:embed="rId4"/>
            <a:stretch/>
          </p:blipFill>
          <p:spPr>
            <a:xfrm>
              <a:off x="5651640" y="189072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9" descr=""/>
            <p:cNvPicPr/>
            <p:nvPr/>
          </p:nvPicPr>
          <p:blipFill>
            <a:blip r:embed="rId5"/>
            <a:stretch/>
          </p:blipFill>
          <p:spPr>
            <a:xfrm>
              <a:off x="3635280" y="361800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Rectangle 10"/>
          <p:cNvSpPr/>
          <p:nvPr/>
        </p:nvSpPr>
        <p:spPr>
          <a:xfrm>
            <a:off x="5580000" y="1890720"/>
            <a:ext cx="3095640" cy="57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986400" y="4915080"/>
            <a:ext cx="347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635280" y="5634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5049360" y="1506600"/>
            <a:ext cx="324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641760" y="563400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r imagens separ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em vez de vetores de im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ar classe Sprite para herdar d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x.microedition.lcdui.game.Spr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ar objetos que usam os Sprites atuais para se adaptarem à interface de Spr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ndo Sprite de MIDP 2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r imagens sepa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métod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s.loadImages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ormar vetores de imagens em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a clas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r class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p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larar heranç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r declaração de características herd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legar posicionamento a métodos do Sprite MIDP 2.0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interface do construtor para recebe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r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usand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prite.paint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lhan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 controlar animações nas classe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e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verter chamadas a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Image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m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rameSequenc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icializ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s construtores e nas mudanças de estado das classes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r métodos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ualiz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inicialização das classes usando novo constr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clas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hipGameScree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a pass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 lugar do vetor de imagens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lhan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s de vari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manho de te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acidade de process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acidade de memória volát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Is (ex.: so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ão MID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gs específicos da implementação da KV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ionalidades do j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io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la: 500+ aparel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r código único, usando pré-processam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enna: http://antenna.sourceforge.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lipse ME: http://eclipseme.org/index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a de build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ant.apache.org/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ável pro gerar as várias versões 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é-processa código antes de com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encia recursos: seleciona arquivos (imagens, sons, etc) por ver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cota tudo gerando JAR e J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ercado de Jogo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is Jogado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A Mobile (Jamdat), Gameloft (Ubi Software), Glu Mob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elo de Negócio: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Revenue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 das operad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cipação ($) baixa para desenvolved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orno lento e sem possibilidade de auditor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jas com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Sto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pple) estão tornando-se cada vez mais pop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ypas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as operado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or participação ($) para desenvolved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os sites interess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kia: http://www.forum.nokia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orola: http://www.motocod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n Dev: http://developers.sun.com/mo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let Review: http://www.midlet-review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úvid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cas Fin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ardo Scho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der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55 81 3425.48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is Tecnolo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Espaço Reservado para Conteúdo 2"/>
          <p:cNvSpPr/>
          <p:nvPr/>
        </p:nvSpPr>
        <p:spPr>
          <a:xfrm>
            <a:off x="457200" y="981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gos baseados em troca de mensagens de texto e multimídia (forca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uiz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enalty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va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va otimizado para dispositivos com limi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be Flash 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ão leve do Adobe Flash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operacional da No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rta várias linguagens: C++, Symbian C++, Python, Rubi, .N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guagem OO utilizada nas aplicações e jogos para o iOS (SO do iPh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operacional da Google, baseado em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Community Proccess (JC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rganização aberta, liderada pela industr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iva a melhoria da plataforma Ja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ova requisições de novas APIs ou component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Specification Request (JS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cumentação formal descrevendo tecnologias e especificações propostas para serem adicionadas à plataforma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resultados de uma JSR s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especificação que explica os detalhes e define os princípios da JS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implementação de refer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conjunto de testes que cada implementação deve passar para ser considerada compatível com a JS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ão Geral da Plataform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ava Micro E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ava ME é um conjunto de tecnologias e especificações para criar uma plataforma adequada às necessidades de dispositivos móve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nologias e especificações podem ser combinados para criar um ambiente de execução Java específico para um determinado disposi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54:57Z</dcterms:created>
  <dc:creator>dcc</dc:creator>
  <dc:description/>
  <dc:language>en-US</dc:language>
  <cp:lastModifiedBy>Scholz</cp:lastModifiedBy>
  <dcterms:modified xsi:type="dcterms:W3CDTF">2010-09-21T12:06:05Z</dcterms:modified>
  <cp:revision>359</cp:revision>
  <dc:subject/>
  <dc:title>Slide 1</dc:title>
</cp:coreProperties>
</file>