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157.xml.rels" ContentType="application/vnd.openxmlformats-package.relationships+xml"/>
  <Override PartName="/ppt/notesSlides/notesSlide98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341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BF96-165D-4518-B9A5-2FB6EC5BA2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41.xml.rels><?xml version="1.0" encoding="UTF-8"?>
<Relationships xmlns="http://schemas.openxmlformats.org/package/2006/relationships"><Relationship Id="rId1" Type="http://schemas.openxmlformats.org/officeDocument/2006/relationships/slide" Target="../slides/slide34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étodos utilizados para operações básicas de input /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vem ser utilizados para aplicações do tipo Console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e exemplo, verificar que o valor a ser impresso será zero. Isso se deve ao fato do CLR sempre verificar primeiro no escopo atual se existe a variável que está sendo acess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pre que você criar um método não void, você deverá obrigatoriamente retornar um valor, senão receb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o comando return você pode retornar apenas um valor. Mais adiante veremos como retornar diversos valores utilizando parâ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um método não void não possuir ao menos um comando return, você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ça uso da classe System.DateTime.Now nesse exercí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é agora definimos apenas métodos sem parâ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 método pode ter vários parâmetros (0 ou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ntaxe para definição de parâmetros é a mesma sintaxe para definição das variáv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que se a chamada para o método DizerOla for implementada sem parâmetros, você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em três mecanismos de passagem de parâmetro: passagem por valor, por referência e parâmetros de saí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passagem por valor, para cada parâmetro é criado uma nova variável na memória. Qualquer alteração no parâmetro será efetuada nessa cópia, o que não terá efeito na(s) variável(eis) utilizada(s) na chamado do mé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o valor que será impresso será 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passagem por referência não são criadas novas variáveis. Isto quer dizer que qualquer alteração no valor do parâmetro irá alterar o valor da variável utilizada na chamada do mé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não especificar a palavra ref na chamada ao método,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cê sempre deve inicializar a variável antes de utilizá-la na passagem por refe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agora o valor que será impresso será d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âmetros de saída são muito úteis quando você quer retornar vários valores em um método (lembre-se que utilizando o comando return podemos retornar apenas um va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não alterar o valor de um parâmetro de saída no corpo do método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agora o valor que será impresso será d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arâmetro especificado será uma matiz (veremos o que são matrizes no próximo capít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pilador irá executar o método baseado na lista de parâmetros infor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ssinatura de um método deve ser única na classe que o conté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s os elementos de uma matriz devem possuir o mesmo tipo de d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agrupar informações de tipos de dados diferentes, utilizar estrut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zes são tipos de dados referência (e não tipos de dados simp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exemplo da esquerda utiliza cinco variáveis diferentes para armazenar cinco números. Note que cada uma das variáveis que deve ser acessada com seu respectivo 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á o exemplo da direita utiliza uma matriz chamada numeros. Veja que os cinco números desta vez são todos armazenados e recuperados em uma variável de mesmo 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tação utilizada na declaração de matrizes é bem semelhante a notação de declaração de variáv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não pode especificar a dimensão da matriz na declaração da me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sempre deverá especificar um (ou mais) índices inteiros para acessar um elemento em uma matr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ita atenção para o fato do primeiro elemento ser acessado através do índice 0 e nã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compilador irá inicializar cada elemento da matriz com zeros (se for uma matriz numérica), com branco no caso de matrizes de caracteres/string e com falso no caso de matrizes boole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te que por serem tipos de dados de referência, as matrizes precisam da palavra chave new para serem efetivamente cri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s os tipos de dados referência precisam ser declarados para depois serem criados (através do uso da palavra chave n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te no exemplo que a matriz não foi explicitamente inicializada. Isso é feito automaticamente elo CLR devido ao fato de matrizes serem tipos de dados referê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também pode criar matriz de estruturas de d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istem mais outras duas formas de se inicializar matrizes (ver exemplos matrizes_3.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exemplo demonstra a utilização de matrizes de forma um pouco mais dinâ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criar as suas próprias 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ntellisense fornece suporte as tags de documentação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exemplo demonstra a utilização de matrizes de forma um pouco mais dinâ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mbas as propriedades Rank e Length são somente le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arquivo matrizes_8 contém um exemplo de utilização de cada um desse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étodo Clone faz uma cópia da matriz criando uma nova instância da matr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rificar exemplo de utilização dos demais métodos em Matrizes_8.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ais especifique a dimensão da matriz na assinatura do mé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étodo receberá a matriz como parâmetro de referência, isto é, se você alterar o valor do parâmetro, isto afetará diretamente a matriz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cê pode utilizar o método Array.Copy para obter uma cópia de uma matriz (que apontem para variáveis diferentes na memó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ar a janela de comando do Visual Studio 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étodo Main pode receber como parâmetro uma matriz d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rifique que com o uso do comando foreach não precisamos efetuar controle do índice para acesso aos elementos da matr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cê pode utilizar o comando foreach para percorrer matrizes multidimens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gramação orientada a objetos traz para o mundo da programação o jeito natural das pessoas pensa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tilização de código é uma das principais vantagens na utilização d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que não utilizar o termo propriedade ao invés de campo? Em breve você obterá a resposta para esta pergunta, mas só para adiantar: o termo propriedade é utilizado para outro recurso em C# (estudaremos as propriedades em bre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os nada mais são do que variáveis que possuem o escopo da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bstração é um conceito importante para definição de um bom conjunto de classes. Em contra partida, não é tão fácil aplicar a abstração com eficácia. Geralmente a boa aplicação da abstração depende de profundo conhecimento do ambiente que está sendo modelado (coisas que obtemos com experiência e convivênc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conceito de encapsulamento está relacionado com o conceito de abst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os de objetos são informações que irão existir e possuir um valor para cada instância (objeto) de uma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os estáticos são informações que independente do número de instâncias de uma classe, existirá somente uma ocorrência dessa informação (pois o mesmo se encontra no nível da clas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programas em C# quando compilados geram a MSIL ao invés de código nativo. A MSIL é tranformada em código nativo pelo compilador JIT (Just-in-Time) quando a aplicação é execut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ecifique a extensão do arquivo de saída. Se você naõ fizer isso, terá que fazer isso manualmente dep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janela de comando os erros são listados na própria janela d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Visual Studio os erros são listados na lista de tarefas (Task L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Digite csc /? ou csc /help para obter informações de todas as opções decompilação disponív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tem que o método Main deve ser um método está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étodos estáticos não podem fazer uso do operador this (iremos estudar este operador nos próximos slid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s para frente aprenderemos porque os campos devem ser priv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 prática: sempre especifique explicitamente o modificador de tipo de acesso dos membros de suas classes, mesmo quando eles forem priv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ha em vermelho resultará em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qui devemos notar a diferença entre value type e referen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s os membros da classe imposto são “herdados” para a classe ICMS automat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asse base muitas vezes também é chamada de classe pai ou super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asse derivada também recebe a denominação de classe filha ou sub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 e qualquer alteração implementada na classe imposto terá efeito na classe I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 método sem implementação é chamado de ope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ar o Microsoft Development Environment debugger (caso você seja perguntado que depurador utiliz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essas ferramentas são ferramentas de linha d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Linha de comando: ILDASM meuprograma.exe /out=arquivo.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campos nome e idade utilizam o modificador de acesso public somente para fins didát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types: são os tipos simples de dados como números, valores inteiros e caract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ypes: são os tipos mais complexos de dados (objet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s os tipos de dados simples são definidos no namespac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s os tipos de dados são ultimamente derivados de System.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Types são derivados de System.Value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Types são sempre inicializados com null, e você sempre deverá atribuir um valor para esse tipo de variável antes de utilizá-la senão irá ocorrer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maiores informações sobre built-in value types, procurar por “Value Types” no help do Microsoft Visual Studio 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utilizar tanto a palavra reservada quando a estrutua quando estiver declarando uma variável de um tipo si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tentar que esse modificador pode ser utilizado em classes no escopo global. Private e protected não p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uma regra for desrespeitada, resultará em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Casing: classes, métodos, propriedades, enums, interfaces, campos de somente leitura, constantes, namespaces e proprie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lCasing: campos e parâ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você utilizar uma palavra chave como nome de variável irá receber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áveis que são declaradas dentro de métodos, propriedades ou indexers são chamadas de variáveis loc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bre-se que você deve inicializar as variáveis antes de utilizá-las, caso contrário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pre inicialize as variáveis do tipo simples antes de utilizá-la, caso contrário, você receberá um er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ands são extremamente úteis para aumentar a legibilidade de um programa, principalmente quando temos que escrever expressões lon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zem com que o método não seja transformado em 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ó podem ser utilizados em métodos que retornam 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ser utilizado em métodos que recebem parâmetros por referência e parâmetros de saí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ores informações sobre operadores está disponível no Help do Visual Stduio (procurar por “Express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utilizar os operadores de incremento e decremento quando desejar somar e subtrair 1 de uma variável num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a: utilize o método WriteLine da classe Console para mostrar o valor das variáv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numerações são tipos de dados definidios pelo usuário (user defined data ty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ão muito úteis quando uma variável só pode ter um conjunto específico de valores e você conhece esse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e padrão os valores das enumerações começam de 0. Por exemplo, a cor Branca da enumeração Cor possui valor 0, a cor Preta 1 e a Azul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imple types (int, float e double) são todos estruturas internas do .NET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ões implícitas são feitas automaticamente pelo CLR sem a necessidade de program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ões explícitas NÃO são feitas automaticamente pelo CLR, isto é, você deve explicitar esse tipo de conversão através do uso de “cas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loco checked deve ser utilizado em conversões explícitas para os casos em que a conversão fal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padrão, erros de perda de precisão não são checados (overf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loco chechked gera uma exceção caso ocorra perda de precisa em uma conversão explicíta (no próximo capítulo aprenderemos como tratar exceçõ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loco de comandos delimita o escopo das variáveis em C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a variável declarada dentro de um bloco de comando(s) é denominada variável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em ambos os bloco de comandos acima temos a variável numero declarada. Isso é possível pois o escopo dessas variáveis é dife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ambém que você receberá um erro de compilação ao tentar executar esse programa pois a linha 6 está tentando utilizar uma variável que não existe (pois a variável número não existe no escopo da linha número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ha quatro resultará um erro, pois você estará tentando declarar uma variável que já existe, pois o escopo da variável numero declarada na linha 2 é todo o bloco de comando contido no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a expressão booleana resultar em verdadeiro,o bloco de comandos do if é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a expressão booleana resultar em falso e existir um else, o bloco de comandos do else será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ocê não é obrigado a utilizar a cláusula else (else  é opc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if pode conter quantos else if você quiser, mas apenas um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ando o bloco de comandos do if possuir mais de uma linha, você deve utilizar as chaves para delimitar blo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É uma boa prática você sempre utilizar as chaves para delimitar o bloco de comandos para o corpo do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ure sempre identar os blocos if em seus progr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pelo corpo do if ter somente uma linha, você não precisar utilizar o delimitador de bloco de comandos {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utilizar vários else if, mas somente um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exemplo ilustra a necessidade da utilização do delimitador de bloco de comandos no corpo do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e o comando switch quando desejar fazer múltiplas compara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e o comando break para sair do bloco de comando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o valor da variável for igual ao valor de uma das constantes, o bloco de comandos do case é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nenhum case corresponder ao valor da variável e existir um bloco default, este sérá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tipos de dados que você pode utilizar no comando switch são: integer, char, enum ou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nstantes do comando case devem ser únicas, isto é, elas não podem se repe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nte um comando default pode ser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quanto a expressão booleana resultar em verdadeiro, o bloco de comandos será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expressão booleana é testada antes da execução da primeira ite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bloco de comandos do while será executado 0 ou mais ve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r que nesse caso o bloco de comandos do while não será executado nenhuma v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expressão booleana é testada após a execução da primeira iteração (isso quer dizer que o bloco de comandos sempre será executado ao menos uma ve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bloco de comandos do do...while será executado 1 ou mais ve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tentar para o ; no fechamento do parênteses da expressão boole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quando sabemos quantas vezes o laço deverá ser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ha em vermelho irá resultar um erro de compilação, pois o escopo da variável I é o corpo do laço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variáveis inicializadas devem ser do mesmo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e o comando foreach para iteração em cole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não pode alterar o valor da variável dentro da iteração, caso contrário receberá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ando break faz sai da iteração mais próxima (switch, do, do…while, for ou for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ando continue vai para o próximo passo da iteração (do, do…while, for ou for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as as exceções são derivadas de Exception (que é parte do CL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ceptions são classes específicas para o tratamento de erros de nossa apl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trecho de código propicío a erros é bloco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(s) bloco(s) catch são responsáveis pelo tratamento do(s) erro(s) (serão executados somente na ocorrência de um er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utilizar quantos bloco catch dese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loco finally (opcional) será sempre executado (com ou sem a ocorrência de err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não existir um bloco catch para o tratamento da exceção gerada no escopo atual, o CLR irá procurar por um bloco catch na função que chamou o programa atual. Esse processo se repetirá até que um bloco catch apropriado seja encontrado ou até encontrar o final da funçãi Main (se isso acontecer, a aplicação seráabort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lógica da aplicação fica em uma parte separada do código (bloco 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LR executa um throw quando ocorre uma exeção e transfere a execução da aplicação para o bloco catch mais próx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 o comando throw, nós podemos gerar nossas próprias exceções, inclusive com mensagens mais amigáv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criar suas próprias classes de exceções (derivando de exception direta ou indiretamente) e dispará-las através do comando th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idado com o escopo dos objetos ex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ão utilizar duas exceções do mesmo tipo em um mesmo bloco try..c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você utilizar uma exceção mais genérica para menos genérica resultará em um erro de compil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te executar um throw com um objeto Exception, pois esse é um erro muito gené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ure sempre incluir uma descrição do erro quando executar um th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etue um throw sempre com a classe mais específica possí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a o corpo do método Main dentro de uma exceção. Desta forma sua aplicação não abortar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ta para programadores Java: o nome da classe não precisa ser o mesmo nome do arqu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assinatura do método Main deve ser: public static void Main (você só deve alterar isso somente quando necessár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da classe pode ter um método Main, mas apenas um pode ser o ponto de entrada da apl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ando o método Main termina ou retorna, a aplicação ter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plicar namespaces: organização lógica de classes do .NET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ystem é o namespace mais importante namespace do .NET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dores: são modificadores de tipo de acesso do método. Por enquanto vamos utilizar 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orno: tipo de dado de retorno do método. Se o método não retornar nenhum valor, especificar a 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e: não pode ter mesmo nome de uma variável, constante ou qualquer item declarado na classe (com exceção de método – ver conceito de sobrecarga mais adia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êtros: lista de parâmetros separadas por vírugla que o método recebe (tipo de dado + nome do parâmetro). Deve estar sempre entre parênteses, mesmo que não existam parâmetros para o mét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 do método: Você sempre deverá utilizar o delimitador de bloco de comandos { } para métodos, mesmo que o corpo do método seja composto de uma única lin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in é um exemplo de método. Você pode utilizar a mesma sintaxe para criar os seus própri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xemplo acima temos três métodos: Main, DizerAlo e Writ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s os métodos devem pertercem obrigatoriamente a uma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que o método DizerAlo na class um possui o modificador de tipo de acesso public. Isso faz com que esse método seja visível a todas as classes que foram fazer uso da classe 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odificador de tipo de acesso padrâo é private. Então, se você não especificar um modificador de tipo de acesso, o método será privado (priv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ão se preocupem com os modificadores de tipo de acesso agora, pois teremos um capítulo dedicado a 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que no exemplo do slide que você pode efetuar chamadas aninhadas de métodos (um método fazendo chamada a outros métod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ando return retorna imediatamente do método,isto é, se existirem linhas após o comando return, estas são serão execut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ê pode ter vários comandos return em um mesmo método (controlando a execução deste através de comandos if e switch), mas somente um deles será execu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verdade isso nada mais é do que o conceito de escopo que vimos no terceiro cap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r que a variável número não faz parte do escopo do método Contar, por isso irá gerar um errro de compilação (o escopo da variável numero é o método Main onde ela foi declara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e exemplo, a variável número faz pate da definição da classe (ela é na verdade um campo da classe), portanto então fazer parte do escopo da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6000" y="-27000"/>
            <a:ext cx="2376360" cy="7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csref/html/vclrftagsfordocumentationcomments.asp" TargetMode="External"/><Relationship Id="rId2" Type="http://schemas.openxmlformats.org/officeDocument/2006/relationships/hyperlink" Target="http://msdn.microsoft.com/library/default.asp?url=/library/en-us/csref/html/vclrftagsfordocumentationcomments.asp" TargetMode="External"/><Relationship Id="rId3" Type="http://schemas.openxmlformats.org/officeDocument/2006/relationships/hyperlink" Target="http://msdn.microsoft.com/library/default.asp?url=/library/en-us/csref/html/vclrftagsfordocumentationcomments.asp" TargetMode="External"/><Relationship Id="rId4" Type="http://schemas.openxmlformats.org/officeDocument/2006/relationships/hyperlink" Target="http://msdn.microsoft.com/library/default.asp?url=/library/en-us/csref/html/vclrftagsfordocumentationcomments.asp" TargetMode="External"/><Relationship Id="rId5" Type="http://schemas.openxmlformats.org/officeDocument/2006/relationships/hyperlink" Target="http://msdn.microsoft.com/library/default.asp?url=/library/en-us/csref/html/vclrftagsfordocumentationcomments.asp" TargetMode="External"/><Relationship Id="rId6" Type="http://schemas.openxmlformats.org/officeDocument/2006/relationships/hyperlink" Target="http://msdn.microsoft.com/library/default.asp?url=/library/en-us/csref/html/vclrftagsfordocumentationcomments.asp" TargetMode="External"/><Relationship Id="rId7" Type="http://schemas.openxmlformats.org/officeDocument/2006/relationships/hyperlink" Target="http://msdn.microsoft.com/library/default.asp?url=/library/en-us/csref/html/vclrftagsfordocumentationcomments.asp" TargetMode="External"/><Relationship Id="rId8" Type="http://schemas.openxmlformats.org/officeDocument/2006/relationships/hyperlink" Target="http://msdn.microsoft.com/library/default.asp?url=/library/en-us/csref/html/vclrftagsfordocumentationcomments.asp" TargetMode="External"/><Relationship Id="rId9" Type="http://schemas.openxmlformats.org/officeDocument/2006/relationships/hyperlink" Target="http://msdn.microsoft.com/library/default.asp?url=/library/en-us/csref/html/vclrftagsfordocumentationcomments.asp" TargetMode="External"/><Relationship Id="rId10" Type="http://schemas.openxmlformats.org/officeDocument/2006/relationships/hyperlink" Target="http://msdn.microsoft.com/library/default.asp?url=/library/en-us/csref/html/vclrftagsfordocumentationcomments.asp" TargetMode="External"/><Relationship Id="rId11" Type="http://schemas.openxmlformats.org/officeDocument/2006/relationships/hyperlink" Target="http://msdn.microsoft.com/library/default.asp?url=/library/en-us/csref/html/vclrftagsfordocumentationcomments.asp" TargetMode="External"/><Relationship Id="rId12" Type="http://schemas.openxmlformats.org/officeDocument/2006/relationships/hyperlink" Target="http://msdn.microsoft.com/library/default.asp?url=/library/en-us/csref/html/vclrftagsfordocumentationcomments.asp" TargetMode="External"/><Relationship Id="rId13" Type="http://schemas.openxmlformats.org/officeDocument/2006/relationships/hyperlink" Target="http://msdn.microsoft.com/library/default.asp?url=/library/en-us/csref/html/vclrftagsfordocumentationcomments.asp" TargetMode="External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cptools/html/cpconNETFrameworkTools.asp" TargetMode="External"/><Relationship Id="rId2" Type="http://schemas.openxmlformats.org/officeDocument/2006/relationships/hyperlink" Target="http://msdn.microsoft.com/library/default.asp?url=/library/en-us/cptools/html/cpconNETFrameworkTools.as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2349360"/>
            <a:ext cx="7236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urso de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 Con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nsole.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ole.Write( “TouchAndThink.NET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nsole.Write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ole.WriteLine( “TouchAndThink.NET”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nsole.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r letra = Console.Read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nsole.Read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ing linha = Console.ReadLine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int numer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Contar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r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tornando va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larar o método sem o tip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ecificar o tipo de dado de retorno do método no lugar da palavr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ecificar o valor de retorno no comand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m método nã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oid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sempre deve retornar um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tornando valores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int GetNumero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( "Digite um número: 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GetNumero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possui um método que retorna a data de hoje e imprima essa data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áveis que são passadas para 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r os parâmetros entre parênteses após o nome d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a o tipo de dado e o nome de cada parâmetro (se existir mais de um parâmetro, separá-los utilizando vírg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r os parâmetros na chamado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DizerOla( string no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Ola " + no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ring nome = "Joã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zerOla( no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possui um método que efetua a operação matemática de s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icite dois números ao usuário e utilize esse método para somar esses números e mostrar o resultado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de Parâme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m por v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agem por referê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âmetros de saída (out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va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anismo padrão de passagem de parâ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âmetro pode ser alterado no corpo do método e não terá efeito no valor do variável utilizada na chamada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agem por val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SomarUm( int numer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 num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marUm( n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n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amos utilizar o Microsoft Visual Studio 2005 para desenvolver o programa Hello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refe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uma referência para uma mesma região na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f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na definição e na chamada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ções no parâmetro irá afetar a variável utilizada na chamada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f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cada um dos parâmetros do método que são referência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inicialize a variável antes de utilizá-la como parâmetr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agem por referência 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SomarUm( ref int numer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 num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marUm( ref n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num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s de s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ambém é uma referência para a mesma região na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na definição e na chamada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cada um dos parâmetros do método que são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não precisa inicializar a variável antes de utilizá-la como parâmetro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âmetro de saíd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GetNomeIdade( out string nome, out int idad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( "Digite seu nome: 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me  = Console.ReadLin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( "Digite sua idade: 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dade = int.Parse( Console.ReadLine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ring no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id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tNomeIdade( out nome, out idad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Nome: " + nome + "\nIdade: " + idade.ToString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car em prática os exercícios vistos até aqui para visualizar as diferenças entre os mecanismos de passagem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a de parâmetros vari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quando não se sabe ao certo o número de parâmetros que o método irá rec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ser sempre o último parâmetro da lista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canismo utilizado é sempre passagem p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sta de parâmetros variada  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Nomes( params string[ ] nome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each( string nome in nome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o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s( "João", “Tiago", "Leonardo", "Rodolf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carga de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étodos com mesmo nome em uma classe, porém co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natur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métodos devem possuir listas de parâmetr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ê não pode compartilhar nomes entre variáveis, enumerações, estruturas, etc... Apenas entr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ssinatura de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me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 de dado dos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dificador do(s) parâmetro(s) (ref 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tem efe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me(s) do(s) parâmetro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 de dado de retorno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métodos 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int Soma( int num1, int num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turn ( num1 + num2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int Soma( int num1, int num2, int num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turn ( num1 + num2 + num3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Soma( 1, 2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Soma( 1, 2, 3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ipos de Comentá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ntando uma únic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ntário várias lin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* ...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açã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faça uso de sobrecarga de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ão geral de mat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ando mat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mat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da para agrupament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uma seqüência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os os elementos devem ser do mesmo tipo de 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os são acessados utilizando-se um (ou mais) índice(s) inteiro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Matr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 num1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 num2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 num3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 num4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 num5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1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2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3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4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5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7640" y="1844640"/>
            <a:ext cx="425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ass Matr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[ ] numeros = new int[5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1, 2, 3, 4, 5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( int i = 0 ; i &lt; 5 ; i++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ole.WriteLine(numeros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trizes – Notação em C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_de_dado[ ] nome_da_matri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spec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 de dado dos elementos d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lchetes (sem o número de ele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nome da variável d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clarando Ma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atrizes de uma dimensão (unidimension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 ] nume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índice associado a cada elemento d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atrizes de duas dimensões (bidimension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[ , ] nume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is índices associados a cada elemento d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ada vírgula utilizada entre os colchetes c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uma nova dimensão para 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cessando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forme o nome da matriz e índice desejado entre colch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 = numeros[ 1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 = numeros[ 1, 1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 elemento inicial da matriz é acessado através do índic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 = numeros[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 = numeros[ 0, 0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terando Elem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forme o nome da matriz e índice desejado entre colch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umeros[ 1 ]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umeros[ 1, 1 ]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ocumentação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&lt;summar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Este é meu primeiro programa em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&lt;/summar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&lt;remark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Utilizando o método WriteLine da classe Cons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&lt;seealso cref="System.Console.WriteLin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/ &lt;/remark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Hello World Documentad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Ma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eclarar a matriz não cria uma instância da mesma (as matrizes são tipos de dados referência e não tipos simp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deve utilizar 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criar uma instância d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deve especificar a dimensão da matriz no momento da criação (você não poderá redimensionar a matriz após sua cri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elementos da matriz são implicitamente inici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Matrizes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 ] numeros = new int[ 5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 ( int i = 0 ; i &lt; 5 ; i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s[ i 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declara e cria matrizes. Acesse e altere os elementos dessas matr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nicializando Ma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pode inicializar os elementos da matriz no momento da criação com valores que dese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pode utilizar expressões complexas na inicialização de matrizes (variáveis, expressões, métod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sempre  deve explicitamente inicializar todos os elementos da matriz (o número total de elementos da matr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Matrizes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[ ] numeros = new int[ 5 ] { 1, 2, 3, 4, 5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or ( int i = 0 ; i &lt; 5 ; i++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numeros[ i ]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nicializando Matrizes Multidimens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regras para inicialização de matrizes unidimensionais devem ser seguidas na inicialização de matrizes multidimens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deve inicializar todos os elementos de todas as dimensões da matriz multi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Matrizes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[ , ] numeros = { { 1, 2, 3 }, { 4, 5, 6 }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or ( int i = 0 ; i &lt; 2 ; i++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or ( int k = 0 ; k &lt; 3 ; k++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numeros[ i, k ]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o exercício anterior para inicializar as matrizes cr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mensionando Matrizes em Tempo de Exec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número de elementos de uma matriz não precisa ser uma constante (pode ser definido em tempo de execu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definido em tempo de execução, não podemos inicializar explicitamente os elementos d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atrizes_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( "Número pessoas: 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numPessoas = int.Parse( Console.ReadLine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ring[] pessoas = new string[ numPessoas 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( int i = 0 ; i &lt; numPessoas ; i ++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( "{0} pessoa: ", ( i + 1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s[ i ] = Console.ReadLin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 ( int i = 0 ; i &lt; numPessoas ; i++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soas[ i ]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ags Documentação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&lt;summary&gt;...&lt;/summar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ve descr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&lt;remarks&gt;...&lt;/remark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crição detalh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&lt;seealso cref&gt;...&lt;/ seeals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ica uma referência para outro membro ou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cumentação completa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msdn.microsoft.com/library/default.asp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?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url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=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library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en-us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csref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/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vclrftagsfordocumentationcomments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iando 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do você faz a cópia de uma matriz, na verdade as duas variáveis estão apontando para a mesma região na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o se deve ao fato das matrizes serem tipos de dados referência e não tipos de dad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Matrizes_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] numeros = { 1, 2, 3, 4, 5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] copiaNumeros = nume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piaNumeros[ 0 ]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s[ 0 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copiaNumeros[ 0 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riedades e Métodos das 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s matrizes são implicitamente derivadas d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Arra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Esta classe fornece uma série de métodos e propriedades interessantes para manipulação de matr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lementos das matrizes podem ser percorridos com o comand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fo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pr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ank: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tém a dimensão d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Length: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tém o número de elementos d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 ] numeros = new numeros[ 5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ank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enght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 , ] numeros = new numeros[ 2, 4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ank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enght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Matrizes_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[] numeros1  = { 1, 2, 3, 4, 5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Rank..: {0}", numeros1.Rank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Length: {0}", numeros1.Length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t[,] numeros2 = { { 1, 2, 3, 4, 5 }, { 6, 7, 8, 9, 10 }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Rank..: {0}", numeros2.Rank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Length: {0}", numeros2.Length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rt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rdena os elementos da matriz de uma dim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ear: 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eta” elementos da matriz para as posições in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one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 uma cópia da matriz (nova instâ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tLength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orna a dimensão da matriz. Possui comportamento diferente entre matrizes unidimensionais e multidimens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riz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Matrizes_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[] numeros = new int[ 5 ] { 5, 3, 1, 2, 4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ystem.Array.Sort( numero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( int i = 0 ; i &lt; numeros.Length ; i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s[ i 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que solicita um número a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verá solicitar ao usuário N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imir os N números digitados orde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tornando Matrizes de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atrizes_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[] numeros = GetNumeros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 ( int i = 0 ; i &lt; numeros.Length ; i ++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numeros[ i ]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int[] GetNumero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[] numeros = new int[5] { 1, 2, 3, 4, 5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return ( numero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ndo Matrizes como Parâmetro para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atrizes_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[] numeros = new int[ 5 ] { 1, 2, 3, 4, 5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mprimeNumeros( numero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ImprimeNumeros( int[ ] numero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 ( int i = 0 ; i &lt; numeros.Length ; i ++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numeros[ i ]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erando Documentação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o Visual Stud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Menu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 Bui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XML Document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a janel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sc meuprograma.cs /doc:meuxml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rgumentos de Linha de Com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atrizes_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string[] arg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 ( int i = 0 ; i &lt; args.Length ; i++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args[ i ]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Percorrendo Matrizes com o comando for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atrizes_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[] numeros = new int[ 5 ] { 1, 2, 3, 4, 5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each ( int numero in numero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o exercício anterior para percorrer a matriz utilizado o comando fo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iderações sobre Ma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ê não pode redimensionar uma matriz após a sua cr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ê só pode armazenar elementos de mesmo tipo em um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 geral, matrizes são rápidas, mas pouco flex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superar essas “carências”, podemos fazer uso de cole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le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.Collec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class Colec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ArrayList lista = new ArrayList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ista.Add( "TouchAndThink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ista.Add( 99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ista.Add( tru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ista.Add( DateTime.No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reach( object elemento in list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elemento.ToString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es 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r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ção a objetos em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ma “molde” que descreve comportamento e atributos padrões de uma determinada ent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mplo: todos os carros possuem comportamento e características que são padrões entre todos os carros (conjunto de todos os car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sta por memb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pos (características, proprie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étodos (opera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el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ando a documentação XML de um programa escrito em C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m objeto é uma instância (ocorrência) de um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emplo: uma ferrari seria um exemplo de uma instância da classe c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ipo Valor x Tipo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Tipo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s de dad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, decimal, char, bool, enum, 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rmazenados na pilha (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Tipo re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qlConnection, Console, noss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rmazenados na memória dinâmica (h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ipo Valor x Tipo Referência 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.Collec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TipoSimples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rayList lista = new ArrayList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sta.Add(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bstraçã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m focalizar os aspectos essenciais inerentes a uma entidade e ignorar propriedades “acidenta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bstraçã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ode ser definida como a capacidade de representar cenários complexos usando term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nte: MSDN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bst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 levar em consideração aspectos importantes da entidade e descartar aspectos des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lasse deve fornecer comportamento essencial da entidade modelada e de maneira fácil e simples de ser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abstração, quando bem aplicada, faz coisas complexas parecerem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de ser definido como a tarefa de tornar um objeto o mais auto-suficiente poss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nte: MSDN Magaz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binar dados e métodos em uma “cápsula” (cla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ar o acesso a membros da “cápsula” (cla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étodos são públicos, acessíveis do lado de fora da classe (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ributos são privados, acessíveis somente pela classe (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cilidade de uso: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esconder”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complexidade do comportamento da entidade na classe (chamada a méto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lass ContaBanc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ivate decimal sal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ublic void Deposito ( decimal val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is.saldo += va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ublic bool Saque ( decimal valo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ool sucesso = ( this.saldo &gt;= valor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f ( sucess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is.saldo -= val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turn ( sucesso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ublic decimal SaldoConta(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turn ( this.saldo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mpos do Ob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pos que descrevem características de objetos individ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carro possui um número de placa di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pessoa possui um número de cpf di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conta bancária possuiu seu próprio sa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precisa criar uma instância da classe para fazer uso de campos d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mpos Está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pos que descrevem características de todos os objetos de um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pos no nível d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os os carros possuem quatro ro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s as contas bancarias possuem mesma taxa de rendimento men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cê não precisa criar uma instância da classe para fazer uso de campos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pil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o Microsoft Visual Stud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Menu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 Buil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a janel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sc /out:meuprograma.exe meuprograma.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Está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m como os campos estáticos, os métodos estáticos estão no nível d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s estáticos só podem acessar atributos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mada para um método estático é efetuada no nível da classe e não nível do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cê não precisa criar uma instância da classe para fazer uso de métodos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embros Estátic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PessoaNaoEst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void Falar( string fras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fras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TestePessoaNaoEst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ssoaNaoEstatica pes = new PessoaNaoEstatica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s.Falar( "TouchAndThink.NET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embros Estátic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PessoaEst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static void Falar( string fras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frase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TestePessoaEst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essoaEstatica.Falar( "TouchAndThink.NET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car os exemplos de membros estáticos e não estáticos em prática para perceber a diferença entre 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inindo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azer uso d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campos e métodos d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ntaxe semelhante da definição de estr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a prática: métodos públicos, campos privados (recomend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inição de Class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string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int 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char sex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void Falar( string fras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fras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ever uma classe em C# que abstrai e encapsula algumas características de um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ificadores de Tipo de A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ublic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acesso não lim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ivate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acesso limitado ao escopo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pode combinar os modificadores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você não especificar um modificador de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 acesso para um membro da classe, este s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 padrã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private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campos e méto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ificador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string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int 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char sex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void Falar( string fras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fras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enas declarar uma variável de uma classe não cria um objeto dest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aça uso do operador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criar um objeto de uma determinad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os os campos da classe são inicializados quando criamos um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r um objeto muitas vezes é chamado de instanciar um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cut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o Microsoft Visual Stud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 Menu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 Start Without Debugging (CTRL+F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través da janel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gite o nome da aplicação (.E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Objeto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Definição d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Teste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soa pes1 = new Pesso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1.Falar( "Oi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ever uma classe que crie objetos da classe carro criada no exercício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Palavra chave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se refere implicitamente ao objeto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 ser resolvida para se resolver problemas de conflito de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étodos estáticos não podem fazer uso d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his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ois método estáticos se encontram no nível da cla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his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C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string c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void Pintar( string co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// cor = cor;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&lt;- comportamento estr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is.cor = c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ranç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de ser definida como a capacidade de uma classe herdar atributos e comportamento de uma outr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nte: MSDN Magaz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ança especifica um relacionamento “é um tipo de” entr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as classes especializando classe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lasse derivada herda todos os membros da class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547640" y="1989000"/>
          <a:ext cx="5689800" cy="36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5689800" cy="36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quia de classes: classes que derivam de classes derivadas (recomenda-se no máximo de 5 a 7 níveis de heranç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ança simples: ocorre quando uma classe é derivada de apenas 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ança múltipla: ocorre quando uma classe é derivada de duas ou mai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imorfismo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gnifica “muitas formas” ou o “estado de existir em muitas form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nte: MSDN Magaz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nome do método reside na classe base (oper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implementação do método reside nas classes de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da implementação pode possuir um comportamento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pur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figurando “breakpoi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ight Click na linha -&gt; Insert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cute um clique na margem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ecutando passo-a-p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Menu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-&gt;Start (F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aminando e modificando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ravés da janelas Autos e Wac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340000" y="1989000"/>
          <a:ext cx="444348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9000"/>
                    <a:ext cx="44434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g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ção a objetos é só 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ão, esses são apenas os qu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lares da 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apsu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anç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Abstra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es que existem para serem implementadas (classes que derivem d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ão podemos criar instâncias d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demos apenas criar instâncias d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r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erações em classes abstratas podem conter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Abstra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835280" y="1628640"/>
          <a:ext cx="5680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628640"/>
                    <a:ext cx="5680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s contém apenas operações, sem nenhuma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ê também não pode criar instâncias d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erações em interfaces não podem conter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nterfaces devem ser implementadas por classes (deriva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almente as interfaces estão no topo da hierarquia d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816360" y="1600200"/>
          <a:ext cx="1509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360" y="1600200"/>
                    <a:ext cx="1509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Hierarquia d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lasses do .N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amespaces em .N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versão de dados do tipo re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 que Iremos Utili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string no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int id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void Falar( string fras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fras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Homem : Pess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ulher : Pess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Quem sou eu - Orig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ormado em processamento de dados pela UNIFI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ordenador da equipe de desenvolvimento da MSPi do Brasil Softwares de Gestão S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icrosoft Certified Professional em 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-líder da célula acadêmica TouchAndTouch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alestrante Microsoft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5589720"/>
            <a:ext cx="21337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ilar, executar e depurar um programa escrito em C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mos implementar essas classes pois elas serão utilizadas ao longo deste capít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ipo Valor x Tipo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dado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: int, decimal, char, bool, enum,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dos na pilha (st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ém diretamente o valor da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dados complexos, mais poderosos (obje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: SqlConnection, Console, nossas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dos na memória dinâmica (he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variável contém uma referência para os dados (que são armazenados em uma outra área da mem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clarando Variáveis do Tipo Refe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clar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soa p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ndo uma instância da classe (objet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 = new Pesso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clarando e criando em uma única linh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ois de criado, você pode acessar os membros do objeto através do operador “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sempre deve instanciar um objeto antes de utilizá-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o contrário receberá uma exceção do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ullReference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struindo Variáveis do Tipo Refe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uindo explicit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uindo implicit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eixe o escopo em que a variável está contida term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 do Tipo Refe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reateAndDest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.nome 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.idade = 2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parando Variá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alu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!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aram os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ferenc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=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!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aram as referências, não os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os tipos de referência não podemos uti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outros operadores relacionais (&lt;,&gt;,&lt;= e 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parando Variáve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omp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1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1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2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2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f ( pes1 == pes2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Iguais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Diferentes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ferências Para o Mesmo Ob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as referências podem “apontar” para o mesm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áveis do tipo referência mantém uma referência para 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as maneiras de acessar o mesmo objeto para leitura/esc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ferências Para o Mesmo Obje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Multiple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1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2 = pes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1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1.no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2.no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declara duas variáveis do tipo referência que fazem referência para o mesm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ua essas variáveis após sua ut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erramentas SD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RDBG.EXE (Runtime Debug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purador de linha de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LASM.EXE (MSIL Assemb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ga a MSIL e gera o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LDASM.EXE (MSIL Disassemb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era MSIL a partir de código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sta completa de utilitários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msdn.microsoft.com/library/default.asp?url=/library/en-us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cptools/html/cpconNETFrameworkTools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áveis do tipo referência aceitam as três formas de passagem de parâme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agem por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agem refe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âmetros de sa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Va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método recebe uma cópia da referência (duas “variávei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nte a execução do método as d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áveis” estarão se referenciando ao mesm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o significa que qualquer alteração no “parâmetro”, não irá alterar o objeto ao qual ele faz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Val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ParamRefBy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TrocarNome( Pessoa 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.nome = "Leandr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rocarNome( pe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.no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Refe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método recebe a mesma referência (apenas uma “variáve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sse caso teremos apenas uma referência para 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quer alteração no parâmetro irá afetar a variável dire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ssagem por Referênci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ParamRefByR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TrocarNome( ref Pessoa 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.nome = "Leandr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rocarNome( ref pe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.no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 de S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método recebe a mesma referência (apenas uma “variáve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sse caso teremos apenas uma referência para 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quer alteração no parâmetro irá afetar a variável dire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o mesmo critério da passagem por referência, com a diferença de que o parâmetro tem que ser alt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râmetro de Saíd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ParamRefB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TrocarNome( out Pessoa p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.nome = "Leandr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.nome = "Joã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rocarNome( out pe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.no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faz uso de parâmetros (por valor, por referência e parâmetro de saída) com variáveis do tipo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ce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é uma classe do .N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omente objetos do tipo Exception (ou derivados) pode ser utilizando nos comandos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das as exceções são derivadas de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System.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é 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é um atalho para a class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mutável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depois de definida, a string não pode ser alterada. Quando alterada, na verdade é criada uma nova instância da classe contendo a m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tringBuilder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lasse para “construção” de strings otim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monst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ndo o utilitário de linha de comando ILDASM para verificar código M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priedades e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c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q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pr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rackets [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en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r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class Class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ring celula = "TouchAndThink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har prim = celula[ 0 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Primeiro caracter: " + prim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size = celula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Propriedade Lenght: " + siz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Verificar demais exemplos na ClassString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Operadores de Comparação de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operadores == e != são sobrecarregados para a classe string e podem ser utilizados na comparação de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operador == é equivalente ao método String.Equals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operador != é equivalente ao mé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! String.Equals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operadores relacionais (&lt;;&gt;,&lt;=,&gt;=) não podem ser utilizados para a class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utilize métodos e propriedades da class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ierarquia de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classes no .NET Framework derivam ultimamente d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direta ou indiret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ip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é um apelido par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é a classe base de todas 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você cria uma classe e não especifica nenhuma classe pai, você está na verdade derivando d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Com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étodos pertencentes a class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S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et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in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cê pode sobrescrever esses métodos para fornecer o comportamento dese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os os objetos possuem esse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Comu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ommom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pes.ToString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bter informações do tipo de objeto em tempo de execução – isso é chamado d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erenciado pelo namespace System.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rmas de obter o tipo de um ob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perador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yp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étod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GetTyp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da class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lass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Type.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 esta classe podemos obter informações detalhadas de um objeto (campos, métod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Reflection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.Refl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ype tipo = typeof(Pesso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Tipo: {0}", tipo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Type tipo2 = pes.GetTyp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Tipo: {0}", tipo2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Name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IO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lasses para manipulação de arquivos e dire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XML: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porte a XML e aos vários padrões desta linguagem (NameSpace, Schemas, XPath, XSLT, D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Data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lasses que constituem o ADO.NET (um namespace para cada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Windows.Forms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lasses do 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ystem.Web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lasses do 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Conversão de Dados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Valu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mplí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plícita (utilizando o operador 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lasse System.Co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explícita pode gerar uma exceção (interessante incluir conversões explícitas em um bloco try...catch...fi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versão de Da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onvertingValu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Conversão im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numInt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ong numLo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umLong = num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Conversão explí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numInt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ong numLong2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umInt2 = (int)numLong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Conversão de Dados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Referenc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ão de filho para p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mplícita ou explí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dá c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podemos converter para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ão de pai para fi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plícita (requer 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 gerar uma exeção (InvalidCast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mos utilizar operadores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as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conversão de tipo de dado de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versão de Da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onvertingRefenc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Conversão implícita (filho para pa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Homem hm = new Homem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 = hm;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OU pes = (Pessoa)h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Conversão explícita (pai para filh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2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Mulher ml = pes2 as Mulher;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orna verdadeiro se a conversão pode ser feita (não efetua a conversão efetivamente, apenas te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um tipo de conversão “é um tipo 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 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Is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Homem hm = new Homem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f ( hm is Pesso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 = h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É uma pessoa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Não é uma pessoa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ão entre tipo de dado de referência (mesma coisa que o 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LR irá checar se a conversão é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ocorrer erro na conversão, não gera exceção apenas retorn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verifique o retorno desse tipo de conversão, senão será gerada uma exceção do tip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ullReferenc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 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As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Homem hm = pes as Hom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f ( hm == null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Converteu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"Não Converteu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objeto é a base para todas 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lquer tipo de dado de referência pode ser convertido para object (implícita ou explicit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lquer tipo de dado de referência pode ser armazenado em object (explicit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object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ass ConvertingTo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soa pes = new Pessoa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bject ob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Três maneiras de converter para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bj = 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bj = (object)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bj = pes as objec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Duas maneiras e converter de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 = (Pessoa)ob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es = obj as Pesso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Boxing e Unbox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Bo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ão de value type em referenc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 ser implícito ou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eralmente ocorre na passagem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Unbo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ão de reference type em valu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 que ser explic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 gerar uma exc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Boxing e Unboxing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public class BoxingUnbo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numero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bject bo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ox = numero;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Boxing Implíc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ox = (object)numero;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Boxing Explíc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box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umero = (int)box;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/ Unbo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er um programa em C# que faça uso de boxing e unbo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métodos 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campos somente le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métodos de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Constru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ão métodos executados automaticamente quando instanciamos um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Ob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ocando memória (hea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mos 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mando o método constru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ecificar o nome da classe seguido de parên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dois passos descritos acima devem ser efetuados um uma única l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os os objetos seguem essa regra (mesmo que implicit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 Padr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essibilidade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smo nome d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tipo de dado de retorno (nem mesmo 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parâmetros 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icializa todos os ca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do implicitamente pelo compilador se não for criado explic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*) o construtor padrão não recebe parâmet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 um método construtor pode rec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 Padrã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ublic string no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ublic int ida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ublic void Falar( string fr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lass TestePess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tatic void Ma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essoa pes = new Pesso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pes.Falar("Olá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nder os tipos de dados do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mear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larar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ribuir valor à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ar seus próprios tipos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ão entre tipos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screvendo o  Construtor Padr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mos criar nossos próprios 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onstrutor irá inicializar implicitamente os campos que não forem inicializados explic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IDADO: se a inicialização falhar, não teremos o objeto disponível para uso. Procure não fazer tarefas complexas nessa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screvendo o Construtor Padrão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ring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int 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Pessoa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is.nome = "Joã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carga de Constru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tores são métodos e podem ser sobrecarregados como qualquer outr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mo nome, escopo, mas parâmetr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IDADO: se você escrever um construtor, o compilador não criará um construtor padrão. Você terá que escrever um explic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carga de Construtores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ring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int 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Pessoa( string no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is.nome =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 Somente Lei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donly char sex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ras para inicial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ão inicializadas implic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m ser inicializadas na decl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m ser inicializadas no método constr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m ser alt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t char sexo = ‘M’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guem as mesmas regras das variáveis somente le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es Priv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tor privado impede da classe de ser insta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étodos da instância não pode ser executados, apenas método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 método interessante de programarmos nossas antigas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compilador não irá gerar um construtor padr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es Priva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Func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vate Funcoe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int Soma(int num1, int nu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num1 + num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es Está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de ser utilizado para inicializar campo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cutado pelo “class loa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cutado antes do construtor da inst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 ser execu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 ter modificador de tipo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 ter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 conter a palavra chav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es Estátic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Aplica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string nomeUsua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string razao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Aplicaca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Usuario = "Joã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azaoSocial = "Razão Social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Commom Typ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arte do CLR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Commom Language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partilhado entre todas as linguagens 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ipos de variá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Valu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ferenc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empo de Vida de Variá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a a existir na decl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truída no final do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ipo Re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a a existir na decla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truída pel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Garbag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á destruir e recuperar a memória dos objetos que não estão mais uti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nte objetos que não podem mais ser referenciados são destr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á disparar o métod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liz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 objeto que está sendo destr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estru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modificador de tipo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tipo de dado de retorno (nem mesmo 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smo nome da classe com prefixo 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podemos executar ou sobrescrever o método Fin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ompilador irá converter o método destrutor em um método Fin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estrutores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~Pessoa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"Destrut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(SqlConnection con = new SqlConnection( 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ring strConexao = "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.ConnectionString = strConex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.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objeto será destruído no final do bloco de com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deve implementar a interfac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ystem.I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rivand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ndo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classes se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classes abstr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operador de herança em C# é o “: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derivada herda a maioria dos membros da classe pai (menos os construtores e destrut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base deve ser desenhada para suportar he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derivada não pode ser mais acessível do que a classe p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# não suporte herança múlti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Pesso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Pessoa( string no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his.nome = no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void Falar( string fras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Valu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istem dois tipos de valu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uilt-in types (Simple ty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ser defined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eranç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Homem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Mulher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Teste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omem hm = new Homem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m.Falar("Olá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Prot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 modificador de tipo de a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a própria classe e derivadas podem acessar os membros com esse modificador de tipo de a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como um modificado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as classes derivadas e com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classes ex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br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são implicitament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as classes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de ser utilizado em estr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Protected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tected string no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tected int 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É possível executar o método construtor da classe base. Para i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claração do construtor deve utilizar a palavra cha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ão é possível acessar construtores p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mos utilizar a palavra cha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acessar membros da classe p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compilador irá efetuar uma chamada implícita ao construtor da classe base se isso não for feito explicit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idado com parâmetros na execução explícita de métodos na class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strutor Bas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Homem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Homem( string nome ) : base ( nom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Mulher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Mulher( string nome ) : base ( nom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s que podem 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bresc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s não virtuais não podem ser sobresc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dos para implementa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morf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suir 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s virtuais não podem 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s virtuais não podem 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 Virtua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lass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ublic virtual void Falar( string fras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screvendo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r uma nova implementação para um método definido com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étod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v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ssuir 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métodos devem possuir a mesma assinatura (virtual e overr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pode sobrescrever um método sobr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não pode utiliza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co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irtual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override é implicitamente vir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pode ser utilizado junto co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brescrevendo Méto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lass Mulher : 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ublic override void Falar(string fr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scondendo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zer uso da palavra cha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especificar uma nova implementação para um 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onde” método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rtua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ão virt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conde” métodos que tenham a mesma assin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cê pode utiliza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junto co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mbém pode ser utilizado em cam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imp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dentificados através de palavras reserv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ssas palavras reservadas são na verdade “apelidos” para estruturas pré-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// palavra reserv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ystem.Int32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// struc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scondendo Méto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lass Mulher : Pes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ublic new void Falar(string fr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ole.WriteLine(frase + " - " + fra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Sel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s seladas são classes que não podem ser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em classes que não foram desenhadas para serem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ça isso através d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a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ystem.Str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uma classe se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Selad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aled class Homem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Homem( string nome ) : base ( nom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aled class Mulher : Pes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Mulher( string nome ) : base ( nom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a classe sem códig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ntaxe semelhante a declaração de um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terfa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o lugar d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 um contrato que as classes que forem derivar a interface tem que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menda-se utilizar o prefixo “I” para nomear interfaces (padr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Interfa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ém apenas as assinaturas dos métodos (sem modificadores de tipo de aces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métodos das interfaces são públicos por padrão (mas não podem conter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xplicita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métodos de uma interface não podem conter 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s também podem conter propriedades, eventos e indexers (todos sem implement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iando Interfac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erface I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void Falar( string frase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ando Inte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classe pode implementar zero ou mais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interface pode derivar de zero ou mais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e pode ser mais acessível que a interface(s) que ela implem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interface não pode ser mais acessível que a(s) interface(s) bas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e deve implementar todos os métodos das interfaces que estão sendo implementadas direta ou indiretamente (mesmo tipo de retorno, nome e parâme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forma de implementar herança múlti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mplementando Interfa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lass Pessoa : IPess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ublic virtual void Falar( string fras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Abstra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ão classes que não podem ser instanciadas apenas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r a palavra cha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ma sintaxe de classes não abstratas (classes concre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 conter implementação e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m implementar interfa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Abstrat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bstract class Pessoa : IPess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otected string no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otected int 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Pessoa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Pessoa( string nom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his.nome = no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virtual void Falar( string fras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fra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imp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1341360"/>
          <a:ext cx="8362800" cy="5224680"/>
        </p:xfrm>
        <a:graphic>
          <a:graphicData uri="http://schemas.openxmlformats.org/drawingml/2006/table">
            <a:tbl>
              <a:tblPr/>
              <a:tblGrid>
                <a:gridCol w="2376360"/>
                <a:gridCol w="1920960"/>
                <a:gridCol w="4065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lavra reserv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u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res Permit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-128 e 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0 e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-32768 e 32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UInt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0 e 65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-2137483648 e 2147483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UInt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0 e 4294967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-9223372036854775808 e 92233720368547758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UInt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iros entre 0 e 18446744073709551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i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x10^-45 até 3,4x10^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x10^-324 até 1,7x10^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x10^-28 até 7,9x10^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r booleano, verdadeiro ou fa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acteres single uni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quência de caract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asses Abstratas X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bas existem para serem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bas não podem ser implemen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bas não podem ser se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 não podem conter implementação (classes abstratas pod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 não podem declarar membros não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 só podem deriva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o modificador de tipo de acesso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agre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Revisando esc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tilizando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ter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um modificador de tipo de acesso assim com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membros especificados com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terna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sã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úbl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o assembly atual 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assemblies ex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tilizado no escop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tilizando em classes, métodos e cam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ificador de tipo de acesso padrão das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de ser utilizado em estr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de ser utilizado em métodos destr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ificadores de Tipos de A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tected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nternal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l class Internal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l string nome = "João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lAccess i = newInternalAccess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i.nom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reg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a das características da orientação a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um relacionamento entre objetos (com multiplic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tos complexos são construídos a partir de obje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regaçã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P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string c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J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string modoAbri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Porta porta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Janela janela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visando Esco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po determina o tempo de vida de variávei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termina a região do programa que podemos nos referir 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m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sem qualificação (this, base) principalmente quando temos variáveis com mesmo nome em escop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terminado pelo { } (menos o escopo glob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Quem sou eu – He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7566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luno da cadeira de J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strado Eng.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Fábrica de software de jogos para dispositivos mó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o com dispositivos móveis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ALM, Celula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o com jogos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Br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2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Trabalhei com C# + Asp.Net em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penas 3 meses :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prendido “na tora[lmente]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judante de introdução do curso de X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 idéia é não começar o curso ze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Gerar debate e dúv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meando variá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iciar com caracter ou under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ois do primeiro caracter, utilize caracteres e/ou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utilizar palavras reser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mend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utilizar todas as letras maiús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iniciar com under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utilizar abrev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r “PascalCasing” para variáveis de múltiplos n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, métodos, propriedades, enums, interfaces, campos de somente leitura, constantes, namespaces e propri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lC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visando Escop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is escopos temos no exemplo abaix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Porta portaCasa = new Port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Janela janelaCasa = new Janel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sa cas = new Cas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s.portaCasa.Abrir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s.janelaCasa.Abrir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name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dos para resolver problemas de conflito entre classes com mesmo 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rganização lógica d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ideal que classes para um mesmo propósito sejam criadas em um mesmo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amespaces podem ser criados em diversos arquivos (cada classe pode estar em um arquivo fonte difer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ocê não pode especificar um modificador de tipo de acesso para um namespaces (eles são públicos por padr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hor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eclarando name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amespace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amespace Constru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lass P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ublic string c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ublic void Abrir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nsole.WriteLine( "Abir porta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name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 qualificado de uma classe deve conter o namespace no qual a classe está con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s não qualificados somente podem ser utilizados no mesmo escopo do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uma classe é definida dentro de um namespace, temos que utilizar o nome qualificado quando formos acessá-la (menos quando estivermos dentro do name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os aninhar namespaces (namespaces dentro de namesp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z o nampespace para o escop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tilizado para namespaces aninh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e ser a(s) primeira(s) instrução(ões) do programa (escopo glo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os criar alias para um namespace. 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Lista = System.Collections.Array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sta lst = new List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lias pode ser criado para outros namespaces e para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using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Empresa.Construca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Exemplo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sa minhaCasa = new Cas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nhaCasa.janelaCasa.Abrir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nhaCasa.portaCasa.Abrir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namespaces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r PascalC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fixo do nome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r plural quando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nomes de classes iguais a nome de name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meEmpresa.Estoque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junto de classes que interagem entre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assembly pode conter várias classes (lembrar do modificador de acesso inter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a “DL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utilizável, versionável, seguro e auto-descr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em dois tipos de assemblies: privados e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osto logicamen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junto de tipos (classes) 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tadados (manif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nifest é compost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dade: nome, número de versão, cultura (opcional) e uma chaves pública (op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eúdo: informações sobre o conteúdo do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endências: dependências do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assembly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ass Calcul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int Soma( int num1, int num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turn ( num1 + num2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int Subtracao( int num1, int num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turn ( num1 - num2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alavras reservadas em C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861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t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eg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e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r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ze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ckl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che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r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a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da assembly possui um número de versão como parte de sua ident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número de versão de um assembly é composto e quatro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&lt;major version&gt;.&lt;minor version&gt;.&lt;build number&gt;.&lt;revi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.5.125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operadores em C# são métodos espe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uem sintaxe diferente para cla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em uma série de operadores pré-defi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m ser utilizados em classes e estr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mesmo operador pode possuir comportamento diferente dependendo do tipo de dado (o operador + por exemp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es Pré-Defin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g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itmé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, *, /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ó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, |, &amp;&amp;, ||, !, ^,  true, 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atenação de 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o e decre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, 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, !=, &lt;, &gt;, &lt;=, &gt;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ribu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, +=, -=, *=, /=, %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sso a memb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x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 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i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atenação e remoção de deleg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iação de ob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ções de 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, sizeof, type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e de exceções do tipo de overf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ed, unch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reção e endereç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, -&gt;, [ ], &am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emos sobrecarregar os operadores (assim como métodos) para operações com nossas classes e estr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 todos os operadores podem ser sobrecarreg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dores aritméticos, lógicos e binários podem ser sobrecarregados livr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operador de atribuição não pode ser dir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perator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o operador que será sobrecar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em ser métodos públicos e est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vem seguir o padrão operato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decimal operator+( ContaCorrente conta1, ContaCorrente conta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conta1.Saldo( ) + conta2.Saldo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decimal operator-( ContaCorrente conta1, ContaCorrente conta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conta1.Saldo( ) - conta2.Saldo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a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pre devem ser sobrcarregados em p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&lt; e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&lt;= e &g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== e !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brecarregar o método Equals quando sobrecarreg == e != (para efeitos de consist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brecarregar o método GetHasCode se sobrecarregar o método Eq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quals e GetHasCode são métodos herados de ob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acionai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bool operator&gt;( ContaCorrente conta1, ContaCorrente conta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conta1.Compare( conta2 ) &gt;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bool operator&lt;( ContaCorrente conta1, ContaCorrente conta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conta1.Compare( conta2 ) &lt; 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clarando Variáveis Loc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r o tipo e o nome da variá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ê pode declarar múltiplas variáveis em uma mesma lin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, num2, num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os sobrecarregar operadores de conver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plícitos ( palavra chave explic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plícitos (palavra chave implic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a classe sobrecarregar um operador de conversão de string a classe deve também deve sobrecarregar o método ToString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im como métodos, podemos sobrecarregar os operadores várias vezes, desde que tenham assinaturas diferentes (paramê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um operador de conversão puder gerar uma exceção, defina-o como explíc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brecarga de Oper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decimal operator+( ContaCorrente conta1, decimal valo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( conta1.Saldo( ) + val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leg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gações permitir métodos serem executados indire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ém uma referência para um método de um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os os métodos de uma delegação devem ter a mesma assinatura (parâmetros e tipo de dado de reto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taxe semelhante a sintaxe de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legaçõ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delegate void LigarBomb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BombaEle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void LigarBomaElerica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Ligar Bomba Elétrica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mbaEletrica be = new BombaEletrica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garBomba ligar new = LigarBomba(be.LigarBomaEleric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gar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v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o em deleg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qu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ador: provoca o evento para alertar objetos interes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sinante(s): fornece um método para ser executado quando um evento for execu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vento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delegate void LigarBomb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ublic event LigarBomba LigarBomb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ombaEletrica be = new BombaEletric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igarBombas += new LigarBomba( be.LigarBomaEleric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ombaMecanica bm = new BombaMecanica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igarBombas += new LigarBomba( bm.LigarBombaMecanic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igarBombas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vento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ssagem de parâ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âmetros para eventos sempre devem ser passados como EventArgs (ou deriv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étodos disparados por eventos sempre recebem dois parâmetros: object (sender) e uma referência para um tipo EventArgs (ou derivado) com informações sobre o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r exemplo e Windows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opriedades e Index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propr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ndo index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tribuindo Valores à Variá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ribua valores à variáveis através do operador “=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1;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/ Declarando a 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um1 = 0;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/ Atribuind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num1 = 0;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// Declarando a variável e já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  inicializando a me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ri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das para acessar campos de uma classe onde precisamos de processamento adicional antes de modificar / recuperar o valor do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em sintaxe semelhante a sintaxe dos cam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os criar campos somente leitura / escrita utilizando propriedades (através dos blocos get/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ideal que sejam utilizadas para acessos a campo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v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as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 utilizar virtual, override e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ri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[modificador acesso] [tipo de dado] [nome proprieda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[códig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 [nome do campo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[códig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[nome do campo] =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riedad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e 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string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( this.emai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.email = 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riedad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r os campos da classe com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r propriedades para acessar esses cam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ça isso principalmente para as classes de negócios (mapeamento objeto rel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ar exceções, quando necessário, para o bloco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dex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nsformam o objeto em uma “matriz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em sintaxe semelhante as proprie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 a palavra chav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o nome e colchetes (da mesma forma que uma matri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elementos podem ser acessados por uma chave inteira (mais comum) e outros tipos de dados (mais incomum/complex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dex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lic class Index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vate string[] nom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lic Indexer( int numNome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.nomes = new string[ numNomes 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lic Indexer( ) : this(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lic string this[ int posNome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 ( (string)this.nomes[ posNome ]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.nomes[ posNome ]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dexado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public class MyCollection : Collection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public string this[ int posNome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return ( (string)List[ posNome ]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List[ posNome ] = valu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public void Add( string nom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List.Add( nome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public void Remove( string nom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List.Remove( nome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nder o que são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hortlan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o invés de escr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1 = num1 +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e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1 +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o funciona com todos os operadores aritm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atributo é uma classe que pode incluir dados adicionais dentro de u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m ser utilizados em qualquer membro da classes (depende do atrib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tilizado para vários propó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u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r informações d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rcação de métodos e classes como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ilação con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o banc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finidos pel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di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.Diagnost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TestCondi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estConditional tc = new TestConditional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c.TouchOnly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[Conditional("TOUCH"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void TouchOnly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Só serei mostrado com a constante TOUCH definida.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[Serializabl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[NonSerializabl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[WebMetho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[STAThrea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[Obsolet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lguma Promessa Pendent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per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r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 !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cion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 &gt; &lt;= &gt;=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icion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&amp; || ?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itimé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- * /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ribu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 *= /= %= += 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cremento e Decre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o invés de escr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1 = num1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e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1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1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o funciona com todos os operadores “+” e “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cremento e Decre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em duas for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1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+num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numero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preresultado = ++numero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/ preresulatdo =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 posresultado = numero++;   // preresulatdo =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ced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expressões são resolvidos da esquerda para direita (com exceção dos operações de igual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+ y + z é resolvido como ( x + y )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operadores de igualdade são resolvidos da direita para a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= y = z é resolvido como x = ( y = z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ced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operadores atitméticos *, / e % tem maior precedência do que os operadores + 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 + y * z é resolvido como x + ( y * z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ê pode altetar a precedência através do uso de parên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 x + y ) *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a um programa em C# que declara variáveis do tipo simples, atribua valores a estas variáveis e mostre seus respectivos valores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numer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da através d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num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um Cor { Branca, Preta, Azul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ndo uma enum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r corParede = Cor.Bran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strando valor de uma enum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/ Mostra Br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ole.WriteLine( corParede );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stru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da através da palavra chav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ruct Pes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ring no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int 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ndo uma estru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soa pes;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 Declara a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.nome = “João”;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 Altera o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s.idade = 2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faça uso de enumerações e estr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vertendo Variá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# suporta dois tipos de conver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ão implícit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ão explícita de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versão Implíc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# se encarrega de efetuar a conver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intValue = 12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ong longValue = intVal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ões implícitas não falham: podem perder precisão, mas não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versão Explíc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conversões explicitas, você deve utilizar uma expressã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ast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ong longValue = Int64.MaxVal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intValue = (int)longVal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versões explícitas podem falhar. Você pode tratar esse tipo de erro através do uso do blo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checked / unchec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 Será gerada uma exceção no caso de “overfl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ng longValue = Int64.Max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intValue = (int)long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intValu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// Não será gerada uma exceção no caso de “overflow” un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ng longValue = Int64.Max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intValue = (int)longVa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intValu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er um programa em C# que faça conversão implícitas e explícitas de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 bloco de coma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 comandos de 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 comandos de repet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tamento de exce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mitado por {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ê pode “aninhar” bl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nume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ero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Console.WriteLine( "{0}",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int nu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ipos de coma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f 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pet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hile, do, for e fo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Quebra e continu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reak e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f (expressão boole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 do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 do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f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numero % 2 == 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PAR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ÍMPAR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f – 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 posicao = int.Parse( Console.ReadLine( 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posicao == 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OUR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se if ( posicao == 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PRATA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se if ( posicao == 3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BRONZE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Treinar mais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f – ex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numero &lt; 1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Menor que dez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if – exemplo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numero &lt; 1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Menor que dez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lha um dos exemplos apresentados do comando if e coloque-o em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witch ( variável ) /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, char, enum ou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e constante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e constante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e constante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switch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mes = int.Parse( Console.ReadLine( 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t d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switch ( mes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se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ias = 2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se 4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se 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se 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ase 1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ias = 3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efaul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dias = 3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onsole.WriteLine( dias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a um pequeno menu e trata a opção digitada pelo usuário fazendo uso do comando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while ( expressão boolean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while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contador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hile (contador &lt; 1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d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contad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while – 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contador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hile (contador &lt; 1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d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contad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o 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while ( expressão boolean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o while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contador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d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contad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hile ( contador &lt; 1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nder a estrutura básica de um programa simples escrito em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ar a classe Console para operações básicas de entrada / sa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rar a documentação em XML de um programa escrito em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ilar e executar um programa escrito em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urar um programa escrito em C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do while – 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contador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d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contad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hile ( contador &lt; 10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r ( inicialização ; condição ; increment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or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 ( int i = 1 ; i &lt;= 10 ; i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i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or – 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 ( int i = 1 ; i &lt;= 10 ; i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i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Console.WriteLine( "{0}", i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or – ex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 ( int i = 1, k = 1 ; i &lt;= 10 ; i++, k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i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k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a um programa em C# que solicite um número ao usuário e imprima a tabuada dess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or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reach ( variável in coleção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de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oreach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rayList numeros = new ArrayList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( int contador = 1 ; contador &lt;= 10 ; contador++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s.Add( contado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each ( int numero in numero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{0}",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continue  / br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while ( tru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f ( i &gt;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sole.WriteLine( i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tin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- Desenvolver um programa em C# que solicita um número ao usuário e verifica se este número e positivo ou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- Desenvolver um programa em C# que solicite dois números ao usuário (base e expoente) e calcule o valor da po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incipais Caracterís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ase sensitive: diferencia maiúsculas de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rtemente tipada: todas as variáveis devem ser decla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rientada a objetos: tudo é um objeto no .N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eralmente as linhas são terminadas com “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método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ystem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utOfMemory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O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ullReference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plication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ry...catch...fi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tch ( OverflowException o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tch ( InvalidCastException ic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tch ( Exception 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ry...catch – exemplo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dividendo = int.Parse( Console.ReadLine(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divisor   = int.Parse( Console.ReadLine(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 resultado = dividendo / divi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ole.WriteLine( resultado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tch ( Exception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ole.WriteLine( "Ocorreu um erro:\n" + e.Mess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ole.WriteLine( “Fim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minutos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minutos &lt; 1 || minutos &gt;= 6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row new Exception( "horário inválid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throw – 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minutos = int.Parse( Console.ReadLine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f ( minutos &lt; 1 || minutos &gt;= 6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hrow new Exception( "horário inválid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minuto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tch ( Exception 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e.Messag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das as exceções derivam (e devem derivar) de System.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empre utilizar uma exceção genérica (Exce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rdem de tratamento: da exceção menos genérica para a mais gen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er um programa em C# que solicite dois números ao usuário e mostre o resultado dessa divisão na tela (faça uso do bloco try...catch para tratamento de er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31960" y="1523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2209680"/>
            <a:ext cx="769608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56612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Visão geral de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s e exce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Métodos e parâ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trizes (ve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undamentos da programação orientada a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Utilizando variáveis do tipo re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ando e destruindo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Herança em C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gregação, namespace e escopo avanç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peradores, delegações e ev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priedades e index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étodos e parâme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r e utilizar métodos est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ar parâmetros para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r e utilizar sobrecarga de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Hello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lass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ole.WriteLine(“Hello World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ificador(es) Retorno Nome (Lista de parâme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rpo do mét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spec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dificador(es)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me (identificador vá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sta de 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rpo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DizerAlo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Al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zerAlo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amando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tro da mesma cla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enas especifique o nome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outra cla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pecifique o nome da classe e o nome do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DizerAlo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Alo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Início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izerAlo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Fim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ass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c static void DizerAlo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ole.WriteLine( "Alo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ass D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m.DizerAlo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étod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etodo1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UM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tatic void Metodo2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Metodo1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sole.WriteLine( "DOIS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Metodo1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Metodo2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Metodo1(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a um programa em C# que possua um método que escreva o seu nome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Hello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"World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 Loc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áveis declaradas dentro de métodos são chamadas variávei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ão visíveis apenas para o método onde foram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ão criadas no início da execução do método e destruídas no final da execução d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Contar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 numer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r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Variávei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int numero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tic void Contar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ublic static void 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ar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ole.WriteLine( numero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5:50:01Z</dcterms:created>
  <dc:creator>Denise Mello</dc:creator>
  <dc:description/>
  <dc:language>en-US</dc:language>
  <cp:lastModifiedBy>Heitor Vital do Carmo</cp:lastModifiedBy>
  <dcterms:modified xsi:type="dcterms:W3CDTF">2007-01-25T12:30:28Z</dcterms:modified>
  <cp:revision>1172</cp:revision>
  <dc:subject/>
  <dc:title>Padronização e   Uniformização da   Linguagem Externa da   MSPi do Brasil </dc:title>
</cp:coreProperties>
</file>